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1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30.png" ContentType="image/png"/>
  <Override PartName="/ppt/media/image3.jpeg" ContentType="image/jpeg"/>
  <Override PartName="/ppt/media/image14.jpeg" ContentType="image/jpeg"/>
  <Override PartName="/ppt/media/image29.gif" ContentType="image/gif"/>
  <Override PartName="/ppt/media/image15.jpeg" ContentType="image/jpeg"/>
  <Override PartName="/ppt/media/image16.jpeg" ContentType="image/jpeg"/>
  <Override PartName="/ppt/media/CARBRAKE.WAV" ContentType="audio/x-wav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51C7-EC92-4113-9231-97995693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F0F-57A8-4565-A39E-1B0D802A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94C8-42DC-4A0B-B20A-6724D0E0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727F-924C-4AB1-BAAA-7F6706E7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45C-6ED9-471B-9371-7CEBA48A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14AC-C3D5-4BE4-A45D-B028F745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902B-08BA-4301-AB99-7C8637E2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ACC-13A8-4BC3-BD79-FC62501C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84E1-CA85-43B1-9373-19560CF8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3A95-9C1B-4BF1-9BEA-6243BA32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1B52-F98A-43C2-8E27-3A0CE48D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A7B0-6CD4-4F43-8C95-00DB0506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CF5D-DA1C-4BEE-B3E3-A6154F0F38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朱自清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114800" y="1828800"/>
            <a:ext cx="1028880" cy="2038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宋体"/>
              </a:rPr>
              <a:t>春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cc"/>
                </a:solidFill>
                <a:latin typeface="Arial"/>
              </a:rPr>
              <a:t>巩固练习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给加点的字注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酝酿（    ）宛转（    ）黄晕（    ）巢（   ）应和（    ）蓑衣（   ）   抖擞（     ）笼罩（      ） 朗润（      ）落地（     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         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《春》是一篇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体裁）作者  字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现代散文家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代表作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作者按照盼春、绘春、颂春的顺序描绘春天，在描绘中，依次描绘了五幅美丽的图画，分别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抒发了作者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01000" y="1295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chá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51200" y="220968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lǒng zhà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2286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L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ǎ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ng rù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362320" y="2211480"/>
            <a:ext cx="4114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春草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4280" y="224784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5943600"/>
            <a:ext cx="2971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53341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22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457200" y="5373720"/>
          <a:ext cx="8534520" cy="1035000"/>
        </p:xfrm>
        <a:graphic>
          <a:graphicData uri="http://schemas.openxmlformats.org/drawingml/2006/table">
            <a:tbl>
              <a:tblPr/>
              <a:tblGrid>
                <a:gridCol w="1666800"/>
                <a:gridCol w="2448000"/>
                <a:gridCol w="1828800"/>
                <a:gridCol w="259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角度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顺序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修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春草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059280" y="59500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嫩、绿、多、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49360" y="5943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由物到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5943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拟人、排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3581280" y="-457200"/>
            <a:ext cx="13106160" cy="88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华文彩云"/>
              </a:rPr>
              <a:t>春花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396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457200" y="5229360"/>
          <a:ext cx="8534520" cy="1171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3623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角度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顺序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修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春花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2771640" y="58644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多、艳、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97440" y="58672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由高到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5943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Arial"/>
              </a:rPr>
              <a:t>拟人、排比、比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彩云简体"/>
              </a:rPr>
              <a:t>春风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24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457200" y="5516640"/>
          <a:ext cx="8534520" cy="1044360"/>
        </p:xfrm>
        <a:graphic>
          <a:graphicData uri="http://schemas.openxmlformats.org/drawingml/2006/table">
            <a:tbl>
              <a:tblPr/>
              <a:tblGrid>
                <a:gridCol w="1600200"/>
                <a:gridCol w="2514600"/>
                <a:gridCol w="1752480"/>
                <a:gridCol w="2667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角度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顺序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修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春风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1981080" y="60958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和煦、芳香、悦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54680" y="6095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触嗅视听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92800" y="6095880"/>
            <a:ext cx="28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引用、拟人、比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43117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74760" y="-45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彩云简体"/>
              </a:rPr>
              <a:t>春雨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5334120"/>
          <a:ext cx="8991720" cy="1089000"/>
        </p:xfrm>
        <a:graphic>
          <a:graphicData uri="http://schemas.openxmlformats.org/drawingml/2006/table">
            <a:tbl>
              <a:tblPr/>
              <a:tblGrid>
                <a:gridCol w="1773360"/>
                <a:gridCol w="1807920"/>
                <a:gridCol w="2895840"/>
                <a:gridCol w="251460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角度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顺序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修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春雨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167652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细、密、轻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5943600"/>
            <a:ext cx="31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由物到人、由近到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00800" y="5943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排比、比喻、拟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4267080" y="0"/>
            <a:ext cx="13411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380880" y="380880"/>
          <a:ext cx="8229600" cy="4716720"/>
        </p:xfrm>
        <a:graphic>
          <a:graphicData uri="http://schemas.openxmlformats.org/drawingml/2006/table">
            <a:tbl>
              <a:tblPr/>
              <a:tblGrid>
                <a:gridCol w="1379520"/>
                <a:gridCol w="2811600"/>
                <a:gridCol w="2017800"/>
                <a:gridCol w="2020680"/>
              </a:tblGrid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顺序（角度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修辞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304920" y="1676520"/>
            <a:ext cx="144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草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1600200"/>
            <a:ext cx="297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嫩、绿、多、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1523880"/>
            <a:ext cx="2133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拟人、排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16765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物到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243828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花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25146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、艳、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251460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高到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24382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喻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拟人、排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3352680"/>
            <a:ext cx="1447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风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3276720"/>
            <a:ext cx="2590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煦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芳香、悦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3352680"/>
            <a:ext cx="1981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触嗅视听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327672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用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喻、拟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4267080"/>
            <a:ext cx="1447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雨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49568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密、轻盈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42670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物到人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近到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42670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喻、排比、拟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8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3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8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3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8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8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3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3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Arial"/>
              </a:rPr>
              <a:t>作者简介</a:t>
            </a:r>
            <a:r>
              <a:rPr b="1" lang="zh-CN" sz="4400" spc="-1" strike="noStrike">
                <a:solidFill>
                  <a:srgbClr val="cc00ff"/>
                </a:solidFill>
                <a:latin typeface="Arial"/>
              </a:rPr>
              <a:t>: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朱自清（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1898—1948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），原名</a:t>
            </a:r>
            <a:r>
              <a:rPr b="1" lang="zh-CN" sz="3600" spc="-1" strike="noStrike">
                <a:solidFill>
                  <a:srgbClr val="cc00cc"/>
                </a:solidFill>
                <a:latin typeface="方正姚体"/>
                <a:ea typeface="方正姚体"/>
              </a:rPr>
              <a:t>自华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字</a:t>
            </a:r>
            <a:r>
              <a:rPr b="1" lang="zh-CN" sz="3600" spc="-1" strike="noStrike">
                <a:solidFill>
                  <a:srgbClr val="cc00cc"/>
                </a:solidFill>
                <a:latin typeface="方正姚体"/>
                <a:ea typeface="方正姚体"/>
              </a:rPr>
              <a:t>佩弦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号</a:t>
            </a:r>
            <a:r>
              <a:rPr b="1" lang="zh-CN" sz="3600" spc="-1" strike="noStrike">
                <a:solidFill>
                  <a:srgbClr val="cc00cc"/>
                </a:solidFill>
                <a:latin typeface="方正姚体"/>
                <a:ea typeface="方正姚体"/>
              </a:rPr>
              <a:t>秋实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著名</a:t>
            </a:r>
            <a:r>
              <a:rPr b="1" lang="zh-CN" sz="3600" spc="-1" strike="noStrike">
                <a:solidFill>
                  <a:srgbClr val="ff00ff"/>
                </a:solidFill>
                <a:latin typeface="方正姚体"/>
                <a:ea typeface="方正姚体"/>
              </a:rPr>
              <a:t>散文家、诗人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。他的散文以语言洗练、文笔秀丽著称。</a:t>
            </a:r>
            <a:r>
              <a:rPr b="1" lang="zh-CN" sz="3600" spc="-1" strike="noStrike">
                <a:solidFill>
                  <a:srgbClr val="ff00ff"/>
                </a:solidFill>
                <a:latin typeface="方正姚体"/>
                <a:ea typeface="方正姚体"/>
              </a:rPr>
              <a:t>散文代表作有《荷塘月色》、《背影》、 《春》、 《绿》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685800"/>
            <a:ext cx="3505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6600"/>
                </a:solidFill>
                <a:latin typeface="Arial"/>
                <a:ea typeface="华文彩云"/>
              </a:rPr>
              <a:t>迎春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3959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54864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5334120"/>
          <a:ext cx="8229600" cy="1066680"/>
        </p:xfrm>
        <a:graphic>
          <a:graphicData uri="http://schemas.openxmlformats.org/drawingml/2006/table">
            <a:tbl>
              <a:tblPr/>
              <a:tblGrid>
                <a:gridCol w="1666800"/>
                <a:gridCol w="1943280"/>
                <a:gridCol w="2867040"/>
                <a:gridCol w="1752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角度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顺序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修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迎春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2209680" y="57913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奋发向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6019920"/>
            <a:ext cx="2590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由景及人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0" y="57913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引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9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4267080" y="0"/>
            <a:ext cx="13411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380880" y="380880"/>
          <a:ext cx="8229600" cy="5419800"/>
        </p:xfrm>
        <a:graphic>
          <a:graphicData uri="http://schemas.openxmlformats.org/drawingml/2006/table">
            <a:tbl>
              <a:tblPr/>
              <a:tblGrid>
                <a:gridCol w="1379520"/>
                <a:gridCol w="2811600"/>
                <a:gridCol w="2017800"/>
                <a:gridCol w="2020680"/>
              </a:tblGrid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顺序（角度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修辞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304920" y="1676520"/>
            <a:ext cx="144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草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600200"/>
            <a:ext cx="297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嫩、绿、多、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1523880"/>
            <a:ext cx="2133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拟人、排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00600" y="16765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物到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243828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花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25146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、艳、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251460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高到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24382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喻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拟人、排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3352680"/>
            <a:ext cx="1447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风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3276720"/>
            <a:ext cx="2590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煦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芳香、悦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3352680"/>
            <a:ext cx="1981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触嗅视听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327672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用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喻、拟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4267080"/>
            <a:ext cx="1447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雨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449568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密、轻盈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42670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物到人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近到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29400" y="42670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喻、排比、拟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4952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迎春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51055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奋发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5181480"/>
            <a:ext cx="1828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24280" y="5181480"/>
            <a:ext cx="1828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景及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6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1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6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1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6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1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6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1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1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6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5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0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2133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１、文章一开始使用了两个“盼望着”表现了作者什么心情？使用了什么修辞手法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14240" y="121896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ff3399"/>
                </a:solidFill>
                <a:latin typeface="宋体"/>
              </a:rPr>
              <a:t>更好地体现了作者盼春急切</a:t>
            </a:r>
            <a:r>
              <a:rPr b="1" lang="zh-CN" sz="4400" spc="-1" strike="noStrike">
                <a:solidFill>
                  <a:srgbClr val="ff3399"/>
                </a:solidFill>
                <a:latin typeface="宋体"/>
              </a:rPr>
              <a:t>.</a:t>
            </a:r>
            <a:r>
              <a:rPr b="1" lang="zh-CN" sz="4400" spc="-1" strike="noStrike">
                <a:solidFill>
                  <a:srgbClr val="ff3399"/>
                </a:solidFill>
                <a:latin typeface="宋体"/>
              </a:rPr>
              <a:t>喜悦的心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ff3399"/>
                </a:solidFill>
                <a:latin typeface="宋体"/>
              </a:rPr>
              <a:t>反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304920"/>
            <a:ext cx="609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  <a:ea typeface="隶书"/>
              </a:rPr>
              <a:t>二、分析课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文中第二自然段中使用了什么修辞手法？用三个“起来”照应这个自然段的哪个句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修辞：比喻 、拟人、排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三个“起来”照应“刚睡醒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-457200" y="-6858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、从文中第三自然段中找出描写春草的字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萌动的幼芽，破土而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　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　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初生的春草带着几分娇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芳美的色泽，新鲜而又纯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一大片，一大片铺向远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　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　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温顺柔和的春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24480" y="1523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华文行楷"/>
              </a:rPr>
              <a:t>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2286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华文行楷"/>
              </a:rPr>
              <a:t>嫩 嫩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28954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华文行楷"/>
              </a:rPr>
              <a:t>绿绿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3581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华文行楷"/>
              </a:rPr>
              <a:t>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4191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华文行楷"/>
              </a:rPr>
              <a:t>软绵绵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2286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、“偷偷地” 这两个字在这里起了什么作用？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7760" y="990720"/>
            <a:ext cx="525780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  </a:t>
            </a:r>
            <a:r>
              <a:rPr b="1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这个词把小草人化，写出了春草破土而出的情态，写出了不经意之间，春草已经悄然而出的情景和作者惊喜的感受。同时，这样写使无意、无感情的小草似乎也有了意识，有了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2286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、“小草偷偷地从土里钻出来，嫩嫩的，绿绿的。”能不能改成：“嫩嫩的绿绿的小草偷偷地从土里钻出来。”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7760" y="837720"/>
            <a:ext cx="52578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  </a:t>
            </a:r>
            <a:r>
              <a:rPr b="1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不能；改成这样只能说明小草本来就是这样的，而课本中的描写更能突出春天的作用，让小草充满了生机，显得极为可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这个自然段中写道：“人家屋顶上全笼着一层薄烟。”为什么这样写春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990099"/>
                </a:solidFill>
                <a:latin typeface="Arial"/>
                <a:ea typeface="方正姚体"/>
              </a:rPr>
              <a:t>这是春雨迷蒙时特有的景状，作者观察细致，整个空间弥漫着牛毛、花针、细丝一般的小雨，远望去，屋顶上像有一层薄烟，而且是“笼”着，一个“笼”字非常传神地显示出细雨朦胧的美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文中第七自然段中写道：“有的是工夫，有的是希望。”其中的“工夫”是什么意思？这个句子又应该怎样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38080" y="22093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方正姚体"/>
              </a:rPr>
              <a:t>工夫：指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方正姚体"/>
              </a:rPr>
              <a:t>句意：有一年的时间，可以做好许多事情，告诉别人应当把握时机，奋发向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17524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华文行楷"/>
              </a:rPr>
              <a:t>三、一起朗读课文第三部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361960" y="990360"/>
            <a:ext cx="46479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春天像刚落地的娃娃，从头到脚都是新的，它生长着。</a:t>
            </a:r>
            <a:br>
              <a:rPr sz="3200"/>
            </a:b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       春天像小姑娘，花枝招展的，笑着，走着。</a:t>
            </a:r>
            <a:br>
              <a:rPr sz="3200"/>
            </a:b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       春天像健壮的青年，有铁一般的胳膊和腰脚，领着我们上前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1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预习检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9144000" cy="80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你会读加点的字注音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酝酿（               ）  胳膊（            ）抖擞（         ）摇曳（        ）  宛转（              ）嘹亮（               ）应和（           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薄（      ）烟  黄晕（         ）     蓑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        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衣   捉迷藏（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你能准确解释下列词语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欣欣然：                              赶趟儿 ：                    酝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宛转：                                  呼朋引伴：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卖弄 ：                                 花枝招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春》的作者＿＿＿＿  原名＿＿＿＿，号＿＿＿＿，字＿＿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作有           、            、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课文内容，可知此文的体裁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5638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5562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5638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0666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yùn nià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1066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b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10666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ǒ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u 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ǒ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yìng h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48720" y="10666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yáo y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4479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wǎn zhu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86200" y="1447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liáo lià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981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981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yù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9051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su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2400" y="1905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4572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朱自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4572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朱自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4572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秋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77320" y="44956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佩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51055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5029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荷塘月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5105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背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5105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56386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散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1828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、这一部分中，作者运用了什么修辞手法？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361960" y="1143000"/>
            <a:ext cx="46479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春天像刚落地的娃娃，从头到脚都是新的，它生长着。</a:t>
            </a:r>
            <a:br>
              <a:rPr sz="3200"/>
            </a:b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       春天像小姑娘，花枝招展的，笑着，走着。</a:t>
            </a:r>
            <a:br>
              <a:rPr sz="3200"/>
            </a:b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       春天像健壮的青年，有铁一般的胳膊和腰脚，领着我们上前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3657600"/>
            <a:ext cx="1676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比喻、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   拟人、   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排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1828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文中分别用“娃娃”、“小姑娘”和“青年”来比喻春，说明春天具有怎样的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362320" y="1066680"/>
            <a:ext cx="44956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cc00ff"/>
                </a:solidFill>
                <a:latin typeface="隶书"/>
                <a:ea typeface="隶书"/>
              </a:rPr>
              <a:t>“</a:t>
            </a:r>
            <a:r>
              <a:rPr b="1" lang="zh-CN" sz="2800" spc="-1" strike="noStrike">
                <a:solidFill>
                  <a:srgbClr val="cc00ff"/>
                </a:solidFill>
                <a:latin typeface="隶书"/>
                <a:ea typeface="隶书"/>
              </a:rPr>
              <a:t>刚落地的娃娃”强调了春的</a:t>
            </a:r>
            <a:r>
              <a:rPr b="1" lang="zh-CN" sz="2800" spc="-1" strike="noStrike">
                <a:solidFill>
                  <a:srgbClr val="0066ff"/>
                </a:solidFill>
                <a:latin typeface="隶书"/>
                <a:ea typeface="隶书"/>
              </a:rPr>
              <a:t>新生</a:t>
            </a:r>
            <a:r>
              <a:rPr b="1" lang="zh-CN" sz="2800" spc="-1" strike="noStrike">
                <a:solidFill>
                  <a:srgbClr val="cc00ff"/>
                </a:solidFill>
                <a:latin typeface="隶书"/>
                <a:ea typeface="隶书"/>
              </a:rPr>
              <a:t>，“花枝招展的小姑娘”强调了春的</a:t>
            </a:r>
            <a:r>
              <a:rPr b="1" lang="zh-CN" sz="2800" spc="-1" strike="noStrike">
                <a:solidFill>
                  <a:srgbClr val="0066ff"/>
                </a:solidFill>
                <a:latin typeface="隶书"/>
                <a:ea typeface="隶书"/>
              </a:rPr>
              <a:t>漂亮、娇美</a:t>
            </a:r>
            <a:r>
              <a:rPr b="1" lang="zh-CN" sz="2800" spc="-1" strike="noStrike">
                <a:solidFill>
                  <a:srgbClr val="cc00ff"/>
                </a:solidFill>
                <a:latin typeface="隶书"/>
                <a:ea typeface="隶书"/>
              </a:rPr>
              <a:t>，“健壮的青年”强调了春的</a:t>
            </a:r>
            <a:r>
              <a:rPr b="1" lang="zh-CN" sz="2800" spc="-1" strike="noStrike">
                <a:solidFill>
                  <a:srgbClr val="0066ff"/>
                </a:solidFill>
                <a:latin typeface="隶书"/>
                <a:ea typeface="隶书"/>
              </a:rPr>
              <a:t>无穷活力</a:t>
            </a:r>
            <a:r>
              <a:rPr b="1" lang="zh-CN" sz="2800" spc="-1" strike="noStrike">
                <a:solidFill>
                  <a:srgbClr val="cc00ff"/>
                </a:solidFill>
                <a:latin typeface="隶书"/>
                <a:ea typeface="隶书"/>
              </a:rPr>
              <a:t>，三个比喻句形象地突出了春</a:t>
            </a:r>
            <a:r>
              <a:rPr b="1" lang="zh-CN" sz="2800" spc="-1" strike="noStrike">
                <a:solidFill>
                  <a:srgbClr val="0066ff"/>
                </a:solidFill>
                <a:latin typeface="隶书"/>
                <a:ea typeface="隶书"/>
              </a:rPr>
              <a:t>新、美、力</a:t>
            </a:r>
            <a:r>
              <a:rPr b="1" lang="zh-CN" sz="2800" spc="-1" strike="noStrike">
                <a:solidFill>
                  <a:srgbClr val="cc00ff"/>
                </a:solidFill>
                <a:latin typeface="隶书"/>
                <a:ea typeface="隶书"/>
              </a:rPr>
              <a:t>的特点，抒发了作者赞美春天的真挚情感，总结了全文，表现了积极向上的主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8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2057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、能不能把这三个自然段调换成这样的顺序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19520" y="837720"/>
            <a:ext cx="5867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春天像小姑娘，花枝招展的，笑着，走着。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春天像刚落地的娃娃，从头到脚都是新的，它生长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春天像健壮的青年，有铁一般的胳膊和腰脚，领着我们上前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4114800"/>
            <a:ext cx="2057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5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8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1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457200" y="-6858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129528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Arial"/>
                <a:ea typeface="方正舒体"/>
              </a:rPr>
              <a:t>      </a:t>
            </a:r>
            <a:r>
              <a:rPr b="1" lang="zh-CN" sz="4400" spc="-1" strike="noStrike">
                <a:solidFill>
                  <a:srgbClr val="cc00ff"/>
                </a:solidFill>
                <a:latin typeface="Arial"/>
                <a:ea typeface="方正舒体"/>
              </a:rPr>
              <a:t>不能；这三个句子从“娃娃”到“青年”，力量上由小到大，时间上从先到后，形象地点明了春天的成长过程，先后有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1043928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1752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</a:rPr>
              <a:t>四、归纳写作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14240" y="106668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观察细致，并用准确的词语来表现春天景物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大量运用精彩的比喻句和拟人句，表现景物的特征，抒发内心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、结构严谨，层次分明，思路清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练习一：多音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5181480" y="1066320"/>
            <a:ext cx="3353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á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捉迷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z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à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西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4495680"/>
            <a:ext cx="4114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lu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落地）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lu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大大落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là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落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落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1371600"/>
            <a:ext cx="457200" cy="1219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066680"/>
            <a:ext cx="48765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zhǎ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水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涨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zh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à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头昏脑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2819520"/>
            <a:ext cx="312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sǎ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散漫）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à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散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312408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3048120"/>
            <a:ext cx="3581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bá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薄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bó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薄弱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b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薄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487692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34290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1447920"/>
            <a:ext cx="152640" cy="990360"/>
          </a:xfrm>
          <a:custGeom>
            <a:avLst/>
            <a:gdLst>
              <a:gd name="textAreaLeft" fmla="*/ 97560 w 152640"/>
              <a:gd name="textAreaRight" fmla="*/ 153000 w 1526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4952880"/>
            <a:ext cx="7617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5486400"/>
            <a:ext cx="838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952880" y="3733920"/>
            <a:ext cx="838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练习二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指出下列句子所用到的修辞手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85440" y="21333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一切都像刚睡醒的样子，欣欣然张开了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拟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红的像火，粉的像霞，白的像雪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排比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比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吹面不寒杨柳风”，不错的，像母亲的手抚摸着你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拟人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引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他们的房屋，稀稀疏疏的，在雨里静默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拟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4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4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1043928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1905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、（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）在文中的填上适当的词句，用现代汉语解释画横线句子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438280" y="1066680"/>
            <a:ext cx="5105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         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  <a:ea typeface="隶书"/>
              </a:rPr>
              <a:t>A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Arial"/>
                <a:ea typeface="隶书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“</a:t>
            </a:r>
            <a:r>
              <a:rPr b="1" lang="zh-CN" sz="2800" spc="-1" strike="noStrike" u="sng">
                <a:solidFill>
                  <a:srgbClr val="cc00cc"/>
                </a:solidFill>
                <a:uFillTx/>
                <a:latin typeface="Arial"/>
                <a:ea typeface="隶书"/>
              </a:rPr>
              <a:t>吹面不含杨柳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  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，不错的，像母亲的手抚摸着你。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  <a:ea typeface="隶书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风里带来些新翻的泥土的气息，（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隶书"/>
              </a:rPr>
              <a:t>混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）着青草味儿，还有各种花的香，都在微微（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隶书"/>
              </a:rPr>
              <a:t>润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）的空气里酝酿。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  <a:ea typeface="隶书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鸟儿将巢（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隶书"/>
              </a:rPr>
              <a:t>安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）在繁花嫩叶当中，高兴起来了，呼朋引伴地卖弄清脆的喉咙，唱出宛转的曲子，跟轻风流水应和着。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  <a:ea typeface="隶书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牛背上牧童的短笛，这时候也成天嘹亮地响着。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01800" cy="124588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0"/>
            </a:b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90720" y="228240"/>
            <a:ext cx="7619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本段从哪个侧面描绘了春天动人的景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结合语言环境，说说“卖弄”这个词为什么用得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对同一景物的感受会因人而异，文中把春风比作“母亲”的手，那你对春风又有什么感受？用一个比喻句把你的感受写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５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段共有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四句话，分别从四个角度描写了春风的特征，请填表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533520"/>
            <a:ext cx="7620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990720" y="4038480"/>
          <a:ext cx="7391160" cy="2666880"/>
        </p:xfrm>
        <a:graphic>
          <a:graphicData uri="http://schemas.openxmlformats.org/drawingml/2006/table">
            <a:tbl>
              <a:tblPr/>
              <a:tblGrid>
                <a:gridCol w="1088640"/>
                <a:gridCol w="3787920"/>
                <a:gridCol w="2514600"/>
              </a:tblGrid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角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描写的句子（填序号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春风的特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触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zh-CN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和煦</a:t>
                      </a:r>
                      <a:r>
                        <a:rPr b="0" lang="zh-CN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.</a:t>
                      </a:r>
                      <a:r>
                        <a:rPr b="0" lang="zh-CN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温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嗅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zh-CN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芳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视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zh-CN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繁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听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zh-CN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和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-838080" y="0"/>
            <a:ext cx="16763760" cy="131446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、“坐着，躺着，打两个滚，踢几脚球，赛几趟跑，捉几回迷藏。”这段话的含义是</a:t>
            </a: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:</a:t>
            </a:r>
            <a:r>
              <a:rPr b="1" lang="zh-CN" sz="3600" spc="-1" strike="noStrike">
                <a:solidFill>
                  <a:srgbClr val="ff3399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（ </a:t>
            </a:r>
            <a:r>
              <a:rPr b="1" lang="zh-CN" sz="3600" spc="-1" strike="noStrike">
                <a:solidFill>
                  <a:srgbClr val="cc00cc"/>
                </a:solidFill>
                <a:latin typeface="隶书"/>
                <a:ea typeface="隶书"/>
              </a:rPr>
              <a:t>D </a:t>
            </a:r>
            <a:r>
              <a:rPr b="1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用拟人的手法形容小草的形态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用比喻的手法形容人的活动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用比喻的手法形容草的形态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写人的活动衬托小草的繁茂可爱。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19520" y="228600"/>
            <a:ext cx="3047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语文作业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准字音，疏通字词和了解课文内容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运用自主、合作探究的学习方法深入理解文章，品味精妙语言，以达到提高语言分析能力，接受情感熏陶的目的。学习比喻、拟人等修辞手法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体会作者的热爱大自然、热爱生活的思想感情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752480" y="685800"/>
            <a:ext cx="701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阅读《春》的第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自然段，回答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幼圆"/>
                <a:ea typeface="幼圆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雨是最寻常的，一下就是三两天。</a:t>
            </a:r>
            <a:r>
              <a:rPr b="1" lang="zh-CN" sz="2800" spc="-1" strike="noStrike">
                <a:solidFill>
                  <a:srgbClr val="ff00ff"/>
                </a:solidFill>
                <a:latin typeface="幼圆"/>
                <a:ea typeface="幼圆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可别恼。</a:t>
            </a:r>
            <a:r>
              <a:rPr b="1" lang="zh-CN" sz="2800" spc="-1" strike="noStrike">
                <a:solidFill>
                  <a:srgbClr val="ff00ff"/>
                </a:solidFill>
                <a:latin typeface="幼圆"/>
                <a:ea typeface="幼圆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看，像牛毛，像花针，像细丝，密密地斜织着，人家屋顶上全笼着一层薄烟。</a:t>
            </a:r>
            <a:r>
              <a:rPr b="1" lang="zh-CN" sz="2800" spc="-1" strike="noStrike">
                <a:solidFill>
                  <a:srgbClr val="ff00ff"/>
                </a:solidFill>
                <a:latin typeface="幼圆"/>
                <a:ea typeface="幼圆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树叶儿却绿得发亮，小草也青得逼你的眼。</a:t>
            </a:r>
            <a:r>
              <a:rPr b="1" lang="zh-CN" sz="2800" spc="-1" strike="noStrike">
                <a:solidFill>
                  <a:srgbClr val="ff00ff"/>
                </a:solidFill>
                <a:latin typeface="幼圆"/>
                <a:ea typeface="幼圆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傍晚时候，上灯了，一点点黄晕的光，烘托出一片安静而和平的夜。</a:t>
            </a:r>
            <a:r>
              <a:rPr b="1" lang="zh-CN" sz="2800" spc="-1" strike="noStrike">
                <a:solidFill>
                  <a:srgbClr val="ff00ff"/>
                </a:solidFill>
                <a:latin typeface="幼圆"/>
                <a:ea typeface="幼圆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在乡下，小路上，石桥边，撑起伞慢慢走着的人，地里工作的农夫，披着蓑戴着笠。</a:t>
            </a:r>
            <a:r>
              <a:rPr b="1" lang="zh-CN" sz="2800" spc="-1" strike="noStrike">
                <a:solidFill>
                  <a:srgbClr val="ff00ff"/>
                </a:solidFill>
                <a:latin typeface="幼圆"/>
                <a:ea typeface="幼圆"/>
              </a:rPr>
              <a:t>⑦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他们的草屋，稀稀疏疏的，在雨里静默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75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75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75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75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-685800" y="0"/>
            <a:ext cx="10134720" cy="74674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90720" y="380880"/>
            <a:ext cx="8153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）给这段文字划分层次，正确的是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cc00cc"/>
                </a:solidFill>
                <a:latin typeface="Arial"/>
                <a:ea typeface="华文行楷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　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A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、①②③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/ ④⑤⑥⑦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　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B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、①②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/ ③ / ④ / ⑤ / ⑥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　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C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、①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/ ②③ / ④⑤ / ⑥⑦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　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D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、①②③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/ ④⑤⑥ / 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(2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下列含蓄地写春雨的一项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:(</a:t>
            </a:r>
            <a:r>
              <a:rPr b="0" lang="zh-CN" sz="3600" spc="-1" strike="noStrike">
                <a:solidFill>
                  <a:srgbClr val="cc00ff"/>
                </a:solidFill>
                <a:latin typeface="Arial"/>
                <a:ea typeface="华文行楷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A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、</a:t>
            </a:r>
            <a:r>
              <a:rPr b="1" lang="zh-CN" sz="3200" spc="-1" strike="noStrike">
                <a:solidFill>
                  <a:srgbClr val="008000"/>
                </a:solidFill>
                <a:latin typeface="幼圆"/>
                <a:ea typeface="幼圆"/>
              </a:rPr>
              <a:t>雨是最寻常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B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、</a:t>
            </a:r>
            <a:r>
              <a:rPr b="1" lang="zh-CN" sz="3200" spc="-1" strike="noStrike">
                <a:solidFill>
                  <a:srgbClr val="008000"/>
                </a:solidFill>
                <a:latin typeface="幼圆"/>
                <a:ea typeface="幼圆"/>
              </a:rPr>
              <a:t>密密地斜织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C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、</a:t>
            </a:r>
            <a:r>
              <a:rPr b="1" lang="zh-CN" sz="3200" spc="-1" strike="noStrike">
                <a:solidFill>
                  <a:srgbClr val="008000"/>
                </a:solidFill>
                <a:latin typeface="幼圆"/>
                <a:ea typeface="幼圆"/>
              </a:rPr>
              <a:t>一点点黄晕的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D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行楷"/>
              </a:rPr>
              <a:t>、</a:t>
            </a:r>
            <a:r>
              <a:rPr b="1" lang="zh-CN" sz="3200" spc="-1" strike="noStrike">
                <a:solidFill>
                  <a:srgbClr val="008000"/>
                </a:solidFill>
                <a:latin typeface="幼圆"/>
                <a:ea typeface="幼圆"/>
              </a:rPr>
              <a:t>稀稀疏疏的，在雨里静默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“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密密地斜织着”一个“斜”字，不仅写春雨，而且也写了</a:t>
            </a:r>
            <a:r>
              <a:rPr b="1" lang="zh-CN" sz="2800" spc="-1" strike="noStrike">
                <a:solidFill>
                  <a:srgbClr val="cc00ff"/>
                </a:solidFill>
                <a:latin typeface="幼圆"/>
                <a:ea typeface="幼圆"/>
              </a:rPr>
              <a:t>密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“织”字是承上句“像</a:t>
            </a:r>
            <a:r>
              <a:rPr b="1" lang="zh-CN" sz="2800" spc="-1" strike="noStrike">
                <a:solidFill>
                  <a:srgbClr val="cc00ff"/>
                </a:solidFill>
                <a:latin typeface="幼圆"/>
                <a:ea typeface="幼圆"/>
              </a:rPr>
              <a:t>花针”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的比喻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准确地表现了＿＿＿＿的动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（４）这段文字描绘了一幅＿＿＿＿。它抓住春雨的＿＿＿＿特点加以描绘。虽然作者没有直接抒发感情，但他对春雨的＿＿＿之情却表现得十分明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（５）文中“可别恼”一句的作用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　　Ａ、告诉读者耐着性子往下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　　Ｂ、向写春雨的美景过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　　Ｃ、春雨下得时间太长了，人容易烦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　　Ｄ、春季下雨是自然现象，不能烦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诵读课文，感知春天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听录音，初步感知课文。要求：注意语气、语调、语速及重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自读课文，并找出自己喜爱的语段、美词、佳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381880" y="5486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7509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241200"/>
            <a:ext cx="9144000" cy="7099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Arial"/>
                <a:ea typeface="华文行楷"/>
              </a:rPr>
              <a:t>自学提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1828440"/>
            <a:ext cx="899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新宋体"/>
                <a:ea typeface="新宋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新宋体"/>
              </a:rPr>
              <a:t>、课文可分为哪几部分？用两个字概括其段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抒发了怎样的感受？这种感受在课文的哪部分表现最为直接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066680"/>
            <a:ext cx="457200" cy="44960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7000 h 4496040"/>
              <a:gd name="textAreaBottom" fmla="*/ 4379040 h 449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685800"/>
            <a:ext cx="746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第一部分：盼春（总领全文，开启下文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2895480"/>
            <a:ext cx="693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第二部分：绘春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(2—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533412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第三部分：赞春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(8—1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599840" y="11268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8000"/>
                </a:solidFill>
                <a:latin typeface="Arial"/>
              </a:rPr>
              <a:t>合作探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绘春图又由哪几幅画面组成？你最喜爱哪幅图画，为什么？将你的感受在小组内交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 课文最后三个自然段运用了什么修辞手法？突出了春天的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这三个自然段的顺序能颠倒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Arial"/>
              </a:rPr>
              <a:t>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066680"/>
            <a:ext cx="457200" cy="44960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7000 h 4496040"/>
              <a:gd name="textAreaBottom" fmla="*/ 4379040 h 449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685800"/>
            <a:ext cx="746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第一部分：盼春（总领全文，开启下文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2895480"/>
            <a:ext cx="693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第二部分：绘春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(2—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533412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第三部分：赞春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(8—1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1447920"/>
            <a:ext cx="152640" cy="3429000"/>
          </a:xfrm>
          <a:custGeom>
            <a:avLst/>
            <a:gdLst>
              <a:gd name="textAreaLeft" fmla="*/ 97560 w 152640"/>
              <a:gd name="textAreaRight" fmla="*/ 153000 w 1526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72440" y="2008080"/>
            <a:ext cx="18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春草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6668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春花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春风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809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春雨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4419720"/>
            <a:ext cx="2666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迎春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131904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醒图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599840" y="112680"/>
            <a:ext cx="7010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5345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275252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ll</cp:lastModifiedBy>
  <dcterms:modified xsi:type="dcterms:W3CDTF">2016-09-04T00:42:02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