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3.gif" ContentType="image/gif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png" ContentType="image/png"/>
  <Override PartName="/ppt/media/image32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46.gif" ContentType="image/gif"/>
  <Override PartName="/ppt/media/image43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WHOOSH.WAV" ContentType="audio/x-wav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F552-4A8B-45E6-999D-43CB0ED47B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C1D-ECCD-48CF-B2D2-166DFCAF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049-AA48-4EC8-B3A0-A3CC0E3F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62B-CB86-4DF5-93BC-C954F0A2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749-E2D2-4CDC-B64B-B586F311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3F75-A46E-454A-A07C-BD237CF2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EB42-4501-43EF-8AF5-2E778BE0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35B7-6235-4056-B7BE-65C23AE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A96D-5CD1-4F0B-AAC9-A84A0F3C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E1A7-2AB5-40D3-852D-5DAEF71E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2219-BBEF-46C7-8402-8721FF17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05B7-6AB5-4783-8514-3E72F3D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D73-C48F-4513-B013-1C26E810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075E-F1C0-4729-B50A-BCE3E38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F304-FCFE-487D-9A3E-3B70233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3A6E-C5FB-4D76-BD78-8A8FD1E4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5C37-5FB0-4655-AF12-110EEB4B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45BA-EAFF-479F-A4F3-7BBD7FB6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AC77-23A0-44F9-ABD4-6B23CB1C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777B-EE46-4F34-A208-CC06B611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17B2-0CA4-49D5-8D63-FC24F6BE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1C6E-23B1-45A2-8C71-36C4BA9A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5344-B679-425F-9956-715FF2FB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813-0EA4-47A8-A237-98D66675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FDC9-A0D2-4406-ABE3-43364D62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89A6-4F2E-409E-83DD-F1658BD1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A7B7-2A9F-4DA4-860F-054413DF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5D12-7221-4A5D-968F-9AFA7629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92A3-3D22-4F62-8022-0AAE6B53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AE4C-5586-4DCB-935E-9112A6AE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75C8-335A-4CEC-96E4-28693897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436E-194E-4308-A810-CFDDF485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BD36-68F1-4EF9-8577-C16E0D17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231F-30B1-4BCC-B29F-C55B1603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3ED-9670-405C-882C-AF231E39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20B8-D249-4CC7-9CE2-E9658AE6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2308-4AE3-4513-AC33-0DE8A7BA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F6F8-BD60-4D91-A14E-B85FB2B5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5D965-9FD8-44AC-B5A9-598C61D7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8B46-4B79-4773-B62A-2D2859A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7504-2F62-428C-85E3-BCB9689F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C961-8063-421C-A7AA-875E7883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57FC-F32A-43D4-A137-E537B1AB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73B5-F94F-4C35-B929-9060C31C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0688E-BC84-4A48-AC76-3A585A83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9AC-6E2D-43CC-BDED-0501F6F1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4B73C-783C-4A94-A47C-78C2D6A4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70FB2-2F32-4F60-8B89-9B7B2740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B481-2B32-413E-9811-F9D14351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924A-56CA-47E0-809E-4631534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AE00-DD89-4A8E-BE70-269D507D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A8FAA-46FE-46F2-96E2-EE14062D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5D2C-88A9-418E-895D-8FC8F055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A6578-DFAB-470C-89F8-ECF86AB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CC8C-E49F-4B52-A874-8C6F49B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EA39-DF77-433B-BBED-F01683E1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145-393D-4DCE-BD84-6CEB3843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4A57-B744-4AAD-840D-60A2BD6D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E7E6-9420-4D45-87D9-83913D96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CA7A-407E-4B06-9272-030EF415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1EC26-8C3C-4C0E-A984-BE3F5601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B5133-2CD2-4B61-ADB5-7C172550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E5E76-0A95-42D6-A560-C1B89467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F9A36-9AD9-4C0B-A001-BEDCB54B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87344-46F2-4879-B639-56FE000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8E579-A160-4111-A418-6BDDD7B4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E796-0E83-45D6-9B67-06349EB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BA3-A996-47BA-BD30-E72AA328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A296E-03D6-4336-A671-B996AB0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3AB66-F1AD-47B7-810E-B8EED805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A7B60-9208-4FC7-BAE1-51C1DFFE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B45-F7EF-4032-A695-A231E911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354-497A-4E95-817A-CEAEF5C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5DD7-85E8-4CBB-B4EC-1D1C8528E7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40F4-4349-491C-B19F-0A0D0C4EFC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A5E-6C63-4E47-A3F8-B4825836973C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7192-A931-4031-94DD-B5F43234A9E9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4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4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165-7CE2-4F1B-9543-591B6C94362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2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2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4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5799-37CD-4B6C-8D06-D4C789EE211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8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81505.htm" TargetMode="External"/><Relationship Id="rId3" Type="http://schemas.openxmlformats.org/officeDocument/2006/relationships/hyperlink" Target="http://baike.baidu.com/view/1522668.htm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picview/2567/5060532/0/bd7faf354661a7b6a71e127d.html" TargetMode="External"/><Relationship Id="rId3" Type="http://schemas.openxmlformats.org/officeDocument/2006/relationships/hyperlink" Target="http://baike.baidu.com/view/52139.htm" TargetMode="External"/><Relationship Id="rId4" Type="http://schemas.openxmlformats.org/officeDocument/2006/relationships/hyperlink" Target="http://baike.baidu.com/view/110918.htm" TargetMode="External"/><Relationship Id="rId5" Type="http://schemas.openxmlformats.org/officeDocument/2006/relationships/hyperlink" Target="http://baike.baidu.com/view/1011948.htm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510376.htm" TargetMode="External"/><Relationship Id="rId3" Type="http://schemas.openxmlformats.org/officeDocument/2006/relationships/hyperlink" Target="http://baike.baidu.com/picview/2567/5060532/0/1cd4147bf09460d10bd18767.html" TargetMode="External"/><Relationship Id="rId4" Type="http://schemas.openxmlformats.org/officeDocument/2006/relationships/hyperlink" Target="http://baike.baidu.com/view/40898.htm" TargetMode="External"/><Relationship Id="rId5" Type="http://schemas.openxmlformats.org/officeDocument/2006/relationships/hyperlink" Target="http://baike.baidu.com/view/356043.htm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8.png"/><Relationship Id="rId7" Type="http://schemas.openxmlformats.org/officeDocument/2006/relationships/image" Target="../media/image20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36790.htm" TargetMode="External"/><Relationship Id="rId3" Type="http://schemas.openxmlformats.org/officeDocument/2006/relationships/hyperlink" Target="http://baike.baidu.com/view/66776.htm" TargetMode="External"/><Relationship Id="rId4" Type="http://schemas.openxmlformats.org/officeDocument/2006/relationships/hyperlink" Target="http://baike.baidu.com/view/575173.htm" TargetMode="External"/><Relationship Id="rId5" Type="http://schemas.openxmlformats.org/officeDocument/2006/relationships/hyperlink" Target="http://baike.baidu.com/view/33013.htm" TargetMode="External"/><Relationship Id="rId6" Type="http://schemas.openxmlformats.org/officeDocument/2006/relationships/hyperlink" Target="http://baike.baidu.com/view/198011.htm" TargetMode="External"/><Relationship Id="rId7" Type="http://schemas.openxmlformats.org/officeDocument/2006/relationships/hyperlink" Target="http://baike.baidu.com/view/58308.htm" TargetMode="External"/><Relationship Id="rId8" Type="http://schemas.openxmlformats.org/officeDocument/2006/relationships/hyperlink" Target="http://baike.baidu.com/view/6771.htm" TargetMode="External"/><Relationship Id="rId9" Type="http://schemas.openxmlformats.org/officeDocument/2006/relationships/hyperlink" Target="http://baike.baidu.com/view/4277.htm" TargetMode="External"/><Relationship Id="rId10" Type="http://schemas.openxmlformats.org/officeDocument/2006/relationships/hyperlink" Target="http://baike.baidu.com/view/589276.htm" TargetMode="External"/><Relationship Id="rId11" Type="http://schemas.openxmlformats.org/officeDocument/2006/relationships/hyperlink" Target="http://baike.baidu.com/view/2812.htm" TargetMode="External"/><Relationship Id="rId12" Type="http://schemas.openxmlformats.org/officeDocument/2006/relationships/hyperlink" Target="http://baike.baidu.com/view/15447.htm" TargetMode="External"/><Relationship Id="rId13" Type="http://schemas.openxmlformats.org/officeDocument/2006/relationships/image" Target="../media/image21.jpeg"/><Relationship Id="rId14" Type="http://schemas.openxmlformats.org/officeDocument/2006/relationships/image" Target="../media/image22.gif"/><Relationship Id="rId1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20236.htm" TargetMode="External"/><Relationship Id="rId3" Type="http://schemas.openxmlformats.org/officeDocument/2006/relationships/hyperlink" Target="http://baike.baidu.com/view/52225.htm" TargetMode="External"/><Relationship Id="rId4" Type="http://schemas.openxmlformats.org/officeDocument/2006/relationships/hyperlink" Target="http://baike.baidu.com/view/15168.htm" TargetMode="External"/><Relationship Id="rId5" Type="http://schemas.openxmlformats.org/officeDocument/2006/relationships/hyperlink" Target="http://baike.baidu.com/view/1646.htm" TargetMode="External"/><Relationship Id="rId6" Type="http://schemas.openxmlformats.org/officeDocument/2006/relationships/hyperlink" Target="http://baike.baidu.com/view/149774.htm" TargetMode="External"/><Relationship Id="rId7" Type="http://schemas.openxmlformats.org/officeDocument/2006/relationships/hyperlink" Target="http://baike.baidu.com/picview/2567/5060532/0/8b13632762d0f70384f4b87508fa513d2797c5d0.html" TargetMode="External"/><Relationship Id="rId8" Type="http://schemas.openxmlformats.org/officeDocument/2006/relationships/hyperlink" Target="http://baike.baidu.com/picview/2567/5060532/0/8b13632762d0f70384f4b87508fa513d2797c5d0.html" TargetMode="External"/><Relationship Id="rId9" Type="http://schemas.openxmlformats.org/officeDocument/2006/relationships/hyperlink" Target="http://baike.baidu.com/view/20236.htm" TargetMode="External"/><Relationship Id="rId10" Type="http://schemas.openxmlformats.org/officeDocument/2006/relationships/hyperlink" Target="http://baike.baidu.com/view/52225.htm" TargetMode="External"/><Relationship Id="rId11" Type="http://schemas.openxmlformats.org/officeDocument/2006/relationships/hyperlink" Target="http://baike.baidu.com/view/400710.htm" TargetMode="External"/><Relationship Id="rId12" Type="http://schemas.openxmlformats.org/officeDocument/2006/relationships/hyperlink" Target="http://baike.baidu.com/view/3061848.htm" TargetMode="External"/><Relationship Id="rId13" Type="http://schemas.openxmlformats.org/officeDocument/2006/relationships/hyperlink" Target="http://baike.baidu.com/view/404607.htm" TargetMode="External"/><Relationship Id="rId14" Type="http://schemas.openxmlformats.org/officeDocument/2006/relationships/hyperlink" Target="http://baike.baidu.com/view/42544.htm" TargetMode="External"/><Relationship Id="rId15" Type="http://schemas.openxmlformats.org/officeDocument/2006/relationships/hyperlink" Target="http://baike.baidu.com/view/149774.htm" TargetMode="External"/><Relationship Id="rId16" Type="http://schemas.openxmlformats.org/officeDocument/2006/relationships/hyperlink" Target="http://baike.baidu.com/picview/2567/5060532/0/8b13632762d0f70384f4b87508fa513d2797c5d0.html" TargetMode="External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 txBox="1"/>
          <p:nvPr/>
        </p:nvSpPr>
        <p:spPr>
          <a:xfrm rot="20352600">
            <a:off x="2533320" y="1836720"/>
            <a:ext cx="252108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传统佳节</a:t>
            </a:r>
            <a:endParaRPr b="0" i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7" name=""/>
          <p:cNvSpPr txBox="1"/>
          <p:nvPr/>
        </p:nvSpPr>
        <p:spPr>
          <a:xfrm rot="2292600">
            <a:off x="4271760" y="3489120"/>
            <a:ext cx="167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端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6"/>
          <a:stretch/>
        </p:blipFill>
        <p:spPr>
          <a:xfrm>
            <a:off x="2438280" y="3809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7"/>
          <a:stretch/>
        </p:blipFill>
        <p:spPr>
          <a:xfrm>
            <a:off x="5715000" y="533520"/>
            <a:ext cx="2381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" descr="粽子"/>
          <p:cNvPicPr/>
          <p:nvPr/>
        </p:nvPicPr>
        <p:blipFill>
          <a:blip r:embed="rId1"/>
          <a:stretch/>
        </p:blipFill>
        <p:spPr>
          <a:xfrm>
            <a:off x="1187280" y="260280"/>
            <a:ext cx="6769440" cy="5076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938680" y="5629320"/>
            <a:ext cx="338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端午节是我国传统的节日，家家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粽子成了很多人记忆中美好的往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佩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旧时江浙一带端午时妇女的一种饰物。一般用金银丝或铜丝金箔做成，形状为小人骑虎，亦有另加钟、铃、缨及蒜、粽子等的。插在妇女发髻，也用以馈送。《清嘉录》云：“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五月五日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市人以金银丝制为繁缨、钟、铃诸状，骑人于虎，极精细，缀小钗，贯为串，或有用铜丝金箔者，供妇女插鬓。又互相献赉，名曰健人。”健人一说与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艾人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同意，只是以帛易艾，吴曼云《江乡节物词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小序》云：“杭俗，健人即艾人，而易之以帛，作骆虎状，妇人皆戴之，”似此则当有驱邪辟疫之作用；一说即古时的步摇，纯为妇女装饰品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蔡云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《吴献》注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。儿童头上还会用雄黄酒画上一个“王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禳解、祛除及避五毒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  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五毒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如上所述，端午在古人心目中是毒日、恶日，在民间信仰中这个思想一直传了下来，所以才有种种求平安、禳解灾异的习俗。其实，这是由于夏季天气燥热，人易生病，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瘟疫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也易流行；加上蛇虫繁殖，易咬伤人，所以要十分小心，这才形成此习惯。种种节俗，如采药，以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4"/>
              </a:rPr>
              <a:t>雄黄酒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洒墙壁门窗，饮蒲酒等，看似迷信，但又是有益于身体健康的卫生活动。端午实在可算是传统的医药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5"/>
              </a:rPr>
              <a:t>卫生节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，是人民群众与疾病、毒虫做斗争的节日。今天这些卫生习俗仍然是应发展，并应弘扬传承的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3524400" y="1676520"/>
            <a:ext cx="3257280" cy="268128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3809880" y="1905120"/>
            <a:ext cx="1916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8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4920" cy="371628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4680000" y="333360"/>
            <a:ext cx="4464000" cy="376092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287280" y="43657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端午习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避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毒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：民间认为五月是五毒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蝎、蛇、蜈蚣、蜘蛛、蟾蜍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出没之时，便以各种方法以防其害。一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屋中贴五毒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再用五根针刺于五毒之上，即认为毒物被刺死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是一种辟邪术遗俗。含驱毒防病之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1692360" y="0"/>
            <a:ext cx="792000" cy="1006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916000" y="0"/>
            <a:ext cx="718920" cy="907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1618920" y="1916280"/>
            <a:ext cx="1152360" cy="1369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626920" y="1989000"/>
            <a:ext cx="1081080" cy="1440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2195640" y="1197000"/>
            <a:ext cx="720720" cy="865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挂艾草、菖蒲、榕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端午节在门口挂艾草、菖蒲（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蒲剑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）或石榴、胡蒜，都有其它原因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  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挂艾草、菖蒲、榕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艾、榕、菖蒲用红纸绑成一束，然后插或悬在门上。因为菖蒲天中五瑞之首，象征驱除不祥的宝剑，因为生长的季节和外形被视为感“百阴之气”，叶片呈剑型，插在门口可以避邪。所以方士们称它为“水剑”，后来的风俗则引申为“蒲剑”，可以斩千邪。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4"/>
              </a:rPr>
              <a:t>清代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顾铁卿在《清嘉录》中有一段记载“截蒲为剑，割蓬作鞭，副以桃梗蒜头，悬于床户，皆以却鬼”。而晋代《风土志》中则有“以艾为虎形，或剪彩为小虎，帖以艾叶，内人争相裁之。以后更加菖蒲，或作人形，或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5"/>
              </a:rPr>
              <a:t>肖剑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状，名为蒲剑，以驱邪却鬼”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6019920" y="0"/>
            <a:ext cx="18288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885680" y="4365720"/>
            <a:ext cx="55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端午插艾不仅是节日中的点缀，更具有一定的科学根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《荆楚岁时记》：“采艾以为人，悬门户上，以禳毒气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艾是菊科草本植物，其茎叶含挥发性芳香油，可驱蚊虫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净化空气。它还可入药，具有理气血、祛湿寒的功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3075120" y="787320"/>
            <a:ext cx="2720880" cy="29559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829400" cy="22860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4829040" cy="22860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4"/>
          <a:stretch/>
        </p:blipFill>
        <p:spPr>
          <a:xfrm>
            <a:off x="8915400" y="189000"/>
            <a:ext cx="228600" cy="482904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5"/>
          <a:stretch/>
        </p:blipFill>
        <p:spPr>
          <a:xfrm>
            <a:off x="0" y="189000"/>
            <a:ext cx="228600" cy="482904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6"/>
          <a:stretch/>
        </p:blipFill>
        <p:spPr>
          <a:xfrm>
            <a:off x="0" y="6453360"/>
            <a:ext cx="4829040" cy="2286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7"/>
          <a:stretch/>
        </p:blipFill>
        <p:spPr>
          <a:xfrm>
            <a:off x="0" y="1628640"/>
            <a:ext cx="228600" cy="4829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8"/>
          <a:stretch/>
        </p:blipFill>
        <p:spPr>
          <a:xfrm>
            <a:off x="4314960" y="6453360"/>
            <a:ext cx="4829040" cy="2286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9"/>
          <a:stretch/>
        </p:blipFill>
        <p:spPr>
          <a:xfrm>
            <a:off x="8915400" y="2028960"/>
            <a:ext cx="228600" cy="48290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ll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80880" y="-36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划龙舟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龙舟竞渡与祭祀屈原、曹娥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龙舟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一词，最早见于先秦古书《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穆天子传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》卷五：“天子乘鸟舟、龙舟浮于大沼。”预《九歌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湘君》中“驾飞龙今北征，邅吾道兮洞庭”，“石濑浅浅，飞龙兮翩翩”，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学者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们也认为“飞龙”即龙舟。《湘君》即描写湘人驭驾龙舟，将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4"/>
              </a:rPr>
              <a:t>玉佩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沉入江中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与抛踪子入江相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悼念某位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5"/>
              </a:rPr>
              <a:t>历史人物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之诗。这即与“魂舟”暗合，与楚国《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6"/>
              </a:rPr>
              <a:t>人物御龙帛画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》之像暗合，可互为印证。《荆楚岁时记》载：“五月五日，谓之浴兰节。…… 是日，竞渡，竞采杂药。”此后，历代诗赋、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7"/>
              </a:rPr>
              <a:t>笔记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、志书 等记载竞渡就数不胜数了。龙舟，与普通船只不太相同，大小不一，桡手人数不一。如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8"/>
              </a:rPr>
              <a:t>广州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黄埔、郊区一带龙船，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米，路上有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人，桡手约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人。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9"/>
              </a:rPr>
              <a:t>南宁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龙舟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多米，每船约五六十人。湖南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10"/>
              </a:rPr>
              <a:t>汨罗市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龙舟则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16—22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米，挠手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24—48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人。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11"/>
              </a:rPr>
              <a:t>福建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福州龙舟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米，挠手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人。龙船一般是狭长、细窄，船头饰龙头，船尾饰龙尾。龙头的颜色有红、黑、灰等色，均与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12"/>
              </a:rPr>
              <a:t>龙灯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之头相似，姿态不一。一般以木雕成，加以彩绘（也有用纸扎、纱扎的）。龙尾多用整木雕，上刻鳞甲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3"/>
          <a:stretch/>
        </p:blipFill>
        <p:spPr>
          <a:xfrm rot="897000">
            <a:off x="3809880" y="1295280"/>
            <a:ext cx="2095560" cy="30765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跳钟馗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跳钟馗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、闹钟馗：自晋代以来跳钟馗、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钟馗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，赐福镇宅就是端午节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春节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的重要内容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  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钟馗执剑祛邪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悬挂钟馗画。最早的钟馗画，据说出自画圣吴道子之手。据北宋沈括《梦溪补笔谈》记载：唐明皇患疾近一月，忽梦二鬼。小鬼窃得皇上玉笛及杨贵妃之紫香囊奔逃，大鬼乃捉小鬼刳其目，然后擘而啖之。大鬼道：“臣为钟馗，即武举不捷之士也，誓与陛下除天下之妖孽。”唐明皇醒后，即病愈，便召画工吴道子，嘱其按梦中情景画钟馗捉鬼图，道子挥笔即成，明皇见后，竟与所梦一模一样，惊叹不已。后来，钟馗画渐渐走入民间，绘制钟馗画大都作于五月端午节这一天，或者端午节的前后几天。到了清代，江南苏、浙一带的居民大都在农历五月于大门或堂中挂钟馗图一月，以期驱邪除害、祛凶引福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2819520" y="1295280"/>
            <a:ext cx="27432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图文</a:t>
            </a:r>
            <a:endParaRPr b="0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0" name=""/>
          <p:cNvSpPr txBox="1"/>
          <p:nvPr/>
        </p:nvSpPr>
        <p:spPr>
          <a:xfrm rot="2116200">
            <a:off x="4571640" y="3276360"/>
            <a:ext cx="186696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走进端午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887480" y="4365720"/>
            <a:ext cx="55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屈原投江之后，老郎中将雄黄酒倒入江中，以药晕鱼龙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会儿，水面果真浮起一条蛟龙。人们把这条蛟龙扯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岸，抽其筋，剥其皮，再用雄黄酒抹七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据说这就是日久端午节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饮雄黄酒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来历。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59244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453708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643280" cy="37116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268200" y="4724280"/>
            <a:ext cx="905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端午节已被列入首批国家级非物质文化遗产名录令人欣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非物质文化遗产，是各民族人民世代相承的各种传统文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形式，它是民族智慧的体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4681440" y="189000"/>
            <a:ext cx="442764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684880" y="566100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吃粽子的风俗，千百年来，不但盛行不衰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而且流传到日本、朝鲜和越南等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103640" cy="2728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3887640" cy="27414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880" name="" descr=""/>
          <p:cNvPicPr/>
          <p:nvPr/>
        </p:nvPicPr>
        <p:blipFill>
          <a:blip r:embed="rId3"/>
          <a:stretch/>
        </p:blipFill>
        <p:spPr>
          <a:xfrm>
            <a:off x="2627280" y="3141720"/>
            <a:ext cx="3384720" cy="24321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881" name=""/>
          <p:cNvSpPr/>
          <p:nvPr/>
        </p:nvSpPr>
        <p:spPr>
          <a:xfrm>
            <a:off x="754560" y="306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  <a:ea typeface="华文新魏"/>
              </a:rPr>
              <a:t>越南粽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659640" y="299736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00"/>
                </a:solidFill>
                <a:latin typeface="Arial"/>
                <a:ea typeface="华文新魏"/>
              </a:rPr>
              <a:t>新加坡粽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442200" y="465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Arial"/>
                <a:ea typeface="华文新魏"/>
              </a:rPr>
              <a:t>陈皮牛肉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heel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401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802"/>
                            </p:stCondLst>
                            <p:childTnLst>
                              <p:par>
                                <p:cTn id="2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802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103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103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52712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187280" y="4869000"/>
            <a:ext cx="76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龙舟竞渡之习，盛行于楚、吴、越，沿袭至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3456000" cy="212544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476360" y="9079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北宋皇帝于临水殿看金明池内龙舟竞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2808360" cy="288144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5695920" y="42926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明代皇帝，在中南海紫光阁观龙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90080" y="5805360"/>
            <a:ext cx="27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诗为证，     且 看  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push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801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187280" y="469260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端 午（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唐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文秀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节分端午自谁言，万古传闻为屈原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堪笑楚江空渺渺，不能洗得直臣冤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058080" cy="40100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1716120" y="644400"/>
            <a:ext cx="5721480" cy="41119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2693160" y="5216400"/>
            <a:ext cx="414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端午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宋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张耒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竞渡深悲千载冤，忠魂一去讵能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国亡身殒今何有，只留离骚在世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间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pull dir="l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-539640" y="260280"/>
            <a:ext cx="9144000" cy="22269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七 律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端午   老 舍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端午偏逢风雨狂，村童仍着旧衣裳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相邀情重携蓑笠，敢为泥深恋草堂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有客同心当骨肉，无钱买酒卖文章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当年此会鱼三尺，不似今朝豆味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84720" cy="3645000"/>
          </a:xfrm>
          <a:prstGeom prst="rect">
            <a:avLst/>
          </a:prstGeom>
          <a:ln w="0">
            <a:solidFill>
              <a:srgbClr val="ffffff"/>
            </a:solidFill>
          </a:ln>
        </p:spPr>
      </p:pic>
    </p:spTree>
  </p:cSld>
  <p:transition spd="slow" advTm="8000">
    <p:plus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116000" y="2637000"/>
            <a:ext cx="871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呼唤远古之精魂，传统文化有了强劲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复兴势头，诗句传承着伟大的屈子精神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4932360" y="4195800"/>
            <a:ext cx="3168720" cy="247320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黄酒"/>
          <p:cNvPicPr/>
          <p:nvPr/>
        </p:nvPicPr>
        <p:blipFill>
          <a:blip r:embed="rId2"/>
          <a:stretch/>
        </p:blipFill>
        <p:spPr>
          <a:xfrm>
            <a:off x="1187280" y="4135320"/>
            <a:ext cx="3097440" cy="25225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3"/>
          <a:stretch/>
        </p:blipFill>
        <p:spPr>
          <a:xfrm>
            <a:off x="2700360" y="333360"/>
            <a:ext cx="3313080" cy="2386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01480" y="5373720"/>
            <a:ext cx="8642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我们过端午，是对远古流传下来的民族精魂的呼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DFKai-SB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DFKai-SB"/>
                <a:ea typeface="楷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2232000" cy="16621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2663640" cy="191772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6877080" y="3716280"/>
            <a:ext cx="1944720" cy="12049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2376360" cy="182412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468360" y="1413000"/>
            <a:ext cx="2381040" cy="17143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7020000" y="1125360"/>
            <a:ext cx="1684440" cy="230364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2771640" y="0"/>
            <a:ext cx="4176720" cy="96372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2119320" y="6113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7" dur="1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47" dur="1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57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66" dur="1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7" dur="1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7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2601"/>
                            </p:stCondLst>
                            <p:childTnLst>
                              <p:par>
                                <p:cTn id="39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396" dur="1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97" dur="1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601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 rot="1654800">
            <a:off x="2819160" y="1447560"/>
            <a:ext cx="2476440" cy="33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88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7010280" y="3886200"/>
            <a:ext cx="17910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3.80204E-006 L -0.3 -0.28862 E">
                                      <p:cBhvr>
                                        <p:cTn id="43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30492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端午节的由来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端午节，因为端午节是在农历的五月五日，是三个重要的中国节庆之一，其他两个分別是中秋节和农历新年。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幼圆"/>
              </a:rPr>
              <a:t>农历五月初五为端午节，又称端阳节、午日节、五月节、艾节、端五、重午、午日、夏节。虽然名称不同，但各地人民过节的习俗是相同的。端午节是我国二千多年的旧习俗，每到这一天，家家户户都悬钟馗像，挂艾叶菖蒲，赛龙舟，吃粽子，饮雄黄酒，游百病，佩香囊，备牲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端午节为每年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农历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五月初五，又称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端阳节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、午日节、五月节等；端午节是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中国汉族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人民纪念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屈原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的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传统节日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更有吃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粽子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赛龙舟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挂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菖蒲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、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蒿草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、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艾叶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薰苍术、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芷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喝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雄黄酒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的习俗。“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端午节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”为国家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法定节假日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之一，并被列入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世界非物质文化遗产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名录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1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91440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端午节的意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的第一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就是纪念历史上伟大的民族诗人屈原。屈原，名平，是战国时代的楚国人，生于楚威王五年夏历正月初七，或谓生于楚宣王二十七年，卒于楚襄王九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的第二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伍子胥的忌辰。伍子胥名员，楚国人，父兄均为楚王所杀，后来子胥弃暗投明，奔向吴国，助吴伐楚，五战而入楚都郢城。当时楚平王已死，子胥掘墓鞭尸三百，以报杀父兄之仇。吴王阖庐死后，其子夫差继位，吴军士气高昂，百战百胜，越国大败，越王勾践请和，夫差许之。子胥建议，应彻底消灭越国，夫差不听，吴国大宰，受越国贿赂，谗言陷害子胥，夫差信之，赐子胥宝剑，子胥以此死。子胥本为忠良，视死如归，在死前对邻舍人说：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我死后，将我眼睛挖出悬挂在吴京之东门上，以看越国军队入城灭吴。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便自刎而死，夫差闻言大怒，令取子胥之尸体装在皮革里于五月五日投入大江，因此相传端午节亦为纪念伍子胥之日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第三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为纪念东汉孝女曹娥救父投江而死。曹娥是东汉上虞人，父亲溺于江中，数日不见尸体，当时孝女曹娥年仅十四岁，昼夜沿江号哭。过了十七天，在五月五日也投江，五日后抱出父尸。就此传为神话，继而相传至县府知事，令度尚为之立碑，让他的弟子邯郸淳作诔辞颂扬。孝女曹娥之墓，在今浙江绍兴，后传曹娥碑为晋王义所书。后人为纪念曹娥的孝节，在曹娥投江之处兴建曹娥庙，她所居住的村镇改名为曹娥镇，曹娥殉父之处定名为曹娥江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第四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纪念现代革命女诗人秋瑾。秋瑾是六月五日殉国，后人为敬仰其诗，复哀其忠勇事迹，乃与诗人节合并举行纪念，而诗人节亦因纪念爱国诗人屈原而定为端午节。秋瑾字睿卿竞雄，号鉴湖女侠，小字玉姑，浙江绍兴人，幼年擅长诗、词、歌、赋，且喜骑马击剑，有花木兰、秦良玉在世之啤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28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岁时参加革命，影响极大，预谋起义，开会时为清兵所捕，不屈，于光绪三十三年六月五日在绍兴轩亨口英勇就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20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0"/>
            <a:ext cx="91440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端午节的意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的第一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就是纪念历史上伟大的民族诗人屈原。屈原，名平，是战国时代的楚国人，生于楚威王五年夏历正月初七，或谓生于楚宣王二十七年，卒于楚襄王九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的第二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伍子胥的忌辰。伍子胥名员，楚国人，父兄均为楚王所杀，后来子胥弃暗投明，奔向吴国，助吴伐楚，五战而入楚都郢城。当时楚平王已死，子胥掘墓鞭尸三百，以报杀父兄之仇。吴王阖庐死后，其子夫差继位，吴军士气高昂，百战百胜，越国大败，越王勾践请和，夫差许之。子胥建议，应彻底消灭越国，夫差不听，吴国大宰，受越国贿赂，谗言陷害子胥，夫差信之，赐子胥宝剑，子胥以此死。子胥本为忠良，视死如归，在死前对邻舍人说：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我死后，将我眼睛挖出悬挂在吴京之东门上，以看越国军队入城灭吴。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便自刎而死，夫差闻言大怒，令取子胥之尸体装在皮革里于五月五日投入大江，因此相传端午节亦为纪念伍子胥之日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第三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为纪念东汉孝女曹娥救父投江而死。曹娥是东汉上虞人，父亲溺于江中，数日不见尸体，当时孝女曹娥年仅十四岁，昼夜沿江号哭。过了十七天，在五月五日也投江，五日后抱出父尸。就此传为神话，继而相传至县府知事，令度尚为之立碑，让他的弟子邯郸淳作诔辞颂扬。孝女曹娥之墓，在今浙江绍兴，后传曹娥碑为晋王义所书。后人为纪念曹娥的孝节，在曹娥投江之处兴建曹娥庙，她所居住的村镇改名为曹娥镇，曹娥殉父之处定名为曹娥江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第四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纪念现代革命女诗人秋瑾。秋瑾是六月五日殉国，后人为敬仰其诗，复哀其忠勇事迹，乃与诗人节合并举行纪念，而诗人节亦因纪念爱国诗人屈原而定为端午节。秋瑾字睿卿竞雄，号鉴湖女侠，小字玉姑，浙江绍兴人，幼年擅长诗、词、歌、赋，且喜骑马击剑，有花木兰、秦良玉在世之啤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28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岁时参加革命，影响极大，预谋起义，开会时为清兵所捕，不屈，于光绪三十三年六月五日在绍兴轩亨口英勇就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Black"/>
              </a:rPr>
              <a:t>.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 Black"/>
              </a:rPr>
              <a:t>纪念屈原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传说端午节是为了纪念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战国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时代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楚国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4"/>
              </a:rPr>
              <a:t>诗人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5"/>
              </a:rPr>
              <a:t>屈原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，他在五月初五这天投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6"/>
              </a:rPr>
              <a:t>汨罗江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自尽殉国。屈平，字原，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8"/>
              </a:rPr>
              <a:t>  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屈原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通常称为屈原，又自云名正则，号灵均，汉族，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9"/>
              </a:rPr>
              <a:t>战国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末期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0"/>
              </a:rPr>
              <a:t>楚国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丹阳（今湖北秭归）人，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1"/>
              </a:rPr>
              <a:t>楚武王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2"/>
              </a:rPr>
              <a:t>熊通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之子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3"/>
              </a:rPr>
              <a:t>屈瑕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的后代。屈原虽忠事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4"/>
              </a:rPr>
              <a:t>楚怀王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，却屡遭排挤，怀王死后又因顷襄王听信谗言而被流放，最终投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5"/>
              </a:rPr>
              <a:t>汨罗江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而死。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3" name="" descr="屈原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57200" y="4762440"/>
            <a:ext cx="1628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79186E-006 L 0.35834 -0.41073 E">
                                      <p:cBhvr>
                                        <p:cTn id="148" dur="2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8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　</a:t>
            </a: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吃粽子的来历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农历五月初五是端午节，民间有吃粽子的习惯，传说是为了纪念战国时期楚国大臣屈原的。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屈原是我国伟大的爱国主义诗人，他积极主张楚国联合齐国，抗击秦国，他的意见没有被采纳，反而被罢了官，发配到边远的地方。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楚国快要灭亡时，农历五月五日这天，屈原投汨罗江自杀。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屈原投江后，楚国人民为了不让江里的鱼虾鳖蟹吃屈原的尸体，就往江里投好吃的食物。这样年复一年，人民为了纪念这位爱国诗人，每逢端午节那天，便把食物投到江里祭祀屈原。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一天晚上，有一位老人在梦里梦到屈原，就问他：“我们给您投去那么多的食物，您吃到没有？”屈原说：“你们送给我的饭，都让那些鱼虾鳖蟹吃了。”老人问“怎样才不会被他们吃掉呢？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屈原说：“你们用竹叶把饭包起来，做成菱角形的尖角粽子，它们以为是菱角就不敢抢着吃了。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第二年的端午节，人们就照着屈原说的话，向汨罗江里投下尖角粽子。可是，过了端午节后，屈原又给老人托了个梦，说：“谢谢你们给我送来了那么多粽子，我吃到了。但大多数仍是被鱼虾鳖蟹吃了。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老人问屈原：“还有什么办法呢？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屈原说：“送粽子的船要打扮成龙的样子，因为鱼虾鳖蟹属龙管辖，它们不敢吃龙王的东西。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从那以后，年年端午节那天，人们划着龙船到汨罗江送粽子。这就是端午节吃粽子划龙舟的来历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17780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01T04:24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