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D823-1D5F-42DE-AF0A-D0FFCC545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2D9F-D215-4085-A500-3CF241CA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CCB4-4F2C-40E1-B15B-55A38E1B3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9E7B-CA15-439D-897B-AEF760CF7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65CD-DF9A-4D6B-AB2D-8EEDB15DF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84E9-88C3-4A34-BE30-A1848158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6DD3-A6A6-42FD-8233-079BCC77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8F2B-9FC6-43A6-9BB2-1D440C60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D609-46A1-4DE6-AA62-A78D1168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11D5-AAFB-4732-A3B9-E2B09E10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A97C-7520-4A1B-AFDE-439F6F6E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0788-3C8E-47C8-B469-1936582E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8A38-A7EC-4CAE-AE33-9D1C3595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2CFE-4C93-43D9-9D7C-B4466E10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BE8A-7F40-42EE-8597-AD43204F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4D1C-4AA1-4F45-9D52-D8AF8E4D1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ABA6-B385-4A6A-91A6-14F9D48BD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DF54-8A6F-4C23-878C-B70C61ED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8EF1-788D-4639-8308-A627C6DD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797C-C97E-4BA4-8494-57CE9834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FCD7-3445-49C3-B8FB-C4F4FD79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BB36-6CF3-4960-B9F0-B3F7A977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6E2E-2FD3-4E18-B342-E0D487A5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2BE4-BE73-42D9-BE8C-917FEBF3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F8B7-2CE7-402C-95FD-0E5E9CC12B3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7720" cy="5562720"/>
            <a:chOff x="380880" y="457200"/>
            <a:chExt cx="839772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772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16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4012-96F7-4580-B72D-432BE394A049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%B4%EF%C8%CB%D0%E3+%C1%F5&#944;&amp;in=23074&amp;cl=2&amp;lm=-1&amp;pn=2&amp;rn=1&amp;di=27902538810&amp;ln=1124&amp;fr=&amp;fmq=&amp;ic=0&amp;s=0&amp;se=1&amp;sme=0&amp;tab=&amp;width=&amp;height=&amp;face=0&amp;is=&amp;istype=2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5</a:t>
            </a:r>
            <a:r>
              <a:rPr b="0" lang="zh-CN" sz="65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、秋天的怀念</a:t>
            </a:r>
            <a:endParaRPr b="0" lang="en-US" sz="6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66560" y="4348080"/>
            <a:ext cx="4537080" cy="13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9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史铁生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684360" y="256536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望着望着天上北归的雁阵，我会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—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611280" y="3789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听着听着收音机里甜美的歌声，我会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—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826920" y="48690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听到母亲提议去看菊花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—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900000" y="31417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突然把面前的玻璃砸碎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755640" y="43657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猛地把手边的东西摔向四周的墙壁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900000" y="54450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不，我不去！我活着有什么劲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539640" y="260280"/>
            <a:ext cx="817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品读第一段双腿瘫痪后，我的脾气变得怎样了呢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6516720" y="836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黑体"/>
              </a:rPr>
              <a:t>暴怒无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539640" y="1341360"/>
            <a:ext cx="62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我”的暴怒无常体现在哪儿？把这样的句子画出来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品读第三段，母亲又是怎样对待儿子的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3" descr="花"/>
          <p:cNvPicPr/>
          <p:nvPr/>
        </p:nvPicPr>
        <p:blipFill>
          <a:blip r:embed="rId1"/>
          <a:stretch/>
        </p:blipFill>
        <p:spPr>
          <a:xfrm>
            <a:off x="7524720" y="5373720"/>
            <a:ext cx="1573200" cy="14684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539640" y="1628640"/>
            <a:ext cx="453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  <a:ea typeface="隶书"/>
              </a:rPr>
              <a:t>——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黑体"/>
              </a:rPr>
              <a:t>挡在窗前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539640" y="2276640"/>
            <a:ext cx="57596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  <a:ea typeface="隶书"/>
              </a:rPr>
              <a:t>——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  <a:ea typeface="隶书"/>
              </a:rPr>
              <a:t>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黑体"/>
              </a:rPr>
              <a:t>央求般的神色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611280" y="2852640"/>
            <a:ext cx="75596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  <a:ea typeface="隶书"/>
              </a:rPr>
              <a:t>——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  <a:ea typeface="隶书"/>
              </a:rPr>
              <a:t>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黑体"/>
              </a:rPr>
              <a:t>一会儿坐下，一会儿站起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684360" y="3573360"/>
            <a:ext cx="4608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  <a:ea typeface="隶书"/>
              </a:rPr>
              <a:t>——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  <a:ea typeface="隶书"/>
              </a:rPr>
              <a:t>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黑体"/>
              </a:rPr>
              <a:t>比我还敏感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Group 8"/>
          <p:cNvGrpSpPr/>
          <p:nvPr/>
        </p:nvGrpSpPr>
        <p:grpSpPr>
          <a:xfrm>
            <a:off x="395280" y="4149720"/>
            <a:ext cx="8238960" cy="1191240"/>
            <a:chOff x="395280" y="4149720"/>
            <a:chExt cx="8238960" cy="1191240"/>
          </a:xfrm>
        </p:grpSpPr>
        <p:sp>
          <p:nvSpPr>
            <p:cNvPr id="133" name="Text Box 9"/>
            <p:cNvSpPr/>
            <p:nvPr/>
          </p:nvSpPr>
          <p:spPr>
            <a:xfrm>
              <a:off x="395280" y="4149720"/>
              <a:ext cx="823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朗读课文，体味母爱通过读，你能填写出</a:t>
              </a:r>
              <a:r>
                <a:rPr b="1" lang="zh-CN" sz="3600" spc="-1" strike="noStrike">
                  <a:solidFill>
                    <a:srgbClr val="0000ff"/>
                  </a:solidFill>
                  <a:latin typeface="Arial"/>
                  <a:ea typeface="黑体"/>
                </a:rPr>
                <a:t>“</a:t>
              </a: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母亲爱      ，更爱          </a:t>
              </a:r>
              <a:r>
                <a:rPr b="1" lang="zh-CN" sz="3600" spc="-1" strike="noStrike">
                  <a:solidFill>
                    <a:srgbClr val="0000ff"/>
                  </a:solidFill>
                  <a:latin typeface="Arial"/>
                  <a:ea typeface="黑体"/>
                </a:rPr>
                <a:t>”</a:t>
              </a: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吗？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10"/>
            <p:cNvSpPr/>
            <p:nvPr/>
          </p:nvSpPr>
          <p:spPr>
            <a:xfrm>
              <a:off x="1751400" y="5234040"/>
              <a:ext cx="120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1"/>
            <p:cNvSpPr/>
            <p:nvPr/>
          </p:nvSpPr>
          <p:spPr>
            <a:xfrm>
              <a:off x="4029840" y="5234040"/>
              <a:ext cx="2341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Text Box 12"/>
          <p:cNvSpPr/>
          <p:nvPr/>
        </p:nvSpPr>
        <p:spPr>
          <a:xfrm>
            <a:off x="3091680" y="46656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5937840" y="45925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双腿瘫痪的儿子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2360" y="488880"/>
            <a:ext cx="80550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哪些语句最能表现母亲对儿子的关爱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468360" y="1413000"/>
            <a:ext cx="813600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当我发脾气时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母亲就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悄悄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躲出去，在我看不见的地方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偷偷地注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意着我的动静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当一切恢复沉寂，她又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悄悄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进来眼圈红红的，看着我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研讨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24000" y="3357720"/>
            <a:ext cx="84391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黑体"/>
              </a:rPr>
              <a:t>面对我的暴怒无常，母亲逆来顺受，表现出极大地理解，忍耐和宽容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黑体"/>
              </a:rPr>
              <a:t>，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细心，包容，耐心，敏感，小心。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黑体"/>
              </a:rPr>
              <a:t>偷偷地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黑体"/>
              </a:rPr>
              <a:t>表现了母亲的无奈，宽容，和慈爱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Ink 5"/>
          <p:cNvSpPr/>
          <p:nvPr/>
        </p:nvSpPr>
        <p:spPr>
          <a:xfrm>
            <a:off x="1438200" y="4680000"/>
            <a:ext cx="5670720" cy="106200"/>
          </a:xfrm>
          <a:custGeom>
            <a:avLst/>
            <a:gdLst/>
            <a:ahLst/>
            <a:rect l="l" t="t" r="r" b="b"/>
            <a:pathLst>
              <a:path w="15752" h="298">
                <a:moveTo>
                  <a:pt x="3994" y="13295"/>
                </a:moveTo>
                <a:lnTo>
                  <a:pt x="3994" y="13295"/>
                </a:lnTo>
              </a:path>
              <a:path w="15752" h="298">
                <a:moveTo>
                  <a:pt x="3994" y="13295"/>
                </a:moveTo>
                <a:cubicBezTo>
                  <a:pt x="5873" y="13295"/>
                  <a:pt x="7751" y="13246"/>
                  <a:pt x="9624" y="13246"/>
                </a:cubicBezTo>
                <a:cubicBezTo>
                  <a:pt x="10129" y="13246"/>
                  <a:pt x="10638" y="13246"/>
                  <a:pt x="11137" y="13271"/>
                </a:cubicBezTo>
                <a:cubicBezTo>
                  <a:pt x="11589" y="13294"/>
                  <a:pt x="12049" y="13271"/>
                  <a:pt x="12502" y="13271"/>
                </a:cubicBezTo>
              </a:path>
              <a:path w="15752" h="298">
                <a:moveTo>
                  <a:pt x="16793" y="13171"/>
                </a:moveTo>
                <a:cubicBezTo>
                  <a:pt x="16844" y="13146"/>
                  <a:pt x="16837" y="13140"/>
                  <a:pt x="16942" y="13122"/>
                </a:cubicBezTo>
                <a:cubicBezTo>
                  <a:pt x="17018" y="13109"/>
                  <a:pt x="17084" y="13097"/>
                  <a:pt x="17165" y="13097"/>
                </a:cubicBezTo>
                <a:cubicBezTo>
                  <a:pt x="17296" y="13097"/>
                  <a:pt x="17405" y="13047"/>
                  <a:pt x="17537" y="13047"/>
                </a:cubicBezTo>
                <a:cubicBezTo>
                  <a:pt x="17683" y="13047"/>
                  <a:pt x="17821" y="13040"/>
                  <a:pt x="17959" y="13022"/>
                </a:cubicBezTo>
                <a:cubicBezTo>
                  <a:pt x="18040" y="13011"/>
                  <a:pt x="18128" y="13001"/>
                  <a:pt x="18207" y="12998"/>
                </a:cubicBezTo>
                <a:cubicBezTo>
                  <a:pt x="18718" y="12976"/>
                  <a:pt x="19234" y="12998"/>
                  <a:pt x="19745" y="129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612720" y="1774800"/>
            <a:ext cx="813600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‘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听说北海的花都开了，我推着你去走走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她总是这么说。母亲喜欢花，可自从我的腿瘫痪后，她侍养的那些花都死了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f309"/>
                </a:solidFill>
                <a:latin typeface="Arial"/>
                <a:ea typeface="黑体"/>
              </a:rPr>
              <a:t>（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为了我，母亲虽然爱花，却没有精力、时间也没有心思再养花了。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2360" y="488880"/>
            <a:ext cx="80550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哪些语句最能表现母亲对儿子的关爱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Ink 6"/>
          <p:cNvSpPr/>
          <p:nvPr/>
        </p:nvSpPr>
        <p:spPr>
          <a:xfrm>
            <a:off x="2768760" y="2911320"/>
            <a:ext cx="696600" cy="44640"/>
          </a:xfrm>
          <a:custGeom>
            <a:avLst/>
            <a:gdLst/>
            <a:ahLst/>
            <a:rect l="l" t="t" r="r" b="b"/>
            <a:pathLst>
              <a:path w="1936" h="125">
                <a:moveTo>
                  <a:pt x="7689" y="8210"/>
                </a:moveTo>
                <a:cubicBezTo>
                  <a:pt x="7737" y="8182"/>
                  <a:pt x="7752" y="8186"/>
                  <a:pt x="7813" y="8186"/>
                </a:cubicBezTo>
                <a:cubicBezTo>
                  <a:pt x="7958" y="8186"/>
                  <a:pt x="8105" y="8187"/>
                  <a:pt x="8235" y="8161"/>
                </a:cubicBezTo>
                <a:cubicBezTo>
                  <a:pt x="8300" y="8148"/>
                  <a:pt x="8377" y="8147"/>
                  <a:pt x="8434" y="8136"/>
                </a:cubicBezTo>
                <a:cubicBezTo>
                  <a:pt x="8539" y="8115"/>
                  <a:pt x="8673" y="8136"/>
                  <a:pt x="8781" y="8136"/>
                </a:cubicBezTo>
                <a:cubicBezTo>
                  <a:pt x="8805" y="8121"/>
                  <a:pt x="8803" y="8114"/>
                  <a:pt x="8855" y="8111"/>
                </a:cubicBezTo>
                <a:cubicBezTo>
                  <a:pt x="8903" y="8108"/>
                  <a:pt x="8943" y="8091"/>
                  <a:pt x="8979" y="8086"/>
                </a:cubicBezTo>
                <a:cubicBezTo>
                  <a:pt x="9184" y="8055"/>
                  <a:pt x="9417" y="8086"/>
                  <a:pt x="9624" y="80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Ink 7"/>
          <p:cNvSpPr/>
          <p:nvPr/>
        </p:nvSpPr>
        <p:spPr>
          <a:xfrm>
            <a:off x="5313240" y="3500280"/>
            <a:ext cx="723960" cy="1800"/>
          </a:xfrm>
          <a:custGeom>
            <a:avLst/>
            <a:gdLst/>
            <a:ahLst/>
            <a:rect l="l" t="t" r="r" b="b"/>
            <a:pathLst>
              <a:path w="2010" h="1">
                <a:moveTo>
                  <a:pt x="14759" y="9723"/>
                </a:moveTo>
                <a:cubicBezTo>
                  <a:pt x="15429" y="9723"/>
                  <a:pt x="16098" y="9723"/>
                  <a:pt x="16768" y="97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69800" y="1484280"/>
            <a:ext cx="80629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母亲</a:t>
            </a: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扑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过来</a:t>
            </a: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抓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住我的手，</a:t>
            </a: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忍住哭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说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咱娘儿俩在一块儿，好好儿活，好好儿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……”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她常常肝疼得整宿整宿翻来覆去地睡不了觉。研讨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、哪些语句最能表现母亲对儿子的关爱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39640" y="414972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扑”“抓”两个动作，说明母亲十分害怕我禁不住打击，失去生活的勇气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。“忍”母亲尽管自己十分悲痛，却抑制悲伤鼓励安慰儿子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5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0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1403280" y="256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395280" y="333360"/>
            <a:ext cx="8532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  <a:ea typeface="黑体"/>
              </a:rPr>
              <a:t>4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咱娘俩在一起，好好儿活，好好儿活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……”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说“好好儿活”是鼓励我珍惜生命，坚强地活下去。带着几分无奈，几分顽强，母亲自己身染重病，却不挠地与病魔抗争。不想我失去自信和勇气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朴素的不能再朴素，简单的不能再简单的一句话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却体现了母亲的伟大和坚强，自己已经遭受病痛折磨，但还是要坚强地宽慰儿子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所体现的母爱竟是那样的意味深长。在这里母亲以悲苦而残缺的余生，教给儿子如何面对有缺憾的人生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395280" y="191772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那天我独自坐在屋里，看着窗外的树叶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‘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唰唰啦啦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’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飘落。母亲进来了，挡在窗前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……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f309"/>
                </a:solidFill>
                <a:latin typeface="Arial"/>
                <a:ea typeface="黑体"/>
              </a:rPr>
              <a:t>（ 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‘</a:t>
            </a: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唰唰啦啦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’</a:t>
            </a:r>
            <a:r>
              <a:rPr b="1" lang="zh-CN" sz="3600" spc="-1" strike="noStrike">
                <a:solidFill>
                  <a:srgbClr val="1ff309"/>
                </a:solidFill>
                <a:latin typeface="Arial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以静衬动，表现了我烦闷不安的心情。母亲是要把萧瑟的秋天挡在窗外，要把我心中的寂寞、消沉逐出窗外。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哪些语句最能表现母亲对儿子的关爱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6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4140360" y="476280"/>
            <a:ext cx="144144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3" descr="65h_small">
            <a:hlinkClick r:id="rId1" action="ppaction://hlinksldjump"/>
          </p:cNvPr>
          <p:cNvPicPr/>
          <p:nvPr/>
        </p:nvPicPr>
        <p:blipFill>
          <a:blip r:embed="rId2"/>
          <a:srcRect l="12522" t="0" r="12522" b="0"/>
          <a:stretch/>
        </p:blipFill>
        <p:spPr>
          <a:xfrm>
            <a:off x="-685800" y="-17136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4"/>
          <p:cNvSpPr/>
          <p:nvPr/>
        </p:nvSpPr>
        <p:spPr>
          <a:xfrm>
            <a:off x="533520" y="1447920"/>
            <a:ext cx="792144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北海的菊花开了，我  推着你去看看吧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。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她憔悴 的脸现出央求般的神色。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央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什么意思，你读出了怎样的母亲形象。研讨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539640" y="358128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憔悴 的脸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表明母亲积劳成疾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央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是恳求，乞求，苦苦哀求的意思，表现母亲的耐心和慈祥。母亲多么希望我能振作，走出阴影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533520" y="47304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哪些语句最能表现母亲对儿子的关爱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539640" y="1773360"/>
            <a:ext cx="80647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cc3300"/>
                </a:solidFill>
                <a:latin typeface="黑体"/>
                <a:ea typeface="黑体"/>
              </a:rPr>
              <a:t>当听说我愿意去北海时，母亲</a:t>
            </a:r>
            <a:r>
              <a:rPr b="1" lang="en-US" sz="4000" spc="-1" strike="noStrike">
                <a:solidFill>
                  <a:srgbClr val="cc3300"/>
                </a:solidFill>
                <a:latin typeface="黑体"/>
                <a:ea typeface="黑体"/>
              </a:rPr>
              <a:t>"</a:t>
            </a:r>
            <a:r>
              <a:rPr b="1" lang="zh-CN" sz="4000" spc="-1" strike="noStrike">
                <a:solidFill>
                  <a:srgbClr val="cc3300"/>
                </a:solidFill>
                <a:latin typeface="黑体"/>
                <a:ea typeface="黑体"/>
              </a:rPr>
              <a:t>高兴得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会儿坐下，一会儿站起</a:t>
            </a:r>
            <a:r>
              <a:rPr b="1" lang="en-US" sz="4000" spc="-1" strike="noStrike">
                <a:solidFill>
                  <a:srgbClr val="cc3300"/>
                </a:solidFill>
                <a:latin typeface="黑体"/>
                <a:ea typeface="黑体"/>
              </a:rPr>
              <a:t>"</a:t>
            </a:r>
            <a:r>
              <a:rPr b="1" lang="zh-CN" sz="4000" spc="-1" strike="noStrike">
                <a:solidFill>
                  <a:srgbClr val="cc3300"/>
                </a:solidFill>
                <a:latin typeface="黑体"/>
                <a:ea typeface="黑体"/>
              </a:rPr>
              <a:t>，还不停地絮絮叨叨地说着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  <a:ea typeface="黑体"/>
              </a:rPr>
              <a:t>…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（能够说服孩子出去走走，母亲竟是如此兴奋。她希望我能开心、快乐。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哪些语句最能表现母亲对儿子的关爱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498600" y="990720"/>
            <a:ext cx="864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黑体"/>
              </a:rPr>
              <a:t>还记得那会我带你去北海吗？你偏说那杨树花是毛毛虫，跑着，一脚踩扁一个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黑体"/>
              </a:rPr>
              <a:t>她忽然不说了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对于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跑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和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类的字眼儿，</a:t>
            </a: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她比我还敏感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研讨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哪些语句最能表现母亲对儿子的关爱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2280" y="3429000"/>
            <a:ext cx="86868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语言描写，一方面我同意出游，母亲十分高兴快乐，另一方面，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黑体"/>
              </a:rPr>
              <a:t>她忽然不说了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黑体"/>
              </a:rPr>
              <a:t>母亲意识到她说多了，怕勾起我的烦恼</a:t>
            </a:r>
            <a:r>
              <a:rPr b="1" lang="zh-CN" sz="3600" spc="-1" strike="noStrike">
                <a:solidFill>
                  <a:srgbClr val="cc3300"/>
                </a:solidFill>
                <a:latin typeface="楷体_GB2312"/>
                <a:ea typeface="黑体"/>
              </a:rPr>
              <a:t>。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她比我还敏感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说明他的内心比我还沉重。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母亲的爱，细致入微，连说话用词用词方面都注意到了，生怕刺激到我，小心翼翼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Ink 5"/>
          <p:cNvSpPr/>
          <p:nvPr/>
        </p:nvSpPr>
        <p:spPr>
          <a:xfrm>
            <a:off x="258840" y="4946760"/>
            <a:ext cx="312840" cy="455400"/>
          </a:xfrm>
          <a:custGeom>
            <a:avLst/>
            <a:gdLst/>
            <a:ahLst/>
            <a:rect l="l" t="t" r="r" b="b"/>
            <a:pathLst>
              <a:path w="870" h="1266">
                <a:moveTo>
                  <a:pt x="1588" y="13816"/>
                </a:moveTo>
                <a:lnTo>
                  <a:pt x="1588" y="13816"/>
                </a:lnTo>
              </a:path>
              <a:path w="870" h="1266">
                <a:moveTo>
                  <a:pt x="1141" y="14908"/>
                </a:moveTo>
                <a:lnTo>
                  <a:pt x="1141" y="14908"/>
                </a:lnTo>
              </a:path>
              <a:path w="870" h="1266">
                <a:moveTo>
                  <a:pt x="1240" y="13742"/>
                </a:moveTo>
                <a:cubicBezTo>
                  <a:pt x="1198" y="13777"/>
                  <a:pt x="1210" y="13761"/>
                  <a:pt x="1191" y="13816"/>
                </a:cubicBezTo>
                <a:cubicBezTo>
                  <a:pt x="1169" y="13878"/>
                  <a:pt x="1149" y="13889"/>
                  <a:pt x="1116" y="13940"/>
                </a:cubicBezTo>
                <a:cubicBezTo>
                  <a:pt x="1092" y="13977"/>
                  <a:pt x="1074" y="14028"/>
                  <a:pt x="1042" y="14064"/>
                </a:cubicBezTo>
                <a:cubicBezTo>
                  <a:pt x="1028" y="14079"/>
                  <a:pt x="1010" y="14115"/>
                  <a:pt x="992" y="14139"/>
                </a:cubicBezTo>
                <a:cubicBezTo>
                  <a:pt x="980" y="14155"/>
                  <a:pt x="951" y="14175"/>
                  <a:pt x="943" y="14188"/>
                </a:cubicBezTo>
                <a:cubicBezTo>
                  <a:pt x="926" y="14215"/>
                  <a:pt x="909" y="14247"/>
                  <a:pt x="893" y="14263"/>
                </a:cubicBezTo>
                <a:cubicBezTo>
                  <a:pt x="923" y="14278"/>
                  <a:pt x="924" y="14288"/>
                  <a:pt x="992" y="14288"/>
                </a:cubicBezTo>
                <a:cubicBezTo>
                  <a:pt x="1048" y="14288"/>
                  <a:pt x="1097" y="14277"/>
                  <a:pt x="1141" y="14312"/>
                </a:cubicBezTo>
                <a:cubicBezTo>
                  <a:pt x="1174" y="14338"/>
                  <a:pt x="1173" y="14399"/>
                  <a:pt x="1191" y="14436"/>
                </a:cubicBezTo>
                <a:cubicBezTo>
                  <a:pt x="1210" y="14475"/>
                  <a:pt x="1229" y="14501"/>
                  <a:pt x="1265" y="14536"/>
                </a:cubicBezTo>
                <a:cubicBezTo>
                  <a:pt x="1313" y="14583"/>
                  <a:pt x="1312" y="14593"/>
                  <a:pt x="1315" y="14660"/>
                </a:cubicBezTo>
                <a:cubicBezTo>
                  <a:pt x="1319" y="14747"/>
                  <a:pt x="1344" y="14915"/>
                  <a:pt x="1290" y="14982"/>
                </a:cubicBezTo>
                <a:cubicBezTo>
                  <a:pt x="1266" y="15012"/>
                  <a:pt x="1268" y="15004"/>
                  <a:pt x="1215" y="15007"/>
                </a:cubicBezTo>
                <a:cubicBezTo>
                  <a:pt x="1150" y="15011"/>
                  <a:pt x="1066" y="15021"/>
                  <a:pt x="1017" y="14982"/>
                </a:cubicBezTo>
                <a:cubicBezTo>
                  <a:pt x="993" y="14962"/>
                  <a:pt x="986" y="14960"/>
                  <a:pt x="943" y="14957"/>
                </a:cubicBezTo>
                <a:cubicBezTo>
                  <a:pt x="869" y="14953"/>
                  <a:pt x="793" y="14957"/>
                  <a:pt x="719" y="14957"/>
                </a:cubicBezTo>
              </a:path>
              <a:path w="870" h="1266">
                <a:moveTo>
                  <a:pt x="1191" y="13866"/>
                </a:moveTo>
                <a:cubicBezTo>
                  <a:pt x="1307" y="13866"/>
                  <a:pt x="1422" y="13866"/>
                  <a:pt x="1538" y="138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Ink 6"/>
          <p:cNvSpPr/>
          <p:nvPr/>
        </p:nvSpPr>
        <p:spPr>
          <a:xfrm>
            <a:off x="374760" y="3394080"/>
            <a:ext cx="455400" cy="731880"/>
          </a:xfrm>
          <a:custGeom>
            <a:avLst/>
            <a:gdLst/>
            <a:ahLst/>
            <a:rect l="l" t="t" r="r" b="b"/>
            <a:pathLst>
              <a:path w="1266" h="2035">
                <a:moveTo>
                  <a:pt x="1538" y="9500"/>
                </a:moveTo>
                <a:cubicBezTo>
                  <a:pt x="1499" y="9539"/>
                  <a:pt x="1494" y="9527"/>
                  <a:pt x="1463" y="9575"/>
                </a:cubicBezTo>
                <a:cubicBezTo>
                  <a:pt x="1446" y="9602"/>
                  <a:pt x="1430" y="9633"/>
                  <a:pt x="1414" y="9649"/>
                </a:cubicBezTo>
                <a:cubicBezTo>
                  <a:pt x="1382" y="9681"/>
                  <a:pt x="1382" y="9728"/>
                  <a:pt x="1364" y="9748"/>
                </a:cubicBezTo>
                <a:cubicBezTo>
                  <a:pt x="1349" y="9765"/>
                  <a:pt x="1290" y="9798"/>
                  <a:pt x="1265" y="9823"/>
                </a:cubicBezTo>
                <a:cubicBezTo>
                  <a:pt x="1256" y="9831"/>
                  <a:pt x="1201" y="9860"/>
                  <a:pt x="1191" y="9872"/>
                </a:cubicBezTo>
                <a:cubicBezTo>
                  <a:pt x="1169" y="9898"/>
                  <a:pt x="1138" y="9944"/>
                  <a:pt x="1116" y="9971"/>
                </a:cubicBezTo>
                <a:cubicBezTo>
                  <a:pt x="1103" y="9988"/>
                  <a:pt x="1051" y="10035"/>
                  <a:pt x="1042" y="10046"/>
                </a:cubicBezTo>
                <a:cubicBezTo>
                  <a:pt x="1042" y="10054"/>
                  <a:pt x="1042" y="10063"/>
                  <a:pt x="1042" y="10071"/>
                </a:cubicBezTo>
                <a:cubicBezTo>
                  <a:pt x="1154" y="10071"/>
                  <a:pt x="1256" y="10081"/>
                  <a:pt x="1364" y="10096"/>
                </a:cubicBezTo>
                <a:cubicBezTo>
                  <a:pt x="1469" y="10110"/>
                  <a:pt x="1561" y="10086"/>
                  <a:pt x="1662" y="10120"/>
                </a:cubicBezTo>
                <a:cubicBezTo>
                  <a:pt x="1727" y="10142"/>
                  <a:pt x="1770" y="10145"/>
                  <a:pt x="1836" y="10145"/>
                </a:cubicBezTo>
                <a:cubicBezTo>
                  <a:pt x="1993" y="10145"/>
                  <a:pt x="2150" y="10145"/>
                  <a:pt x="2307" y="10145"/>
                </a:cubicBezTo>
              </a:path>
              <a:path w="1266" h="2035">
                <a:moveTo>
                  <a:pt x="1736" y="9426"/>
                </a:moveTo>
                <a:cubicBezTo>
                  <a:pt x="1718" y="9456"/>
                  <a:pt x="1715" y="9453"/>
                  <a:pt x="1712" y="9500"/>
                </a:cubicBezTo>
                <a:cubicBezTo>
                  <a:pt x="1710" y="9542"/>
                  <a:pt x="1692" y="9569"/>
                  <a:pt x="1687" y="9599"/>
                </a:cubicBezTo>
                <a:cubicBezTo>
                  <a:pt x="1687" y="9624"/>
                  <a:pt x="1687" y="9632"/>
                  <a:pt x="1687" y="9649"/>
                </a:cubicBezTo>
                <a:cubicBezTo>
                  <a:pt x="1673" y="9673"/>
                  <a:pt x="1664" y="9671"/>
                  <a:pt x="1662" y="9723"/>
                </a:cubicBezTo>
                <a:cubicBezTo>
                  <a:pt x="1659" y="9793"/>
                  <a:pt x="1651" y="9815"/>
                  <a:pt x="1612" y="9872"/>
                </a:cubicBezTo>
                <a:cubicBezTo>
                  <a:pt x="1595" y="9897"/>
                  <a:pt x="1601" y="9901"/>
                  <a:pt x="1588" y="9947"/>
                </a:cubicBezTo>
                <a:cubicBezTo>
                  <a:pt x="1575" y="9995"/>
                  <a:pt x="1563" y="10035"/>
                  <a:pt x="1563" y="10096"/>
                </a:cubicBezTo>
                <a:cubicBezTo>
                  <a:pt x="1552" y="10114"/>
                  <a:pt x="1531" y="10157"/>
                  <a:pt x="1513" y="10195"/>
                </a:cubicBezTo>
                <a:cubicBezTo>
                  <a:pt x="1491" y="10244"/>
                  <a:pt x="1503" y="10289"/>
                  <a:pt x="1488" y="10344"/>
                </a:cubicBezTo>
                <a:cubicBezTo>
                  <a:pt x="1470" y="10410"/>
                  <a:pt x="1463" y="10444"/>
                  <a:pt x="1463" y="10517"/>
                </a:cubicBezTo>
                <a:cubicBezTo>
                  <a:pt x="1463" y="10606"/>
                  <a:pt x="1452" y="10682"/>
                  <a:pt x="1439" y="10765"/>
                </a:cubicBezTo>
                <a:cubicBezTo>
                  <a:pt x="1430" y="10823"/>
                  <a:pt x="1423" y="10884"/>
                  <a:pt x="1414" y="10939"/>
                </a:cubicBezTo>
                <a:cubicBezTo>
                  <a:pt x="1390" y="11087"/>
                  <a:pt x="1414" y="11260"/>
                  <a:pt x="1414" y="11410"/>
                </a:cubicBezTo>
                <a:cubicBezTo>
                  <a:pt x="1397" y="11427"/>
                  <a:pt x="1381" y="11443"/>
                  <a:pt x="1364" y="114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826920" y="549360"/>
            <a:ext cx="23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WordArt 3"/>
          <p:cNvSpPr txBox="1"/>
          <p:nvPr/>
        </p:nvSpPr>
        <p:spPr>
          <a:xfrm>
            <a:off x="539640" y="260280"/>
            <a:ext cx="3168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教学目标</a:t>
            </a:r>
            <a:endParaRPr b="0" lang="en-US" sz="4000" spc="1" strike="noStrike">
              <a:ln cap="rnd" w="9360">
                <a:solidFill>
                  <a:srgbClr val="ffffff"/>
                </a:solidFill>
                <a:custDash>
                  <a:ds d="100000" sp="1000"/>
                </a:custDash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971640" y="1916280"/>
            <a:ext cx="75610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体会作者将浓烈的感情寄托在叙事中的写法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掌握人物的动作、神态、语言等描写，感受人物 形象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深切地领悟文章蕴涵的深沉无私的母爱，联系生活实际，激发学生的感恩情怀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320760" y="1774800"/>
            <a:ext cx="864540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她还在大口大口地吐着鲜血。我没有想到她已经</a:t>
            </a: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病成那样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母亲昏迷前的最后一句话是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那个生病的儿子，还有那个未成年的女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……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f309"/>
                </a:solidFill>
                <a:latin typeface="Arial"/>
                <a:ea typeface="黑体"/>
              </a:rPr>
              <a:t>（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黑体"/>
              </a:rPr>
              <a:t>在痛苦的弥留之际，心里惦记着的依然只有自己的儿女！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哪些语句最能表现母亲对儿子的关爱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imes New Roman"/>
                <a:ea typeface="黑体"/>
              </a:rPr>
              <a:t>三拓展延伸，理解中心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>
              <a:buClr>
                <a:srgbClr val="000000"/>
              </a:buClr>
              <a:buSzPct val="75000"/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课文中几次提到了看花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SzPct val="75000"/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文中母亲几次提出要带我去看菊花，仅仅是因为母亲喜欢花吗？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为什么母亲要带我去看菊花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buClr>
                <a:srgbClr val="c770fc"/>
              </a:buClr>
              <a:buSzPct val="75000"/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770fc"/>
                </a:solidFill>
                <a:latin typeface="Arial"/>
                <a:ea typeface="黑体"/>
              </a:rPr>
              <a:t>在最后一节，描写菊花的作用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buClr>
                <a:srgbClr val="990000"/>
              </a:buClr>
              <a:buSzPct val="75000"/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  <a:ea typeface="黑体"/>
              </a:rPr>
              <a:t>文中多次提到菊花，有何用意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buClr>
                <a:srgbClr val="0000ff"/>
              </a:buClr>
              <a:buSzPct val="75000"/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史铁生经典语录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1908000" y="90792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母亲    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我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50920" y="17002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Arial"/>
                <a:ea typeface="黑体"/>
              </a:rPr>
              <a:t>第一次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79280" y="3284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00"/>
                </a:solidFill>
                <a:latin typeface="Arial"/>
                <a:ea typeface="黑体"/>
              </a:rPr>
              <a:t>第二次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1979640" y="141300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听说北海的花都开了，我推着你去走走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5940360" y="1628640"/>
            <a:ext cx="19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不，我不去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1908000" y="314172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北海的菊花开了，我推着你去看看吧。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6012000" y="314172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什么时候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179280" y="5084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Arial"/>
                <a:ea typeface="黑体"/>
              </a:rPr>
              <a:t>第三次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2641320" y="501336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又是秋天，妹妹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我去北海看了花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6464880" y="4941720"/>
            <a:ext cx="23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我俩在一块儿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要好好儿活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…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179280" y="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同学们，课文中有一个非常重要的情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看花，你们注意到了吗？课文中几次提到了看花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158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</a:t>
            </a:r>
            <a:r>
              <a:rPr b="1" lang="en-US" sz="3600" spc="-1" strike="noStrike">
                <a:solidFill>
                  <a:srgbClr val="333300"/>
                </a:solidFill>
                <a:latin typeface="Times New Roman"/>
                <a:ea typeface="黑体"/>
              </a:rPr>
              <a:t>2 </a:t>
            </a: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黑体"/>
              </a:rPr>
              <a:t>文中母亲几次提出要带我去看菊花，仅仅是因为母亲喜欢花吗？</a:t>
            </a:r>
            <a:r>
              <a:rPr b="1" lang="zh-CN" sz="3600" spc="-1" strike="noStrike">
                <a:solidFill>
                  <a:srgbClr val="3333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31901"/>
                </a:solidFill>
                <a:latin typeface="Times New Roman"/>
                <a:ea typeface="黑体"/>
              </a:rPr>
              <a:t>为什么母亲要带我去看菊花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15328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母亲生前两次要带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我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去北海看菊花，其实是想借此缓解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我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强烈的悲观情绪，让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我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在秋天，在这人生最灰暗的日子里，能感受到这个世界的美丽，明白生命的美好，从而好好的活着。 反映了母亲希望孩子活下去的良苦用心，这也是母爱的集中体现 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Ink 4"/>
          <p:cNvSpPr/>
          <p:nvPr/>
        </p:nvSpPr>
        <p:spPr>
          <a:xfrm>
            <a:off x="3197160" y="31068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880" y="8632"/>
                </a:moveTo>
                <a:lnTo>
                  <a:pt x="8880" y="863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04920" y="30492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  <a:ea typeface="黑体"/>
              </a:rPr>
              <a:t>文末为什么详写各种颜色的菊花在“秋风中开的烂漫”？结尾重复母亲“好好活儿”的话，有什么深意？研讨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304920" y="1917720"/>
            <a:ext cx="883908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ffcc"/>
                </a:solidFill>
                <a:latin typeface="Times New Roman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31901"/>
                </a:solidFill>
                <a:latin typeface="Arial"/>
                <a:ea typeface="黑体"/>
              </a:rPr>
              <a:t>菊花象征母亲菊花一样的精神品质，菊花中有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母亲的殷切嘱托</a:t>
            </a:r>
            <a:r>
              <a:rPr b="1" lang="zh-CN" sz="4000" spc="-1" strike="noStrike">
                <a:solidFill>
                  <a:srgbClr val="00ffcc"/>
                </a:solidFill>
                <a:latin typeface="Arial"/>
                <a:ea typeface="黑体"/>
              </a:rPr>
              <a:t>，</a:t>
            </a:r>
            <a:r>
              <a:rPr b="1" lang="zh-CN" sz="4000" spc="-1" strike="noStrike">
                <a:solidFill>
                  <a:srgbClr val="031901"/>
                </a:solidFill>
                <a:latin typeface="Arial"/>
                <a:ea typeface="黑体"/>
              </a:rPr>
              <a:t>也表明“我们”实现了母亲生前的遗愿。描写菊花用来表达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“我”对母亲的一片深情和怀念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揭示了文章主旨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31901"/>
                </a:solidFill>
                <a:latin typeface="Arial"/>
                <a:ea typeface="黑体"/>
              </a:rPr>
              <a:t>结尾重复母亲的话，表明我们已经懂得了生命的意义和真谛，应该勇敢的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面对现实，热爱生命，顽强生活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4" descr="DSCF1308"/>
          <p:cNvPicPr/>
          <p:nvPr/>
        </p:nvPicPr>
        <p:blipFill>
          <a:blip r:embed="rId1"/>
          <a:stretch/>
        </p:blipFill>
        <p:spPr>
          <a:xfrm>
            <a:off x="179280" y="260280"/>
            <a:ext cx="3097440" cy="2737080"/>
          </a:xfrm>
          <a:prstGeom prst="rect">
            <a:avLst/>
          </a:prstGeom>
          <a:ln w="0">
            <a:noFill/>
          </a:ln>
        </p:spPr>
      </p:pic>
      <p:sp>
        <p:nvSpPr>
          <p:cNvPr id="187" name="WordArt 5"/>
          <p:cNvSpPr txBox="1"/>
          <p:nvPr/>
        </p:nvSpPr>
        <p:spPr>
          <a:xfrm>
            <a:off x="250920" y="3141720"/>
            <a:ext cx="3095640" cy="146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黑体"/>
              </a:rPr>
              <a:t>黄的花淡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黑体"/>
              <a:ea typeface="黑体"/>
            </a:endParaRPr>
          </a:p>
        </p:txBody>
      </p:sp>
      <p:pic>
        <p:nvPicPr>
          <p:cNvPr id="188" name="Picture 6" descr="菊花6"/>
          <p:cNvPicPr/>
          <p:nvPr/>
        </p:nvPicPr>
        <p:blipFill>
          <a:blip r:embed="rId2"/>
          <a:stretch/>
        </p:blipFill>
        <p:spPr>
          <a:xfrm>
            <a:off x="3276720" y="333360"/>
            <a:ext cx="3024000" cy="2590920"/>
          </a:xfrm>
          <a:prstGeom prst="rect">
            <a:avLst/>
          </a:prstGeom>
          <a:ln w="0">
            <a:noFill/>
          </a:ln>
        </p:spPr>
      </p:pic>
      <p:sp>
        <p:nvSpPr>
          <p:cNvPr id="189" name="WordArt 7"/>
          <p:cNvSpPr txBox="1"/>
          <p:nvPr/>
        </p:nvSpPr>
        <p:spPr>
          <a:xfrm>
            <a:off x="3564000" y="3141720"/>
            <a:ext cx="298908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白的花高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pic>
        <p:nvPicPr>
          <p:cNvPr id="190" name="Picture 8" descr="图片3"/>
          <p:cNvPicPr/>
          <p:nvPr/>
        </p:nvPicPr>
        <p:blipFill>
          <a:blip r:embed="rId3"/>
          <a:stretch/>
        </p:blipFill>
        <p:spPr>
          <a:xfrm>
            <a:off x="6372360" y="260280"/>
            <a:ext cx="2627280" cy="2673360"/>
          </a:xfrm>
          <a:prstGeom prst="rect">
            <a:avLst/>
          </a:prstGeom>
          <a:ln w="0">
            <a:noFill/>
          </a:ln>
        </p:spPr>
      </p:pic>
      <p:sp>
        <p:nvSpPr>
          <p:cNvPr id="191" name="WordArt 9"/>
          <p:cNvSpPr txBox="1"/>
          <p:nvPr/>
        </p:nvSpPr>
        <p:spPr>
          <a:xfrm>
            <a:off x="3203640" y="4581360"/>
            <a:ext cx="5327640" cy="15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黑体"/>
              </a:rPr>
              <a:t>紫红的花热烈而深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黑体"/>
              <a:ea typeface="黑体"/>
            </a:endParaRPr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白色7"/>
          <p:cNvPicPr/>
          <p:nvPr/>
        </p:nvPicPr>
        <p:blipFill>
          <a:blip r:embed="rId1"/>
          <a:stretch/>
        </p:blipFill>
        <p:spPr>
          <a:xfrm>
            <a:off x="4284720" y="0"/>
            <a:ext cx="4859280" cy="2781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黄色4"/>
          <p:cNvPicPr/>
          <p:nvPr/>
        </p:nvPicPr>
        <p:blipFill>
          <a:blip r:embed="rId2"/>
          <a:stretch/>
        </p:blipFill>
        <p:spPr>
          <a:xfrm>
            <a:off x="0" y="115920"/>
            <a:ext cx="4284720" cy="27813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68436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0" y="191628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淡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4427640" y="2060640"/>
            <a:ext cx="172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高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2843280" y="530064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热烈而深沉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WordArt 10"/>
          <p:cNvSpPr txBox="1"/>
          <p:nvPr/>
        </p:nvSpPr>
        <p:spPr>
          <a:xfrm>
            <a:off x="1979640" y="4437000"/>
            <a:ext cx="662472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 </a:t>
            </a:r>
            <a:endParaRPr b="0" lang="en-US" sz="5400" spc="1" strike="noStrike">
              <a:ln w="1260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9" name="WordArt 11"/>
          <p:cNvSpPr txBox="1"/>
          <p:nvPr/>
        </p:nvSpPr>
        <p:spPr>
          <a:xfrm>
            <a:off x="1187280" y="2781360"/>
            <a:ext cx="6858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solidFill>
                  <a:srgbClr val="0000ff">
                    <a:alpha val="60000"/>
                  </a:srgbClr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我为什么去看菊花？</a:t>
            </a:r>
            <a:endParaRPr b="0" lang="en-US" sz="6000" spc="1" strike="noStrike">
              <a:ln w="0">
                <a:noFill/>
              </a:ln>
              <a:solidFill>
                <a:srgbClr val="0000ff">
                  <a:alpha val="60000"/>
                </a:srgbClr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00" name="Picture 5" descr="紫红5"/>
          <p:cNvPicPr/>
          <p:nvPr/>
        </p:nvPicPr>
        <p:blipFill>
          <a:blip r:embed="rId3"/>
          <a:stretch/>
        </p:blipFill>
        <p:spPr>
          <a:xfrm>
            <a:off x="0" y="2852640"/>
            <a:ext cx="4284720" cy="2637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粉红"/>
          <p:cNvPicPr/>
          <p:nvPr/>
        </p:nvPicPr>
        <p:blipFill>
          <a:blip r:embed="rId4"/>
          <a:stretch/>
        </p:blipFill>
        <p:spPr>
          <a:xfrm>
            <a:off x="4284720" y="2852640"/>
            <a:ext cx="4859280" cy="2492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vertical)" transition="out">
                                      <p:cBhvr additive="repl">
                                        <p:cTn id="37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6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14248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文中多次提到菊花，有何用意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母亲带我看花，是对生命的热爱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菊花的淡雅高洁，是母亲品质的写照。淡雅的黄花：告诉我要活得平淡，做一个实实在在的人。高洁的白花 ：告诉我要活得高尚而纯洁。热烈而深沉的紫红色花：告诉我要活得有热情、有活力，而不张扬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菊花热烈深沉，是母爱的写照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母亲爱花，我看菊花是对母亲的缅怀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6782040" cy="380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研讨与练习四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609480" y="837720"/>
            <a:ext cx="7925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  <a:ea typeface="黑体"/>
              </a:rPr>
              <a:t>秋天的怀念》以叙事为主，有一定的象征意义，菊花象征母亲高洁的品质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468360" y="271476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写作手法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插叙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母亲生病。母亲去世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对比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暴怒</a:t>
            </a:r>
            <a:r>
              <a:rPr b="1" lang="zh-CN" sz="3600" spc="-1" strike="noStrike">
                <a:solidFill>
                  <a:srgbClr val="c770fc"/>
                </a:solidFill>
                <a:latin typeface="黑体"/>
                <a:ea typeface="黑体"/>
              </a:rPr>
              <a:t>对比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母亲的体贴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对生活的绝望</a:t>
            </a:r>
            <a:r>
              <a:rPr b="1" lang="zh-CN" sz="3600" spc="-1" strike="noStrike">
                <a:solidFill>
                  <a:srgbClr val="c770fc"/>
                </a:solidFill>
                <a:latin typeface="黑体"/>
                <a:ea typeface="黑体"/>
              </a:rPr>
              <a:t>对比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亲的坚定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开头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直叙其事，</a:t>
            </a: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开门见山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结尾简洁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力。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结构上采用记叙和抒情交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写法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我们看到了一个怎样的母亲？怎样的儿子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对比手法的运用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母亲：慈爱、乐观、坚强。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儿子：悲观、烦躁、倔强、暴怒无常但逐渐走向成熟。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801440" y="479736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文中通过什么来描写我内心的痛苦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1639800" y="5516640"/>
            <a:ext cx="50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通过”我“的一系列动作，神情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心理活动来体现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684360" y="35733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我”的暴怒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对比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母亲的体贴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我”对生活的绝望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对比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母亲的坚定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50920" y="0"/>
            <a:ext cx="259236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作者简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3" descr="NewsMedia_2229"/>
          <p:cNvPicPr/>
          <p:nvPr/>
        </p:nvPicPr>
        <p:blipFill>
          <a:blip r:embed="rId1"/>
          <a:stretch/>
        </p:blipFill>
        <p:spPr>
          <a:xfrm>
            <a:off x="0" y="0"/>
            <a:ext cx="3809880" cy="294624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4"/>
          <p:cNvGrpSpPr/>
          <p:nvPr/>
        </p:nvGrpSpPr>
        <p:grpSpPr>
          <a:xfrm>
            <a:off x="1712520" y="115920"/>
            <a:ext cx="6471360" cy="7983720"/>
            <a:chOff x="1712520" y="115920"/>
            <a:chExt cx="6471360" cy="7983720"/>
          </a:xfrm>
        </p:grpSpPr>
        <p:sp>
          <p:nvSpPr>
            <p:cNvPr id="98" name="Text Box 5"/>
            <p:cNvSpPr/>
            <p:nvPr/>
          </p:nvSpPr>
          <p:spPr>
            <a:xfrm>
              <a:off x="4760280" y="115920"/>
              <a:ext cx="3423600" cy="29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史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铁生，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951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年生于北京。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967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年毕业于清华附中初中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969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年去延安地区插队落户。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972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年因双腿瘫痪回到北京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在街道工厂工作。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979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年发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表第一篇小说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《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法学教授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及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6"/>
            <p:cNvSpPr/>
            <p:nvPr/>
          </p:nvSpPr>
          <p:spPr>
            <a:xfrm>
              <a:off x="1712520" y="3130560"/>
              <a:ext cx="5651640" cy="49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其夫人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》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，以后陆续发表了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《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我的遥远的清平湾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》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《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午餐半小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》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、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《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我们的角落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》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、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《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在一个冬天的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晚上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》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、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《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山顶上的传说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》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等多篇小说。散文集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《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自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言自语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》《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我与地坛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》《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病隙碎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》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其中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《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我的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遥远的清平湾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》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和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《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奶奶的星星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》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分别获得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983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年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984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年全国优秀短篇小说奖。现为中国作家协会会员。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他的作品风格清新而温馨，富有哲理和幽默感，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属于意蕴深沉的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“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散文化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”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品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3659400" y="333360"/>
            <a:ext cx="240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板书设计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秋天的怀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7338600" y="2565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史铁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5096520" y="256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母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1640520" y="256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菊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449280" y="1700280"/>
            <a:ext cx="10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3300"/>
                </a:solidFill>
                <a:latin typeface="Arial"/>
              </a:rPr>
              <a:t>淡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3674880" y="1681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3300"/>
                </a:solidFill>
                <a:latin typeface="Arial"/>
              </a:rPr>
              <a:t>聪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576000" y="2400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3300"/>
                </a:solidFill>
                <a:latin typeface="Arial"/>
              </a:rPr>
              <a:t>高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576000" y="3033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3300"/>
                </a:solidFill>
                <a:latin typeface="Arial"/>
              </a:rPr>
              <a:t>热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576000" y="3697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3300"/>
                </a:solidFill>
                <a:latin typeface="Arial"/>
              </a:rPr>
              <a:t>深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3324240" y="2401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3300"/>
                </a:solidFill>
                <a:latin typeface="Arial"/>
              </a:rPr>
              <a:t>坚忍的意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2"/>
          <p:cNvSpPr/>
          <p:nvPr/>
        </p:nvSpPr>
        <p:spPr>
          <a:xfrm>
            <a:off x="3286080" y="30495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3300"/>
                </a:solidFill>
                <a:latin typeface="Arial"/>
              </a:rPr>
              <a:t>艰难的命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3277440" y="3716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3300"/>
                </a:solidFill>
                <a:latin typeface="Arial"/>
              </a:rPr>
              <a:t>毫不张扬的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Freeform 14"/>
          <p:cNvSpPr/>
          <p:nvPr/>
        </p:nvSpPr>
        <p:spPr>
          <a:xfrm>
            <a:off x="2268360" y="2133720"/>
            <a:ext cx="2951280" cy="503280"/>
          </a:xfrm>
          <a:custGeom>
            <a:avLst/>
            <a:gdLst>
              <a:gd name="textAreaLeft" fmla="*/ 0 w 2951280"/>
              <a:gd name="textAreaRight" fmla="*/ 2951640 w 29512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014" h="265">
                <a:moveTo>
                  <a:pt x="0" y="265"/>
                </a:moveTo>
                <a:cubicBezTo>
                  <a:pt x="9" y="238"/>
                  <a:pt x="7" y="203"/>
                  <a:pt x="27" y="183"/>
                </a:cubicBezTo>
                <a:cubicBezTo>
                  <a:pt x="61" y="149"/>
                  <a:pt x="105" y="107"/>
                  <a:pt x="146" y="82"/>
                </a:cubicBezTo>
                <a:cubicBezTo>
                  <a:pt x="228" y="31"/>
                  <a:pt x="343" y="9"/>
                  <a:pt x="438" y="0"/>
                </a:cubicBezTo>
                <a:cubicBezTo>
                  <a:pt x="524" y="11"/>
                  <a:pt x="601" y="21"/>
                  <a:pt x="685" y="37"/>
                </a:cubicBezTo>
                <a:cubicBezTo>
                  <a:pt x="716" y="43"/>
                  <a:pt x="777" y="64"/>
                  <a:pt x="777" y="64"/>
                </a:cubicBezTo>
                <a:cubicBezTo>
                  <a:pt x="807" y="84"/>
                  <a:pt x="838" y="91"/>
                  <a:pt x="868" y="110"/>
                </a:cubicBezTo>
                <a:cubicBezTo>
                  <a:pt x="931" y="149"/>
                  <a:pt x="879" y="128"/>
                  <a:pt x="932" y="146"/>
                </a:cubicBezTo>
                <a:cubicBezTo>
                  <a:pt x="958" y="173"/>
                  <a:pt x="1014" y="190"/>
                  <a:pt x="1014" y="229"/>
                </a:cubicBezTo>
              </a:path>
            </a:pathLst>
          </a:custGeom>
          <a:noFill/>
          <a:ln w="38160">
            <a:solidFill>
              <a:srgbClr val="66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Freeform 15"/>
          <p:cNvSpPr/>
          <p:nvPr/>
        </p:nvSpPr>
        <p:spPr>
          <a:xfrm>
            <a:off x="5508720" y="2205000"/>
            <a:ext cx="1896840" cy="432000"/>
          </a:xfrm>
          <a:custGeom>
            <a:avLst/>
            <a:gdLst>
              <a:gd name="textAreaLeft" fmla="*/ 0 w 1896840"/>
              <a:gd name="textAreaRight" fmla="*/ 1897200 w 18968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1014" h="265">
                <a:moveTo>
                  <a:pt x="0" y="265"/>
                </a:moveTo>
                <a:cubicBezTo>
                  <a:pt x="9" y="238"/>
                  <a:pt x="7" y="203"/>
                  <a:pt x="27" y="183"/>
                </a:cubicBezTo>
                <a:cubicBezTo>
                  <a:pt x="61" y="149"/>
                  <a:pt x="105" y="107"/>
                  <a:pt x="146" y="82"/>
                </a:cubicBezTo>
                <a:cubicBezTo>
                  <a:pt x="228" y="31"/>
                  <a:pt x="343" y="9"/>
                  <a:pt x="438" y="0"/>
                </a:cubicBezTo>
                <a:cubicBezTo>
                  <a:pt x="524" y="11"/>
                  <a:pt x="601" y="21"/>
                  <a:pt x="685" y="37"/>
                </a:cubicBezTo>
                <a:cubicBezTo>
                  <a:pt x="716" y="43"/>
                  <a:pt x="777" y="64"/>
                  <a:pt x="777" y="64"/>
                </a:cubicBezTo>
                <a:cubicBezTo>
                  <a:pt x="807" y="84"/>
                  <a:pt x="838" y="91"/>
                  <a:pt x="868" y="110"/>
                </a:cubicBezTo>
                <a:cubicBezTo>
                  <a:pt x="931" y="149"/>
                  <a:pt x="879" y="128"/>
                  <a:pt x="932" y="146"/>
                </a:cubicBezTo>
                <a:cubicBezTo>
                  <a:pt x="958" y="173"/>
                  <a:pt x="1014" y="190"/>
                  <a:pt x="1014" y="229"/>
                </a:cubicBezTo>
              </a:path>
            </a:pathLst>
          </a:custGeom>
          <a:noFill/>
          <a:ln w="38160">
            <a:solidFill>
              <a:srgbClr val="66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2156400" y="1557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7"/>
          <p:cNvSpPr/>
          <p:nvPr/>
        </p:nvSpPr>
        <p:spPr>
          <a:xfrm>
            <a:off x="6077160" y="1484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更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18"/>
          <p:cNvSpPr/>
          <p:nvPr/>
        </p:nvSpPr>
        <p:spPr>
          <a:xfrm flipH="1">
            <a:off x="6011640" y="2997360"/>
            <a:ext cx="1152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9"/>
          <p:cNvSpPr/>
          <p:nvPr/>
        </p:nvSpPr>
        <p:spPr>
          <a:xfrm>
            <a:off x="6354360" y="2414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怀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20"/>
          <p:cNvSpPr/>
          <p:nvPr/>
        </p:nvSpPr>
        <p:spPr>
          <a:xfrm>
            <a:off x="6354360" y="2971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懊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21"/>
          <p:cNvSpPr/>
          <p:nvPr/>
        </p:nvSpPr>
        <p:spPr>
          <a:xfrm>
            <a:off x="6346440" y="3429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悲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22"/>
          <p:cNvSpPr/>
          <p:nvPr/>
        </p:nvSpPr>
        <p:spPr>
          <a:xfrm>
            <a:off x="468360" y="443700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我真想告诉所有长大了的男孩子，千万不要跟母亲来这套倔强，羞涩就更不必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。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我已经懂了可我已经来不及了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23"/>
          <p:cNvSpPr/>
          <p:nvPr/>
        </p:nvSpPr>
        <p:spPr>
          <a:xfrm>
            <a:off x="1694880" y="3146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ff"/>
                </a:solidFill>
                <a:latin typeface="Arial"/>
              </a:rPr>
              <a:t>化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3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3"/>
          <p:cNvSpPr/>
          <p:nvPr/>
        </p:nvSpPr>
        <p:spPr>
          <a:xfrm>
            <a:off x="0" y="84240"/>
            <a:ext cx="9144000" cy="19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那段日子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那是好几年长的一段日子，我想我一定使母亲作过了最坏的准备了，但她从来没有对我说过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你为我想想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事实上我也真的没为她想过。那时她的儿子，还太年轻，还来不及为母亲想，他被命运击昏了头，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一心以为自己是世上最不幸的一个，不知道儿子的不幸在母亲那儿总是要加倍的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她有一个长到二十岁上忽然截瘫了的儿子，这是她唯一的儿子；她情愿截瘫的是自己而不是儿子，可这事无法代替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；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她想，只要儿子能活下去哪怕自己去死也行，可她又确信一个人不能仅仅是活着，儿子得有一条路走向自己的幸福；而这条路呢，没有谁能保证她的儿子终能找到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这样一个母亲，注定是活得最苦的母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亲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与地坛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                                   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3492360" y="1773360"/>
            <a:ext cx="374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340000" y="-360"/>
            <a:ext cx="425448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Times New Roman"/>
              </a:rPr>
              <a:t>史铁生经典语录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677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不要抱怨生活给予了太多的磨难，不必抱怨生命中有太多的曲折。大海如果失去了巨浪的翻滚，就会失去雄浑，沙漠如果失去了飞沙的狂舞，就会失去壮观，人生如果仅去求得两点一线的一帆风顺，生命也就失去了存在的魅力。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Ink 4"/>
          <p:cNvSpPr/>
          <p:nvPr/>
        </p:nvSpPr>
        <p:spPr>
          <a:xfrm>
            <a:off x="7143840" y="2401920"/>
            <a:ext cx="1251000" cy="19080"/>
          </a:xfrm>
          <a:custGeom>
            <a:avLst/>
            <a:gdLst/>
            <a:ahLst/>
            <a:rect l="l" t="t" r="r" b="b"/>
            <a:pathLst>
              <a:path w="3473" h="51">
                <a:moveTo>
                  <a:pt x="19844" y="6722"/>
                </a:moveTo>
                <a:cubicBezTo>
                  <a:pt x="20108" y="6722"/>
                  <a:pt x="20390" y="6728"/>
                  <a:pt x="20638" y="6697"/>
                </a:cubicBezTo>
                <a:cubicBezTo>
                  <a:pt x="21417" y="6599"/>
                  <a:pt x="22250" y="6758"/>
                  <a:pt x="23019" y="6672"/>
                </a:cubicBezTo>
                <a:cubicBezTo>
                  <a:pt x="23115" y="6661"/>
                  <a:pt x="23219" y="6672"/>
                  <a:pt x="23316" y="66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Ink 5"/>
          <p:cNvSpPr/>
          <p:nvPr/>
        </p:nvSpPr>
        <p:spPr>
          <a:xfrm>
            <a:off x="812880" y="2687760"/>
            <a:ext cx="7277040" cy="349200"/>
          </a:xfrm>
          <a:custGeom>
            <a:avLst/>
            <a:gdLst/>
            <a:ahLst/>
            <a:rect l="l" t="t" r="r" b="b"/>
            <a:pathLst>
              <a:path w="20217" h="969">
                <a:moveTo>
                  <a:pt x="2257" y="8434"/>
                </a:moveTo>
                <a:cubicBezTo>
                  <a:pt x="3644" y="8434"/>
                  <a:pt x="5011" y="8384"/>
                  <a:pt x="6375" y="8384"/>
                </a:cubicBezTo>
                <a:cubicBezTo>
                  <a:pt x="7531" y="8384"/>
                  <a:pt x="8707" y="8420"/>
                  <a:pt x="9847" y="8334"/>
                </a:cubicBezTo>
                <a:cubicBezTo>
                  <a:pt x="9974" y="8324"/>
                  <a:pt x="10090" y="8314"/>
                  <a:pt x="10220" y="8310"/>
                </a:cubicBezTo>
                <a:cubicBezTo>
                  <a:pt x="11033" y="8284"/>
                  <a:pt x="11847" y="8267"/>
                  <a:pt x="12650" y="8260"/>
                </a:cubicBezTo>
                <a:cubicBezTo>
                  <a:pt x="12995" y="8257"/>
                  <a:pt x="13325" y="8238"/>
                  <a:pt x="13667" y="8235"/>
                </a:cubicBezTo>
                <a:cubicBezTo>
                  <a:pt x="14567" y="8228"/>
                  <a:pt x="15495" y="8230"/>
                  <a:pt x="16371" y="8186"/>
                </a:cubicBezTo>
                <a:cubicBezTo>
                  <a:pt x="17103" y="8149"/>
                  <a:pt x="17840" y="8141"/>
                  <a:pt x="18554" y="8111"/>
                </a:cubicBezTo>
                <a:cubicBezTo>
                  <a:pt x="18724" y="8104"/>
                  <a:pt x="18885" y="8091"/>
                  <a:pt x="19050" y="8086"/>
                </a:cubicBezTo>
                <a:cubicBezTo>
                  <a:pt x="20006" y="8055"/>
                  <a:pt x="20839" y="8004"/>
                  <a:pt x="21754" y="7689"/>
                </a:cubicBezTo>
                <a:cubicBezTo>
                  <a:pt x="21912" y="7635"/>
                  <a:pt x="22066" y="7559"/>
                  <a:pt x="22225" y="7516"/>
                </a:cubicBezTo>
                <a:cubicBezTo>
                  <a:pt x="22319" y="7491"/>
                  <a:pt x="22289" y="7488"/>
                  <a:pt x="22374" y="7466"/>
                </a:cubicBezTo>
                <a:cubicBezTo>
                  <a:pt x="22405" y="7458"/>
                  <a:pt x="22442" y="7474"/>
                  <a:pt x="22473" y="74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Ink 6"/>
          <p:cNvSpPr/>
          <p:nvPr/>
        </p:nvSpPr>
        <p:spPr>
          <a:xfrm>
            <a:off x="8109000" y="2687760"/>
            <a:ext cx="142920" cy="9360"/>
          </a:xfrm>
          <a:custGeom>
            <a:avLst/>
            <a:gdLst/>
            <a:ahLst/>
            <a:rect l="l" t="t" r="r" b="b"/>
            <a:pathLst>
              <a:path w="398" h="26">
                <a:moveTo>
                  <a:pt x="22523" y="7466"/>
                </a:moveTo>
                <a:cubicBezTo>
                  <a:pt x="22630" y="7466"/>
                  <a:pt x="22730" y="7471"/>
                  <a:pt x="22820" y="7491"/>
                </a:cubicBezTo>
                <a:cubicBezTo>
                  <a:pt x="22870" y="7491"/>
                  <a:pt x="22887" y="7491"/>
                  <a:pt x="22920" y="74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Ink 7"/>
          <p:cNvSpPr/>
          <p:nvPr/>
        </p:nvSpPr>
        <p:spPr>
          <a:xfrm>
            <a:off x="847800" y="3473280"/>
            <a:ext cx="7672320" cy="19080"/>
          </a:xfrm>
          <a:custGeom>
            <a:avLst/>
            <a:gdLst/>
            <a:ahLst/>
            <a:rect l="l" t="t" r="r" b="b"/>
            <a:pathLst>
              <a:path w="21309" h="51">
                <a:moveTo>
                  <a:pt x="2356" y="9649"/>
                </a:moveTo>
                <a:cubicBezTo>
                  <a:pt x="2364" y="9649"/>
                  <a:pt x="2459" y="9672"/>
                  <a:pt x="2505" y="9674"/>
                </a:cubicBezTo>
                <a:cubicBezTo>
                  <a:pt x="4864" y="9751"/>
                  <a:pt x="7243" y="9699"/>
                  <a:pt x="9599" y="9699"/>
                </a:cubicBezTo>
                <a:cubicBezTo>
                  <a:pt x="13613" y="9699"/>
                  <a:pt x="17623" y="9674"/>
                  <a:pt x="21630" y="9674"/>
                </a:cubicBezTo>
                <a:cubicBezTo>
                  <a:pt x="22308" y="9674"/>
                  <a:pt x="22986" y="9674"/>
                  <a:pt x="23664" y="96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Ink 8"/>
          <p:cNvSpPr/>
          <p:nvPr/>
        </p:nvSpPr>
        <p:spPr>
          <a:xfrm>
            <a:off x="803160" y="4062240"/>
            <a:ext cx="1108080" cy="9720"/>
          </a:xfrm>
          <a:custGeom>
            <a:avLst/>
            <a:gdLst/>
            <a:ahLst/>
            <a:rect l="l" t="t" r="r" b="b"/>
            <a:pathLst>
              <a:path w="3077" h="26">
                <a:moveTo>
                  <a:pt x="2232" y="11286"/>
                </a:moveTo>
                <a:cubicBezTo>
                  <a:pt x="3100" y="11286"/>
                  <a:pt x="4005" y="11211"/>
                  <a:pt x="4862" y="11311"/>
                </a:cubicBezTo>
                <a:cubicBezTo>
                  <a:pt x="5006" y="11328"/>
                  <a:pt x="5163" y="11311"/>
                  <a:pt x="5308" y="113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Ink 9"/>
          <p:cNvSpPr/>
          <p:nvPr/>
        </p:nvSpPr>
        <p:spPr>
          <a:xfrm>
            <a:off x="2224080" y="4143240"/>
            <a:ext cx="1731960" cy="17640"/>
          </a:xfrm>
          <a:custGeom>
            <a:avLst/>
            <a:gdLst/>
            <a:ahLst/>
            <a:rect l="l" t="t" r="r" b="b"/>
            <a:pathLst>
              <a:path w="4813" h="51">
                <a:moveTo>
                  <a:pt x="6176" y="11559"/>
                </a:moveTo>
                <a:cubicBezTo>
                  <a:pt x="6219" y="11556"/>
                  <a:pt x="6271" y="11537"/>
                  <a:pt x="6300" y="11534"/>
                </a:cubicBezTo>
                <a:cubicBezTo>
                  <a:pt x="6569" y="11509"/>
                  <a:pt x="6863" y="11535"/>
                  <a:pt x="7119" y="11509"/>
                </a:cubicBezTo>
                <a:cubicBezTo>
                  <a:pt x="8381" y="11381"/>
                  <a:pt x="9717" y="11509"/>
                  <a:pt x="10988" y="115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7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340000" y="333000"/>
            <a:ext cx="425448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Times New Roman"/>
              </a:rPr>
              <a:t>史铁生经典语录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8677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幸福是要自己去寻找的，无论你在空间的哪一个角落，在时间的哪一个时刻，你都可以享受幸福，哪怕是你现在正在经历着一场大的浩劫，你也应该幸福，因为你可以在浩劫中看到曙光，能从浩劫中学到很多别人可能一辈子都学不到的东西，当你拥有了别人所不曾拥有的东西那你就是唯一。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Ink 4"/>
          <p:cNvSpPr/>
          <p:nvPr/>
        </p:nvSpPr>
        <p:spPr>
          <a:xfrm>
            <a:off x="3411360" y="5037120"/>
            <a:ext cx="4714920" cy="177840"/>
          </a:xfrm>
          <a:custGeom>
            <a:avLst/>
            <a:gdLst/>
            <a:ahLst/>
            <a:rect l="l" t="t" r="r" b="b"/>
            <a:pathLst>
              <a:path w="13098" h="497">
                <a:moveTo>
                  <a:pt x="9475" y="13990"/>
                </a:moveTo>
                <a:cubicBezTo>
                  <a:pt x="10028" y="13990"/>
                  <a:pt x="10547" y="14030"/>
                  <a:pt x="11063" y="14139"/>
                </a:cubicBezTo>
                <a:cubicBezTo>
                  <a:pt x="12227" y="14384"/>
                  <a:pt x="13731" y="14213"/>
                  <a:pt x="14908" y="14213"/>
                </a:cubicBezTo>
                <a:cubicBezTo>
                  <a:pt x="15424" y="14213"/>
                  <a:pt x="15981" y="14168"/>
                  <a:pt x="16470" y="14263"/>
                </a:cubicBezTo>
                <a:cubicBezTo>
                  <a:pt x="16555" y="14280"/>
                  <a:pt x="16611" y="14288"/>
                  <a:pt x="16694" y="14312"/>
                </a:cubicBezTo>
                <a:cubicBezTo>
                  <a:pt x="16774" y="14335"/>
                  <a:pt x="16835" y="14362"/>
                  <a:pt x="16917" y="14387"/>
                </a:cubicBezTo>
                <a:cubicBezTo>
                  <a:pt x="16981" y="14406"/>
                  <a:pt x="17021" y="14451"/>
                  <a:pt x="17090" y="14461"/>
                </a:cubicBezTo>
                <a:cubicBezTo>
                  <a:pt x="17224" y="14481"/>
                  <a:pt x="17406" y="14481"/>
                  <a:pt x="17537" y="14486"/>
                </a:cubicBezTo>
                <a:cubicBezTo>
                  <a:pt x="18681" y="14530"/>
                  <a:pt x="19862" y="14530"/>
                  <a:pt x="20985" y="14362"/>
                </a:cubicBezTo>
                <a:cubicBezTo>
                  <a:pt x="21116" y="14342"/>
                  <a:pt x="21253" y="14305"/>
                  <a:pt x="21382" y="14288"/>
                </a:cubicBezTo>
                <a:cubicBezTo>
                  <a:pt x="21441" y="14280"/>
                  <a:pt x="21444" y="14235"/>
                  <a:pt x="21506" y="14238"/>
                </a:cubicBezTo>
                <a:cubicBezTo>
                  <a:pt x="21574" y="14241"/>
                  <a:pt x="21645" y="14299"/>
                  <a:pt x="21704" y="14312"/>
                </a:cubicBezTo>
                <a:cubicBezTo>
                  <a:pt x="21833" y="14340"/>
                  <a:pt x="21950" y="14356"/>
                  <a:pt x="22101" y="14362"/>
                </a:cubicBezTo>
                <a:cubicBezTo>
                  <a:pt x="22257" y="14368"/>
                  <a:pt x="22415" y="14362"/>
                  <a:pt x="22572" y="143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Ink 5"/>
          <p:cNvSpPr/>
          <p:nvPr/>
        </p:nvSpPr>
        <p:spPr>
          <a:xfrm>
            <a:off x="714240" y="5670720"/>
            <a:ext cx="4108680" cy="53640"/>
          </a:xfrm>
          <a:custGeom>
            <a:avLst/>
            <a:gdLst/>
            <a:ahLst/>
            <a:rect l="l" t="t" r="r" b="b"/>
            <a:pathLst>
              <a:path w="11412" h="150">
                <a:moveTo>
                  <a:pt x="1984" y="15751"/>
                </a:moveTo>
                <a:cubicBezTo>
                  <a:pt x="3272" y="15751"/>
                  <a:pt x="4572" y="15727"/>
                  <a:pt x="5854" y="15776"/>
                </a:cubicBezTo>
                <a:cubicBezTo>
                  <a:pt x="6870" y="15815"/>
                  <a:pt x="7898" y="15785"/>
                  <a:pt x="8905" y="15825"/>
                </a:cubicBezTo>
                <a:cubicBezTo>
                  <a:pt x="9057" y="15831"/>
                  <a:pt x="9206" y="15833"/>
                  <a:pt x="9351" y="15850"/>
                </a:cubicBezTo>
                <a:cubicBezTo>
                  <a:pt x="9427" y="15859"/>
                  <a:pt x="9502" y="15871"/>
                  <a:pt x="9575" y="15875"/>
                </a:cubicBezTo>
                <a:cubicBezTo>
                  <a:pt x="10022" y="15899"/>
                  <a:pt x="10472" y="15893"/>
                  <a:pt x="10914" y="15900"/>
                </a:cubicBezTo>
                <a:cubicBezTo>
                  <a:pt x="11741" y="15913"/>
                  <a:pt x="12568" y="15900"/>
                  <a:pt x="13395" y="159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4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484360" y="333000"/>
            <a:ext cx="425448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Times New Roman"/>
              </a:rPr>
              <a:t>史铁生经典语录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8677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心灵的房间，不打扫就会落满灰尘。蒙尘的心，会变得灰色和迷茫。我们每天都要经历很多事情，开心的，不开心的，都在心里安家落户。心里的事情一多，就会变得杂乱无序，然后心也跟着乱起来。把一些无谓的痛苦扔掉，快乐就有了更多更大的空间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Ink 4"/>
          <p:cNvSpPr/>
          <p:nvPr/>
        </p:nvSpPr>
        <p:spPr>
          <a:xfrm>
            <a:off x="2401920" y="5106960"/>
            <a:ext cx="6108840" cy="9720"/>
          </a:xfrm>
          <a:custGeom>
            <a:avLst/>
            <a:gdLst/>
            <a:ahLst/>
            <a:rect l="l" t="t" r="r" b="b"/>
            <a:pathLst>
              <a:path w="16968" h="26">
                <a:moveTo>
                  <a:pt x="6672" y="14188"/>
                </a:moveTo>
                <a:cubicBezTo>
                  <a:pt x="7941" y="14188"/>
                  <a:pt x="9206" y="14213"/>
                  <a:pt x="10468" y="14213"/>
                </a:cubicBezTo>
                <a:cubicBezTo>
                  <a:pt x="14858" y="14213"/>
                  <a:pt x="19249" y="14213"/>
                  <a:pt x="23639" y="142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Ink 5"/>
          <p:cNvSpPr/>
          <p:nvPr/>
        </p:nvSpPr>
        <p:spPr>
          <a:xfrm>
            <a:off x="633240" y="5680080"/>
            <a:ext cx="4573800" cy="88920"/>
          </a:xfrm>
          <a:custGeom>
            <a:avLst/>
            <a:gdLst/>
            <a:ahLst/>
            <a:rect l="l" t="t" r="r" b="b"/>
            <a:pathLst>
              <a:path w="12701" h="249">
                <a:moveTo>
                  <a:pt x="1761" y="15776"/>
                </a:moveTo>
                <a:cubicBezTo>
                  <a:pt x="2357" y="15776"/>
                  <a:pt x="3018" y="15777"/>
                  <a:pt x="3572" y="15801"/>
                </a:cubicBezTo>
                <a:cubicBezTo>
                  <a:pt x="3721" y="15808"/>
                  <a:pt x="3855" y="15802"/>
                  <a:pt x="3994" y="15825"/>
                </a:cubicBezTo>
                <a:cubicBezTo>
                  <a:pt x="4070" y="15838"/>
                  <a:pt x="4145" y="15859"/>
                  <a:pt x="4217" y="15875"/>
                </a:cubicBezTo>
                <a:cubicBezTo>
                  <a:pt x="4258" y="15884"/>
                  <a:pt x="4296" y="15889"/>
                  <a:pt x="4341" y="15900"/>
                </a:cubicBezTo>
                <a:cubicBezTo>
                  <a:pt x="4408" y="15916"/>
                  <a:pt x="4476" y="15942"/>
                  <a:pt x="4539" y="15949"/>
                </a:cubicBezTo>
                <a:cubicBezTo>
                  <a:pt x="4625" y="15958"/>
                  <a:pt x="4713" y="15960"/>
                  <a:pt x="4787" y="15974"/>
                </a:cubicBezTo>
                <a:cubicBezTo>
                  <a:pt x="4840" y="15984"/>
                  <a:pt x="4918" y="15992"/>
                  <a:pt x="4961" y="15999"/>
                </a:cubicBezTo>
                <a:cubicBezTo>
                  <a:pt x="5010" y="16006"/>
                  <a:pt x="5075" y="16018"/>
                  <a:pt x="5135" y="16024"/>
                </a:cubicBezTo>
                <a:cubicBezTo>
                  <a:pt x="5636" y="16073"/>
                  <a:pt x="6261" y="16051"/>
                  <a:pt x="6722" y="15999"/>
                </a:cubicBezTo>
                <a:cubicBezTo>
                  <a:pt x="6783" y="15992"/>
                  <a:pt x="6806" y="15978"/>
                  <a:pt x="6871" y="15974"/>
                </a:cubicBezTo>
                <a:cubicBezTo>
                  <a:pt x="9385" y="15831"/>
                  <a:pt x="11945" y="15974"/>
                  <a:pt x="14461" y="159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1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178920" y="404640"/>
            <a:ext cx="52563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刘伟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断臂钢琴师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、音乐人、第一季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中国达人秀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China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’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s Got Talent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总冠军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句人生感悟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我的人生中只有两条路，要么赶紧死，要么精彩地活着！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被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广为传颂，坚韧不拔、积极乐观的精神感动了全世界，外媒争相报道，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成为世人心中新一代的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精神偶像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16" descr="u=4255916629,1081950520&amp;fm=15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91160" y="549360"/>
            <a:ext cx="3552840" cy="5084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4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d56b36349fdc97225bb5f5c6"/>
          <p:cNvPicPr/>
          <p:nvPr/>
        </p:nvPicPr>
        <p:blipFill>
          <a:blip r:embed="rId1"/>
          <a:stretch/>
        </p:blipFill>
        <p:spPr>
          <a:xfrm>
            <a:off x="0" y="1052640"/>
            <a:ext cx="3600360" cy="44640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851280" y="476280"/>
            <a:ext cx="49132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ff"/>
                </a:solidFill>
                <a:latin typeface="黑体"/>
                <a:ea typeface="黑体"/>
              </a:rPr>
              <a:t>金晶，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金晶曾为中国轮椅击剑队队员，获得过</a:t>
            </a:r>
            <a:r>
              <a:rPr b="1" lang="en-US" sz="3100" spc="-1" strike="noStrike">
                <a:solidFill>
                  <a:srgbClr val="000000"/>
                </a:solidFill>
                <a:latin typeface="黑体"/>
                <a:ea typeface="黑体"/>
              </a:rPr>
              <a:t>2002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年釜山远南残运会的银牌和世界轮椅运动会的第三名。因在</a:t>
            </a:r>
            <a:r>
              <a:rPr b="1" lang="en-US" sz="3100" spc="-1" strike="noStrike">
                <a:solidFill>
                  <a:srgbClr val="000000"/>
                </a:solidFill>
                <a:latin typeface="黑体"/>
                <a:ea typeface="黑体"/>
              </a:rPr>
              <a:t>2008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年北京奥运会火炬传递途中抵制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藏独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分子的干扰，用残弱的身躯捍卫着奥运精神而广为人知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最美最坚强的火炬手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3100" spc="-1" strike="noStrike">
                <a:solidFill>
                  <a:srgbClr val="0000ff"/>
                </a:solidFill>
                <a:latin typeface="黑体"/>
                <a:ea typeface="黑体"/>
              </a:rPr>
              <a:t>她的名言是：</a:t>
            </a:r>
            <a:r>
              <a:rPr b="1" lang="zh-CN" sz="31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3100" spc="-1" strike="noStrike">
                <a:solidFill>
                  <a:srgbClr val="0000ff"/>
                </a:solidFill>
                <a:latin typeface="黑体"/>
                <a:ea typeface="黑体"/>
              </a:rPr>
              <a:t>只要心里有阳光，眼睛里看到的就全是温暖 。</a:t>
            </a:r>
            <a:r>
              <a:rPr b="1" lang="zh-CN" sz="31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54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4902120" cy="554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桑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原中国女子体操队队员，桑兰在第四届美国友好运动会的一次跳马练习中不慎受伤，造成颈椎骨折，胸部以下高位截瘫，但其表现出顽强的意志，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在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北京大学新闻系毕业，并成为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2008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年北京申奥大使之一，又于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2008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年北京奥运官方网站担当特约记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Picture 5" descr="d0526df0c974d5b6a40f52b4"/>
          <p:cNvPicPr/>
          <p:nvPr/>
        </p:nvPicPr>
        <p:blipFill>
          <a:blip r:embed="rId1"/>
          <a:stretch/>
        </p:blipFill>
        <p:spPr>
          <a:xfrm>
            <a:off x="5076720" y="260280"/>
            <a:ext cx="4067280" cy="5184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7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395280" y="115920"/>
            <a:ext cx="856944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老师的想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生活给了我们太多太多的无奈，面对无奈，每个人都有着自己的解决方式，只是，在我们抱怨命运的不公时，我们是否想过，我们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母亲承受着比我们多百倍的痛苦与折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读了史先生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秋天的怀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我更感到了那种微妙的感觉，也许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这个世界上那个最爱我们，最值得我们去用一生珍爱的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那个不会因为任何理由去爱我们的人只有一个吧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她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就是生我养我的母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为什么我们总是羞于种种原因而不敢跟母亲说些什么呢，还是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让我们在能做的时候多为母亲作些什么，不要等到没有机会了再后悔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现在，我想，我们要说“妈妈，我爱您！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395280" y="260280"/>
            <a:ext cx="8396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学生读后感：范例在一个秋天的晚上，我读了史铁生的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秋天的怀念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泪水浸湿了我的眼眶，泪珠像雨点一样流下来。我仿佛看到作者的母亲在暗地里轻轻抽泣，泪水从她那苍老、憔悴的脸上流过。我仿佛看到作者的母亲在儿子的轮椅旁苦苦哀求着。一幕幕情景都深深烙在我的脑海里。作者的痛苦我无法体会到，但母亲无私的爱，我却能够感觉到：一次次请求儿子去看花，</a:t>
            </a:r>
            <a:r>
              <a:rPr b="1" lang="zh-CN" sz="2000" spc="-1" strike="noStrike">
                <a:solidFill>
                  <a:srgbClr val="6600ff"/>
                </a:solidFill>
                <a:latin typeface="黑体"/>
                <a:ea typeface="黑体"/>
              </a:rPr>
              <a:t>为的是让他坚强地活下去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；每次儿子发泄时，她都悄悄地躲出去，</a:t>
            </a:r>
            <a:r>
              <a:rPr b="1" lang="zh-CN" sz="2000" spc="-1" strike="noStrike">
                <a:solidFill>
                  <a:srgbClr val="6600ff"/>
                </a:solidFill>
                <a:latin typeface="黑体"/>
                <a:ea typeface="黑体"/>
              </a:rPr>
              <a:t>为的是让儿子尽情发泄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；当儿子看落叶时，她就挡在窗前，</a:t>
            </a:r>
            <a:r>
              <a:rPr b="1" lang="zh-CN" sz="2000" spc="-1" strike="noStrike">
                <a:solidFill>
                  <a:srgbClr val="6600ff"/>
                </a:solidFill>
                <a:latin typeface="黑体"/>
                <a:ea typeface="黑体"/>
              </a:rPr>
              <a:t>为的是不让他触景生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可是这一切儿子都不知道，我不禁喃喃自语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铁生叔叔，你为什么不早点明白你母亲为你做的一切呢？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可我天真的想法并不能改变事实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邻居们把她抬上车时，她还大口大口地吐着鲜血，我没想到她已经病成这样。看着三轮车远去，我没有想到这竟是诀别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读到这里，我的心向下一沉，我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想</a:t>
            </a:r>
            <a:r>
              <a:rPr b="1" lang="zh-CN" sz="2000" spc="-1" strike="noStrike">
                <a:solidFill>
                  <a:srgbClr val="6600ff"/>
                </a:solidFill>
                <a:latin typeface="黑体"/>
                <a:ea typeface="黑体"/>
              </a:rPr>
              <a:t>这是一个不完美的结局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母亲在一个充满丰收喜悦的秋天逝世了。那时，果农是喜悦的，果树是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喜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的，作者的心却是酸的。想想我自己，是多么幸福，有一位疼爱我的母亲。伟大的母爱如同一股暖流流入我的心田，流到了我身上的每个角落。我一定要好好珍惜这一份母爱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突然觉得，</a:t>
            </a:r>
            <a:r>
              <a:rPr b="1" lang="zh-CN" sz="2000" spc="-1" strike="noStrike">
                <a:solidFill>
                  <a:srgbClr val="6600ff"/>
                </a:solidFill>
                <a:latin typeface="黑体"/>
                <a:ea typeface="黑体"/>
              </a:rPr>
              <a:t>妈妈的爱就像空气一样，让我赖以生存，而我却常常忘了它的存在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95280" y="1844640"/>
            <a:ext cx="813600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瘫痪       侍弄       整宿       憔悴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仿膳       豌豆       诀别       烂漫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翻来覆去      絮絮叨叨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WordArt 3"/>
          <p:cNvSpPr txBox="1"/>
          <p:nvPr/>
        </p:nvSpPr>
        <p:spPr>
          <a:xfrm>
            <a:off x="324000" y="189000"/>
            <a:ext cx="2286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读一读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0" y="119700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h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x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q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c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ì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826920" y="299736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h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à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ā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            jué                 m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à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476360" y="4724280"/>
            <a:ext cx="40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ù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xù xù dāo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ā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42472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3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课文讲述了重病缠身的母亲，体贴入微地照顾双腿瘫痪的儿子，鼓励儿子好好活下去，直至生命最后一息的故事。表达了母亲对子女真挚无私的爱，也表达了子女对母亲深深的思念与愧疚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3" descr="花"/>
          <p:cNvPicPr/>
          <p:nvPr/>
        </p:nvPicPr>
        <p:blipFill>
          <a:blip r:embed="rId1"/>
          <a:stretch/>
        </p:blipFill>
        <p:spPr>
          <a:xfrm>
            <a:off x="6732720" y="4437000"/>
            <a:ext cx="2365200" cy="24051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395280" y="26028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  <a:ea typeface="华文彩云"/>
              </a:rPr>
              <a:t>主旨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380880" y="3352680"/>
            <a:ext cx="63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可是，史铁生且依然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子欲养而亲不待。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cc3300"/>
                </a:solidFill>
                <a:latin typeface="黑体"/>
                <a:ea typeface="黑体"/>
              </a:rPr>
              <a:t>------</a:t>
            </a: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但愿大家从这篇文章中看到的，不仅仅是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母爱</a:t>
            </a: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，还会看到作者对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生命的思索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33520" y="764640"/>
            <a:ext cx="815328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一、初读，整体感知。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给本文分段分段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课文几次写到秋天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为什么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秋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怀念？（研讨一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作者要表达怎样的情感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本文的线索是什么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分段，理解文意  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黑体"/>
              </a:rPr>
              <a:t>线索：看花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Arial"/>
                <a:ea typeface="黑体"/>
              </a:rPr>
              <a:t>一  </a:t>
            </a:r>
            <a:r>
              <a:rPr b="0" lang="zh-CN" sz="37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0" lang="zh-CN" sz="37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3700" spc="-1" strike="noStrike">
                <a:solidFill>
                  <a:srgbClr val="000000"/>
                </a:solidFill>
                <a:latin typeface="Arial"/>
                <a:ea typeface="黑体"/>
              </a:rPr>
              <a:t>段母亲要带我去看花。</a:t>
            </a:r>
            <a:r>
              <a:rPr b="0" lang="zh-CN" sz="3700" spc="-1" strike="noStrike">
                <a:solidFill>
                  <a:srgbClr val="cc3300"/>
                </a:solidFill>
                <a:latin typeface="Arial"/>
                <a:ea typeface="黑体"/>
              </a:rPr>
              <a:t>     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3300"/>
                </a:solidFill>
                <a:latin typeface="Arial"/>
                <a:ea typeface="黑体"/>
              </a:rPr>
              <a:t>春天看花未看成。我不去。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Arial"/>
                <a:ea typeface="黑体"/>
              </a:rPr>
              <a:t>二  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0" lang="zh-CN" sz="37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3700" spc="-1" strike="noStrike">
                <a:solidFill>
                  <a:srgbClr val="000000"/>
                </a:solidFill>
                <a:latin typeface="Arial"/>
                <a:ea typeface="黑体"/>
              </a:rPr>
              <a:t>段我答应母亲去看花。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自然段：</a:t>
            </a:r>
            <a:r>
              <a:rPr b="0" lang="zh-CN" sz="37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写母亲去世前的事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3300"/>
                </a:solidFill>
                <a:latin typeface="Arial"/>
                <a:ea typeface="黑体"/>
              </a:rPr>
              <a:t>母亲不能陪我去看花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cc3300"/>
                </a:solidFill>
                <a:latin typeface="Arial"/>
                <a:ea typeface="黑体"/>
              </a:rPr>
              <a:t>秋天看花未成行，母亲去世了。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四 </a:t>
            </a:r>
            <a:r>
              <a:rPr b="1" lang="en-US" sz="33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、自然段写我对母亲的怀念。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Arial"/>
                <a:ea typeface="黑体"/>
              </a:rPr>
              <a:t>妹妹陪我去看花。秋天看花心已懂。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9509040" y="3298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0920" y="1557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两次写到秋天。一次是在母亲即将去世前。一次是在母亲去世后多年，我和妹妹去北海公园看花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秋天的怀念，一是在秋天怀念母亲，也是母亲离开的季节，每到秋天“我”就会怀念母亲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，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表达对母亲的思念之情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。二是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也表明经过人生的秋天，母亲牵挂的儿女都已经懂得了怎样面对生活的困境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以此为题，寄情于秋，感情真挚，寓意深刻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539640" y="333360"/>
            <a:ext cx="815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初读课文，思考问题：为什么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秋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怀念？解析题目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研讨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2720" y="544320"/>
            <a:ext cx="7927920" cy="10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文中写了哪几件事情表现母亲对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我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的关爱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837560" cy="41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（第一、当“我”发脾气时，母亲对我的抚慰．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第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节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二、在病危那天，母亲想方设法央求儿子去北海看花。（第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节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三、在临终前，还在念叨生病的儿子和未成年的女儿。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节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母亲重病缠身，却不告诉儿子，不想给儿子增添痛苦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2:09:51Z</dcterms:created>
  <dc:creator>语文备课大师【全免费】</dc:creator>
  <dc:description/>
  <cp:keywords/>
  <dc:language>en-US</dc:language>
  <cp:lastModifiedBy>Windows 用户</cp:lastModifiedBy>
  <cp:lastPrinted>1899-12-30T00:00:00Z</cp:lastPrinted>
  <dcterms:modified xsi:type="dcterms:W3CDTF">2018-08-07T09:31:11Z</dcterms:modified>
  <cp:revision>1</cp:revision>
  <dc:subject/>
  <dc:title>5、秋天的怀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