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17.gif" ContentType="image/gif"/>
  <Override PartName="/ppt/media/image16.png" ContentType="image/png"/>
  <Override PartName="/ppt/media/image13.gif" ContentType="image/gif"/>
  <Override PartName="/ppt/media/chimes.wav" ContentType="audio/x-wav"/>
  <Override PartName="/ppt/media/image5.png" ContentType="image/png"/>
  <Override PartName="/ppt/media/image2.gif" ContentType="image/gif"/>
  <Override PartName="/ppt/media/image7.jpeg" ContentType="image/jpeg"/>
  <Override PartName="/ppt/media/image10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1.gif" ContentType="image/gi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8A8-4287-4726-B94E-8B7D0590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0EE-B954-4F66-A0C6-909931699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AE2-3695-4C7B-91A7-A7FE180A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730-96EF-4EB2-95C1-3A2C1C8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E61-F542-47C8-9B5F-8976B086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772-DC25-41F5-9443-E5AA1153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5554-BE25-4FFE-9CD9-416E4058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A94-220A-4499-AE7B-D9CD851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FF1F-E7A3-4423-8484-98182B6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FD88-040B-4C33-B064-CE144E4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2E3-9972-4430-9E8D-4571F49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6E3-7127-46C9-9264-03FC1BA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B8F-851E-4FC0-8479-6E48BB8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44B-3B32-4E7A-9DD2-914E6BB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D018-2679-4488-B144-922C8911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CE21-11BB-49CE-926E-9F501DA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CFB6-653F-4604-93D5-F7ED4D73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69C-FDA9-4C16-A2F6-E026953A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6B4-32A1-4C49-9369-5820AFBF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11E8-6DC2-4D23-A33B-EEAA204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BCB4-F21A-4A64-A810-612C358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50EC-6E5C-436F-8425-014F6B5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56B0-C33E-4C9B-BA9F-429E9F0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A0E3-AE7A-4D6F-97F3-3A756581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585-64DE-4E00-A043-EE36099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D074-37B8-4AAB-8627-2AA57B1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4D0A-FD2D-4D3D-A5E4-6091E2A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5F84-99A7-4BD9-BDCB-C99E3675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EB15-CF10-484A-9DEC-E8BAF52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FC6C-622C-4DB8-840B-D43B933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2409-0D12-4AEA-9844-C13CB802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EE3D-DF32-4913-A91F-EA34082E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41CB-86AD-4DE2-AE06-57D6C8DF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B2EC-E801-4269-971F-38DEF85A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FA92-ADD3-4F12-B4F7-9A0A586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D48-6613-44A0-B293-49BA330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D7E2-527F-4D0C-ADEE-5D0B743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FC55-BFB5-4B42-A942-1891104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2333-FFEA-4F1B-A771-07F5C1D2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6F2D-D2B8-45FB-A7D3-F4741DC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1E72-03E6-42DB-85DA-FD5F052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91C8-5A49-4457-97BD-7170DF7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E0DE-C0F0-4BBF-A1DE-C198511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FBC8-FDD5-40EC-9139-919A23E4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F46A-4853-4D62-9C97-8B9D57AA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3939-7255-49FD-9F75-386FD8F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721-421F-4724-8045-5FC5A02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4E3B-2DE0-4535-B00A-A5A450E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6C02-5B75-4197-B938-23E3F54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7698-82B5-4492-8822-D5FC8780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D1E3-D94D-44D5-88E0-8D9271ED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CDC1-0A93-4503-BCBC-EAD6C13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939C-D000-41A0-9B57-7B53B9D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D0A6-8D5E-4927-9FBB-77706BF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9716-DC0D-4D8D-A99B-2473992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2EF3-3FB4-4248-8240-0A3B5AB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75E5-08EC-44BD-B556-C2F61AB0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C53-3F08-497D-8113-D950EEC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21B04-6813-4D3B-942B-E8D56B49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A91-B52C-4892-8452-BAE3D91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C51-D0D3-4A7E-AAA0-334C211D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D5D-1B58-4826-9672-F3B1A9C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6265-38B1-47BE-9762-27389C4E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008-2425-4410-AE90-09763DE01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8F4-525C-4020-91B5-A5D046DB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BD4-033D-4620-80EA-2C0EFA060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B1B-8458-441F-821A-689E1E4D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1523880" y="9907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数据的代表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057400" y="3809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中位数与 众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43480" y="5268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716360" y="534024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安阳二中   陈朝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762120" y="533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 在一次英语口试中，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学生的得分如下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1295280"/>
            <a:ext cx="65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黑体"/>
              <a:buAutoNum type="arabicPlain" startAt="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  100   60  80  70  90  50  80  7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  70   90   80  90  80  70  90  60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04920" y="243828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这次英语口试中学生得分的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8129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533520" y="3124080"/>
            <a:ext cx="188658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分析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何求出众数呢？关键是统计相同数据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。可仿照情景一表格写正号统计，找出众数；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用观察法找出这组数据中哪些数据出现的次数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，从而进一步找出它的众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228600" y="68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1024"/>
          <p:cNvGraphicFramePr/>
          <p:nvPr/>
        </p:nvGraphicFramePr>
        <p:xfrm>
          <a:off x="-8763120" y="0"/>
          <a:ext cx="17526240" cy="66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763120" y="0"/>
                    <a:ext cx="17526240" cy="665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838080" y="7621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在一次中学生田径运动会上，参加男子跳高的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运动员的成绩如下表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62120" y="1981080"/>
          <a:ext cx="7772400" cy="2401920"/>
        </p:xfrm>
        <a:graphic>
          <a:graphicData uri="http://schemas.openxmlformats.org/drawingml/2006/table">
            <a:tbl>
              <a:tblPr/>
              <a:tblGrid>
                <a:gridCol w="858600"/>
                <a:gridCol w="843120"/>
                <a:gridCol w="860400"/>
                <a:gridCol w="860400"/>
                <a:gridCol w="847800"/>
                <a:gridCol w="855720"/>
                <a:gridCol w="858600"/>
                <a:gridCol w="846360"/>
                <a:gridCol w="9414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38"/>
          <p:cNvSpPr/>
          <p:nvPr/>
        </p:nvSpPr>
        <p:spPr>
          <a:xfrm>
            <a:off x="914400" y="44956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别求这些运动员成绩的众数，中位数与平均数（计算结果保留到小数点后第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914400" y="152280"/>
            <a:ext cx="2133720" cy="60984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43" h="21600">
                <a:moveTo>
                  <a:pt x="0" y="0"/>
                </a:moveTo>
                <a:lnTo>
                  <a:pt x="75543" y="0"/>
                </a:lnTo>
                <a:lnTo>
                  <a:pt x="75543" y="21600"/>
                </a:lnTo>
                <a:lnTo>
                  <a:pt x="0" y="21600"/>
                </a:lnTo>
                <a:close/>
              </a:path>
              <a:path fill="lightenLess" w="75543" h="21600">
                <a:moveTo>
                  <a:pt x="0" y="0"/>
                </a:moveTo>
                <a:lnTo>
                  <a:pt x="75543" y="0"/>
                </a:lnTo>
                <a:lnTo>
                  <a:pt x="74143" y="1400"/>
                </a:lnTo>
                <a:lnTo>
                  <a:pt x="1400" y="1400"/>
                </a:lnTo>
                <a:close/>
              </a:path>
              <a:path fill="darken" w="75543" h="21600">
                <a:moveTo>
                  <a:pt x="75543" y="0"/>
                </a:moveTo>
                <a:lnTo>
                  <a:pt x="75543" y="21600"/>
                </a:lnTo>
                <a:lnTo>
                  <a:pt x="74143" y="20200"/>
                </a:lnTo>
                <a:lnTo>
                  <a:pt x="74143" y="1400"/>
                </a:lnTo>
                <a:close/>
              </a:path>
              <a:path fill="darkenLess" w="75543" h="21600">
                <a:moveTo>
                  <a:pt x="75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3" y="20200"/>
                </a:lnTo>
                <a:close/>
              </a:path>
              <a:path fill="lighten" w="75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ahoma"/>
                <a:ea typeface="楷体_GB2312"/>
              </a:rPr>
              <a:t>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990720" y="5553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答案：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众数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7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米，中位数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7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米，                平均数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6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1143000" y="1143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已知一组数据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x,8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由大到小排列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中位数与平均数相等，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值及这组数据的中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143000" y="312408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解：∵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x,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中位数与平均数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∴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10+x)/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10+10+x+8)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8,   (10+x)/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∴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组数据中的中位数是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990720" y="380880"/>
            <a:ext cx="2057400" cy="609840"/>
          </a:xfrm>
          <a:custGeom>
            <a:avLst/>
            <a:gdLst>
              <a:gd name="textAreaLeft" fmla="*/ 39240 w 2057400"/>
              <a:gd name="textAreaRight" fmla="*/ 2018160 w 2057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990720" y="380880"/>
            <a:ext cx="2057400" cy="609840"/>
          </a:xfrm>
          <a:custGeom>
            <a:avLst/>
            <a:gdLst>
              <a:gd name="textAreaLeft" fmla="*/ 39240 w 2057400"/>
              <a:gd name="textAreaRight" fmla="*/ 2018160 w 2057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914400" y="1371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某校初二年级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个班级参加了植树活动，已知在同一天这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个班级植树的棵数分别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如果这组数据的众数和平均数正好相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那么这组数据的中位数 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1371600" y="7621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990720" y="228600"/>
            <a:ext cx="2057400" cy="609480"/>
          </a:xfrm>
          <a:custGeom>
            <a:avLst/>
            <a:gdLst>
              <a:gd name="textAreaLeft" fmla="*/ 39240 w 2057400"/>
              <a:gd name="textAreaRight" fmla="*/ 2018160 w 2057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2884" h="21600">
                <a:moveTo>
                  <a:pt x="0" y="0"/>
                </a:moveTo>
                <a:lnTo>
                  <a:pt x="72884" y="0"/>
                </a:lnTo>
                <a:lnTo>
                  <a:pt x="72884" y="21600"/>
                </a:lnTo>
                <a:lnTo>
                  <a:pt x="0" y="21600"/>
                </a:lnTo>
                <a:close/>
              </a:path>
              <a:path fill="lightenLess" w="72884" h="21600">
                <a:moveTo>
                  <a:pt x="0" y="0"/>
                </a:moveTo>
                <a:lnTo>
                  <a:pt x="72884" y="0"/>
                </a:lnTo>
                <a:lnTo>
                  <a:pt x="71484" y="1400"/>
                </a:lnTo>
                <a:lnTo>
                  <a:pt x="1400" y="1400"/>
                </a:lnTo>
                <a:close/>
              </a:path>
              <a:path fill="darken" w="72884" h="21600">
                <a:moveTo>
                  <a:pt x="72884" y="0"/>
                </a:moveTo>
                <a:lnTo>
                  <a:pt x="72884" y="21600"/>
                </a:lnTo>
                <a:lnTo>
                  <a:pt x="71484" y="20200"/>
                </a:lnTo>
                <a:lnTo>
                  <a:pt x="71484" y="1400"/>
                </a:lnTo>
                <a:close/>
              </a:path>
              <a:path fill="darkenLess" w="72884" h="21600">
                <a:moveTo>
                  <a:pt x="7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84" y="20200"/>
                </a:lnTo>
                <a:close/>
              </a:path>
              <a:path fill="lighten" w="7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14400" y="1066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某地举办体操比赛，由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位评委现场给运动员打分，已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位评委给某运动员的评分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1024"/>
          <p:cNvGraphicFramePr/>
          <p:nvPr/>
        </p:nvGraphicFramePr>
        <p:xfrm>
          <a:off x="990720" y="2819520"/>
          <a:ext cx="7010280" cy="8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7010280" cy="836640"/>
                  </a:xfrm>
                  <a:prstGeom prst="rect">
                    <a:avLst/>
                  </a:prstGeom>
                  <a:ln w="1260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Text Box 6"/>
          <p:cNvSpPr/>
          <p:nvPr/>
        </p:nvSpPr>
        <p:spPr>
          <a:xfrm>
            <a:off x="990720" y="4038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你利用所学的统计知识，从不同角度给出这位运动员的最后得分。（精确到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0.0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676520" y="289548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676520" y="2874960"/>
            <a:ext cx="6640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幼圆"/>
              </a:rPr>
              <a:t>这节课有何收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可爱图2"/>
          <p:cNvPicPr/>
          <p:nvPr/>
        </p:nvPicPr>
        <p:blipFill>
          <a:blip r:embed="rId1"/>
          <a:stretch/>
        </p:blipFill>
        <p:spPr>
          <a:xfrm>
            <a:off x="457200" y="11430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685800" y="533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隶书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小结：这节课我们学习了众数、中位数的概念，了解了它们在描述一组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均水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 时的不同角度和适用范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609480" y="20574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方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结：①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众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所给数据可直接求出，（一组数据中的众数可能不止一个，众数是一组数据中出现的次数最多的数据，而不是该数据出现的次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有两个数据出现的次数相同，并且比其他数据出现次数都多，那么这两个数据都是这组数据的众数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中位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，首先要先排序（从小到大或从大到小），然后计算中位数的序号，分数据为奇数个与偶数个两种来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既找出最中间的一个数据或最中间两个数并算出它们的平均数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60948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知识网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平均数、众数及中位数都是描述一组数据的集中趋势的特征数，但描述的角度和适用范围有所不同。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平均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大小与一组数据里的每个数据均有关系，其中任何数据的变动都会相应引起平均数的变动；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众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着眼于对各数据出现的频数的考察，其大小只与这组数据中的部分数据有关。当一组数据中有不少数据多次重复出现时，其众数往往是我们关心的一种统计量；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中位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仅与数据的排列位置有关，某些数据的变动对它的中位数没有影响。当一组数据中的个别数据变动较大时，可用它来描述其集中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调查本班中学生所穿鞋的尺码，得到平均数、中位数与众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作业本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(2)P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伴你学数学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P96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练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3"/>
          <p:cNvSpPr txBox="1"/>
          <p:nvPr/>
        </p:nvSpPr>
        <p:spPr>
          <a:xfrm>
            <a:off x="1676520" y="762120"/>
            <a:ext cx="2819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70000"/>
                  </a:srgbClr>
                </a:solidFill>
                <a:latin typeface="宋体"/>
              </a:rPr>
              <a:t>作业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70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351" name="Picture 4" descr="808376_1069522333406_SV2NWNSoXJP2"/>
          <p:cNvPicPr/>
          <p:nvPr/>
        </p:nvPicPr>
        <p:blipFill>
          <a:blip r:embed="rId1"/>
          <a:stretch/>
        </p:blipFill>
        <p:spPr>
          <a:xfrm>
            <a:off x="5226120" y="1974960"/>
            <a:ext cx="3917880" cy="4876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3276720"/>
          <a:ext cx="6858000" cy="1981080"/>
        </p:xfrm>
        <a:graphic>
          <a:graphicData uri="http://schemas.openxmlformats.org/drawingml/2006/table">
            <a:tbl>
              <a:tblPr/>
              <a:tblGrid>
                <a:gridCol w="1679400"/>
                <a:gridCol w="606600"/>
                <a:gridCol w="762120"/>
                <a:gridCol w="761760"/>
                <a:gridCol w="762120"/>
                <a:gridCol w="838080"/>
                <a:gridCol w="609840"/>
                <a:gridCol w="838080"/>
              </a:tblGrid>
              <a:tr h="105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鞋的尺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（厘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销售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（双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Oval 32"/>
          <p:cNvSpPr/>
          <p:nvPr/>
        </p:nvSpPr>
        <p:spPr>
          <a:xfrm>
            <a:off x="7010280" y="380880"/>
            <a:ext cx="1600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7086600" y="304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问题情景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4"/>
          <p:cNvSpPr/>
          <p:nvPr/>
        </p:nvSpPr>
        <p:spPr>
          <a:xfrm>
            <a:off x="3733920" y="990720"/>
            <a:ext cx="3809880" cy="1828800"/>
          </a:xfrm>
          <a:prstGeom prst="wedgeRectCallout">
            <a:avLst>
              <a:gd name="adj1" fmla="val -65250"/>
              <a:gd name="adj2" fmla="val -5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3657600" y="914400"/>
            <a:ext cx="4038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家童鞋店最近销售了某种童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，其中各种尺码的鞋的销售量如下表所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6" descr="20034291535577745"/>
          <p:cNvPicPr/>
          <p:nvPr/>
        </p:nvPicPr>
        <p:blipFill>
          <a:blip r:embed="rId1"/>
          <a:stretch/>
        </p:blipFill>
        <p:spPr>
          <a:xfrm>
            <a:off x="1905120" y="1828800"/>
            <a:ext cx="10825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7" descr="shoe8"/>
          <p:cNvPicPr/>
          <p:nvPr/>
        </p:nvPicPr>
        <p:blipFill>
          <a:blip r:embed="rId2"/>
          <a:stretch/>
        </p:blipFill>
        <p:spPr>
          <a:xfrm>
            <a:off x="1219320" y="114300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8"/>
          <p:cNvSpPr/>
          <p:nvPr/>
        </p:nvSpPr>
        <p:spPr>
          <a:xfrm>
            <a:off x="1600200" y="5486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你是鞋店老板，你最关心的是什么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农家小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3048120" y="2286000"/>
            <a:ext cx="3200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WordArt 2" descr=""/>
          <p:cNvPicPr/>
          <p:nvPr/>
        </p:nvPicPr>
        <p:blipFill>
          <a:blip r:embed="rId1"/>
          <a:stretch/>
        </p:blipFill>
        <p:spPr>
          <a:xfrm>
            <a:off x="2541600" y="2341440"/>
            <a:ext cx="4444920" cy="1773360"/>
          </a:xfrm>
          <a:prstGeom prst="rect">
            <a:avLst/>
          </a:prstGeom>
          <a:ln w="0">
            <a:noFill/>
          </a:ln>
        </p:spPr>
      </p:pic>
      <p:pic>
        <p:nvPicPr>
          <p:cNvPr id="358" name="埃及王子2.mp3" descr=""/>
          <p:cNvPicPr/>
          <p:nvPr/>
        </p:nvPicPr>
        <p:blipFill>
          <a:blip r:embed="rId2"/>
          <a:stretch/>
        </p:blipFill>
        <p:spPr>
          <a:xfrm>
            <a:off x="89917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A2_004"/>
          <p:cNvPicPr/>
          <p:nvPr/>
        </p:nvPicPr>
        <p:blipFill>
          <a:blip r:embed="rId3"/>
          <a:stretch/>
        </p:blipFill>
        <p:spPr>
          <a:xfrm>
            <a:off x="2436840" y="2320920"/>
            <a:ext cx="506520" cy="525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A2_008"/>
          <p:cNvPicPr/>
          <p:nvPr/>
        </p:nvPicPr>
        <p:blipFill>
          <a:blip r:embed="rId4"/>
          <a:stretch/>
        </p:blipFill>
        <p:spPr>
          <a:xfrm>
            <a:off x="4037040" y="3033720"/>
            <a:ext cx="735120" cy="763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A2_008"/>
          <p:cNvPicPr/>
          <p:nvPr/>
        </p:nvPicPr>
        <p:blipFill>
          <a:blip r:embed="rId5"/>
          <a:stretch/>
        </p:blipFill>
        <p:spPr>
          <a:xfrm>
            <a:off x="2590920" y="3033720"/>
            <a:ext cx="380880" cy="39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572000" y="8380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房，在一天内销售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包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，各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销售量如下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47920" y="3124080"/>
          <a:ext cx="6629400" cy="2401920"/>
        </p:xfrm>
        <a:graphic>
          <a:graphicData uri="http://schemas.openxmlformats.org/drawingml/2006/table">
            <a:tbl>
              <a:tblPr/>
              <a:tblGrid>
                <a:gridCol w="1936800"/>
                <a:gridCol w="819000"/>
                <a:gridCol w="746280"/>
                <a:gridCol w="742680"/>
                <a:gridCol w="819360"/>
                <a:gridCol w="819000"/>
                <a:gridCol w="746280"/>
              </a:tblGrid>
              <a:tr h="136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面包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奶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巧克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豆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香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三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椰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销售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Oval 30"/>
          <p:cNvSpPr/>
          <p:nvPr/>
        </p:nvSpPr>
        <p:spPr>
          <a:xfrm>
            <a:off x="6934320" y="304920"/>
            <a:ext cx="167616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7010280" y="228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问题情景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4419720" y="838080"/>
            <a:ext cx="3429000" cy="2057400"/>
          </a:xfrm>
          <a:prstGeom prst="wedgeRectCallout">
            <a:avLst>
              <a:gd name="adj1" fmla="val -69027"/>
              <a:gd name="adj2" fmla="val -7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3" descr="4"/>
          <p:cNvPicPr/>
          <p:nvPr/>
        </p:nvPicPr>
        <p:blipFill>
          <a:blip r:embed="rId1"/>
          <a:stretch/>
        </p:blipFill>
        <p:spPr>
          <a:xfrm>
            <a:off x="1676520" y="76212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4"/>
          <p:cNvSpPr/>
          <p:nvPr/>
        </p:nvSpPr>
        <p:spPr>
          <a:xfrm>
            <a:off x="1752480" y="5715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你是店主，你最关心的是什么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495680" y="533520"/>
            <a:ext cx="43434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招工启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我公司扩大规模，现需招若干名员工。我公司员工收入很高，月平均工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有意者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到我处面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辉煌公司人事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20"/>
          <p:cNvPicPr/>
          <p:nvPr/>
        </p:nvPicPr>
        <p:blipFill>
          <a:blip r:embed="rId1"/>
          <a:stretch/>
        </p:blipFill>
        <p:spPr>
          <a:xfrm>
            <a:off x="3657600" y="3200400"/>
            <a:ext cx="1928880" cy="3127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31"/>
          <p:cNvPicPr/>
          <p:nvPr/>
        </p:nvPicPr>
        <p:blipFill>
          <a:blip r:embed="rId2"/>
          <a:stretch/>
        </p:blipFill>
        <p:spPr>
          <a:xfrm>
            <a:off x="85680" y="1523880"/>
            <a:ext cx="2265480" cy="36576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1066680" y="1219320"/>
            <a:ext cx="3353040" cy="1218960"/>
          </a:xfrm>
          <a:prstGeom prst="cloudCallout">
            <a:avLst>
              <a:gd name="adj1" fmla="val -31157"/>
              <a:gd name="adj2" fmla="val 69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1447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我公司员工收入很高，月平均工资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600200" y="2895480"/>
            <a:ext cx="2514600" cy="1447920"/>
          </a:xfrm>
          <a:prstGeom prst="cloudCallout">
            <a:avLst>
              <a:gd name="adj1" fmla="val 52083"/>
              <a:gd name="adj2" fmla="val 63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0948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经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114800" y="6324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聘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20968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个公司员工收入到底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18728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"/>
          <p:cNvGrpSpPr/>
          <p:nvPr/>
        </p:nvGrpSpPr>
        <p:grpSpPr>
          <a:xfrm>
            <a:off x="0" y="457200"/>
            <a:ext cx="9143280" cy="2514600"/>
            <a:chOff x="0" y="457200"/>
            <a:chExt cx="9143280" cy="2514600"/>
          </a:xfrm>
        </p:grpSpPr>
        <p:pic>
          <p:nvPicPr>
            <p:cNvPr id="247" name="Picture 3" descr="FR6092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3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4"/>
            <p:cNvSpPr/>
            <p:nvPr/>
          </p:nvSpPr>
          <p:spPr>
            <a:xfrm>
              <a:off x="4629600" y="2295720"/>
              <a:ext cx="412128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495360" y="2295720"/>
              <a:ext cx="413424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6"/>
            <p:cNvSpPr/>
            <p:nvPr/>
          </p:nvSpPr>
          <p:spPr>
            <a:xfrm>
              <a:off x="4629600" y="1812960"/>
              <a:ext cx="412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495360" y="1812960"/>
              <a:ext cx="413424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4629600" y="1330560"/>
              <a:ext cx="412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495360" y="1330560"/>
              <a:ext cx="413424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495360" y="698760"/>
              <a:ext cx="825552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495360" y="1330560"/>
              <a:ext cx="8255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"/>
            <p:cNvSpPr/>
            <p:nvPr/>
          </p:nvSpPr>
          <p:spPr>
            <a:xfrm>
              <a:off x="495360" y="1812960"/>
              <a:ext cx="8255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>
              <a:off x="495360" y="2295720"/>
              <a:ext cx="8255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>
              <a:off x="4629600" y="1330560"/>
              <a:ext cx="0" cy="144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5"/>
          <p:cNvSpPr/>
          <p:nvPr/>
        </p:nvSpPr>
        <p:spPr>
          <a:xfrm>
            <a:off x="304920" y="1752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80880" y="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辉煌公司员工的月工资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37160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220968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3048120" y="4572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388620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480060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563868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>
            <a:off x="647712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4"/>
          <p:cNvSpPr/>
          <p:nvPr/>
        </p:nvSpPr>
        <p:spPr>
          <a:xfrm>
            <a:off x="731520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8153280" y="533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38088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228600" y="2133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月工资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1447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2286000" y="8380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副经      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2971800" y="990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380988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7329240" y="101124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6491160" y="10112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5653440" y="10112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4815000" y="10112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077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杂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14479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22096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30481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39625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48006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56386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3"/>
          <p:cNvSpPr/>
          <p:nvPr/>
        </p:nvSpPr>
        <p:spPr>
          <a:xfrm>
            <a:off x="64771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4"/>
          <p:cNvSpPr/>
          <p:nvPr/>
        </p:nvSpPr>
        <p:spPr>
          <a:xfrm>
            <a:off x="73152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8305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457200" y="3200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你怎样看待该公司员工 的收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457200" y="4191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议一议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用哪个数据表示该公司员工的“平均水平”更合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8080" y="260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将一组数据按大小依次排列，把处在最中间位置的一个数据（或最中间两个数据的平均数）叫做这组数据的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中位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38080" y="21337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注意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中位数要将一组数据按大小顺序，而不必计算，顾名思义，中位数就是位置处于最中间的一个数（或最中间的两个数的平均数），排序时，从小到大或从大到小都可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当数据个数为奇数时，中位数是这组数据中的一个数据；但当数据个数为偶数时，其中位数是最中间两个数据的平均数，它不一定与这组数据中的某个数据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-228600" y="533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     </a:t>
            </a:r>
            <a:r>
              <a:rPr b="1" i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定义</a:t>
            </a:r>
            <a:r>
              <a:rPr b="1" i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828800" y="609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组数据中，出现次数最多的数据叫做这组数据的</a:t>
            </a:r>
            <a:r>
              <a:rPr b="1" i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众</a:t>
            </a:r>
            <a:r>
              <a:rPr b="1" i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数</a:t>
            </a:r>
            <a:r>
              <a:rPr b="1" lang="zh-CN" sz="3200" spc="-1" strike="noStrike">
                <a:solidFill>
                  <a:srgbClr val="808080"/>
                </a:solidFill>
                <a:latin typeface="隶书"/>
                <a:ea typeface="隶书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5800" y="1828800"/>
            <a:ext cx="9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注意</a:t>
            </a:r>
            <a:r>
              <a:rPr b="1" lang="en-US" sz="2800" spc="-1" strike="noStrike">
                <a:solidFill>
                  <a:srgbClr val="ff0066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762120" y="190512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1)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众数是一组数据中出现次数最多的数据，是一组数据中的原数据，而不是相应的次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9480" y="35053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组数据中的众数有时不只一个，如数据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都出现了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次，它们都是这组数据的众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914400"/>
            <a:ext cx="6934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一次数学竞赛中，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学生的成绩从低分到高分排列名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5   57   61   62   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么，它们的中位数是多少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CAUR09IN"/>
          <p:cNvPicPr/>
          <p:nvPr/>
        </p:nvPicPr>
        <p:blipFill>
          <a:blip r:embed="rId1"/>
          <a:stretch/>
        </p:blipFill>
        <p:spPr>
          <a:xfrm>
            <a:off x="1981080" y="3657600"/>
            <a:ext cx="5181840" cy="23320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85800" y="228600"/>
            <a:ext cx="2057400" cy="609480"/>
          </a:xfrm>
          <a:custGeom>
            <a:avLst/>
            <a:gdLst>
              <a:gd name="textAreaLeft" fmla="*/ 39240 w 2057400"/>
              <a:gd name="textAreaRight" fmla="*/ 2018160 w 2057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2884" h="21600">
                <a:moveTo>
                  <a:pt x="0" y="0"/>
                </a:moveTo>
                <a:lnTo>
                  <a:pt x="72884" y="0"/>
                </a:lnTo>
                <a:lnTo>
                  <a:pt x="72884" y="21600"/>
                </a:lnTo>
                <a:lnTo>
                  <a:pt x="0" y="21600"/>
                </a:lnTo>
                <a:close/>
              </a:path>
              <a:path fill="lightenLess" w="72884" h="21600">
                <a:moveTo>
                  <a:pt x="0" y="0"/>
                </a:moveTo>
                <a:lnTo>
                  <a:pt x="72884" y="0"/>
                </a:lnTo>
                <a:lnTo>
                  <a:pt x="71484" y="1400"/>
                </a:lnTo>
                <a:lnTo>
                  <a:pt x="1400" y="1400"/>
                </a:lnTo>
                <a:close/>
              </a:path>
              <a:path fill="darken" w="72884" h="21600">
                <a:moveTo>
                  <a:pt x="72884" y="0"/>
                </a:moveTo>
                <a:lnTo>
                  <a:pt x="72884" y="21600"/>
                </a:lnTo>
                <a:lnTo>
                  <a:pt x="71484" y="20200"/>
                </a:lnTo>
                <a:lnTo>
                  <a:pt x="71484" y="1400"/>
                </a:lnTo>
                <a:close/>
              </a:path>
              <a:path fill="darkenLess" w="72884" h="21600">
                <a:moveTo>
                  <a:pt x="7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84" y="20200"/>
                </a:lnTo>
                <a:close/>
              </a:path>
              <a:path fill="lighten" w="7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ahoma"/>
                <a:ea typeface="楷体_GB2312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066680" y="114300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工人某天生产同一零件，生产的件数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求这一天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工人生产的零件的中位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2"/>
          <p:cNvPicPr/>
          <p:nvPr/>
        </p:nvPicPr>
        <p:blipFill>
          <a:blip r:embed="rId1"/>
          <a:stretch/>
        </p:blipFill>
        <p:spPr>
          <a:xfrm>
            <a:off x="6858000" y="47242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4"/>
          <p:cNvSpPr/>
          <p:nvPr/>
        </p:nvSpPr>
        <p:spPr>
          <a:xfrm>
            <a:off x="685800" y="228600"/>
            <a:ext cx="2057400" cy="609480"/>
          </a:xfrm>
          <a:custGeom>
            <a:avLst/>
            <a:gdLst>
              <a:gd name="textAreaLeft" fmla="*/ 39240 w 2057400"/>
              <a:gd name="textAreaRight" fmla="*/ 2018160 w 2057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2884" h="21600">
                <a:moveTo>
                  <a:pt x="0" y="0"/>
                </a:moveTo>
                <a:lnTo>
                  <a:pt x="72884" y="0"/>
                </a:lnTo>
                <a:lnTo>
                  <a:pt x="72884" y="21600"/>
                </a:lnTo>
                <a:lnTo>
                  <a:pt x="0" y="21600"/>
                </a:lnTo>
                <a:close/>
              </a:path>
              <a:path fill="lightenLess" w="72884" h="21600">
                <a:moveTo>
                  <a:pt x="0" y="0"/>
                </a:moveTo>
                <a:lnTo>
                  <a:pt x="72884" y="0"/>
                </a:lnTo>
                <a:lnTo>
                  <a:pt x="71484" y="1400"/>
                </a:lnTo>
                <a:lnTo>
                  <a:pt x="1400" y="1400"/>
                </a:lnTo>
                <a:close/>
              </a:path>
              <a:path fill="darken" w="72884" h="21600">
                <a:moveTo>
                  <a:pt x="72884" y="0"/>
                </a:moveTo>
                <a:lnTo>
                  <a:pt x="72884" y="21600"/>
                </a:lnTo>
                <a:lnTo>
                  <a:pt x="71484" y="20200"/>
                </a:lnTo>
                <a:lnTo>
                  <a:pt x="71484" y="1400"/>
                </a:lnTo>
                <a:close/>
              </a:path>
              <a:path fill="darkenLess" w="72884" h="21600">
                <a:moveTo>
                  <a:pt x="7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84" y="20200"/>
                </a:lnTo>
                <a:close/>
              </a:path>
              <a:path fill="lighten" w="7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ahoma"/>
                <a:ea typeface="楷体_GB2312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2:04:13Z</dcterms:created>
  <dc:creator>kejianyuan.com</dc:creator>
  <dc:description>kejianyuan.com</dc:description>
  <cp:keywords>kejianyuan.com</cp:keywords>
  <dc:language>en-US</dc:language>
  <cp:lastModifiedBy/>
  <dcterms:modified xsi:type="dcterms:W3CDTF">2014-09-10T16:19:08Z</dcterms:modified>
  <cp:revision>6</cp:revision>
  <dc:subject>人教版八年级数学（下）全套课件</dc:subject>
  <dc:title>人教版八年级数学（下）全套课件</dc:title>
</cp:coreProperties>
</file>