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7.wmf" ContentType="image/x-wmf"/>
  <Override PartName="/ppt/media/GLASS.WAV" ContentType="audio/x-wav"/>
  <Override PartName="/ppt/media/image6.jpeg" ContentType="image/jpeg"/>
  <Override PartName="/ppt/media/image10.png" ContentType="image/png"/>
  <Override PartName="/ppt/media/TYPE.WAV" ContentType="audio/x-wav"/>
  <Override PartName="/ppt/media/image4.png" ContentType="image/png"/>
  <Override PartName="/ppt/media/WHOOSH.WAV" ContentType="audio/x-wav"/>
  <Override PartName="/ppt/media/CARBRAKE.WAV" ContentType="audio/x-wav"/>
  <Override PartName="/ppt/media/image3.wmf" ContentType="image/x-wmf"/>
  <Override PartName="/ppt/media/CLAP.WAV" ContentType="audio/x-wav"/>
  <Override PartName="/ppt/media/CHIMES.WAV" ContentType="audio/x-wav"/>
  <Override PartName="/ppt/media/image11.png" ContentType="image/png"/>
  <Override PartName="/ppt/media/PROJCTOR.WAV" ContentType="audio/x-wav"/>
  <Override PartName="/ppt/media/RICOCHET.WAV" ContentType="audio/x-wav"/>
  <Override PartName="/ppt/media/image1.jpeg" ContentType="image/jpeg"/>
  <Override PartName="/ppt/media/LASER.WAV" ContentType="audio/x-wav"/>
  <Override PartName="/ppt/media/DRUMROLL.WAV" ContentType="audio/x-wav"/>
  <Override PartName="/ppt/media/CASHREG.WAV" ContentType="audio/x-wav"/>
  <Override PartName="/ppt/media/CAMERA.WAV" ContentType="audio/x-wav"/>
  <Override PartName="/ppt/media/image5.png" ContentType="image/png"/>
  <Override PartName="/ppt/media/image8.jpeg" ContentType="image/jpeg"/>
  <Override PartName="/ppt/media/image2.png" ContentType="image/png"/>
  <Override PartName="/ppt/media/APPLAUSE.WAV" ContentType="audio/x-wav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D7A-6F4B-4756-94BC-6387BCEE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AC0-FA92-4BED-BFA6-02E93321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47B-4B4A-4A5F-8C80-851CDCE4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913-EC8C-46E4-B8A3-8047EC60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827C-C96F-425E-9E39-8A7ECE3F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4167-ED17-479C-AD12-860D751B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64DA-496C-4CF5-95DC-3F89B1B1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EA2A-11A9-42B2-89D3-37AAD57A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2ED2-A48B-4625-B2CF-33D88C0D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65EF-4D6E-43A7-A69B-B0B60B74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4628-7E05-4004-AF51-D8E81F1D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B5B-5697-4C1C-BF10-E9B2D72B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E092-80BF-478D-B429-8BE7DF4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90EC-1B3A-4411-A9F1-8501B529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B04D-D680-4827-886D-C336ABF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F7B5-A60D-42B6-9ED3-6DF4BD49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F129-C04A-4E9F-AB00-ADAE9CCB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275A-B9D9-4DFC-894C-09628347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8B6F-3619-4C10-A481-1A32BF4C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509A-9BA3-4E45-B52E-D42E6706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7EC0A-CBAA-4FFE-A6B5-F36C8546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751D0-6524-4416-A4C5-2A547125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0C5-63C0-4782-ADE8-6BA47EEC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320A-367D-41CD-BDAB-2B921A89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7DE0-E6E8-4226-A192-97D4CF22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EC0C-0802-4827-8536-CCB221C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FA14-B1B3-4CEA-97DC-109EE6E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E096-919E-412C-B5A4-A800FA5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79D6-BA67-4F73-B237-26B2F635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D5F5-7DB7-4AD5-A375-9BB18385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FF55-B29A-493E-9057-F507558B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5F70F-EC27-4AD7-9A9D-BCC4053F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6BDA-D591-4F33-8279-3B55FF89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C49-9074-4BAD-A9AE-9D13544C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13ED-74E3-47AD-88DF-4B083B83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E1517-8C31-475E-9CF0-5F4035AA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200BB-4D31-4167-8302-7952230A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AE651-830B-4C8D-B805-12D36ABE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DD796-93D1-4F00-9767-2C4A16D7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A5F4C-036F-4D38-9B89-F6BFA706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81C06-43BB-49CC-876B-BC2A3F19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7F50D-B9C0-412C-9C6B-A7CF5393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7464-D673-4E10-87BC-B2D2D6D7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83C07-679F-4C67-9804-C089B252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0D7-A514-45B7-9F6F-0BFFDF2A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15A53-5430-4787-9F6F-C80BD26A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9D9F0-37E0-4FAE-AFF6-09FE8D4E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E19A7-600D-420A-998A-D25FEF40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186D-3BB2-4638-9A9D-03E7F8CD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E288D-87AC-4ED7-AF41-7FF084AF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09801-A801-477C-BE00-9DF2F78F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4B1B7-2184-4C25-B318-77BEC5E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FE54F-E3B9-421F-92C6-7294C5EF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6B057-DE4E-4B0A-A627-60E455CA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AA42B-9499-4B29-B421-9DB048AD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208-65A5-4E97-BC38-7DAD9D7A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8641E-5CEE-442A-8418-07BDBB6E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113-693C-4334-9F20-031080C0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3D3-67A3-4304-A2E6-34B75DA3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7E6-1076-4F4C-BEF9-B93BC314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8E29-C2F5-4774-B840-54C492AD8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160B-9DC9-489F-B813-A9C279E32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31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ED5D-E1E1-4369-A947-8BAAE0532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31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4E16-FC57-455D-92BD-5480EF6B3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E702-D71A-42FE-A116-6D0B128D16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audio" Target="../media/PROJCTOR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LAP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image" Target="../media/image3.wmf"/><Relationship Id="rId6" Type="http://schemas.openxmlformats.org/officeDocument/2006/relationships/audio" Target="../media/PROJCTOR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audio" Target="../media/PROJCTOR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audio" Target="../media/PROJCTOR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WordArt 2"/>
          <p:cNvSpPr txBox="1"/>
          <p:nvPr/>
        </p:nvSpPr>
        <p:spPr>
          <a:xfrm rot="5400000">
            <a:off x="-1334160" y="2477160"/>
            <a:ext cx="6781680" cy="1827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勾股定理</a:t>
            </a:r>
            <a:endParaRPr b="1" i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3" name="AutoShape 3">
            <a:hlinkClick r:id="rId3" action="ppaction://hlinksldjump"/>
          </p:cNvPr>
          <p:cNvSpPr/>
          <p:nvPr/>
        </p:nvSpPr>
        <p:spPr>
          <a:xfrm>
            <a:off x="4267080" y="1066680"/>
            <a:ext cx="2819520" cy="4496040"/>
          </a:xfrm>
          <a:prstGeom prst="rtTriangl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2485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65760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181480" y="56386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ahoma"/>
                <a:ea typeface="楷体_GB2312"/>
              </a:rPr>
              <a:t>勾股数组</a:t>
            </a:r>
            <a:endParaRPr b="0" lang="en-US" sz="8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Tahoma"/>
                <a:ea typeface="黑体"/>
              </a:rPr>
              <a:t>勾股数组</a:t>
            </a:r>
            <a:r>
              <a:rPr b="0" lang="zh-CN" sz="3200" spc="-1" strike="noStrike">
                <a:solidFill>
                  <a:srgbClr val="ccecff"/>
                </a:solidFill>
                <a:latin typeface="Tahoma"/>
              </a:rPr>
              <a:t>：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满足与方程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a</a:t>
            </a:r>
            <a:r>
              <a:rPr b="0" lang="en-US" sz="3200" spc="-1" strike="noStrike" baseline="30000">
                <a:solidFill>
                  <a:srgbClr val="ff6600"/>
                </a:solidFill>
                <a:latin typeface="隶书"/>
                <a:ea typeface="隶书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+b</a:t>
            </a:r>
            <a:r>
              <a:rPr b="0" lang="en-US" sz="3200" spc="-1" strike="noStrike" baseline="30000">
                <a:solidFill>
                  <a:srgbClr val="ff6600"/>
                </a:solidFill>
                <a:latin typeface="隶书"/>
                <a:ea typeface="隶书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=c</a:t>
            </a:r>
            <a:r>
              <a:rPr b="0" lang="en-US" sz="3200" spc="-1" strike="noStrike" baseline="30000">
                <a:solidFill>
                  <a:srgbClr val="ff66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正整数组（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a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，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b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，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c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）被称为勾股数组。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勾股数组的公式：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1. 1/2(m</a:t>
            </a:r>
            <a:r>
              <a:rPr b="0" lang="en-US" sz="3200" spc="-1" strike="noStrike" baseline="30000">
                <a:solidFill>
                  <a:srgbClr val="ff6600"/>
                </a:solidFill>
                <a:latin typeface="隶书"/>
                <a:ea typeface="隶书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-n</a:t>
            </a:r>
            <a:r>
              <a:rPr b="0" lang="en-US" sz="3200" spc="-1" strike="noStrike" baseline="30000">
                <a:solidFill>
                  <a:srgbClr val="ff6600"/>
                </a:solidFill>
                <a:latin typeface="隶书"/>
                <a:ea typeface="隶书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),mn,1/2(m</a:t>
            </a:r>
            <a:r>
              <a:rPr b="0" lang="en-US" sz="3200" spc="-1" strike="noStrike" baseline="30000">
                <a:solidFill>
                  <a:srgbClr val="ff6600"/>
                </a:solidFill>
                <a:latin typeface="隶书"/>
                <a:ea typeface="隶书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+n</a:t>
            </a:r>
            <a:r>
              <a:rPr b="0" lang="en-US" sz="3200" spc="-1" strike="noStrike" baseline="30000">
                <a:solidFill>
                  <a:srgbClr val="ff6600"/>
                </a:solidFill>
                <a:latin typeface="隶书"/>
                <a:ea typeface="隶书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2. 2x+1,2x</a:t>
            </a:r>
            <a:r>
              <a:rPr b="0" lang="en-US" sz="3200" spc="-1" strike="noStrike" baseline="30000">
                <a:solidFill>
                  <a:srgbClr val="ff6600"/>
                </a:solidFill>
                <a:latin typeface="隶书"/>
                <a:ea typeface="隶书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+2x,2x</a:t>
            </a:r>
            <a:r>
              <a:rPr b="0" lang="en-US" sz="3200" spc="-1" strike="noStrike" baseline="30000">
                <a:solidFill>
                  <a:srgbClr val="ff6600"/>
                </a:solidFill>
                <a:latin typeface="隶书"/>
                <a:ea typeface="隶书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+2x+1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黑体"/>
                <a:ea typeface="黑体"/>
              </a:rPr>
              <a:t>勾股数组的规律</a:t>
            </a:r>
            <a:r>
              <a:rPr b="0" lang="en-US" sz="3600" spc="-1" strike="noStrike">
                <a:solidFill>
                  <a:srgbClr val="ccffff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1. 2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奇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偶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如果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a,b,c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是两两互素的勾股数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那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a,b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必定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奇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偶</a:t>
            </a:r>
            <a:r>
              <a:rPr b="0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,c</a:t>
            </a:r>
            <a:r>
              <a:rPr b="0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必为奇数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6600"/>
                </a:solidFill>
                <a:uFillTx/>
                <a:latin typeface="Tahoma"/>
              </a:rPr>
              <a:t>勾股定理       外星人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ffcc00"/>
                </a:solidFill>
                <a:latin typeface="幼圆"/>
                <a:ea typeface="幼圆"/>
              </a:rPr>
              <a:t>在人类在寻找“外星人” 时，碰到个难题；一旦遇到“外星人”该怎么与他们交谈？显然用人类的语言文字音乐是不行的。数学家华罗庚建议，用一幅数形关系作为与“外星人”交谈的语言。这幅图中有边长为</a:t>
            </a:r>
            <a:r>
              <a:rPr b="0" lang="en-US" sz="2400" spc="-1" strike="noStrike">
                <a:solidFill>
                  <a:srgbClr val="ffcc00"/>
                </a:solidFill>
                <a:latin typeface="幼圆"/>
                <a:ea typeface="幼圆"/>
              </a:rPr>
              <a:t>3</a:t>
            </a:r>
            <a:r>
              <a:rPr b="0" lang="zh-CN" sz="2400" spc="-1" strike="noStrike">
                <a:solidFill>
                  <a:srgbClr val="ffcc00"/>
                </a:solidFill>
                <a:latin typeface="幼圆"/>
                <a:ea typeface="幼圆"/>
              </a:rPr>
              <a:t>、</a:t>
            </a:r>
            <a:r>
              <a:rPr b="0" lang="en-US" sz="2400" spc="-1" strike="noStrike">
                <a:solidFill>
                  <a:srgbClr val="ffcc00"/>
                </a:solidFill>
                <a:latin typeface="幼圆"/>
                <a:ea typeface="幼圆"/>
              </a:rPr>
              <a:t>4</a:t>
            </a:r>
            <a:r>
              <a:rPr b="0" lang="zh-CN" sz="2400" spc="-1" strike="noStrike">
                <a:solidFill>
                  <a:srgbClr val="ffcc00"/>
                </a:solidFill>
                <a:latin typeface="幼圆"/>
                <a:ea typeface="幼圆"/>
              </a:rPr>
              <a:t>、</a:t>
            </a:r>
            <a:r>
              <a:rPr b="0" lang="en-US" sz="2400" spc="-1" strike="noStrike">
                <a:solidFill>
                  <a:srgbClr val="ffcc00"/>
                </a:solidFill>
                <a:latin typeface="幼圆"/>
                <a:ea typeface="幼圆"/>
              </a:rPr>
              <a:t>5</a:t>
            </a:r>
            <a:r>
              <a:rPr b="0" lang="zh-CN" sz="2400" spc="-1" strike="noStrike">
                <a:solidFill>
                  <a:srgbClr val="ffcc00"/>
                </a:solidFill>
                <a:latin typeface="幼圆"/>
                <a:ea typeface="幼圆"/>
              </a:rPr>
              <a:t>的正方形，它们又互相联结成一个三角形。三个正方形都被分成了大小相等的一些小方格，并且每条边上的小方格的个数，与这条边长度的数字相等。两个小方形的小方格数分别为</a:t>
            </a:r>
            <a:r>
              <a:rPr b="0" lang="en-US" sz="2400" spc="-1" strike="noStrike">
                <a:solidFill>
                  <a:srgbClr val="ffcc00"/>
                </a:solidFill>
                <a:latin typeface="幼圆"/>
                <a:ea typeface="幼圆"/>
              </a:rPr>
              <a:t>9</a:t>
            </a:r>
            <a:r>
              <a:rPr b="0" lang="zh-CN" sz="2400" spc="-1" strike="noStrike">
                <a:solidFill>
                  <a:srgbClr val="ffcc00"/>
                </a:solidFill>
                <a:latin typeface="幼圆"/>
                <a:ea typeface="幼圆"/>
              </a:rPr>
              <a:t>和</a:t>
            </a:r>
            <a:r>
              <a:rPr b="0" lang="en-US" sz="2400" spc="-1" strike="noStrike">
                <a:solidFill>
                  <a:srgbClr val="ffcc00"/>
                </a:solidFill>
                <a:latin typeface="幼圆"/>
                <a:ea typeface="幼圆"/>
              </a:rPr>
              <a:t>16</a:t>
            </a:r>
            <a:r>
              <a:rPr b="0" lang="zh-CN" sz="2400" spc="-1" strike="noStrike">
                <a:solidFill>
                  <a:srgbClr val="ffcc00"/>
                </a:solidFill>
                <a:latin typeface="幼圆"/>
                <a:ea typeface="幼圆"/>
              </a:rPr>
              <a:t>，其和为</a:t>
            </a:r>
            <a:r>
              <a:rPr b="0" lang="en-US" sz="2400" spc="-1" strike="noStrike">
                <a:solidFill>
                  <a:srgbClr val="ffcc00"/>
                </a:solidFill>
                <a:latin typeface="幼圆"/>
                <a:ea typeface="幼圆"/>
              </a:rPr>
              <a:t>25</a:t>
            </a:r>
            <a:r>
              <a:rPr b="0" lang="zh-CN" sz="2400" spc="-1" strike="noStrike">
                <a:solidFill>
                  <a:srgbClr val="ffcc00"/>
                </a:solidFill>
                <a:latin typeface="幼圆"/>
                <a:ea typeface="幼圆"/>
              </a:rPr>
              <a:t>，恰好等于大方形的小方格数。整幅图反映；“在直角三角形中，两条直角边的平方和等于斜边的平方。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7" name="WordArt 8"/>
          <p:cNvSpPr txBox="1"/>
          <p:nvPr/>
        </p:nvSpPr>
        <p:spPr>
          <a:xfrm>
            <a:off x="4495680" y="762120"/>
            <a:ext cx="1219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与</a:t>
            </a:r>
            <a:endParaRPr b="1" lang="en-US" sz="9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 u="sng">
                <a:solidFill>
                  <a:srgbClr val="0000cc"/>
                </a:solidFill>
                <a:uFillTx/>
                <a:latin typeface="Tahoma"/>
              </a:rPr>
              <a:t>思考题</a:t>
            </a:r>
            <a:endParaRPr b="0" lang="en-US" sz="9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3886200" y="2362320"/>
            <a:ext cx="2971800" cy="3124080"/>
          </a:xfrm>
          <a:prstGeom prst="rtTriangle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3886200" y="2666880"/>
            <a:ext cx="2971800" cy="28195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Freeform 12"/>
          <p:cNvSpPr/>
          <p:nvPr/>
        </p:nvSpPr>
        <p:spPr>
          <a:xfrm>
            <a:off x="2362320" y="3352680"/>
            <a:ext cx="4572000" cy="213372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1968" h="1536">
                <a:moveTo>
                  <a:pt x="0" y="0"/>
                </a:moveTo>
                <a:lnTo>
                  <a:pt x="672" y="1536"/>
                </a:lnTo>
                <a:lnTo>
                  <a:pt x="1968" y="15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5261c"/>
            </a:gs>
            <a:gs pos="100000">
              <a:srgbClr val="55261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99ccff"/>
                </a:solidFill>
                <a:uFillTx/>
                <a:latin typeface="Tahoma"/>
                <a:ea typeface="楷体_GB2312"/>
                <a:hlinkClick r:id="rId1" action="ppaction://hlinksldjump"/>
              </a:rPr>
              <a:t>勾股定理的别称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99ccff"/>
                </a:solidFill>
                <a:uFillTx/>
                <a:latin typeface="Tahoma"/>
                <a:ea typeface="楷体_GB2312"/>
                <a:hlinkClick r:id="rId2" action="ppaction://hlinksldjump"/>
              </a:rPr>
              <a:t>勾股定理的证明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99ccff"/>
                </a:solidFill>
                <a:uFillTx/>
                <a:latin typeface="Tahoma"/>
                <a:ea typeface="楷体_GB2312"/>
                <a:hlinkClick r:id="rId3" action="ppaction://hlinksldjump"/>
              </a:rPr>
              <a:t>勾股数组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99ccff"/>
                </a:solidFill>
                <a:uFillTx/>
                <a:latin typeface="Tahoma"/>
                <a:ea typeface="楷体_GB2312"/>
                <a:hlinkClick r:id="rId4" action="ppaction://hlinksldjump"/>
              </a:rPr>
              <a:t>勾股定理的作用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2133720" y="457200"/>
            <a:ext cx="4924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勾股定理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9" name="Object 5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3048120" cy="3880080"/>
          </a:xfrm>
          <a:prstGeom prst="rect">
            <a:avLst/>
          </a:prstGeom>
          <a:ln w="0">
            <a:noFill/>
          </a:ln>
        </p:spPr>
      </p:pic>
      <p:sp>
        <p:nvSpPr>
          <p:cNvPr id="220" name="Oval 9"/>
          <p:cNvSpPr/>
          <p:nvPr/>
        </p:nvSpPr>
        <p:spPr>
          <a:xfrm>
            <a:off x="5486400" y="26668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6" name="PROJCTOR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ff"/>
                </a:solidFill>
                <a:latin typeface="Tahoma"/>
                <a:ea typeface="楷体_GB2312"/>
              </a:rPr>
              <a:t>勾股定理的别称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ccff"/>
                </a:solidFill>
                <a:uFillTx/>
                <a:latin typeface="Tahoma"/>
                <a:ea typeface="隶书"/>
                <a:hlinkClick r:id="rId1" action="ppaction://hlinksldjump"/>
              </a:rPr>
              <a:t>商高定理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ccff"/>
                </a:solidFill>
                <a:uFillTx/>
                <a:latin typeface="Tahoma"/>
                <a:ea typeface="隶书"/>
                <a:hlinkClick r:id="rId2" action="ppaction://hlinksldjump"/>
              </a:rPr>
              <a:t>毕达哥拉斯定理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ff"/>
                </a:solidFill>
                <a:latin typeface="Tahoma"/>
                <a:ea typeface="隶书"/>
              </a:rPr>
              <a:t>百牛定理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ff"/>
                </a:solidFill>
                <a:latin typeface="Tahoma"/>
                <a:ea typeface="隶书"/>
              </a:rPr>
              <a:t>埃及三角形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ff"/>
                </a:solidFill>
                <a:latin typeface="Tahoma"/>
                <a:ea typeface="隶书"/>
              </a:rPr>
              <a:t>驴桥定理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5791320" y="2209680"/>
            <a:ext cx="2133360" cy="3733920"/>
          </a:xfrm>
          <a:prstGeom prst="rtTriangl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中国最早的一部数学著作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  <a:ea typeface="幼圆"/>
              </a:rPr>
              <a:t>——</a:t>
            </a:r>
            <a:r>
              <a:rPr b="0" lang="en-US" sz="2400" spc="-1" strike="noStrike">
                <a:solidFill>
                  <a:srgbClr val="ff3300"/>
                </a:solidFill>
                <a:latin typeface="幼圆"/>
                <a:ea typeface="幼圆"/>
              </a:rPr>
              <a:t>《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周髀算经</a:t>
            </a:r>
            <a:r>
              <a:rPr b="0" lang="en-US" sz="2400" spc="-1" strike="noStrike">
                <a:solidFill>
                  <a:srgbClr val="ff3300"/>
                </a:solidFill>
                <a:latin typeface="幼圆"/>
                <a:ea typeface="幼圆"/>
              </a:rPr>
              <a:t>》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的开头，记载着一段周公向商高请教数学知识的对话：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周公问：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幼圆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我听说您对数学非常精通，我想请教一下：天没有梯子可以上去，地也没法用尺子去一段一段丈量，那么怎样才能得到关于天地得到数据呢？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幼圆"/>
              </a:rPr>
              <a:t>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商高回答说：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幼圆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数的产生来源于对方和圆这些形体饿认识。其中有一条原理：当直角三角形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幼圆"/>
              </a:rPr>
              <a:t>‘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矩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幼圆"/>
              </a:rPr>
              <a:t>’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得到的一条直角边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幼圆"/>
              </a:rPr>
              <a:t>‘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勾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幼圆"/>
              </a:rPr>
              <a:t>’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等于</a:t>
            </a:r>
            <a:r>
              <a:rPr b="0" lang="en-US" sz="2400" spc="-1" strike="noStrike">
                <a:solidFill>
                  <a:srgbClr val="ff3300"/>
                </a:solidFill>
                <a:latin typeface="幼圆"/>
                <a:ea typeface="幼圆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，另一条直角边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幼圆"/>
              </a:rPr>
              <a:t>‘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股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幼圆"/>
              </a:rPr>
              <a:t>’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等于</a:t>
            </a:r>
            <a:r>
              <a:rPr b="0" lang="en-US" sz="2400" spc="-1" strike="noStrike">
                <a:solidFill>
                  <a:srgbClr val="ff3300"/>
                </a:solidFill>
                <a:latin typeface="幼圆"/>
                <a:ea typeface="幼圆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的时候，那么它的斜边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幼圆"/>
              </a:rPr>
              <a:t>‘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弦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幼圆"/>
              </a:rPr>
              <a:t>’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就必定是</a:t>
            </a:r>
            <a:r>
              <a:rPr b="0" lang="en-US" sz="2400" spc="-1" strike="noStrike">
                <a:solidFill>
                  <a:srgbClr val="ff3300"/>
                </a:solidFill>
                <a:latin typeface="幼圆"/>
                <a:ea typeface="幼圆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。这个原理是大禹在治水的时候就总结出来的呵</a:t>
            </a:r>
            <a:r>
              <a:rPr b="0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。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  <a:ea typeface="幼圆"/>
              </a:rPr>
              <a:t>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1143000" y="609480"/>
            <a:ext cx="70772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勾股定理的来历</a:t>
            </a:r>
            <a:endParaRPr b="1" lang="en-US" sz="80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  <p:sndAc>
      <p:stSnd>
        <p:snd r:embed="rId4" name="PROJCTOR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99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cc6600"/>
                </a:solidFill>
                <a:latin typeface="Tahoma"/>
              </a:rPr>
              <a:t>毕达哥拉斯出生于萨摩斯岛，自幼聪明好学，曾在名师门下学习几何，自然学和哲学。后来来到巴比伦，印度和埃及，吸收了阿拉伯文明和印度文明甚至中国文明的丰富营养。大约在公元前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530</a:t>
            </a:r>
            <a:r>
              <a:rPr b="0" lang="zh-CN" sz="2800" spc="-1" strike="noStrike">
                <a:solidFill>
                  <a:srgbClr val="cc6600"/>
                </a:solidFill>
                <a:latin typeface="Tahoma"/>
              </a:rPr>
              <a:t>年，又返回萨摩斯岛，后来又迁居意大利的克罗通，创建了自己的学术。毕达哥拉斯学术认为数最崇高，最神秘，他们所讲的是整数。可惜，朝气蓬勃的毕达哥拉斯到了晚年不仅学术保守，还反对新生事物，最后死与非命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762120" y="457200"/>
            <a:ext cx="7848360" cy="13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6f3fa"/>
                    </a:gs>
                    <a:gs pos="50000">
                      <a:srgbClr val="ff9933"/>
                    </a:gs>
                    <a:gs pos="100000">
                      <a:srgbClr val="c6f3fa"/>
                    </a:gs>
                  </a:gsLst>
                  <a:lin ang="5400000"/>
                </a:gradFill>
                <a:latin typeface="宋体"/>
              </a:rPr>
              <a:t>毕达哥拉斯简介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6f3fa"/>
                  </a:gs>
                  <a:gs pos="50000">
                    <a:srgbClr val="ff9933"/>
                  </a:gs>
                  <a:gs pos="100000">
                    <a:srgbClr val="c6f3f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cc"/>
                </a:solidFill>
                <a:uFillTx/>
                <a:latin typeface="Tahoma"/>
              </a:rPr>
              <a:t>生命的代价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  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有一位名叫商高（约公元前</a:t>
            </a:r>
            <a:r>
              <a:rPr b="0" lang="en-US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560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年</a:t>
            </a:r>
            <a:r>
              <a:rPr b="0" lang="en-US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公元前</a:t>
            </a:r>
            <a:r>
              <a:rPr b="0" lang="en-US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480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年）的数学家，以他为代表的一批学者组成了商高学派，既是学习团体，又是政治、宗教团体，有严格的清规戒律。比如，会员必须宣誓</a:t>
            </a:r>
            <a:r>
              <a:rPr b="0" lang="zh-CN" sz="2800" spc="-1" strike="noStrike">
                <a:solidFill>
                  <a:srgbClr val="00ff00"/>
                </a:solidFill>
                <a:latin typeface="Tahoma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决不把知识传授给外人</a:t>
            </a:r>
            <a:r>
              <a:rPr b="0" lang="zh-CN" sz="2800" spc="-1" strike="noStrike">
                <a:solidFill>
                  <a:srgbClr val="00ff00"/>
                </a:solidFill>
                <a:latin typeface="Tahoma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，否则要受到严重处分，甚至极刑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活埋。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30" name="Object 4" descr=""/>
          <p:cNvPicPr/>
          <p:nvPr/>
        </p:nvPicPr>
        <p:blipFill>
          <a:blip r:embed="rId2"/>
          <a:stretch/>
        </p:blipFill>
        <p:spPr>
          <a:xfrm>
            <a:off x="6400800" y="1981080"/>
            <a:ext cx="152388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ffff00"/>
            </a:gs>
            <a:gs pos="100000">
              <a:srgbClr val="00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9933ff"/>
                </a:solidFill>
                <a:latin typeface="隶书"/>
                <a:ea typeface="隶书"/>
              </a:rPr>
              <a:t>在</a:t>
            </a:r>
            <a:r>
              <a:rPr b="0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西方人们认为勾股定理是毕达哥拉斯先发现的，并称之为“毕达哥拉斯定理”。不过早在公元前</a:t>
            </a:r>
            <a:r>
              <a:rPr b="0" lang="en-US" sz="3200" spc="-1" strike="noStrike">
                <a:solidFill>
                  <a:srgbClr val="9933ff"/>
                </a:solidFill>
                <a:latin typeface="隶书"/>
                <a:ea typeface="隶书"/>
              </a:rPr>
              <a:t>1120</a:t>
            </a:r>
            <a:r>
              <a:rPr b="0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年左右中国的商高就在对话中说到：“故折矩，此为勾广三，股修四，经隅五。”你可能认为这是最早的勾股定理，但是具调查在公元前</a:t>
            </a:r>
            <a:r>
              <a:rPr b="0" lang="en-US" sz="3200" spc="-1" strike="noStrike">
                <a:solidFill>
                  <a:srgbClr val="9933ff"/>
                </a:solidFill>
                <a:latin typeface="隶书"/>
                <a:ea typeface="隶书"/>
              </a:rPr>
              <a:t>1900</a:t>
            </a:r>
            <a:r>
              <a:rPr b="0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年的一块巴比伦上午泥板中，记载了</a:t>
            </a:r>
            <a:r>
              <a:rPr b="0" lang="en-US" sz="3200" spc="-1" strike="noStrike">
                <a:solidFill>
                  <a:srgbClr val="9933ff"/>
                </a:solidFill>
                <a:latin typeface="隶书"/>
                <a:ea typeface="隶书"/>
              </a:rPr>
              <a:t>15</a:t>
            </a:r>
            <a:r>
              <a:rPr b="0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组勾股数。所以古巴比伦人才是勾股定理最先的发现人。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533520" y="609480"/>
            <a:ext cx="8610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fe5d1c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勾股定理究竟是谁先发现的？</a:t>
            </a:r>
            <a:endParaRPr b="1" lang="en-US" sz="6000" spc="1" strike="noStrike">
              <a:ln w="0">
                <a:noFill/>
              </a:ln>
              <a:solidFill>
                <a:srgbClr val="fe5d1c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ahoma"/>
              </a:rPr>
              <a:t>证明方法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(a+b)(a+b)-2ab=c</a:t>
            </a:r>
            <a:r>
              <a:rPr b="0" lang="en-US" sz="2800" spc="-1" strike="noStrike" baseline="30000">
                <a:solidFill>
                  <a:srgbClr val="ff33cc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a</a:t>
            </a:r>
            <a:r>
              <a:rPr b="0" lang="en-US" sz="2800" spc="-1" strike="noStrike" baseline="30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+b</a:t>
            </a:r>
            <a:r>
              <a:rPr b="0" lang="en-US" sz="2800" spc="-1" strike="noStrike" baseline="30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+2ab-2ab=c</a:t>
            </a:r>
            <a:r>
              <a:rPr b="0" lang="en-US" sz="2800" spc="-1" strike="noStrike" baseline="30000">
                <a:solidFill>
                  <a:srgbClr val="ff33cc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a</a:t>
            </a:r>
            <a:r>
              <a:rPr b="0" lang="en-US" sz="2800" spc="-1" strike="noStrike" baseline="30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+b</a:t>
            </a:r>
            <a:r>
              <a:rPr b="0" lang="en-US" sz="2800" spc="-1" strike="noStrike" baseline="30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=c</a:t>
            </a:r>
            <a:r>
              <a:rPr b="0" lang="en-US" sz="2800" spc="-1" strike="noStrike" baseline="30000">
                <a:solidFill>
                  <a:srgbClr val="ff33cc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235" name="Object 4"/>
          <p:cNvGraphicFramePr/>
          <p:nvPr/>
        </p:nvGraphicFramePr>
        <p:xfrm>
          <a:off x="4648320" y="2111400"/>
          <a:ext cx="3809880" cy="38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111400"/>
                    <a:ext cx="3809880" cy="3852720"/>
                  </a:xfrm>
                  <a:prstGeom prst="rect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zoom dir="out"/>
    <p:sndAc>
      <p:stSnd>
        <p:snd r:embed="rId4" name="PROJCTOR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ffff"/>
                </a:solidFill>
                <a:latin typeface="Map Symbols"/>
                <a:ea typeface="幼圆"/>
              </a:rPr>
              <a:t>证明方法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685800" y="2438280"/>
          <a:ext cx="449568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449568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"/>
          <p:cNvGraphicFramePr/>
          <p:nvPr/>
        </p:nvGraphicFramePr>
        <p:xfrm>
          <a:off x="5257800" y="2514600"/>
          <a:ext cx="3657600" cy="270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514600"/>
                    <a:ext cx="365760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6"/>
          <p:cNvSpPr/>
          <p:nvPr/>
        </p:nvSpPr>
        <p:spPr>
          <a:xfrm>
            <a:off x="1403280" y="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7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7:34:07Z</dcterms:created>
  <dc:creator>kejianyuan.com</dc:creator>
  <dc:description>kejianyuan.com</dc:description>
  <cp:keywords>kejianyuan.com</cp:keywords>
  <dc:language>en-US</dc:language>
  <cp:lastModifiedBy/>
  <dcterms:modified xsi:type="dcterms:W3CDTF">2014-09-10T16:19:26Z</dcterms:modified>
  <cp:revision>15</cp:revision>
  <dc:subject>人教版八年级数学（下）全套课件</dc:subject>
  <dc:title>人教版八年级数学（下）全套课件</dc:title>
</cp:coreProperties>
</file>