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type.wav" ContentType="audio/x-wav"/>
  <Override PartName="/ppt/media/camera.wav" ContentType="audio/x-wav"/>
  <Override PartName="/ppt/media/chimes.wav" ContentType="audio/x-wav"/>
  <Override PartName="/ppt/media/cashreg.wav" ContentType="audio/x-wav"/>
  <Override PartName="/ppt/media/hamm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9D9-BE3B-49E5-AB03-E48A6490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E6A-83B3-4B31-8492-34D6DEAF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F93-58CF-4FB4-B07D-EBFDC825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876-F55A-4DDD-9E61-A3C593DA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83C4-F0D5-4453-9618-811156FD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EC1A-A0EF-4226-834E-F5333B9A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7808-FDEE-40D9-B586-8E3940D5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641-FA2A-477D-9DD3-183400FE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FF1D-F76C-4BD4-952E-5508389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2AAC-335A-4170-AF54-5DB0EE2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D38-E079-4950-88AA-70F79BDD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393-18E1-4963-966C-696EE23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15DC-D56E-4380-8FC3-3ABF637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FEFF-6B43-4ECC-ABA1-EE639D1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0C80-E892-4F42-A209-0C452E5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1444-3B57-40C5-85BE-6B342833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1F8C-8290-4ADD-AEA0-2D75A89E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EE97-39D4-459D-B30A-DF711F37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667A-B9DA-48B3-95E2-59A039B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A435-6A62-4915-B2EA-C4687C9C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93BD-4401-4DFA-B64D-8807AE72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49F2-E5E6-46D0-AD29-28423D0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701-EC71-4A75-9936-87311E31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3CE1-98F2-495F-9D9A-CC133409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3DE2-5997-4B2D-9B11-C951352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9597-C1C8-4358-B51A-E61E16E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660F-FAC2-42A0-9222-F86AECB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1634-D7B3-4003-A6A6-17D46EE4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F51D-1644-4080-A159-3C782CBE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26BE-08CF-41E0-8C35-4EA27876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2617-E5C4-4449-BE5E-CCEF18AD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861E-7842-4590-8141-3EB388B3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8ABC-11E2-42E5-B91D-536B4C9D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50E-B77B-42AE-8CA8-E637A37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9BF2-8E8C-463B-9624-D734963B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7B86-46B6-46A7-9B69-B76FA05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F649-FBD4-461E-88ED-21BEEAD4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1147-8F4F-4447-AB51-821385E4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C8FC-C95C-4F65-9957-C7AFFAB8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559B-6553-4D94-B281-2E42714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F301-14AD-4FB4-98D0-E6BAC6B6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4423-7162-4C88-BC44-0B7E6174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D364-01BB-4BCD-A58D-4E9D7FB2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B77D-D8E1-4BB4-8D4C-1362FD4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06F-3312-4E96-BD91-97A3F6CE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F6685-68FA-4761-935A-7C46355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B819-2CA6-4375-9CCD-DB40BE09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5A4A2-820D-404A-9ED6-254BA0A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5581-8B9A-459B-B5E5-744DC385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7336-EC24-4D70-80FD-C09B25C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1BA3-96FB-4297-A10C-326E674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8549-FC01-4C66-BC3E-587CCBC2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D0AA-7346-4D73-A420-2C01C2E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5619-3A2A-4226-B6D9-1B38BFD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69A31-383B-4AB8-B5A3-C50D9EA6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43E-AB79-43E6-A861-1F226032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7536-D208-4AF5-BC0D-76DB49E4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EE4-1E1D-4F07-B292-E1E0A46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379-545F-470D-B8D3-6758A4A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5DD-428F-44BD-AF62-34A0C786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407-168F-4B8A-99A5-4C0A59952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85F1-D20D-4294-AE7A-5DF3B9DEF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630-05DF-4FF2-A995-1493A05A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337-B59E-48C4-8E08-3FEEB49B3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B3D9-7C8A-4C2C-AD3F-B1B07EDB6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11"/>
          <p:cNvSpPr txBox="1"/>
          <p:nvPr/>
        </p:nvSpPr>
        <p:spPr>
          <a:xfrm>
            <a:off x="324000" y="333360"/>
            <a:ext cx="80643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勾股定理逆定理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940760" y="3429000"/>
            <a:ext cx="5209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方法：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只需看两条较小边长的平方和是否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于最大边长的平方．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1265760" y="765000"/>
            <a:ext cx="7167960" cy="1990440"/>
            <a:chOff x="1265760" y="765000"/>
            <a:chExt cx="7167960" cy="1990440"/>
          </a:xfrm>
        </p:grpSpPr>
        <p:sp>
          <p:nvSpPr>
            <p:cNvPr id="321" name="Text Box 4"/>
            <p:cNvSpPr/>
            <p:nvPr/>
          </p:nvSpPr>
          <p:spPr>
            <a:xfrm>
              <a:off x="1265760" y="765000"/>
              <a:ext cx="71679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点评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i="1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由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可知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a,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且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Object 6"/>
                <p:cNvSpPr txBox="1"/>
                <p:nvPr/>
              </p:nvSpPr>
              <p:spPr>
                <a:xfrm>
                  <a:off x="1619280" y="1914480"/>
                  <a:ext cx="2376720" cy="84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>
    <p:cover dir="r"/>
    <p:sndAc>
      <p:stSnd>
        <p:snd r:embed="rId1" name="type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2"/>
          <p:cNvGrpSpPr/>
          <p:nvPr/>
        </p:nvGrpSpPr>
        <p:grpSpPr>
          <a:xfrm>
            <a:off x="1673640" y="333360"/>
            <a:ext cx="5644440" cy="5573160"/>
            <a:chOff x="1673640" y="333360"/>
            <a:chExt cx="5644440" cy="5573160"/>
          </a:xfrm>
        </p:grpSpPr>
        <p:sp>
          <p:nvSpPr>
            <p:cNvPr id="325" name="Text Box 4"/>
            <p:cNvSpPr/>
            <p:nvPr/>
          </p:nvSpPr>
          <p:spPr>
            <a:xfrm>
              <a:off x="3893040" y="333360"/>
              <a:ext cx="110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华文琥珀"/>
                  <a:ea typeface="华文琥珀"/>
                </a:rPr>
                <a:t>活动</a:t>
              </a:r>
              <a:r>
                <a:rPr b="1" lang="en-US" sz="3600" spc="-1" strike="noStrike">
                  <a:solidFill>
                    <a:srgbClr val="0000ff"/>
                  </a:solidFill>
                  <a:latin typeface="华文琥珀"/>
                  <a:ea typeface="华文琥珀"/>
                </a:rPr>
                <a:t>5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"/>
            <p:cNvSpPr/>
            <p:nvPr/>
          </p:nvSpPr>
          <p:spPr>
            <a:xfrm>
              <a:off x="1673640" y="1198440"/>
              <a:ext cx="5644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一个零件的形状如下图所示，按规定这个零件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中∠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和∠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BC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都应为直角，工人师傅量出这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个零件各边尺寸；那么这个零件符合要求吗？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21"/>
            <p:cNvGrpSpPr/>
            <p:nvPr/>
          </p:nvGrpSpPr>
          <p:grpSpPr>
            <a:xfrm>
              <a:off x="2558160" y="3070440"/>
              <a:ext cx="4000680" cy="2836080"/>
              <a:chOff x="2558160" y="3070440"/>
              <a:chExt cx="4000680" cy="2836080"/>
            </a:xfrm>
          </p:grpSpPr>
          <p:grpSp>
            <p:nvGrpSpPr>
              <p:cNvPr id="328" name="Group 11"/>
              <p:cNvGrpSpPr/>
              <p:nvPr/>
            </p:nvGrpSpPr>
            <p:grpSpPr>
              <a:xfrm>
                <a:off x="2987640" y="3214800"/>
                <a:ext cx="3241800" cy="2232000"/>
                <a:chOff x="2987640" y="3214800"/>
                <a:chExt cx="3241800" cy="2232000"/>
              </a:xfrm>
            </p:grpSpPr>
            <p:sp>
              <p:nvSpPr>
                <p:cNvPr id="329" name="Line 6"/>
                <p:cNvSpPr/>
                <p:nvPr/>
              </p:nvSpPr>
              <p:spPr>
                <a:xfrm>
                  <a:off x="2988000" y="5446800"/>
                  <a:ext cx="144108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7"/>
                <p:cNvSpPr/>
                <p:nvPr/>
              </p:nvSpPr>
              <p:spPr>
                <a:xfrm flipV="1">
                  <a:off x="2988000" y="3935520"/>
                  <a:ext cx="0" cy="151128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8"/>
                <p:cNvSpPr/>
                <p:nvPr/>
              </p:nvSpPr>
              <p:spPr>
                <a:xfrm flipH="1" flipV="1">
                  <a:off x="2987640" y="3935520"/>
                  <a:ext cx="1441080" cy="151128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9"/>
                <p:cNvSpPr/>
                <p:nvPr/>
              </p:nvSpPr>
              <p:spPr>
                <a:xfrm flipV="1">
                  <a:off x="4429080" y="3214800"/>
                  <a:ext cx="1800000" cy="223200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0"/>
                <p:cNvSpPr/>
                <p:nvPr/>
              </p:nvSpPr>
              <p:spPr>
                <a:xfrm flipV="1">
                  <a:off x="2988000" y="3214800"/>
                  <a:ext cx="3241440" cy="7207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Text Box 12"/>
              <p:cNvSpPr/>
              <p:nvPr/>
            </p:nvSpPr>
            <p:spPr>
              <a:xfrm>
                <a:off x="2558160" y="5302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3"/>
              <p:cNvSpPr/>
              <p:nvPr/>
            </p:nvSpPr>
            <p:spPr>
              <a:xfrm>
                <a:off x="4358520" y="5446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4"/>
              <p:cNvSpPr/>
              <p:nvPr/>
            </p:nvSpPr>
            <p:spPr>
              <a:xfrm>
                <a:off x="6158520" y="3070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5"/>
              <p:cNvSpPr/>
              <p:nvPr/>
            </p:nvSpPr>
            <p:spPr>
              <a:xfrm>
                <a:off x="2558160" y="3718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6"/>
              <p:cNvSpPr/>
              <p:nvPr/>
            </p:nvSpPr>
            <p:spPr>
              <a:xfrm>
                <a:off x="3350160" y="5375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7"/>
              <p:cNvSpPr/>
              <p:nvPr/>
            </p:nvSpPr>
            <p:spPr>
              <a:xfrm>
                <a:off x="2630880" y="4510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8"/>
              <p:cNvSpPr/>
              <p:nvPr/>
            </p:nvSpPr>
            <p:spPr>
              <a:xfrm>
                <a:off x="3639240" y="4367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9"/>
              <p:cNvSpPr/>
              <p:nvPr/>
            </p:nvSpPr>
            <p:spPr>
              <a:xfrm>
                <a:off x="5150520" y="42944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12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20"/>
              <p:cNvSpPr/>
              <p:nvPr/>
            </p:nvSpPr>
            <p:spPr>
              <a:xfrm>
                <a:off x="4071240" y="3214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13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u"/>
    <p:sndAc>
      <p:stSnd>
        <p:snd r:embed="rId1" name="type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865080" y="33336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知识拓展：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016800" y="26028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活动</a:t>
            </a: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0" y="1093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△ＡＢＣ的三边，且满足　　　　　　　　　　，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试判断此三角形的形状．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1187280" y="1773360"/>
                <a:ext cx="5545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三角形三边分别是　　　　        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则三角形中最大角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684360" y="3933720"/>
                <a:ext cx="5111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m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840600" y="352440"/>
            <a:ext cx="25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有所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61480" y="1484280"/>
            <a:ext cx="547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本节课的学习，你又有哪些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的认识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50920" y="357336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节课所学的定理与前面所学的勾股定理之间有怎样的关系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type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3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14000" y="11160"/>
            <a:ext cx="26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识连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0" y="33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能说出直角三角形有哪些特点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873080" y="2060640"/>
            <a:ext cx="18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个角是直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938160" y="5229360"/>
            <a:ext cx="33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锐角互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414960" y="2852640"/>
            <a:ext cx="24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3)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度所对直角边等于斜边的一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021400" y="3716280"/>
            <a:ext cx="549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直角边的平方和等于斜边的平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9528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三角形满足什么条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才能是直角三角形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1844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角的方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个角是直角的三角形是直角三角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416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学习了勾股家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道了直角三角形的三边具有一定的数量关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是否可以不用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用三角形的三边关系来判定它是否为直角三角形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typ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54520" y="0"/>
            <a:ext cx="24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新知初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0" y="69228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活动</a:t>
            </a:r>
            <a:r>
              <a:rPr b="1" lang="en-US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列三组数据分别是一个三角形的三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3c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cm;(2)6cm,8c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cm;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3)5c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c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955800" y="3425760"/>
            <a:ext cx="6361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(1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三组数都满足             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别以每组数中的前两边为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直角边作直角三角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试计算斜边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5867280" y="3213000"/>
                <a:ext cx="2952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type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449360" y="333360"/>
            <a:ext cx="653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通过以上实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你能得到什么启发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346040" y="1700280"/>
            <a:ext cx="585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猜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果三角形的三边长是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,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满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这个三角形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484360" y="141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250920" y="3141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78"/>
          <p:cNvGrpSpPr/>
          <p:nvPr/>
        </p:nvGrpSpPr>
        <p:grpSpPr>
          <a:xfrm>
            <a:off x="250920" y="333360"/>
            <a:ext cx="8551800" cy="6179040"/>
            <a:chOff x="250920" y="333360"/>
            <a:chExt cx="8551800" cy="6179040"/>
          </a:xfrm>
        </p:grpSpPr>
        <p:sp>
          <p:nvSpPr>
            <p:cNvPr id="233" name="Text Box 4"/>
            <p:cNvSpPr/>
            <p:nvPr/>
          </p:nvSpPr>
          <p:spPr>
            <a:xfrm>
              <a:off x="3964320" y="333360"/>
              <a:ext cx="110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琥珀"/>
                  <a:ea typeface="华文琥珀"/>
                </a:rPr>
                <a:t>活动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琥珀"/>
                  <a:ea typeface="华文琥珀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9"/>
            <p:cNvGrpSpPr/>
            <p:nvPr/>
          </p:nvGrpSpPr>
          <p:grpSpPr>
            <a:xfrm>
              <a:off x="250920" y="981000"/>
              <a:ext cx="8551800" cy="1556280"/>
              <a:chOff x="250920" y="981000"/>
              <a:chExt cx="8551800" cy="1556280"/>
            </a:xfrm>
          </p:grpSpPr>
          <p:sp>
            <p:nvSpPr>
              <p:cNvPr id="235" name="Text Box 5"/>
              <p:cNvSpPr/>
              <p:nvPr/>
            </p:nvSpPr>
            <p:spPr>
              <a:xfrm>
                <a:off x="250920" y="981000"/>
                <a:ext cx="855180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△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BC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的三边长为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、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、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满足　　　　　．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如果△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BC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是直角三角形它应该与直角边是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、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的直角三形全等．实际情况是这样吗？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6" name="Object 8"/>
                  <p:cNvSpPr txBox="1"/>
                  <p:nvPr/>
                </p:nvSpPr>
                <p:spPr>
                  <a:xfrm>
                    <a:off x="6084720" y="981000"/>
                    <a:ext cx="1944720" cy="62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7" name="Group 60"/>
            <p:cNvGrpSpPr/>
            <p:nvPr/>
          </p:nvGrpSpPr>
          <p:grpSpPr>
            <a:xfrm>
              <a:off x="1260000" y="4005360"/>
              <a:ext cx="2549880" cy="2507040"/>
              <a:chOff x="1260000" y="4005360"/>
              <a:chExt cx="2549880" cy="2507040"/>
            </a:xfrm>
          </p:grpSpPr>
          <p:grpSp>
            <p:nvGrpSpPr>
              <p:cNvPr id="238" name="Group 56"/>
              <p:cNvGrpSpPr/>
              <p:nvPr/>
            </p:nvGrpSpPr>
            <p:grpSpPr>
              <a:xfrm>
                <a:off x="1260000" y="4005360"/>
                <a:ext cx="2549880" cy="2506680"/>
                <a:chOff x="1260000" y="4005360"/>
                <a:chExt cx="2549880" cy="2506680"/>
              </a:xfrm>
            </p:grpSpPr>
            <p:grpSp>
              <p:nvGrpSpPr>
                <p:cNvPr id="239" name="Group 40"/>
                <p:cNvGrpSpPr/>
                <p:nvPr/>
              </p:nvGrpSpPr>
              <p:grpSpPr>
                <a:xfrm>
                  <a:off x="1593360" y="4244760"/>
                  <a:ext cx="1673280" cy="1866240"/>
                  <a:chOff x="1593360" y="4244760"/>
                  <a:chExt cx="1673280" cy="1866240"/>
                </a:xfrm>
              </p:grpSpPr>
              <p:grpSp>
                <p:nvGrpSpPr>
                  <p:cNvPr id="240" name="Group 27"/>
                  <p:cNvGrpSpPr/>
                  <p:nvPr/>
                </p:nvGrpSpPr>
                <p:grpSpPr>
                  <a:xfrm>
                    <a:off x="1593360" y="4244760"/>
                    <a:ext cx="1671840" cy="1866240"/>
                    <a:chOff x="1593360" y="4244760"/>
                    <a:chExt cx="1671840" cy="1866240"/>
                  </a:xfrm>
                </p:grpSpPr>
                <p:sp>
                  <p:nvSpPr>
                    <p:cNvPr id="241" name="Line 24"/>
                    <p:cNvSpPr/>
                    <p:nvPr/>
                  </p:nvSpPr>
                  <p:spPr>
                    <a:xfrm>
                      <a:off x="1593360" y="6111000"/>
                      <a:ext cx="167184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25"/>
                    <p:cNvSpPr/>
                    <p:nvPr/>
                  </p:nvSpPr>
                  <p:spPr>
                    <a:xfrm flipV="1">
                      <a:off x="3265200" y="4244760"/>
                      <a:ext cx="0" cy="1865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26"/>
                    <p:cNvSpPr/>
                    <p:nvPr/>
                  </p:nvSpPr>
                  <p:spPr>
                    <a:xfrm flipV="1">
                      <a:off x="1593360" y="4244760"/>
                      <a:ext cx="1671840" cy="1865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36"/>
                  <p:cNvGrpSpPr/>
                  <p:nvPr/>
                </p:nvGrpSpPr>
                <p:grpSpPr>
                  <a:xfrm>
                    <a:off x="2998440" y="5930280"/>
                    <a:ext cx="268200" cy="180360"/>
                    <a:chOff x="2998440" y="5930280"/>
                    <a:chExt cx="268200" cy="180360"/>
                  </a:xfrm>
                </p:grpSpPr>
                <p:sp>
                  <p:nvSpPr>
                    <p:cNvPr id="245" name="Line 34"/>
                    <p:cNvSpPr/>
                    <p:nvPr/>
                  </p:nvSpPr>
                  <p:spPr>
                    <a:xfrm>
                      <a:off x="2998440" y="5930280"/>
                      <a:ext cx="268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35"/>
                    <p:cNvSpPr/>
                    <p:nvPr/>
                  </p:nvSpPr>
                  <p:spPr>
                    <a:xfrm>
                      <a:off x="2998440" y="5930280"/>
                      <a:ext cx="0" cy="180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7" name="Text Box 53"/>
                <p:cNvSpPr/>
                <p:nvPr/>
              </p:nvSpPr>
              <p:spPr>
                <a:xfrm>
                  <a:off x="3267000" y="400536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54"/>
                <p:cNvSpPr/>
                <p:nvPr/>
              </p:nvSpPr>
              <p:spPr>
                <a:xfrm>
                  <a:off x="1260000" y="58708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55"/>
                <p:cNvSpPr/>
                <p:nvPr/>
              </p:nvSpPr>
              <p:spPr>
                <a:xfrm>
                  <a:off x="3335040" y="593064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Text Box 57"/>
              <p:cNvSpPr/>
              <p:nvPr/>
            </p:nvSpPr>
            <p:spPr>
              <a:xfrm>
                <a:off x="2130480" y="5991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8"/>
              <p:cNvSpPr/>
              <p:nvPr/>
            </p:nvSpPr>
            <p:spPr>
              <a:xfrm>
                <a:off x="3268440" y="49089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9"/>
              <p:cNvSpPr/>
              <p:nvPr/>
            </p:nvSpPr>
            <p:spPr>
              <a:xfrm>
                <a:off x="2062440" y="4908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68"/>
          <p:cNvSpPr/>
          <p:nvPr/>
        </p:nvSpPr>
        <p:spPr>
          <a:xfrm>
            <a:off x="578520" y="260280"/>
            <a:ext cx="24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证猜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77"/>
          <p:cNvGrpSpPr/>
          <p:nvPr/>
        </p:nvGrpSpPr>
        <p:grpSpPr>
          <a:xfrm>
            <a:off x="684360" y="2968560"/>
            <a:ext cx="7343640" cy="3889440"/>
            <a:chOff x="684360" y="2968560"/>
            <a:chExt cx="7343640" cy="3889440"/>
          </a:xfrm>
        </p:grpSpPr>
        <p:grpSp>
          <p:nvGrpSpPr>
            <p:cNvPr id="255" name="Group 75"/>
            <p:cNvGrpSpPr/>
            <p:nvPr/>
          </p:nvGrpSpPr>
          <p:grpSpPr>
            <a:xfrm>
              <a:off x="5148360" y="4408560"/>
              <a:ext cx="2592000" cy="2449440"/>
              <a:chOff x="5148360" y="4408560"/>
              <a:chExt cx="2592000" cy="2449440"/>
            </a:xfrm>
          </p:grpSpPr>
          <p:grpSp>
            <p:nvGrpSpPr>
              <p:cNvPr id="256" name="Group 52"/>
              <p:cNvGrpSpPr/>
              <p:nvPr/>
            </p:nvGrpSpPr>
            <p:grpSpPr>
              <a:xfrm>
                <a:off x="5148360" y="4408560"/>
                <a:ext cx="2592000" cy="2189160"/>
                <a:chOff x="5148360" y="4408560"/>
                <a:chExt cx="2592000" cy="2189160"/>
              </a:xfrm>
            </p:grpSpPr>
            <p:grpSp>
              <p:nvGrpSpPr>
                <p:cNvPr id="257" name="Group 41"/>
                <p:cNvGrpSpPr/>
                <p:nvPr/>
              </p:nvGrpSpPr>
              <p:grpSpPr>
                <a:xfrm>
                  <a:off x="5661360" y="4632120"/>
                  <a:ext cx="1608120" cy="1740240"/>
                  <a:chOff x="5661360" y="4632120"/>
                  <a:chExt cx="1608120" cy="1740240"/>
                </a:xfrm>
              </p:grpSpPr>
              <p:grpSp>
                <p:nvGrpSpPr>
                  <p:cNvPr id="258" name="Group 28"/>
                  <p:cNvGrpSpPr/>
                  <p:nvPr/>
                </p:nvGrpSpPr>
                <p:grpSpPr>
                  <a:xfrm>
                    <a:off x="5661360" y="4632120"/>
                    <a:ext cx="1607040" cy="1740240"/>
                    <a:chOff x="5661360" y="4632120"/>
                    <a:chExt cx="1607040" cy="1740240"/>
                  </a:xfrm>
                </p:grpSpPr>
                <p:sp>
                  <p:nvSpPr>
                    <p:cNvPr id="259" name="Line 29"/>
                    <p:cNvSpPr/>
                    <p:nvPr/>
                  </p:nvSpPr>
                  <p:spPr>
                    <a:xfrm>
                      <a:off x="5661360" y="6372360"/>
                      <a:ext cx="160704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30"/>
                    <p:cNvSpPr/>
                    <p:nvPr/>
                  </p:nvSpPr>
                  <p:spPr>
                    <a:xfrm flipV="1">
                      <a:off x="7268400" y="4632120"/>
                      <a:ext cx="0" cy="1739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31"/>
                    <p:cNvSpPr/>
                    <p:nvPr/>
                  </p:nvSpPr>
                  <p:spPr>
                    <a:xfrm flipV="1">
                      <a:off x="5661360" y="4632120"/>
                      <a:ext cx="1607040" cy="1739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37"/>
                  <p:cNvGrpSpPr/>
                  <p:nvPr/>
                </p:nvGrpSpPr>
                <p:grpSpPr>
                  <a:xfrm>
                    <a:off x="7012080" y="6203880"/>
                    <a:ext cx="257400" cy="168120"/>
                    <a:chOff x="7012080" y="6203880"/>
                    <a:chExt cx="257400" cy="168120"/>
                  </a:xfrm>
                </p:grpSpPr>
                <p:sp>
                  <p:nvSpPr>
                    <p:cNvPr id="263" name="Line 38"/>
                    <p:cNvSpPr/>
                    <p:nvPr/>
                  </p:nvSpPr>
                  <p:spPr>
                    <a:xfrm>
                      <a:off x="7012080" y="6203880"/>
                      <a:ext cx="257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39"/>
                    <p:cNvSpPr/>
                    <p:nvPr/>
                  </p:nvSpPr>
                  <p:spPr>
                    <a:xfrm>
                      <a:off x="7012080" y="6203880"/>
                      <a:ext cx="0" cy="168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mc:AlternateContent>
              <mc:Choice xmlns:a14="http://schemas.microsoft.com/office/drawing/2010/main" Requires="a14">
                <p:sp>
                  <p:nvSpPr>
                    <p:cNvPr id="265" name="Object 45"/>
                    <p:cNvSpPr txBox="1"/>
                    <p:nvPr/>
                  </p:nvSpPr>
                  <p:spPr>
                    <a:xfrm>
                      <a:off x="7333920" y="4408560"/>
                      <a:ext cx="382320" cy="39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6" name="Object 48"/>
                    <p:cNvSpPr txBox="1"/>
                    <p:nvPr/>
                  </p:nvSpPr>
                  <p:spPr>
                    <a:xfrm>
                      <a:off x="5148360" y="6035760"/>
                      <a:ext cx="437760" cy="449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7" name="Object 50"/>
                    <p:cNvSpPr txBox="1"/>
                    <p:nvPr/>
                  </p:nvSpPr>
                  <p:spPr>
                    <a:xfrm>
                      <a:off x="7333920" y="6204240"/>
                      <a:ext cx="406440" cy="393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68" name="Object 61"/>
                  <p:cNvSpPr txBox="1"/>
                  <p:nvPr/>
                </p:nvSpPr>
                <p:spPr>
                  <a:xfrm>
                    <a:off x="6177240" y="6465960"/>
                    <a:ext cx="34272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9" name="Object 63"/>
                  <p:cNvSpPr txBox="1"/>
                  <p:nvPr/>
                </p:nvSpPr>
                <p:spPr>
                  <a:xfrm>
                    <a:off x="7336080" y="5419800"/>
                    <a:ext cx="27468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0" name="Object 65"/>
                  <p:cNvSpPr txBox="1"/>
                  <p:nvPr/>
                </p:nvSpPr>
                <p:spPr>
                  <a:xfrm>
                    <a:off x="6048720" y="5251680"/>
                    <a:ext cx="366480" cy="44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71" name="Group 76"/>
            <p:cNvGrpSpPr/>
            <p:nvPr/>
          </p:nvGrpSpPr>
          <p:grpSpPr>
            <a:xfrm>
              <a:off x="684360" y="2968560"/>
              <a:ext cx="7343640" cy="1209600"/>
              <a:chOff x="684360" y="2968560"/>
              <a:chExt cx="7343640" cy="1209600"/>
            </a:xfrm>
          </p:grpSpPr>
          <p:sp>
            <p:nvSpPr>
              <p:cNvPr id="272" name="Text Box 14"/>
              <p:cNvSpPr/>
              <p:nvPr/>
            </p:nvSpPr>
            <p:spPr>
              <a:xfrm>
                <a:off x="2620080" y="3040200"/>
                <a:ext cx="3664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我们画一个直角三角形          ，使            ，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，              。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3" name="Object 19"/>
                  <p:cNvSpPr txBox="1"/>
                  <p:nvPr/>
                </p:nvSpPr>
                <p:spPr>
                  <a:xfrm>
                    <a:off x="684360" y="3687840"/>
                    <a:ext cx="1331640" cy="49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4" name="Object 21"/>
                  <p:cNvSpPr txBox="1"/>
                  <p:nvPr/>
                </p:nvSpPr>
                <p:spPr>
                  <a:xfrm>
                    <a:off x="2268360" y="3544920"/>
                    <a:ext cx="1944720" cy="62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Object 15"/>
                  <p:cNvSpPr txBox="1"/>
                  <p:nvPr/>
                </p:nvSpPr>
                <p:spPr>
                  <a:xfrm>
                    <a:off x="4643280" y="2968560"/>
                    <a:ext cx="122400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Object 17"/>
                  <p:cNvSpPr txBox="1"/>
                  <p:nvPr/>
                </p:nvSpPr>
                <p:spPr>
                  <a:xfrm>
                    <a:off x="6516720" y="3040200"/>
                    <a:ext cx="1511280" cy="55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>
    <p:comb dir="horz"/>
    <p:sndAc>
      <p:stSnd>
        <p:snd r:embed="rId1" name="type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2"/>
          <p:cNvGrpSpPr/>
          <p:nvPr/>
        </p:nvGrpSpPr>
        <p:grpSpPr>
          <a:xfrm>
            <a:off x="468360" y="333360"/>
            <a:ext cx="5075280" cy="6269400"/>
            <a:chOff x="468360" y="333360"/>
            <a:chExt cx="5075280" cy="6269400"/>
          </a:xfrm>
        </p:grpSpPr>
        <p:grpSp>
          <p:nvGrpSpPr>
            <p:cNvPr id="287" name="Group 15"/>
            <p:cNvGrpSpPr/>
            <p:nvPr/>
          </p:nvGrpSpPr>
          <p:grpSpPr>
            <a:xfrm>
              <a:off x="1009080" y="333360"/>
              <a:ext cx="3557160" cy="605160"/>
              <a:chOff x="1009080" y="333360"/>
              <a:chExt cx="3557160" cy="605160"/>
            </a:xfrm>
          </p:grpSpPr>
          <p:sp>
            <p:nvSpPr>
              <p:cNvPr id="288" name="Text Box 4"/>
              <p:cNvSpPr/>
              <p:nvPr/>
            </p:nvSpPr>
            <p:spPr>
              <a:xfrm>
                <a:off x="1009080" y="357120"/>
                <a:ext cx="355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证明：在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t    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中。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9" name="Object 5"/>
                  <p:cNvSpPr txBox="1"/>
                  <p:nvPr/>
                </p:nvSpPr>
                <p:spPr>
                  <a:xfrm>
                    <a:off x="2700360" y="333360"/>
                    <a:ext cx="1511280" cy="59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Δ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90" name="Object 8"/>
                <p:cNvSpPr txBox="1"/>
                <p:nvPr/>
              </p:nvSpPr>
              <p:spPr>
                <a:xfrm>
                  <a:off x="611280" y="981000"/>
                  <a:ext cx="49323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91" name="Group 14"/>
            <p:cNvGrpSpPr/>
            <p:nvPr/>
          </p:nvGrpSpPr>
          <p:grpSpPr>
            <a:xfrm>
              <a:off x="468360" y="1557360"/>
              <a:ext cx="3095640" cy="581400"/>
              <a:chOff x="468360" y="1557360"/>
              <a:chExt cx="3095640" cy="581400"/>
            </a:xfrm>
          </p:grpSpPr>
          <p:sp>
            <p:nvSpPr>
              <p:cNvPr id="292" name="Text Box 10"/>
              <p:cNvSpPr/>
              <p:nvPr/>
            </p:nvSpPr>
            <p:spPr>
              <a:xfrm>
                <a:off x="468360" y="1557360"/>
                <a:ext cx="309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又∵                       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3" name="Object 12"/>
                  <p:cNvSpPr txBox="1"/>
                  <p:nvPr/>
                </p:nvSpPr>
                <p:spPr>
                  <a:xfrm>
                    <a:off x="1547640" y="1628640"/>
                    <a:ext cx="1727280" cy="459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4" name="Group 18"/>
            <p:cNvGrpSpPr/>
            <p:nvPr/>
          </p:nvGrpSpPr>
          <p:grpSpPr>
            <a:xfrm>
              <a:off x="900000" y="2133720"/>
              <a:ext cx="1942920" cy="1068840"/>
              <a:chOff x="900000" y="2133720"/>
              <a:chExt cx="1942920" cy="1068840"/>
            </a:xfrm>
          </p:grpSpPr>
          <p:sp>
            <p:nvSpPr>
              <p:cNvPr id="295" name="Text Box 11"/>
              <p:cNvSpPr/>
              <p:nvPr/>
            </p:nvSpPr>
            <p:spPr>
              <a:xfrm>
                <a:off x="900000" y="2133720"/>
                <a:ext cx="19429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∴                      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6" name="Object 16"/>
                  <p:cNvSpPr txBox="1"/>
                  <p:nvPr/>
                </p:nvSpPr>
                <p:spPr>
                  <a:xfrm>
                    <a:off x="1444680" y="2204640"/>
                    <a:ext cx="1359000" cy="46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7" name="Group 22"/>
            <p:cNvGrpSpPr/>
            <p:nvPr/>
          </p:nvGrpSpPr>
          <p:grpSpPr>
            <a:xfrm>
              <a:off x="1559160" y="2565360"/>
              <a:ext cx="2581200" cy="581400"/>
              <a:chOff x="1559160" y="2565360"/>
              <a:chExt cx="2581200" cy="581400"/>
            </a:xfrm>
          </p:grpSpPr>
          <p:sp>
            <p:nvSpPr>
              <p:cNvPr id="298" name="Text Box 19"/>
              <p:cNvSpPr/>
              <p:nvPr/>
            </p:nvSpPr>
            <p:spPr>
              <a:xfrm>
                <a:off x="1559160" y="2565360"/>
                <a:ext cx="220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在△ＡＢＣ和　　　中：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Object 20"/>
                  <p:cNvSpPr txBox="1"/>
                  <p:nvPr/>
                </p:nvSpPr>
                <p:spPr>
                  <a:xfrm>
                    <a:off x="2916360" y="2637000"/>
                    <a:ext cx="122400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Δ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0" name="Object 23"/>
                <p:cNvSpPr txBox="1"/>
                <p:nvPr/>
              </p:nvSpPr>
              <p:spPr>
                <a:xfrm>
                  <a:off x="971640" y="3141720"/>
                  <a:ext cx="20876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5"/>
                <p:cNvSpPr txBox="1"/>
                <p:nvPr/>
              </p:nvSpPr>
              <p:spPr>
                <a:xfrm>
                  <a:off x="971640" y="3645000"/>
                  <a:ext cx="21603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Object 27"/>
                <p:cNvSpPr txBox="1"/>
                <p:nvPr/>
              </p:nvSpPr>
              <p:spPr>
                <a:xfrm>
                  <a:off x="900000" y="4149720"/>
                  <a:ext cx="230364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AutoShape 29"/>
            <p:cNvSpPr/>
            <p:nvPr/>
          </p:nvSpPr>
          <p:spPr>
            <a:xfrm>
              <a:off x="684360" y="3141720"/>
              <a:ext cx="215640" cy="15825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1040 h 1582560"/>
                <a:gd name="textAreaBottom" fmla="*/ 1541520 h 158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34"/>
            <p:cNvGrpSpPr/>
            <p:nvPr/>
          </p:nvGrpSpPr>
          <p:grpSpPr>
            <a:xfrm>
              <a:off x="611280" y="4797360"/>
              <a:ext cx="2541600" cy="1068840"/>
              <a:chOff x="611280" y="4797360"/>
              <a:chExt cx="2541600" cy="1068840"/>
            </a:xfrm>
          </p:grpSpPr>
          <p:sp>
            <p:nvSpPr>
              <p:cNvPr id="305" name="Text Box 31"/>
              <p:cNvSpPr/>
              <p:nvPr/>
            </p:nvSpPr>
            <p:spPr>
              <a:xfrm>
                <a:off x="611280" y="4797360"/>
                <a:ext cx="2541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　　　　　</a:t>
                </a:r>
                <a:endParaRPr b="0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6" name="Object 32"/>
                  <p:cNvSpPr txBox="1"/>
                  <p:nvPr/>
                </p:nvSpPr>
                <p:spPr>
                  <a:xfrm>
                    <a:off x="1208160" y="4902120"/>
                    <a:ext cx="1944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≃</m:t>
                        </m:r>
                        <m:sSup>
                          <m:e>
                            <m:r>
                              <m:t xml:space="preserve">Δ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7" name="Object 35"/>
                <p:cNvSpPr txBox="1"/>
                <p:nvPr/>
              </p:nvSpPr>
              <p:spPr>
                <a:xfrm>
                  <a:off x="755640" y="5373720"/>
                  <a:ext cx="242100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Text Box 37"/>
            <p:cNvSpPr/>
            <p:nvPr/>
          </p:nvSpPr>
          <p:spPr>
            <a:xfrm>
              <a:off x="1094760" y="6021360"/>
              <a:ext cx="32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∴△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是直角三角形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  <p:sndAc>
      <p:stSnd>
        <p:snd r:embed="rId1" name="type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于是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定理：如果三角形的边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满足　　　　             ，那么这个三角形是直角三角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2843280" y="3186000"/>
                <a:ext cx="43210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597600" y="260280"/>
            <a:ext cx="27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运用新知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7"/>
          <p:cNvGrpSpPr/>
          <p:nvPr/>
        </p:nvGrpSpPr>
        <p:grpSpPr>
          <a:xfrm>
            <a:off x="1126800" y="1022400"/>
            <a:ext cx="7205760" cy="5123880"/>
            <a:chOff x="1126800" y="1022400"/>
            <a:chExt cx="7205760" cy="5123880"/>
          </a:xfrm>
        </p:grpSpPr>
        <p:sp>
          <p:nvSpPr>
            <p:cNvPr id="315" name="Text Box 5"/>
            <p:cNvSpPr/>
            <p:nvPr/>
          </p:nvSpPr>
          <p:spPr>
            <a:xfrm>
              <a:off x="4116960" y="102240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华文琥珀"/>
                </a:rPr>
                <a:t>活动４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1126800" y="2030400"/>
              <a:ext cx="720576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判断：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由线段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组成的三角形是不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是直角三角形？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=15     m=8        n=17;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=10     m=8        n=16;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=13     m=4        n=15.</a:t>
              </a: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  <p:sndAc>
      <p:stSnd>
        <p:snd r:embed="rId1" name="type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47:03Z</dcterms:created>
  <dc:creator>kejianyuan.com</dc:creator>
  <dc:description>kejianyuan.com</dc:description>
  <cp:keywords>kejianyuan.com</cp:keywords>
  <dc:language>en-US</dc:language>
  <cp:lastModifiedBy/>
  <dcterms:modified xsi:type="dcterms:W3CDTF">2014-09-10T16:19:29Z</dcterms:modified>
  <cp:revision>64</cp:revision>
  <dc:subject>人教版八年级数学（下）全套课件</dc:subject>
  <dc:title>人教版八年级数学（下）全套课件</dc:title>
</cp:coreProperties>
</file>