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EB1-A5CF-460F-8E36-21391936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B00-D71C-42B5-BEB2-EC345E04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2BB-CF2F-4693-AEEE-4C1BF171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E2A-6842-4C54-B697-A3D4AC81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60EF-50C4-4A1D-8C99-8F5D8825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2C08-A2E4-476F-92DE-6E7648E4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4643-A657-4EBA-B2D6-A8A600A4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A130-DC0B-48B1-A078-72121D73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0A77-82DE-41EE-A6FD-63EC5CB9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D313-5FDC-42FF-8F61-4D1DFAEA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3450-4382-4A70-9987-7C93942D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61B-EFA3-4B01-BEA2-259BC21E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B24A-AE5E-43CB-8095-57CE863F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AD6E-849A-44C8-B058-FF77A065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0EDB-5319-4F7C-85A1-2A778632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5014-A61D-4794-8633-BAC4AAD3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6A15-F7DF-4302-9D8A-F7D77A6B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700AE-11C5-4D99-93EE-D67C6432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EF486-59EF-4C56-81BB-EEBF96FA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EBB7-9B95-4C60-8192-2418B716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E6920-09AA-408B-A8F7-053DA419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0EE8-D558-48DA-A2D3-4C3DD337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7B7-DB9C-4D7E-9638-63ABDBEE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F37E8-E99B-4F91-B39A-6D1C1755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19D29-2739-45BA-920D-8608BD21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24381-F7F3-4EC7-A799-1F2AB8CA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C158F-680F-4E87-9829-AF6F7BAD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5EE75-9437-49D0-8CAE-965B125B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0B8E1-D10A-4B04-A62D-5BAF4B82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6AB2F-ABC5-4A8A-9384-FA3C3142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C7F79-6D3C-42A9-A983-D75D8E71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65E89-07F5-4862-AAC9-DA5FE2B0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8925D-36F2-4F4F-BDC0-EFC6DD8A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B68-D127-4570-81CC-DFB6694C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3FC5D-0B1D-4A8B-9C71-F4FF7AA5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0BBC6-BB8A-4097-85D5-BE1F7DF0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E8D22-5C32-411C-8B1A-76636214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4C52B-4078-42CE-AD77-9E21EAB4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1BD1B-8C6A-4753-B502-BDCB6733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8F578-AAC8-4834-A22D-04889531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A2463-98AF-4CF9-918C-92FCF9F1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CBC1A-87FD-403C-8BA5-53CB0B25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717F0-DCA1-4B83-8017-BFF63937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3073F-74FF-46D8-8D45-B419AAD1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F53-D34B-453E-A498-F3E6D51B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77A02-4FDD-4574-AC56-823C0014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C7408-2B7A-4DBF-944E-2C9896DB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855CB-8B81-4272-9352-FB241834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0440F-B28F-4FE3-8D6D-1D747757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91300-ACD3-4610-9433-0C83DCEB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125FC-B1E4-4B8A-A9B9-3EC444A6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BF1D2-DB2D-4ED3-A1C8-982DE582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AAD3F-5D7D-4951-B1FD-99322FB5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951FF-BF8B-47AE-B667-490F0AC7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48178-714B-4D63-8BC2-3A192093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CF7-D270-4E73-BA86-49C21D31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93A11-E11F-4C9A-9D86-79D9C4E7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C9695-82AE-4868-B630-770C5D07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3825B-EF0F-476A-B6D2-17A91C96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96730-79CF-41F4-B076-8A0350CD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4B377-0279-4FC1-AA14-F7F63E08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1BC79-3CB0-4707-8580-ADA15C2E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A140C-A463-4E1F-AA37-0B71D552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A2E78-3D81-4837-9D27-B7167542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88C80-ADDB-438E-9782-D500E217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F4DE7-90DB-4B54-AA40-D01C45E3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A8AE-FBBA-4472-B4EF-77941A1D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A75CE-873F-4A57-BEFB-C15E31A7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57E1F-0ADF-46A1-ABA5-8DC243F4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7CC78-0E25-4581-9767-3C66BDDE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6D7-FEE1-4580-8233-5CD01971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493-23F7-4734-8EE6-78ADD32E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2E9B-D292-4C8A-A3D4-E08AD04C1E5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A368-7D80-40EE-A1D6-79FBAEEEDB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170D-5F36-4195-82BF-903F04C4F08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B705-5B44-44C9-97C0-4E2BF07CEF0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9EC8-DDDA-4F0D-B351-91C097466BC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C726-5592-4E06-9397-3095C11137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9.xml"/><Relationship Id="rId17" Type="http://schemas.openxmlformats.org/officeDocument/2006/relationships/slide" Target="slide10.xml"/><Relationship Id="rId18" Type="http://schemas.openxmlformats.org/officeDocument/2006/relationships/slide" Target="slide10.xml"/><Relationship Id="rId19" Type="http://schemas.openxmlformats.org/officeDocument/2006/relationships/slide" Target="slide10.xml"/><Relationship Id="rId20" Type="http://schemas.openxmlformats.org/officeDocument/2006/relationships/slide" Target="slide10.xml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468360" y="1484280"/>
            <a:ext cx="82184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实际问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与反比例函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1979640" y="522936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华文新魏"/>
                <a:ea typeface="华文新魏"/>
              </a:rPr>
              <a:t>湖北省保康县实验中学  叶红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3"/>
          <p:cNvSpPr/>
          <p:nvPr/>
        </p:nvSpPr>
        <p:spPr>
          <a:xfrm>
            <a:off x="7885080" y="630864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10800"/>
                </a:moveTo>
                <a:lnTo>
                  <a:pt x="24220" y="3794"/>
                </a:lnTo>
                <a:lnTo>
                  <a:pt x="2422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WordArt 24"/>
          <p:cNvSpPr txBox="1"/>
          <p:nvPr/>
        </p:nvSpPr>
        <p:spPr>
          <a:xfrm>
            <a:off x="0" y="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超越自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0" y="333360"/>
            <a:ext cx="91440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某地上年度电价为每度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0.8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元，年用电量为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亿度，本年度计划将电价调整至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0.55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华文新魏"/>
              </a:rPr>
              <a:t>——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0.75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元之间，经测算电价调至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元，则本年度新增用电量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y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亿度与（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x-0.4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）成反比例，且当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x=0.65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时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y=0.8.          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求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y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与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之间的函数关系式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若每度电成本价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0.3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元，则电价调至多少元时，本年度电力部门的收益将比上年度增加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20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％？   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〔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收益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=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用电量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×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（实际电量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-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成本价）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181080" y="135000"/>
            <a:ext cx="87120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彩云"/>
              </a:rPr>
              <a:t>反思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通过本节课的学习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有哪些收获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216000" y="2421000"/>
            <a:ext cx="89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用反比例函数解决实际问题的关键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建立反比例函数模型</a:t>
            </a:r>
            <a:r>
              <a:rPr b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250920" y="4292640"/>
            <a:ext cx="82072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布置作业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课本 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P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63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T 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6 </a:t>
            </a:r>
            <a:r>
              <a:rPr b="1" lang="zh-CN" sz="40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、 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817236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10800"/>
                </a:moveTo>
                <a:lnTo>
                  <a:pt x="19597" y="3794"/>
                </a:lnTo>
                <a:lnTo>
                  <a:pt x="19597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7" descr="kejianyuan.jpg"/>
          <p:cNvPicPr/>
          <p:nvPr/>
        </p:nvPicPr>
        <p:blipFill>
          <a:blip r:embed="rId1"/>
          <a:stretch/>
        </p:blipFill>
        <p:spPr>
          <a:xfrm>
            <a:off x="3348000" y="6165720"/>
            <a:ext cx="2381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pic1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5"/>
          <p:cNvSpPr/>
          <p:nvPr/>
        </p:nvSpPr>
        <p:spPr>
          <a:xfrm>
            <a:off x="1547640" y="2205000"/>
            <a:ext cx="6696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祝同学们学习进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再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195280" y="1628280"/>
            <a:ext cx="69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" action="ppaction://hlinksldjump"/>
              </a:rPr>
              <a:t>挑战记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2" action="ppaction://hlinksldjump"/>
              </a:rPr>
              <a:t>创设情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3" action="ppaction://hlinksldjump"/>
              </a:rPr>
              <a:t>合作探究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4" action="ppaction://hlinksldjump"/>
              </a:rPr>
              <a:t>（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5" action="ppaction://hlinksldjump"/>
              </a:rPr>
              <a:t>1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6" action="ppaction://hlinksldjump"/>
              </a:rPr>
              <a:t>） 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7" action="ppaction://hlinksldjump"/>
              </a:rPr>
              <a:t>（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8" action="ppaction://hlinksldjump"/>
              </a:rPr>
              <a:t>2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9" action="ppaction://hlinksldjump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0" action="ppaction://hlinksldjump"/>
              </a:rPr>
              <a:t>自主尝试（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1" action="ppaction://hlinksldjump"/>
              </a:rPr>
              <a:t>1</a:t>
            </a:r>
            <a:r>
              <a:rPr b="0" lang="zh-CN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2" action="ppaction://hlinksldjump"/>
              </a:rPr>
              <a:t>）（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3" action="ppaction://hlinksldjump"/>
              </a:rPr>
              <a:t>2</a:t>
            </a:r>
            <a:r>
              <a:rPr b="0" lang="zh-CN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4" action="ppaction://hlinksldjump"/>
              </a:rPr>
              <a:t>）（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5" action="ppaction://hlinksldjump"/>
              </a:rPr>
              <a:t>3</a:t>
            </a:r>
            <a:r>
              <a:rPr b="0" lang="zh-CN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6" action="ppaction://hlinksldjump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7" action="ppaction://hlinksldjump"/>
              </a:rPr>
              <a:t>超越自我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8" action="ppaction://hlinksldjump"/>
              </a:rPr>
              <a:t>（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9" action="ppaction://hlinksldjump"/>
              </a:rPr>
              <a:t>1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20" action="ppaction://hlinksldjump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反思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WordArt 4" descr=""/>
          <p:cNvPicPr/>
          <p:nvPr/>
        </p:nvPicPr>
        <p:blipFill>
          <a:blip r:embed="rId21"/>
          <a:stretch/>
        </p:blipFill>
        <p:spPr>
          <a:xfrm>
            <a:off x="1749600" y="542880"/>
            <a:ext cx="7095960" cy="88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69228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华文彩云"/>
                <a:ea typeface="华文彩云"/>
              </a:rPr>
              <a:t>挑战记忆</a:t>
            </a:r>
            <a:r>
              <a:rPr b="1" lang="en-US" sz="4000" spc="-1" strike="noStrike">
                <a:solidFill>
                  <a:srgbClr val="cc3300"/>
                </a:solidFill>
                <a:latin typeface="华文彩云"/>
                <a:ea typeface="华文彩云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684360" y="1484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反比例函数图象有哪些性质</a:t>
            </a:r>
            <a:r>
              <a:rPr b="1" lang="en-US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395280" y="2133720"/>
            <a:ext cx="8317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比例函数             是由两支曲线组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&gt;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支曲线分别位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一、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象限内，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每一象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增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减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&lt;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支曲线分别位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二、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象限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每一象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增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增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7"/>
              <p:cNvSpPr txBox="1"/>
              <p:nvPr/>
            </p:nvSpPr>
            <p:spPr>
              <a:xfrm>
                <a:off x="3348000" y="1989000"/>
                <a:ext cx="10796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AutoShape 8"/>
          <p:cNvSpPr/>
          <p:nvPr/>
        </p:nvSpPr>
        <p:spPr>
          <a:xfrm>
            <a:off x="8101080" y="5805360"/>
            <a:ext cx="574560" cy="35892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3348000" y="404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810108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10800"/>
                </a:moveTo>
                <a:lnTo>
                  <a:pt x="18526" y="3794"/>
                </a:lnTo>
                <a:lnTo>
                  <a:pt x="1852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7" descr="u=3219906705,3401488516&amp;gp=0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3095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u=806384528,3614370180&amp;gp=2"/>
          <p:cNvPicPr/>
          <p:nvPr/>
        </p:nvPicPr>
        <p:blipFill>
          <a:blip r:embed="rId2"/>
          <a:stretch/>
        </p:blipFill>
        <p:spPr>
          <a:xfrm>
            <a:off x="4500720" y="189000"/>
            <a:ext cx="4643280" cy="5976720"/>
          </a:xfrm>
          <a:prstGeom prst="rect">
            <a:avLst/>
          </a:prstGeom>
          <a:ln w="0">
            <a:noFill/>
          </a:ln>
        </p:spPr>
      </p:pic>
      <p:sp>
        <p:nvSpPr>
          <p:cNvPr id="275" name="WordArt 10"/>
          <p:cNvSpPr txBox="1"/>
          <p:nvPr/>
        </p:nvSpPr>
        <p:spPr>
          <a:xfrm>
            <a:off x="2771640" y="260280"/>
            <a:ext cx="3429000" cy="15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繁忙的码头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3780000" y="2781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Arial Black"/>
                <a:ea typeface="华文彩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8604360" y="566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3" descr="http://www.pep.com.cn/images/200503/pic_219043.jpg"/>
          <p:cNvPicPr/>
          <p:nvPr/>
        </p:nvPicPr>
        <p:blipFill>
          <a:blip r:embed="rId3"/>
          <a:srcRect l="12385" t="31776" r="65422" b="55939"/>
          <a:stretch/>
        </p:blipFill>
        <p:spPr>
          <a:xfrm>
            <a:off x="395280" y="328464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4"/>
          <p:cNvSpPr/>
          <p:nvPr/>
        </p:nvSpPr>
        <p:spPr>
          <a:xfrm>
            <a:off x="3851280" y="566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803160" y="108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彩云"/>
                <a:ea typeface="华文彩云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2"/>
          <p:cNvSpPr/>
          <p:nvPr/>
        </p:nvSpPr>
        <p:spPr>
          <a:xfrm>
            <a:off x="817236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468360" y="620640"/>
            <a:ext cx="867564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码头工人以每天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30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吨的速度往一艘轮船上装载货物，把轮船装载完毕恰好用了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8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天时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轮船到达目的地后开始卸货，卸货速度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υ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单位：吨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）与卸货时间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单位：天）之间的函数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在实际运送过程中，卸货速度、卸货时间可能有哪些变化情况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803160" y="106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彩云"/>
                <a:ea typeface="华文彩云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611280" y="3429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5"/>
          <p:cNvSpPr/>
          <p:nvPr/>
        </p:nvSpPr>
        <p:spPr>
          <a:xfrm>
            <a:off x="8459640" y="649908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5990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2"/>
          <p:cNvSpPr/>
          <p:nvPr/>
        </p:nvSpPr>
        <p:spPr>
          <a:xfrm>
            <a:off x="0" y="260280"/>
            <a:ext cx="867564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码头工人以每天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30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吨的速度往一艘轮船上装载货物，把轮船装载完毕恰好用了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8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天时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由于遇到紧急情况船上的货物必须在不超过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内卸载完毕，那么平均每天至少要卸多少吨货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如果码头工人先以每天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的速度卸载两天，由于遇到紧急情况船上的货物必须在不超过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内卸载完毕，那么平均每天至少要卸多少吨货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4"/>
          <p:cNvSpPr txBox="1"/>
          <p:nvPr/>
        </p:nvSpPr>
        <p:spPr>
          <a:xfrm>
            <a:off x="395280" y="0"/>
            <a:ext cx="16225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7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做一做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2268360" y="333360"/>
            <a:ext cx="6553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课本  </a:t>
            </a:r>
            <a:r>
              <a:rPr b="1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P</a:t>
            </a:r>
            <a:r>
              <a:rPr b="1" lang="en-US" sz="48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61</a:t>
            </a:r>
            <a:r>
              <a:rPr b="1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L </a:t>
            </a:r>
            <a:r>
              <a:rPr b="1" lang="en-US" sz="48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3"/>
          <p:cNvSpPr/>
          <p:nvPr/>
        </p:nvSpPr>
        <p:spPr>
          <a:xfrm>
            <a:off x="810108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10800"/>
                </a:moveTo>
                <a:lnTo>
                  <a:pt x="18526" y="3794"/>
                </a:lnTo>
                <a:lnTo>
                  <a:pt x="1852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250920" y="170028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0" y="1484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2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某打印店要完成一批电脑打字任务，每天完成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75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页，需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8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天，设每天完成的页数为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y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，所需的天数为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x.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问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:y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与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是何种函数关系？若要求在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5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天内完成任务，每天至少要完成几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0" y="620640"/>
            <a:ext cx="8893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3.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某蓄水池的排水管每时排水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8m</a:t>
            </a:r>
            <a:r>
              <a:rPr b="1" lang="en-US" sz="4000" spc="-1" strike="noStrike" baseline="30000">
                <a:solidFill>
                  <a:srgbClr val="0033cc"/>
                </a:solidFill>
                <a:latin typeface="华文新魏"/>
                <a:ea typeface="华文新魏"/>
              </a:rPr>
              <a:t>3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,6h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可将满池水全部排空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蓄水池的容积是多少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468360" y="2637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解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蓄水池的容积为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:8×6=48(m</a:t>
            </a:r>
            <a:r>
              <a:rPr b="1" lang="en-US" sz="3200" spc="-1" strike="noStrike" baseline="30000">
                <a:solidFill>
                  <a:srgbClr val="3b812f"/>
                </a:solidFill>
                <a:latin typeface="华文新魏"/>
                <a:ea typeface="华文新魏"/>
              </a:rPr>
              <a:t>3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0" y="32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增加排水管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每时的排水量达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Q(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将满池水排空所需的时间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(h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如何变化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539640" y="43498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答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此时所需时间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t(h)</a:t>
            </a:r>
            <a:r>
              <a:rPr b="1" lang="zh-CN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将减少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179280" y="5084640"/>
            <a:ext cx="79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Q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之间的函数关系式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6"/>
          <p:cNvGrpSpPr/>
          <p:nvPr/>
        </p:nvGrpSpPr>
        <p:grpSpPr>
          <a:xfrm>
            <a:off x="250920" y="5589720"/>
            <a:ext cx="6624720" cy="1370880"/>
            <a:chOff x="250920" y="5589720"/>
            <a:chExt cx="6624720" cy="1370880"/>
          </a:xfrm>
        </p:grpSpPr>
        <p:sp>
          <p:nvSpPr>
            <p:cNvPr id="302" name="Text Box 10"/>
            <p:cNvSpPr/>
            <p:nvPr/>
          </p:nvSpPr>
          <p:spPr>
            <a:xfrm>
              <a:off x="250920" y="5791320"/>
              <a:ext cx="6624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解</a:t>
              </a:r>
              <a:r>
                <a:rPr b="1" lang="en-US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:t</a:t>
              </a:r>
              <a:r>
                <a:rPr b="1" lang="zh-CN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与</a:t>
              </a:r>
              <a:r>
                <a:rPr b="1" lang="en-US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Q</a:t>
              </a:r>
              <a:r>
                <a:rPr b="1" lang="zh-CN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之间的函数关系式为</a:t>
              </a:r>
              <a:r>
                <a:rPr b="1" lang="en-US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Object 11"/>
                <p:cNvSpPr txBox="1"/>
                <p:nvPr/>
              </p:nvSpPr>
              <p:spPr>
                <a:xfrm>
                  <a:off x="4930920" y="5589720"/>
                  <a:ext cx="93024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8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4" name="AutoShape 13"/>
          <p:cNvSpPr/>
          <p:nvPr/>
        </p:nvSpPr>
        <p:spPr>
          <a:xfrm>
            <a:off x="802800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WordArt 14"/>
          <p:cNvSpPr txBox="1"/>
          <p:nvPr/>
        </p:nvSpPr>
        <p:spPr>
          <a:xfrm>
            <a:off x="0" y="-17136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0" y="549360"/>
            <a:ext cx="9144000" cy="19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2.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某蓄水池的排水管每时排水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8m</a:t>
            </a:r>
            <a:r>
              <a:rPr b="1" lang="en-US" sz="4000" spc="-1" strike="noStrike" baseline="30000">
                <a:solidFill>
                  <a:srgbClr val="0033cc"/>
                </a:solidFill>
                <a:latin typeface="华文新魏"/>
                <a:ea typeface="华文新魏"/>
              </a:rPr>
              <a:t>3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,6h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可将满池水全部排空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准备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将满池水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每时的排水量至少为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755640" y="29242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=5h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,Q=48/5=9.6m</a:t>
            </a:r>
            <a:r>
              <a:rPr b="1" lang="en-US" sz="2800" spc="-1" strike="noStrike" baseline="30000">
                <a:solidFill>
                  <a:srgbClr val="3366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所以每时的排水量至少为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9.6m</a:t>
            </a:r>
            <a:r>
              <a:rPr b="1" lang="en-US" sz="2800" spc="-1" strike="noStrike" baseline="30000">
                <a:solidFill>
                  <a:srgbClr val="3366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684360" y="378936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排水管的最大排水量为每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最少多长时间可将满池水全部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755640" y="472428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Q=12(m</a:t>
            </a:r>
            <a:r>
              <a:rPr b="1" lang="en-US" sz="2800" spc="-1" strike="noStrike" baseline="30000">
                <a:solidFill>
                  <a:srgbClr val="3366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,t=48/12=4(h)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所以最少需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5h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可将满池水全部排空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684360" y="55897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函数图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图象请对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出直观解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和同伴交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5"/>
          <p:cNvSpPr/>
          <p:nvPr/>
        </p:nvSpPr>
        <p:spPr>
          <a:xfrm>
            <a:off x="759636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WordArt 16"/>
          <p:cNvSpPr txBox="1"/>
          <p:nvPr/>
        </p:nvSpPr>
        <p:spPr>
          <a:xfrm>
            <a:off x="0" y="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05:39:34Z</dcterms:created>
  <dc:creator>kejianyuan.com</dc:creator>
  <dc:description>kejianyuan.com</dc:description>
  <cp:keywords>kejianyuan.com</cp:keywords>
  <dc:language>en-US</dc:language>
  <cp:lastModifiedBy/>
  <dcterms:modified xsi:type="dcterms:W3CDTF">2014-09-10T16:29:36Z</dcterms:modified>
  <cp:revision>38</cp:revision>
  <dc:subject>人教版八年级数学（下）全套课件</dc:subject>
  <dc:title>人教版八年级数学（下）全套课件</dc:title>
</cp:coreProperties>
</file>