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DA0-AC36-4843-9785-DC68E0E6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DBC0-567D-4B4D-9D71-1FF715531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F4C-CDB4-4A40-A386-FBB990AE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715-7A6A-43B6-8227-3BE5A247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D61-23B7-4396-AF91-A352978F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633-A1BA-49A9-97A4-E57AD4E8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DFC3-C55D-4A49-8ED2-F229DF20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DFB8-E191-461C-A37C-5A1DD8D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91A2-4DFE-4291-A76A-6ED138B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0D09-6643-4AFB-87D5-9372857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CD2-3568-4226-8B47-2E74E94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80A-1ACA-454E-B189-F392319A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C537-61F0-4443-93E6-2785043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C79-E0D0-40C7-810D-978056D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3B2C-6883-4FB7-8F8D-93A9EB6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581D-F9FA-4D88-AEFE-C2564CA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2811-6176-4A92-869D-DC10D743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AAF-B790-4ACD-881F-E0E44055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6DD-C307-481C-8AC1-E2EB7E1D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6C02-0735-41AE-9E01-01A9EC43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F7CF-7480-4D47-A6B1-E1ECC6B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77AF-22FF-4664-9BC7-30386DC1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75EE-447E-498C-9D05-AA2FB212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9E56-BEC4-46D7-9B26-3B07960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C1C-CC35-4936-9FA1-3A277B05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2F02-EBC2-4B0D-B40A-39F5AB31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D14E-509C-44EA-8DC8-909BB06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68F7-1A1F-43DE-B0B5-9C23F2D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6A07-E0D6-4E5D-9D55-956BF84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2210-4D56-41F7-BCF1-C337DF8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7483-37EC-460C-A441-A993E477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41F1-8234-4EAD-909E-EA018102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AB3-33D9-4BE3-829E-E6728FA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516-1DB6-4305-A737-25A54BF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5BB-2070-4FD2-A5A0-B69C4B4D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EC8-BAC0-473D-BA24-C8C0208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DE2-0FC2-4A9B-AFBC-32219D1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B76-1729-4526-9653-20FFED5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36E7-208D-4DD6-940E-D58B79311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25E-88AA-459F-84BD-E26008F39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2AD-329B-44F9-AACD-743D16222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第二十章   数据的分析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20.1.2</a:t>
            </a:r>
            <a:r>
              <a:rPr b="0" lang="zh-CN" sz="5400" spc="-1" strike="noStrike">
                <a:solidFill>
                  <a:srgbClr val="ffffcc"/>
                </a:solidFill>
                <a:latin typeface="Arial"/>
              </a:rPr>
              <a:t>平均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北京市第八十中学   关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图片 5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6165720"/>
            <a:ext cx="2381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611280" y="692280"/>
            <a:ext cx="807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850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82692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用样本平均数估计总体平均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98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组、组中值及频数在表中的具体意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样本、总体、样本容量分别指例题中的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1628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能否利用组中值近似取代替一组数据中的平均值 ，若能“权”又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08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17654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7"/>
          <p:cNvSpPr/>
          <p:nvPr/>
        </p:nvSpPr>
        <p:spPr>
          <a:xfrm>
            <a:off x="2484360" y="494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某校为了了解学生作课外作业所用时间的情况，对学生作课外作业所用时间进行调查，下表是该校初二某班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名学生某一天做数学课外作业所用时间的情况统计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、第二组数据的组中值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、求该班学生平均每天做数学作业所用时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914480" y="1316160"/>
            <a:ext cx="5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55640" y="3141720"/>
          <a:ext cx="4537080" cy="3627360"/>
        </p:xfrm>
        <a:graphic>
          <a:graphicData uri="http://schemas.openxmlformats.org/drawingml/2006/table">
            <a:tbl>
              <a:tblPr/>
              <a:tblGrid>
                <a:gridCol w="3294000"/>
                <a:gridCol w="12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所用时间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t≤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30"/>
          <p:cNvSpPr/>
          <p:nvPr/>
        </p:nvSpPr>
        <p:spPr>
          <a:xfrm>
            <a:off x="5435640" y="51181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答案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8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84360" y="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种菜能手李大叔种植了一批新品种黄瓜．为了考察这种黄瓜的生长情况李大叔抽查了部分黄瓜株上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出的黄瓜根数得到右面的条形图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请估计这个新品种黄瓜平均每株结多少根黄瓜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0" y="3467160"/>
            <a:ext cx="5184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24000" y="47628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某养鱼户搞池塘养鱼已经三年，头一年放养鲢鱼苗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2000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尾，其成活率约为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％，在秋季捕捞时，捞出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尾鱼，称得每尾鱼得重量如下（单位：千克）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0.8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0.9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.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.3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0.8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0.9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.1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.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.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0.8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）根据样本平均数估计这池塘鱼得总常量时多少千克？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）如果把这池塘中得鲢鱼全部卖掉，其市场售价为每千克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元，那么那么能收入多少元？除去当年得投资成本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16000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元，第一年纯收入多少元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5:43:26Z</dcterms:created>
  <dc:creator>kejianyuan.com</dc:creator>
  <dc:description>kejianyuan.com</dc:description>
  <cp:keywords>kejianyuan.com</cp:keywords>
  <dc:language>en-US</dc:language>
  <cp:lastModifiedBy/>
  <dcterms:modified xsi:type="dcterms:W3CDTF">2014-09-10T16:27:20Z</dcterms:modified>
  <cp:revision>6</cp:revision>
  <dc:subject>人教版八年级数学（下）全套课件</dc:subject>
  <dc:title>人教版八年级数学（下）全套课件</dc:title>
</cp:coreProperties>
</file>