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71B-DB1C-4621-A7BE-7F9FF2C2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4FD-9E9B-4C38-BAC5-2BADBDFD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D2F-C947-43D0-903D-EB64BAEE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9E7-BE64-4D2F-A192-F532B032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32D7-222E-4608-8535-CA9894F0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F732-191B-42F0-8800-3581F138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7887-945D-458B-9868-1A10F470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0CD1-79EE-4F6C-95EE-4CB10925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319E-570E-40DD-A37D-320E145E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7BF3-D2C2-4408-A139-FD9D0AFF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6063-4F2B-40C1-A50E-864E0E6C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2D2-4EF9-49C6-A59C-B72260B7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7945-0F9B-438E-8616-0599D8E3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9E4B-573C-43EA-98A9-C15C00A1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52CA-59E7-4A3D-BAD3-EB6FEFC2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FA95-C3BA-493C-9623-3609817B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80E8-9FF9-4701-B928-43C1C674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C4583-E5B6-4981-8279-D00C36D5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A7514-4C46-45B1-93FB-3C4EFAFD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5186-5AF3-41C4-8D8B-CF90DDE2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8090-5DFA-479F-BC39-156EBA74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28FD-DF88-4663-BD42-AFD15C75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E90-C6B6-4D51-943B-403ED655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B701-BC30-4D5B-AC44-AA1B013D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0BBA-DA22-4240-8BC0-D3CD1DF2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99BC-E265-4009-AEF8-C7525FE1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64DF-DDDB-4A64-AFA6-10952D66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6572-E3A7-47B7-8647-192ADF49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FC77-2F59-4F89-9E96-3BA57BB8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C463-B894-48BA-A841-6CEF91B8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E972-F319-4608-BB24-9A1BA633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21DD6-C5C5-42E3-ADF4-B126BD30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D4F0-7F59-4B21-9476-4B6B3AA7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EAA-5452-47D5-8CD2-2DD6210F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3563-832B-43A7-9C7F-10646317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0B89F-0794-4E3B-8DB2-17794865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AE69-784A-40AB-9376-EBB25290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C650-DA65-4412-B5A4-95838FD2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4074E-5842-4078-B2B3-6483557F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8A57-5DBC-41AC-BDF1-A929C5FA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3E2FF-D727-4468-B9CB-6D2FC908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1766-341E-4074-8BA8-B3777820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AC33-0F5B-4BB1-85A1-7AC310BD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008-2C1A-4766-AFEF-4A5113FD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CD7-FA38-4B62-8AA8-6084CC89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105-43B1-4F23-A10C-6B625492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D4A-EFB7-437E-AA8D-994D86F0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3D6-BB2B-41F6-B44A-66BF57FF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D1A8-7A1B-4993-AE08-64E79CECD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F022-705C-469E-AE61-B33DF2D81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5CA1-F618-496E-8E15-926D5495F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3811-E0DA-459D-A2B0-73113DCEFB1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116000" y="2565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调查方法一：像这样为一定目的而全面的调查叫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普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例如人口普查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11280" y="3645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小知识：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人口普查是指在国家统一规定的时间内，按照统一的方法、统一的项目、统一的调查表和统一的标准，对全国人口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逐户逐人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进行的一次性调查登记。它包括对人口普查资料的搜集、数据汇总、资料评价、分析研究等全部过程。 </a:t>
            </a:r>
            <a:br>
              <a:rPr sz="2400"/>
            </a:b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250920" y="1484280"/>
            <a:ext cx="201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任务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8" name="WordArt 11"/>
          <p:cNvSpPr txBox="1"/>
          <p:nvPr/>
        </p:nvSpPr>
        <p:spPr>
          <a:xfrm>
            <a:off x="2411280" y="177336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调查我班所以同学的身高情况。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919680" y="2286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抽样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1763640" y="1844640"/>
            <a:ext cx="61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谈谈这堂课你的收获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5" name="AutoShape 6">
            <a:hlinkClick r:id="rId1" action="ppaction://hlinksldjump"/>
          </p:cNvPr>
          <p:cNvSpPr/>
          <p:nvPr/>
        </p:nvSpPr>
        <p:spPr>
          <a:xfrm>
            <a:off x="817236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WordArt 5"/>
          <p:cNvSpPr txBox="1"/>
          <p:nvPr/>
        </p:nvSpPr>
        <p:spPr>
          <a:xfrm>
            <a:off x="539640" y="62064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课后任务：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39640" y="1413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要了解我校同学中有多少学生知道父母的生日，请同学们设计调查方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9" name="Picture 8" descr="u=2088086157,2025069223&amp;gp=1"/>
          <p:cNvPicPr/>
          <p:nvPr/>
        </p:nvPicPr>
        <p:blipFill>
          <a:blip r:embed="rId3"/>
          <a:stretch/>
        </p:blipFill>
        <p:spPr>
          <a:xfrm>
            <a:off x="6443640" y="1052640"/>
            <a:ext cx="16207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1692360" y="2205000"/>
            <a:ext cx="597528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再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55640" y="1125360"/>
            <a:ext cx="741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知识窗：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人们在研究某个自然现象或社会现象时，往往会遇到不方便、不可能或不必要对所有的对象作调查的情况，于是从中抽取一部分对象作调查分析，这就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抽样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4" name="WordArt 6" descr="白色大理石"/>
          <p:cNvPicPr/>
          <p:nvPr/>
        </p:nvPicPr>
        <p:blipFill>
          <a:blip r:embed="rId1"/>
          <a:stretch/>
        </p:blipFill>
        <p:spPr>
          <a:xfrm>
            <a:off x="950760" y="1036800"/>
            <a:ext cx="6997680" cy="13222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7">
            <a:hlinkClick r:id="" action="ppaction://hlinkshowjump?jump=previousslide"/>
          </p:cNvPr>
          <p:cNvSpPr/>
          <p:nvPr/>
        </p:nvSpPr>
        <p:spPr>
          <a:xfrm>
            <a:off x="7885080" y="602136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1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1" name="Picture 2" descr="bj1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7545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143000" y="228600"/>
            <a:ext cx="5805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隶书"/>
              </a:rPr>
              <a:t>生活中的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小插曲</a:t>
            </a: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85800" y="1371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“孩子，再帮妈妈买鸡蛋去”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5800" y="19051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“这次注意点，上次你买的鸡蛋有好几个是坏的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85800" y="23623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……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85800" y="28954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孩子高兴地跑回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85800" y="3352680"/>
            <a:ext cx="5715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孩子：“妈妈，这次的鸡蛋全是好的，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每个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都打开看过了”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5800" y="41911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“啊！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……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9" name="Picture 10" descr="107360_1_small_jpg"/>
          <p:cNvPicPr/>
          <p:nvPr/>
        </p:nvPicPr>
        <p:blipFill>
          <a:blip r:embed="rId2"/>
          <a:stretch/>
        </p:blipFill>
        <p:spPr>
          <a:xfrm>
            <a:off x="6553080" y="3873600"/>
            <a:ext cx="1828800" cy="146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121701"/>
          <p:cNvPicPr/>
          <p:nvPr/>
        </p:nvPicPr>
        <p:blipFill>
          <a:blip r:embed="rId3"/>
          <a:stretch/>
        </p:blipFill>
        <p:spPr>
          <a:xfrm>
            <a:off x="6553080" y="2359080"/>
            <a:ext cx="1828800" cy="1450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2"/>
          <p:cNvSpPr/>
          <p:nvPr/>
        </p:nvSpPr>
        <p:spPr>
          <a:xfrm>
            <a:off x="684360" y="544500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注：这种调查方法具有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破坏性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，一般不采取普查的方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11280" y="692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要了解全国初中生的身高情况，明明、红红、丁丁三位同学设计了下面三种调查方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4" name="Picture 5" descr="5200541174843"/>
          <p:cNvPicPr/>
          <p:nvPr/>
        </p:nvPicPr>
        <p:blipFill>
          <a:blip r:embed="rId1"/>
          <a:stretch/>
        </p:blipFill>
        <p:spPr>
          <a:xfrm>
            <a:off x="684360" y="1484280"/>
            <a:ext cx="41904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1187280" y="184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明明：我将全国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所有的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初中生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6" name="Picture 7" descr="11200541173909"/>
          <p:cNvPicPr/>
          <p:nvPr/>
        </p:nvPicPr>
        <p:blipFill>
          <a:blip r:embed="rId2"/>
          <a:stretch/>
        </p:blipFill>
        <p:spPr>
          <a:xfrm>
            <a:off x="684360" y="2637000"/>
            <a:ext cx="438120" cy="971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1116000" y="292428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红红：我只要对飞云镇中学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一所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学校的学生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8" name="Picture 9" descr="14200541144012"/>
          <p:cNvPicPr/>
          <p:nvPr/>
        </p:nvPicPr>
        <p:blipFill>
          <a:blip r:embed="rId3"/>
          <a:stretch/>
        </p:blipFill>
        <p:spPr>
          <a:xfrm>
            <a:off x="539640" y="3645000"/>
            <a:ext cx="503280" cy="100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1116000" y="3573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丁丁：我要在全国按东、西、南、北、中分片，每个区域各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抽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所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中学，对这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所中学的全体初中生（共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500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名）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539640" y="4724280"/>
            <a:ext cx="799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问题：（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明明采用什么调查方法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332000" y="5084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红红、丁丁的调查方 法有什么共同特点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332000" y="5516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你认为采用哪一种调查方法比较合适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WordArt 14"/>
          <p:cNvSpPr txBox="1"/>
          <p:nvPr/>
        </p:nvSpPr>
        <p:spPr>
          <a:xfrm>
            <a:off x="468360" y="620640"/>
            <a:ext cx="122400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4" name="AutoShape 15">
            <a:hlinkClick r:id="" action="ppaction://hlinkshowjump?jump=lastslide"/>
          </p:cNvPr>
          <p:cNvSpPr/>
          <p:nvPr/>
        </p:nvSpPr>
        <p:spPr>
          <a:xfrm>
            <a:off x="8172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258920" y="227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属于普查，工作量太大，不方便，没有必要</a:t>
            </a: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332000" y="328464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这种抽样调查方法缺乏普遍性，不合适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2411280" y="429264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这种抽样调查方法具有可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操作性</a:t>
            </a: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及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代表性</a:t>
            </a: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468360" y="549360"/>
            <a:ext cx="20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95280" y="162864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指出下列调查哪些应作普查，哪些应作抽样调查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68360" y="2276640"/>
            <a:ext cx="806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日光灯管厂要检测一批灯管的寿命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了解居民对废电池的处理情况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了解现代大学生的主要娱乐方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防治某种突发性传染病期间，某校对学生测量体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68360" y="436572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一锅水饺的味道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68360" y="4797360"/>
            <a:ext cx="448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旅客上飞机前的安全检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3348000" y="33336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24000" y="404640"/>
            <a:ext cx="82072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要了解全国初中生的身高情况，丁丁同学设计了下面的调查方案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①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按东、西、南、北、中分片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②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每个区域各抽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所中学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③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对这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所中学的全部初中生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5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人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0" y="270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我们把所要考察的对象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全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叫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总体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0" y="3141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把组成总体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每一个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考察对象叫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个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0" y="3645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从总体中抽取出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一部分个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集体叫做一个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样本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4920" y="4221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样本中个体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数目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叫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样本的容量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24000" y="465300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(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注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样本的容量是个体的数目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所以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不带单位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6084720" y="2637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全国初中生的身高</a:t>
            </a:r>
            <a:r>
              <a:rPr b="1" lang="zh-CN" sz="2000" spc="-1" strike="noStrike">
                <a:solidFill>
                  <a:srgbClr val="33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6084720" y="314172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每一个初中生的身高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7020000" y="37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抽取的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500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名学生身高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003640" y="4292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1500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7" name="Picture 19" descr="104494_083948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5865840" y="1773360"/>
            <a:ext cx="3278160" cy="5084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790560" y="47628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日，“蒙牛城市之间”来温海选，中央电视台为了调查“蒙牛城市之间”节目在我市满意程度 ，请同学帮忙设计调查方案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WordArt 17"/>
          <p:cNvSpPr txBox="1"/>
          <p:nvPr/>
        </p:nvSpPr>
        <p:spPr>
          <a:xfrm>
            <a:off x="0" y="0"/>
            <a:ext cx="1467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例题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0" name="WordArt 22"/>
          <p:cNvSpPr txBox="1"/>
          <p:nvPr/>
        </p:nvSpPr>
        <p:spPr>
          <a:xfrm>
            <a:off x="0" y="191628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0" y="2924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一。试比较普查和抽样调查的优缺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0" y="51577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二。如何提高抽样调查的准确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0" y="3357720"/>
            <a:ext cx="5759280" cy="398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普查的准确度高，但工作量大。一般”不方便“或”不必要“的事件调查都不会采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0" y="4149720"/>
            <a:ext cx="5761080" cy="398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抽样调查可以减少工作量，对事件的调查快捷、方便，但准确度没有普查高，且对重大事件，如”传染病的检查“、”人口调查“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0" y="5661000"/>
            <a:ext cx="5834160" cy="398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抽样应具有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代表性</a:t>
            </a: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、样本要有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足够的容量</a:t>
            </a: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等基本原则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AutoShape 28">
            <a:hlinkClick r:id="rId2" action="ppaction://hlinksldjump"/>
          </p:cNvPr>
          <p:cNvSpPr/>
          <p:nvPr/>
        </p:nvSpPr>
        <p:spPr>
          <a:xfrm>
            <a:off x="8423280" y="6354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395280" y="260280"/>
            <a:ext cx="201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合作学习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556000" y="836640"/>
            <a:ext cx="532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50920" y="836640"/>
            <a:ext cx="8642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瑞安市今年约有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5 0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学生参加初中毕业升学考试。为了了解数学考试成绩，从中抽取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份学生的答卷来统计合格率、优秀率和平均分，问应怎样取这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份答卷，使所了解的数据具有代表性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抽样在卷头拆封前进行（即看不见考生的姓名、所在学校、准考证号码等；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每个考场有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考生，每个考场考生的答卷装订成一叠，包装袋写有考场编号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参加考试的同一所学校的各个考场连续编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95280" y="3789360"/>
            <a:ext cx="813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第（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）条信息表明不能按所在学校或准考证号码抽样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395280" y="414972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第（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）条信息表明有考场约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25000÷25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（个），也就是约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答卷，从中抽取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份学生答卷也就是从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试卷中抽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答卷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95280" y="508464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第（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）条信息说明抽取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答卷时，不能根据试卷袋的序号连续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抽取，连续抽取可能使抽取的答卷集中在少数学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395280" y="569916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注意：抽样时既要抽足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袋答卷，又要使抽取的样本具有代表性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随机性，普遍性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468360" y="333360"/>
            <a:ext cx="194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一练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468360" y="981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为了了解学生对学校伙食的满意程度，制定了以下方案，你认为哪种最好？（       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女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11280" y="21337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男生和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女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611280" y="2492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七年级、八年级和九年级各个年级的男生和女生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11280" y="2924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七年级、八年级和九年级各个年级的男生和女生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11280" y="4797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要了解市民对自来水水质的满意程度，是否需要问遍每个市民？对一个居民区的调查结果是否能代表全市市民的意见？你认为怎样的抽样调查比较合理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611280" y="33577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某厂家在某城市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个经销该厂产品的大商场进行调查，发现该厂产品的销售量占这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个大商场同类产品销售量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40%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，于是该厂声称，他们的产品占国内同类产品销售量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40%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你认为这种宣传可信吗？为什么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7989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  <a:ea typeface="方正姚体"/>
              </a:rPr>
              <a:t>4</a:t>
            </a:r>
            <a:r>
              <a:rPr b="1" lang="zh-CN" sz="5400" spc="-1" strike="noStrike">
                <a:solidFill>
                  <a:srgbClr val="00cc99"/>
                </a:solidFill>
                <a:latin typeface="Arial"/>
                <a:ea typeface="方正姚体"/>
              </a:rPr>
              <a:t>、探究提高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84328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9640" y="1844640"/>
            <a:ext cx="8280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猪八戒卖西瓜的故事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猪八戒挑了一担西瓜去卖．有人问：你的西瓜甜吗？猪八戒说：当然了，个个都甜．那人问：你是怎么确定的？猪八戒说：我每个都尝了一遍．那人转身就走了．猪八戒顶着烈日，卖了一天的瓜，但一个也没卖掉，猪八戒实在想不通，为什么他的西瓜会卖不掉？你能帮猪八戒想想为什么吗？如果是你去卖西瓜，你会怎样告诉顾客你的西瓜是甜的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8" name="Picture 6" descr="57"/>
          <p:cNvPicPr/>
          <p:nvPr/>
        </p:nvPicPr>
        <p:blipFill>
          <a:blip r:embed="rId1"/>
          <a:stretch/>
        </p:blipFill>
        <p:spPr>
          <a:xfrm>
            <a:off x="500364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HaoSc19_806_200524224742371"/>
          <p:cNvPicPr/>
          <p:nvPr/>
        </p:nvPicPr>
        <p:blipFill>
          <a:blip r:embed="rId2"/>
          <a:stretch/>
        </p:blipFill>
        <p:spPr>
          <a:xfrm>
            <a:off x="0" y="2781360"/>
            <a:ext cx="714240" cy="57132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9"/>
          <p:cNvGrpSpPr/>
          <p:nvPr/>
        </p:nvGrpSpPr>
        <p:grpSpPr>
          <a:xfrm>
            <a:off x="6588000" y="549360"/>
            <a:ext cx="2232000" cy="1872720"/>
            <a:chOff x="6588000" y="549360"/>
            <a:chExt cx="2232000" cy="1872720"/>
          </a:xfrm>
        </p:grpSpPr>
        <p:pic>
          <p:nvPicPr>
            <p:cNvPr id="251" name="Picture 8" descr="u=4202495749,2245564389&amp;gp=1"/>
            <p:cNvPicPr/>
            <p:nvPr/>
          </p:nvPicPr>
          <p:blipFill>
            <a:blip r:embed="rId3"/>
            <a:stretch/>
          </p:blipFill>
          <p:spPr>
            <a:xfrm>
              <a:off x="6588000" y="549360"/>
              <a:ext cx="2106720" cy="18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3" descr="u=827787602,3667177475&amp;gp=2"/>
            <p:cNvPicPr/>
            <p:nvPr/>
          </p:nvPicPr>
          <p:blipFill>
            <a:blip r:embed="rId4"/>
            <a:stretch/>
          </p:blipFill>
          <p:spPr>
            <a:xfrm>
              <a:off x="7812000" y="14144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0:10:27Z</dcterms:created>
  <dc:creator>kejianyuan.com</dc:creator>
  <dc:description>kejianyuan.com</dc:description>
  <cp:keywords>kejianyuan.com</cp:keywords>
  <dc:language>en-US</dc:language>
  <cp:lastModifiedBy/>
  <dcterms:modified xsi:type="dcterms:W3CDTF">2014-09-10T16:20:07Z</dcterms:modified>
  <cp:revision>13</cp:revision>
  <dc:subject>人教版八年级数学（下）全套课件</dc:subject>
  <dc:title>人教版八年级数学（下）全套课件</dc:title>
</cp:coreProperties>
</file>