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C14-F576-4264-9A3D-00C7042B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F9F-08A9-4344-88F9-15793AA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B95-2F21-409E-B1F4-E040A699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3C0-F2B9-4FBB-A858-E59D92FA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523-EF05-4672-ACFD-17726CF6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823-6738-4095-AFC0-EC8ADFF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F04-E3CA-4141-82C1-F5086DFB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CE0-546B-4CAB-AC8F-A57E0FA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A0C-0C82-4467-8456-160ACCB6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39C6-FE59-44A9-9224-C07C2772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1998-4081-4D49-8971-FD61B47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8B6-E4B0-4E95-8059-F920E7C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1D9F-90FF-40BC-B0D4-290BE59C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57F4-D89C-4782-8851-6D82CFF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7A5-070A-45A4-A89F-7757537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939-EF5C-41C0-A887-2B1340E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1F2-B409-46A5-B835-A4A3AEB3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2A2B-279D-424E-A613-C42D147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8DB9-BFF5-49A8-8EBA-3114E0D3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3F7E-8D49-43FB-A624-54D3808B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8746-1EBB-446A-8B59-3580F80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56DB-81D7-430C-8EF2-9DB73FF9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F16-B51D-49BB-B852-4E45246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2226-CA21-428C-9E99-54DF05A1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0C1A-5984-4C85-98AF-E550662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7AD4-2EAD-4FAC-86FC-9CBC63B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A512-A835-4BB0-B148-145FF9AC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EDFA-8F02-405D-9339-9BCCBF90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8E0A-3063-4E9B-8B74-7178A4B4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C012-D9B0-4550-B99F-D8BA535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6D0-3659-466C-96AC-1D13B7D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A91-AC6E-48F3-90C5-4FD01B05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8EB-2584-490D-A0BE-68ED94C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6F9-098D-405E-B7F5-27C3C44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7B1-9953-44BD-AC42-798A79E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F79-3F74-48D4-817E-D78577D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83E0-4E3C-4C8F-905C-CE2544F99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4BB-74D4-4EDB-9341-FB68B072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90E-9BE0-4764-9D64-C04B191E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 rot="10795200">
            <a:off x="957240" y="4771800"/>
            <a:ext cx="1093680" cy="1912680"/>
          </a:xfrm>
          <a:prstGeom prst="rtTriangle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 flipH="1" rot="10804800">
            <a:off x="7219440" y="4771800"/>
            <a:ext cx="1094040" cy="19126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2851200" y="1552680"/>
            <a:ext cx="3308400" cy="18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宋体"/>
              </a:rPr>
              <a:t>梯形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984400" y="3463920"/>
            <a:ext cx="39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件制作：高  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星空.MP3" descr=""/>
          <p:cNvPicPr/>
          <p:nvPr/>
        </p:nvPicPr>
        <p:blipFill>
          <a:blip r:embed="rId1"/>
          <a:stretch/>
        </p:blipFill>
        <p:spPr>
          <a:xfrm>
            <a:off x="8745480" y="6662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5120" y="5595480"/>
            <a:ext cx="894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结论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等腰梯形的两条对角线相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052"/>
          <p:cNvSpPr/>
          <p:nvPr/>
        </p:nvSpPr>
        <p:spPr>
          <a:xfrm rot="10800000">
            <a:off x="2705040" y="2975040"/>
            <a:ext cx="3733920" cy="2209680"/>
          </a:xfrm>
          <a:custGeom>
            <a:avLst/>
            <a:gdLst>
              <a:gd name="textAreaLeft" fmla="*/ 777960 w 3733920"/>
              <a:gd name="textAreaRight" fmla="*/ 2955960 w 3733920"/>
              <a:gd name="textAreaTop" fmla="*/ 460080 h 2209680"/>
              <a:gd name="textAreaBottom" fmla="*/ 17496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053"/>
          <p:cNvSpPr/>
          <p:nvPr/>
        </p:nvSpPr>
        <p:spPr>
          <a:xfrm>
            <a:off x="2717640" y="21621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54"/>
          <p:cNvSpPr/>
          <p:nvPr/>
        </p:nvSpPr>
        <p:spPr>
          <a:xfrm>
            <a:off x="1676520" y="47721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55"/>
          <p:cNvSpPr/>
          <p:nvPr/>
        </p:nvSpPr>
        <p:spPr>
          <a:xfrm>
            <a:off x="6680160" y="4815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5000" y="2108160"/>
            <a:ext cx="99072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2093"/>
          <p:cNvGrpSpPr/>
          <p:nvPr/>
        </p:nvGrpSpPr>
        <p:grpSpPr>
          <a:xfrm>
            <a:off x="2705040" y="2985840"/>
            <a:ext cx="3733920" cy="2198880"/>
            <a:chOff x="2705040" y="2985840"/>
            <a:chExt cx="3733920" cy="2198880"/>
          </a:xfrm>
        </p:grpSpPr>
        <p:sp>
          <p:nvSpPr>
            <p:cNvPr id="262" name="Line 2058"/>
            <p:cNvSpPr/>
            <p:nvPr/>
          </p:nvSpPr>
          <p:spPr>
            <a:xfrm>
              <a:off x="3608280" y="2986200"/>
              <a:ext cx="2830680" cy="2198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059"/>
            <p:cNvSpPr/>
            <p:nvPr/>
          </p:nvSpPr>
          <p:spPr>
            <a:xfrm flipV="1">
              <a:off x="2705040" y="2985840"/>
              <a:ext cx="2781360" cy="2198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2062"/>
          <p:cNvSpPr/>
          <p:nvPr/>
        </p:nvSpPr>
        <p:spPr>
          <a:xfrm>
            <a:off x="388440" y="142920"/>
            <a:ext cx="787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在梯形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，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D∥BC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=DC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点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E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上，且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E=F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那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BE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CF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有什么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系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67"/>
          <p:cNvSpPr/>
          <p:nvPr/>
        </p:nvSpPr>
        <p:spPr>
          <a:xfrm>
            <a:off x="2705040" y="5184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2078"/>
          <p:cNvGrpSpPr/>
          <p:nvPr/>
        </p:nvGrpSpPr>
        <p:grpSpPr>
          <a:xfrm>
            <a:off x="2705040" y="2935440"/>
            <a:ext cx="3683160" cy="2237760"/>
            <a:chOff x="2705040" y="2935440"/>
            <a:chExt cx="3683160" cy="2237760"/>
          </a:xfrm>
        </p:grpSpPr>
        <p:sp>
          <p:nvSpPr>
            <p:cNvPr id="267" name="Line 2068"/>
            <p:cNvSpPr/>
            <p:nvPr/>
          </p:nvSpPr>
          <p:spPr>
            <a:xfrm flipV="1">
              <a:off x="2705040" y="2935440"/>
              <a:ext cx="1446120" cy="22377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069"/>
            <p:cNvSpPr/>
            <p:nvPr/>
          </p:nvSpPr>
          <p:spPr>
            <a:xfrm flipH="1" flipV="1">
              <a:off x="4941720" y="2935440"/>
              <a:ext cx="1446480" cy="22377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2084"/>
          <p:cNvGrpSpPr/>
          <p:nvPr/>
        </p:nvGrpSpPr>
        <p:grpSpPr>
          <a:xfrm>
            <a:off x="2705040" y="2060640"/>
            <a:ext cx="3709800" cy="3124080"/>
            <a:chOff x="2705040" y="2060640"/>
            <a:chExt cx="3709800" cy="3124080"/>
          </a:xfrm>
        </p:grpSpPr>
        <p:grpSp>
          <p:nvGrpSpPr>
            <p:cNvPr id="270" name="Group 2081"/>
            <p:cNvGrpSpPr/>
            <p:nvPr/>
          </p:nvGrpSpPr>
          <p:grpSpPr>
            <a:xfrm>
              <a:off x="2705040" y="2975040"/>
              <a:ext cx="3709800" cy="2209680"/>
              <a:chOff x="2705040" y="2975040"/>
              <a:chExt cx="3709800" cy="2209680"/>
            </a:xfrm>
          </p:grpSpPr>
          <p:sp>
            <p:nvSpPr>
              <p:cNvPr id="271" name="Line 2063"/>
              <p:cNvSpPr/>
              <p:nvPr/>
            </p:nvSpPr>
            <p:spPr>
              <a:xfrm flipV="1">
                <a:off x="2705040" y="2975040"/>
                <a:ext cx="1298520" cy="220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64"/>
              <p:cNvSpPr/>
              <p:nvPr/>
            </p:nvSpPr>
            <p:spPr>
              <a:xfrm flipH="1" flipV="1">
                <a:off x="5116320" y="2975040"/>
                <a:ext cx="1298520" cy="220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082"/>
            <p:cNvGrpSpPr/>
            <p:nvPr/>
          </p:nvGrpSpPr>
          <p:grpSpPr>
            <a:xfrm>
              <a:off x="3584520" y="2060640"/>
              <a:ext cx="2473560" cy="825120"/>
              <a:chOff x="3584520" y="2060640"/>
              <a:chExt cx="2473560" cy="825120"/>
            </a:xfrm>
          </p:grpSpPr>
          <p:sp>
            <p:nvSpPr>
              <p:cNvPr id="274" name="Text Box 2072"/>
              <p:cNvSpPr/>
              <p:nvPr/>
            </p:nvSpPr>
            <p:spPr>
              <a:xfrm>
                <a:off x="3584520" y="20606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73"/>
              <p:cNvSpPr/>
              <p:nvPr/>
            </p:nvSpPr>
            <p:spPr>
              <a:xfrm>
                <a:off x="4915080" y="20606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F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Group 2079"/>
          <p:cNvGrpSpPr/>
          <p:nvPr/>
        </p:nvGrpSpPr>
        <p:grpSpPr>
          <a:xfrm>
            <a:off x="2730600" y="2884320"/>
            <a:ext cx="3628440" cy="2238120"/>
            <a:chOff x="2730600" y="2884320"/>
            <a:chExt cx="3628440" cy="2238120"/>
          </a:xfrm>
        </p:grpSpPr>
        <p:sp>
          <p:nvSpPr>
            <p:cNvPr id="277" name="Line 2070"/>
            <p:cNvSpPr/>
            <p:nvPr/>
          </p:nvSpPr>
          <p:spPr>
            <a:xfrm flipV="1">
              <a:off x="2730600" y="2884320"/>
              <a:ext cx="1595160" cy="22269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077"/>
            <p:cNvSpPr/>
            <p:nvPr/>
          </p:nvSpPr>
          <p:spPr>
            <a:xfrm flipH="1" flipV="1">
              <a:off x="4763880" y="2895480"/>
              <a:ext cx="1595160" cy="22269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2086"/>
          <p:cNvGrpSpPr/>
          <p:nvPr/>
        </p:nvGrpSpPr>
        <p:grpSpPr>
          <a:xfrm>
            <a:off x="2705040" y="2151000"/>
            <a:ext cx="3683160" cy="3033000"/>
            <a:chOff x="2705040" y="2151000"/>
            <a:chExt cx="3683160" cy="3033000"/>
          </a:xfrm>
        </p:grpSpPr>
        <p:grpSp>
          <p:nvGrpSpPr>
            <p:cNvPr id="280" name="Group 2080"/>
            <p:cNvGrpSpPr/>
            <p:nvPr/>
          </p:nvGrpSpPr>
          <p:grpSpPr>
            <a:xfrm>
              <a:off x="2705040" y="2923920"/>
              <a:ext cx="3683160" cy="2260080"/>
              <a:chOff x="2705040" y="2923920"/>
              <a:chExt cx="3683160" cy="2260080"/>
            </a:xfrm>
          </p:grpSpPr>
          <p:sp>
            <p:nvSpPr>
              <p:cNvPr id="281" name="Line 2065"/>
              <p:cNvSpPr/>
              <p:nvPr/>
            </p:nvSpPr>
            <p:spPr>
              <a:xfrm flipV="1">
                <a:off x="2705040" y="2935080"/>
                <a:ext cx="1841400" cy="2248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066"/>
              <p:cNvSpPr/>
              <p:nvPr/>
            </p:nvSpPr>
            <p:spPr>
              <a:xfrm flipH="1" flipV="1">
                <a:off x="4546440" y="2923920"/>
                <a:ext cx="1841760" cy="2248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2085"/>
            <p:cNvSpPr/>
            <p:nvPr/>
          </p:nvSpPr>
          <p:spPr>
            <a:xfrm>
              <a:off x="4282920" y="21510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宋体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089"/>
          <p:cNvGrpSpPr/>
          <p:nvPr/>
        </p:nvGrpSpPr>
        <p:grpSpPr>
          <a:xfrm>
            <a:off x="2668680" y="2895120"/>
            <a:ext cx="3746520" cy="2256120"/>
            <a:chOff x="2668680" y="2895120"/>
            <a:chExt cx="3746520" cy="2256120"/>
          </a:xfrm>
        </p:grpSpPr>
        <p:sp>
          <p:nvSpPr>
            <p:cNvPr id="285" name="Line 2087"/>
            <p:cNvSpPr/>
            <p:nvPr/>
          </p:nvSpPr>
          <p:spPr>
            <a:xfrm flipV="1">
              <a:off x="2668680" y="2895120"/>
              <a:ext cx="2246400" cy="22273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088"/>
            <p:cNvSpPr/>
            <p:nvPr/>
          </p:nvSpPr>
          <p:spPr>
            <a:xfrm flipH="1" flipV="1">
              <a:off x="4168800" y="2923920"/>
              <a:ext cx="2246400" cy="22273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92"/>
          <p:cNvGrpSpPr/>
          <p:nvPr/>
        </p:nvGrpSpPr>
        <p:grpSpPr>
          <a:xfrm>
            <a:off x="2730600" y="2884320"/>
            <a:ext cx="3681360" cy="2300040"/>
            <a:chOff x="2730600" y="2884320"/>
            <a:chExt cx="3681360" cy="2300040"/>
          </a:xfrm>
        </p:grpSpPr>
        <p:sp>
          <p:nvSpPr>
            <p:cNvPr id="288" name="Line 2090"/>
            <p:cNvSpPr/>
            <p:nvPr/>
          </p:nvSpPr>
          <p:spPr>
            <a:xfrm flipH="1" flipV="1">
              <a:off x="3963960" y="2923920"/>
              <a:ext cx="2448000" cy="22604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091"/>
            <p:cNvSpPr/>
            <p:nvPr/>
          </p:nvSpPr>
          <p:spPr>
            <a:xfrm flipV="1">
              <a:off x="2730600" y="2884320"/>
              <a:ext cx="2448000" cy="22608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evt="end">
                                        <p:tn val="232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5120" y="5595840"/>
            <a:ext cx="894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结论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等腰梯形的两条对角线相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 rot="10800000">
            <a:off x="2705040" y="2975040"/>
            <a:ext cx="3733920" cy="2209680"/>
          </a:xfrm>
          <a:custGeom>
            <a:avLst/>
            <a:gdLst>
              <a:gd name="textAreaLeft" fmla="*/ 777960 w 3733920"/>
              <a:gd name="textAreaRight" fmla="*/ 2955960 w 3733920"/>
              <a:gd name="textAreaTop" fmla="*/ 460080 h 2209680"/>
              <a:gd name="textAreaBottom" fmla="*/ 17496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717640" y="21621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676520" y="47721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680160" y="4815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715000" y="2108160"/>
            <a:ext cx="9907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2705040" y="2985840"/>
            <a:ext cx="3733920" cy="2198880"/>
            <a:chOff x="2705040" y="2985840"/>
            <a:chExt cx="3733920" cy="2198880"/>
          </a:xfrm>
        </p:grpSpPr>
        <p:sp>
          <p:nvSpPr>
            <p:cNvPr id="299" name="Line 11"/>
            <p:cNvSpPr/>
            <p:nvPr/>
          </p:nvSpPr>
          <p:spPr>
            <a:xfrm>
              <a:off x="3608280" y="2986200"/>
              <a:ext cx="2830680" cy="2198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 flipV="1">
              <a:off x="2705040" y="2985840"/>
              <a:ext cx="2781360" cy="2198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Text Box 13"/>
          <p:cNvSpPr/>
          <p:nvPr/>
        </p:nvSpPr>
        <p:spPr>
          <a:xfrm>
            <a:off x="566280" y="142920"/>
            <a:ext cx="787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在梯形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，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D∥BC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=DC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点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E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上，且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E=F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那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BE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CF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有什么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系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2705040" y="5184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40"/>
          <p:cNvSpPr/>
          <p:nvPr/>
        </p:nvSpPr>
        <p:spPr>
          <a:xfrm>
            <a:off x="3063960" y="4843440"/>
            <a:ext cx="169920" cy="395280"/>
          </a:xfrm>
          <a:custGeom>
            <a:avLst/>
            <a:gdLst>
              <a:gd name="textAreaLeft" fmla="*/ 0 w 169920"/>
              <a:gd name="textAreaRight" fmla="*/ 170280 w 169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07" h="249">
                <a:moveTo>
                  <a:pt x="0" y="0"/>
                </a:moveTo>
                <a:cubicBezTo>
                  <a:pt x="40" y="42"/>
                  <a:pt x="81" y="84"/>
                  <a:pt x="94" y="125"/>
                </a:cubicBezTo>
                <a:cubicBezTo>
                  <a:pt x="107" y="166"/>
                  <a:pt x="92" y="207"/>
                  <a:pt x="78" y="24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41"/>
          <p:cNvSpPr/>
          <p:nvPr/>
        </p:nvSpPr>
        <p:spPr>
          <a:xfrm flipH="1">
            <a:off x="5757840" y="4819680"/>
            <a:ext cx="169920" cy="395280"/>
          </a:xfrm>
          <a:custGeom>
            <a:avLst/>
            <a:gdLst>
              <a:gd name="textAreaLeft" fmla="*/ 360 w 169920"/>
              <a:gd name="textAreaRight" fmla="*/ 170640 w 169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07" h="249">
                <a:moveTo>
                  <a:pt x="0" y="0"/>
                </a:moveTo>
                <a:cubicBezTo>
                  <a:pt x="40" y="42"/>
                  <a:pt x="81" y="84"/>
                  <a:pt x="94" y="125"/>
                </a:cubicBezTo>
                <a:cubicBezTo>
                  <a:pt x="107" y="166"/>
                  <a:pt x="92" y="207"/>
                  <a:pt x="78" y="24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3319560" y="478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5397840" y="470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4"/>
          <p:cNvSpPr/>
          <p:nvPr/>
        </p:nvSpPr>
        <p:spPr>
          <a:xfrm>
            <a:off x="4232160" y="36702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5"/>
          <p:cNvSpPr/>
          <p:nvPr/>
        </p:nvSpPr>
        <p:spPr>
          <a:xfrm>
            <a:off x="0" y="0"/>
            <a:ext cx="91440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6"/>
          <p:cNvSpPr/>
          <p:nvPr/>
        </p:nvSpPr>
        <p:spPr>
          <a:xfrm>
            <a:off x="372960" y="0"/>
            <a:ext cx="90759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腰梯形的两条对角线将它分成的三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中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个等腰三角形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2102760" y="839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6349320" y="839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84120" y="434880"/>
            <a:ext cx="78948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在梯形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中，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B∥DC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B=13cm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C=16cm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D=10cm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，另一腰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C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的取值范围是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"/>
          <p:cNvSpPr/>
          <p:nvPr/>
        </p:nvSpPr>
        <p:spPr>
          <a:xfrm>
            <a:off x="2692440" y="3743280"/>
            <a:ext cx="4821120" cy="204804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5040" h="1968">
                <a:moveTo>
                  <a:pt x="1104" y="0"/>
                </a:moveTo>
                <a:lnTo>
                  <a:pt x="3072" y="0"/>
                </a:lnTo>
                <a:lnTo>
                  <a:pt x="5040" y="1968"/>
                </a:lnTo>
                <a:lnTo>
                  <a:pt x="0" y="1968"/>
                </a:lnTo>
                <a:lnTo>
                  <a:pt x="1104" y="0"/>
                </a:lnTo>
                <a:close/>
              </a:path>
            </a:pathLst>
          </a:custGeom>
          <a:solidFill>
            <a:srgbClr val="0000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016000" y="5378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5506920" y="29192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59000" y="29192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7513560" y="5378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3600" y="507600"/>
            <a:ext cx="764388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如图：小明从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处出发经过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又回到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处，问⑴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处到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处的距离是多少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？⑵请你利用现有图形，改编成另一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6446880" y="496728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1444680" y="3182760"/>
            <a:ext cx="4881600" cy="2302200"/>
          </a:xfrm>
          <a:custGeom>
            <a:avLst/>
            <a:gdLst>
              <a:gd name="textAreaLeft" fmla="*/ 0 w 4881600"/>
              <a:gd name="textAreaRight" fmla="*/ 4881960 w 4881600"/>
              <a:gd name="textAreaTop" fmla="*/ 0 h 2302200"/>
              <a:gd name="textAreaBottom" fmla="*/ 2302560 h 2302200"/>
            </a:gdLst>
            <a:ahLst/>
            <a:rect l="textAreaLeft" t="textAreaTop" r="textAreaRight" b="textAreaBottom"/>
            <a:pathLst>
              <a:path w="2448" h="1536">
                <a:moveTo>
                  <a:pt x="0" y="0"/>
                </a:moveTo>
                <a:lnTo>
                  <a:pt x="0" y="1536"/>
                </a:lnTo>
                <a:lnTo>
                  <a:pt x="2448" y="1536"/>
                </a:lnTo>
                <a:lnTo>
                  <a:pt x="12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944880" y="270360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985680" y="560880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1120" y="270360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81160" y="428616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744560" y="270360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203640" y="57196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"/>
          <p:cNvSpPr/>
          <p:nvPr/>
        </p:nvSpPr>
        <p:spPr>
          <a:xfrm flipH="1">
            <a:off x="1444680" y="3220920"/>
            <a:ext cx="146160" cy="123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3"/>
          <p:cNvSpPr/>
          <p:nvPr/>
        </p:nvSpPr>
        <p:spPr>
          <a:xfrm flipH="1">
            <a:off x="1440000" y="5357880"/>
            <a:ext cx="147600" cy="123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15"/>
          <p:cNvSpPr/>
          <p:nvPr/>
        </p:nvSpPr>
        <p:spPr>
          <a:xfrm rot="10800000">
            <a:off x="4851360" y="2539800"/>
            <a:ext cx="3733920" cy="2209680"/>
          </a:xfrm>
          <a:custGeom>
            <a:avLst/>
            <a:gdLst>
              <a:gd name="textAreaLeft" fmla="*/ 777960 w 3733920"/>
              <a:gd name="textAreaRight" fmla="*/ 2955960 w 3733920"/>
              <a:gd name="textAreaTop" fmla="*/ 460080 h 2209680"/>
              <a:gd name="textAreaBottom" fmla="*/ 17496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4"/>
          <p:cNvSpPr/>
          <p:nvPr/>
        </p:nvSpPr>
        <p:spPr>
          <a:xfrm rot="10800000">
            <a:off x="509400" y="2552400"/>
            <a:ext cx="3733560" cy="2209680"/>
          </a:xfrm>
          <a:custGeom>
            <a:avLst/>
            <a:gdLst>
              <a:gd name="textAreaLeft" fmla="*/ 777600 w 3733560"/>
              <a:gd name="textAreaRight" fmla="*/ 2955960 w 3733560"/>
              <a:gd name="textAreaTop" fmla="*/ 460080 h 2209680"/>
              <a:gd name="textAreaBottom" fmla="*/ 17496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1447920" y="2552760"/>
            <a:ext cx="0" cy="22096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276720" y="2552760"/>
            <a:ext cx="0" cy="22096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 flipH="1">
            <a:off x="6707160" y="2540160"/>
            <a:ext cx="938160" cy="22096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803240" y="558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5859720" y="5605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腰的平行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5369040" y="189864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7413480" y="1898640"/>
            <a:ext cx="4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8226360" y="471168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851360" y="472608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738360" y="194940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174840" y="1949400"/>
            <a:ext cx="4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3781440" y="477684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507960" y="477684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1197000" y="477684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3174840" y="473400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6477120" y="472608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WordArt 29"/>
          <p:cNvSpPr txBox="1"/>
          <p:nvPr/>
        </p:nvSpPr>
        <p:spPr>
          <a:xfrm>
            <a:off x="612720" y="415800"/>
            <a:ext cx="80755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解决梯形问题的基本方法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4"/>
          <p:cNvSpPr/>
          <p:nvPr/>
        </p:nvSpPr>
        <p:spPr>
          <a:xfrm rot="10800000">
            <a:off x="3804840" y="4307040"/>
            <a:ext cx="3435480" cy="1884240"/>
          </a:xfrm>
          <a:custGeom>
            <a:avLst/>
            <a:gdLst>
              <a:gd name="textAreaLeft" fmla="*/ 715680 w 3435480"/>
              <a:gd name="textAreaRight" fmla="*/ 2719800 w 3435480"/>
              <a:gd name="textAreaTop" fmla="*/ 392400 h 1884240"/>
              <a:gd name="textAreaBottom" fmla="*/ 1491840 h 188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"/>
          <p:cNvSpPr/>
          <p:nvPr/>
        </p:nvSpPr>
        <p:spPr>
          <a:xfrm rot="10800000">
            <a:off x="-360" y="1937880"/>
            <a:ext cx="3313080" cy="1467000"/>
          </a:xfrm>
          <a:custGeom>
            <a:avLst/>
            <a:gdLst>
              <a:gd name="textAreaLeft" fmla="*/ 690120 w 3313080"/>
              <a:gd name="textAreaRight" fmla="*/ 2622960 w 3313080"/>
              <a:gd name="textAreaTop" fmla="*/ 305640 h 1467000"/>
              <a:gd name="textAreaBottom" fmla="*/ 116136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 rot="10800000">
            <a:off x="4367160" y="1061640"/>
            <a:ext cx="2897280" cy="1757520"/>
          </a:xfrm>
          <a:custGeom>
            <a:avLst/>
            <a:gdLst>
              <a:gd name="textAreaLeft" fmla="*/ 603360 w 2897280"/>
              <a:gd name="textAreaRight" fmla="*/ 2293920 w 2897280"/>
              <a:gd name="textAreaTop" fmla="*/ 366120 h 1757520"/>
              <a:gd name="textAreaBottom" fmla="*/ 1391400 h 17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701720" y="484200"/>
            <a:ext cx="812880" cy="1467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843120" y="471600"/>
            <a:ext cx="831600" cy="1466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687920" y="4313160"/>
            <a:ext cx="3989520" cy="1851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V="1">
            <a:off x="4367160" y="1092240"/>
            <a:ext cx="21272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5089680" y="1079640"/>
            <a:ext cx="214920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6605640" y="1092240"/>
            <a:ext cx="2149560" cy="172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7316640" y="2806560"/>
            <a:ext cx="14385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6"/>
          <p:cNvSpPr/>
          <p:nvPr/>
        </p:nvSpPr>
        <p:spPr>
          <a:xfrm flipV="1">
            <a:off x="7238880" y="6191280"/>
            <a:ext cx="1516320" cy="2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84312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延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5089680" y="3114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对角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4687920" y="616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积变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384120" y="149076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2671920" y="149076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081240" y="3438360"/>
            <a:ext cx="4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154080" y="343836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2052720" y="15084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4630680" y="48420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494400" y="48420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3908520" y="281952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7085160" y="276372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8445600" y="279720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8292960" y="5218200"/>
            <a:ext cx="6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4137120" y="399240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456240" y="3759120"/>
            <a:ext cx="4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7007400" y="616428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3575160" y="621504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918480" y="489744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16"/>
          <p:cNvSpPr/>
          <p:nvPr/>
        </p:nvSpPr>
        <p:spPr>
          <a:xfrm>
            <a:off x="3063960" y="3914640"/>
            <a:ext cx="2792160" cy="1901880"/>
          </a:xfrm>
          <a:custGeom>
            <a:avLst/>
            <a:gdLst>
              <a:gd name="textAreaLeft" fmla="*/ 0 w 2792160"/>
              <a:gd name="textAreaRight" fmla="*/ 2792520 w 2792160"/>
              <a:gd name="textAreaTop" fmla="*/ 0 h 1901880"/>
              <a:gd name="textAreaBottom" fmla="*/ 1902240 h 1901880"/>
            </a:gdLst>
            <a:ahLst/>
            <a:rect l="textAreaLeft" t="textAreaTop" r="textAreaRight" b="textAreaBottom"/>
            <a:pathLst>
              <a:path w="1759" h="1198">
                <a:moveTo>
                  <a:pt x="109" y="0"/>
                </a:moveTo>
                <a:lnTo>
                  <a:pt x="1214" y="0"/>
                </a:lnTo>
                <a:lnTo>
                  <a:pt x="1759" y="1198"/>
                </a:lnTo>
                <a:lnTo>
                  <a:pt x="0" y="1198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思  考 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：如图，在梯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∥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⊥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F⊥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+DC=2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3262320" y="3908520"/>
            <a:ext cx="2606760" cy="188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4"/>
          <p:cNvSpPr/>
          <p:nvPr/>
        </p:nvSpPr>
        <p:spPr>
          <a:xfrm flipH="1">
            <a:off x="3040200" y="3908520"/>
            <a:ext cx="1952640" cy="19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992840" y="390528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604960" y="371304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160960" y="358776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029280" y="5151600"/>
            <a:ext cx="4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2604960" y="5251320"/>
            <a:ext cx="4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4840200" y="5816520"/>
            <a:ext cx="8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3683160" y="4406760"/>
            <a:ext cx="88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4992840" y="5634000"/>
            <a:ext cx="168120" cy="15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29"/>
          <p:cNvSpPr/>
          <p:nvPr/>
        </p:nvSpPr>
        <p:spPr>
          <a:xfrm>
            <a:off x="4151160" y="4349880"/>
            <a:ext cx="297000" cy="196560"/>
          </a:xfrm>
          <a:custGeom>
            <a:avLst/>
            <a:gdLst>
              <a:gd name="textAreaLeft" fmla="*/ 0 w 297000"/>
              <a:gd name="textAreaRight" fmla="*/ 297360 w 2970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87" h="124">
                <a:moveTo>
                  <a:pt x="0" y="124"/>
                </a:moveTo>
                <a:lnTo>
                  <a:pt x="72" y="0"/>
                </a:lnTo>
                <a:lnTo>
                  <a:pt x="187" y="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030" descr=""/>
          <p:cNvPicPr/>
          <p:nvPr/>
        </p:nvPicPr>
        <p:blipFill>
          <a:blip r:embed="rId1"/>
          <a:srcRect l="46899" t="0" r="12395" b="9860"/>
          <a:stretch/>
        </p:blipFill>
        <p:spPr>
          <a:xfrm>
            <a:off x="4572000" y="0"/>
            <a:ext cx="4572000" cy="642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1" descr=""/>
          <p:cNvPicPr/>
          <p:nvPr/>
        </p:nvPicPr>
        <p:blipFill>
          <a:blip r:embed="rId2"/>
          <a:srcRect l="6188" t="0" r="53106" b="9860"/>
          <a:stretch/>
        </p:blipFill>
        <p:spPr>
          <a:xfrm>
            <a:off x="0" y="0"/>
            <a:ext cx="4572000" cy="6426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46"/>
          <p:cNvSpPr/>
          <p:nvPr/>
        </p:nvSpPr>
        <p:spPr>
          <a:xfrm>
            <a:off x="4444920" y="1012680"/>
            <a:ext cx="219240" cy="446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040"/>
          <p:cNvGrpSpPr/>
          <p:nvPr/>
        </p:nvGrpSpPr>
        <p:grpSpPr>
          <a:xfrm>
            <a:off x="4867200" y="2066760"/>
            <a:ext cx="3484800" cy="2943360"/>
            <a:chOff x="4867200" y="2066760"/>
            <a:chExt cx="3484800" cy="2943360"/>
          </a:xfrm>
        </p:grpSpPr>
        <p:sp>
          <p:nvSpPr>
            <p:cNvPr id="136" name="AutoShape 1039"/>
            <p:cNvSpPr/>
            <p:nvPr/>
          </p:nvSpPr>
          <p:spPr>
            <a:xfrm>
              <a:off x="4867200" y="2066760"/>
              <a:ext cx="3484800" cy="2943360"/>
            </a:xfrm>
            <a:prstGeom prst="wedgeEllipseCallout">
              <a:avLst>
                <a:gd name="adj1" fmla="val -61875"/>
                <a:gd name="adj2" fmla="val 29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034"/>
            <p:cNvSpPr/>
            <p:nvPr/>
          </p:nvSpPr>
          <p:spPr>
            <a:xfrm>
              <a:off x="5197320" y="2741040"/>
              <a:ext cx="2666880" cy="120528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1205280"/>
                <a:gd name="textAreaBottom" fmla="*/ 1205640 h 1205280"/>
              </a:gdLst>
              <a:ahLst/>
              <a:rect l="textAreaLeft" t="textAreaTop" r="textAreaRight" b="textAreaBottom"/>
              <a:pathLst>
                <a:path w="5040" h="1968">
                  <a:moveTo>
                    <a:pt x="1104" y="0"/>
                  </a:moveTo>
                  <a:lnTo>
                    <a:pt x="3072" y="0"/>
                  </a:lnTo>
                  <a:lnTo>
                    <a:pt x="5040" y="1968"/>
                  </a:lnTo>
                  <a:lnTo>
                    <a:pt x="0" y="1968"/>
                  </a:lnTo>
                  <a:lnTo>
                    <a:pt x="1104" y="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03040" y="2805120"/>
            <a:ext cx="6045480" cy="2836800"/>
          </a:xfrm>
          <a:custGeom>
            <a:avLst/>
            <a:gdLst>
              <a:gd name="textAreaLeft" fmla="*/ 0 w 6045480"/>
              <a:gd name="textAreaRight" fmla="*/ 6045840 w 604548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040" h="1968">
                <a:moveTo>
                  <a:pt x="1104" y="0"/>
                </a:moveTo>
                <a:lnTo>
                  <a:pt x="3072" y="0"/>
                </a:lnTo>
                <a:lnTo>
                  <a:pt x="5040" y="1968"/>
                </a:lnTo>
                <a:lnTo>
                  <a:pt x="0" y="1968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0000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990720" y="21337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987720" y="21337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613480" y="5602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52280" y="55627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5715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971800" y="20318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3200400" y="2805120"/>
            <a:ext cx="0" cy="283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3200400" y="2805120"/>
            <a:ext cx="228600" cy="2833200"/>
            <a:chOff x="3200400" y="2805120"/>
            <a:chExt cx="228600" cy="2833200"/>
          </a:xfrm>
        </p:grpSpPr>
        <p:sp>
          <p:nvSpPr>
            <p:cNvPr id="148" name="Rectangle 15"/>
            <p:cNvSpPr/>
            <p:nvPr/>
          </p:nvSpPr>
          <p:spPr>
            <a:xfrm>
              <a:off x="3200400" y="5395680"/>
              <a:ext cx="228600" cy="242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3200400" y="2805120"/>
              <a:ext cx="228600" cy="242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2997360" y="-20520"/>
            <a:ext cx="6095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梯形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一组对边平行而另一组对边不平行的四边形叫做梯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5410080" y="1936800"/>
            <a:ext cx="3537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四边形有一组对边平行但不相等，它是梯形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614600" y="568008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下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1933560" y="213372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上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257040" y="3083040"/>
            <a:ext cx="5392800" cy="936720"/>
            <a:chOff x="257040" y="3083040"/>
            <a:chExt cx="5392800" cy="936720"/>
          </a:xfrm>
        </p:grpSpPr>
        <p:sp>
          <p:nvSpPr>
            <p:cNvPr id="155" name="Text Box 22"/>
            <p:cNvSpPr/>
            <p:nvPr/>
          </p:nvSpPr>
          <p:spPr>
            <a:xfrm>
              <a:off x="257040" y="3438360"/>
              <a:ext cx="103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6"/>
            <p:cNvSpPr/>
            <p:nvPr/>
          </p:nvSpPr>
          <p:spPr>
            <a:xfrm>
              <a:off x="4611600" y="3083040"/>
              <a:ext cx="103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27"/>
          <p:cNvSpPr/>
          <p:nvPr/>
        </p:nvSpPr>
        <p:spPr>
          <a:xfrm>
            <a:off x="2390760" y="343836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"/>
          <p:cNvSpPr/>
          <p:nvPr/>
        </p:nvSpPr>
        <p:spPr>
          <a:xfrm>
            <a:off x="609480" y="1676520"/>
            <a:ext cx="3886200" cy="24382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448" h="1536">
                <a:moveTo>
                  <a:pt x="0" y="0"/>
                </a:moveTo>
                <a:lnTo>
                  <a:pt x="0" y="1536"/>
                </a:lnTo>
                <a:lnTo>
                  <a:pt x="2448" y="1536"/>
                </a:lnTo>
                <a:lnTo>
                  <a:pt x="124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0800000">
            <a:off x="4876560" y="1675800"/>
            <a:ext cx="3809880" cy="2438280"/>
          </a:xfrm>
          <a:custGeom>
            <a:avLst/>
            <a:gdLst>
              <a:gd name="textAreaLeft" fmla="*/ 930960 w 3809880"/>
              <a:gd name="textAreaRight" fmla="*/ 2878920 w 3809880"/>
              <a:gd name="textAreaTop" fmla="*/ 595800 h 2438280"/>
              <a:gd name="textAreaBottom" fmla="*/ 184248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57" y="21600"/>
                </a:lnTo>
                <a:lnTo>
                  <a:pt x="14643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28600" y="852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354400" y="852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911760" y="4114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28600" y="4114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486400" y="852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7281720" y="8524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8001000" y="4114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876920" y="4114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15920" y="4789440"/>
            <a:ext cx="347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直角梯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32400" y="4826160"/>
            <a:ext cx="37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等腰梯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2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216000" y="2629080"/>
            <a:ext cx="9131040" cy="3858480"/>
            <a:chOff x="216000" y="2629080"/>
            <a:chExt cx="9131040" cy="3858480"/>
          </a:xfrm>
        </p:grpSpPr>
        <p:sp>
          <p:nvSpPr>
            <p:cNvPr id="173" name="Text Box 13"/>
            <p:cNvSpPr/>
            <p:nvPr/>
          </p:nvSpPr>
          <p:spPr>
            <a:xfrm>
              <a:off x="216000" y="563724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宋体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Group 28"/>
            <p:cNvGrpSpPr/>
            <p:nvPr/>
          </p:nvGrpSpPr>
          <p:grpSpPr>
            <a:xfrm>
              <a:off x="545760" y="2629080"/>
              <a:ext cx="8801280" cy="3858480"/>
              <a:chOff x="545760" y="2629080"/>
              <a:chExt cx="8801280" cy="3858480"/>
            </a:xfrm>
          </p:grpSpPr>
          <p:sp>
            <p:nvSpPr>
              <p:cNvPr id="175" name="AutoShape 4"/>
              <p:cNvSpPr/>
              <p:nvPr/>
            </p:nvSpPr>
            <p:spPr>
              <a:xfrm rot="10800000">
                <a:off x="545760" y="3452760"/>
                <a:ext cx="3733560" cy="2209680"/>
              </a:xfrm>
              <a:custGeom>
                <a:avLst/>
                <a:gdLst>
                  <a:gd name="textAreaLeft" fmla="*/ 777600 w 3733560"/>
                  <a:gd name="textAreaRight" fmla="*/ 2955960 w 3733560"/>
                  <a:gd name="textAreaTop" fmla="*/ 460080 h 2209680"/>
                  <a:gd name="textAreaBottom" fmla="*/ 174960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5"/>
              <p:cNvSpPr/>
              <p:nvPr/>
            </p:nvSpPr>
            <p:spPr>
              <a:xfrm rot="10800000">
                <a:off x="5041800" y="3452760"/>
                <a:ext cx="3733920" cy="2209680"/>
              </a:xfrm>
              <a:custGeom>
                <a:avLst/>
                <a:gdLst>
                  <a:gd name="textAreaLeft" fmla="*/ 777960 w 3733920"/>
                  <a:gd name="textAreaRight" fmla="*/ 2955960 w 3733920"/>
                  <a:gd name="textAreaTop" fmla="*/ 460080 h 2209680"/>
                  <a:gd name="textAreaBottom" fmla="*/ 174960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6"/>
              <p:cNvSpPr/>
              <p:nvPr/>
            </p:nvSpPr>
            <p:spPr>
              <a:xfrm>
                <a:off x="1485720" y="3452760"/>
                <a:ext cx="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7"/>
              <p:cNvSpPr/>
              <p:nvPr/>
            </p:nvSpPr>
            <p:spPr>
              <a:xfrm>
                <a:off x="3340080" y="3452760"/>
                <a:ext cx="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H="1">
                <a:off x="7124400" y="3452760"/>
                <a:ext cx="68580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10"/>
              <p:cNvSpPr/>
              <p:nvPr/>
            </p:nvSpPr>
            <p:spPr>
              <a:xfrm>
                <a:off x="698400" y="262908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11"/>
              <p:cNvSpPr/>
              <p:nvPr/>
            </p:nvSpPr>
            <p:spPr>
              <a:xfrm>
                <a:off x="2971800" y="262908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12"/>
              <p:cNvSpPr/>
              <p:nvPr/>
            </p:nvSpPr>
            <p:spPr>
              <a:xfrm>
                <a:off x="3860640" y="56624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14"/>
              <p:cNvSpPr/>
              <p:nvPr/>
            </p:nvSpPr>
            <p:spPr>
              <a:xfrm>
                <a:off x="5384520" y="262908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Text Box 15"/>
              <p:cNvSpPr/>
              <p:nvPr/>
            </p:nvSpPr>
            <p:spPr>
              <a:xfrm>
                <a:off x="7594560" y="262908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16"/>
              <p:cNvSpPr/>
              <p:nvPr/>
            </p:nvSpPr>
            <p:spPr>
              <a:xfrm>
                <a:off x="8204040" y="56624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17"/>
              <p:cNvSpPr/>
              <p:nvPr/>
            </p:nvSpPr>
            <p:spPr>
              <a:xfrm>
                <a:off x="4813200" y="56624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18"/>
              <p:cNvSpPr/>
              <p:nvPr/>
            </p:nvSpPr>
            <p:spPr>
              <a:xfrm>
                <a:off x="6730920" y="56372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 Box 19"/>
              <p:cNvSpPr/>
              <p:nvPr/>
            </p:nvSpPr>
            <p:spPr>
              <a:xfrm>
                <a:off x="2921040" y="56624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F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20"/>
              <p:cNvSpPr/>
              <p:nvPr/>
            </p:nvSpPr>
            <p:spPr>
              <a:xfrm>
                <a:off x="1143000" y="563724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cc"/>
                    </a:solidFill>
                    <a:latin typeface="宋体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23"/>
              <p:cNvSpPr/>
              <p:nvPr/>
            </p:nvSpPr>
            <p:spPr>
              <a:xfrm>
                <a:off x="1333440" y="5365800"/>
                <a:ext cx="17784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24"/>
              <p:cNvSpPr/>
              <p:nvPr/>
            </p:nvSpPr>
            <p:spPr>
              <a:xfrm>
                <a:off x="3314520" y="5365800"/>
                <a:ext cx="17784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27"/>
          <p:cNvSpPr/>
          <p:nvPr/>
        </p:nvSpPr>
        <p:spPr>
          <a:xfrm>
            <a:off x="2257560" y="228600"/>
            <a:ext cx="6759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等腰梯形性质定理：等腰梯形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同一底上的两个角相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17928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 rot="10800000">
            <a:off x="580680" y="3247920"/>
            <a:ext cx="3838680" cy="1828800"/>
          </a:xfrm>
          <a:custGeom>
            <a:avLst/>
            <a:gdLst>
              <a:gd name="textAreaLeft" fmla="*/ 799560 w 3838680"/>
              <a:gd name="textAreaRight" fmla="*/ 3039120 w 3838680"/>
              <a:gd name="textAreaTop" fmla="*/ 380880 h 1828800"/>
              <a:gd name="textAreaBottom" fmla="*/ 1447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1558800" y="1487520"/>
            <a:ext cx="909720" cy="1760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 flipH="1" flipV="1">
            <a:off x="2446200" y="1444680"/>
            <a:ext cx="984240" cy="1781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471760" y="1432080"/>
            <a:ext cx="0" cy="373356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1096920" y="2496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39760" y="505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402000" y="25002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2270160" y="5025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379600" y="24717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2270160" y="569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21"/>
          <p:cNvSpPr/>
          <p:nvPr/>
        </p:nvSpPr>
        <p:spPr>
          <a:xfrm rot="10800000">
            <a:off x="4951080" y="3222720"/>
            <a:ext cx="3862440" cy="1828800"/>
          </a:xfrm>
          <a:custGeom>
            <a:avLst/>
            <a:gdLst>
              <a:gd name="textAreaLeft" fmla="*/ 804600 w 3862440"/>
              <a:gd name="textAreaRight" fmla="*/ 3057840 w 3862440"/>
              <a:gd name="textAreaTop" fmla="*/ 380880 h 1828800"/>
              <a:gd name="textAreaBottom" fmla="*/ 1447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4419720" y="3187800"/>
            <a:ext cx="2450880" cy="2198520"/>
          </a:xfrm>
          <a:custGeom>
            <a:avLst/>
            <a:gdLst>
              <a:gd name="textAreaLeft" fmla="*/ 0 w 2450880"/>
              <a:gd name="textAreaRight" fmla="*/ 2451240 w 245088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1229" h="1168">
                <a:moveTo>
                  <a:pt x="1229" y="0"/>
                </a:moveTo>
                <a:lnTo>
                  <a:pt x="607" y="0"/>
                </a:lnTo>
                <a:lnTo>
                  <a:pt x="0" y="1168"/>
                </a:lnTo>
                <a:lnTo>
                  <a:pt x="1214" y="1168"/>
                </a:lnTo>
                <a:lnTo>
                  <a:pt x="12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5235480" y="3186000"/>
            <a:ext cx="1630440" cy="217512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2175120"/>
              <a:gd name="textAreaBottom" fmla="*/ 2175480 h 2175120"/>
            </a:gdLst>
            <a:ahLst/>
            <a:rect l="textAreaLeft" t="textAreaTop" r="textAreaRight" b="textAreaBottom"/>
            <a:pathLst>
              <a:path w="1027" h="1370">
                <a:moveTo>
                  <a:pt x="1012" y="0"/>
                </a:moveTo>
                <a:lnTo>
                  <a:pt x="451" y="78"/>
                </a:lnTo>
                <a:lnTo>
                  <a:pt x="0" y="1370"/>
                </a:lnTo>
                <a:lnTo>
                  <a:pt x="1027" y="1152"/>
                </a:lnTo>
                <a:lnTo>
                  <a:pt x="1012" y="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26"/>
          <p:cNvSpPr/>
          <p:nvPr/>
        </p:nvSpPr>
        <p:spPr>
          <a:xfrm>
            <a:off x="5783400" y="3187800"/>
            <a:ext cx="1162080" cy="26445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732" h="1666">
                <a:moveTo>
                  <a:pt x="716" y="0"/>
                </a:moveTo>
                <a:lnTo>
                  <a:pt x="234" y="218"/>
                </a:lnTo>
                <a:lnTo>
                  <a:pt x="0" y="1666"/>
                </a:lnTo>
                <a:lnTo>
                  <a:pt x="732" y="1137"/>
                </a:lnTo>
                <a:lnTo>
                  <a:pt x="716" y="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29"/>
          <p:cNvSpPr/>
          <p:nvPr/>
        </p:nvSpPr>
        <p:spPr>
          <a:xfrm flipH="1">
            <a:off x="6893640" y="3238560"/>
            <a:ext cx="468360" cy="3089160"/>
          </a:xfrm>
          <a:custGeom>
            <a:avLst/>
            <a:gdLst>
              <a:gd name="textAreaLeft" fmla="*/ -360 w 468360"/>
              <a:gd name="textAreaRight" fmla="*/ 468360 w 46836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311" h="2040">
                <a:moveTo>
                  <a:pt x="295" y="0"/>
                </a:moveTo>
                <a:lnTo>
                  <a:pt x="31" y="436"/>
                </a:lnTo>
                <a:lnTo>
                  <a:pt x="0" y="2040"/>
                </a:lnTo>
                <a:lnTo>
                  <a:pt x="311" y="1137"/>
                </a:lnTo>
                <a:lnTo>
                  <a:pt x="295" y="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31"/>
          <p:cNvSpPr/>
          <p:nvPr/>
        </p:nvSpPr>
        <p:spPr>
          <a:xfrm flipH="1">
            <a:off x="6839640" y="3211560"/>
            <a:ext cx="1630440" cy="2174760"/>
          </a:xfrm>
          <a:custGeom>
            <a:avLst/>
            <a:gdLst>
              <a:gd name="textAreaLeft" fmla="*/ -360 w 1630440"/>
              <a:gd name="textAreaRight" fmla="*/ 1630440 w 163044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027" h="1370">
                <a:moveTo>
                  <a:pt x="1012" y="0"/>
                </a:moveTo>
                <a:lnTo>
                  <a:pt x="451" y="78"/>
                </a:lnTo>
                <a:lnTo>
                  <a:pt x="0" y="1370"/>
                </a:lnTo>
                <a:lnTo>
                  <a:pt x="1027" y="1152"/>
                </a:lnTo>
                <a:lnTo>
                  <a:pt x="1012" y="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2"/>
          <p:cNvSpPr/>
          <p:nvPr/>
        </p:nvSpPr>
        <p:spPr>
          <a:xfrm flipH="1">
            <a:off x="6843600" y="3238560"/>
            <a:ext cx="1162080" cy="2644560"/>
          </a:xfrm>
          <a:custGeom>
            <a:avLst/>
            <a:gdLst>
              <a:gd name="textAreaLeft" fmla="*/ 360 w 1162080"/>
              <a:gd name="textAreaRight" fmla="*/ 1162800 w 116208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732" h="1666">
                <a:moveTo>
                  <a:pt x="716" y="0"/>
                </a:moveTo>
                <a:lnTo>
                  <a:pt x="234" y="218"/>
                </a:lnTo>
                <a:lnTo>
                  <a:pt x="0" y="1666"/>
                </a:lnTo>
                <a:lnTo>
                  <a:pt x="732" y="1137"/>
                </a:lnTo>
                <a:lnTo>
                  <a:pt x="716" y="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3"/>
          <p:cNvSpPr/>
          <p:nvPr/>
        </p:nvSpPr>
        <p:spPr>
          <a:xfrm>
            <a:off x="6429240" y="3189240"/>
            <a:ext cx="468360" cy="3089160"/>
          </a:xfrm>
          <a:custGeom>
            <a:avLst/>
            <a:gdLst>
              <a:gd name="textAreaLeft" fmla="*/ 0 w 468360"/>
              <a:gd name="textAreaRight" fmla="*/ 468720 w 46836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311" h="2040">
                <a:moveTo>
                  <a:pt x="295" y="0"/>
                </a:moveTo>
                <a:lnTo>
                  <a:pt x="31" y="436"/>
                </a:lnTo>
                <a:lnTo>
                  <a:pt x="0" y="2040"/>
                </a:lnTo>
                <a:lnTo>
                  <a:pt x="311" y="1137"/>
                </a:lnTo>
                <a:lnTo>
                  <a:pt x="295" y="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35"/>
          <p:cNvSpPr/>
          <p:nvPr/>
        </p:nvSpPr>
        <p:spPr>
          <a:xfrm flipH="1">
            <a:off x="6871680" y="3186000"/>
            <a:ext cx="1950840" cy="1854360"/>
          </a:xfrm>
          <a:custGeom>
            <a:avLst/>
            <a:gdLst>
              <a:gd name="textAreaLeft" fmla="*/ -360 w 1950840"/>
              <a:gd name="textAreaRight" fmla="*/ 1950840 w 195084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229" h="1168">
                <a:moveTo>
                  <a:pt x="1229" y="0"/>
                </a:moveTo>
                <a:lnTo>
                  <a:pt x="607" y="0"/>
                </a:lnTo>
                <a:lnTo>
                  <a:pt x="0" y="1168"/>
                </a:lnTo>
                <a:lnTo>
                  <a:pt x="1214" y="1168"/>
                </a:lnTo>
                <a:lnTo>
                  <a:pt x="1229" y="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227480" y="49752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6896160" y="1698480"/>
            <a:ext cx="0" cy="37339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56"/>
          <p:cNvSpPr/>
          <p:nvPr/>
        </p:nvSpPr>
        <p:spPr>
          <a:xfrm rot="20581200">
            <a:off x="4065480" y="1919160"/>
            <a:ext cx="399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044"/>
          <p:cNvSpPr/>
          <p:nvPr/>
        </p:nvSpPr>
        <p:spPr>
          <a:xfrm>
            <a:off x="3586320" y="3192480"/>
            <a:ext cx="2606400" cy="1523880"/>
          </a:xfrm>
          <a:custGeom>
            <a:avLst/>
            <a:gdLst>
              <a:gd name="textAreaLeft" fmla="*/ 0 w 2606400"/>
              <a:gd name="textAreaRight" fmla="*/ 2606760 w 2606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5040" h="1968">
                <a:moveTo>
                  <a:pt x="1104" y="0"/>
                </a:moveTo>
                <a:lnTo>
                  <a:pt x="3072" y="0"/>
                </a:lnTo>
                <a:lnTo>
                  <a:pt x="5040" y="1968"/>
                </a:lnTo>
                <a:lnTo>
                  <a:pt x="0" y="1968"/>
                </a:lnTo>
                <a:lnTo>
                  <a:pt x="1104" y="0"/>
                </a:lnTo>
                <a:close/>
              </a:path>
            </a:pathLst>
          </a:custGeom>
          <a:solidFill>
            <a:srgbClr val="0000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031"/>
          <p:cNvSpPr/>
          <p:nvPr/>
        </p:nvSpPr>
        <p:spPr>
          <a:xfrm>
            <a:off x="12600" y="2332080"/>
            <a:ext cx="2084400" cy="170496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2023" h="1370">
                <a:moveTo>
                  <a:pt x="467" y="0"/>
                </a:moveTo>
                <a:lnTo>
                  <a:pt x="1432" y="342"/>
                </a:lnTo>
                <a:lnTo>
                  <a:pt x="2023" y="1370"/>
                </a:lnTo>
                <a:lnTo>
                  <a:pt x="0" y="1370"/>
                </a:lnTo>
                <a:lnTo>
                  <a:pt x="467" y="0"/>
                </a:lnTo>
                <a:close/>
              </a:path>
            </a:pathLst>
          </a:custGeom>
          <a:solidFill>
            <a:srgbClr val="ccff3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032"/>
          <p:cNvSpPr/>
          <p:nvPr/>
        </p:nvSpPr>
        <p:spPr>
          <a:xfrm rot="19749000">
            <a:off x="2096640" y="2579760"/>
            <a:ext cx="1138320" cy="320760"/>
          </a:xfrm>
          <a:prstGeom prst="rightArrow">
            <a:avLst>
              <a:gd name="adj1" fmla="val 50000"/>
              <a:gd name="adj2" fmla="val 887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033"/>
          <p:cNvSpPr/>
          <p:nvPr/>
        </p:nvSpPr>
        <p:spPr>
          <a:xfrm>
            <a:off x="2933640" y="914400"/>
            <a:ext cx="2409840" cy="1112760"/>
          </a:xfrm>
          <a:prstGeom prst="parallelogram">
            <a:avLst>
              <a:gd name="adj" fmla="val 54141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034"/>
          <p:cNvSpPr/>
          <p:nvPr/>
        </p:nvSpPr>
        <p:spPr>
          <a:xfrm>
            <a:off x="2365200" y="3805200"/>
            <a:ext cx="1322640" cy="357120"/>
          </a:xfrm>
          <a:prstGeom prst="rightArrow">
            <a:avLst>
              <a:gd name="adj1" fmla="val 50000"/>
              <a:gd name="adj2" fmla="val 925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40"/>
          <p:cNvSpPr/>
          <p:nvPr/>
        </p:nvSpPr>
        <p:spPr>
          <a:xfrm rot="20584800">
            <a:off x="5173200" y="2741400"/>
            <a:ext cx="1322640" cy="361800"/>
          </a:xfrm>
          <a:prstGeom prst="rightArrow">
            <a:avLst>
              <a:gd name="adj1" fmla="val 50000"/>
              <a:gd name="adj2" fmla="val 913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41"/>
          <p:cNvSpPr/>
          <p:nvPr/>
        </p:nvSpPr>
        <p:spPr>
          <a:xfrm rot="1497600">
            <a:off x="6192360" y="4414320"/>
            <a:ext cx="1322640" cy="357480"/>
          </a:xfrm>
          <a:prstGeom prst="rightArrow">
            <a:avLst>
              <a:gd name="adj1" fmla="val 50000"/>
              <a:gd name="adj2" fmla="val 924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042"/>
          <p:cNvSpPr/>
          <p:nvPr/>
        </p:nvSpPr>
        <p:spPr>
          <a:xfrm>
            <a:off x="6496200" y="5100480"/>
            <a:ext cx="2393640" cy="1381320"/>
          </a:xfrm>
          <a:custGeom>
            <a:avLst/>
            <a:gdLst>
              <a:gd name="textAreaLeft" fmla="*/ 0 w 2393640"/>
              <a:gd name="textAreaRight" fmla="*/ 2394000 w 23936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2448" h="1536">
                <a:moveTo>
                  <a:pt x="0" y="0"/>
                </a:moveTo>
                <a:lnTo>
                  <a:pt x="0" y="1536"/>
                </a:lnTo>
                <a:lnTo>
                  <a:pt x="2448" y="1536"/>
                </a:lnTo>
                <a:lnTo>
                  <a:pt x="12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43"/>
          <p:cNvSpPr/>
          <p:nvPr/>
        </p:nvSpPr>
        <p:spPr>
          <a:xfrm rot="10800000">
            <a:off x="6495840" y="1593720"/>
            <a:ext cx="2716200" cy="1306800"/>
          </a:xfrm>
          <a:prstGeom prst="pie">
            <a:avLst/>
          </a:prstGeom>
          <a:solidFill>
            <a:srgbClr val="33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等腰梯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5"/>
          <p:cNvSpPr/>
          <p:nvPr/>
        </p:nvSpPr>
        <p:spPr>
          <a:xfrm>
            <a:off x="347760" y="310500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46"/>
          <p:cNvSpPr/>
          <p:nvPr/>
        </p:nvSpPr>
        <p:spPr>
          <a:xfrm rot="19725000">
            <a:off x="1235160" y="1588680"/>
            <a:ext cx="25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组对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47"/>
          <p:cNvSpPr/>
          <p:nvPr/>
        </p:nvSpPr>
        <p:spPr>
          <a:xfrm>
            <a:off x="1964880" y="43275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有一组对边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另一组对边不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48"/>
          <p:cNvSpPr/>
          <p:nvPr/>
        </p:nvSpPr>
        <p:spPr>
          <a:xfrm>
            <a:off x="3756240" y="93816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平行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49"/>
          <p:cNvSpPr/>
          <p:nvPr/>
        </p:nvSpPr>
        <p:spPr>
          <a:xfrm>
            <a:off x="4194000" y="3521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梯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0"/>
          <p:cNvSpPr/>
          <p:nvPr/>
        </p:nvSpPr>
        <p:spPr>
          <a:xfrm>
            <a:off x="34920" y="4491000"/>
            <a:ext cx="51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51"/>
          <p:cNvSpPr/>
          <p:nvPr/>
        </p:nvSpPr>
        <p:spPr>
          <a:xfrm>
            <a:off x="6590520" y="59072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52"/>
          <p:cNvSpPr/>
          <p:nvPr/>
        </p:nvSpPr>
        <p:spPr>
          <a:xfrm rot="1504800">
            <a:off x="6065640" y="417528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个角 是直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53"/>
          <p:cNvSpPr/>
          <p:nvPr/>
        </p:nvSpPr>
        <p:spPr>
          <a:xfrm rot="20793600">
            <a:off x="5073840" y="214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腰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55"/>
          <p:cNvSpPr/>
          <p:nvPr/>
        </p:nvSpPr>
        <p:spPr>
          <a:xfrm>
            <a:off x="7103160" y="53895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梯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57"/>
          <p:cNvSpPr/>
          <p:nvPr/>
        </p:nvSpPr>
        <p:spPr>
          <a:xfrm>
            <a:off x="255600" y="0"/>
            <a:ext cx="29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填 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隶书"/>
                <a:ea typeface="隶书"/>
              </a:rPr>
              <a:t>判断正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80880" y="214308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等腰梯形的对称轴是连结上、下底中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线段。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31640" y="3695760"/>
            <a:ext cx="871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若等腰梯形有一底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其余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分别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322360" y="2828880"/>
            <a:ext cx="135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6415200" y="4317840"/>
            <a:ext cx="135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941560" y="1838160"/>
            <a:ext cx="6202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等腰梯形的上底角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5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则下底角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935000" y="534816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057480" y="371520"/>
            <a:ext cx="36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填空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12"/>
          <p:cNvGrpSpPr/>
          <p:nvPr/>
        </p:nvGrpSpPr>
        <p:grpSpPr>
          <a:xfrm>
            <a:off x="420840" y="4025880"/>
            <a:ext cx="8302320" cy="1391040"/>
            <a:chOff x="420840" y="4025880"/>
            <a:chExt cx="8302320" cy="1391040"/>
          </a:xfrm>
        </p:grpSpPr>
        <p:sp>
          <p:nvSpPr>
            <p:cNvPr id="249" name="Text Box 5"/>
            <p:cNvSpPr/>
            <p:nvPr/>
          </p:nvSpPr>
          <p:spPr>
            <a:xfrm>
              <a:off x="420840" y="4025880"/>
              <a:ext cx="83023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等腰梯形的上底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6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下底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8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高为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√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则腰长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865080" y="4835520"/>
              <a:ext cx="83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839880" y="491184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3"/>
          <p:cNvSpPr/>
          <p:nvPr/>
        </p:nvSpPr>
        <p:spPr>
          <a:xfrm>
            <a:off x="5532480" y="2550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4199040" y="46418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9:00:21Z</dcterms:created>
  <dc:creator>kejianyuan.com</dc:creator>
  <dc:description>kejianyuan.com</dc:description>
  <cp:keywords>kejianyuan.com</cp:keywords>
  <dc:language>en-US</dc:language>
  <cp:lastModifiedBy/>
  <dcterms:modified xsi:type="dcterms:W3CDTF">2014-09-10T16:20:21Z</dcterms:modified>
  <cp:revision>38</cp:revision>
  <dc:subject>人教版八年级数学（下）全套课件</dc:subject>
  <dc:title>人教版八年级数学（下）全套课件</dc:title>
</cp:coreProperties>
</file>