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lase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181-CB71-4384-A223-5062F5EB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D7F-27FE-40A8-8628-284C5917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B37-9E00-4A3F-9FC7-24C073F0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9FF-836F-40A2-9F6D-6E0C659B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6B8D9-57F0-4FEF-9FA7-EA2DDD62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1581C-DA88-494D-9EFF-5A72A0F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136C7-6CAD-4406-A492-25DA37EB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00518-C1E9-472F-B9BD-011EA606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016CF-96DD-4643-9518-A986F48F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41E68-A53F-43E5-AA80-FCEDF143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EA5D9-D6FC-439E-B833-1828481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687-7A14-4339-A762-C0073B0E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FEC5F-0921-492B-ACE4-4401662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89FC7-3898-480B-9827-7DEB6567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8BC81-ABD2-4DA9-AC9B-0A319D1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9A7A0-F043-4DBF-A65C-39A215AE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A154C-3EBC-462A-8C95-0D896E8A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8D3D-8833-4CF7-81C3-94EB98BB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7DCB-15E2-4E2C-8FC0-B202B0F9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FA30-DEC5-44F0-BA62-86D7CAAE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B67B-1195-469D-BB63-F34F294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9A9C9-0AC2-4397-B525-99B5D95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0AA-BF98-4AD5-B5F2-48ED1A22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461B-19F7-44A2-8368-33EC8751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73E8-01A5-43A8-A5C5-AA9F898F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BFB4-7EBB-49C7-9060-6BEE7FD2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9012-86B5-4B92-A1C7-C106D1E3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B1660-E986-4DA6-9783-5FC1D8DF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EAB2-ACEC-4FC1-860F-226D7A95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036C-1E29-4F75-8F34-445B9C81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5A74-C5D4-4F0C-951F-91619C69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2646-0B9C-4BC8-841B-C0A11FDE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8A5F-8EBB-4250-874B-70B0DB98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877-4349-4F6F-94B9-B627E96A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76F0-98BD-4608-8D3F-9BED8BD8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7175-DC9E-4413-839D-3922C886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7346-5DB0-4016-840B-EAB4D70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5E61-7462-412D-9D1A-520A3DF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C181-DEB2-4092-B337-5257FE5F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CB6D-FCD5-4091-8EA4-4AEC8E19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6EFF3-7CE3-4C1D-B849-D7736ABE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6B68-F733-4988-AF92-86AECE07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37B1-1E37-4716-812B-5A8EFDD4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DEDD7-85DC-4548-99B3-BE3580AD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DD4-4C4F-40F4-A8EA-18E42732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91CA4-8775-4577-8E1E-12AB34B3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AD72-96ED-42A1-B098-B9C74AF7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206C-9BD8-4E7D-8556-24ED4FC8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5CE32-ECB8-41DF-8E10-46E8D282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C34E-34A6-4825-AB5F-C99D2FA1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DC697-5CE4-4818-B18E-8D3B72E6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C4AC4-4E6E-441D-ACDC-FAAE586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96A5-7A0C-423C-9BE8-3F3E79F1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30E7-4648-4641-BED9-A6C9660B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427F-3797-4CE9-8D23-09DC7940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822-541B-46BC-AC5C-743653D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D47C-3BA2-4A4E-B808-C172018B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F0B-E014-4ECE-A3FE-EC896C08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64B-50F4-411B-89AB-5AF17C5D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FF7-69E7-4029-9BF1-FF4CDFF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976D-54F7-4C97-8E14-2B2ACB777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ED4A-644A-4A8D-80E6-181998068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ABBF-4A23-4B7F-B177-E133BF605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41D8-0819-4285-B57B-4CBEB41EC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89E6-6692-4A75-B8A8-B6CC8B37A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535640" cy="3159000"/>
          </a:xfrm>
          <a:prstGeom prst="rect">
            <a:avLst/>
          </a:prstGeom>
          <a:ln w="0">
            <a:noFill/>
          </a:ln>
        </p:spPr>
      </p:pic>
      <p:pic>
        <p:nvPicPr>
          <p:cNvPr id="231" name="Complicated Heart.MP3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232" name="blmsylq.mp3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3564000" y="6093000"/>
            <a:ext cx="65530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菱越野汽车欣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971640" y="12700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19.2.2   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菱  形 （</a:t>
            </a:r>
            <a:r>
              <a:rPr b="1" lang="en-US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6443640" y="4508640"/>
            <a:ext cx="1008000" cy="865080"/>
          </a:xfrm>
          <a:prstGeom prst="ellipse">
            <a:avLst/>
          </a:prstGeom>
          <a:noFill/>
          <a:ln w="63360">
            <a:solidFill>
              <a:srgbClr val="ff00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1644840" y="-103320"/>
            <a:ext cx="600048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一做：判断下列命题是否正确，并说明理由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角线互相平分且邻边相等的四边形是菱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组对边分别平行且一组邻边相等的四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菱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邻角相等的四边形是菱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组邻边相等的四边形是菱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组对角分别相等且对角线互相垂直的四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菱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角线互相垂直的四边形是菱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角线互相垂直平分的四边形是菱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对角线平分一个内角的平行四边形是菱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5447160" y="22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2422800" y="40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8542800" y="54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207160" y="1700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667116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7607880" y="5156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6526440" y="45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1341720" y="623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250920" y="2602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隶书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课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10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684360" y="3772080"/>
            <a:ext cx="785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边长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平行四边形的两条对角线的长分别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那么平行四边形的面积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11280" y="3141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练习</a:t>
            </a: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372360" y="5013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㎝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611280" y="105264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边长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平行四边形的两条对角线的长分别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求证：这个平行四边形为菱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"/>
          <p:cNvSpPr/>
          <p:nvPr/>
        </p:nvSpPr>
        <p:spPr>
          <a:xfrm>
            <a:off x="395280" y="1930320"/>
            <a:ext cx="8280360" cy="2232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411280" y="404640"/>
            <a:ext cx="3673440" cy="1224000"/>
          </a:xfrm>
          <a:prstGeom prst="cloudCallout">
            <a:avLst>
              <a:gd name="adj1" fmla="val -57564"/>
              <a:gd name="adj2" fmla="val 8774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2843280" y="76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华文琥珀"/>
              </a:rPr>
              <a:t>请你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826920" y="25066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两张等宽的纸条交叉重叠在一起，你能判断重叠部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形状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378144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414180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4861080" y="478152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76720" y="5357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250920" y="11592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思考</a:t>
            </a:r>
            <a:r>
              <a:rPr b="0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2664000" y="4797360"/>
            <a:ext cx="309528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 rot="19169400">
            <a:off x="2556000" y="4868640"/>
            <a:ext cx="309564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421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2"/>
          <p:cNvSpPr/>
          <p:nvPr/>
        </p:nvSpPr>
        <p:spPr>
          <a:xfrm>
            <a:off x="1357200" y="2473200"/>
            <a:ext cx="581364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"/>
          <p:cNvSpPr/>
          <p:nvPr/>
        </p:nvSpPr>
        <p:spPr>
          <a:xfrm>
            <a:off x="1357200" y="3470400"/>
            <a:ext cx="5813640" cy="1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"/>
          <p:cNvSpPr/>
          <p:nvPr/>
        </p:nvSpPr>
        <p:spPr>
          <a:xfrm>
            <a:off x="1357200" y="2473200"/>
            <a:ext cx="1800" cy="9972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4176720" y="830160"/>
            <a:ext cx="1233360" cy="792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"/>
          <p:cNvSpPr/>
          <p:nvPr/>
        </p:nvSpPr>
        <p:spPr>
          <a:xfrm flipH="1">
            <a:off x="2617920" y="830160"/>
            <a:ext cx="1558800" cy="47214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 flipH="1">
            <a:off x="3886200" y="830160"/>
            <a:ext cx="1504800" cy="47214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8"/>
          <p:cNvGrpSpPr/>
          <p:nvPr/>
        </p:nvGrpSpPr>
        <p:grpSpPr>
          <a:xfrm>
            <a:off x="2617920" y="2071800"/>
            <a:ext cx="4554360" cy="3490920"/>
            <a:chOff x="2617920" y="2071800"/>
            <a:chExt cx="4554360" cy="3490920"/>
          </a:xfrm>
        </p:grpSpPr>
        <p:sp>
          <p:nvSpPr>
            <p:cNvPr id="432" name="Line 9"/>
            <p:cNvSpPr/>
            <p:nvPr/>
          </p:nvSpPr>
          <p:spPr>
            <a:xfrm>
              <a:off x="7170840" y="2473200"/>
              <a:ext cx="1440" cy="99720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2617920" y="5551560"/>
              <a:ext cx="1268280" cy="1116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52520" y="21337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4571280" y="358128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"/>
            <p:cNvSpPr/>
            <p:nvPr/>
          </p:nvSpPr>
          <p:spPr>
            <a:xfrm>
              <a:off x="2863440" y="35751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4"/>
            <p:cNvSpPr/>
            <p:nvPr/>
          </p:nvSpPr>
          <p:spPr>
            <a:xfrm>
              <a:off x="3317400" y="207180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5"/>
            <p:cNvSpPr/>
            <p:nvPr/>
          </p:nvSpPr>
          <p:spPr>
            <a:xfrm>
              <a:off x="4800600" y="2438280"/>
              <a:ext cx="8748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6"/>
            <p:cNvSpPr/>
            <p:nvPr/>
          </p:nvSpPr>
          <p:spPr>
            <a:xfrm>
              <a:off x="4495680" y="3429000"/>
              <a:ext cx="8748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7"/>
            <p:cNvSpPr/>
            <p:nvPr/>
          </p:nvSpPr>
          <p:spPr>
            <a:xfrm>
              <a:off x="3265560" y="3435480"/>
              <a:ext cx="8892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"/>
            <p:cNvSpPr/>
            <p:nvPr/>
          </p:nvSpPr>
          <p:spPr>
            <a:xfrm>
              <a:off x="3598920" y="243828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19" descr=""/>
            <p:cNvPicPr/>
            <p:nvPr/>
          </p:nvPicPr>
          <p:blipFill>
            <a:blip r:embed="rId1"/>
            <a:stretch/>
          </p:blipFill>
          <p:spPr>
            <a:xfrm>
              <a:off x="3405240" y="2319480"/>
              <a:ext cx="4795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Line 20"/>
            <p:cNvSpPr/>
            <p:nvPr/>
          </p:nvSpPr>
          <p:spPr>
            <a:xfrm>
              <a:off x="3656160" y="2509920"/>
              <a:ext cx="1068120" cy="233280"/>
            </a:xfrm>
            <a:prstGeom prst="line">
              <a:avLst/>
            </a:prstGeom>
            <a:ln w="0">
              <a:solidFill>
                <a:srgbClr val="00008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1"/>
            <p:cNvSpPr/>
            <p:nvPr/>
          </p:nvSpPr>
          <p:spPr>
            <a:xfrm>
              <a:off x="4724280" y="2733840"/>
              <a:ext cx="87480" cy="85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5" name="Picture 22" descr=""/>
            <p:cNvPicPr/>
            <p:nvPr/>
          </p:nvPicPr>
          <p:blipFill>
            <a:blip r:embed="rId2"/>
            <a:stretch/>
          </p:blipFill>
          <p:spPr>
            <a:xfrm>
              <a:off x="3274920" y="3370320"/>
              <a:ext cx="752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23" descr=""/>
            <p:cNvPicPr/>
            <p:nvPr/>
          </p:nvPicPr>
          <p:blipFill>
            <a:blip r:embed="rId3"/>
            <a:stretch/>
          </p:blipFill>
          <p:spPr>
            <a:xfrm>
              <a:off x="4572000" y="2489040"/>
              <a:ext cx="712800" cy="78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395280" y="1341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∥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垂直平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四边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定是菱形吗？若是，请说明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"/>
          <p:cNvGrpSpPr/>
          <p:nvPr/>
        </p:nvGrpSpPr>
        <p:grpSpPr>
          <a:xfrm>
            <a:off x="4572000" y="2774880"/>
            <a:ext cx="3960720" cy="2886120"/>
            <a:chOff x="4572000" y="2774880"/>
            <a:chExt cx="3960720" cy="2886120"/>
          </a:xfrm>
        </p:grpSpPr>
        <p:sp>
          <p:nvSpPr>
            <p:cNvPr id="450" name="AutoShape 4"/>
            <p:cNvSpPr/>
            <p:nvPr/>
          </p:nvSpPr>
          <p:spPr>
            <a:xfrm>
              <a:off x="4572000" y="2774880"/>
              <a:ext cx="3960720" cy="28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5"/>
            <p:cNvSpPr/>
            <p:nvPr/>
          </p:nvSpPr>
          <p:spPr>
            <a:xfrm>
              <a:off x="5164200" y="4206960"/>
              <a:ext cx="1347480" cy="778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6"/>
            <p:cNvSpPr/>
            <p:nvPr/>
          </p:nvSpPr>
          <p:spPr>
            <a:xfrm flipH="1">
              <a:off x="6511680" y="4206960"/>
              <a:ext cx="1347120" cy="778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7"/>
            <p:cNvSpPr/>
            <p:nvPr/>
          </p:nvSpPr>
          <p:spPr>
            <a:xfrm>
              <a:off x="5164200" y="4206960"/>
              <a:ext cx="269460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8"/>
            <p:cNvSpPr/>
            <p:nvPr/>
          </p:nvSpPr>
          <p:spPr>
            <a:xfrm flipH="1">
              <a:off x="5163840" y="3429720"/>
              <a:ext cx="1347480" cy="777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9"/>
            <p:cNvSpPr/>
            <p:nvPr/>
          </p:nvSpPr>
          <p:spPr>
            <a:xfrm>
              <a:off x="6511680" y="3429720"/>
              <a:ext cx="1347120" cy="777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0"/>
            <p:cNvSpPr/>
            <p:nvPr/>
          </p:nvSpPr>
          <p:spPr>
            <a:xfrm>
              <a:off x="6511680" y="3429720"/>
              <a:ext cx="1080" cy="1555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1"/>
            <p:cNvSpPr/>
            <p:nvPr/>
          </p:nvSpPr>
          <p:spPr>
            <a:xfrm>
              <a:off x="7980840" y="406440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6450120" y="30207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3"/>
            <p:cNvSpPr/>
            <p:nvPr/>
          </p:nvSpPr>
          <p:spPr>
            <a:xfrm>
              <a:off x="6450120" y="50263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4"/>
            <p:cNvSpPr/>
            <p:nvPr/>
          </p:nvSpPr>
          <p:spPr>
            <a:xfrm>
              <a:off x="4857480" y="402336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5"/>
            <p:cNvSpPr/>
            <p:nvPr/>
          </p:nvSpPr>
          <p:spPr>
            <a:xfrm>
              <a:off x="6572160" y="424908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16"/>
          <p:cNvSpPr/>
          <p:nvPr/>
        </p:nvSpPr>
        <p:spPr>
          <a:xfrm>
            <a:off x="250920" y="476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6443640" y="38545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8" descr="BD21294_"/>
          <p:cNvPicPr/>
          <p:nvPr/>
        </p:nvPicPr>
        <p:blipFill>
          <a:blip r:embed="rId1"/>
          <a:stretch/>
        </p:blipFill>
        <p:spPr>
          <a:xfrm>
            <a:off x="5867280" y="414324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9" descr="BD21294_"/>
          <p:cNvPicPr/>
          <p:nvPr/>
        </p:nvPicPr>
        <p:blipFill>
          <a:blip r:embed="rId2"/>
          <a:stretch/>
        </p:blipFill>
        <p:spPr>
          <a:xfrm>
            <a:off x="7020000" y="414324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20"/>
          <p:cNvSpPr/>
          <p:nvPr/>
        </p:nvSpPr>
        <p:spPr>
          <a:xfrm>
            <a:off x="1887480" y="58831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1187280" y="595008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"/>
          <p:cNvSpPr/>
          <p:nvPr/>
        </p:nvSpPr>
        <p:spPr>
          <a:xfrm rot="21438000">
            <a:off x="5335560" y="38844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3"/>
          <p:cNvSpPr/>
          <p:nvPr/>
        </p:nvSpPr>
        <p:spPr>
          <a:xfrm rot="20307000">
            <a:off x="7194600" y="40478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2771640" y="6021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79280" y="981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、如图，已知在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中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=2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在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上，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E=AB=B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，说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E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Arial"/>
              </a:rPr>
              <a:t>⊥D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5508720" y="4294080"/>
            <a:ext cx="11509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3851280" y="2925720"/>
            <a:ext cx="4176720" cy="2823840"/>
            <a:chOff x="3851280" y="2925720"/>
            <a:chExt cx="4176720" cy="2823840"/>
          </a:xfrm>
        </p:grpSpPr>
        <p:grpSp>
          <p:nvGrpSpPr>
            <p:cNvPr id="475" name="Group 5"/>
            <p:cNvGrpSpPr/>
            <p:nvPr/>
          </p:nvGrpSpPr>
          <p:grpSpPr>
            <a:xfrm>
              <a:off x="4211640" y="3212640"/>
              <a:ext cx="3240000" cy="2088000"/>
              <a:chOff x="4211640" y="3212640"/>
              <a:chExt cx="3240000" cy="2088000"/>
            </a:xfrm>
          </p:grpSpPr>
          <p:sp>
            <p:nvSpPr>
              <p:cNvPr id="476" name="Line 6"/>
              <p:cNvSpPr/>
              <p:nvPr/>
            </p:nvSpPr>
            <p:spPr>
              <a:xfrm>
                <a:off x="4211640" y="5300640"/>
                <a:ext cx="32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7"/>
              <p:cNvSpPr/>
              <p:nvPr/>
            </p:nvSpPr>
            <p:spPr>
              <a:xfrm flipV="1">
                <a:off x="5219640" y="3212640"/>
                <a:ext cx="57636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8"/>
              <p:cNvSpPr/>
              <p:nvPr/>
            </p:nvSpPr>
            <p:spPr>
              <a:xfrm>
                <a:off x="5796000" y="321300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9"/>
              <p:cNvSpPr/>
              <p:nvPr/>
            </p:nvSpPr>
            <p:spPr>
              <a:xfrm flipH="1">
                <a:off x="6372000" y="3213000"/>
                <a:ext cx="50328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10"/>
              <p:cNvSpPr/>
              <p:nvPr/>
            </p:nvSpPr>
            <p:spPr>
              <a:xfrm>
                <a:off x="5796000" y="3213000"/>
                <a:ext cx="165564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1"/>
              <p:cNvSpPr/>
              <p:nvPr/>
            </p:nvSpPr>
            <p:spPr>
              <a:xfrm flipV="1">
                <a:off x="4211640" y="3212640"/>
                <a:ext cx="266364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Text Box 12"/>
            <p:cNvSpPr/>
            <p:nvPr/>
          </p:nvSpPr>
          <p:spPr>
            <a:xfrm>
              <a:off x="5003640" y="522900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6156360" y="522900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4"/>
            <p:cNvSpPr/>
            <p:nvPr/>
          </p:nvSpPr>
          <p:spPr>
            <a:xfrm>
              <a:off x="7451640" y="51577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5"/>
            <p:cNvSpPr/>
            <p:nvPr/>
          </p:nvSpPr>
          <p:spPr>
            <a:xfrm>
              <a:off x="6732360" y="39337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6"/>
            <p:cNvSpPr/>
            <p:nvPr/>
          </p:nvSpPr>
          <p:spPr>
            <a:xfrm>
              <a:off x="5364000" y="29257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7"/>
            <p:cNvSpPr/>
            <p:nvPr/>
          </p:nvSpPr>
          <p:spPr>
            <a:xfrm>
              <a:off x="5003640" y="386208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8"/>
            <p:cNvSpPr/>
            <p:nvPr/>
          </p:nvSpPr>
          <p:spPr>
            <a:xfrm>
              <a:off x="3851280" y="522900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9"/>
            <p:cNvSpPr/>
            <p:nvPr/>
          </p:nvSpPr>
          <p:spPr>
            <a:xfrm>
              <a:off x="6875280" y="29257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395280" y="836640"/>
            <a:ext cx="808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：如图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B=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=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直平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垂足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又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延长线上，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=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求证：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菱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7"/>
          <p:cNvGrpSpPr/>
          <p:nvPr/>
        </p:nvGrpSpPr>
        <p:grpSpPr>
          <a:xfrm>
            <a:off x="4503240" y="2997360"/>
            <a:ext cx="3389040" cy="3444120"/>
            <a:chOff x="4503240" y="2997360"/>
            <a:chExt cx="3389040" cy="3444120"/>
          </a:xfrm>
        </p:grpSpPr>
        <p:sp>
          <p:nvSpPr>
            <p:cNvPr id="493" name="Line 5"/>
            <p:cNvSpPr/>
            <p:nvPr/>
          </p:nvSpPr>
          <p:spPr>
            <a:xfrm>
              <a:off x="5166000" y="3168000"/>
              <a:ext cx="0" cy="283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6"/>
            <p:cNvSpPr/>
            <p:nvPr/>
          </p:nvSpPr>
          <p:spPr>
            <a:xfrm>
              <a:off x="5166000" y="6006600"/>
              <a:ext cx="141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7"/>
            <p:cNvSpPr/>
            <p:nvPr/>
          </p:nvSpPr>
          <p:spPr>
            <a:xfrm flipH="1" flipV="1">
              <a:off x="5166000" y="3167640"/>
              <a:ext cx="1412640" cy="283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8"/>
            <p:cNvSpPr/>
            <p:nvPr/>
          </p:nvSpPr>
          <p:spPr>
            <a:xfrm>
              <a:off x="5166000" y="4717080"/>
              <a:ext cx="21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9"/>
            <p:cNvSpPr/>
            <p:nvPr/>
          </p:nvSpPr>
          <p:spPr>
            <a:xfrm flipH="1">
              <a:off x="5165640" y="4717080"/>
              <a:ext cx="83196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0"/>
            <p:cNvSpPr/>
            <p:nvPr/>
          </p:nvSpPr>
          <p:spPr>
            <a:xfrm flipH="1">
              <a:off x="6579000" y="4717080"/>
              <a:ext cx="74736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1"/>
            <p:cNvSpPr/>
            <p:nvPr/>
          </p:nvSpPr>
          <p:spPr>
            <a:xfrm>
              <a:off x="6663600" y="5920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2"/>
            <p:cNvSpPr/>
            <p:nvPr/>
          </p:nvSpPr>
          <p:spPr>
            <a:xfrm>
              <a:off x="4503240" y="299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3"/>
            <p:cNvSpPr/>
            <p:nvPr/>
          </p:nvSpPr>
          <p:spPr>
            <a:xfrm>
              <a:off x="4585320" y="5920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4"/>
            <p:cNvSpPr/>
            <p:nvPr/>
          </p:nvSpPr>
          <p:spPr>
            <a:xfrm>
              <a:off x="4585320" y="43718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5"/>
            <p:cNvSpPr/>
            <p:nvPr/>
          </p:nvSpPr>
          <p:spPr>
            <a:xfrm>
              <a:off x="5997960" y="4028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6"/>
            <p:cNvSpPr/>
            <p:nvPr/>
          </p:nvSpPr>
          <p:spPr>
            <a:xfrm>
              <a:off x="7495200" y="41140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68360" y="548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：如下图在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⊥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⊥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F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菱形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7690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吊兰1"/>
          <p:cNvPicPr/>
          <p:nvPr/>
        </p:nvPicPr>
        <p:blipFill>
          <a:blip r:embed="rId1"/>
          <a:stretch/>
        </p:blipFill>
        <p:spPr>
          <a:xfrm>
            <a:off x="7229520" y="0"/>
            <a:ext cx="1914480" cy="21337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0" y="47628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如图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8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t△A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斜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高，∠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平分线交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交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G⊥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求证：四边形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GF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为菱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a2431131"/>
          <p:cNvPicPr/>
          <p:nvPr/>
        </p:nvPicPr>
        <p:blipFill>
          <a:blip r:embed="rId2"/>
          <a:stretch/>
        </p:blipFill>
        <p:spPr>
          <a:xfrm>
            <a:off x="1878120" y="2435400"/>
            <a:ext cx="5040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411280" y="15033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到了如何识别菱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6560" y="782640"/>
            <a:ext cx="5185080" cy="56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今天你学到了什么 </a:t>
            </a:r>
            <a:r>
              <a:rPr b="1" lang="zh-CN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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Gif32"/>
          <p:cNvPicPr/>
          <p:nvPr/>
        </p:nvPicPr>
        <p:blipFill>
          <a:blip r:embed="rId1"/>
          <a:stretch/>
        </p:blipFill>
        <p:spPr>
          <a:xfrm>
            <a:off x="7086600" y="-243000"/>
            <a:ext cx="2057400" cy="28353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539640" y="227664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Arial"/>
                <a:ea typeface="隶书"/>
              </a:rPr>
              <a:t>菱形识别方法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395280" y="321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组邻边相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行四边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菱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395280" y="4437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对角线互相垂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行四边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菱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395280" y="5661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四条边都相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四边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菱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116000" y="3860640"/>
            <a:ext cx="5688000" cy="0"/>
          </a:xfrm>
          <a:prstGeom prst="line">
            <a:avLst/>
          </a:prstGeom>
          <a:ln cap="rnd" w="63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7010280" y="3143160"/>
            <a:ext cx="1524240" cy="2590920"/>
          </a:xfrm>
          <a:prstGeom prst="diamond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6443640" y="4149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8534520" y="3932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7620120" y="2610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7596360" y="5661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44360" y="42696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菱形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BCD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的性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81080" y="1469880"/>
            <a:ext cx="51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具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平行四边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一切性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2360" y="291312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菱形本身具有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特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性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    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四条边相等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两条对角线互相垂直平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每一条对角线平分一组对角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5"/>
          <p:cNvGrpSpPr/>
          <p:nvPr/>
        </p:nvGrpSpPr>
        <p:grpSpPr>
          <a:xfrm>
            <a:off x="5292720" y="765000"/>
            <a:ext cx="3584520" cy="2368440"/>
            <a:chOff x="5292720" y="765000"/>
            <a:chExt cx="3584520" cy="2368440"/>
          </a:xfrm>
        </p:grpSpPr>
        <p:grpSp>
          <p:nvGrpSpPr>
            <p:cNvPr id="241" name="Group 6"/>
            <p:cNvGrpSpPr/>
            <p:nvPr/>
          </p:nvGrpSpPr>
          <p:grpSpPr>
            <a:xfrm>
              <a:off x="5681520" y="1255680"/>
              <a:ext cx="2808360" cy="1439640"/>
              <a:chOff x="5681520" y="1255680"/>
              <a:chExt cx="2808360" cy="1439640"/>
            </a:xfrm>
          </p:grpSpPr>
          <p:sp>
            <p:nvSpPr>
              <p:cNvPr id="242" name="Line 7"/>
              <p:cNvSpPr/>
              <p:nvPr/>
            </p:nvSpPr>
            <p:spPr>
              <a:xfrm>
                <a:off x="5681520" y="197460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8"/>
              <p:cNvSpPr/>
              <p:nvPr/>
            </p:nvSpPr>
            <p:spPr>
              <a:xfrm>
                <a:off x="7075440" y="1255680"/>
                <a:ext cx="0" cy="143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9"/>
            <p:cNvGrpSpPr/>
            <p:nvPr/>
          </p:nvGrpSpPr>
          <p:grpSpPr>
            <a:xfrm>
              <a:off x="5292720" y="765000"/>
              <a:ext cx="3584520" cy="2368440"/>
              <a:chOff x="5292720" y="765000"/>
              <a:chExt cx="3584520" cy="2368440"/>
            </a:xfrm>
          </p:grpSpPr>
          <p:sp>
            <p:nvSpPr>
              <p:cNvPr id="245" name="AutoShape 10"/>
              <p:cNvSpPr/>
              <p:nvPr/>
            </p:nvSpPr>
            <p:spPr>
              <a:xfrm>
                <a:off x="5664240" y="1244520"/>
                <a:ext cx="2808360" cy="1439640"/>
              </a:xfrm>
              <a:prstGeom prst="diamond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1"/>
              <p:cNvSpPr/>
              <p:nvPr/>
            </p:nvSpPr>
            <p:spPr>
              <a:xfrm>
                <a:off x="5292720" y="1734840"/>
                <a:ext cx="35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2"/>
              <p:cNvSpPr/>
              <p:nvPr/>
            </p:nvSpPr>
            <p:spPr>
              <a:xfrm>
                <a:off x="6851520" y="2612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"/>
              <p:cNvSpPr/>
              <p:nvPr/>
            </p:nvSpPr>
            <p:spPr>
              <a:xfrm>
                <a:off x="8445600" y="1709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6851520" y="7650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5"/>
            <p:cNvGrpSpPr/>
            <p:nvPr/>
          </p:nvGrpSpPr>
          <p:grpSpPr>
            <a:xfrm>
              <a:off x="6013440" y="1645920"/>
              <a:ext cx="2135160" cy="642960"/>
              <a:chOff x="6013440" y="1645920"/>
              <a:chExt cx="2135160" cy="642960"/>
            </a:xfrm>
          </p:grpSpPr>
          <p:sp>
            <p:nvSpPr>
              <p:cNvPr id="251" name="Text Box 16"/>
              <p:cNvSpPr/>
              <p:nvPr/>
            </p:nvSpPr>
            <p:spPr>
              <a:xfrm>
                <a:off x="6013440" y="16588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7"/>
              <p:cNvSpPr/>
              <p:nvPr/>
            </p:nvSpPr>
            <p:spPr>
              <a:xfrm>
                <a:off x="6046920" y="19206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8"/>
              <p:cNvSpPr/>
              <p:nvPr/>
            </p:nvSpPr>
            <p:spPr>
              <a:xfrm>
                <a:off x="7767720" y="1645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9"/>
              <p:cNvSpPr/>
              <p:nvPr/>
            </p:nvSpPr>
            <p:spPr>
              <a:xfrm>
                <a:off x="7788240" y="19033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0"/>
            <p:cNvGrpSpPr/>
            <p:nvPr/>
          </p:nvGrpSpPr>
          <p:grpSpPr>
            <a:xfrm>
              <a:off x="6750000" y="1260360"/>
              <a:ext cx="825480" cy="1330200"/>
              <a:chOff x="6750000" y="1260360"/>
              <a:chExt cx="825480" cy="1330200"/>
            </a:xfrm>
          </p:grpSpPr>
          <p:sp>
            <p:nvSpPr>
              <p:cNvPr id="256" name="Text Box 21"/>
              <p:cNvSpPr/>
              <p:nvPr/>
            </p:nvSpPr>
            <p:spPr>
              <a:xfrm>
                <a:off x="6797520" y="127296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22"/>
              <p:cNvSpPr/>
              <p:nvPr/>
            </p:nvSpPr>
            <p:spPr>
              <a:xfrm>
                <a:off x="7021440" y="126036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23"/>
              <p:cNvSpPr/>
              <p:nvPr/>
            </p:nvSpPr>
            <p:spPr>
              <a:xfrm>
                <a:off x="6750000" y="22096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24"/>
              <p:cNvSpPr/>
              <p:nvPr/>
            </p:nvSpPr>
            <p:spPr>
              <a:xfrm>
                <a:off x="7072200" y="22222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25"/>
            <p:cNvGrpSpPr/>
            <p:nvPr/>
          </p:nvGrpSpPr>
          <p:grpSpPr>
            <a:xfrm>
              <a:off x="7080120" y="1815840"/>
              <a:ext cx="144360" cy="144360"/>
              <a:chOff x="7080120" y="1815840"/>
              <a:chExt cx="144360" cy="144360"/>
            </a:xfrm>
          </p:grpSpPr>
          <p:sp>
            <p:nvSpPr>
              <p:cNvPr id="261" name="Line 26"/>
              <p:cNvSpPr/>
              <p:nvPr/>
            </p:nvSpPr>
            <p:spPr>
              <a:xfrm>
                <a:off x="7080120" y="182844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27"/>
              <p:cNvSpPr/>
              <p:nvPr/>
            </p:nvSpPr>
            <p:spPr>
              <a:xfrm>
                <a:off x="7224480" y="1815840"/>
                <a:ext cx="0" cy="144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Text Box 28"/>
          <p:cNvSpPr/>
          <p:nvPr/>
        </p:nvSpPr>
        <p:spPr>
          <a:xfrm>
            <a:off x="179280" y="566100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菱形的面积等于菱形对角线乘积的一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为什么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6732720" y="1916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叙述菱形的定义与性质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菱形的两条对角线长分别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周长和面积分别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菱形周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对角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较小的角的度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面积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菱形一边与两条对角线夹角的差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那么菱形各角的度数分别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菱形的周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两条对角线长的比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求两对角线长分别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2"/>
          <p:cNvSpPr txBox="1"/>
          <p:nvPr/>
        </p:nvSpPr>
        <p:spPr>
          <a:xfrm>
            <a:off x="468360" y="40464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矩形的判定方法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714680" y="1700280"/>
            <a:ext cx="54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角是直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四边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矩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08000" y="2859120"/>
            <a:ext cx="92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对角线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四边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矩形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287960" y="34974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角线相等且互相平分的四边形是矩形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2598840" y="4659480"/>
            <a:ext cx="30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有三个角是直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四边形是矩形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11"/>
          <p:cNvSpPr txBox="1"/>
          <p:nvPr/>
        </p:nvSpPr>
        <p:spPr>
          <a:xfrm>
            <a:off x="395280" y="5734080"/>
            <a:ext cx="81010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你知道如何判定一个菱形吗？</a:t>
            </a:r>
            <a:endParaRPr b="0" lang="en-US" sz="32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68360" y="2620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菱形的判定方法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08000" y="141300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邻边相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行四边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菱形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3708360" y="2781360"/>
            <a:ext cx="2016000" cy="792000"/>
            <a:chOff x="3708360" y="2781360"/>
            <a:chExt cx="2016000" cy="792000"/>
          </a:xfrm>
        </p:grpSpPr>
        <p:sp>
          <p:nvSpPr>
            <p:cNvPr id="276" name="AutoShape 5"/>
            <p:cNvSpPr/>
            <p:nvPr/>
          </p:nvSpPr>
          <p:spPr>
            <a:xfrm>
              <a:off x="3708360" y="3357360"/>
              <a:ext cx="2016000" cy="216000"/>
            </a:xfrm>
            <a:prstGeom prst="rightArrow">
              <a:avLst>
                <a:gd name="adj1" fmla="val 50000"/>
                <a:gd name="adj2" fmla="val 233333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3997080" y="2781360"/>
              <a:ext cx="15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B=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7"/>
          <p:cNvGrpSpPr/>
          <p:nvPr/>
        </p:nvGrpSpPr>
        <p:grpSpPr>
          <a:xfrm>
            <a:off x="395280" y="2565360"/>
            <a:ext cx="3384360" cy="2130120"/>
            <a:chOff x="395280" y="2565360"/>
            <a:chExt cx="3384360" cy="2130120"/>
          </a:xfrm>
        </p:grpSpPr>
        <p:sp>
          <p:nvSpPr>
            <p:cNvPr id="279" name="AutoShape 8"/>
            <p:cNvSpPr/>
            <p:nvPr/>
          </p:nvSpPr>
          <p:spPr>
            <a:xfrm>
              <a:off x="826920" y="2877840"/>
              <a:ext cx="2519280" cy="1081080"/>
            </a:xfrm>
            <a:prstGeom prst="parallelogram">
              <a:avLst>
                <a:gd name="adj" fmla="val 5825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1041120" y="25653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"/>
            <p:cNvSpPr/>
            <p:nvPr/>
          </p:nvSpPr>
          <p:spPr>
            <a:xfrm>
              <a:off x="395280" y="3741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1"/>
            <p:cNvSpPr/>
            <p:nvPr/>
          </p:nvSpPr>
          <p:spPr>
            <a:xfrm>
              <a:off x="2770200" y="3741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2"/>
            <p:cNvSpPr/>
            <p:nvPr/>
          </p:nvSpPr>
          <p:spPr>
            <a:xfrm>
              <a:off x="3274920" y="2590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3"/>
            <p:cNvSpPr/>
            <p:nvPr/>
          </p:nvSpPr>
          <p:spPr>
            <a:xfrm>
              <a:off x="969840" y="41749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□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AB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4"/>
          <p:cNvGrpSpPr/>
          <p:nvPr/>
        </p:nvGrpSpPr>
        <p:grpSpPr>
          <a:xfrm>
            <a:off x="5867280" y="2348280"/>
            <a:ext cx="2665440" cy="2444040"/>
            <a:chOff x="5867280" y="2348280"/>
            <a:chExt cx="2665440" cy="2444040"/>
          </a:xfrm>
        </p:grpSpPr>
        <p:sp>
          <p:nvSpPr>
            <p:cNvPr id="286" name="AutoShape 15"/>
            <p:cNvSpPr/>
            <p:nvPr/>
          </p:nvSpPr>
          <p:spPr>
            <a:xfrm rot="3538800">
              <a:off x="6559200" y="2377800"/>
              <a:ext cx="1209600" cy="2016000"/>
            </a:xfrm>
            <a:prstGeom prst="diamond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6"/>
            <p:cNvSpPr/>
            <p:nvPr/>
          </p:nvSpPr>
          <p:spPr>
            <a:xfrm>
              <a:off x="6443640" y="256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5867280" y="36450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8"/>
            <p:cNvSpPr/>
            <p:nvPr/>
          </p:nvSpPr>
          <p:spPr>
            <a:xfrm>
              <a:off x="7523280" y="3787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9"/>
            <p:cNvSpPr/>
            <p:nvPr/>
          </p:nvSpPr>
          <p:spPr>
            <a:xfrm>
              <a:off x="8028000" y="2637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5940360" y="414972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宋体"/>
                </a:rPr>
                <a:t>菱形</a:t>
              </a:r>
              <a:r>
                <a:rPr b="1" lang="en-US" sz="3600" spc="-1" strike="noStrike">
                  <a:solidFill>
                    <a:srgbClr val="cc0000"/>
                  </a:solidFill>
                  <a:latin typeface="宋体"/>
                </a:rPr>
                <a:t>ABC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539640" y="4869000"/>
            <a:ext cx="295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=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22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24"/>
          <p:cNvSpPr/>
          <p:nvPr/>
        </p:nvSpPr>
        <p:spPr>
          <a:xfrm>
            <a:off x="3311640" y="5373720"/>
            <a:ext cx="59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菱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/>
          <p:cNvSpPr/>
          <p:nvPr/>
        </p:nvSpPr>
        <p:spPr>
          <a:xfrm>
            <a:off x="2843280" y="5013360"/>
            <a:ext cx="287280" cy="1368360"/>
          </a:xfrm>
          <a:custGeom>
            <a:avLst/>
            <a:gdLst>
              <a:gd name="textAreaLeft" fmla="*/ 0 w 287280"/>
              <a:gd name="textAreaRight" fmla="*/ 10368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24000" y="2602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命题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角线互相垂直的平行四边形是菱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4"/>
          <p:cNvGrpSpPr/>
          <p:nvPr/>
        </p:nvGrpSpPr>
        <p:grpSpPr>
          <a:xfrm>
            <a:off x="5614920" y="2755800"/>
            <a:ext cx="3529080" cy="2187000"/>
            <a:chOff x="5614920" y="2755800"/>
            <a:chExt cx="3529080" cy="2187000"/>
          </a:xfrm>
        </p:grpSpPr>
        <p:sp>
          <p:nvSpPr>
            <p:cNvPr id="300" name="Line 5"/>
            <p:cNvSpPr/>
            <p:nvPr/>
          </p:nvSpPr>
          <p:spPr>
            <a:xfrm>
              <a:off x="5903640" y="3835440"/>
              <a:ext cx="259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"/>
            <p:cNvSpPr/>
            <p:nvPr/>
          </p:nvSpPr>
          <p:spPr>
            <a:xfrm>
              <a:off x="7199280" y="3114720"/>
              <a:ext cx="0" cy="13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 flipH="1">
              <a:off x="5903280" y="3114720"/>
              <a:ext cx="129564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5903640" y="3835440"/>
              <a:ext cx="129564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9"/>
            <p:cNvSpPr/>
            <p:nvPr/>
          </p:nvSpPr>
          <p:spPr>
            <a:xfrm>
              <a:off x="7199280" y="3114720"/>
              <a:ext cx="129708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0"/>
            <p:cNvSpPr/>
            <p:nvPr/>
          </p:nvSpPr>
          <p:spPr>
            <a:xfrm flipH="1">
              <a:off x="7198920" y="3835440"/>
              <a:ext cx="12970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1"/>
            <p:cNvSpPr/>
            <p:nvPr/>
          </p:nvSpPr>
          <p:spPr>
            <a:xfrm>
              <a:off x="7054920" y="27558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2"/>
            <p:cNvSpPr/>
            <p:nvPr/>
          </p:nvSpPr>
          <p:spPr>
            <a:xfrm>
              <a:off x="5614920" y="3691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3"/>
            <p:cNvSpPr/>
            <p:nvPr/>
          </p:nvSpPr>
          <p:spPr>
            <a:xfrm>
              <a:off x="6983280" y="44830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8496360" y="3691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5"/>
          <p:cNvGrpSpPr/>
          <p:nvPr/>
        </p:nvGrpSpPr>
        <p:grpSpPr>
          <a:xfrm>
            <a:off x="640080" y="1417680"/>
            <a:ext cx="3955320" cy="1076760"/>
            <a:chOff x="640080" y="1417680"/>
            <a:chExt cx="3955320" cy="1076760"/>
          </a:xfrm>
        </p:grpSpPr>
        <p:sp>
          <p:nvSpPr>
            <p:cNvPr id="311" name="Text Box 16"/>
            <p:cNvSpPr/>
            <p:nvPr/>
          </p:nvSpPr>
          <p:spPr>
            <a:xfrm>
              <a:off x="640080" y="1419120"/>
              <a:ext cx="395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已知：在                 中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⊥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7"/>
            <p:cNvGrpSpPr/>
            <p:nvPr/>
          </p:nvGrpSpPr>
          <p:grpSpPr>
            <a:xfrm>
              <a:off x="1660680" y="1417680"/>
              <a:ext cx="1363320" cy="459720"/>
              <a:chOff x="1660680" y="1417680"/>
              <a:chExt cx="1363320" cy="459720"/>
            </a:xfrm>
          </p:grpSpPr>
          <p:sp>
            <p:nvSpPr>
              <p:cNvPr id="313" name="Freeform 18"/>
              <p:cNvSpPr/>
              <p:nvPr/>
            </p:nvSpPr>
            <p:spPr>
              <a:xfrm>
                <a:off x="1660680" y="1531440"/>
                <a:ext cx="376560" cy="23076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230760"/>
                  <a:gd name="textAreaBottom" fmla="*/ 231120 h 230760"/>
                </a:gdLst>
                <a:ahLst/>
                <a:rect l="textAreaLeft" t="textAreaTop" r="textAreaRight" b="textAreaBottom"/>
                <a:pathLst>
                  <a:path w="240" h="144">
                    <a:moveTo>
                      <a:pt x="0" y="144"/>
                    </a:moveTo>
                    <a:lnTo>
                      <a:pt x="192" y="144"/>
                    </a:lnTo>
                    <a:lnTo>
                      <a:pt x="240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19"/>
              <p:cNvSpPr/>
              <p:nvPr/>
            </p:nvSpPr>
            <p:spPr>
              <a:xfrm>
                <a:off x="1965600" y="1417680"/>
                <a:ext cx="105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BC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20"/>
            <p:cNvGrpSpPr/>
            <p:nvPr/>
          </p:nvGrpSpPr>
          <p:grpSpPr>
            <a:xfrm>
              <a:off x="1340280" y="2033280"/>
              <a:ext cx="1363320" cy="459720"/>
              <a:chOff x="1340280" y="2033280"/>
              <a:chExt cx="1363320" cy="459720"/>
            </a:xfrm>
          </p:grpSpPr>
          <p:sp>
            <p:nvSpPr>
              <p:cNvPr id="316" name="Freeform 21"/>
              <p:cNvSpPr/>
              <p:nvPr/>
            </p:nvSpPr>
            <p:spPr>
              <a:xfrm>
                <a:off x="1340280" y="2147040"/>
                <a:ext cx="376560" cy="23112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240" h="144">
                    <a:moveTo>
                      <a:pt x="0" y="144"/>
                    </a:moveTo>
                    <a:lnTo>
                      <a:pt x="192" y="144"/>
                    </a:lnTo>
                    <a:lnTo>
                      <a:pt x="240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22"/>
              <p:cNvSpPr/>
              <p:nvPr/>
            </p:nvSpPr>
            <p:spPr>
              <a:xfrm>
                <a:off x="1645200" y="2033280"/>
                <a:ext cx="105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BC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Text Box 23"/>
            <p:cNvSpPr/>
            <p:nvPr/>
          </p:nvSpPr>
          <p:spPr>
            <a:xfrm>
              <a:off x="664560" y="2034720"/>
              <a:ext cx="262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求证：                 是菱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24"/>
          <p:cNvSpPr/>
          <p:nvPr/>
        </p:nvSpPr>
        <p:spPr>
          <a:xfrm>
            <a:off x="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5"/>
          <p:cNvSpPr/>
          <p:nvPr/>
        </p:nvSpPr>
        <p:spPr>
          <a:xfrm>
            <a:off x="1763640" y="4916520"/>
            <a:ext cx="330120" cy="144360"/>
          </a:xfrm>
          <a:custGeom>
            <a:avLst/>
            <a:gdLst>
              <a:gd name="textAreaLeft" fmla="*/ 0 w 330120"/>
              <a:gd name="textAreaRight" fmla="*/ 330480 w 330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40" h="144">
                <a:moveTo>
                  <a:pt x="0" y="144"/>
                </a:moveTo>
                <a:lnTo>
                  <a:pt x="192" y="144"/>
                </a:lnTo>
                <a:lnTo>
                  <a:pt x="240" y="0"/>
                </a:lnTo>
                <a:lnTo>
                  <a:pt x="48" y="0"/>
                </a:lnTo>
                <a:lnTo>
                  <a:pt x="0" y="1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1187280" y="477216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1219320" y="396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 ⊥ B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990720" y="2971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9"/>
          <p:cNvSpPr/>
          <p:nvPr/>
        </p:nvSpPr>
        <p:spPr>
          <a:xfrm>
            <a:off x="1219320" y="3505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=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12589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=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7164360" y="3763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7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8"/>
          <p:cNvSpPr/>
          <p:nvPr/>
        </p:nvSpPr>
        <p:spPr>
          <a:xfrm>
            <a:off x="539640" y="836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468360" y="26208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菱形的判定方法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-144360" y="1359000"/>
            <a:ext cx="94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角线互相垂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行四边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菱形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3780000" y="3068640"/>
            <a:ext cx="2016000" cy="792000"/>
            <a:chOff x="3780000" y="3068640"/>
            <a:chExt cx="2016000" cy="792000"/>
          </a:xfrm>
        </p:grpSpPr>
        <p:sp>
          <p:nvSpPr>
            <p:cNvPr id="333" name="AutoShape 5"/>
            <p:cNvSpPr/>
            <p:nvPr/>
          </p:nvSpPr>
          <p:spPr>
            <a:xfrm>
              <a:off x="3780000" y="3644640"/>
              <a:ext cx="2016000" cy="216000"/>
            </a:xfrm>
            <a:prstGeom prst="rightArrow">
              <a:avLst>
                <a:gd name="adj1" fmla="val 50000"/>
                <a:gd name="adj2" fmla="val 233333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6"/>
            <p:cNvSpPr/>
            <p:nvPr/>
          </p:nvSpPr>
          <p:spPr>
            <a:xfrm>
              <a:off x="4068720" y="3068640"/>
              <a:ext cx="15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C⊥B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7"/>
          <p:cNvSpPr/>
          <p:nvPr/>
        </p:nvSpPr>
        <p:spPr>
          <a:xfrm>
            <a:off x="468360" y="4797360"/>
            <a:ext cx="302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⊥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6012000" y="2498760"/>
            <a:ext cx="2665440" cy="2444400"/>
            <a:chOff x="6012000" y="2498760"/>
            <a:chExt cx="2665440" cy="2444400"/>
          </a:xfrm>
        </p:grpSpPr>
        <p:sp>
          <p:nvSpPr>
            <p:cNvPr id="337" name="AutoShape 10"/>
            <p:cNvSpPr/>
            <p:nvPr/>
          </p:nvSpPr>
          <p:spPr>
            <a:xfrm rot="3538800">
              <a:off x="6703560" y="2528640"/>
              <a:ext cx="1209960" cy="2016360"/>
            </a:xfrm>
            <a:prstGeom prst="diamond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6588360" y="2716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2"/>
            <p:cNvSpPr/>
            <p:nvPr/>
          </p:nvSpPr>
          <p:spPr>
            <a:xfrm>
              <a:off x="6012000" y="3795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7667640" y="3938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4"/>
            <p:cNvSpPr/>
            <p:nvPr/>
          </p:nvSpPr>
          <p:spPr>
            <a:xfrm>
              <a:off x="8172360" y="27874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5"/>
            <p:cNvSpPr/>
            <p:nvPr/>
          </p:nvSpPr>
          <p:spPr>
            <a:xfrm>
              <a:off x="6085080" y="430056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宋体"/>
                </a:rPr>
                <a:t>菱形</a:t>
              </a:r>
              <a:r>
                <a:rPr b="1" lang="en-US" sz="3600" spc="-1" strike="noStrike">
                  <a:solidFill>
                    <a:srgbClr val="cc0000"/>
                  </a:solidFill>
                  <a:latin typeface="宋体"/>
                </a:rPr>
                <a:t>ABC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6"/>
            <p:cNvSpPr/>
            <p:nvPr/>
          </p:nvSpPr>
          <p:spPr>
            <a:xfrm>
              <a:off x="6988320" y="3024000"/>
              <a:ext cx="647640" cy="10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 flipV="1">
              <a:off x="6470640" y="3049560"/>
              <a:ext cx="165600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 rot="720600">
              <a:off x="7381440" y="3483000"/>
              <a:ext cx="71640" cy="1425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5" h="90">
                  <a:moveTo>
                    <a:pt x="0" y="0"/>
                  </a:moveTo>
                  <a:lnTo>
                    <a:pt x="45" y="45"/>
                  </a:lnTo>
                  <a:lnTo>
                    <a:pt x="0" y="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9"/>
          <p:cNvGrpSpPr/>
          <p:nvPr/>
        </p:nvGrpSpPr>
        <p:grpSpPr>
          <a:xfrm>
            <a:off x="468360" y="2673360"/>
            <a:ext cx="3384000" cy="2125440"/>
            <a:chOff x="468360" y="2673360"/>
            <a:chExt cx="3384000" cy="2125440"/>
          </a:xfrm>
        </p:grpSpPr>
        <p:sp>
          <p:nvSpPr>
            <p:cNvPr id="347" name="AutoShape 20"/>
            <p:cNvSpPr/>
            <p:nvPr/>
          </p:nvSpPr>
          <p:spPr>
            <a:xfrm>
              <a:off x="899640" y="2986200"/>
              <a:ext cx="2519280" cy="1081080"/>
            </a:xfrm>
            <a:prstGeom prst="parallelogram">
              <a:avLst>
                <a:gd name="adj" fmla="val 5825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1114200" y="267336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2"/>
            <p:cNvSpPr/>
            <p:nvPr/>
          </p:nvSpPr>
          <p:spPr>
            <a:xfrm>
              <a:off x="468360" y="384984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3"/>
            <p:cNvSpPr/>
            <p:nvPr/>
          </p:nvSpPr>
          <p:spPr>
            <a:xfrm>
              <a:off x="2842920" y="384984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3347640" y="2698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1530720" y="2995200"/>
              <a:ext cx="1260360" cy="103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 flipV="1">
              <a:off x="890280" y="3007800"/>
              <a:ext cx="2539440" cy="103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7"/>
            <p:cNvSpPr/>
            <p:nvPr/>
          </p:nvSpPr>
          <p:spPr>
            <a:xfrm>
              <a:off x="1263600" y="4278240"/>
              <a:ext cx="141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□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AB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28"/>
          <p:cNvSpPr/>
          <p:nvPr/>
        </p:nvSpPr>
        <p:spPr>
          <a:xfrm>
            <a:off x="3276720" y="5300640"/>
            <a:ext cx="59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菱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9"/>
          <p:cNvSpPr/>
          <p:nvPr/>
        </p:nvSpPr>
        <p:spPr>
          <a:xfrm>
            <a:off x="2843280" y="4941720"/>
            <a:ext cx="287280" cy="1368720"/>
          </a:xfrm>
          <a:custGeom>
            <a:avLst/>
            <a:gdLst>
              <a:gd name="textAreaLeft" fmla="*/ 0 w 287280"/>
              <a:gd name="textAreaRight" fmla="*/ 10368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0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1"/>
          <p:cNvSpPr/>
          <p:nvPr/>
        </p:nvSpPr>
        <p:spPr>
          <a:xfrm>
            <a:off x="-144360" y="1935000"/>
            <a:ext cx="104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对角线互相垂直平分的四边形是菱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539640" y="692280"/>
            <a:ext cx="7669440" cy="1800000"/>
          </a:xfrm>
          <a:prstGeom prst="rect">
            <a:avLst/>
          </a:prstGeom>
          <a:noFill/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幼圆"/>
              </a:rPr>
              <a:t>情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李芳同学先画两条等长的线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然后分别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圆心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半径画弧，得到两弧的交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连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就得到了一个四边形，猜一猜，这是什么四边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250920" y="436572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幼圆"/>
              </a:rPr>
              <a:t>猜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四边都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四边形是菱形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0" y="1484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四条边都相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四边形是菱形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3494160" y="2827440"/>
            <a:ext cx="2878200" cy="627120"/>
            <a:chOff x="3494160" y="2827440"/>
            <a:chExt cx="2878200" cy="627120"/>
          </a:xfrm>
        </p:grpSpPr>
        <p:sp>
          <p:nvSpPr>
            <p:cNvPr id="365" name="AutoShape 5"/>
            <p:cNvSpPr/>
            <p:nvPr/>
          </p:nvSpPr>
          <p:spPr>
            <a:xfrm>
              <a:off x="3494160" y="3284640"/>
              <a:ext cx="2662200" cy="169920"/>
            </a:xfrm>
            <a:prstGeom prst="rightArrow">
              <a:avLst>
                <a:gd name="adj1" fmla="val 50000"/>
                <a:gd name="adj2" fmla="val 391684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3564000" y="282744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B=BC=CD=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7"/>
          <p:cNvGrpSpPr/>
          <p:nvPr/>
        </p:nvGrpSpPr>
        <p:grpSpPr>
          <a:xfrm>
            <a:off x="5938920" y="2373480"/>
            <a:ext cx="2665440" cy="2383200"/>
            <a:chOff x="5938920" y="2373480"/>
            <a:chExt cx="2665440" cy="2383200"/>
          </a:xfrm>
        </p:grpSpPr>
        <p:grpSp>
          <p:nvGrpSpPr>
            <p:cNvPr id="368" name="Group 8"/>
            <p:cNvGrpSpPr/>
            <p:nvPr/>
          </p:nvGrpSpPr>
          <p:grpSpPr>
            <a:xfrm>
              <a:off x="5938920" y="2373480"/>
              <a:ext cx="2665440" cy="2076120"/>
              <a:chOff x="5938920" y="2373480"/>
              <a:chExt cx="2665440" cy="2076120"/>
            </a:xfrm>
          </p:grpSpPr>
          <p:sp>
            <p:nvSpPr>
              <p:cNvPr id="369" name="AutoShape 9"/>
              <p:cNvSpPr/>
              <p:nvPr/>
            </p:nvSpPr>
            <p:spPr>
              <a:xfrm rot="3538800">
                <a:off x="6630480" y="2403360"/>
                <a:ext cx="1209960" cy="2016360"/>
              </a:xfrm>
              <a:prstGeom prst="diamond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0"/>
              <p:cNvSpPr/>
              <p:nvPr/>
            </p:nvSpPr>
            <p:spPr>
              <a:xfrm>
                <a:off x="6515280" y="2590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1"/>
              <p:cNvSpPr/>
              <p:nvPr/>
            </p:nvSpPr>
            <p:spPr>
              <a:xfrm>
                <a:off x="5938920" y="3670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2"/>
              <p:cNvSpPr/>
              <p:nvPr/>
            </p:nvSpPr>
            <p:spPr>
              <a:xfrm>
                <a:off x="7594560" y="3813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3"/>
              <p:cNvSpPr/>
              <p:nvPr/>
            </p:nvSpPr>
            <p:spPr>
              <a:xfrm>
                <a:off x="8099280" y="26622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4"/>
            <p:cNvSpPr/>
            <p:nvPr/>
          </p:nvSpPr>
          <p:spPr>
            <a:xfrm>
              <a:off x="6012000" y="4175280"/>
              <a:ext cx="24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菱形</a:t>
              </a:r>
              <a:r>
                <a:rPr b="1" lang="en-US" sz="3200" spc="-1" strike="noStrike">
                  <a:solidFill>
                    <a:srgbClr val="cc0000"/>
                  </a:solidFill>
                  <a:latin typeface="宋体"/>
                </a:rPr>
                <a:t>AB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15"/>
          <p:cNvSpPr/>
          <p:nvPr/>
        </p:nvSpPr>
        <p:spPr>
          <a:xfrm>
            <a:off x="1619280" y="465300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B=BC=CD=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2268360" y="595008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菱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1042920" y="2173320"/>
            <a:ext cx="2302920" cy="2511000"/>
            <a:chOff x="1042920" y="2173320"/>
            <a:chExt cx="2302920" cy="2511000"/>
          </a:xfrm>
        </p:grpSpPr>
        <p:sp>
          <p:nvSpPr>
            <p:cNvPr id="378" name="Rectangle 18"/>
            <p:cNvSpPr/>
            <p:nvPr/>
          </p:nvSpPr>
          <p:spPr>
            <a:xfrm>
              <a:off x="1266840" y="4163760"/>
              <a:ext cx="182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四边形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AB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9"/>
            <p:cNvGrpSpPr/>
            <p:nvPr/>
          </p:nvGrpSpPr>
          <p:grpSpPr>
            <a:xfrm>
              <a:off x="1042920" y="2173320"/>
              <a:ext cx="2302920" cy="2188440"/>
              <a:chOff x="1042920" y="2173320"/>
              <a:chExt cx="2302920" cy="2188440"/>
            </a:xfrm>
          </p:grpSpPr>
          <p:sp>
            <p:nvSpPr>
              <p:cNvPr id="380" name="Text Box 20"/>
              <p:cNvSpPr/>
              <p:nvPr/>
            </p:nvSpPr>
            <p:spPr>
              <a:xfrm>
                <a:off x="1833120" y="2173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1042920" y="3470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22"/>
              <p:cNvSpPr/>
              <p:nvPr/>
            </p:nvSpPr>
            <p:spPr>
              <a:xfrm>
                <a:off x="2841480" y="39020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23"/>
              <p:cNvSpPr/>
              <p:nvPr/>
            </p:nvSpPr>
            <p:spPr>
              <a:xfrm>
                <a:off x="2769840" y="26780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4"/>
              <p:cNvSpPr/>
              <p:nvPr/>
            </p:nvSpPr>
            <p:spPr>
              <a:xfrm>
                <a:off x="1401480" y="2485800"/>
                <a:ext cx="1441080" cy="16574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657440"/>
                  <a:gd name="textAreaBottom" fmla="*/ 1657800 h 1657440"/>
                </a:gdLst>
                <a:ahLst/>
                <a:rect l="textAreaLeft" t="textAreaTop" r="textAreaRight" b="textAreaBottom"/>
                <a:pathLst>
                  <a:path w="636" h="726">
                    <a:moveTo>
                      <a:pt x="363" y="0"/>
                    </a:moveTo>
                    <a:lnTo>
                      <a:pt x="0" y="589"/>
                    </a:lnTo>
                    <a:lnTo>
                      <a:pt x="636" y="726"/>
                    </a:lnTo>
                    <a:lnTo>
                      <a:pt x="636" y="227"/>
                    </a:lnTo>
                    <a:lnTo>
                      <a:pt x="363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Text Box 25"/>
          <p:cNvSpPr/>
          <p:nvPr/>
        </p:nvSpPr>
        <p:spPr>
          <a:xfrm>
            <a:off x="395280" y="333360"/>
            <a:ext cx="799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菱形的判定方法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6"/>
          <p:cNvSpPr/>
          <p:nvPr/>
        </p:nvSpPr>
        <p:spPr>
          <a:xfrm>
            <a:off x="3492360" y="5300640"/>
            <a:ext cx="719280" cy="720720"/>
          </a:xfrm>
          <a:prstGeom prst="downArrow">
            <a:avLst>
              <a:gd name="adj1" fmla="val 50000"/>
              <a:gd name="adj2" fmla="val 2505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吊兰1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9749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-24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归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907920"/>
            <a:ext cx="3290760" cy="73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00080" y="10717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菱形常用的判定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539640" y="2133720"/>
            <a:ext cx="10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有一组</a:t>
            </a: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邻边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等的</a:t>
            </a:r>
            <a:r>
              <a:rPr b="1" lang="zh-CN" sz="3200" spc="-1" strike="noStrike" u="sng">
                <a:solidFill>
                  <a:srgbClr val="c61300"/>
                </a:solidFill>
                <a:uFillTx/>
                <a:latin typeface="华文新魏"/>
                <a:ea typeface="华文新魏"/>
              </a:rPr>
              <a:t>平行四边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菱形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68360" y="33577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、对角线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互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垂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平行四边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菱形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977760" y="4149720"/>
            <a:ext cx="81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对角线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互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垂直平分的四边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菱形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500040" y="5157720"/>
            <a:ext cx="76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有四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边相等的四边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菱形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3:04:50Z</dcterms:created>
  <dc:creator>kejianyuan.com</dc:creator>
  <dc:description>kejianyuan.com</dc:description>
  <cp:keywords>kejianyuan.com</cp:keywords>
  <dc:language>en-US</dc:language>
  <cp:lastModifiedBy/>
  <dcterms:modified xsi:type="dcterms:W3CDTF">2014-09-10T16:20:38Z</dcterms:modified>
  <cp:revision>18</cp:revision>
  <dc:subject>人教版八年级数学（下）全套课件</dc:subject>
  <dc:title>人教版八年级数学（下）全套课件</dc:title>
</cp:coreProperties>
</file>