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C0EE-3411-429B-9450-93491B0FA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C12B-173F-4292-B2F1-AC3992EE2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练习题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一组数据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则这组数据的平均数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已知                                    的平均数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数的平均数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数的平均数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则这几个数的平均数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60ED-A61B-44D8-A236-C23E3B41D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D18D-BBDD-4FAF-9268-1CD49EDB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19B-5CD5-4DEF-8938-0CAB09CC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FAE-2114-4F5A-9FB5-B8AFFD74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0D6-309D-43ED-A658-E1F9D1A3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D49-90AB-4C57-924F-5D3C4B30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C28BE-F1AE-4646-9E0E-B648BB51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4BDBA-38B9-4740-B639-C16EBECF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49376-51C0-4B17-9C6B-4F6595CA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6EE91-42B9-48CA-A4F3-B66EFAF6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3E33D-D92D-4DD6-87DA-0CFD25E9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FF77A-8BDF-49B8-BD3F-C7000B22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428F0-D9FC-41C2-A439-B079F521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2A5-8DA2-43EA-8916-B5D3AE27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6962E-1BF5-4970-8CDA-733D921B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2C7E7-59A7-4116-870D-4A80F4BA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9769C-9504-4F4F-9DD1-8B979C31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EF169-F995-47D7-B156-9485B8C9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7B58E-1435-47E6-A8D4-FE0392CC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4525-235B-4D92-891A-8773DB80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33A6-9011-4CEC-9F9A-F305FEFE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654C8-76CD-4C56-95E0-38A2D45F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EAA7-7565-4509-8B1D-D56C9971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812B1-B97C-42F2-90E0-F34A1F62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88E-FDBF-44F2-919E-EC8F679B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DD114-6176-4CEE-AD3C-0F95F36B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5F5D8-76A8-4864-AA6A-B094CE0A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899C1-C782-496A-AAF4-FB074B4F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4376A-675D-4BC4-8926-1BAC1095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F63A-26C2-4859-81F9-3186E304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7E215-2C25-49CB-8D78-14C8C1F0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9069F-D050-471E-BCC0-F65D727C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0F8-5929-488F-9445-52480176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5C5-5F79-4D47-A35E-184EE6DE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800-7C47-4CEA-93F7-CC774232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4FC-ABDE-4D17-BB6A-18D1DB7A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9CD-B8FE-4230-8826-1660E868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ACA-DD7A-4F4F-88AC-12B07623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BEA1-0E20-4C54-8ED7-8D0E12D03BD9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7DE7-0776-40E3-AA04-285D6175D9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95A7-CEFE-471A-98BA-5ECD158397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C1E9-069B-4EB4-9376-74FC3AD9FA84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7280-A89A-4CAD-B049-DFA6D2749ABA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BFDF-31B0-4D61-9ECE-10890CCF36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1979640" y="692280"/>
            <a:ext cx="475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数据的代表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WordArt 10"/>
          <p:cNvSpPr txBox="1"/>
          <p:nvPr/>
        </p:nvSpPr>
        <p:spPr>
          <a:xfrm>
            <a:off x="2556000" y="2205000"/>
            <a:ext cx="3276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一节  平均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WordArt 11"/>
          <p:cNvSpPr txBox="1"/>
          <p:nvPr/>
        </p:nvSpPr>
        <p:spPr>
          <a:xfrm>
            <a:off x="2987640" y="3789360"/>
            <a:ext cx="246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市直中学  郭晓娟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026"/>
          <p:cNvSpPr/>
          <p:nvPr/>
        </p:nvSpPr>
        <p:spPr>
          <a:xfrm>
            <a:off x="228600" y="11430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休斯顿火箭队的平均身高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06+2.06+1.9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.98) ÷15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027"/>
          <p:cNvSpPr/>
          <p:nvPr/>
        </p:nvSpPr>
        <p:spPr>
          <a:xfrm>
            <a:off x="22860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休斯顿火箭队的平均年龄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9+31+34+……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3) ÷15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028"/>
          <p:cNvSpPr/>
          <p:nvPr/>
        </p:nvSpPr>
        <p:spPr>
          <a:xfrm>
            <a:off x="228600" y="3051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洛杉矶湖人队的平均身高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.98+1.80+1.88+……+2.16) ÷15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029"/>
          <p:cNvSpPr/>
          <p:nvPr/>
        </p:nvSpPr>
        <p:spPr>
          <a:xfrm>
            <a:off x="228600" y="4052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洛杉矶湖人队的平均年龄＝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6+30+27+……+36) ÷15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1030"/>
          <p:cNvSpPr/>
          <p:nvPr/>
        </p:nvSpPr>
        <p:spPr>
          <a:xfrm>
            <a:off x="2268360" y="333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228600" y="838080"/>
            <a:ext cx="8229600" cy="3751560"/>
            <a:chOff x="228600" y="838080"/>
            <a:chExt cx="8229600" cy="3751560"/>
          </a:xfrm>
        </p:grpSpPr>
        <p:sp>
          <p:nvSpPr>
            <p:cNvPr id="182" name="Text Box 4"/>
            <p:cNvSpPr/>
            <p:nvPr/>
          </p:nvSpPr>
          <p:spPr>
            <a:xfrm>
              <a:off x="228600" y="838080"/>
              <a:ext cx="82296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日常生活中，我们常用平均数表示一组数据的“平均水平”。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一般的，对于      个数                               我们把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叫做这      个数的</a:t>
              </a: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算术平均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简称</a:t>
              </a: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平均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记为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读作“      拔 ”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6"/>
                <p:cNvSpPr txBox="1"/>
                <p:nvPr/>
              </p:nvSpPr>
              <p:spPr>
                <a:xfrm>
                  <a:off x="3375000" y="1066680"/>
                  <a:ext cx="2187720" cy="67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Object 7"/>
                <p:cNvSpPr txBox="1"/>
                <p:nvPr/>
              </p:nvSpPr>
              <p:spPr>
                <a:xfrm>
                  <a:off x="2209680" y="1219320"/>
                  <a:ext cx="40968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Object 9"/>
                <p:cNvSpPr txBox="1"/>
                <p:nvPr/>
              </p:nvSpPr>
              <p:spPr>
                <a:xfrm>
                  <a:off x="2362320" y="1960560"/>
                  <a:ext cx="28954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" name="Object 11"/>
                <p:cNvSpPr txBox="1"/>
                <p:nvPr/>
              </p:nvSpPr>
              <p:spPr>
                <a:xfrm>
                  <a:off x="1295280" y="3435480"/>
                  <a:ext cx="40968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Object 13"/>
                <p:cNvSpPr txBox="1"/>
                <p:nvPr/>
              </p:nvSpPr>
              <p:spPr>
                <a:xfrm>
                  <a:off x="6953400" y="3352680"/>
                  <a:ext cx="4507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14"/>
                <p:cNvSpPr txBox="1"/>
                <p:nvPr/>
              </p:nvSpPr>
              <p:spPr>
                <a:xfrm>
                  <a:off x="990720" y="3809880"/>
                  <a:ext cx="68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0" name="Group 373"/>
          <p:cNvGrpSpPr/>
          <p:nvPr/>
        </p:nvGrpSpPr>
        <p:grpSpPr>
          <a:xfrm>
            <a:off x="324000" y="457200"/>
            <a:ext cx="8550000" cy="4359960"/>
            <a:chOff x="324000" y="457200"/>
            <a:chExt cx="8550000" cy="4359960"/>
          </a:xfrm>
        </p:grpSpPr>
        <p:sp>
          <p:nvSpPr>
            <p:cNvPr id="191" name="WordArt 2"/>
            <p:cNvSpPr txBox="1"/>
            <p:nvPr/>
          </p:nvSpPr>
          <p:spPr>
            <a:xfrm>
              <a:off x="533520" y="457200"/>
              <a:ext cx="1371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想一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Text Box 367"/>
            <p:cNvSpPr/>
            <p:nvPr/>
          </p:nvSpPr>
          <p:spPr>
            <a:xfrm>
              <a:off x="324000" y="4113360"/>
              <a:ext cx="855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平均年龄＝（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×1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4×4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5×3+26×1+27×3+30×1+32×1+36×1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÷(1+4+3+1+3+1+1+1) ≈24.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岁）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7283520" y="2511360"/>
              <a:ext cx="828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20"/>
            <p:cNvSpPr/>
            <p:nvPr/>
          </p:nvSpPr>
          <p:spPr>
            <a:xfrm>
              <a:off x="6640560" y="2511360"/>
              <a:ext cx="642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9"/>
            <p:cNvSpPr/>
            <p:nvPr/>
          </p:nvSpPr>
          <p:spPr>
            <a:xfrm>
              <a:off x="5904000" y="2511360"/>
              <a:ext cx="7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8"/>
            <p:cNvSpPr/>
            <p:nvPr/>
          </p:nvSpPr>
          <p:spPr>
            <a:xfrm>
              <a:off x="5167440" y="2511360"/>
              <a:ext cx="7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17"/>
            <p:cNvSpPr/>
            <p:nvPr/>
          </p:nvSpPr>
          <p:spPr>
            <a:xfrm>
              <a:off x="4432320" y="2511360"/>
              <a:ext cx="735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Rectangle 16"/>
            <p:cNvSpPr/>
            <p:nvPr/>
          </p:nvSpPr>
          <p:spPr>
            <a:xfrm>
              <a:off x="3693960" y="2511360"/>
              <a:ext cx="738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2976480" y="2511360"/>
              <a:ext cx="717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2222640" y="2511360"/>
              <a:ext cx="753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92120" y="2511360"/>
              <a:ext cx="1730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相应队员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12"/>
            <p:cNvSpPr/>
            <p:nvPr/>
          </p:nvSpPr>
          <p:spPr>
            <a:xfrm>
              <a:off x="7283520" y="1673280"/>
              <a:ext cx="828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11"/>
            <p:cNvSpPr/>
            <p:nvPr/>
          </p:nvSpPr>
          <p:spPr>
            <a:xfrm>
              <a:off x="6640560" y="1673280"/>
              <a:ext cx="642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5904000" y="1673280"/>
              <a:ext cx="73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>
              <a:off x="5167440" y="1673280"/>
              <a:ext cx="73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4432320" y="1673280"/>
              <a:ext cx="7351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3693960" y="1673280"/>
              <a:ext cx="7383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2976480" y="1673280"/>
              <a:ext cx="717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5"/>
            <p:cNvSpPr/>
            <p:nvPr/>
          </p:nvSpPr>
          <p:spPr>
            <a:xfrm>
              <a:off x="2222640" y="1673280"/>
              <a:ext cx="753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468360" y="1727280"/>
              <a:ext cx="1730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年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岁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22"/>
            <p:cNvSpPr/>
            <p:nvPr/>
          </p:nvSpPr>
          <p:spPr>
            <a:xfrm>
              <a:off x="492120" y="1673280"/>
              <a:ext cx="76201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23"/>
            <p:cNvSpPr/>
            <p:nvPr/>
          </p:nvSpPr>
          <p:spPr>
            <a:xfrm>
              <a:off x="492120" y="2511360"/>
              <a:ext cx="7620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24"/>
            <p:cNvSpPr/>
            <p:nvPr/>
          </p:nvSpPr>
          <p:spPr>
            <a:xfrm>
              <a:off x="492120" y="3273480"/>
              <a:ext cx="76201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25"/>
            <p:cNvSpPr/>
            <p:nvPr/>
          </p:nvSpPr>
          <p:spPr>
            <a:xfrm>
              <a:off x="492120" y="1673280"/>
              <a:ext cx="0" cy="16002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26"/>
            <p:cNvSpPr/>
            <p:nvPr/>
          </p:nvSpPr>
          <p:spPr>
            <a:xfrm>
              <a:off x="2222640" y="1673280"/>
              <a:ext cx="0" cy="1600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Line 27"/>
            <p:cNvSpPr/>
            <p:nvPr/>
          </p:nvSpPr>
          <p:spPr>
            <a:xfrm>
              <a:off x="2976480" y="1673280"/>
              <a:ext cx="0" cy="1600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Line 28"/>
            <p:cNvSpPr/>
            <p:nvPr/>
          </p:nvSpPr>
          <p:spPr>
            <a:xfrm>
              <a:off x="3693960" y="1673280"/>
              <a:ext cx="0" cy="1600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29"/>
            <p:cNvSpPr/>
            <p:nvPr/>
          </p:nvSpPr>
          <p:spPr>
            <a:xfrm>
              <a:off x="4432320" y="1673280"/>
              <a:ext cx="0" cy="1600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Line 30"/>
            <p:cNvSpPr/>
            <p:nvPr/>
          </p:nvSpPr>
          <p:spPr>
            <a:xfrm>
              <a:off x="5167440" y="1673280"/>
              <a:ext cx="0" cy="1600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Line 31"/>
            <p:cNvSpPr/>
            <p:nvPr/>
          </p:nvSpPr>
          <p:spPr>
            <a:xfrm>
              <a:off x="5904000" y="1673280"/>
              <a:ext cx="0" cy="1600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Line 32"/>
            <p:cNvSpPr/>
            <p:nvPr/>
          </p:nvSpPr>
          <p:spPr>
            <a:xfrm>
              <a:off x="6640560" y="1673280"/>
              <a:ext cx="0" cy="1600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33"/>
            <p:cNvSpPr/>
            <p:nvPr/>
          </p:nvSpPr>
          <p:spPr>
            <a:xfrm>
              <a:off x="7283520" y="1673280"/>
              <a:ext cx="0" cy="1600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>
              <a:off x="8112240" y="1673280"/>
              <a:ext cx="0" cy="16002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Text Box 365"/>
            <p:cNvSpPr/>
            <p:nvPr/>
          </p:nvSpPr>
          <p:spPr>
            <a:xfrm>
              <a:off x="415800" y="1063800"/>
              <a:ext cx="662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小明是这样计算洛杉矶湖人队队员的平均年龄的：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" name="WordArt 368"/>
          <p:cNvSpPr txBox="1"/>
          <p:nvPr/>
        </p:nvSpPr>
        <p:spPr>
          <a:xfrm>
            <a:off x="873000" y="5541840"/>
            <a:ext cx="640080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你能说说小明这样做的道理吗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7" name="Group 168"/>
          <p:cNvGrpSpPr/>
          <p:nvPr/>
        </p:nvGrpSpPr>
        <p:grpSpPr>
          <a:xfrm>
            <a:off x="250920" y="0"/>
            <a:ext cx="8353440" cy="3561120"/>
            <a:chOff x="250920" y="0"/>
            <a:chExt cx="8353440" cy="3561120"/>
          </a:xfrm>
        </p:grpSpPr>
        <p:sp>
          <p:nvSpPr>
            <p:cNvPr id="228" name="Text Box 4"/>
            <p:cNvSpPr/>
            <p:nvPr/>
          </p:nvSpPr>
          <p:spPr>
            <a:xfrm>
              <a:off x="250920" y="0"/>
              <a:ext cx="779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例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1  </a:t>
              </a: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某广告公司欲招聘广告策划人员一名，对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，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，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三名候选人进行三项素质测试。他们的各项测试成绩如下表所示：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9" name="Group 167"/>
            <p:cNvGrpSpPr/>
            <p:nvPr/>
          </p:nvGrpSpPr>
          <p:grpSpPr>
            <a:xfrm>
              <a:off x="900000" y="792360"/>
              <a:ext cx="4392720" cy="1682640"/>
              <a:chOff x="900000" y="792360"/>
              <a:chExt cx="4392720" cy="1682640"/>
            </a:xfrm>
          </p:grpSpPr>
          <p:sp>
            <p:nvSpPr>
              <p:cNvPr id="230" name="Rectangle 134"/>
              <p:cNvSpPr/>
              <p:nvPr/>
            </p:nvSpPr>
            <p:spPr>
              <a:xfrm>
                <a:off x="1998720" y="792360"/>
                <a:ext cx="32940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ff"/>
                    </a:solidFill>
                    <a:latin typeface="Tahoma"/>
                  </a:rPr>
                  <a:t>测试成绩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69"/>
              <p:cNvSpPr/>
              <p:nvPr/>
            </p:nvSpPr>
            <p:spPr>
              <a:xfrm>
                <a:off x="4194000" y="2138400"/>
                <a:ext cx="10987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Tahoma"/>
                  </a:rPr>
                  <a:t>67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68"/>
              <p:cNvSpPr/>
              <p:nvPr/>
            </p:nvSpPr>
            <p:spPr>
              <a:xfrm>
                <a:off x="2992320" y="2138400"/>
                <a:ext cx="12016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Tahoma"/>
                  </a:rPr>
                  <a:t>45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67"/>
              <p:cNvSpPr/>
              <p:nvPr/>
            </p:nvSpPr>
            <p:spPr>
              <a:xfrm>
                <a:off x="1998720" y="2138400"/>
                <a:ext cx="99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Tahoma"/>
                  </a:rPr>
                  <a:t>88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900000" y="2138400"/>
                <a:ext cx="10987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ff"/>
                    </a:solidFill>
                    <a:latin typeface="Tahoma"/>
                  </a:rPr>
                  <a:t>语     言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65"/>
              <p:cNvSpPr/>
              <p:nvPr/>
            </p:nvSpPr>
            <p:spPr>
              <a:xfrm>
                <a:off x="4194000" y="1801800"/>
                <a:ext cx="10987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Tahoma"/>
                  </a:rPr>
                  <a:t>7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64"/>
              <p:cNvSpPr/>
              <p:nvPr/>
            </p:nvSpPr>
            <p:spPr>
              <a:xfrm>
                <a:off x="2992320" y="1801800"/>
                <a:ext cx="12016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Tahoma"/>
                  </a:rPr>
                  <a:t>74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63"/>
              <p:cNvSpPr/>
              <p:nvPr/>
            </p:nvSpPr>
            <p:spPr>
              <a:xfrm>
                <a:off x="1998720" y="1801800"/>
                <a:ext cx="99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Tahoma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62"/>
              <p:cNvSpPr/>
              <p:nvPr/>
            </p:nvSpPr>
            <p:spPr>
              <a:xfrm>
                <a:off x="900000" y="1801800"/>
                <a:ext cx="10987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ff"/>
                    </a:solidFill>
                    <a:latin typeface="Tahoma"/>
                  </a:rPr>
                  <a:t>综合知识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61"/>
              <p:cNvSpPr/>
              <p:nvPr/>
            </p:nvSpPr>
            <p:spPr>
              <a:xfrm>
                <a:off x="4194000" y="1465200"/>
                <a:ext cx="10987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Tahoma"/>
                  </a:rPr>
                  <a:t>67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60"/>
              <p:cNvSpPr/>
              <p:nvPr/>
            </p:nvSpPr>
            <p:spPr>
              <a:xfrm>
                <a:off x="2992320" y="1465200"/>
                <a:ext cx="12016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Tahoma"/>
                  </a:rPr>
                  <a:t>85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9"/>
              <p:cNvSpPr/>
              <p:nvPr/>
            </p:nvSpPr>
            <p:spPr>
              <a:xfrm>
                <a:off x="1998720" y="1465200"/>
                <a:ext cx="99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Tahoma"/>
                  </a:rPr>
                  <a:t>72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8"/>
              <p:cNvSpPr/>
              <p:nvPr/>
            </p:nvSpPr>
            <p:spPr>
              <a:xfrm>
                <a:off x="900000" y="1465200"/>
                <a:ext cx="10987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ff"/>
                    </a:solidFill>
                    <a:latin typeface="Tahoma"/>
                  </a:rPr>
                  <a:t>创     新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7"/>
              <p:cNvSpPr/>
              <p:nvPr/>
            </p:nvSpPr>
            <p:spPr>
              <a:xfrm>
                <a:off x="4194000" y="1128960"/>
                <a:ext cx="1098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6"/>
              <p:cNvSpPr/>
              <p:nvPr/>
            </p:nvSpPr>
            <p:spPr>
              <a:xfrm>
                <a:off x="2992320" y="1128960"/>
                <a:ext cx="1201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>
                <a:off x="1998720" y="1128960"/>
                <a:ext cx="99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4"/>
              <p:cNvSpPr/>
              <p:nvPr/>
            </p:nvSpPr>
            <p:spPr>
              <a:xfrm>
                <a:off x="900000" y="792360"/>
                <a:ext cx="1098720" cy="672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ff"/>
                    </a:solidFill>
                    <a:latin typeface="Tahoma"/>
                  </a:rPr>
                  <a:t>测试项目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Line 70"/>
              <p:cNvSpPr/>
              <p:nvPr/>
            </p:nvSpPr>
            <p:spPr>
              <a:xfrm>
                <a:off x="900000" y="792360"/>
                <a:ext cx="43927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Line 71"/>
              <p:cNvSpPr/>
              <p:nvPr/>
            </p:nvSpPr>
            <p:spPr>
              <a:xfrm>
                <a:off x="900000" y="1465200"/>
                <a:ext cx="439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Line 72"/>
              <p:cNvSpPr/>
              <p:nvPr/>
            </p:nvSpPr>
            <p:spPr>
              <a:xfrm>
                <a:off x="900000" y="1801800"/>
                <a:ext cx="439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Line 73"/>
              <p:cNvSpPr/>
              <p:nvPr/>
            </p:nvSpPr>
            <p:spPr>
              <a:xfrm>
                <a:off x="900000" y="2138400"/>
                <a:ext cx="439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Line 74"/>
              <p:cNvSpPr/>
              <p:nvPr/>
            </p:nvSpPr>
            <p:spPr>
              <a:xfrm>
                <a:off x="900000" y="2475000"/>
                <a:ext cx="43927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Line 75"/>
              <p:cNvSpPr/>
              <p:nvPr/>
            </p:nvSpPr>
            <p:spPr>
              <a:xfrm>
                <a:off x="900000" y="792360"/>
                <a:ext cx="0" cy="168264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Line 76"/>
              <p:cNvSpPr/>
              <p:nvPr/>
            </p:nvSpPr>
            <p:spPr>
              <a:xfrm>
                <a:off x="1998720" y="792360"/>
                <a:ext cx="0" cy="168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Line 79"/>
              <p:cNvSpPr/>
              <p:nvPr/>
            </p:nvSpPr>
            <p:spPr>
              <a:xfrm>
                <a:off x="5292720" y="792360"/>
                <a:ext cx="0" cy="168264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Line 153"/>
              <p:cNvSpPr/>
              <p:nvPr/>
            </p:nvSpPr>
            <p:spPr>
              <a:xfrm>
                <a:off x="2992320" y="1128960"/>
                <a:ext cx="0" cy="134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Line 154"/>
              <p:cNvSpPr/>
              <p:nvPr/>
            </p:nvSpPr>
            <p:spPr>
              <a:xfrm>
                <a:off x="4194000" y="1128960"/>
                <a:ext cx="0" cy="134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Line 156"/>
              <p:cNvSpPr/>
              <p:nvPr/>
            </p:nvSpPr>
            <p:spPr>
              <a:xfrm>
                <a:off x="1998720" y="1128960"/>
                <a:ext cx="3294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8" name="Text Box 165"/>
            <p:cNvSpPr/>
            <p:nvPr/>
          </p:nvSpPr>
          <p:spPr>
            <a:xfrm>
              <a:off x="324000" y="2737080"/>
              <a:ext cx="828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（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）如果根据三项测试的平均成绩确定录用人选，那么谁将被录用？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（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）根据实际需要，公司将创新、综合知识和语言三项测试得分按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：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：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的比例确定各人的测试成绩，此时谁将被录用？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" name="Group 173"/>
          <p:cNvGrpSpPr/>
          <p:nvPr/>
        </p:nvGrpSpPr>
        <p:grpSpPr>
          <a:xfrm>
            <a:off x="250920" y="4149720"/>
            <a:ext cx="6337080" cy="1889280"/>
            <a:chOff x="250920" y="4149720"/>
            <a:chExt cx="6337080" cy="1889280"/>
          </a:xfrm>
        </p:grpSpPr>
        <p:sp>
          <p:nvSpPr>
            <p:cNvPr id="260" name="Text Box 169"/>
            <p:cNvSpPr/>
            <p:nvPr/>
          </p:nvSpPr>
          <p:spPr>
            <a:xfrm>
              <a:off x="250920" y="4299120"/>
              <a:ext cx="633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解：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平均成绩为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+50+88) ×      =7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分）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平均成绩为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5+74+4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      =6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分）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平均成绩为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7+70+67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      =6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分）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1024"/>
                <p:cNvSpPr txBox="1"/>
                <p:nvPr/>
              </p:nvSpPr>
              <p:spPr>
                <a:xfrm>
                  <a:off x="4572000" y="4149720"/>
                  <a:ext cx="2869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1025"/>
                <p:cNvSpPr txBox="1"/>
                <p:nvPr/>
              </p:nvSpPr>
              <p:spPr>
                <a:xfrm>
                  <a:off x="4572000" y="4724640"/>
                  <a:ext cx="28836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Object 1026"/>
                <p:cNvSpPr txBox="1"/>
                <p:nvPr/>
              </p:nvSpPr>
              <p:spPr>
                <a:xfrm>
                  <a:off x="4572000" y="5300640"/>
                  <a:ext cx="2883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Group 11"/>
          <p:cNvGrpSpPr/>
          <p:nvPr/>
        </p:nvGrpSpPr>
        <p:grpSpPr>
          <a:xfrm>
            <a:off x="468360" y="549360"/>
            <a:ext cx="6356160" cy="2837160"/>
            <a:chOff x="468360" y="549360"/>
            <a:chExt cx="6356160" cy="2837160"/>
          </a:xfrm>
        </p:grpSpPr>
        <p:sp>
          <p:nvSpPr>
            <p:cNvPr id="266" name="Text Box 4"/>
            <p:cNvSpPr/>
            <p:nvPr/>
          </p:nvSpPr>
          <p:spPr>
            <a:xfrm>
              <a:off x="468360" y="549360"/>
              <a:ext cx="63561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根据题意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人的测试成绩如下：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测试成绩为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65.75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分）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测试成绩为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= 75.875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分）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测试成绩为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= 68.125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分）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因此候选人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将被录用。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7" name="Object 0"/>
                <p:cNvSpPr txBox="1"/>
                <p:nvPr/>
              </p:nvSpPr>
              <p:spPr>
                <a:xfrm>
                  <a:off x="2144520" y="1033200"/>
                  <a:ext cx="201636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2</m:t>
                          </m:r>
                          <m:r>
                            <m:t xml:space="preserve">×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88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Object 1"/>
                <p:cNvSpPr txBox="1"/>
                <p:nvPr/>
              </p:nvSpPr>
              <p:spPr>
                <a:xfrm>
                  <a:off x="2144520" y="1633320"/>
                  <a:ext cx="194328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  <m:r>
                            <m:t xml:space="preserve">×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Object 2"/>
                <p:cNvSpPr txBox="1"/>
                <p:nvPr/>
              </p:nvSpPr>
              <p:spPr>
                <a:xfrm>
                  <a:off x="2144520" y="2185920"/>
                  <a:ext cx="1943280" cy="54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7</m:t>
                          </m:r>
                          <m:r>
                            <m:t xml:space="preserve">×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7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0" name="AutoShape 9"/>
          <p:cNvSpPr/>
          <p:nvPr/>
        </p:nvSpPr>
        <p:spPr>
          <a:xfrm>
            <a:off x="3635280" y="3716280"/>
            <a:ext cx="3384720" cy="1584360"/>
          </a:xfrm>
          <a:prstGeom prst="cloudCallout">
            <a:avLst>
              <a:gd name="adj1" fmla="val -45356"/>
              <a:gd name="adj2" fmla="val 93587"/>
            </a:avLst>
          </a:prstGeom>
          <a:solidFill>
            <a:srgbClr val="33cc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1)(2)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的结果不一样说明了什么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6920" y="836640"/>
            <a:ext cx="741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实际问题中，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一组数据里的各个数据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重要程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未必相同。因而，在计算这组数据的平均数时，往往给每个数据一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。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中的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别是创新、综合知识、语言三项测试成绩的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权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而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024"/>
              <p:cNvSpPr txBox="1"/>
              <p:nvPr/>
            </p:nvSpPr>
            <p:spPr>
              <a:xfrm>
                <a:off x="2268360" y="1989000"/>
                <a:ext cx="29512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4" name="Text Box 10"/>
          <p:cNvSpPr/>
          <p:nvPr/>
        </p:nvSpPr>
        <p:spPr>
          <a:xfrm>
            <a:off x="5364000" y="2205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= 65.7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分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835280" y="3284640"/>
            <a:ext cx="36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的三项测试成绩的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加权平均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4"/>
          <p:cNvSpPr txBox="1"/>
          <p:nvPr/>
        </p:nvSpPr>
        <p:spPr>
          <a:xfrm>
            <a:off x="250920" y="189000"/>
            <a:ext cx="107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基础训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79280" y="692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、一组数据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这组数据的平均数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7236000" y="98100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179280" y="1538280"/>
            <a:ext cx="83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、已知                                    的平均数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0"/>
              <p:cNvSpPr txBox="1"/>
              <p:nvPr/>
            </p:nvSpPr>
            <p:spPr>
              <a:xfrm>
                <a:off x="1187280" y="1523880"/>
                <a:ext cx="2448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3,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"/>
              <p:cNvSpPr txBox="1"/>
              <p:nvPr/>
            </p:nvSpPr>
            <p:spPr>
              <a:xfrm>
                <a:off x="5437080" y="1523880"/>
                <a:ext cx="1871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2"/>
          <p:cNvSpPr/>
          <p:nvPr/>
        </p:nvSpPr>
        <p:spPr>
          <a:xfrm>
            <a:off x="7380360" y="190512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179280" y="2376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个数的平均数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个数的平均数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，则这几个数的平均数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16"/>
          <p:cNvSpPr/>
          <p:nvPr/>
        </p:nvSpPr>
        <p:spPr>
          <a:xfrm>
            <a:off x="7308720" y="266688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158760" y="3168720"/>
            <a:ext cx="89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、在一次满分制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的数学测验中，某班男同学中有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个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个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个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个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个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，则这个班男生的平均分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19"/>
          <p:cNvSpPr/>
          <p:nvPr/>
        </p:nvSpPr>
        <p:spPr>
          <a:xfrm>
            <a:off x="5651640" y="3809880"/>
            <a:ext cx="165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79280" y="4235400"/>
            <a:ext cx="84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、园园参加了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门功课的考试，平均成绩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2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，若计划在下一门功课考完后，使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门功课成绩平均分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，那么她下一门功课至少应得的分数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7093080" y="4876920"/>
            <a:ext cx="1439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0" name="Text Box 31"/>
          <p:cNvSpPr/>
          <p:nvPr/>
        </p:nvSpPr>
        <p:spPr>
          <a:xfrm>
            <a:off x="1117080" y="5486400"/>
            <a:ext cx="46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一组数据中有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,n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,p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,q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,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则这组数据的平均数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32"/>
          <p:cNvSpPr/>
          <p:nvPr/>
        </p:nvSpPr>
        <p:spPr>
          <a:xfrm>
            <a:off x="6659640" y="6019920"/>
            <a:ext cx="248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WordArt 33"/>
          <p:cNvSpPr txBox="1"/>
          <p:nvPr/>
        </p:nvSpPr>
        <p:spPr>
          <a:xfrm>
            <a:off x="7812000" y="620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93" name="WordArt 34"/>
          <p:cNvSpPr txBox="1"/>
          <p:nvPr/>
        </p:nvSpPr>
        <p:spPr>
          <a:xfrm>
            <a:off x="7812000" y="152388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2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94" name="WordArt 35"/>
          <p:cNvSpPr txBox="1"/>
          <p:nvPr/>
        </p:nvSpPr>
        <p:spPr>
          <a:xfrm>
            <a:off x="7956720" y="237492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95" name="WordArt 36" descr=""/>
          <p:cNvPicPr/>
          <p:nvPr/>
        </p:nvPicPr>
        <p:blipFill>
          <a:blip r:embed="rId1"/>
          <a:stretch/>
        </p:blipFill>
        <p:spPr>
          <a:xfrm>
            <a:off x="5973840" y="3505320"/>
            <a:ext cx="738000" cy="237960"/>
          </a:xfrm>
          <a:prstGeom prst="rect">
            <a:avLst/>
          </a:prstGeom>
          <a:ln w="0">
            <a:noFill/>
          </a:ln>
        </p:spPr>
      </p:pic>
      <p:pic>
        <p:nvPicPr>
          <p:cNvPr id="296" name="WordArt 37" descr=""/>
          <p:cNvPicPr/>
          <p:nvPr/>
        </p:nvPicPr>
        <p:blipFill>
          <a:blip r:embed="rId2"/>
          <a:stretch/>
        </p:blipFill>
        <p:spPr>
          <a:xfrm>
            <a:off x="7407360" y="4572000"/>
            <a:ext cx="530280" cy="23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6553080" y="5321160"/>
                <a:ext cx="25909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WordArt 6"/>
          <p:cNvSpPr txBox="1"/>
          <p:nvPr/>
        </p:nvSpPr>
        <p:spPr>
          <a:xfrm>
            <a:off x="1828800" y="2679840"/>
            <a:ext cx="216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0" name="WordArt 7"/>
          <p:cNvSpPr txBox="1"/>
          <p:nvPr/>
        </p:nvSpPr>
        <p:spPr>
          <a:xfrm>
            <a:off x="8153280" y="2755800"/>
            <a:ext cx="360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a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304920" y="228600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已知数据                                的平均数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,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则数据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的平均数为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;   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的平均数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0"/>
              <p:cNvSpPr txBox="1"/>
              <p:nvPr/>
            </p:nvSpPr>
            <p:spPr>
              <a:xfrm>
                <a:off x="1828800" y="2311560"/>
                <a:ext cx="21607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"/>
              <p:cNvSpPr txBox="1"/>
              <p:nvPr/>
            </p:nvSpPr>
            <p:spPr>
              <a:xfrm>
                <a:off x="6095880" y="2317680"/>
                <a:ext cx="2664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"/>
              <p:cNvSpPr txBox="1"/>
              <p:nvPr/>
            </p:nvSpPr>
            <p:spPr>
              <a:xfrm>
                <a:off x="2521080" y="2743200"/>
                <a:ext cx="41846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Line 8"/>
          <p:cNvSpPr/>
          <p:nvPr/>
        </p:nvSpPr>
        <p:spPr>
          <a:xfrm>
            <a:off x="1523880" y="3048120"/>
            <a:ext cx="93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7904160" y="3065400"/>
            <a:ext cx="93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WordArt 14"/>
          <p:cNvSpPr txBox="1"/>
          <p:nvPr/>
        </p:nvSpPr>
        <p:spPr>
          <a:xfrm>
            <a:off x="3733920" y="1447920"/>
            <a:ext cx="503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+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308" name="Group 18"/>
          <p:cNvGrpSpPr/>
          <p:nvPr/>
        </p:nvGrpSpPr>
        <p:grpSpPr>
          <a:xfrm>
            <a:off x="380880" y="914400"/>
            <a:ext cx="8658360" cy="836280"/>
            <a:chOff x="380880" y="914400"/>
            <a:chExt cx="8658360" cy="836280"/>
          </a:xfrm>
        </p:grpSpPr>
        <p:sp>
          <p:nvSpPr>
            <p:cNvPr id="309" name="Rectangle 10"/>
            <p:cNvSpPr/>
            <p:nvPr/>
          </p:nvSpPr>
          <p:spPr>
            <a:xfrm>
              <a:off x="380880" y="96516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Tahoma"/>
                </a:rPr>
                <a:t>、</a:t>
              </a: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已知一组数据                                的平均数为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,</a:t>
              </a: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则另一组数据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            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的平均数是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0" name="Object 6"/>
                <p:cNvSpPr txBox="1"/>
                <p:nvPr/>
              </p:nvSpPr>
              <p:spPr>
                <a:xfrm>
                  <a:off x="2362320" y="914400"/>
                  <a:ext cx="216036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1" name="Object 7"/>
                <p:cNvSpPr txBox="1"/>
                <p:nvPr/>
              </p:nvSpPr>
              <p:spPr>
                <a:xfrm>
                  <a:off x="7238880" y="990720"/>
                  <a:ext cx="180036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Object 8"/>
                <p:cNvSpPr txBox="1"/>
                <p:nvPr/>
              </p:nvSpPr>
              <p:spPr>
                <a:xfrm>
                  <a:off x="914400" y="1371600"/>
                  <a:ext cx="129708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3" name="Line 15"/>
            <p:cNvSpPr/>
            <p:nvPr/>
          </p:nvSpPr>
          <p:spPr>
            <a:xfrm>
              <a:off x="3338640" y="1744560"/>
              <a:ext cx="1081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WordArt 16"/>
          <p:cNvSpPr txBox="1"/>
          <p:nvPr/>
        </p:nvSpPr>
        <p:spPr>
          <a:xfrm>
            <a:off x="304920" y="3049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索与研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304920" y="3384720"/>
            <a:ext cx="8458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如果两组数据                       和                     的平均数分别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,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求一组新数据                                                                  的平均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981080" y="3390840"/>
                <a:ext cx="15242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3733920" y="3390840"/>
                <a:ext cx="1600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609480" y="3772080"/>
                <a:ext cx="46483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8600" y="152244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、某校规定，学生的数学成绩有三部分组成：平时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%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，期中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，期末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小颖平时成绩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，期中成绩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，期末成绩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小颖数学成绩的平均分是多少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若小颖要使数学成绩的平均分达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，那么她在期末考试中至少要考多少分？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WordArt 5" descr=""/>
          <p:cNvPicPr/>
          <p:nvPr/>
        </p:nvPicPr>
        <p:blipFill>
          <a:blip r:embed="rId1"/>
          <a:stretch/>
        </p:blipFill>
        <p:spPr>
          <a:xfrm>
            <a:off x="317520" y="371520"/>
            <a:ext cx="3144960" cy="5554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6"/>
          <p:cNvSpPr/>
          <p:nvPr/>
        </p:nvSpPr>
        <p:spPr>
          <a:xfrm>
            <a:off x="751680" y="4075200"/>
            <a:ext cx="4151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家庭作业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Tahoma"/>
              </a:rPr>
              <a:t>书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220</a:t>
            </a:r>
            <a:r>
              <a:rPr b="0" lang="zh-CN" sz="1800" spc="-1" strike="noStrike">
                <a:solidFill>
                  <a:srgbClr val="0000ff"/>
                </a:solidFill>
                <a:latin typeface="Tahoma"/>
              </a:rPr>
              <a:t>页习题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8.1   </a:t>
            </a:r>
            <a:r>
              <a:rPr b="0" lang="zh-CN" sz="1800" spc="-1" strike="noStrike">
                <a:solidFill>
                  <a:srgbClr val="0000ff"/>
                </a:solidFill>
                <a:latin typeface="Tahoma"/>
              </a:rPr>
              <a:t>第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Tahoma"/>
              </a:rPr>
              <a:t>题和第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0000ff"/>
                </a:solidFill>
                <a:latin typeface="Tahoma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ahoma"/>
              </a:rPr>
              <a:t>                    </a:t>
            </a:r>
            <a:r>
              <a:rPr b="0" lang="zh-CN" sz="1800" spc="-1" strike="noStrike">
                <a:solidFill>
                  <a:srgbClr val="0000ff"/>
                </a:solidFill>
                <a:latin typeface="Tahoma"/>
              </a:rPr>
              <a:t>预习书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221-222</a:t>
            </a:r>
            <a:r>
              <a:rPr b="0" lang="zh-CN" sz="1800" spc="-1" strike="noStrike">
                <a:solidFill>
                  <a:srgbClr val="0000ff"/>
                </a:solidFill>
                <a:latin typeface="Tahoma"/>
              </a:rPr>
              <a:t>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WordArt 4" descr=""/>
          <p:cNvPicPr/>
          <p:nvPr/>
        </p:nvPicPr>
        <p:blipFill>
          <a:blip r:embed="rId2"/>
          <a:stretch/>
        </p:blipFill>
        <p:spPr>
          <a:xfrm>
            <a:off x="1390680" y="542880"/>
            <a:ext cx="5815080" cy="1389240"/>
          </a:xfrm>
          <a:prstGeom prst="rect">
            <a:avLst/>
          </a:prstGeom>
          <a:ln w="0">
            <a:noFill/>
          </a:ln>
        </p:spPr>
      </p:pic>
      <p:sp>
        <p:nvSpPr>
          <p:cNvPr id="137" name="WordArt 5"/>
          <p:cNvSpPr txBox="1"/>
          <p:nvPr/>
        </p:nvSpPr>
        <p:spPr>
          <a:xfrm>
            <a:off x="250920" y="2708280"/>
            <a:ext cx="345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休斯敦火箭队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5148360" y="2637000"/>
            <a:ext cx="327636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洛杉矶湖人队</a:t>
            </a:r>
            <a:endParaRPr b="0" lang="en-US" sz="2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139" name="WordArt 7"/>
          <p:cNvSpPr txBox="1"/>
          <p:nvPr/>
        </p:nvSpPr>
        <p:spPr>
          <a:xfrm>
            <a:off x="4067280" y="3068640"/>
            <a:ext cx="6444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新宋体"/>
              </a:rPr>
              <a:t>VS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新宋体"/>
              <a:ea typeface="新宋体"/>
            </a:endParaRPr>
          </a:p>
        </p:txBody>
      </p:sp>
      <p:sp>
        <p:nvSpPr>
          <p:cNvPr id="140" name="WordArt 8"/>
          <p:cNvSpPr txBox="1"/>
          <p:nvPr/>
        </p:nvSpPr>
        <p:spPr>
          <a:xfrm>
            <a:off x="5867280" y="5305320"/>
            <a:ext cx="251460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宋体"/>
              </a:rPr>
              <a:t>精彩照片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阿特金斯突破上篮"/>
          <p:cNvPicPr/>
          <p:nvPr/>
        </p:nvPicPr>
        <p:blipFill>
          <a:blip r:embed="rId1"/>
          <a:stretch/>
        </p:blipFill>
        <p:spPr>
          <a:xfrm>
            <a:off x="324000" y="260280"/>
            <a:ext cx="4286160" cy="6296040"/>
          </a:xfrm>
          <a:prstGeom prst="rect">
            <a:avLst/>
          </a:prstGeom>
          <a:ln w="0">
            <a:noFill/>
          </a:ln>
        </p:spPr>
      </p:pic>
      <p:sp>
        <p:nvSpPr>
          <p:cNvPr id="143" name="WordArt 6"/>
          <p:cNvSpPr txBox="1"/>
          <p:nvPr/>
        </p:nvSpPr>
        <p:spPr>
          <a:xfrm>
            <a:off x="2195640" y="69228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阿特金斯突破上篮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4" name="Picture 7" descr="火箭两将阻击科比"/>
          <p:cNvPicPr/>
          <p:nvPr/>
        </p:nvPicPr>
        <p:blipFill>
          <a:blip r:embed="rId2"/>
          <a:stretch/>
        </p:blipFill>
        <p:spPr>
          <a:xfrm>
            <a:off x="4643280" y="1484280"/>
            <a:ext cx="4286520" cy="39528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9"/>
          <p:cNvSpPr txBox="1"/>
          <p:nvPr/>
        </p:nvSpPr>
        <p:spPr>
          <a:xfrm>
            <a:off x="5724360" y="5084640"/>
            <a:ext cx="20574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00ffff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火箭两将阻击科比</a:t>
            </a:r>
            <a:endParaRPr b="0" lang="en-US" sz="2000" spc="1" strike="noStrike">
              <a:ln w="12600">
                <a:solidFill>
                  <a:srgbClr val="00ffff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巨人强打奥多姆"/>
          <p:cNvPicPr/>
          <p:nvPr/>
        </p:nvPicPr>
        <p:blipFill>
          <a:blip r:embed="rId1"/>
          <a:stretch/>
        </p:blipFill>
        <p:spPr>
          <a:xfrm>
            <a:off x="533520" y="762120"/>
            <a:ext cx="3265200" cy="48006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6"/>
          <p:cNvSpPr txBox="1"/>
          <p:nvPr/>
        </p:nvSpPr>
        <p:spPr>
          <a:xfrm>
            <a:off x="1219320" y="5943600"/>
            <a:ext cx="21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巨人强打奥多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9" name="Picture 7" descr="麦蒂缺阵姚明勇挑科比"/>
          <p:cNvPicPr/>
          <p:nvPr/>
        </p:nvPicPr>
        <p:blipFill>
          <a:blip r:embed="rId2"/>
          <a:stretch/>
        </p:blipFill>
        <p:spPr>
          <a:xfrm>
            <a:off x="4748040" y="762120"/>
            <a:ext cx="4017960" cy="43434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8"/>
          <p:cNvSpPr txBox="1"/>
          <p:nvPr/>
        </p:nvSpPr>
        <p:spPr>
          <a:xfrm>
            <a:off x="5105520" y="5638680"/>
            <a:ext cx="3581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宋体"/>
              </a:rPr>
              <a:t>麦蒂缺阵姚明勇挑科比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米姆上篮巨人在后"/>
          <p:cNvPicPr/>
          <p:nvPr/>
        </p:nvPicPr>
        <p:blipFill>
          <a:blip r:embed="rId1"/>
          <a:stretch/>
        </p:blipFill>
        <p:spPr>
          <a:xfrm>
            <a:off x="228600" y="457200"/>
            <a:ext cx="5425920" cy="40194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1447920" y="4724280"/>
            <a:ext cx="28191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33cccc"/>
                </a:solidFill>
                <a:latin typeface="宋体"/>
              </a:rPr>
              <a:t>米姆上篮巨人在后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33cccc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4" descr="姚明科比双雄会"/>
          <p:cNvPicPr/>
          <p:nvPr/>
        </p:nvPicPr>
        <p:blipFill>
          <a:blip r:embed="rId1"/>
          <a:stretch/>
        </p:blipFill>
        <p:spPr>
          <a:xfrm>
            <a:off x="152280" y="1182600"/>
            <a:ext cx="4800600" cy="3922920"/>
          </a:xfrm>
          <a:prstGeom prst="rect">
            <a:avLst/>
          </a:prstGeom>
          <a:ln w="0">
            <a:noFill/>
          </a:ln>
        </p:spPr>
      </p:pic>
      <p:sp>
        <p:nvSpPr>
          <p:cNvPr id="156" name="WordArt 5"/>
          <p:cNvSpPr txBox="1"/>
          <p:nvPr/>
        </p:nvSpPr>
        <p:spPr>
          <a:xfrm>
            <a:off x="1219320" y="5638680"/>
            <a:ext cx="304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宋体"/>
              </a:rPr>
              <a:t>姚明科比双雄会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pic>
        <p:nvPicPr>
          <p:cNvPr id="157" name="Picture 6" descr="姚明勾手上篮"/>
          <p:cNvPicPr/>
          <p:nvPr/>
        </p:nvPicPr>
        <p:blipFill>
          <a:blip r:embed="rId2"/>
          <a:stretch/>
        </p:blipFill>
        <p:spPr>
          <a:xfrm>
            <a:off x="5715000" y="1143000"/>
            <a:ext cx="3068640" cy="5257800"/>
          </a:xfrm>
          <a:prstGeom prst="rect">
            <a:avLst/>
          </a:prstGeom>
          <a:ln w="0">
            <a:noFill/>
          </a:ln>
        </p:spPr>
      </p:pic>
      <p:sp>
        <p:nvSpPr>
          <p:cNvPr id="158" name="WordArt 7"/>
          <p:cNvSpPr txBox="1"/>
          <p:nvPr/>
        </p:nvSpPr>
        <p:spPr>
          <a:xfrm>
            <a:off x="6477120" y="533520"/>
            <a:ext cx="180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姚明勾手上篮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1026" descr="姚明泰勒行抱拳礼"/>
          <p:cNvPicPr/>
          <p:nvPr/>
        </p:nvPicPr>
        <p:blipFill>
          <a:blip r:embed="rId1"/>
          <a:stretch/>
        </p:blipFill>
        <p:spPr>
          <a:xfrm>
            <a:off x="304920" y="1309680"/>
            <a:ext cx="4572000" cy="326232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027"/>
          <p:cNvSpPr txBox="1"/>
          <p:nvPr/>
        </p:nvSpPr>
        <p:spPr>
          <a:xfrm>
            <a:off x="838080" y="5029200"/>
            <a:ext cx="3276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姚明泰勒行抱拳礼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62" name="Picture 1028" descr="姚明篮下搭建长城"/>
          <p:cNvPicPr/>
          <p:nvPr/>
        </p:nvPicPr>
        <p:blipFill>
          <a:blip r:embed="rId2"/>
          <a:stretch/>
        </p:blipFill>
        <p:spPr>
          <a:xfrm>
            <a:off x="5181480" y="533520"/>
            <a:ext cx="3635640" cy="51051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1029"/>
          <p:cNvSpPr txBox="1"/>
          <p:nvPr/>
        </p:nvSpPr>
        <p:spPr>
          <a:xfrm>
            <a:off x="5410080" y="6248520"/>
            <a:ext cx="3581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6699ff"/>
                </a:solidFill>
                <a:latin typeface="宋体"/>
              </a:rPr>
              <a:t>姚明篮下搭建长城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6699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WordArt 1029"/>
          <p:cNvSpPr txBox="1"/>
          <p:nvPr/>
        </p:nvSpPr>
        <p:spPr>
          <a:xfrm>
            <a:off x="609480" y="6095880"/>
            <a:ext cx="35053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姚明郁闷手头不准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66" name="Picture 1030" descr="姚明郁闷手头不准"/>
          <p:cNvPicPr/>
          <p:nvPr/>
        </p:nvPicPr>
        <p:blipFill>
          <a:blip r:embed="rId1"/>
          <a:stretch/>
        </p:blipFill>
        <p:spPr>
          <a:xfrm>
            <a:off x="380880" y="420840"/>
            <a:ext cx="3886200" cy="5370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31" descr="姚明伺机突破"/>
          <p:cNvPicPr/>
          <p:nvPr/>
        </p:nvPicPr>
        <p:blipFill>
          <a:blip r:embed="rId2"/>
          <a:stretch/>
        </p:blipFill>
        <p:spPr>
          <a:xfrm>
            <a:off x="4724280" y="1066680"/>
            <a:ext cx="4081680" cy="54864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032"/>
          <p:cNvSpPr txBox="1"/>
          <p:nvPr/>
        </p:nvSpPr>
        <p:spPr>
          <a:xfrm>
            <a:off x="5334120" y="53352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姚明伺机突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620640"/>
          <a:ext cx="3744720" cy="6051600"/>
        </p:xfrm>
        <a:graphic>
          <a:graphicData uri="http://schemas.openxmlformats.org/drawingml/2006/table">
            <a:tbl>
              <a:tblPr/>
              <a:tblGrid>
                <a:gridCol w="576000"/>
                <a:gridCol w="1584360"/>
                <a:gridCol w="863640"/>
                <a:gridCol w="720720"/>
              </a:tblGrid>
              <a:tr h="4320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姓 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身高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年 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瑞安勃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朱万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霍华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杰姆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杰克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泰龙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特蕾西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麦格雷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迪肯贝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穆托姆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波斯简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诺科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斯科特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帕吉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鲍勃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苏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莫里斯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泰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查理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沃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克莱伦斯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韦瑟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安德烈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巴特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姚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瑞斯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盖尼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WordArt 918"/>
          <p:cNvSpPr txBox="1"/>
          <p:nvPr/>
        </p:nvSpPr>
        <p:spPr>
          <a:xfrm>
            <a:off x="1187280" y="189000"/>
            <a:ext cx="180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休斯敦火箭队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43280" y="620640"/>
          <a:ext cx="3961080" cy="6035760"/>
        </p:xfrm>
        <a:graphic>
          <a:graphicData uri="http://schemas.openxmlformats.org/drawingml/2006/table">
            <a:tbl>
              <a:tblPr/>
              <a:tblGrid>
                <a:gridCol w="576360"/>
                <a:gridCol w="1944720"/>
                <a:gridCol w="647640"/>
                <a:gridCol w="792360"/>
              </a:tblGrid>
              <a:tr h="438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姓 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身高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年 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科比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布赖恩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1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查基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阿特金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1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蒂埃里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布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1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卡龙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巴特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布赖恩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库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迪文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乔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布莱恩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格兰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朱梅因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琼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斯塔尼斯拉夫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梅德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克里斯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米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拉玛尔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奥多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卡里姆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拉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1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萨沙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乌贾基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卢克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沃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弗拉迪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迪瓦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WordArt 122"/>
          <p:cNvSpPr txBox="1"/>
          <p:nvPr/>
        </p:nvSpPr>
        <p:spPr>
          <a:xfrm>
            <a:off x="5651640" y="189000"/>
            <a:ext cx="1944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洛杉矶湖人队</a:t>
            </a:r>
            <a:endParaRPr b="0" lang="en-US" sz="2800" spc="1" strike="noStrike">
              <a:ln w="9360">
                <a:solidFill>
                  <a:srgbClr val="993366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26:44Z</dcterms:created>
  <dc:creator>kejianyuan.com</dc:creator>
  <dc:description>kejianyuan.com</dc:description>
  <cp:keywords>kejianyuan.com</cp:keywords>
  <dc:language>en-US</dc:language>
  <cp:lastModifiedBy/>
  <dcterms:modified xsi:type="dcterms:W3CDTF">2014-09-10T16:20:56Z</dcterms:modified>
  <cp:revision>30</cp:revision>
  <dc:subject>人教版八年级数学（下）全套课件</dc:subject>
  <dc:title>人教版八年级数学（下）全套课件</dc:title>
</cp:coreProperties>
</file>