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D02-BB93-40FC-9A01-0DBC7F20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8D4-8EB1-4767-B6B0-5EEC383A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BB8-312F-45DC-9B1C-6CE1EB77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705-196B-460F-BD9B-648826E5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E70D-1F4D-465B-9C7A-8568F2F3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12B2-D7E2-4FF3-B323-62357A08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238A-2A29-4D51-973F-CB98A04D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B51B-2797-4D79-A162-44779917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EDDD-08DF-48CE-85DD-15573124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6CAF-30FD-4548-A375-A7D14DBC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AE33-BAC7-4470-B378-C858CA22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A8E-FFBD-46EF-8F08-F8410E36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1401-57F2-459C-AE5F-3DAD00F4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3130-B11F-4222-9B1E-983A6C2E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3910-EAF4-4A67-BD29-7C159E89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EEFD-7460-41C6-AF8E-332449C4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95CC-A473-4749-8DF3-3CD001F6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60E82-36A5-4CD4-B746-E8DF69CB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EF8EB-3299-470C-9FC8-C51BF872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A1322-54D1-490D-9090-648AEBB1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C8BBB-A01A-46E3-B05A-D936EB03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B5D9-F696-4BC6-8B45-0C8F435E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4BA-D527-4137-9883-3D04B80D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55515-46A4-4DD3-AFF9-B89F0F08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CCDB-C9AF-4452-A2B5-1B167270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1F130-9C23-41FD-83F7-18B48625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E1258-D9A6-4BAA-9330-4F007C08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D5E4A-C776-4CC4-861E-36D68F9E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4510-6B31-4E78-AB22-3E405CBB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DB4D-2717-4B54-B94A-052FFBD0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AF295-D907-4A26-9FA0-EB6FCB8B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01A38-EC3F-4009-BBC0-559BA8F9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25850-30D0-433C-98A4-4292BD9D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36E-639E-4ED1-8050-2948FC41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710B3-F1C2-48A9-91C3-F7F60B42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F0EB3-0BCF-47F9-A72F-DDDA7C0B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AAE5D-7896-41F2-80C1-6CFA5A96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45EDF-1C04-41BA-AFF9-8BFEA3A7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52608-7E45-4388-BCF8-3F89B19E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9FCBF-5DF2-4CA8-A1A0-E54F5AEC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AB908-1950-4A23-8581-AAD2AB23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86D30-B03B-4143-8080-E209382F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5577-51F5-4AA1-A35C-BE1FEBA5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BEA83-48B8-49EF-9E19-94FB661D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2B7-E435-4179-AAC3-0A75BAFA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76880-BE4D-44A4-8468-E3FA514E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5BC8C-3331-4C82-B93F-EF80C612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262C5-2FC1-43CD-965C-FC9DE96A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860A1-D9F9-429C-8B7A-8E4435B7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18AF0-7F02-4BE2-A7B6-A7BD2BF9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F0DF9-EEB8-4130-B8AB-F4F9C74A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202D2-5D80-4EB7-9C9D-6092DC0D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CDDD2-9882-4710-8285-D00B6DB8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00AEF-1E2E-42E5-B443-08C3AAE6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162E7-9EB8-4DBB-A918-B52D5550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A3D-71BD-408A-9ED8-1125C734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7B509-78A4-4048-B6FA-B2DC2442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81AAF-6A7A-4576-BCBE-25280CAA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53541-92E0-4534-9169-3F055074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97C31-EEFB-4D32-BB28-05D3AC84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E8879-2E86-49E7-B57D-959E399D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206A5-3823-44A4-8F66-2C737FE1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B166D-58B5-44F2-A65A-BC06029E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63D40-11A0-4625-9B8B-9889105D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D91B6-2EDF-49AE-8F5C-06A09CA7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83978-B66F-4728-A60D-4CD90BB2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C79-BE13-4D89-967F-BE73129A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55B1D-37B0-4225-A104-3AFFC77D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7A26E-765F-4311-B848-79FEE313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12E2B-5317-4C22-8089-74B9BB66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5CA49-BD8E-432D-A948-75C92B36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54212-D0AF-4E28-97D2-FFC1DD9C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43711-5C5E-45E4-AE33-F38721BB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BC18F-FA8A-4B02-B609-5055D71F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2EE26-57C6-4B1B-B5C3-9E0FDE52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53613-90B8-4AFB-96BF-23DB5700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E1EE6-4006-431A-9E0D-0CF62F94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CEB-83C4-4F92-B3A9-6AD3BE10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2EC45-DD68-4E79-B10A-E6124A90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D1A39-BC72-4FCD-9D50-9A503D1D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ED344-7A27-472A-98BD-BB8820A8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8FFA9-ECB5-422D-A19B-48619CAD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0FFD7-2C2A-415E-9D4E-B996057C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D33-C5CE-4676-B877-49394D24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8BD0-C53A-48FB-ABA5-65193E847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4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5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8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9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0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5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6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8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9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0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1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2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3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4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7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8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9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0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1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2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3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4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5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7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8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1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2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3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4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5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6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7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8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9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0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1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2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5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6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7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8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9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0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1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2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3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4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5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6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9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0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1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2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5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6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7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>
                  <a:gd name="textAreaLeft" fmla="*/ 0 w 163080"/>
                  <a:gd name="textAreaRight" fmla="*/ 163080 w 1630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8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9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0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1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2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3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4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5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6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DFA0-ACEA-4E59-A919-953ED6793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646E-A1CA-4E04-97C0-E0111E47A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4B52-677B-4EBB-B5CD-E0040063E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8AFE-49F9-4879-A6FA-BF72579F8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305B-689F-4F78-B66E-4C7B20DEF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93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94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5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7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8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9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0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1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2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3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4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5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6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07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508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9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0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1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2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3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4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5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6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7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8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9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0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1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2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5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6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7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8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9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0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3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4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5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6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7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8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9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0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1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3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4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5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6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7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8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9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0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1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2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3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4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5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6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7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8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9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0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1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2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3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4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5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6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7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8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9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0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1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2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3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4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5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6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7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8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9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0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1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2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3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4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5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6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7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8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9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0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1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2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3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4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5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6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7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8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9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0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1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2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3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4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5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6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7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8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9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0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1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2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3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4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5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6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7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8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9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0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1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2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3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4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5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6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7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8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9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0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1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2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3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4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5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6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7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8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9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0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1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2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3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4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5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6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7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8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9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0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1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2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53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54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6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7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9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0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1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2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3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4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5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6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19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D530-A366-4EB4-8178-F55C80E35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0888402&amp;tn=baiduimagedetail&amp;word=&#38774;&amp;in=383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.baidu.com/i?ct=503316480&amp;z=3157852&amp;tn=baiduimagedetail&amp;word=&#38774;&amp;in=313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304920" y="2205000"/>
            <a:ext cx="883908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20.2   </a:t>
            </a:r>
            <a:r>
              <a:rPr b="0" lang="zh-CN" sz="5400" spc="-1" strike="noStrike">
                <a:solidFill>
                  <a:srgbClr val="003399"/>
                </a:solidFill>
                <a:latin typeface="Arial"/>
              </a:rPr>
              <a:t>数据的波动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0" name="Text Box 6"/>
          <p:cNvSpPr/>
          <p:nvPr/>
        </p:nvSpPr>
        <p:spPr>
          <a:xfrm>
            <a:off x="2916360" y="3789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华文琥珀"/>
                <a:ea typeface="华文琥珀"/>
              </a:rPr>
              <a:t>20.2.1    </a:t>
            </a:r>
            <a:r>
              <a:rPr b="1" lang="zh-CN" sz="3600" spc="-1" strike="noStrike">
                <a:solidFill>
                  <a:srgbClr val="007a77"/>
                </a:solidFill>
                <a:latin typeface="华文琥珀"/>
                <a:ea typeface="华文琥珀"/>
              </a:rPr>
              <a:t>极差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1" name="Text Box 7"/>
          <p:cNvSpPr/>
          <p:nvPr/>
        </p:nvSpPr>
        <p:spPr>
          <a:xfrm>
            <a:off x="2987640" y="5157720"/>
            <a:ext cx="4824360" cy="7034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极差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=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最大值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最小值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页脚占位符 2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Object 51"/>
              <p:cNvSpPr txBox="1"/>
              <p:nvPr/>
            </p:nvSpPr>
            <p:spPr>
              <a:xfrm>
                <a:off x="611280" y="4724280"/>
                <a:ext cx="77058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745" name=""/>
          <p:cNvGraphicFramePr/>
          <p:nvPr/>
        </p:nvGraphicFramePr>
        <p:xfrm>
          <a:off x="324000" y="692280"/>
          <a:ext cx="8640720" cy="2112840"/>
        </p:xfrm>
        <a:graphic>
          <a:graphicData uri="http://schemas.openxmlformats.org/drawingml/2006/table">
            <a:tbl>
              <a:tblPr/>
              <a:tblGrid>
                <a:gridCol w="1242720"/>
                <a:gridCol w="874800"/>
                <a:gridCol w="974880"/>
                <a:gridCol w="923760"/>
                <a:gridCol w="924120"/>
                <a:gridCol w="925560"/>
                <a:gridCol w="925200"/>
                <a:gridCol w="924120"/>
                <a:gridCol w="925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Text Box 94"/>
          <p:cNvSpPr/>
          <p:nvPr/>
        </p:nvSpPr>
        <p:spPr>
          <a:xfrm>
            <a:off x="468360" y="4149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以上气温问题中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次气温的变化的方差的计算式是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7" name="Group 95"/>
          <p:cNvGrpSpPr/>
          <p:nvPr/>
        </p:nvGrpSpPr>
        <p:grpSpPr>
          <a:xfrm>
            <a:off x="250920" y="2852640"/>
            <a:ext cx="8564400" cy="979560"/>
            <a:chOff x="250920" y="2852640"/>
            <a:chExt cx="8564400" cy="979560"/>
          </a:xfrm>
        </p:grpSpPr>
        <mc:AlternateContent>
          <mc:Choice xmlns:a14="http://schemas.microsoft.com/office/drawing/2010/main" Requires="a14">
            <p:sp>
              <p:nvSpPr>
                <p:cNvPr id="748" name="Object 96"/>
                <p:cNvSpPr txBox="1"/>
                <p:nvPr/>
              </p:nvSpPr>
              <p:spPr>
                <a:xfrm>
                  <a:off x="1835280" y="2852640"/>
                  <a:ext cx="698004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[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⋯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9" name="Text Box 97"/>
            <p:cNvSpPr/>
            <p:nvPr/>
          </p:nvSpPr>
          <p:spPr>
            <a:xfrm>
              <a:off x="250920" y="306864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方差公式：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页脚占位符 2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51" name="Picture 4" descr="j0229383"/>
          <p:cNvPicPr/>
          <p:nvPr/>
        </p:nvPicPr>
        <p:blipFill>
          <a:blip r:embed="rId1"/>
          <a:stretch/>
        </p:blipFill>
        <p:spPr>
          <a:xfrm>
            <a:off x="250920" y="0"/>
            <a:ext cx="8640720" cy="685656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5"/>
          <p:cNvSpPr/>
          <p:nvPr/>
        </p:nvSpPr>
        <p:spPr>
          <a:xfrm>
            <a:off x="1763640" y="2205000"/>
            <a:ext cx="5761080" cy="2557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发现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方差越小，波动越小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方差越大，波动越大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39280" y="549360"/>
            <a:ext cx="799308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一次芭蕾舞的比赛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乙两个芭蕾舞团表演了舞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鹅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参加表演的女演员的身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ｃｍ）分别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团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3 164 164 165 165 165 166  1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乙团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3 164 164 165 166 167 167 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个芭蕾舞女演员的身高更齐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5"/>
          <p:cNvSpPr/>
          <p:nvPr/>
        </p:nvSpPr>
        <p:spPr>
          <a:xfrm>
            <a:off x="250920" y="0"/>
            <a:ext cx="8893080" cy="63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练习</a:t>
            </a: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样本方差的作用是（）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A)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表示总体的平均水平   （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表示样本的平均水平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准确表示总体的波动大小 （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表示样本的波动大小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在样本方差的计算公式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数字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0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表示（     ）数字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表示（      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。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样本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、的方差是（   ） 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一个样本的方差是零，若中位数是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a,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则它的平均数是（    ）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等于 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a     (B)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不等于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a     (C)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大于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a       ( D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小于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a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从种植密度相同的甲、乙两块玉米地里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各抽取一个容量足够大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的 样本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分别统计单株玉米的产量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结果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:          =         ,             &lt;         ,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下列 给出对两块玉米地的五种估计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哪几种是有道理的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(1)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甲块田平均产量较高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(2)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甲块田单株产量比较稳 定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(3)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两块田平均产量大约相等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(4)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两块田总产量大约相等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(5)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乙块田总产量较高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8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}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9"/>
              <p:cNvSpPr txBox="1"/>
              <p:nvPr/>
            </p:nvSpPr>
            <p:spPr>
              <a:xfrm>
                <a:off x="1835280" y="1844640"/>
                <a:ext cx="5508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sSub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sSub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sSub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12"/>
              <p:cNvSpPr txBox="1"/>
              <p:nvPr/>
            </p:nvSpPr>
            <p:spPr>
              <a:xfrm>
                <a:off x="6443640" y="4508640"/>
                <a:ext cx="719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甲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13"/>
              <p:cNvSpPr txBox="1"/>
              <p:nvPr/>
            </p:nvSpPr>
            <p:spPr>
              <a:xfrm>
                <a:off x="7524720" y="4581360"/>
                <a:ext cx="55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乙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14"/>
              <p:cNvSpPr txBox="1"/>
              <p:nvPr/>
            </p:nvSpPr>
            <p:spPr>
              <a:xfrm>
                <a:off x="4716360" y="4581360"/>
                <a:ext cx="563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甲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15"/>
              <p:cNvSpPr txBox="1"/>
              <p:nvPr/>
            </p:nvSpPr>
            <p:spPr>
              <a:xfrm>
                <a:off x="5724360" y="4581360"/>
                <a:ext cx="505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乙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611280" y="404640"/>
            <a:ext cx="7634160" cy="162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提高题</a:t>
            </a: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观察和探究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观察下列各组数据并填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A.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B.1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5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C.10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50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D.3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1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分别比较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与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B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的计算结果，你能发现什么规律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若已知一组数据                      的平均数是 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方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差是     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那么另一组数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的平均数是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(      )     ,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方差是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(     )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的平均数是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，方差 是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7"/>
              <p:cNvSpPr txBox="1"/>
              <p:nvPr/>
            </p:nvSpPr>
            <p:spPr>
              <a:xfrm>
                <a:off x="4211640" y="1557360"/>
                <a:ext cx="544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ct 13"/>
              <p:cNvSpPr txBox="1"/>
              <p:nvPr/>
            </p:nvSpPr>
            <p:spPr>
              <a:xfrm>
                <a:off x="3924360" y="3429000"/>
                <a:ext cx="7189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Object 1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Object 17"/>
              <p:cNvSpPr txBox="1"/>
              <p:nvPr/>
            </p:nvSpPr>
            <p:spPr>
              <a:xfrm>
                <a:off x="4932360" y="2133720"/>
                <a:ext cx="53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Object 18"/>
              <p:cNvSpPr txBox="1"/>
              <p:nvPr/>
            </p:nvSpPr>
            <p:spPr>
              <a:xfrm>
                <a:off x="4859280" y="2781360"/>
                <a:ext cx="471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Object 19"/>
              <p:cNvSpPr txBox="1"/>
              <p:nvPr/>
            </p:nvSpPr>
            <p:spPr>
              <a:xfrm>
                <a:off x="6012000" y="1484280"/>
                <a:ext cx="579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Object 20"/>
              <p:cNvSpPr txBox="1"/>
              <p:nvPr/>
            </p:nvSpPr>
            <p:spPr>
              <a:xfrm>
                <a:off x="7164360" y="2060640"/>
                <a:ext cx="496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Object 21"/>
              <p:cNvSpPr txBox="1"/>
              <p:nvPr/>
            </p:nvSpPr>
            <p:spPr>
              <a:xfrm>
                <a:off x="6227640" y="2781360"/>
                <a:ext cx="522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Object 22"/>
              <p:cNvSpPr txBox="1"/>
              <p:nvPr/>
            </p:nvSpPr>
            <p:spPr>
              <a:xfrm>
                <a:off x="5724360" y="3429000"/>
                <a:ext cx="524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76" name="Text Box 23"/>
          <p:cNvSpPr/>
          <p:nvPr/>
        </p:nvSpPr>
        <p:spPr>
          <a:xfrm>
            <a:off x="4859280" y="162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黑体"/>
              </a:rPr>
              <a:t>=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Text Box 26"/>
          <p:cNvSpPr/>
          <p:nvPr/>
        </p:nvSpPr>
        <p:spPr>
          <a:xfrm>
            <a:off x="5725440" y="24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黑体"/>
              </a:rPr>
              <a:t>=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Text Box 27"/>
          <p:cNvSpPr/>
          <p:nvPr/>
        </p:nvSpPr>
        <p:spPr>
          <a:xfrm flipV="1">
            <a:off x="7812000" y="2131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黑体"/>
              </a:rPr>
              <a:t>=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Text Box 28"/>
          <p:cNvSpPr/>
          <p:nvPr/>
        </p:nvSpPr>
        <p:spPr>
          <a:xfrm>
            <a:off x="543564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黑体"/>
              </a:rPr>
              <a:t>=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Text Box 29"/>
          <p:cNvSpPr/>
          <p:nvPr/>
        </p:nvSpPr>
        <p:spPr>
          <a:xfrm>
            <a:off x="6804000" y="29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黑体"/>
              </a:rPr>
              <a:t>=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Text Box 30"/>
          <p:cNvSpPr/>
          <p:nvPr/>
        </p:nvSpPr>
        <p:spPr>
          <a:xfrm>
            <a:off x="4788000" y="3645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黑体"/>
              </a:rPr>
              <a:t>=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6516720" y="3500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黑体"/>
              </a:rPr>
              <a:t>=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Text Box 32"/>
          <p:cNvSpPr/>
          <p:nvPr/>
        </p:nvSpPr>
        <p:spPr>
          <a:xfrm>
            <a:off x="665964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黑体"/>
              </a:rPr>
              <a:t>=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Object 3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Object 34"/>
              <p:cNvSpPr txBox="1"/>
              <p:nvPr/>
            </p:nvSpPr>
            <p:spPr>
              <a:xfrm>
                <a:off x="3708360" y="4653000"/>
                <a:ext cx="48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Object 35"/>
              <p:cNvSpPr txBox="1"/>
              <p:nvPr/>
            </p:nvSpPr>
            <p:spPr>
              <a:xfrm>
                <a:off x="4211640" y="4724280"/>
                <a:ext cx="434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Object 36"/>
              <p:cNvSpPr txBox="1"/>
              <p:nvPr/>
            </p:nvSpPr>
            <p:spPr>
              <a:xfrm>
                <a:off x="5003640" y="4653000"/>
                <a:ext cx="519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8" name="Text Box 37"/>
          <p:cNvSpPr/>
          <p:nvPr/>
        </p:nvSpPr>
        <p:spPr>
          <a:xfrm>
            <a:off x="3635280" y="486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Text Box 38"/>
          <p:cNvSpPr/>
          <p:nvPr/>
        </p:nvSpPr>
        <p:spPr>
          <a:xfrm>
            <a:off x="5076720" y="4005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0" name="Text Box 39"/>
          <p:cNvSpPr/>
          <p:nvPr/>
        </p:nvSpPr>
        <p:spPr>
          <a:xfrm>
            <a:off x="4500720" y="458136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Object 41"/>
              <p:cNvSpPr txBox="1"/>
              <p:nvPr/>
            </p:nvSpPr>
            <p:spPr>
              <a:xfrm>
                <a:off x="7020000" y="4653000"/>
                <a:ext cx="380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42"/>
              <p:cNvSpPr txBox="1"/>
              <p:nvPr/>
            </p:nvSpPr>
            <p:spPr>
              <a:xfrm>
                <a:off x="1547640" y="5300640"/>
                <a:ext cx="435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Object 43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、</m:t>
                    </m:r>
                    <m:sSub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3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Object 45"/>
              <p:cNvSpPr txBox="1"/>
              <p:nvPr/>
            </p:nvSpPr>
            <p:spPr>
              <a:xfrm>
                <a:off x="4500720" y="5373720"/>
                <a:ext cx="464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、</m:t>
                    </m:r>
                    <m:sSub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16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1258920" y="907920"/>
            <a:ext cx="67690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规律；有两组数据，设其平均数分别为     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,                          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方差分别为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(!)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当第二组每个数据比第一组每个数据增加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个单位时，    则有   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=        +m,          =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(2)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当第二组每个数据是的第一组每个数据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倍时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则有  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=n         ,         =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(3)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当第二组每个数据是的第一组每个数据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倍加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m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时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则有    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=  n      ,         =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6"/>
              <p:cNvSpPr txBox="1"/>
              <p:nvPr/>
            </p:nvSpPr>
            <p:spPr>
              <a:xfrm>
                <a:off x="6516720" y="836640"/>
                <a:ext cx="4366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Object 7"/>
              <p:cNvSpPr txBox="1"/>
              <p:nvPr/>
            </p:nvSpPr>
            <p:spPr>
              <a:xfrm>
                <a:off x="7524720" y="836640"/>
                <a:ext cx="465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9"/>
              <p:cNvSpPr txBox="1"/>
              <p:nvPr/>
            </p:nvSpPr>
            <p:spPr>
              <a:xfrm>
                <a:off x="3995640" y="1341360"/>
                <a:ext cx="4842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10"/>
              <p:cNvSpPr txBox="1"/>
              <p:nvPr/>
            </p:nvSpPr>
            <p:spPr>
              <a:xfrm>
                <a:off x="4932360" y="1341360"/>
                <a:ext cx="4921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11"/>
              <p:cNvSpPr txBox="1"/>
              <p:nvPr/>
            </p:nvSpPr>
            <p:spPr>
              <a:xfrm>
                <a:off x="4140360" y="2349360"/>
                <a:ext cx="4125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12"/>
              <p:cNvSpPr txBox="1"/>
              <p:nvPr/>
            </p:nvSpPr>
            <p:spPr>
              <a:xfrm>
                <a:off x="5076720" y="2205000"/>
                <a:ext cx="4888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Object 14"/>
              <p:cNvSpPr txBox="1"/>
              <p:nvPr/>
            </p:nvSpPr>
            <p:spPr>
              <a:xfrm>
                <a:off x="7308720" y="2276640"/>
                <a:ext cx="48924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Object 15"/>
              <p:cNvSpPr txBox="1"/>
              <p:nvPr/>
            </p:nvSpPr>
            <p:spPr>
              <a:xfrm>
                <a:off x="6443640" y="2205000"/>
                <a:ext cx="539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16"/>
              <p:cNvSpPr txBox="1"/>
              <p:nvPr/>
            </p:nvSpPr>
            <p:spPr>
              <a:xfrm>
                <a:off x="3203640" y="3357720"/>
                <a:ext cx="465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Object 17"/>
              <p:cNvSpPr txBox="1"/>
              <p:nvPr/>
            </p:nvSpPr>
            <p:spPr>
              <a:xfrm>
                <a:off x="4211640" y="3357720"/>
                <a:ext cx="390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Object 18"/>
              <p:cNvSpPr txBox="1"/>
              <p:nvPr/>
            </p:nvSpPr>
            <p:spPr>
              <a:xfrm>
                <a:off x="5076720" y="3284640"/>
                <a:ext cx="540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ct 19"/>
              <p:cNvSpPr txBox="1"/>
              <p:nvPr/>
            </p:nvSpPr>
            <p:spPr>
              <a:xfrm>
                <a:off x="6588000" y="3284640"/>
                <a:ext cx="489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Object 20"/>
              <p:cNvSpPr txBox="1"/>
              <p:nvPr/>
            </p:nvSpPr>
            <p:spPr>
              <a:xfrm>
                <a:off x="4514760" y="3346560"/>
                <a:ext cx="1144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Object 21"/>
              <p:cNvSpPr txBox="1"/>
              <p:nvPr/>
            </p:nvSpPr>
            <p:spPr>
              <a:xfrm>
                <a:off x="6084720" y="3284640"/>
                <a:ext cx="476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22"/>
              <p:cNvSpPr txBox="1"/>
              <p:nvPr/>
            </p:nvSpPr>
            <p:spPr>
              <a:xfrm>
                <a:off x="3851280" y="4653000"/>
                <a:ext cx="465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Object 23"/>
              <p:cNvSpPr txBox="1"/>
              <p:nvPr/>
            </p:nvSpPr>
            <p:spPr>
              <a:xfrm>
                <a:off x="5076720" y="4653000"/>
                <a:ext cx="439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Object 24"/>
              <p:cNvSpPr txBox="1"/>
              <p:nvPr/>
            </p:nvSpPr>
            <p:spPr>
              <a:xfrm>
                <a:off x="5796000" y="4581360"/>
                <a:ext cx="539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25"/>
              <p:cNvSpPr txBox="1"/>
              <p:nvPr/>
            </p:nvSpPr>
            <p:spPr>
              <a:xfrm>
                <a:off x="6732720" y="4653000"/>
                <a:ext cx="476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26"/>
              <p:cNvSpPr txBox="1"/>
              <p:nvPr/>
            </p:nvSpPr>
            <p:spPr>
              <a:xfrm>
                <a:off x="7164360" y="4653000"/>
                <a:ext cx="4888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324000" y="1341360"/>
          <a:ext cx="8640720" cy="2113200"/>
        </p:xfrm>
        <a:graphic>
          <a:graphicData uri="http://schemas.openxmlformats.org/drawingml/2006/table">
            <a:tbl>
              <a:tblPr/>
              <a:tblGrid>
                <a:gridCol w="1242720"/>
                <a:gridCol w="874800"/>
                <a:gridCol w="974880"/>
                <a:gridCol w="923760"/>
                <a:gridCol w="924120"/>
                <a:gridCol w="925560"/>
                <a:gridCol w="925200"/>
                <a:gridCol w="924120"/>
                <a:gridCol w="925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2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3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4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5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6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7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8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001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002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4" name="Text Box 46"/>
          <p:cNvSpPr/>
          <p:nvPr/>
        </p:nvSpPr>
        <p:spPr>
          <a:xfrm>
            <a:off x="324000" y="6206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该表显示：上海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2001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月下旬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2002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年同期的每日最高气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Text Box 50"/>
          <p:cNvSpPr/>
          <p:nvPr/>
        </p:nvSpPr>
        <p:spPr>
          <a:xfrm>
            <a:off x="250920" y="4005360"/>
            <a:ext cx="70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问：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001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月下旬上海的气温的极差是多少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002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年同期的上海的气温的极差又是多少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51"/>
          <p:cNvSpPr/>
          <p:nvPr/>
        </p:nvSpPr>
        <p:spPr>
          <a:xfrm>
            <a:off x="6838920" y="386064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2-6=16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52"/>
          <p:cNvSpPr/>
          <p:nvPr/>
        </p:nvSpPr>
        <p:spPr>
          <a:xfrm>
            <a:off x="6804000" y="4508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6-9=7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Text Box 53"/>
          <p:cNvSpPr/>
          <p:nvPr/>
        </p:nvSpPr>
        <p:spPr>
          <a:xfrm>
            <a:off x="755640" y="530064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结论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:200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年的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月下旬的气温变化幅度大于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00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年同期的变化幅度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539640" y="260280"/>
            <a:ext cx="792000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计算可以看出，对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下旬的这段时间而言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上海地区的平均气温相等，都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 baseline="60000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不是说，两个时段的气温情况没有差异呢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721" name="Object 7"/>
          <p:cNvGraphicFramePr/>
          <p:nvPr/>
        </p:nvGraphicFramePr>
        <p:xfrm>
          <a:off x="1042920" y="1628640"/>
          <a:ext cx="7488360" cy="499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488360" cy="49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Rectangle 8"/>
          <p:cNvSpPr/>
          <p:nvPr/>
        </p:nvSpPr>
        <p:spPr>
          <a:xfrm>
            <a:off x="4427640" y="5013360"/>
            <a:ext cx="4176720" cy="86364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4500720" y="5157720"/>
            <a:ext cx="39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极差越大</a:t>
            </a:r>
            <a:r>
              <a:rPr b="1" lang="en-US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波动越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页脚占位符 4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26" name="Picture 5" descr="u=1357813428,2674362968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916280"/>
            <a:ext cx="4032360" cy="34560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7" descr="u=2299787731,2061689968&amp;gp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844640"/>
            <a:ext cx="3681360" cy="352764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8"/>
          <p:cNvSpPr/>
          <p:nvPr/>
        </p:nvSpPr>
        <p:spPr>
          <a:xfrm>
            <a:off x="1042920" y="404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页脚占位符 2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1484280"/>
            <a:ext cx="91440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怎样定量地计算整个波动大小呢？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甲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 7  7  7  7  7  4  7  7  7 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乙：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   6  5  9  8  5  5  9  5  9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971640" y="170028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极差是最简单的一种度量数据波动情况的量</a:t>
            </a:r>
            <a:r>
              <a:rPr b="1" lang="en-US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但只能反映数据的波动范围</a:t>
            </a:r>
            <a:r>
              <a:rPr b="1" lang="en-US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不能衡量每个数据的变化情况</a:t>
            </a:r>
            <a:r>
              <a:rPr b="1" lang="en-US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而且受极端值的影响较大</a:t>
            </a:r>
            <a:r>
              <a:rPr b="1" lang="en-US" sz="4400" spc="-1" strike="noStrike">
                <a:solidFill>
                  <a:srgbClr val="080808"/>
                </a:solidFill>
                <a:latin typeface="华文新魏"/>
                <a:ea typeface="华文新魏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页脚占位符 4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-360" y="1844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怎样才能衡量整个一组数据的波动大小呢</a:t>
            </a:r>
            <a:r>
              <a:rPr b="0" lang="en-US" sz="3600" spc="-1" strike="noStrike">
                <a:solidFill>
                  <a:srgbClr val="e4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Times New Roman"/>
                <a:ea typeface="黑体"/>
              </a:rPr>
              <a:t>20.2.2  </a:t>
            </a:r>
            <a:r>
              <a:rPr b="0" lang="zh-CN" sz="9600" spc="-1" strike="noStrike">
                <a:solidFill>
                  <a:srgbClr val="ff0066"/>
                </a:solidFill>
                <a:latin typeface="Times New Roman"/>
                <a:ea typeface="黑体"/>
              </a:rPr>
              <a:t>方差</a:t>
            </a:r>
            <a:endParaRPr b="0" lang="en-US" sz="9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页脚占位符 2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8" name="Rectangle 25"/>
          <p:cNvSpPr/>
          <p:nvPr/>
        </p:nvSpPr>
        <p:spPr>
          <a:xfrm>
            <a:off x="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Object 26"/>
              <p:cNvSpPr txBox="1"/>
              <p:nvPr/>
            </p:nvSpPr>
            <p:spPr>
              <a:xfrm>
                <a:off x="826920" y="2205000"/>
                <a:ext cx="777744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sSub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sSub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sSub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27"/>
              <p:cNvSpPr txBox="1"/>
              <p:nvPr/>
            </p:nvSpPr>
            <p:spPr>
              <a:xfrm>
                <a:off x="9029880" y="257796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1" name="Text Box 28"/>
          <p:cNvSpPr/>
          <p:nvPr/>
        </p:nvSpPr>
        <p:spPr>
          <a:xfrm>
            <a:off x="755640" y="692280"/>
            <a:ext cx="7561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各</a:t>
            </a: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数据与平均数的差的平方的平均数叫做这批数据的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方差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。公式为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1116000" y="4365720"/>
            <a:ext cx="626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可以用“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先平均，再求差，然后平方，最后再平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得到的结果表示一组数据偏离平均值的情况。这个结果通常称为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方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00:39:48Z</dcterms:created>
  <dc:creator>kejianyuan.com</dc:creator>
  <dc:description>kejianyuan.com</dc:description>
  <cp:keywords>kejianyuan.com</cp:keywords>
  <dc:language>en-US</dc:language>
  <cp:lastModifiedBy/>
  <dcterms:modified xsi:type="dcterms:W3CDTF">2014-09-10T16:21:02Z</dcterms:modified>
  <cp:revision>24</cp:revision>
  <dc:subject>人教版八年级数学（下）全套课件</dc:subject>
  <dc:title>人教版八年级数学（下）全套课件</dc:title>
</cp:coreProperties>
</file>