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25D-9755-4792-B1CF-1C07EAE7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5F-9988-4BB5-95B7-6FE1314C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359F-3409-4BB7-95DF-6E11EFA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48FDC-6318-432E-A4C6-CD7CC5E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3CA97-1F3E-4114-96EF-EC4FD54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EB57-48C9-4B4D-9183-B5FB3D7D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F1E7E-CA93-4693-B069-5998B7A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8A79-E1F8-4948-A448-B0C51EE0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C4F89-B3E7-4C12-AB86-A7F9658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BFD7B-4AB3-46F0-90A8-6B6AB5BA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BD9C2-4E0A-459C-8044-3935537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572AF-2976-4E70-AF89-FC1EE2F9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0EC-9729-4F60-8905-87EF447A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F8670-A828-4BA5-BFA2-04226E5B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CCAFC-F8BC-4739-827F-B8D0F9D1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B3101-23A2-448A-A251-2FDA4E05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FFD19-137B-4E65-A0D4-43EBCB1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E89B-8119-436A-98F9-2DB0A6B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A54FA-0FFA-436A-9DC9-CC90909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B90C-6483-4790-A09C-03B1C64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4447C-88BC-4922-AC8A-0D9FEA2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37D01-BC94-492B-BBC0-E172DB9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7E41C-3E37-4827-B9BC-F141E3D0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8CD-DA91-4BC4-BD62-869F97AA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3692E-91DB-4069-B605-2D6CC11A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1C9F-72D8-453F-9C8A-96B79262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A8FC7-FDDB-47C2-9742-B3437371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5F486-7912-497A-AD10-EC0602A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0D18-BA7B-47F4-89F1-532E33D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36E8-7394-4C66-8B86-C29A7EB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DB16-B6F2-4377-A2E9-8CEE04D9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B2EA-AD6D-4DE1-8E95-DDCEAD4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0D23-7A9F-4BF1-ACC3-DA13E76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9B87-57B8-404A-9DC6-7D77995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88C4-4FC9-4157-B583-5E0350F7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67A76-D690-469F-A278-29388C5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66C74-8C0C-4AEE-A39A-B66847B7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DF23-AA17-4393-9233-C97720E9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92E6A-7FFF-4535-A321-C8279FCD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78022-FCFD-4AA8-8DAE-E109529A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B0786-C54D-40EC-A1EC-DCF09F08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A0C45-ECC0-4E8D-B253-CE7BA21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A50F-577C-4FF4-AD0F-CC90E82D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3C2B1-DCA1-4346-B7C2-3A2D99DF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E2B21-B357-4C47-9D06-B652141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D52A-BA47-4BCE-B878-FACB796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00634-5EEB-48A1-886D-3ABDAEC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C4ACC-964F-4753-B7D0-50239128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A1BB5-F8C5-4317-A500-44AD6F7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621CA-B670-4E46-9BA2-E5498624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08C5-4F4D-47A2-951C-BE20EF3A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D67C1-46DC-4801-9A97-96A57FD2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AE65E-7DAB-4532-BD70-447F255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E2701-F454-4E54-8563-67E7095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A2327-DB8C-4A14-B43F-7FEF6841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6D085-ED84-4833-BEFE-1E078CAD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AD9-7133-4161-8788-28854F6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132AE-7B88-4B43-AEDC-D0EDEBBD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9ABCF-8427-4975-985A-0744E22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DF1D-3F79-4518-B671-74A5B991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313F1-5942-4EEE-85AB-51920E5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D939C-26D6-4E3F-9FC6-249031B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355FD-0E33-454A-8AC3-80E424AA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D2A8C-0F84-446A-81E5-D4E1EB2F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3D52E-0844-475A-8B23-7CB1EE90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54C07-D817-4B7B-9B72-3F1086FF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1E940-1A3A-4FB8-97DF-F8E8756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4281-32AF-465C-9F6D-0DFEF837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2F71C-3ACC-4510-8A38-C7D1A6F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CCD5B-6B81-485F-935A-6FDBE5C2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D0C94-B81B-4F98-92F6-C092E7D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578AB-C4B5-4405-A1A8-C69D2B47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685B8-3FD5-4D0A-A049-00566A2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F1440-4914-4B48-8BFE-A864070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9E7E8-D4A5-4E52-8A75-A2F3C6F5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22894-7C1A-44E2-867B-5AFC255E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F789E-1D58-4DD9-B3C3-CF3E76EA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31B4A-FD8A-4A6E-B98D-3872AB37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D9CE-58C1-4822-AF50-62D7E28A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45CAF-5311-4D26-812F-4D9EF59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D4CC6-4FBF-4A1C-B506-86FAF19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16191-4E1E-4589-9C16-CB87E691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08629-7ABC-45C6-BC1B-AC38A85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E8A5E-8A90-4A65-8893-50D8888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0DC99-9D6C-49D1-8609-2005D29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D4D40-4E43-4BA4-A95D-5EDF4CD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BCCA9-592F-4CA4-AA24-AEC0D1C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38715-69BD-47C6-9A61-6725EC50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24597-9A5B-40E6-A114-9AB97D6B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EA9D-A6A2-42A1-B5E0-F4AF3B0D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725E4-CD67-43C6-A559-3F3465F3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CF3838-7299-496B-A42D-4D7541F5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FB2E60-74A5-4B7B-8E7F-305CA49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E556A7-0805-4CDD-A5DE-79F7D9B8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E68CFF-89F8-47ED-8572-36FEC59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FBB8AA-A6B2-4050-BA61-6535F6F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B75621-7B29-4380-9024-40C3BA4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1FF650-B6D9-4F5D-A29B-06DD9F3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74B038-E8FE-46C3-AB0C-B10A374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D3627C-646E-442E-BB24-78FF067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755C-5CB1-4782-8913-A05B773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E7BD80-4270-49D0-9599-9ACF7C15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DFD35B-7B78-4462-8002-7D8B7E2D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3DAEA7-7C14-4269-8E7D-FA424497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227EA-261B-4A8E-89FA-E0DDF905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6BE5C-FEF4-48A1-A677-B60BC96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E9BCC-B0DA-43FB-977B-EC0CA425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10A09-0235-4E3A-B9EB-C6FCEB5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E257A-ADA7-468A-A809-82CE633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B9EB6-615A-4C7B-A0A5-B24A731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63307-B8E5-4ACC-B025-0767500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628-6F1F-4D20-97CD-DFFF8386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87E-031B-45A2-8E03-FDBA7B4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A69DC-5DB1-42AD-8D5A-7CE3719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52803-62FA-488F-85D0-F37A45C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61F35-BFBB-4E00-A2EF-73FAB4F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27CF4-C178-49EA-928F-C82273B6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D6AC3-638B-46A4-94C4-9DB77799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1FDBA-AFDC-41A1-82BC-E0F2C5FA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14A30-AF10-4C51-BFC1-44FB42A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F0B2D-A793-4C11-823F-2FEF8494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E4614-AC54-4F78-9BDF-5C189BAD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1389A-7736-41D2-94F6-EDF743BC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BBE-9904-41DE-8E18-59A118B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95266-9F5C-4ECB-9E0B-5AEEE59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01866-2DE8-4E2D-ADCA-CA12FB6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201E1-0DF0-4947-A233-68B07E70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FD145-27F2-4677-8BB2-F03BC1B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30E89-05C0-463C-A849-70B0C7B5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3E7C9-8B3C-4993-B1AC-727C717D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86FE6-2D27-4E49-AE4F-53CD80F3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7EF67-F414-4CF7-A198-A39FC06F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31A1E-A186-4E9D-AC4F-01BA692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FE245-0EC2-4689-A814-9162E1F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538D-DD8F-490F-82A1-7A2BD9D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6B5958-5530-46DD-ADCB-2EC3E0A0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CB407-431E-43E9-9A7F-84B6998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8346B-4C4C-430C-9CDD-390150E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74AC8-DCD3-4B1E-970F-238E48B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19211-21F9-48FF-B411-500EA30E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3319D-70D3-4393-8BA9-8A02C21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D948D-E9D9-4C0A-A3AA-BAD2783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E3898-4116-4A9C-BE5A-4A5DDFF7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D2A1AD-4ECE-4ACC-936E-DEFD48C4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F2253-7969-4B6D-96C9-52C1E3A9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AEDB-B8BC-4801-AD1F-4B257C5D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9B693-3D45-42B2-9601-E8F741F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6E7F3-6171-4F37-AAD4-E4C3389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A13C2-669B-4A3A-AF85-99DC9120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656BC-3788-42E2-B684-18549CD9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16959-4585-43E0-902C-85D8B2D4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6F72A-C957-45A4-A046-B709775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C5D4D-5CC0-4D3F-A010-E6D1B24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71550-4E4B-4052-83F7-D99AB40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ED682-445B-4B36-A38F-60A6B40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63D26-1B13-4B52-9CDF-D775EE03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D15-171E-4968-9C22-6119F064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836C3-065F-4853-B9FD-1D3C3F23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8DA42D-0770-4A0F-B7A4-30812302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5D39DF-FC50-4679-8474-46E3527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C2BDD1-1A9F-4896-9578-D8E41289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EDFE9A-A2A7-4BA6-9C19-0698776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3BD271-40AB-4449-967E-488C6A1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92011E-722B-4525-B050-A87C5732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99B292-796D-49FD-B9A8-2F2D14B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533C70-1F9C-4339-AE53-919C327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4EE4BC-3116-4B35-BCC0-CDFD43F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40227-2A5B-4CD8-A12A-1A4FAD89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67442D-7995-4722-9939-A5BE883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BE7A87-CCC0-48BC-8783-90BD36B1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D08C63-7BD1-4883-A157-F153118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6EB3A4-2730-46FC-B291-67838658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922AF-9AFC-4B6C-9540-6781D16F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7004F-86CD-44DD-8387-BAD0283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E6856-99F8-4C3B-8901-A528A44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205D28-673C-438D-9B4C-A83D95B0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EDDD9-685B-47FB-B25A-5945458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E59DF-444B-48D7-AC80-DFF9DE8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53FE9-7BC7-4323-B1BD-DBAE9DA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27A0B-6C94-4E48-B0EF-AC18D71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CB20A5-34A4-4E61-A76B-F74159C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9F776-EA63-4BEB-BD0F-931AC06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1A6E4-EF34-4AC1-901E-0451444A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EF4B9-302E-4EC9-9DB7-8624C3B4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0B51A-76BD-4C16-A0D1-AD14408A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8C48E-61D5-4A18-A1A4-110B10E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3AF029-6C14-46A6-9627-F9125FEC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E66F1-9333-49FA-BDE4-053F80D8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3ED4E9-F0D5-444A-9FE6-A507193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FED8C-8C4B-4002-A2BE-27CBB4D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0C9598-F50A-4343-82A9-61FDD39F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94651-A12E-4CE0-BEC2-88F54DC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841CD-F0E6-4C46-B015-22C1965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3BD325-D792-4C7B-9679-5B8F773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0208AB-7B08-48A3-B4E7-F1662800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C079F-F050-4EC5-A0C4-23DF3400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CC843-F5C4-4DDF-A83E-7C97C869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2CE801-EEF0-4AA1-801A-2CF6CFC6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DA9DB8-EC37-4A1E-8DD2-B316B1E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3BDED-3539-4632-B3AD-FDA15444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B2439-90E6-4D3A-B177-04B9D8E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56293C-77E2-454B-B5F1-2E0968A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BC5D35-E1A0-451F-AD08-0BE86DC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B3F37D-1FC2-4011-9893-4A3456E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F7B29E-465B-4977-B007-0CDCC95D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6C1967-D9AF-4EE3-9BE3-53E3E6F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6E893B-1632-4B74-ACCF-73AE2F1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E36849-D206-466F-AA9E-76E348B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D03DD5-A144-4CB3-8C49-F5D3D4A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31FDA-3B3B-4E6D-AA4F-A78B4D7B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509992-9C92-4A49-8398-A2EC67A1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F3062-20A9-4C8F-86B1-AB667DE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901B62-D152-4A30-9D97-3F60298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6629C9-E91C-461C-8791-0403A52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494D71-0D87-406B-A723-3C05E10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0AE85C-7309-4D52-A93D-59F2FA5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1749A2-7E3D-400A-AE27-6106281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69014-A77B-48B0-A49C-025DCA0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4FEB6C-0D68-43F4-AC01-4A268FB0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9F0A0-C9AF-48A8-80E7-8F0B3F8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5C58D9-E8B3-47EE-9316-D4E6FA33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D70E1-B2FA-4ED1-8EFB-CA0BD7E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510-6362-4B65-841B-A5156D0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24513-AC8A-4B6F-8E6C-EC936688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3C597-60F1-4F98-869A-371FCAC7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21CD88-B203-45D2-B656-F2AFFFD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461F4D-5644-4459-8FCA-B68791A2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B602A5-36C0-4C4A-A021-FD8F588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278FCE-1841-4BE2-B1BC-441F3F4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763DAC-704A-418D-84E8-1E1E1772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4975B5-8BEC-445A-9BF9-C0323FE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FF92BB-4276-442D-B5A5-D97F450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AD0091-6B25-41BA-AF42-96AE6BA1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E7C3F1-1AEF-4B83-B1DA-A180704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A2E46-42B6-41E0-AED2-C6491BC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3B3219-9C96-4224-937F-A60FA54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071047-AE16-44DF-AF71-4B5F951A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CA8A13-72CF-4287-A5C4-F4404690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5122A5-8203-4534-AD27-74F05E4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067911-B85C-4A43-8091-15675A4C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C97739-0B34-4024-8D6A-0244EC93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4F1EE3-925C-4DEA-94A5-1AD1B33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1EB5D9-018D-45A6-A1FE-70139D3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0F1848-A783-4F41-89C7-7AFF9C4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4D9C1D-9FA5-4DD0-8ECA-7DCF553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3C9EF-461A-4BD6-A68F-F53126B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11A7C-4076-477D-B483-13D3896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8788B4-7280-42E3-81AD-AE3C19C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1CC992-C528-421A-ABD8-957A3A1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95072F-A076-4AB2-A0E3-15054F69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F4DE1-3C3A-40AF-AD18-28134FB3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625E2-65CF-4741-B39A-E3DF162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0869F-2323-41A9-846B-64F7F729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FBCA4-7613-4402-8A04-284C4CC7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9E2FF-537F-461C-89D8-0ABD882F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0D50-14DD-4ECB-9391-C9C8044A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55F0-9DF1-4408-8D41-80370BF9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0288-0197-4C5E-B428-02F832B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57C-C036-4C09-B9B1-4D10998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87F1-5B8F-4532-A529-6F15650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3236-EFD4-4A33-ACB4-0F9FF4CC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39F1-BCDF-479D-BF1A-959F488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533F-EB7B-4829-A375-C3472D6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0079-772C-4F4B-87B0-91F27E9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E028-C5C3-4FAC-9A07-9D50E1D3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7AB3-AFE2-4997-B2D4-49C212A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7E03-79CB-4A9F-96CA-0D62A76C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6304-BCC6-4BE6-A693-E9D1B104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F0DE-F63A-4134-867D-62FB065A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E7E-85CF-423A-A181-2A13988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AE9B-E4D9-44D8-9755-D3D48598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D70B1-D48F-4717-B975-F180CA7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AA88-1432-4B2F-A8B4-5C7DE7B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E811-F881-417E-BB70-E2969DB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5DE6-E5D0-4348-9BDF-ED30348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DD27-5403-4300-A5FC-ADC8093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B1B0-1CC8-49AE-92F8-815BEE2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33BC-2D15-482C-B2E0-AB0DDD7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FCD8-532E-47EA-856B-901DA010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8CBF2-64BD-4851-997D-95D638CD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658-979A-45CC-8DD9-AFFDD24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2CAB-340A-4E16-9C2C-BC8E2415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CB76-DD12-4CF5-AB59-197D224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1514-AC16-452C-812B-92E178F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29DF-5D1E-40FF-90EC-5DB63F9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EC48-BEDB-4446-A5FE-3EADEB9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941D-0671-436B-99AA-C46CD4B9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1DE5-FC1E-4E35-AA2B-3234441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15117-A7EC-467E-89AE-C09C0FC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269F-89D5-4322-99ED-0388FD6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AC8D-C5E8-4C77-82E9-0AC8190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246-2EFC-488C-B44F-3B71EF6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FD13-2C63-49DD-A7E3-27DD568B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82AA-0468-44A9-B82C-FC28EF6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0563-3379-469F-AE3A-A0016A09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04D24-BE23-4547-B664-1EAC92B5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7E96-C0C1-4C7E-91EE-E37051F9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7A94-ED94-42DE-8F9D-031CCD4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B1A7-FB5A-435C-B54C-9DDED6C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8993-4E06-4DE1-BA93-7B6876A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3B27F-0746-42F3-96DB-CE830AC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A9F3-422D-4708-99A8-975BD9F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BB9-9359-4034-A82F-11E1BF32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0C68-170E-4481-B351-B2811EF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D187-807F-4E8C-86C9-7948EBC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386B-29D4-49B0-8429-A935929D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1A118-5232-4EFE-9B96-CB65392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4E4A3-3A66-426E-8C10-E68DD492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F82B-EBE1-43F2-834A-E067E683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616CF-53AF-4341-81AA-C239110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B7B2-7B35-4FAA-B783-F345A72C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F3B2-2E39-41F9-9F59-C034D0C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D351-79D9-411F-ABB4-CBD7171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72E-C191-4D40-BAA1-E438302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E2383-0565-45F1-8855-A461080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5E43B-9DB2-41AF-81DD-D53356D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9B19F-3334-4F28-88C9-001C2B0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6EB75-6E54-4214-B458-8E9D99E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8F6C-DF88-4E55-9657-9C81E12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5520-D149-4AB9-8FF7-EA627EE6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2923-5A5E-4C4C-8FD7-CBCBF5DF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CCFBE-E56D-4784-844D-A1F75E16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D542-9850-48C6-91FE-DF060B0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EFFA-16D0-4213-BA12-95D59619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77.xml"/><Relationship Id="rId35" Type="http://schemas.openxmlformats.org/officeDocument/2006/relationships/slideLayout" Target="../slideLayouts/slideLayout278.xml"/><Relationship Id="rId36" Type="http://schemas.openxmlformats.org/officeDocument/2006/relationships/slideLayout" Target="../slideLayouts/slideLayout279.xml"/><Relationship Id="rId37" Type="http://schemas.openxmlformats.org/officeDocument/2006/relationships/slideLayout" Target="../slideLayouts/slideLayout280.xml"/><Relationship Id="rId38" Type="http://schemas.openxmlformats.org/officeDocument/2006/relationships/slideLayout" Target="../slideLayouts/slideLayout281.xml"/><Relationship Id="rId39" Type="http://schemas.openxmlformats.org/officeDocument/2006/relationships/slideLayout" Target="../slideLayouts/slideLayout282.xml"/><Relationship Id="rId40" Type="http://schemas.openxmlformats.org/officeDocument/2006/relationships/slideLayout" Target="../slideLayouts/slideLayout283.xml"/><Relationship Id="rId41" Type="http://schemas.openxmlformats.org/officeDocument/2006/relationships/slideLayout" Target="../slideLayouts/slideLayout284.xml"/><Relationship Id="rId42" Type="http://schemas.openxmlformats.org/officeDocument/2006/relationships/slideLayout" Target="../slideLayouts/slideLayout285.xml"/><Relationship Id="rId43" Type="http://schemas.openxmlformats.org/officeDocument/2006/relationships/slideLayout" Target="../slideLayouts/slideLayout286.xml"/><Relationship Id="rId44" Type="http://schemas.openxmlformats.org/officeDocument/2006/relationships/slideLayout" Target="../slideLayouts/slideLayout287.xml"/><Relationship Id="rId4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ECA2-22E6-4605-B406-8CF50A9D7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4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4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64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4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4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4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65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65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8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8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8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8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9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D135-FCAB-4D92-AE81-B1F0679F5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3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4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F127-2C8B-4575-B93A-C6B6955C81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7557-DE56-4667-83E3-4389643F7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6D5-7E77-4098-AE71-09CE72498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02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2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2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2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02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3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3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3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3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3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3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3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3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3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4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4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4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4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4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4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4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5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5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5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5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5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5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5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6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6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6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6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6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6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6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6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6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6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7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7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7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7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7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7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7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8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8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8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8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8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8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8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8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8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8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9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9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9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9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9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9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9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09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109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0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0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0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0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0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0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0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0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0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0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1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1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1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1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1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1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1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1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1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1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2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2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2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2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2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2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2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2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2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12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3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13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13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13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3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4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4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14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14E9-1FFC-4ECB-85A4-CE36FBC76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9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0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0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0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0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0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0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0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1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21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21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1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1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1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1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1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1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2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2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2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2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2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2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2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2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2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3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3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3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3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3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3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3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3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3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3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4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4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24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25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25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5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5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6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6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6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7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7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27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27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27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7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8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28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29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29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29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0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0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0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0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31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91E-D919-4E11-A2E9-FD8241E47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7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7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37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37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7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38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8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38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38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2BB4-D793-4ED8-9FE0-8C02B13E6E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5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F7A-D159-4046-8C90-DB0AA2F71B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9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0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0188-9E8B-419E-B0E3-086F3A95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5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9529-B00E-4090-977B-B9DD06F99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903-7CD1-4809-981C-45D79600F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60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0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60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1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2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162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62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2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3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64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4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64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64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4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5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65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5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5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5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6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6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6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6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5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ftr" idx="5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8E6-6615-4652-9D38-EB7D4C2077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576-358A-4BB9-A0BC-E0EC589D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4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5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5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5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5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A315-94D9-4274-9642-CFE38E49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dt" idx="6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 type="sldNum" idx="6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BCA-4741-4C52-AA12-00F5248FD9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8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8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18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dt" idx="7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ftr" idx="7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 type="sldNum" idx="7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DBE-3FD0-4B08-83D6-709B1B0EA8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4"/>
    <p:sldLayoutId id="2147483949" r:id="rId35"/>
    <p:sldLayoutId id="2147483950" r:id="rId36"/>
    <p:sldLayoutId id="2147483951" r:id="rId37"/>
    <p:sldLayoutId id="2147483952" r:id="rId38"/>
    <p:sldLayoutId id="2147483953" r:id="rId39"/>
    <p:sldLayoutId id="2147483954" r:id="rId40"/>
    <p:sldLayoutId id="2147483955" r:id="rId41"/>
    <p:sldLayoutId id="2147483956" r:id="rId42"/>
    <p:sldLayoutId id="2147483957" r:id="rId43"/>
    <p:sldLayoutId id="2147483958" r:id="rId44"/>
    <p:sldLayoutId id="2147483959" r:id="rId4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3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ACE-7E00-46B0-A146-91A7036CC1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7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7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8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8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8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8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7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7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7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8C11-CFDC-4D9B-A9C1-9617DA16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2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2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2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3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04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4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7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8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9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0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1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2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3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4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5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6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17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7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AD7-734B-4CDD-93DC-7DA31F3D4E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079-C768-46D7-9951-AA8611FBC8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BB23-5192-4D7F-A17C-1B53C0F15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6E9F-4221-4662-8AB0-66A36B0CE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0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40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0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2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42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3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3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4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4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4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4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4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5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45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5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E8B8-23A6-4FBF-B59F-17DBCF906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4AE-CFA7-423F-8C3A-F85C8173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5B4-DA69-4597-BE9A-81A1F0A3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9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60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896-FD54-4930-B0A3-141C324A8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ishuo.gkzhan.net/sale_10013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制作人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付彩霞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19" name="WordArt 12" descr=""/>
          <p:cNvPicPr/>
          <p:nvPr/>
        </p:nvPicPr>
        <p:blipFill>
          <a:blip r:embed="rId1"/>
          <a:stretch/>
        </p:blipFill>
        <p:spPr>
          <a:xfrm>
            <a:off x="1609560" y="822240"/>
            <a:ext cx="4658040" cy="1139760"/>
          </a:xfrm>
          <a:prstGeom prst="rect">
            <a:avLst/>
          </a:prstGeom>
          <a:ln w="0">
            <a:noFill/>
          </a:ln>
        </p:spPr>
      </p:pic>
      <p:pic>
        <p:nvPicPr>
          <p:cNvPr id="2220" name="伤心太平洋.mp3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1376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222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22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68302" fill="hold"/>
                                        <p:tgtEl>
                                          <p:spTgt spid="2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议一议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矩形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的对角线把矩形分成了怎样的图形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cc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根据矩形的两条对角线相等你能得到直角三角形的什么性质？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17"/>
          <p:cNvSpPr/>
          <p:nvPr/>
        </p:nvSpPr>
        <p:spPr>
          <a:xfrm>
            <a:off x="628020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8" name="Rectangle 38"/>
          <p:cNvSpPr/>
          <p:nvPr/>
        </p:nvSpPr>
        <p:spPr>
          <a:xfrm>
            <a:off x="6300720" y="4581360"/>
            <a:ext cx="1728720" cy="914400"/>
          </a:xfrm>
          <a:prstGeom prst="rect">
            <a:avLst/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9" name="Line 40"/>
          <p:cNvSpPr/>
          <p:nvPr/>
        </p:nvSpPr>
        <p:spPr>
          <a:xfrm flipV="1">
            <a:off x="6300720" y="4581000"/>
            <a:ext cx="17272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0" name="Line 41"/>
          <p:cNvSpPr/>
          <p:nvPr/>
        </p:nvSpPr>
        <p:spPr>
          <a:xfrm>
            <a:off x="6300720" y="4581360"/>
            <a:ext cx="172728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1" name="Text Box 42"/>
          <p:cNvSpPr/>
          <p:nvPr/>
        </p:nvSpPr>
        <p:spPr>
          <a:xfrm>
            <a:off x="6111720" y="4299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2" name="Text Box 43"/>
          <p:cNvSpPr/>
          <p:nvPr/>
        </p:nvSpPr>
        <p:spPr>
          <a:xfrm>
            <a:off x="6040080" y="537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3" name="Text Box 44"/>
          <p:cNvSpPr/>
          <p:nvPr/>
        </p:nvSpPr>
        <p:spPr>
          <a:xfrm>
            <a:off x="8127720" y="5307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8127720" y="42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Ｄ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5" name="Text Box 53"/>
          <p:cNvSpPr/>
          <p:nvPr/>
        </p:nvSpPr>
        <p:spPr>
          <a:xfrm>
            <a:off x="7048080" y="5018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页脚占位符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</a:rPr>
              <a:t>定理：直角三角形斜边上的中线等于斜边的一半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例１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如图，矩形ＡＢＣＤ的两条对角线交于Ｏ点，∠ＡＯＢ＝６０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°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，ＡＢ＝４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求矩形对角线的长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0" name="Rectangle 4"/>
          <p:cNvSpPr/>
          <p:nvPr/>
        </p:nvSpPr>
        <p:spPr>
          <a:xfrm>
            <a:off x="6372360" y="4076640"/>
            <a:ext cx="1728720" cy="9144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1" name="Line 6"/>
          <p:cNvSpPr/>
          <p:nvPr/>
        </p:nvSpPr>
        <p:spPr>
          <a:xfrm flipV="1">
            <a:off x="6372360" y="4076640"/>
            <a:ext cx="1728720" cy="936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2" name="Line 7"/>
          <p:cNvSpPr/>
          <p:nvPr/>
        </p:nvSpPr>
        <p:spPr>
          <a:xfrm>
            <a:off x="6372360" y="4076640"/>
            <a:ext cx="1728720" cy="936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3" name="Text Box 8"/>
          <p:cNvSpPr/>
          <p:nvPr/>
        </p:nvSpPr>
        <p:spPr>
          <a:xfrm>
            <a:off x="6111720" y="3794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Text Box 9"/>
          <p:cNvSpPr/>
          <p:nvPr/>
        </p:nvSpPr>
        <p:spPr>
          <a:xfrm>
            <a:off x="6111720" y="480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5" name="Text Box 10"/>
          <p:cNvSpPr/>
          <p:nvPr/>
        </p:nvSpPr>
        <p:spPr>
          <a:xfrm>
            <a:off x="8127720" y="480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6" name="Text Box 12"/>
          <p:cNvSpPr/>
          <p:nvPr/>
        </p:nvSpPr>
        <p:spPr>
          <a:xfrm>
            <a:off x="8056440" y="3867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Ｄ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7" name="Text Box 13"/>
          <p:cNvSpPr/>
          <p:nvPr/>
        </p:nvSpPr>
        <p:spPr>
          <a:xfrm>
            <a:off x="7119720" y="42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解：∵四边形ＡＢＣＤ是矩形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∴ＡＣ与ＢＤ相等且互相平分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∵ＯＡ＝ＯＢ，∠ＡＯＢ＝６０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∴△ＯＡＢ是等边三角形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∴ＯＡ＝ＯＢ＝４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∴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矩形对角线ＡＣ＝ＢＤ＝２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o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Ａ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图，矩形ＡＢＣＤ中，对角线ＡＣＢＤ交于Ｏ点，ＡＥ⊥ＢＤ垂足为Ｅ，若∠ＤＡＥ：∠ＢＡＥ＝３：１求∠ＥＡＣ的度数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Rectangle 5"/>
          <p:cNvSpPr/>
          <p:nvPr/>
        </p:nvSpPr>
        <p:spPr>
          <a:xfrm>
            <a:off x="3419640" y="4581360"/>
            <a:ext cx="1873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3" name="Line 6"/>
          <p:cNvSpPr/>
          <p:nvPr/>
        </p:nvSpPr>
        <p:spPr>
          <a:xfrm flipV="1">
            <a:off x="3419640" y="4581360"/>
            <a:ext cx="187308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4" name="Line 7"/>
          <p:cNvSpPr/>
          <p:nvPr/>
        </p:nvSpPr>
        <p:spPr>
          <a:xfrm>
            <a:off x="3419640" y="4581360"/>
            <a:ext cx="187308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5" name="Line 8"/>
          <p:cNvSpPr/>
          <p:nvPr/>
        </p:nvSpPr>
        <p:spPr>
          <a:xfrm>
            <a:off x="3419640" y="4581360"/>
            <a:ext cx="4316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6" name="Text Box 9"/>
          <p:cNvSpPr/>
          <p:nvPr/>
        </p:nvSpPr>
        <p:spPr>
          <a:xfrm>
            <a:off x="3159000" y="43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7" name="Text Box 11"/>
          <p:cNvSpPr/>
          <p:nvPr/>
        </p:nvSpPr>
        <p:spPr>
          <a:xfrm>
            <a:off x="3159000" y="5451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8" name="Text Box 13"/>
          <p:cNvSpPr/>
          <p:nvPr/>
        </p:nvSpPr>
        <p:spPr>
          <a:xfrm>
            <a:off x="5248080" y="537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9" name="Text Box 16"/>
          <p:cNvSpPr/>
          <p:nvPr/>
        </p:nvSpPr>
        <p:spPr>
          <a:xfrm>
            <a:off x="5248080" y="43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Ｄ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0" name="Text Box 17"/>
          <p:cNvSpPr/>
          <p:nvPr/>
        </p:nvSpPr>
        <p:spPr>
          <a:xfrm>
            <a:off x="4240080" y="4659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矩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∠BAD=90°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E+∠BA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∵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E:∠BAE =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∠BAE+∠DA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∴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=22.5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⊥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∴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B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∴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=67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∵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角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.BD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等且互相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=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∴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O=∠ABE=67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=∠BAO-∠BAE=67.5°-22.5°=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4"/>
          <p:cNvSpPr/>
          <p:nvPr/>
        </p:nvSpPr>
        <p:spPr>
          <a:xfrm>
            <a:off x="4435920" y="324648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页脚占位符 4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77104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Arial"/>
              </a:rPr>
              <a:t>你一定能选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矩形具有而一般平行四边形不具有的性质是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                                 (        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对角线相等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对边相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对角相等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对角线互相平分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若直角三角形的两条直角边分别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2,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则斜边上的中线长为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         (          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13     B.6        C.6.5     D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若矩形的一条对角线与一边的夹角为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0°,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则两条对角线相交的锐角是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(    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20 °    B.40°       C.80 °      D.10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6" name="WordArt 4"/>
          <p:cNvSpPr txBox="1"/>
          <p:nvPr/>
        </p:nvSpPr>
        <p:spPr>
          <a:xfrm>
            <a:off x="3851280" y="260280"/>
            <a:ext cx="13716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已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如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边形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C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∠ABC=∠ADC=90°,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中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E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平分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猜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E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具有怎样的特殊关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请证明你的猜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9" name="WordArt 5"/>
          <p:cNvSpPr txBox="1"/>
          <p:nvPr/>
        </p:nvSpPr>
        <p:spPr>
          <a:xfrm>
            <a:off x="900000" y="189000"/>
            <a:ext cx="18288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提升能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10" name="Line 8"/>
          <p:cNvSpPr/>
          <p:nvPr/>
        </p:nvSpPr>
        <p:spPr>
          <a:xfrm>
            <a:off x="5003640" y="4581360"/>
            <a:ext cx="2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1" name="Line 10"/>
          <p:cNvSpPr/>
          <p:nvPr/>
        </p:nvSpPr>
        <p:spPr>
          <a:xfrm>
            <a:off x="5219640" y="5661000"/>
            <a:ext cx="158436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2" name="Line 11"/>
          <p:cNvSpPr/>
          <p:nvPr/>
        </p:nvSpPr>
        <p:spPr>
          <a:xfrm flipV="1">
            <a:off x="6804000" y="4149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3" name="Line 13"/>
          <p:cNvSpPr/>
          <p:nvPr/>
        </p:nvSpPr>
        <p:spPr>
          <a:xfrm flipV="1">
            <a:off x="5003640" y="4220640"/>
            <a:ext cx="180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4" name="Line 14"/>
          <p:cNvSpPr/>
          <p:nvPr/>
        </p:nvSpPr>
        <p:spPr>
          <a:xfrm>
            <a:off x="5003640" y="4581360"/>
            <a:ext cx="1800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5" name="Line 15"/>
          <p:cNvSpPr/>
          <p:nvPr/>
        </p:nvSpPr>
        <p:spPr>
          <a:xfrm flipH="1">
            <a:off x="5219640" y="4149720"/>
            <a:ext cx="1656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6" name="Text Box 17"/>
          <p:cNvSpPr/>
          <p:nvPr/>
        </p:nvSpPr>
        <p:spPr>
          <a:xfrm>
            <a:off x="498492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7" name="Text Box 18"/>
          <p:cNvSpPr/>
          <p:nvPr/>
        </p:nvSpPr>
        <p:spPr>
          <a:xfrm>
            <a:off x="6802560" y="3960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8" name="Text Box 19"/>
          <p:cNvSpPr/>
          <p:nvPr/>
        </p:nvSpPr>
        <p:spPr>
          <a:xfrm>
            <a:off x="4782960" y="4392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9" name="Text Box 21"/>
          <p:cNvSpPr/>
          <p:nvPr/>
        </p:nvSpPr>
        <p:spPr>
          <a:xfrm>
            <a:off x="498492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0" name="Text Box 22"/>
          <p:cNvSpPr/>
          <p:nvPr/>
        </p:nvSpPr>
        <p:spPr>
          <a:xfrm>
            <a:off x="4858560" y="5473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1" name="Text Box 23"/>
          <p:cNvSpPr/>
          <p:nvPr/>
        </p:nvSpPr>
        <p:spPr>
          <a:xfrm>
            <a:off x="6863040" y="5473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2" name="Line 24"/>
          <p:cNvSpPr/>
          <p:nvPr/>
        </p:nvSpPr>
        <p:spPr>
          <a:xfrm flipH="1">
            <a:off x="5940000" y="4869000"/>
            <a:ext cx="144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3" name="Text Box 26"/>
          <p:cNvSpPr/>
          <p:nvPr/>
        </p:nvSpPr>
        <p:spPr>
          <a:xfrm>
            <a:off x="58168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4" name="Text Box 27"/>
          <p:cNvSpPr/>
          <p:nvPr/>
        </p:nvSpPr>
        <p:spPr>
          <a:xfrm>
            <a:off x="5722200" y="5184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小结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谈一谈这一节你都学会了什么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作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课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页习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9" name="难念的经.mp3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32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2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69063" fill="hold"/>
                                        <p:tgtEl>
                                          <p:spTgt spid="2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掌握矩形的意义及性质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运用矩形的性质解决有关问题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AutoShape 8"/>
          <p:cNvSpPr/>
          <p:nvPr/>
        </p:nvSpPr>
        <p:spPr>
          <a:xfrm>
            <a:off x="6659640" y="1197000"/>
            <a:ext cx="1635120" cy="136836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5" name="Rectangle 9"/>
          <p:cNvSpPr/>
          <p:nvPr/>
        </p:nvSpPr>
        <p:spPr>
          <a:xfrm>
            <a:off x="2627280" y="189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1" name="WordArt 5"/>
          <p:cNvSpPr txBox="1"/>
          <p:nvPr/>
        </p:nvSpPr>
        <p:spPr>
          <a:xfrm>
            <a:off x="2124000" y="2924280"/>
            <a:ext cx="54007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请观看以下实物图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28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30" name="Picture 7" descr="gkzhan0064141311387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27664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熟悉这些图形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叫什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_____________________________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WordArt 4"/>
          <p:cNvSpPr txBox="1"/>
          <p:nvPr/>
        </p:nvSpPr>
        <p:spPr>
          <a:xfrm>
            <a:off x="755640" y="54936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  <p:sp>
        <p:nvSpPr>
          <p:cNvPr id="2234" name="AutoShape 6"/>
          <p:cNvSpPr/>
          <p:nvPr/>
        </p:nvSpPr>
        <p:spPr>
          <a:xfrm>
            <a:off x="154764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5" name="Text Box 9"/>
          <p:cNvSpPr/>
          <p:nvPr/>
        </p:nvSpPr>
        <p:spPr>
          <a:xfrm>
            <a:off x="1769400" y="2276640"/>
            <a:ext cx="15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它叫长方形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也叫矩形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e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/>
          </p:nvPr>
        </p:nvSpPr>
        <p:spPr>
          <a:xfrm>
            <a:off x="-396720" y="2133720"/>
            <a:ext cx="77738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从图形上看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矩形是平行四边形吗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?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若是它们之间有何关系呢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8" name="WordArt 16"/>
          <p:cNvSpPr txBox="1"/>
          <p:nvPr/>
        </p:nvSpPr>
        <p:spPr>
          <a:xfrm>
            <a:off x="3635280" y="620640"/>
            <a:ext cx="914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思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advTm="2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当一个平行四边形的一个内角变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将成为什么图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AutoShape 4"/>
          <p:cNvSpPr/>
          <p:nvPr/>
        </p:nvSpPr>
        <p:spPr>
          <a:xfrm>
            <a:off x="1908000" y="3645000"/>
            <a:ext cx="1872000" cy="627120"/>
          </a:xfrm>
          <a:prstGeom prst="parallelogram">
            <a:avLst>
              <a:gd name="adj" fmla="val 7462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3" name="Line 5"/>
          <p:cNvSpPr/>
          <p:nvPr/>
        </p:nvSpPr>
        <p:spPr>
          <a:xfrm>
            <a:off x="2050920" y="4076640"/>
            <a:ext cx="73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4" name="Text Box 9"/>
          <p:cNvSpPr/>
          <p:nvPr/>
        </p:nvSpPr>
        <p:spPr>
          <a:xfrm>
            <a:off x="203400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5" name="Line 10"/>
          <p:cNvSpPr/>
          <p:nvPr/>
        </p:nvSpPr>
        <p:spPr>
          <a:xfrm>
            <a:off x="3780000" y="40766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6" name="Line 15"/>
          <p:cNvSpPr/>
          <p:nvPr/>
        </p:nvSpPr>
        <p:spPr>
          <a:xfrm flipV="1">
            <a:off x="1979640" y="3645000"/>
            <a:ext cx="1800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7" name="Line 16"/>
          <p:cNvSpPr/>
          <p:nvPr/>
        </p:nvSpPr>
        <p:spPr>
          <a:xfrm>
            <a:off x="2411280" y="3645000"/>
            <a:ext cx="936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8" name="Text Box 20"/>
          <p:cNvSpPr/>
          <p:nvPr/>
        </p:nvSpPr>
        <p:spPr>
          <a:xfrm>
            <a:off x="5364000" y="3933720"/>
            <a:ext cx="21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9" name="Text Box 34"/>
          <p:cNvSpPr/>
          <p:nvPr/>
        </p:nvSpPr>
        <p:spPr>
          <a:xfrm>
            <a:off x="5651640" y="4149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250" name="Group 50"/>
          <p:cNvGrpSpPr/>
          <p:nvPr/>
        </p:nvGrpSpPr>
        <p:grpSpPr>
          <a:xfrm>
            <a:off x="5435640" y="3645000"/>
            <a:ext cx="1512720" cy="936360"/>
            <a:chOff x="5435640" y="3645000"/>
            <a:chExt cx="1512720" cy="936360"/>
          </a:xfrm>
        </p:grpSpPr>
        <p:grpSp>
          <p:nvGrpSpPr>
            <p:cNvPr id="2251" name="Group 48"/>
            <p:cNvGrpSpPr/>
            <p:nvPr/>
          </p:nvGrpSpPr>
          <p:grpSpPr>
            <a:xfrm>
              <a:off x="5435640" y="3645000"/>
              <a:ext cx="1512720" cy="936360"/>
              <a:chOff x="5435640" y="3645000"/>
              <a:chExt cx="1512720" cy="936360"/>
            </a:xfrm>
          </p:grpSpPr>
          <p:sp>
            <p:nvSpPr>
              <p:cNvPr id="2252" name="Rectangle 38"/>
              <p:cNvSpPr/>
              <p:nvPr/>
            </p:nvSpPr>
            <p:spPr>
              <a:xfrm>
                <a:off x="5435640" y="3645000"/>
                <a:ext cx="1512720" cy="9144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53" name="Line 40"/>
              <p:cNvSpPr/>
              <p:nvPr/>
            </p:nvSpPr>
            <p:spPr>
              <a:xfrm>
                <a:off x="5435640" y="3645000"/>
                <a:ext cx="151272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54" name="Line 41"/>
              <p:cNvSpPr/>
              <p:nvPr/>
            </p:nvSpPr>
            <p:spPr>
              <a:xfrm>
                <a:off x="5435640" y="436572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55" name="Line 44"/>
              <p:cNvSpPr/>
              <p:nvPr/>
            </p:nvSpPr>
            <p:spPr>
              <a:xfrm flipH="1">
                <a:off x="5435640" y="3645000"/>
                <a:ext cx="151272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56" name="Text Box 47"/>
              <p:cNvSpPr/>
              <p:nvPr/>
            </p:nvSpPr>
            <p:spPr>
              <a:xfrm>
                <a:off x="5644440" y="4105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00"/>
                    </a:solidFill>
                    <a:latin typeface="Arial Black"/>
                  </a:rPr>
                  <a:t>1</a:t>
                </a: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257" name="Line 49"/>
            <p:cNvSpPr/>
            <p:nvPr/>
          </p:nvSpPr>
          <p:spPr>
            <a:xfrm>
              <a:off x="5651280" y="436572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定义：有一个角是直角的平行四边形叫矩形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想一想：在刚才的平行四边形变化过程中，你注意到随着∠１的变化，两条对角线的长度怎样变化？当∠１变为直角时，平行四边形成为矩形，它的其它内角是什么样的角？两条对角线又有什么样的关系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1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2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矩形的性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　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矩形的四个角是直角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　２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矩形的两条对角线相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3:40:42Z</dcterms:created>
  <dc:creator>kejianyuan.com</dc:creator>
  <dc:description>kejianyuan.com</dc:description>
  <cp:keywords>kejianyuan.com</cp:keywords>
  <dc:language>en-US</dc:language>
  <cp:lastModifiedBy/>
  <dcterms:modified xsi:type="dcterms:W3CDTF">2014-09-10T16:21:11Z</dcterms:modified>
  <cp:revision>24</cp:revision>
  <dc:subject>人教版八年级数学（下）全套课件</dc:subject>
  <dc:title>人教版八年级数学（下）全套课件</dc:title>
</cp:coreProperties>
</file>