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3.wmf" ContentType="image/x-wmf"/>
  <Override PartName="/ppt/media/image5.png" ContentType="image/png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43DC-4094-40A6-A1D9-1EF44155A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FA66-91CF-47C7-B582-44D948F3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FC00-7007-4E7A-A083-7822994B9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89D7-CA03-4AFB-8D0E-B8E2AF5B9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58B84-A3A9-4401-B8A3-1088696DB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6744F-3E14-45FF-831F-8C3A18BBD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97995-AF8F-45B6-BF5A-EA2C192E3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CB58B-FCA9-41EC-8CC2-08E5B2C7E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324EB-B910-4B3D-8474-16300A857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C98BC-1371-48B3-9937-9E63DAB8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E6F21-4E22-468D-A4AD-63DBF0C4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3AE2-313F-4B02-8261-A8F93C773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20D8E-9AD3-468D-AF3D-1BC0BD7F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44CBA-6432-4EC1-955A-9B98D3C3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4B9DA-38F2-4507-AC2F-4D7025B8E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54400-C408-4224-964A-7656BD900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EA52A-B2E7-43EF-990B-C123A8521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DCC5C-45C3-4A90-867B-49CA16F64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7E18A-2E0A-4C86-95BD-F9C06796B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1C2CE-11DC-4215-9125-F7AAA3F79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D1F40-7184-457D-9DC5-0249C7564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F7864-EBCF-4E6F-98E1-4512A4A8F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AB4A-529B-4DE7-AA5D-C1A503320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67E48-A64B-4306-91B2-05B585171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EBF4B-0219-415A-A9CF-43B974FB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33105-EF4F-409E-A42D-D6E96D82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28DEC-0322-471F-8BC3-F66FD455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6830F-6851-4D34-B8B0-787FD5312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0CB6B-37D2-44DA-9BFC-91585F5E8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BBCA4-F8BC-4043-A757-B63DA1AD2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1E213-1520-4E1F-84AA-C6302CE06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63ECC-CC84-46F3-B2A5-489B8471B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04046-DE64-4868-983D-B36D83775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1800-3FB3-4D9C-9DEA-2E1361CCC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F566A-2F45-4416-BFE4-49CF24DB5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B217A-47A9-462B-936F-C0FC54C19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66837-7BFF-4983-9195-52F94B262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96C0D-DE21-4EC4-8638-7195F32F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C2B24-F99B-4834-8FAB-D059535E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089F9-FDAC-4311-B031-9BE3F7D0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28CC3-0147-4FD8-91C6-E2ED81B03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51193-F035-48B8-9BAA-EB996EF86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FDA53-34D2-4DED-B633-EEF64F782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FCC3-AAA0-4DDD-BEA4-B4EFC4060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7E92-0B41-4F56-9226-A3B05CA8B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6450-FD59-48F2-B1E2-8AF0E150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1D33-6BD6-4350-A177-3787279B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26C8-796E-4169-BFEB-5BE0755A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556F1-5886-4E94-B5B2-3490408BC1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02D93-A5F0-4E98-AB21-C95E8966B0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DFC59-27B1-48A5-9796-94C10DD1B2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908AA-86D3-44B5-84F5-A58080BFA8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-360" y="2565360"/>
            <a:ext cx="8893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华文新魏"/>
                <a:ea typeface="华文新魏"/>
              </a:rPr>
              <a:t>用样本估计总体</a:t>
            </a:r>
            <a:r>
              <a:rPr b="0" lang="zh-CN" sz="9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80"/>
          <p:cNvSpPr/>
          <p:nvPr/>
        </p:nvSpPr>
        <p:spPr>
          <a:xfrm>
            <a:off x="0" y="406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11"/>
          <p:cNvSpPr/>
          <p:nvPr/>
        </p:nvSpPr>
        <p:spPr>
          <a:xfrm>
            <a:off x="1753920" y="189000"/>
            <a:ext cx="5392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从以上三张图比较来看，它们之间存在明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的差异，平均数和标准差与总体的平均数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标准差也相去甚远，显然这样选择的样本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能反映总体的特性，是不可靠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13"/>
          <p:cNvSpPr/>
          <p:nvPr/>
        </p:nvSpPr>
        <p:spPr>
          <a:xfrm>
            <a:off x="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Object 112"/>
          <p:cNvGraphicFramePr/>
          <p:nvPr/>
        </p:nvGraphicFramePr>
        <p:xfrm>
          <a:off x="0" y="2557440"/>
          <a:ext cx="8964720" cy="430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1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57440"/>
                    <a:ext cx="8964720" cy="43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3036240" y="-30240"/>
            <a:ext cx="84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、选择恰当的样本个体数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0" y="27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Object 6"/>
          <p:cNvGraphicFramePr/>
          <p:nvPr/>
        </p:nvGraphicFramePr>
        <p:xfrm>
          <a:off x="250920" y="4005360"/>
          <a:ext cx="5003640" cy="24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005360"/>
                    <a:ext cx="500364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Rectangle 9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Object 8"/>
          <p:cNvGraphicFramePr/>
          <p:nvPr/>
        </p:nvGraphicFramePr>
        <p:xfrm>
          <a:off x="179280" y="907920"/>
          <a:ext cx="5004000" cy="254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907920"/>
                    <a:ext cx="5004000" cy="25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Rectangle 10"/>
          <p:cNvSpPr/>
          <p:nvPr/>
        </p:nvSpPr>
        <p:spPr>
          <a:xfrm>
            <a:off x="5415120" y="1197000"/>
            <a:ext cx="3782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样本平均成绩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75.7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分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标准差为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10.2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分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1"/>
          <p:cNvSpPr/>
          <p:nvPr/>
        </p:nvSpPr>
        <p:spPr>
          <a:xfrm>
            <a:off x="5700600" y="4581360"/>
            <a:ext cx="2868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样本平均成绩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77.1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分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标准差为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10.7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1361520" y="402120"/>
            <a:ext cx="60649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黑体"/>
              </a:rPr>
              <a:t>当样本中个体太少时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黑体"/>
              </a:rPr>
              <a:t>样本的平均数、标准差往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黑体"/>
              </a:rPr>
              <a:t>差距较大，如果选取适当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黑体"/>
              </a:rPr>
              <a:t>样本的个体数，各个样本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黑体"/>
              </a:rPr>
              <a:t>平均数、标准差与总体的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黑体"/>
              </a:rPr>
              <a:t>准差相当接近。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bgb33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460836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6"/>
          <p:cNvSpPr/>
          <p:nvPr/>
        </p:nvSpPr>
        <p:spPr>
          <a:xfrm>
            <a:off x="1501560" y="179280"/>
            <a:ext cx="6148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北京在这</a:t>
            </a:r>
            <a:r>
              <a:rPr b="1" lang="en-GB" sz="4400" spc="-1" strike="noStrike">
                <a:solidFill>
                  <a:srgbClr val="ff3300"/>
                </a:solidFill>
                <a:latin typeface="黑体"/>
                <a:ea typeface="黑体"/>
              </a:rPr>
              <a:t>30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天的空气污染指数及质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级别，如下表所示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3031920" y="-27000"/>
            <a:ext cx="77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、体会用样本估计总体的合理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0" y="25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Object 6"/>
          <p:cNvGraphicFramePr/>
          <p:nvPr/>
        </p:nvGraphicFramePr>
        <p:xfrm>
          <a:off x="0" y="620640"/>
          <a:ext cx="6443640" cy="32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20640"/>
                    <a:ext cx="6443640" cy="32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Rectangle 9"/>
          <p:cNvSpPr/>
          <p:nvPr/>
        </p:nvSpPr>
        <p:spPr>
          <a:xfrm>
            <a:off x="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Object 8"/>
          <p:cNvGraphicFramePr/>
          <p:nvPr/>
        </p:nvGraphicFramePr>
        <p:xfrm>
          <a:off x="0" y="3933720"/>
          <a:ext cx="6443640" cy="2849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9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933720"/>
                    <a:ext cx="6443640" cy="28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Text Box 10"/>
          <p:cNvSpPr/>
          <p:nvPr/>
        </p:nvSpPr>
        <p:spPr>
          <a:xfrm>
            <a:off x="6927480" y="836640"/>
            <a:ext cx="1826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经比较可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发现，虽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从样本获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的数据与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体的不完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一致，但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样的误差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是可以接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的，是一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较好的估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1378080" y="836640"/>
            <a:ext cx="6093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随着样本容量（样本中包含的个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的个数）的增加，由样本得出的平均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往往会更接近总体的平均数，数学家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经证明随机抽样方法是科学而可靠的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对于估计总体特性这类问题，数学上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一般做法是给出具有一定可靠程度的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个估计值的范围 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663480" y="843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2092680" y="-30240"/>
            <a:ext cx="84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、加权平均数的求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10" descr="bd58"/>
          <p:cNvPicPr/>
          <p:nvPr/>
        </p:nvPicPr>
        <p:blipFill>
          <a:blip r:embed="rId1"/>
          <a:stretch/>
        </p:blipFill>
        <p:spPr>
          <a:xfrm>
            <a:off x="250920" y="2708280"/>
            <a:ext cx="8207280" cy="13032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bd58a"/>
          <p:cNvPicPr/>
          <p:nvPr/>
        </p:nvPicPr>
        <p:blipFill>
          <a:blip r:embed="rId2"/>
          <a:stretch/>
        </p:blipFill>
        <p:spPr>
          <a:xfrm>
            <a:off x="179280" y="4869000"/>
            <a:ext cx="8964720" cy="75852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11"/>
          <p:cNvSpPr/>
          <p:nvPr/>
        </p:nvSpPr>
        <p:spPr>
          <a:xfrm>
            <a:off x="1214640" y="764280"/>
            <a:ext cx="6458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问题</a:t>
            </a:r>
            <a:r>
              <a:rPr b="1" lang="en-US" sz="4000" spc="-1" strike="noStrike">
                <a:solidFill>
                  <a:srgbClr val="ff33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：在计算</a:t>
            </a:r>
            <a:r>
              <a:rPr b="1" lang="en-US" sz="4000" spc="-1" strike="noStrike">
                <a:solidFill>
                  <a:srgbClr val="ff3300"/>
                </a:solidFill>
                <a:latin typeface="黑体"/>
                <a:ea typeface="黑体"/>
              </a:rPr>
              <a:t>20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个男同学平均身高时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小华先将所有数据按由小到大的顺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排列，如下表所示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2"/>
          <p:cNvSpPr/>
          <p:nvPr/>
        </p:nvSpPr>
        <p:spPr>
          <a:xfrm>
            <a:off x="0" y="4075920"/>
            <a:ext cx="968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然后</a:t>
            </a:r>
            <a:r>
              <a:rPr b="1" lang="en-US" sz="4000" spc="-1" strike="noStrike">
                <a:solidFill>
                  <a:srgbClr val="ff33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他这样计算这</a:t>
            </a:r>
            <a:r>
              <a:rPr b="1" lang="en-US" sz="4000" spc="-1" strike="noStrike">
                <a:solidFill>
                  <a:srgbClr val="ff3300"/>
                </a:solidFill>
                <a:latin typeface="黑体"/>
                <a:ea typeface="黑体"/>
              </a:rPr>
              <a:t>20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个学生的平均身高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3"/>
          <p:cNvSpPr/>
          <p:nvPr/>
        </p:nvSpPr>
        <p:spPr>
          <a:xfrm>
            <a:off x="1742400" y="5804640"/>
            <a:ext cx="536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小华这样计算平均数可以吗？为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5" descr="bd59"/>
          <p:cNvPicPr/>
          <p:nvPr/>
        </p:nvPicPr>
        <p:blipFill>
          <a:blip r:embed="rId1"/>
          <a:stretch/>
        </p:blipFill>
        <p:spPr>
          <a:xfrm>
            <a:off x="324000" y="1628640"/>
            <a:ext cx="8424720" cy="134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3" name="Object 4"/>
          <p:cNvGraphicFramePr/>
          <p:nvPr/>
        </p:nvGraphicFramePr>
        <p:xfrm>
          <a:off x="1835280" y="4149720"/>
          <a:ext cx="4752720" cy="1058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5280" y="4149720"/>
                    <a:ext cx="4752720" cy="10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Rectangle 6"/>
          <p:cNvSpPr/>
          <p:nvPr/>
        </p:nvSpPr>
        <p:spPr>
          <a:xfrm>
            <a:off x="1698120" y="188280"/>
            <a:ext cx="5788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问题</a:t>
            </a:r>
            <a:r>
              <a:rPr b="1" lang="en-US" sz="40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：假设你们年级共有四个班级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各班的男同学人数和平均身高如表所示</a:t>
            </a:r>
            <a:r>
              <a:rPr b="1" lang="en-US" sz="4000" spc="-1" strike="noStrike">
                <a:solidFill>
                  <a:srgbClr val="ff3300"/>
                </a:solidFill>
                <a:latin typeface="黑体"/>
                <a:ea typeface="黑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179280" y="3141000"/>
            <a:ext cx="1015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小强这样计算全年级男同学的平均身高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2039400" y="5228640"/>
            <a:ext cx="536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小强这样计算平均数可以吗？为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179280" y="907920"/>
            <a:ext cx="8640720" cy="20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为了检查一批手榴弹的杀伤半径，抽取了其中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20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颗做试验，得到这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20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颗手榴弹的杀伤半径，并列表如下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226800" y="0"/>
            <a:ext cx="19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练习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  <a:ea typeface="黑体"/>
              </a:rPr>
              <a:t>1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5" descr=""/>
          <p:cNvPicPr/>
          <p:nvPr/>
        </p:nvPicPr>
        <p:blipFill>
          <a:blip r:embed="rId1"/>
          <a:stretch/>
        </p:blipFill>
        <p:spPr>
          <a:xfrm>
            <a:off x="179280" y="3357720"/>
            <a:ext cx="8713800" cy="14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49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黑体"/>
                <a:ea typeface="黑体"/>
              </a:rPr>
              <a:t>(1)</a:t>
            </a: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在这个问题中，总体、个体、样本和样本容量各是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(2)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求出这</a:t>
            </a: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20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颗手榴弹的杀伤半径的众数、中位数和平均数，并估计这批手榴弹的平均杀伤半径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华文新魏"/>
              </a:rPr>
              <a:t>复习上节课的内容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     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在上节课中，我们知道在选取样本时应注意的问题，其一是所选取的样本必须具有代表性，其二是所选取的样本的容量应该足够大，这样的样本才能反映总体的特性，所选取的样本才比较可靠</a:t>
            </a:r>
            <a:r>
              <a:rPr b="1" lang="en-GB" sz="4400" spc="-1" strike="noStrike">
                <a:solidFill>
                  <a:srgbClr val="0000ff"/>
                </a:solidFill>
                <a:latin typeface="黑体"/>
                <a:ea typeface="黑体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解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(1)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总体是要检查的这批手榴弹的杀伤半径的全体；个体是每一颗手榴弹的杀伤半径；样本是所抽取的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20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颗手榴弹的杀伤半径；样本容量是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20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(2)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在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20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个数据中，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10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出现了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6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次，次数最多，所以众数是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10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（米）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20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个数据从小到大排列，第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10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个和第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11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个数据是最中间的两个数，分别为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9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（米）和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10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（米），所以中位数是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9.5 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（米）．样本平均数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9.4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（米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32400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为估计一次性木质筷子的用量，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1999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年从某县共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600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家高、中、低档饭店抽取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10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家作样本，这些饭店每天消耗的一次性筷子盒数分别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0.6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3.7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2.2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1.5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2.8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1.7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1.2 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2.1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3.2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(1)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通过对样本的计算，估计该县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1999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年消耗了多少盒一次性筷子（每年按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350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个营业日计算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(2)2001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年又对该县一次性木质筷子的用量以同样的方式作了抽样调查，调查的结果是</a:t>
            </a:r>
            <a:r>
              <a:rPr b="1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10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个样本饭店，每个饭店平均每天使用一次性筷子</a:t>
            </a:r>
            <a:r>
              <a:rPr b="1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2.42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盒．求该县</a:t>
            </a:r>
            <a:r>
              <a:rPr b="1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2000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年、</a:t>
            </a:r>
            <a:r>
              <a:rPr b="1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2001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年这两年一次性木质筷子用量平均每年增长的百分率（</a:t>
            </a:r>
            <a:r>
              <a:rPr b="1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2001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年该县饭店数、全年营业天数均与</a:t>
            </a:r>
            <a:r>
              <a:rPr b="1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1999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年相同）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(3)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在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(2)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的条件下，若生产一套学生桌椅需木材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0.07m</a:t>
            </a:r>
            <a:r>
              <a:rPr b="1" lang="en-US" sz="2400" spc="-1" strike="noStrike" baseline="30000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，求该县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2001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年使用一次性筷子的木材可以生产多少套学生桌椅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计算中需用的有关数据为：每盒筷子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100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双，每双筷子的质量为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5g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，所用木材的密度为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0.5×103kg/m</a:t>
            </a:r>
            <a:r>
              <a:rPr b="1" lang="en-US" sz="2400" spc="-1" strike="noStrike" baseline="30000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(4)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假如让你统计你所在省一年使用一次性筷子所消耗的木材量，如何利用统计知识去做，简要地用文字表述出来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655920" y="147600"/>
            <a:ext cx="162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练习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黑体"/>
              </a:rPr>
              <a:t>2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解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所以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该县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1999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年消耗一次性筷子为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2×600×350=420000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（盒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(2)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设平均每年增长的百分率为</a:t>
            </a:r>
            <a:r>
              <a:rPr b="1" i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，则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1+</a:t>
            </a:r>
            <a:r>
              <a:rPr b="1" i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）</a:t>
            </a:r>
            <a:r>
              <a:rPr b="1" lang="en-US" sz="2800" spc="-1" strike="noStrike" baseline="30000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=2.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解得</a:t>
            </a:r>
            <a:r>
              <a:rPr b="1" i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X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=0.1=10%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，</a:t>
            </a:r>
            <a:r>
              <a:rPr b="1" i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X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=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－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2.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不合题意，舍去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所以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平均每年增长的百分率为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10%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(3)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可以生产学生桌椅套数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（套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(4)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先抽取若干个县（或市、州）作样本，再分别从这些县（或市、州）中抽取若干家饭店作样本，统计一次性筷子的用量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" name="Object 4"/>
          <p:cNvGraphicFramePr/>
          <p:nvPr/>
        </p:nvGraphicFramePr>
        <p:xfrm>
          <a:off x="826920" y="765000"/>
          <a:ext cx="7561440" cy="71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765000"/>
                    <a:ext cx="7561440" cy="7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Rectangle 6"/>
          <p:cNvSpPr/>
          <p:nvPr/>
        </p:nvSpPr>
        <p:spPr>
          <a:xfrm>
            <a:off x="0" y="3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Object 7"/>
          <p:cNvGraphicFramePr/>
          <p:nvPr/>
        </p:nvGraphicFramePr>
        <p:xfrm>
          <a:off x="4859280" y="3429000"/>
          <a:ext cx="4284720" cy="71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3429000"/>
                    <a:ext cx="428472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Rectangle 9"/>
          <p:cNvSpPr/>
          <p:nvPr/>
        </p:nvSpPr>
        <p:spPr>
          <a:xfrm>
            <a:off x="0" y="3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612360" y="1125360"/>
            <a:ext cx="7916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在一个班的</a:t>
            </a:r>
            <a:r>
              <a:rPr b="1" lang="en-US" sz="5400" spc="-1" strike="noStrike">
                <a:solidFill>
                  <a:srgbClr val="0000ff"/>
                </a:solidFill>
                <a:latin typeface="黑体"/>
                <a:ea typeface="黑体"/>
              </a:rPr>
              <a:t>40</a:t>
            </a:r>
            <a:r>
              <a:rPr b="1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学生中，</a:t>
            </a:r>
            <a:r>
              <a:rPr b="1" lang="en-US" sz="5400" spc="-1" strike="noStrike">
                <a:solidFill>
                  <a:srgbClr val="0000ff"/>
                </a:solidFill>
                <a:latin typeface="黑体"/>
                <a:ea typeface="黑体"/>
              </a:rPr>
              <a:t>14</a:t>
            </a:r>
            <a:r>
              <a:rPr b="1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的有</a:t>
            </a:r>
            <a:r>
              <a:rPr b="1" lang="en-US" sz="5400" spc="-1" strike="noStrike">
                <a:solidFill>
                  <a:srgbClr val="0000ff"/>
                </a:solidFill>
                <a:latin typeface="黑体"/>
                <a:ea typeface="黑体"/>
              </a:rPr>
              <a:t>5</a:t>
            </a:r>
            <a:r>
              <a:rPr b="1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人，</a:t>
            </a:r>
            <a:r>
              <a:rPr b="1" lang="en-US" sz="5400" spc="-1" strike="noStrike">
                <a:solidFill>
                  <a:srgbClr val="0000ff"/>
                </a:solidFill>
                <a:latin typeface="黑体"/>
                <a:ea typeface="黑体"/>
              </a:rPr>
              <a:t>15</a:t>
            </a:r>
            <a:r>
              <a:rPr b="1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岁的有</a:t>
            </a:r>
            <a:r>
              <a:rPr b="1" lang="en-US" sz="5400" spc="-1" strike="noStrike">
                <a:solidFill>
                  <a:srgbClr val="0000ff"/>
                </a:solidFill>
                <a:latin typeface="黑体"/>
                <a:ea typeface="黑体"/>
              </a:rPr>
              <a:t>30</a:t>
            </a:r>
            <a:r>
              <a:rPr b="1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人，</a:t>
            </a:r>
            <a:r>
              <a:rPr b="1" lang="en-US" sz="5400" spc="-1" strike="noStrike">
                <a:solidFill>
                  <a:srgbClr val="0000ff"/>
                </a:solidFill>
                <a:latin typeface="黑体"/>
                <a:ea typeface="黑体"/>
              </a:rPr>
              <a:t>1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岁的有</a:t>
            </a:r>
            <a:r>
              <a:rPr b="1" lang="en-US" sz="5400" spc="-1" strike="noStrike">
                <a:solidFill>
                  <a:srgbClr val="0000ff"/>
                </a:solidFill>
                <a:latin typeface="黑体"/>
                <a:ea typeface="黑体"/>
              </a:rPr>
              <a:t>4</a:t>
            </a:r>
            <a:r>
              <a:rPr b="1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人，</a:t>
            </a:r>
            <a:r>
              <a:rPr b="1" lang="en-US" sz="5400" spc="-1" strike="noStrike">
                <a:solidFill>
                  <a:srgbClr val="0000ff"/>
                </a:solidFill>
                <a:latin typeface="黑体"/>
                <a:ea typeface="黑体"/>
              </a:rPr>
              <a:t>17</a:t>
            </a:r>
            <a:r>
              <a:rPr b="1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岁的有</a:t>
            </a:r>
            <a:r>
              <a:rPr b="1" lang="en-US" sz="54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人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求这个班级学生的平均年龄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655920" y="147600"/>
            <a:ext cx="162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练习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黑体"/>
              </a:rPr>
              <a:t>3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250560" y="105264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黑体"/>
              </a:rPr>
              <a:t>      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专家提醒，目前我国儿童青少年的健康存在着五个必须重视的问题：营养不良和肥胖、近视、龋齿、贫血以及心理卫生．你认为这是用普查还是抽样调查得到的结果？设计一份调查卷和一个抽样调查方案，了解我们学校学生是否普遍存在这五个健康问题，是否严重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655920" y="147600"/>
            <a:ext cx="162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练习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黑体"/>
              </a:rPr>
              <a:t>4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179280" y="162000"/>
            <a:ext cx="266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黑体"/>
                <a:ea typeface="黑体"/>
              </a:rPr>
              <a:t>小结</a:t>
            </a:r>
            <a:r>
              <a:rPr b="1" lang="en-GB" sz="6000" spc="-1" strike="noStrike">
                <a:solidFill>
                  <a:srgbClr val="ff3300"/>
                </a:solidFill>
                <a:latin typeface="黑体"/>
                <a:ea typeface="黑体"/>
              </a:rPr>
              <a:t>: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1796040" y="1341360"/>
            <a:ext cx="55450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一般来说，用样本估计总体时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样本容量越大，样本对总体的估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也就越精确，相应地，搜集、整理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计算数据的工作量也就越大，因此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在实际工作中，样本容量既要考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问题本身的需要，又要考虑实现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可能性和所付出的代价的大小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1329480" y="247680"/>
            <a:ext cx="6307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黑体"/>
                <a:ea typeface="黑体"/>
              </a:rPr>
              <a:t>    </a:t>
            </a:r>
            <a:r>
              <a:rPr b="1" lang="zh-CN" sz="6000" spc="-1" strike="noStrike">
                <a:solidFill>
                  <a:srgbClr val="ff3300"/>
                </a:solidFill>
                <a:latin typeface="黑体"/>
                <a:ea typeface="黑体"/>
              </a:rPr>
              <a:t>随机抽样是经过数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黑体"/>
                <a:ea typeface="黑体"/>
              </a:rPr>
              <a:t>证明了的可靠的方法，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黑体"/>
                <a:ea typeface="黑体"/>
              </a:rPr>
              <a:t>对于估计总体特征是很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黑体"/>
                <a:ea typeface="黑体"/>
              </a:rPr>
              <a:t>帮助的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323640" y="47628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  <a:ea typeface="黑体"/>
              </a:rPr>
              <a:t>         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黑体"/>
              </a:rPr>
              <a:t>随机抽样调查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是了解总体情况的一种重要的数学方法，抽样是它的一个关键，</a:t>
            </a: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上节课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介绍了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黑体"/>
              </a:rPr>
              <a:t>简单的随机抽样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方法，即用抽签的方法来选取样本，这使每个个体都有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黑体"/>
              </a:rPr>
              <a:t>相等的机会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被选入样本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212400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1161360" y="260280"/>
            <a:ext cx="70372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判断下面这些抽样调查选取样本的方法是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合适，若不合适，请说明理由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(1)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为调查江苏省的环境污染情况，调查了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江以南的南京市、常州市、苏州市、镇江市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无锡市的环境污染情况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(2)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从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100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名学生中，随机抽取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名学生，测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他们的身高来估算这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100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名学生的平均身高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(3)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从一批灯泡中随机抽取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50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个进行试验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估算这批灯泡的使用寿命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(4)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为了解观众对中央电视台第一套节目的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视率，对所有上英特网的家庭进行在线调查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解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(1)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不合适．因为调查对象在总体中必须有代表性，现在所调查的这些地方的环境污染情况仅仅代表了长江以南地区，并不能代表整个江苏省的环境污染情况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(2)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不合适．因为抽样调查时所抽取的样本要足够大，现在只抽取了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名学生的身高，不能用来估算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100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名学生的平均身高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(3)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合适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(4)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不合适．虽然调查的家庭很多，但仅仅增加调查的数量不一定能够提高调查质量，本题中所调查的仅代表上英特网的家庭，不能代表不上英特网的家庭，因此这样的抽样调查不具有普遍代表性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250920" y="1318320"/>
            <a:ext cx="864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让我们仍以上一节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300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名学生的考试成绩为例，考察一下抽样调查的结果是否可靠。上一节中，老师选取的一个样本是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3068640"/>
          <a:ext cx="9144000" cy="3024360"/>
        </p:xfrm>
        <a:graphic>
          <a:graphicData uri="http://schemas.openxmlformats.org/drawingml/2006/table">
            <a:tbl>
              <a:tblPr/>
              <a:tblGrid>
                <a:gridCol w="2050920"/>
                <a:gridCol w="1257480"/>
                <a:gridCol w="1460520"/>
                <a:gridCol w="1457280"/>
                <a:gridCol w="1458720"/>
                <a:gridCol w="1459080"/>
              </a:tblGrid>
              <a:tr h="190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随机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zh-CN" sz="3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学号）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1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25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16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9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27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2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成绩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9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-684360" y="258480"/>
            <a:ext cx="158655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黑体"/>
              </a:rPr>
              <a:t>它的频数分布直方图、平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黑体"/>
              </a:rPr>
              <a:t>成绩和标准差分别如下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Object 4"/>
          <p:cNvGraphicFramePr/>
          <p:nvPr/>
        </p:nvGraphicFramePr>
        <p:xfrm>
          <a:off x="1187280" y="1989000"/>
          <a:ext cx="6696360" cy="468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989000"/>
                    <a:ext cx="6696360" cy="468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Rectangle 6"/>
          <p:cNvSpPr/>
          <p:nvPr/>
        </p:nvSpPr>
        <p:spPr>
          <a:xfrm>
            <a:off x="233280" y="460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1894680" y="259560"/>
            <a:ext cx="505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另外，同学们也分别选取了一些样本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它们同样也包含五个个体，如下表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79280" y="1628640"/>
          <a:ext cx="3888000" cy="1368720"/>
        </p:xfrm>
        <a:graphic>
          <a:graphicData uri="http://schemas.openxmlformats.org/drawingml/2006/table">
            <a:tbl>
              <a:tblPr/>
              <a:tblGrid>
                <a:gridCol w="1401840"/>
                <a:gridCol w="614520"/>
                <a:gridCol w="503280"/>
                <a:gridCol w="431640"/>
                <a:gridCol w="431640"/>
                <a:gridCol w="505080"/>
              </a:tblGrid>
              <a:tr h="973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随机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（学号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1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2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成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Rectangle 81"/>
          <p:cNvSpPr/>
          <p:nvPr/>
        </p:nvSpPr>
        <p:spPr>
          <a:xfrm>
            <a:off x="0" y="349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56"/>
          <p:cNvSpPr/>
          <p:nvPr/>
        </p:nvSpPr>
        <p:spPr>
          <a:xfrm>
            <a:off x="1940760" y="3606840"/>
            <a:ext cx="5209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同样，也可以作出这两个样本的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数分布直方图、计算它们的平均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绩和标准差，如下图所示：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4572000" y="1628640"/>
          <a:ext cx="4259160" cy="1368720"/>
        </p:xfrm>
        <a:graphic>
          <a:graphicData uri="http://schemas.openxmlformats.org/drawingml/2006/table">
            <a:tbl>
              <a:tblPr/>
              <a:tblGrid>
                <a:gridCol w="1438200"/>
                <a:gridCol w="520920"/>
                <a:gridCol w="628560"/>
                <a:gridCol w="522360"/>
                <a:gridCol w="628560"/>
                <a:gridCol w="520560"/>
              </a:tblGrid>
              <a:tr h="75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随机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（学号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1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2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成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53"/>
          <p:cNvSpPr/>
          <p:nvPr/>
        </p:nvSpPr>
        <p:spPr>
          <a:xfrm>
            <a:off x="0" y="27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Object 52"/>
          <p:cNvGraphicFramePr/>
          <p:nvPr/>
        </p:nvGraphicFramePr>
        <p:xfrm>
          <a:off x="0" y="0"/>
          <a:ext cx="5364000" cy="308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5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364000" cy="30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Rectangle 55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7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Object 56"/>
          <p:cNvGraphicFramePr/>
          <p:nvPr/>
        </p:nvGraphicFramePr>
        <p:xfrm>
          <a:off x="0" y="3716280"/>
          <a:ext cx="5435640" cy="314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Object 5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716280"/>
                    <a:ext cx="5435640" cy="31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Text Box 58"/>
          <p:cNvSpPr/>
          <p:nvPr/>
        </p:nvSpPr>
        <p:spPr>
          <a:xfrm>
            <a:off x="5580000" y="4437000"/>
            <a:ext cx="324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样本平均成绩为</a:t>
            </a:r>
            <a:r>
              <a:rPr b="1" lang="en-GB" sz="3600" spc="-1" strike="noStrike">
                <a:solidFill>
                  <a:srgbClr val="0000ff"/>
                </a:solidFill>
                <a:latin typeface="黑体"/>
                <a:ea typeface="黑体"/>
              </a:rPr>
              <a:t>80.8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分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标准差为</a:t>
            </a:r>
            <a:r>
              <a:rPr b="1" lang="en-GB" sz="3600" spc="-1" strike="noStrike">
                <a:solidFill>
                  <a:srgbClr val="0000ff"/>
                </a:solidFill>
                <a:latin typeface="黑体"/>
                <a:ea typeface="黑体"/>
              </a:rPr>
              <a:t>6.5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9"/>
          <p:cNvSpPr/>
          <p:nvPr/>
        </p:nvSpPr>
        <p:spPr>
          <a:xfrm>
            <a:off x="5652000" y="549360"/>
            <a:ext cx="3051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样本平均成绩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黑体"/>
                <a:ea typeface="黑体"/>
              </a:rPr>
              <a:t>74.2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分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标准差为</a:t>
            </a:r>
            <a:r>
              <a:rPr b="1" lang="en-GB" sz="3600" spc="-1" strike="noStrike">
                <a:solidFill>
                  <a:srgbClr val="ff3300"/>
                </a:solidFill>
                <a:latin typeface="黑体"/>
                <a:ea typeface="黑体"/>
              </a:rPr>
              <a:t>3.8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分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2T03:48:51Z</dcterms:created>
  <dc:creator>kejianyuan.com</dc:creator>
  <dc:description>kejianyuan.com</dc:description>
  <cp:keywords>kejianyuan.com</cp:keywords>
  <dc:language>en-US</dc:language>
  <cp:lastModifiedBy/>
  <dcterms:modified xsi:type="dcterms:W3CDTF">2014-09-10T16:21:18Z</dcterms:modified>
  <cp:revision>12</cp:revision>
  <dc:subject>人教版八年级数学（下）全套课件</dc:subject>
  <dc:title>人教版八年级数学（下）全套课件</dc:title>
</cp:coreProperties>
</file>