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gif" ContentType="image/gif"/>
  <Override PartName="/ppt/media/image12.gif" ContentType="image/gif"/>
  <Override PartName="/ppt/media/image13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D7D8-3D69-410D-B045-CBDAFC82A5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E23C-2A4B-4E7F-B9BB-548692DAC023}" type="slidenum"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DD3C-F2B7-437F-AB4B-16E7A8C2701A}" type="slidenum"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A10-3476-4BD4-B144-92DD8A35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961-91DD-421C-9A90-CED83AD4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AC5A0-7409-4D40-9B45-03F445C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A9E80-E6FC-4B44-9970-0EC69513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32FB4-88D2-49D6-8DE2-459A900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62B18-2F44-48BD-A025-4A844EE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72F05-23DE-476E-B03F-87941842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C3B22-2882-48AE-9F9A-9F4306F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9CADA-A4AC-420D-9215-57A2409E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8C2EF-2112-405F-9ED6-1950FEA2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631F8-6C02-44FA-AA9E-B1076B09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2AB-7861-4620-99A3-22406C4D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50A-DC58-4447-B103-442656A9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DC0D-EA4A-4EEC-ABD1-19622FD2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F045-8F24-41D7-93F4-C55E2567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F8D0-CDF0-46F4-A5A1-5747B763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5B4E-3863-4507-91D3-B2084526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3BCF-CC80-4A7B-9681-51E5C9BD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7B19-1FF1-44EA-BAC1-68F6EE42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F9B0-8647-4B0F-BADF-1872711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1E9-358D-495A-A28E-28353A72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59BA-23E8-4BF6-A37E-9EF5BEBC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6056-05BA-4628-B5A4-1D947D5F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F1B7-04A1-4EB3-B425-D378BDA1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A3AF-695C-47C1-96C8-B470CA62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4A55-588A-4598-A009-41502A11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1FD3-5CE7-4F85-A205-B6EDD82F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BAC1-A2D8-4E79-B691-A9CBBC2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D5D2A-7BD5-4249-B449-64F51BC4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BA0B-BBE1-4F99-B5C2-FD01C63E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2C9D-6984-4C6C-B7F0-80667B76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B80-EE2D-4594-88DA-B73EAD01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D20F-A476-4675-B305-DE4392E5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AD76-ACD8-4A76-8BF0-FAB5902B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0807-857D-42E9-93B5-CF3C4408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D887-AC1D-4056-A892-825F76C8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4D30-05D1-44EB-8640-0D2F14C2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140E-A7F6-4738-84E7-86955764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FB96-1027-4233-A923-9E7574EB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27BA-8D33-4584-AB87-F3E7C85A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5095-FAFE-479E-96B1-C6CBDE30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D0F5D-BE1D-435A-BB97-5C2F15CE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3E1-1BEC-4955-A2E9-D30A5F08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0961-FAD4-4BAB-A079-FE9DE38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81CC-67CE-4BAB-B8E1-BC2C402D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6F5E9-807A-4BD2-B979-8CFF4004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A470-2C67-44E1-A9A2-8872712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502B2-C4A4-4DC3-BE64-8C167680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2415-AA69-4776-AD3F-6C63570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5F87-15B2-48E8-B3D2-6792464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2647-FAFC-4A17-80EE-A4BFE1B9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13E31-F4CB-4405-A0D2-4D07A418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C0F87-D08D-46D4-81C2-34F3183B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946-8ADB-48A5-9E76-5C561517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6DD5-9107-4DA7-9BE6-220EEC13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9A4F-B20A-448D-9BDA-EE54B757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6A828-9357-417E-89C8-F942DF7D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9E07-0F02-4159-AB4C-B79F4BCB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28C1-06C7-4250-BCA5-08B2676A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0F80-1976-4CA0-8F07-30EC9420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72175-EA86-477F-B235-E185EF20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D1241-587D-496A-B529-7929716B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CFB3-E52C-4428-AEEC-9AC651B5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F57AA-4E5B-4F4F-8833-073E3281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E7C-AE82-4FC9-8CE2-2A2BD0CC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9FDEE-6A34-4780-994D-F484A3A2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15DBD-DE4D-4893-9196-1B79B982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62CF-6B5D-42AF-901C-417D786C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0913E-B817-406E-A0A0-4FB99341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CFCE9-BE24-47CE-9077-74166447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8A075-C32A-4A9D-A3BB-15C1E08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0DF0-6F27-4C4C-992C-2137C51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5F6F8-E6B4-4BAB-BD95-82BA615F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C9095-8A99-40E5-93A2-90B498C7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0168-2FB1-4CCB-AA66-0C40C0B5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57F-8CE0-43C8-9576-AE83C58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8A178-034E-4D46-9909-B16BF935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815DD-A9C0-498A-A74B-6058CC06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A81B1-60E9-42AF-8B76-79F55EE2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F19B1-9C9B-49F9-8D38-2EE42373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55B9F-BC7E-4C81-B581-2BED104C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A63A4-A814-4729-95C9-3DFE4929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7D264-5308-4AE0-ABA7-D9F19938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7BAB9-BA2C-47D8-B741-4B20AC49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EEE28-6E6A-4A4C-896E-B0DB80F6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DA479-D15C-482F-8F20-7FD2B8BE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4E4-7FDB-406C-971A-DFCA770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955B-E3D5-4C56-9434-B7127CF8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5D96D-EF49-4639-8D99-3F856B2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1D349-92F1-47B6-8BA5-A5AB35DF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28CE6-813D-4784-A7DA-939B7AD5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E7E4E-03D9-44BA-8307-9BAA72A1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E262F-228F-47FD-872C-84C84E59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DB062-3EB9-4B36-9AC5-8D949746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A245D-8E53-4E1A-A7DE-69A2B548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30FAD-2EF4-4972-A910-2088E96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16F5E-FB16-4BC4-BD77-DFF8C0F5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709-2D5C-45A6-BFBD-5C12C8D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AF24-A545-4B47-AE03-C54CAB4F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09800-E5C8-43D3-963B-2B3AF766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097A4-C908-44D7-84A1-F486D7D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9DACA-A6CB-49AF-BB97-A86AEDF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9A8F-88EB-49E2-A307-F0C842CD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47104-4140-4C7D-BED8-09A2F968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DF0F7-805A-4727-834D-D4BA20D5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B91E1-C903-48A2-B811-9F9F4D16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AA302-6E9C-4AE1-810B-C5FE4ED0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6BD7C-4A2F-40AB-A25D-B68A6D2B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F413-4FB6-482D-A390-CB4E0685E0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48B8-5B4C-49F3-BC6E-15E4F4C1A9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66CD-72FC-4A3C-A25D-E9FB3A4B77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F01-0764-43D7-90C2-EE39F60E3E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0B90-680F-47D9-A449-92EF22BF64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F753-993E-4E97-91ED-3D578BE2C9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670D-202B-4533-A109-99896C2F41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62F9-75A2-4284-B956-6EC1FDD0EE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6E53-1FA0-435E-A001-539A63EEE7E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WordArt 6"/>
          <p:cNvSpPr txBox="1"/>
          <p:nvPr/>
        </p:nvSpPr>
        <p:spPr>
          <a:xfrm>
            <a:off x="2124000" y="260280"/>
            <a:ext cx="51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各位家长光临指导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411280" y="213372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20.1.2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数据的代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3739680" y="29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位数和众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90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家鞋店在一段时间内销售了某种运动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双，各种尺码的鞋的销售量如下</a:t>
            </a:r>
            <a:r>
              <a:rPr b="1" lang="zh-CN" sz="4000" spc="-1" strike="noStrike">
                <a:solidFill>
                  <a:srgbClr val="c0c0c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7" name="Group 6"/>
          <p:cNvGrpSpPr/>
          <p:nvPr/>
        </p:nvGrpSpPr>
        <p:grpSpPr>
          <a:xfrm>
            <a:off x="250920" y="2421000"/>
            <a:ext cx="8568720" cy="2655360"/>
            <a:chOff x="250920" y="2421000"/>
            <a:chExt cx="8568720" cy="2655360"/>
          </a:xfrm>
        </p:grpSpPr>
        <p:grpSp>
          <p:nvGrpSpPr>
            <p:cNvPr id="478" name="Group 7"/>
            <p:cNvGrpSpPr/>
            <p:nvPr/>
          </p:nvGrpSpPr>
          <p:grpSpPr>
            <a:xfrm>
              <a:off x="258840" y="2428920"/>
              <a:ext cx="8551440" cy="2638440"/>
              <a:chOff x="258840" y="2428920"/>
              <a:chExt cx="8551440" cy="2638440"/>
            </a:xfrm>
          </p:grpSpPr>
          <p:grpSp>
            <p:nvGrpSpPr>
              <p:cNvPr id="479" name="Group 8"/>
              <p:cNvGrpSpPr/>
              <p:nvPr/>
            </p:nvGrpSpPr>
            <p:grpSpPr>
              <a:xfrm>
                <a:off x="258840" y="2428920"/>
                <a:ext cx="2104200" cy="1319040"/>
                <a:chOff x="258840" y="2428920"/>
                <a:chExt cx="2104200" cy="1319040"/>
              </a:xfrm>
            </p:grpSpPr>
            <p:sp>
              <p:nvSpPr>
                <p:cNvPr id="480" name="Rectangle 9"/>
                <p:cNvSpPr/>
                <p:nvPr/>
              </p:nvSpPr>
              <p:spPr>
                <a:xfrm>
                  <a:off x="377640" y="2428920"/>
                  <a:ext cx="186660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7a77"/>
                      </a:solidFill>
                      <a:latin typeface="Times New Roman"/>
                    </a:rPr>
                    <a:t>鞋的尺码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7a77"/>
                      </a:solidFill>
                      <a:latin typeface="Times New Roman"/>
                    </a:rPr>
                    <a:t>（单位：厘米）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10"/>
                <p:cNvSpPr/>
                <p:nvPr/>
              </p:nvSpPr>
              <p:spPr>
                <a:xfrm>
                  <a:off x="258840" y="2428920"/>
                  <a:ext cx="210420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1"/>
              <p:cNvGrpSpPr/>
              <p:nvPr/>
            </p:nvGrpSpPr>
            <p:grpSpPr>
              <a:xfrm>
                <a:off x="2363400" y="2428920"/>
                <a:ext cx="778680" cy="1319040"/>
                <a:chOff x="2363400" y="2428920"/>
                <a:chExt cx="778680" cy="1319040"/>
              </a:xfrm>
            </p:grpSpPr>
            <p:sp>
              <p:nvSpPr>
                <p:cNvPr id="483" name="Rectangle 12"/>
                <p:cNvSpPr/>
                <p:nvPr/>
              </p:nvSpPr>
              <p:spPr>
                <a:xfrm>
                  <a:off x="2482200" y="2428920"/>
                  <a:ext cx="54072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2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84" name="Rectangle 13"/>
                <p:cNvSpPr/>
                <p:nvPr/>
              </p:nvSpPr>
              <p:spPr>
                <a:xfrm>
                  <a:off x="2363400" y="2428920"/>
                  <a:ext cx="7786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4"/>
              <p:cNvGrpSpPr/>
              <p:nvPr/>
            </p:nvGrpSpPr>
            <p:grpSpPr>
              <a:xfrm>
                <a:off x="3142440" y="2428920"/>
                <a:ext cx="1109520" cy="1319040"/>
                <a:chOff x="3142440" y="2428920"/>
                <a:chExt cx="1109520" cy="1319040"/>
              </a:xfrm>
            </p:grpSpPr>
            <p:sp>
              <p:nvSpPr>
                <p:cNvPr id="486" name="Rectangle 15"/>
                <p:cNvSpPr/>
                <p:nvPr/>
              </p:nvSpPr>
              <p:spPr>
                <a:xfrm>
                  <a:off x="3260520" y="2428920"/>
                  <a:ext cx="87264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2</a:t>
                  </a:r>
                  <a:r>
                    <a:rPr b="0" lang="zh-CN" sz="2000" spc="-1" strike="noStrike">
                      <a:solidFill>
                        <a:srgbClr val="c0c0c0"/>
                      </a:solidFill>
                      <a:latin typeface="Times New Roman"/>
                    </a:rPr>
                    <a:t>．</a:t>
                  </a: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87" name="Rectangle 16"/>
                <p:cNvSpPr/>
                <p:nvPr/>
              </p:nvSpPr>
              <p:spPr>
                <a:xfrm>
                  <a:off x="3142440" y="2428920"/>
                  <a:ext cx="110952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7"/>
              <p:cNvGrpSpPr/>
              <p:nvPr/>
            </p:nvGrpSpPr>
            <p:grpSpPr>
              <a:xfrm>
                <a:off x="4252680" y="2428920"/>
                <a:ext cx="778680" cy="1319040"/>
                <a:chOff x="4252680" y="2428920"/>
                <a:chExt cx="778680" cy="1319040"/>
              </a:xfrm>
            </p:grpSpPr>
            <p:sp>
              <p:nvSpPr>
                <p:cNvPr id="489" name="Rectangle 18"/>
                <p:cNvSpPr/>
                <p:nvPr/>
              </p:nvSpPr>
              <p:spPr>
                <a:xfrm>
                  <a:off x="4371480" y="2428920"/>
                  <a:ext cx="54072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0" name="Rectangle 19"/>
                <p:cNvSpPr/>
                <p:nvPr/>
              </p:nvSpPr>
              <p:spPr>
                <a:xfrm>
                  <a:off x="4252680" y="2428920"/>
                  <a:ext cx="7786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0"/>
              <p:cNvGrpSpPr/>
              <p:nvPr/>
            </p:nvGrpSpPr>
            <p:grpSpPr>
              <a:xfrm>
                <a:off x="5031720" y="2428920"/>
                <a:ext cx="1110240" cy="1319040"/>
                <a:chOff x="5031720" y="2428920"/>
                <a:chExt cx="1110240" cy="1319040"/>
              </a:xfrm>
            </p:grpSpPr>
            <p:sp>
              <p:nvSpPr>
                <p:cNvPr id="492" name="Rectangle 21"/>
                <p:cNvSpPr/>
                <p:nvPr/>
              </p:nvSpPr>
              <p:spPr>
                <a:xfrm>
                  <a:off x="5150520" y="2428920"/>
                  <a:ext cx="8722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3</a:t>
                  </a:r>
                  <a:r>
                    <a:rPr b="0" lang="zh-CN" sz="2000" spc="-1" strike="noStrike">
                      <a:solidFill>
                        <a:srgbClr val="c0c0c0"/>
                      </a:solidFill>
                      <a:latin typeface="Times New Roman"/>
                    </a:rPr>
                    <a:t>．</a:t>
                  </a: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22"/>
                <p:cNvSpPr/>
                <p:nvPr/>
              </p:nvSpPr>
              <p:spPr>
                <a:xfrm>
                  <a:off x="5031720" y="2428920"/>
                  <a:ext cx="111024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3"/>
              <p:cNvGrpSpPr/>
              <p:nvPr/>
            </p:nvGrpSpPr>
            <p:grpSpPr>
              <a:xfrm>
                <a:off x="6142320" y="2428920"/>
                <a:ext cx="777960" cy="1319040"/>
                <a:chOff x="6142320" y="2428920"/>
                <a:chExt cx="777960" cy="1319040"/>
              </a:xfrm>
            </p:grpSpPr>
            <p:sp>
              <p:nvSpPr>
                <p:cNvPr id="495" name="Rectangle 24"/>
                <p:cNvSpPr/>
                <p:nvPr/>
              </p:nvSpPr>
              <p:spPr>
                <a:xfrm>
                  <a:off x="6260400" y="2428920"/>
                  <a:ext cx="54144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25"/>
                <p:cNvSpPr/>
                <p:nvPr/>
              </p:nvSpPr>
              <p:spPr>
                <a:xfrm>
                  <a:off x="6142320" y="2428920"/>
                  <a:ext cx="77796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26"/>
              <p:cNvGrpSpPr/>
              <p:nvPr/>
            </p:nvGrpSpPr>
            <p:grpSpPr>
              <a:xfrm>
                <a:off x="6921000" y="2428920"/>
                <a:ext cx="1110240" cy="1319040"/>
                <a:chOff x="6921000" y="2428920"/>
                <a:chExt cx="1110240" cy="1319040"/>
              </a:xfrm>
            </p:grpSpPr>
            <p:sp>
              <p:nvSpPr>
                <p:cNvPr id="498" name="Rectangle 27"/>
                <p:cNvSpPr/>
                <p:nvPr/>
              </p:nvSpPr>
              <p:spPr>
                <a:xfrm>
                  <a:off x="7039800" y="2428920"/>
                  <a:ext cx="8722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4</a:t>
                  </a:r>
                  <a:r>
                    <a:rPr b="0" lang="zh-CN" sz="2000" spc="-1" strike="noStrike">
                      <a:solidFill>
                        <a:srgbClr val="c0c0c0"/>
                      </a:solidFill>
                      <a:latin typeface="Times New Roman"/>
                    </a:rPr>
                    <a:t>．</a:t>
                  </a: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28"/>
                <p:cNvSpPr/>
                <p:nvPr/>
              </p:nvSpPr>
              <p:spPr>
                <a:xfrm>
                  <a:off x="6921000" y="2428920"/>
                  <a:ext cx="111024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29"/>
              <p:cNvGrpSpPr/>
              <p:nvPr/>
            </p:nvGrpSpPr>
            <p:grpSpPr>
              <a:xfrm>
                <a:off x="8031600" y="2428920"/>
                <a:ext cx="778680" cy="1319040"/>
                <a:chOff x="8031600" y="2428920"/>
                <a:chExt cx="778680" cy="1319040"/>
              </a:xfrm>
            </p:grpSpPr>
            <p:sp>
              <p:nvSpPr>
                <p:cNvPr id="501" name="Rectangle 30"/>
                <p:cNvSpPr/>
                <p:nvPr/>
              </p:nvSpPr>
              <p:spPr>
                <a:xfrm>
                  <a:off x="8150400" y="2428920"/>
                  <a:ext cx="54072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31"/>
                <p:cNvSpPr/>
                <p:nvPr/>
              </p:nvSpPr>
              <p:spPr>
                <a:xfrm>
                  <a:off x="8031600" y="2428920"/>
                  <a:ext cx="7786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2"/>
              <p:cNvGrpSpPr/>
              <p:nvPr/>
            </p:nvGrpSpPr>
            <p:grpSpPr>
              <a:xfrm>
                <a:off x="258840" y="3748320"/>
                <a:ext cx="2104200" cy="1319040"/>
                <a:chOff x="258840" y="3748320"/>
                <a:chExt cx="2104200" cy="1319040"/>
              </a:xfrm>
            </p:grpSpPr>
            <p:sp>
              <p:nvSpPr>
                <p:cNvPr id="504" name="Rectangle 33"/>
                <p:cNvSpPr/>
                <p:nvPr/>
              </p:nvSpPr>
              <p:spPr>
                <a:xfrm>
                  <a:off x="377640" y="3748320"/>
                  <a:ext cx="186660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7a77"/>
                      </a:solidFill>
                      <a:latin typeface="Times New Roman"/>
                    </a:rPr>
                    <a:t>销售量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7a77"/>
                      </a:solidFill>
                      <a:latin typeface="Times New Roman"/>
                    </a:rPr>
                    <a:t>（单位：双）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34"/>
                <p:cNvSpPr/>
                <p:nvPr/>
              </p:nvSpPr>
              <p:spPr>
                <a:xfrm>
                  <a:off x="258840" y="3748320"/>
                  <a:ext cx="210420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35"/>
              <p:cNvGrpSpPr/>
              <p:nvPr/>
            </p:nvGrpSpPr>
            <p:grpSpPr>
              <a:xfrm>
                <a:off x="2363400" y="3748320"/>
                <a:ext cx="778680" cy="1319040"/>
                <a:chOff x="2363400" y="3748320"/>
                <a:chExt cx="778680" cy="1319040"/>
              </a:xfrm>
            </p:grpSpPr>
            <p:sp>
              <p:nvSpPr>
                <p:cNvPr id="507" name="Rectangle 36"/>
                <p:cNvSpPr/>
                <p:nvPr/>
              </p:nvSpPr>
              <p:spPr>
                <a:xfrm>
                  <a:off x="2482200" y="3748320"/>
                  <a:ext cx="54072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37"/>
                <p:cNvSpPr/>
                <p:nvPr/>
              </p:nvSpPr>
              <p:spPr>
                <a:xfrm>
                  <a:off x="2363400" y="3748320"/>
                  <a:ext cx="7786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38"/>
              <p:cNvGrpSpPr/>
              <p:nvPr/>
            </p:nvGrpSpPr>
            <p:grpSpPr>
              <a:xfrm>
                <a:off x="3142440" y="3748320"/>
                <a:ext cx="1109520" cy="1319040"/>
                <a:chOff x="3142440" y="3748320"/>
                <a:chExt cx="1109520" cy="1319040"/>
              </a:xfrm>
            </p:grpSpPr>
            <p:sp>
              <p:nvSpPr>
                <p:cNvPr id="510" name="Rectangle 39"/>
                <p:cNvSpPr/>
                <p:nvPr/>
              </p:nvSpPr>
              <p:spPr>
                <a:xfrm>
                  <a:off x="3260520" y="3748320"/>
                  <a:ext cx="87264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40"/>
                <p:cNvSpPr/>
                <p:nvPr/>
              </p:nvSpPr>
              <p:spPr>
                <a:xfrm>
                  <a:off x="3142440" y="3748320"/>
                  <a:ext cx="110952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1"/>
              <p:cNvGrpSpPr/>
              <p:nvPr/>
            </p:nvGrpSpPr>
            <p:grpSpPr>
              <a:xfrm>
                <a:off x="4252680" y="3748320"/>
                <a:ext cx="778680" cy="1319040"/>
                <a:chOff x="4252680" y="3748320"/>
                <a:chExt cx="778680" cy="1319040"/>
              </a:xfrm>
            </p:grpSpPr>
            <p:sp>
              <p:nvSpPr>
                <p:cNvPr id="513" name="Rectangle 42"/>
                <p:cNvSpPr/>
                <p:nvPr/>
              </p:nvSpPr>
              <p:spPr>
                <a:xfrm>
                  <a:off x="4371480" y="3748320"/>
                  <a:ext cx="54072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43"/>
                <p:cNvSpPr/>
                <p:nvPr/>
              </p:nvSpPr>
              <p:spPr>
                <a:xfrm>
                  <a:off x="4252680" y="3748320"/>
                  <a:ext cx="7786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4"/>
              <p:cNvGrpSpPr/>
              <p:nvPr/>
            </p:nvGrpSpPr>
            <p:grpSpPr>
              <a:xfrm>
                <a:off x="5031720" y="3748320"/>
                <a:ext cx="1110240" cy="1319040"/>
                <a:chOff x="5031720" y="3748320"/>
                <a:chExt cx="1110240" cy="1319040"/>
              </a:xfrm>
            </p:grpSpPr>
            <p:sp>
              <p:nvSpPr>
                <p:cNvPr id="516" name="Rectangle 45"/>
                <p:cNvSpPr/>
                <p:nvPr/>
              </p:nvSpPr>
              <p:spPr>
                <a:xfrm>
                  <a:off x="5150520" y="3748320"/>
                  <a:ext cx="8722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46"/>
                <p:cNvSpPr/>
                <p:nvPr/>
              </p:nvSpPr>
              <p:spPr>
                <a:xfrm>
                  <a:off x="5031720" y="3748320"/>
                  <a:ext cx="111024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47"/>
              <p:cNvGrpSpPr/>
              <p:nvPr/>
            </p:nvGrpSpPr>
            <p:grpSpPr>
              <a:xfrm>
                <a:off x="6142320" y="3748320"/>
                <a:ext cx="777960" cy="1319040"/>
                <a:chOff x="6142320" y="3748320"/>
                <a:chExt cx="777960" cy="1319040"/>
              </a:xfrm>
            </p:grpSpPr>
            <p:sp>
              <p:nvSpPr>
                <p:cNvPr id="519" name="Rectangle 48"/>
                <p:cNvSpPr/>
                <p:nvPr/>
              </p:nvSpPr>
              <p:spPr>
                <a:xfrm>
                  <a:off x="6260400" y="3748320"/>
                  <a:ext cx="54144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49"/>
                <p:cNvSpPr/>
                <p:nvPr/>
              </p:nvSpPr>
              <p:spPr>
                <a:xfrm>
                  <a:off x="6142320" y="3748320"/>
                  <a:ext cx="77796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0"/>
              <p:cNvGrpSpPr/>
              <p:nvPr/>
            </p:nvGrpSpPr>
            <p:grpSpPr>
              <a:xfrm>
                <a:off x="6921000" y="3748320"/>
                <a:ext cx="1110240" cy="1319040"/>
                <a:chOff x="6921000" y="3748320"/>
                <a:chExt cx="1110240" cy="1319040"/>
              </a:xfrm>
            </p:grpSpPr>
            <p:sp>
              <p:nvSpPr>
                <p:cNvPr id="522" name="Rectangle 51"/>
                <p:cNvSpPr/>
                <p:nvPr/>
              </p:nvSpPr>
              <p:spPr>
                <a:xfrm>
                  <a:off x="7039800" y="3748320"/>
                  <a:ext cx="8722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52"/>
                <p:cNvSpPr/>
                <p:nvPr/>
              </p:nvSpPr>
              <p:spPr>
                <a:xfrm>
                  <a:off x="6921000" y="3748320"/>
                  <a:ext cx="111024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53"/>
              <p:cNvGrpSpPr/>
              <p:nvPr/>
            </p:nvGrpSpPr>
            <p:grpSpPr>
              <a:xfrm>
                <a:off x="8031600" y="3748320"/>
                <a:ext cx="778680" cy="1319040"/>
                <a:chOff x="8031600" y="3748320"/>
                <a:chExt cx="778680" cy="1319040"/>
              </a:xfrm>
            </p:grpSpPr>
            <p:sp>
              <p:nvSpPr>
                <p:cNvPr id="525" name="Rectangle 54"/>
                <p:cNvSpPr/>
                <p:nvPr/>
              </p:nvSpPr>
              <p:spPr>
                <a:xfrm>
                  <a:off x="8150400" y="3748320"/>
                  <a:ext cx="54072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55"/>
                <p:cNvSpPr/>
                <p:nvPr/>
              </p:nvSpPr>
              <p:spPr>
                <a:xfrm>
                  <a:off x="8031600" y="3748320"/>
                  <a:ext cx="778680" cy="131904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Rectangle 56"/>
            <p:cNvSpPr/>
            <p:nvPr/>
          </p:nvSpPr>
          <p:spPr>
            <a:xfrm>
              <a:off x="250920" y="2421000"/>
              <a:ext cx="8568720" cy="2655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28" name="Line 57"/>
          <p:cNvSpPr/>
          <p:nvPr/>
        </p:nvSpPr>
        <p:spPr>
          <a:xfrm>
            <a:off x="228600" y="3505320"/>
            <a:ext cx="8610480" cy="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Line 58"/>
          <p:cNvSpPr/>
          <p:nvPr/>
        </p:nvSpPr>
        <p:spPr>
          <a:xfrm>
            <a:off x="2050920" y="2421000"/>
            <a:ext cx="0" cy="27432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Line 59"/>
          <p:cNvSpPr/>
          <p:nvPr/>
        </p:nvSpPr>
        <p:spPr>
          <a:xfrm>
            <a:off x="2843280" y="2421000"/>
            <a:ext cx="0" cy="27432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Line 60"/>
          <p:cNvSpPr/>
          <p:nvPr/>
        </p:nvSpPr>
        <p:spPr>
          <a:xfrm>
            <a:off x="3851280" y="2492280"/>
            <a:ext cx="0" cy="26002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4716360" y="2421000"/>
            <a:ext cx="0" cy="26668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Line 62"/>
          <p:cNvSpPr/>
          <p:nvPr/>
        </p:nvSpPr>
        <p:spPr>
          <a:xfrm>
            <a:off x="5867280" y="2421000"/>
            <a:ext cx="0" cy="267156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Line 63"/>
          <p:cNvSpPr/>
          <p:nvPr/>
        </p:nvSpPr>
        <p:spPr>
          <a:xfrm>
            <a:off x="6659640" y="2421000"/>
            <a:ext cx="0" cy="26668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Line 64"/>
          <p:cNvSpPr/>
          <p:nvPr/>
        </p:nvSpPr>
        <p:spPr>
          <a:xfrm>
            <a:off x="7740720" y="2421000"/>
            <a:ext cx="0" cy="26668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Rectangle 65"/>
          <p:cNvSpPr/>
          <p:nvPr/>
        </p:nvSpPr>
        <p:spPr>
          <a:xfrm>
            <a:off x="250920" y="2421000"/>
            <a:ext cx="1904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鞋的尺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Rectangle 66"/>
          <p:cNvSpPr/>
          <p:nvPr/>
        </p:nvSpPr>
        <p:spPr>
          <a:xfrm>
            <a:off x="250920" y="3500280"/>
            <a:ext cx="1752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销售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Text Box 67"/>
          <p:cNvSpPr/>
          <p:nvPr/>
        </p:nvSpPr>
        <p:spPr>
          <a:xfrm>
            <a:off x="2133720" y="2666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Text Box 68"/>
          <p:cNvSpPr/>
          <p:nvPr/>
        </p:nvSpPr>
        <p:spPr>
          <a:xfrm>
            <a:off x="2340000" y="38606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Text Box 69"/>
          <p:cNvSpPr/>
          <p:nvPr/>
        </p:nvSpPr>
        <p:spPr>
          <a:xfrm>
            <a:off x="2843280" y="2637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22.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Text Box 70"/>
          <p:cNvSpPr/>
          <p:nvPr/>
        </p:nvSpPr>
        <p:spPr>
          <a:xfrm>
            <a:off x="3276720" y="38098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Text Box 71"/>
          <p:cNvSpPr/>
          <p:nvPr/>
        </p:nvSpPr>
        <p:spPr>
          <a:xfrm>
            <a:off x="3924360" y="25653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Text Box 72"/>
          <p:cNvSpPr/>
          <p:nvPr/>
        </p:nvSpPr>
        <p:spPr>
          <a:xfrm>
            <a:off x="4114800" y="3809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5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Text Box 73"/>
          <p:cNvSpPr/>
          <p:nvPr/>
        </p:nvSpPr>
        <p:spPr>
          <a:xfrm>
            <a:off x="4716360" y="2637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23.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Text Box 74"/>
          <p:cNvSpPr/>
          <p:nvPr/>
        </p:nvSpPr>
        <p:spPr>
          <a:xfrm>
            <a:off x="502920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1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Text Box 75"/>
          <p:cNvSpPr/>
          <p:nvPr/>
        </p:nvSpPr>
        <p:spPr>
          <a:xfrm>
            <a:off x="58672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4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Text Box 76"/>
          <p:cNvSpPr/>
          <p:nvPr/>
        </p:nvSpPr>
        <p:spPr>
          <a:xfrm>
            <a:off x="6019920" y="3809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7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Text Box 77"/>
          <p:cNvSpPr/>
          <p:nvPr/>
        </p:nvSpPr>
        <p:spPr>
          <a:xfrm>
            <a:off x="6659640" y="27813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24.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Text Box 78"/>
          <p:cNvSpPr/>
          <p:nvPr/>
        </p:nvSpPr>
        <p:spPr>
          <a:xfrm>
            <a:off x="7086600" y="38098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Text Box 79"/>
          <p:cNvSpPr/>
          <p:nvPr/>
        </p:nvSpPr>
        <p:spPr>
          <a:xfrm>
            <a:off x="8001000" y="2666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5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1" name="Text Box 80"/>
          <p:cNvSpPr/>
          <p:nvPr/>
        </p:nvSpPr>
        <p:spPr>
          <a:xfrm>
            <a:off x="8077320" y="3809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Text Box 81"/>
          <p:cNvSpPr/>
          <p:nvPr/>
        </p:nvSpPr>
        <p:spPr>
          <a:xfrm>
            <a:off x="152280" y="51055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ahoma"/>
              </a:rPr>
              <a:t>假如你是老板，你最关心哪一个统计量</a:t>
            </a:r>
            <a:r>
              <a:rPr b="0" lang="en-US" sz="4000" spc="-1" strike="noStrike">
                <a:solidFill>
                  <a:srgbClr val="6600ff"/>
                </a:solidFill>
                <a:latin typeface="Tahoma"/>
              </a:rPr>
              <a:t>?</a:t>
            </a:r>
            <a:r>
              <a:rPr b="1" lang="zh-CN" sz="4000" spc="-1" strike="noStrike">
                <a:solidFill>
                  <a:srgbClr val="6600ff"/>
                </a:solidFill>
                <a:latin typeface="Tahoma"/>
              </a:rPr>
              <a:t>你会如何进货</a:t>
            </a:r>
            <a:r>
              <a:rPr b="0" lang="en-US" sz="4000" spc="-1" strike="noStrike">
                <a:solidFill>
                  <a:srgbClr val="6600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3" name="WordArt 82" descr=""/>
          <p:cNvPicPr/>
          <p:nvPr/>
        </p:nvPicPr>
        <p:blipFill>
          <a:blip r:embed="rId1"/>
          <a:stretch/>
        </p:blipFill>
        <p:spPr>
          <a:xfrm>
            <a:off x="244440" y="-6480"/>
            <a:ext cx="487692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0" y="765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商场服装部为了调动营业员的积极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决定实行目标管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确定一个月的销售目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目标完成的情况对营业员进行适当的奖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确定一个适当的目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场统计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营业员在某月的销售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如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位万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6" name="Picture 13" descr="4"/>
          <p:cNvPicPr/>
          <p:nvPr/>
        </p:nvPicPr>
        <p:blipFill>
          <a:blip r:embed="rId1"/>
          <a:stretch/>
        </p:blipFill>
        <p:spPr>
          <a:xfrm>
            <a:off x="8172360" y="333360"/>
            <a:ext cx="765360" cy="822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20"/>
          <p:cNvSpPr/>
          <p:nvPr/>
        </p:nvSpPr>
        <p:spPr>
          <a:xfrm>
            <a:off x="324000" y="4581360"/>
            <a:ext cx="820872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月销售额在哪个值的人数最多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中间的月销售额是多少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平均的月销售额是多少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Text Box 121"/>
          <p:cNvSpPr/>
          <p:nvPr/>
        </p:nvSpPr>
        <p:spPr>
          <a:xfrm>
            <a:off x="324000" y="5589720"/>
            <a:ext cx="8208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想确定一个较高的销售目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认为月销售额定为多少合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明理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Text Box 124"/>
          <p:cNvSpPr/>
          <p:nvPr/>
        </p:nvSpPr>
        <p:spPr>
          <a:xfrm>
            <a:off x="611280" y="2924280"/>
            <a:ext cx="921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 18  16  13  24  15  28  26  18  19   2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16  19  32  30  16  14  15  26  15  3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  17  15  15  28  28  16  19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Rectangle 125"/>
          <p:cNvSpPr/>
          <p:nvPr/>
        </p:nvSpPr>
        <p:spPr>
          <a:xfrm>
            <a:off x="250920" y="4437000"/>
            <a:ext cx="8569080" cy="1154160"/>
          </a:xfrm>
          <a:prstGeom prst="rect">
            <a:avLst/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Text Box 126"/>
          <p:cNvSpPr/>
          <p:nvPr/>
        </p:nvSpPr>
        <p:spPr>
          <a:xfrm>
            <a:off x="250920" y="4437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如果想让一半左右的营业员都能达到目标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你认为月销售额定为多少合适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说明理由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63" name="Group 2"/>
          <p:cNvGrpSpPr/>
          <p:nvPr/>
        </p:nvGrpSpPr>
        <p:grpSpPr>
          <a:xfrm>
            <a:off x="304920" y="0"/>
            <a:ext cx="4478040" cy="797040"/>
            <a:chOff x="304920" y="0"/>
            <a:chExt cx="4478040" cy="797040"/>
          </a:xfrm>
        </p:grpSpPr>
        <p:sp>
          <p:nvSpPr>
            <p:cNvPr id="564" name="WordArt 3"/>
            <p:cNvSpPr txBox="1"/>
            <p:nvPr/>
          </p:nvSpPr>
          <p:spPr>
            <a:xfrm>
              <a:off x="1125360" y="149400"/>
              <a:ext cx="3657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议一议</a:t>
              </a:r>
              <a:endParaRPr b="1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565" name="Picture 4" descr="BD04924_"/>
            <p:cNvPicPr/>
            <p:nvPr/>
          </p:nvPicPr>
          <p:blipFill>
            <a:blip r:embed="rId3"/>
            <a:stretch/>
          </p:blipFill>
          <p:spPr>
            <a:xfrm>
              <a:off x="304920" y="0"/>
              <a:ext cx="676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Text Box 5"/>
          <p:cNvSpPr/>
          <p:nvPr/>
        </p:nvSpPr>
        <p:spPr>
          <a:xfrm>
            <a:off x="380880" y="1143000"/>
            <a:ext cx="8763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鞋店老板一般最关心</a:t>
            </a:r>
            <a:r>
              <a:rPr b="1" lang="zh-CN" sz="4000" spc="-1" strike="noStrike">
                <a:solidFill>
                  <a:srgbClr val="d7070c"/>
                </a:solidFill>
                <a:latin typeface="Tahoma"/>
              </a:rPr>
              <a:t>众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公司老板一般以</a:t>
            </a:r>
            <a:r>
              <a:rPr b="1" lang="zh-CN" sz="4000" spc="-1" strike="noStrike">
                <a:solidFill>
                  <a:srgbClr val="d7070c"/>
                </a:solidFill>
                <a:latin typeface="Tahoma"/>
              </a:rPr>
              <a:t>中位数</a:t>
            </a: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为销售标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裁判一般以</a:t>
            </a:r>
            <a:r>
              <a:rPr b="1" lang="zh-CN" sz="4000" spc="-1" strike="noStrike">
                <a:solidFill>
                  <a:srgbClr val="d7070c"/>
                </a:solidFill>
                <a:latin typeface="Tahoma"/>
              </a:rPr>
              <a:t>平均数</a:t>
            </a: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为选手最终得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496800" y="4251240"/>
            <a:ext cx="780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问：学习</a:t>
            </a:r>
            <a:r>
              <a:rPr b="1" lang="zh-CN" sz="4000" spc="-1" strike="noStrike">
                <a:solidFill>
                  <a:srgbClr val="d7070c"/>
                </a:solidFill>
                <a:latin typeface="Tahoma"/>
              </a:rPr>
              <a:t>平均数、中位数和众数</a:t>
            </a: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后</a:t>
            </a:r>
            <a:r>
              <a:rPr b="1" lang="en-US" sz="4000" spc="-1" strike="noStrike">
                <a:solidFill>
                  <a:srgbClr val="007a77"/>
                </a:solidFill>
                <a:latin typeface="Tahoma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你对它们各有哪些感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314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均数的计算要用到所有的数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能够充分利用数据提供的信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现实生活中较为常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它受极端值的影响较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950760" y="350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372840" y="2997360"/>
            <a:ext cx="26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一组数据中某些数据多次重复出现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众数往往是人们关心的一个量众数不受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值的影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它的一个优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808200" y="4981680"/>
            <a:ext cx="8335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位数只需很少的计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受极端值的影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在有些情况下是一个优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WordArt 7"/>
          <p:cNvSpPr txBox="1"/>
          <p:nvPr/>
        </p:nvSpPr>
        <p:spPr>
          <a:xfrm>
            <a:off x="1042920" y="0"/>
            <a:ext cx="170676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归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324000" y="1989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这节课的学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有什么</a:t>
            </a:r>
            <a:r>
              <a:rPr b="1" lang="zh-CN" sz="3200" spc="-1" strike="noStrike">
                <a:solidFill>
                  <a:srgbClr val="d7070c"/>
                </a:solidFill>
                <a:latin typeface="Times New Roman"/>
              </a:rPr>
              <a:t>收获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15" descr="2"/>
          <p:cNvPicPr/>
          <p:nvPr/>
        </p:nvPicPr>
        <p:blipFill>
          <a:blip r:embed="rId1"/>
          <a:stretch/>
        </p:blipFill>
        <p:spPr>
          <a:xfrm>
            <a:off x="7608960" y="0"/>
            <a:ext cx="1535040" cy="1989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7"/>
          <p:cNvSpPr/>
          <p:nvPr/>
        </p:nvSpPr>
        <p:spPr>
          <a:xfrm>
            <a:off x="1771920" y="289260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掌握了中位数与众数的概念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18"/>
          <p:cNvSpPr/>
          <p:nvPr/>
        </p:nvSpPr>
        <p:spPr>
          <a:xfrm>
            <a:off x="2355480" y="3500280"/>
            <a:ext cx="48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体会到平均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中位数与众数在生活中的应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3"/>
          <p:cNvSpPr txBox="1"/>
          <p:nvPr/>
        </p:nvSpPr>
        <p:spPr>
          <a:xfrm>
            <a:off x="762120" y="838080"/>
            <a:ext cx="7924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，再见！</a:t>
            </a:r>
            <a:endParaRPr b="1" lang="en-US" sz="60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0" name="Picture 5" descr="7"/>
          <p:cNvPicPr/>
          <p:nvPr/>
        </p:nvPicPr>
        <p:blipFill>
          <a:blip r:embed="rId1"/>
          <a:stretch/>
        </p:blipFill>
        <p:spPr>
          <a:xfrm>
            <a:off x="4419720" y="3581280"/>
            <a:ext cx="2865240" cy="3065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6012000" y="476280"/>
            <a:ext cx="2305080" cy="1728360"/>
            <a:chOff x="6012000" y="476280"/>
            <a:chExt cx="2305080" cy="1728360"/>
          </a:xfrm>
        </p:grpSpPr>
        <p:sp>
          <p:nvSpPr>
            <p:cNvPr id="382" name="AutoShape 5"/>
            <p:cNvSpPr/>
            <p:nvPr/>
          </p:nvSpPr>
          <p:spPr>
            <a:xfrm>
              <a:off x="6012000" y="476280"/>
              <a:ext cx="2305080" cy="1728360"/>
            </a:xfrm>
            <a:prstGeom prst="cloudCallout">
              <a:avLst>
                <a:gd name="adj1" fmla="val -100486"/>
                <a:gd name="adj2" fmla="val 86449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6405480" y="747360"/>
              <a:ext cx="185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这个公司员工收入到底怎样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84" name="Text Box 10"/>
          <p:cNvSpPr/>
          <p:nvPr/>
        </p:nvSpPr>
        <p:spPr>
          <a:xfrm>
            <a:off x="2769480" y="3357720"/>
            <a:ext cx="911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经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916360" y="479736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2124000" y="512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二天，阿冲上班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1332000" y="508464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3924360" y="17002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24"/>
          <p:cNvSpPr/>
          <p:nvPr/>
        </p:nvSpPr>
        <p:spPr>
          <a:xfrm>
            <a:off x="395280" y="400536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90" name="Object 28"/>
          <p:cNvGraphicFramePr/>
          <p:nvPr/>
        </p:nvGraphicFramePr>
        <p:xfrm>
          <a:off x="3780000" y="2565360"/>
          <a:ext cx="142236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565360"/>
                    <a:ext cx="142236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AutoShape 30"/>
          <p:cNvSpPr/>
          <p:nvPr/>
        </p:nvSpPr>
        <p:spPr>
          <a:xfrm>
            <a:off x="755640" y="549360"/>
            <a:ext cx="2592360" cy="1800000"/>
          </a:xfrm>
          <a:prstGeom prst="cloudCallout">
            <a:avLst>
              <a:gd name="adj1" fmla="val 71555"/>
              <a:gd name="adj2" fmla="val 72925"/>
            </a:avLst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Text Box 31"/>
          <p:cNvSpPr/>
          <p:nvPr/>
        </p:nvSpPr>
        <p:spPr>
          <a:xfrm>
            <a:off x="826920" y="83664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这里报酬不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平均工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在这里好好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Text Box 33"/>
          <p:cNvSpPr/>
          <p:nvPr/>
        </p:nvSpPr>
        <p:spPr>
          <a:xfrm>
            <a:off x="5295960" y="3429000"/>
            <a:ext cx="5461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阿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3877200" y="465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阿冲在公司工作了一周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>
            <a:off x="611280" y="907920"/>
            <a:ext cx="3456000" cy="1324080"/>
          </a:xfrm>
          <a:prstGeom prst="cloudCallout">
            <a:avLst>
              <a:gd name="adj1" fmla="val 60564"/>
              <a:gd name="adj2" fmla="val 116069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平均工资确实是每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元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你看看公司的工资报表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410080" y="457200"/>
            <a:ext cx="3733920" cy="1752480"/>
          </a:xfrm>
          <a:prstGeom prst="cloudCallout">
            <a:avLst>
              <a:gd name="adj1" fmla="val -37583"/>
              <a:gd name="adj2" fmla="val 9248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Comic Sans MS"/>
              </a:rPr>
              <a:t>你欺骗了我，我已经问过公司的职员了，没有一个人是超过</a:t>
            </a:r>
            <a:r>
              <a:rPr b="1" lang="zh-CN" sz="2000" spc="-1" strike="noStrike">
                <a:solidFill>
                  <a:srgbClr val="007a77"/>
                </a:solidFill>
                <a:latin typeface="Comic Sans MS"/>
              </a:rPr>
              <a:t>2000</a:t>
            </a:r>
            <a:r>
              <a:rPr b="1" lang="zh-CN" sz="2000" spc="-1" strike="noStrike">
                <a:solidFill>
                  <a:srgbClr val="007a77"/>
                </a:solidFill>
                <a:latin typeface="Comic Sans MS"/>
              </a:rPr>
              <a:t>元的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99" name="Object 8"/>
          <p:cNvGraphicFramePr/>
          <p:nvPr/>
        </p:nvGraphicFramePr>
        <p:xfrm>
          <a:off x="4572000" y="2781360"/>
          <a:ext cx="142236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781360"/>
                    <a:ext cx="142236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9"/>
          <p:cNvSpPr/>
          <p:nvPr/>
        </p:nvSpPr>
        <p:spPr>
          <a:xfrm>
            <a:off x="3492360" y="342900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经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019920" y="3276720"/>
            <a:ext cx="1218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                </a:t>
            </a: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阿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2843640" y="980280"/>
            <a:ext cx="34419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	</a:t>
            </a:r>
            <a:r>
              <a:rPr b="1" lang="zh-CN" sz="2800" spc="-1" strike="noStrike">
                <a:solidFill>
                  <a:srgbClr val="6600ff"/>
                </a:solidFill>
                <a:latin typeface="Comic Sans MS"/>
              </a:rPr>
              <a:t>该公司员工的月薪如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Text Box 45"/>
          <p:cNvSpPr/>
          <p:nvPr/>
        </p:nvSpPr>
        <p:spPr>
          <a:xfrm>
            <a:off x="324000" y="3068640"/>
            <a:ext cx="8151840" cy="94716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：请大家仔细观察表格中的数据，讨论该公司的月平均工资是多少？经理是否欺骗了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阿冲</a:t>
            </a: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Text Box 48"/>
          <p:cNvSpPr/>
          <p:nvPr/>
        </p:nvSpPr>
        <p:spPr>
          <a:xfrm>
            <a:off x="395280" y="4221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：平均月工资能否客观地反映员工的实际收入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Text Box 49"/>
          <p:cNvSpPr/>
          <p:nvPr/>
        </p:nvSpPr>
        <p:spPr>
          <a:xfrm>
            <a:off x="395280" y="5229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0c21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6e0c21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6e0c21"/>
                </a:solidFill>
                <a:latin typeface="Times New Roman"/>
              </a:rPr>
              <a:t>：再仔细观察表中的数据，你们认为用哪个数据反映一般职员的实际收入比较合适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684360" y="1557360"/>
          <a:ext cx="7561080" cy="1249200"/>
        </p:xfrm>
        <a:graphic>
          <a:graphicData uri="http://schemas.openxmlformats.org/drawingml/2006/table">
            <a:tbl>
              <a:tblPr/>
              <a:tblGrid>
                <a:gridCol w="1065240"/>
                <a:gridCol w="722160"/>
                <a:gridCol w="720720"/>
                <a:gridCol w="722160"/>
                <a:gridCol w="728640"/>
                <a:gridCol w="714600"/>
                <a:gridCol w="752400"/>
                <a:gridCol w="692280"/>
                <a:gridCol w="720720"/>
                <a:gridCol w="722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员工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经理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副经理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月薪   </a:t>
                      </a:r>
                      <a:r>
                        <a:rPr b="1" lang="zh-CN" sz="16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（元）</a:t>
                      </a:r>
                      <a:endParaRPr b="0" lang="en-US" sz="1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3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WordArt 162"/>
          <p:cNvSpPr txBox="1"/>
          <p:nvPr/>
        </p:nvSpPr>
        <p:spPr>
          <a:xfrm>
            <a:off x="250920" y="0"/>
            <a:ext cx="266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9" name="Rectangle 165"/>
          <p:cNvSpPr/>
          <p:nvPr/>
        </p:nvSpPr>
        <p:spPr>
          <a:xfrm>
            <a:off x="3348000" y="333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916360" y="98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该公司员工的月薪如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971640" y="1413000"/>
          <a:ext cx="7561080" cy="1639800"/>
        </p:xfrm>
        <a:graphic>
          <a:graphicData uri="http://schemas.openxmlformats.org/drawingml/2006/table">
            <a:tbl>
              <a:tblPr/>
              <a:tblGrid>
                <a:gridCol w="936360"/>
                <a:gridCol w="800280"/>
                <a:gridCol w="698400"/>
                <a:gridCol w="700200"/>
                <a:gridCol w="703080"/>
                <a:gridCol w="698760"/>
                <a:gridCol w="730080"/>
                <a:gridCol w="754200"/>
                <a:gridCol w="770040"/>
                <a:gridCol w="76968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员工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经理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副经理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月薪   </a:t>
                      </a:r>
                      <a:r>
                        <a:rPr b="1" lang="zh-CN" sz="16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（元）</a:t>
                      </a:r>
                      <a:endParaRPr b="0" lang="en-US" sz="1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3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Object 129"/>
          <p:cNvGraphicFramePr/>
          <p:nvPr/>
        </p:nvGraphicFramePr>
        <p:xfrm>
          <a:off x="0" y="836640"/>
          <a:ext cx="923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1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23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AutoShape 133"/>
          <p:cNvSpPr/>
          <p:nvPr/>
        </p:nvSpPr>
        <p:spPr>
          <a:xfrm>
            <a:off x="539640" y="0"/>
            <a:ext cx="3132360" cy="981000"/>
          </a:xfrm>
          <a:prstGeom prst="cloudCallout">
            <a:avLst>
              <a:gd name="adj1" fmla="val -29625"/>
              <a:gd name="adj2" fmla="val 89319"/>
            </a:avLst>
          </a:prstGeom>
          <a:solidFill>
            <a:srgbClr val="ff66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Comic Sans MS"/>
              </a:rPr>
              <a:t>我的工资是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1200</a:t>
            </a:r>
            <a:r>
              <a:rPr b="1" lang="zh-CN" sz="2000" spc="-1" strike="noStrike">
                <a:solidFill>
                  <a:srgbClr val="3366ff"/>
                </a:solidFill>
                <a:latin typeface="Comic Sans MS"/>
              </a:rPr>
              <a:t>元，在公司算中等收入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AutoShape 134"/>
          <p:cNvSpPr/>
          <p:nvPr/>
        </p:nvSpPr>
        <p:spPr>
          <a:xfrm>
            <a:off x="5003640" y="2781360"/>
            <a:ext cx="292320" cy="414360"/>
          </a:xfrm>
          <a:prstGeom prst="downArrow">
            <a:avLst>
              <a:gd name="adj1" fmla="val 50000"/>
              <a:gd name="adj2" fmla="val 35437"/>
            </a:avLst>
          </a:prstGeom>
          <a:solidFill>
            <a:srgbClr val="993366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Text Box 135"/>
          <p:cNvSpPr/>
          <p:nvPr/>
        </p:nvSpPr>
        <p:spPr>
          <a:xfrm>
            <a:off x="4572000" y="3213000"/>
            <a:ext cx="13827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070c"/>
                </a:solidFill>
                <a:latin typeface="Comic Sans MS"/>
              </a:rPr>
              <a:t>中位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Rectangle 137"/>
          <p:cNvSpPr/>
          <p:nvPr/>
        </p:nvSpPr>
        <p:spPr>
          <a:xfrm>
            <a:off x="0" y="3573360"/>
            <a:ext cx="8964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中位数定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组数据按大小顺序排列，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位于最中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一个数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叫做这组数据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位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419" name="Object 138"/>
          <p:cNvGraphicFramePr/>
          <p:nvPr/>
        </p:nvGraphicFramePr>
        <p:xfrm>
          <a:off x="8172360" y="549360"/>
          <a:ext cx="971640" cy="111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1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72360" y="549360"/>
                    <a:ext cx="97164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AutoShape 146"/>
          <p:cNvSpPr/>
          <p:nvPr/>
        </p:nvSpPr>
        <p:spPr>
          <a:xfrm>
            <a:off x="5364000" y="0"/>
            <a:ext cx="3154680" cy="762120"/>
          </a:xfrm>
          <a:prstGeom prst="cloudCallout">
            <a:avLst>
              <a:gd name="adj1" fmla="val 34902"/>
              <a:gd name="adj2" fmla="val 82916"/>
            </a:avLst>
          </a:prstGeom>
          <a:solidFill>
            <a:srgbClr val="008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f1f94f"/>
                </a:solidFill>
                <a:latin typeface="Comic Sans MS"/>
              </a:rPr>
              <a:t>我们好几人工资都是</a:t>
            </a:r>
            <a:r>
              <a:rPr b="1" lang="zh-CN" sz="2000" spc="-1" strike="noStrike">
                <a:solidFill>
                  <a:srgbClr val="f1f94f"/>
                </a:solidFill>
                <a:latin typeface="Comic Sans MS"/>
              </a:rPr>
              <a:t>1100</a:t>
            </a:r>
            <a:r>
              <a:rPr b="1" lang="zh-CN" sz="2000" spc="-1" strike="noStrike">
                <a:solidFill>
                  <a:srgbClr val="f1f94f"/>
                </a:solidFill>
                <a:latin typeface="Comic Sans MS"/>
              </a:rPr>
              <a:t>元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AutoShape 147"/>
          <p:cNvSpPr/>
          <p:nvPr/>
        </p:nvSpPr>
        <p:spPr>
          <a:xfrm>
            <a:off x="7164360" y="2708280"/>
            <a:ext cx="295200" cy="457200"/>
          </a:xfrm>
          <a:prstGeom prst="downArrow">
            <a:avLst>
              <a:gd name="adj1" fmla="val 50000"/>
              <a:gd name="adj2" fmla="val 38720"/>
            </a:avLst>
          </a:prstGeom>
          <a:solidFill>
            <a:srgbClr val="993366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Text Box 148"/>
          <p:cNvSpPr/>
          <p:nvPr/>
        </p:nvSpPr>
        <p:spPr>
          <a:xfrm>
            <a:off x="6659640" y="3213000"/>
            <a:ext cx="13604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070c"/>
                </a:solidFill>
                <a:latin typeface="Comic Sans MS"/>
              </a:rPr>
              <a:t>众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Rectangle 149"/>
          <p:cNvSpPr/>
          <p:nvPr/>
        </p:nvSpPr>
        <p:spPr>
          <a:xfrm>
            <a:off x="468360" y="5661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众数定义</a:t>
            </a:r>
            <a:r>
              <a:rPr b="1" lang="en-US" sz="3200" spc="-1" strike="noStrike">
                <a:solidFill>
                  <a:srgbClr val="d7070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组数据中，出现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次数最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那个数据叫做这组数据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众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Text Box 150"/>
          <p:cNvSpPr/>
          <p:nvPr/>
        </p:nvSpPr>
        <p:spPr>
          <a:xfrm>
            <a:off x="2268000" y="4508640"/>
            <a:ext cx="48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当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偶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个数据时，为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最中间两个数据的平均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0" y="0"/>
            <a:ext cx="3507480" cy="1125000"/>
            <a:chOff x="0" y="0"/>
            <a:chExt cx="3507480" cy="1125000"/>
          </a:xfrm>
        </p:grpSpPr>
        <p:sp>
          <p:nvSpPr>
            <p:cNvPr id="428" name="WordArt 5"/>
            <p:cNvSpPr txBox="1"/>
            <p:nvPr/>
          </p:nvSpPr>
          <p:spPr>
            <a:xfrm>
              <a:off x="974880" y="304920"/>
              <a:ext cx="2532600" cy="80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2232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新魏"/>
                </a:rPr>
                <a:t>试一试你的身手</a:t>
              </a:r>
              <a:endParaRPr b="0" lang="en-US" sz="44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429" name="Picture 6" descr="BD04924_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62120" cy="112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Text Box 7"/>
          <p:cNvSpPr/>
          <p:nvPr/>
        </p:nvSpPr>
        <p:spPr>
          <a:xfrm>
            <a:off x="801000" y="1268280"/>
            <a:ext cx="70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, 8, 2, 7, 9, 2, 7, 3, 2, 0, 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众数是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位数是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6588000" y="1773360"/>
            <a:ext cx="136872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8000" y="2133720"/>
            <a:ext cx="172728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825480" y="2276640"/>
            <a:ext cx="66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, 20, 20, 22,30,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众数是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位数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>
            <a:off x="5508720" y="2708280"/>
            <a:ext cx="201600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Line 17"/>
          <p:cNvSpPr/>
          <p:nvPr/>
        </p:nvSpPr>
        <p:spPr>
          <a:xfrm>
            <a:off x="2050920" y="3141720"/>
            <a:ext cx="172908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5867280" y="2133720"/>
            <a:ext cx="1800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395280" y="32130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,  0,  4,  5,  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插入一个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得这组数据的中位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Line 21"/>
          <p:cNvSpPr/>
          <p:nvPr/>
        </p:nvSpPr>
        <p:spPr>
          <a:xfrm>
            <a:off x="4859280" y="4005360"/>
            <a:ext cx="201636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1300680" y="4221000"/>
            <a:ext cx="59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 8, x, 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众数与平均数相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它们的中位数是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Line 24"/>
          <p:cNvSpPr/>
          <p:nvPr/>
        </p:nvSpPr>
        <p:spPr>
          <a:xfrm>
            <a:off x="7956720" y="4653000"/>
            <a:ext cx="118728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Text Box 26"/>
          <p:cNvSpPr/>
          <p:nvPr/>
        </p:nvSpPr>
        <p:spPr>
          <a:xfrm>
            <a:off x="1253520" y="4724280"/>
            <a:ext cx="603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考链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2400" spc="-1" strike="noStrike">
                <a:solidFill>
                  <a:srgbClr val="d7070c"/>
                </a:solidFill>
                <a:latin typeface="Arial"/>
              </a:rPr>
              <a:t>正整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小到大排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这组数据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位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众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唯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正整数的和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20         B.21         C.22         D.23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01680" y="1412640"/>
            <a:ext cx="41940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何求一组数据的中位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众数？应注意什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105200" y="639720"/>
            <a:ext cx="164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结与反思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2349360"/>
            <a:ext cx="8856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中位数要将一组数据按大小顺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顾名思义，中位数就是位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中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一个数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或最中间的两个数的平均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排序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从小到大或从大到小都可以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250920" y="4149720"/>
            <a:ext cx="871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众数是一组数据中</a:t>
            </a:r>
            <a:r>
              <a:rPr b="1" lang="zh-CN" sz="2400" spc="-1" strike="noStrike">
                <a:solidFill>
                  <a:srgbClr val="d7070c"/>
                </a:solidFill>
                <a:latin typeface="Arial"/>
              </a:rPr>
              <a:t>出现次数最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数据，是一组数据中的</a:t>
            </a:r>
            <a:r>
              <a:rPr b="1" lang="zh-CN" sz="2400" spc="-1" strike="noStrike">
                <a:solidFill>
                  <a:srgbClr val="d7070c"/>
                </a:solidFill>
                <a:latin typeface="Arial"/>
              </a:rPr>
              <a:t>原数据</a:t>
            </a:r>
            <a:r>
              <a:rPr b="1" lang="en-US" sz="2400" spc="-1" strike="noStrike">
                <a:solidFill>
                  <a:srgbClr val="d7070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不是相应的次数．众数有可能不唯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不要遗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AutoShape 7"/>
          <p:cNvSpPr/>
          <p:nvPr/>
        </p:nvSpPr>
        <p:spPr>
          <a:xfrm>
            <a:off x="5435640" y="620640"/>
            <a:ext cx="2952720" cy="1944720"/>
          </a:xfrm>
          <a:prstGeom prst="wedgeRectCallout">
            <a:avLst>
              <a:gd name="adj1" fmla="val -60212"/>
              <a:gd name="adj2" fmla="val 75305"/>
            </a:avLst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5435640" y="620640"/>
            <a:ext cx="31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7070c"/>
                </a:solidFill>
                <a:latin typeface="Arial"/>
              </a:rPr>
              <a:t>你知道中间位置如何确定吗</a:t>
            </a:r>
            <a:r>
              <a:rPr b="0" lang="en-US" sz="1800" spc="-1" strike="noStrike">
                <a:solidFill>
                  <a:srgbClr val="d7070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5364000" y="907920"/>
            <a:ext cx="281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为奇数时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中间位置是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第              个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为偶数时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中间位置是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第             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,            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个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3"/>
              <p:cNvSpPr txBox="1"/>
              <p:nvPr/>
            </p:nvSpPr>
            <p:spPr>
              <a:xfrm>
                <a:off x="5867280" y="1916280"/>
                <a:ext cx="279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6"/>
              <p:cNvSpPr txBox="1"/>
              <p:nvPr/>
            </p:nvSpPr>
            <p:spPr>
              <a:xfrm>
                <a:off x="5867280" y="1197000"/>
                <a:ext cx="6271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7"/>
              <p:cNvSpPr txBox="1"/>
              <p:nvPr/>
            </p:nvSpPr>
            <p:spPr>
              <a:xfrm>
                <a:off x="6948360" y="1916280"/>
                <a:ext cx="6256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395280" y="404640"/>
            <a:ext cx="874872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双语学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第二届校运会初二的男子跳高比赛       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,1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名选手的成绩如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单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:cm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15     120      128     130      123     11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05      125      125     127      132     1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638280" y="2997360"/>
            <a:ext cx="850572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将这组数据按照由小到大的顺序排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黑体"/>
              <a:buAutoNum type="arabicPlain" startAt="10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0   115   120   120   12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黑体"/>
              <a:buAutoNum type="arabicPlain" startAt="1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5   127   128   130   13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处于中间的两个数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5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中位数是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755640" y="2565360"/>
            <a:ext cx="47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组数据的中位数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636920" y="5300640"/>
            <a:ext cx="50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位选手的成绩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5cm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对他的成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何评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6"/>
              <p:cNvSpPr txBox="1"/>
              <p:nvPr/>
            </p:nvSpPr>
            <p:spPr>
              <a:xfrm>
                <a:off x="7237440" y="4508640"/>
                <a:ext cx="1727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Text Box 7"/>
          <p:cNvSpPr/>
          <p:nvPr/>
        </p:nvSpPr>
        <p:spPr>
          <a:xfrm>
            <a:off x="5724360" y="2565360"/>
            <a:ext cx="922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12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1" name="WordArt 4"/>
          <p:cNvSpPr txBox="1"/>
          <p:nvPr/>
        </p:nvSpPr>
        <p:spPr>
          <a:xfrm>
            <a:off x="179280" y="-316080"/>
            <a:ext cx="1876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1696320" y="714240"/>
            <a:ext cx="527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了解开展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d7070c"/>
                </a:solidFill>
                <a:latin typeface="Arial"/>
              </a:rPr>
              <a:t>孝敬父母</a:t>
            </a:r>
            <a:r>
              <a:rPr b="1" lang="en-US" sz="2400" spc="-1" strike="noStrike">
                <a:solidFill>
                  <a:srgbClr val="d7070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d7070c"/>
                </a:solidFill>
                <a:latin typeface="Arial"/>
              </a:rPr>
              <a:t>从家务事做起</a:t>
            </a:r>
            <a:r>
              <a:rPr b="1" lang="en-US" sz="2400" spc="-1" strike="noStrike">
                <a:solidFill>
                  <a:srgbClr val="d7070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的实施情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校抽取八年级某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学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查他们一周做家务所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到一组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绘制成下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根据下表完成各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341440" y="3894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464" name=""/>
          <p:cNvGraphicFramePr/>
          <p:nvPr/>
        </p:nvGraphicFramePr>
        <p:xfrm>
          <a:off x="324000" y="2060640"/>
          <a:ext cx="8602560" cy="1558800"/>
        </p:xfrm>
        <a:graphic>
          <a:graphicData uri="http://schemas.openxmlformats.org/drawingml/2006/table">
            <a:tbl>
              <a:tblPr/>
              <a:tblGrid>
                <a:gridCol w="1584000"/>
                <a:gridCol w="792360"/>
                <a:gridCol w="647640"/>
                <a:gridCol w="719280"/>
                <a:gridCol w="792000"/>
                <a:gridCol w="936720"/>
                <a:gridCol w="720720"/>
                <a:gridCol w="863640"/>
                <a:gridCol w="720720"/>
                <a:gridCol w="8254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周做家务的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时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5" name="Text Box 230"/>
          <p:cNvSpPr/>
          <p:nvPr/>
        </p:nvSpPr>
        <p:spPr>
          <a:xfrm>
            <a:off x="755640" y="3716280"/>
            <a:ext cx="67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写图中未完成的部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班学生每周做家务的平均时间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Line 254"/>
          <p:cNvSpPr/>
          <p:nvPr/>
        </p:nvSpPr>
        <p:spPr>
          <a:xfrm>
            <a:off x="6516720" y="4653000"/>
            <a:ext cx="165744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Text Box 255"/>
          <p:cNvSpPr/>
          <p:nvPr/>
        </p:nvSpPr>
        <p:spPr>
          <a:xfrm>
            <a:off x="4213440" y="299736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070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Text Box 256"/>
          <p:cNvSpPr/>
          <p:nvPr/>
        </p:nvSpPr>
        <p:spPr>
          <a:xfrm>
            <a:off x="7020000" y="4076640"/>
            <a:ext cx="677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070c"/>
                </a:solidFill>
                <a:latin typeface="Arial"/>
              </a:rPr>
              <a:t>2.44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Text Box 257"/>
          <p:cNvSpPr/>
          <p:nvPr/>
        </p:nvSpPr>
        <p:spPr>
          <a:xfrm>
            <a:off x="611280" y="4653000"/>
            <a:ext cx="7775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组数据的中位数是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众数是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Line 258"/>
          <p:cNvSpPr/>
          <p:nvPr/>
        </p:nvSpPr>
        <p:spPr>
          <a:xfrm>
            <a:off x="4427640" y="5157720"/>
            <a:ext cx="172692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Line 259"/>
          <p:cNvSpPr/>
          <p:nvPr/>
        </p:nvSpPr>
        <p:spPr>
          <a:xfrm>
            <a:off x="7596360" y="5157720"/>
            <a:ext cx="129528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Text Box 260"/>
          <p:cNvSpPr/>
          <p:nvPr/>
        </p:nvSpPr>
        <p:spPr>
          <a:xfrm>
            <a:off x="5005440" y="4581360"/>
            <a:ext cx="604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070c"/>
                </a:solidFill>
                <a:latin typeface="Arial"/>
              </a:rPr>
              <a:t>2.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Text Box 261"/>
          <p:cNvSpPr/>
          <p:nvPr/>
        </p:nvSpPr>
        <p:spPr>
          <a:xfrm>
            <a:off x="7885080" y="4508640"/>
            <a:ext cx="382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Text Box 262"/>
          <p:cNvSpPr/>
          <p:nvPr/>
        </p:nvSpPr>
        <p:spPr>
          <a:xfrm>
            <a:off x="755640" y="5300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4)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请你根据</a:t>
            </a: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(2),(3)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的结果</a:t>
            </a: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用一句话谈谈自己的感受</a:t>
            </a: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jianyuan.com</dc:creator>
  <dc:description>kejianyuan.com</dc:description>
  <cp:keywords>kejianyuan.com</cp:keywords>
  <dc:language>en-US</dc:language>
  <cp:lastModifiedBy/>
  <dcterms:modified xsi:type="dcterms:W3CDTF">2014-09-10T16:21:24Z</dcterms:modified>
  <cp:revision>61</cp:revision>
  <dc:subject>人教版八年级数学（下）全套课件</dc:subject>
  <dc:title>人教版八年级数学（下）全套课件</dc:title>
</cp:coreProperties>
</file>