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camera.wav" ContentType="audio/x-wav"/>
  <Override PartName="/ppt/media/image6.png" ContentType="image/png"/>
  <Override PartName="/ppt/media/image7.jpeg" ContentType="image/jpeg"/>
  <Override PartName="/ppt/media/image2.wmf" ContentType="image/x-wmf"/>
  <Override PartName="/ppt/media/image3.wmf" ContentType="image/x-wmf"/>
  <Override PartName="/ppt/media/chimes.wav" ContentType="audio/x-wav"/>
  <Override PartName="/ppt/media/type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7D87-9ED3-4F90-9BF2-D14996EEB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84A8-1F8E-4B21-B843-D4D068EAD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巩固定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E34-7E3A-4545-BAA6-AA4E4768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352-A06E-405D-B26B-606E1506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185-7AA4-442E-B058-398ECFB6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205-7E59-4480-B0ED-7E4B4893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245E-5E46-4C2D-A7B3-BCF2EA99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0989-D010-461E-9390-186D46E1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38D3-37B4-451A-A271-DB70A138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8A4C-C8BD-45A4-B4BF-448C7530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1B3E-FF9A-4B7D-92D1-FB8F3C47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A188-E834-40DC-B7BF-36DAA35C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8368-D8E3-4DB4-9B92-2EB3534B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1F4-07D5-42FD-B218-DC439ECF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22CE-072B-4676-9DAA-7E9E832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CE02-564F-4B84-88E5-F7B9A846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54DC-814C-4AF7-9CA8-FC1451FE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4945-246E-4C98-90E4-17BF7527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A2B7-3EC1-4767-B704-1ED2DB15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3A71E-49ED-4BB5-82F0-BB5D18C6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62D6B-315F-4606-987A-A652349B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65B65-7747-47A9-8DDF-A7DC4691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EBEA-D779-4A52-A637-5180D4AE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D07EE-D7F8-457A-BFA8-E5420318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021-B0A2-4735-9835-C75271AB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7762-2E44-4A45-9587-6E6FB60A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F3C09-F516-402D-9131-3510C367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FB584-CF56-462A-A709-49A68A5D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85845-B7E7-4235-9775-E899781A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2F7B-664F-47C8-A23A-588D34F1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B1EC6-4D31-4319-B260-1578A115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0A5D9-5B0E-4F1E-A45E-D0D9E10B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56C9C-53ED-48D4-8A9A-BF15ABAB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6FEDA-735E-4B0E-A4D2-C567D8C7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4D561-2774-4296-8932-BE30E55B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1A7-1701-401E-8489-447BC95D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E5597-2DA5-40BB-A907-42BC9E49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C7188-D9B4-4DA2-9505-A8E53F07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4EEF1-D662-4412-85ED-00E903A8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083DA-A04C-43E4-A5AD-2BB5F0D7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D6F8E-DBF7-49C7-BCE5-D585ACED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06F34-FDF9-4607-AD99-843DF3D0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2FB4B-4E3C-4765-B0FA-BADFA0CE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1E801-F526-408C-9C67-D5DC4B37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7FE3E-B28F-4BB2-8FA2-A46FB0BF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29FBF-5235-403F-A607-E46966AF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4B7-FE81-41DA-B6D9-2B9D3002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82192-2657-44BC-B023-38DA6677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830C1-EB9F-483C-AA5D-C01D0EF3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885C2-DE91-4751-9C6B-EE3E3917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D74D7-D1C3-48B8-9BB1-2F292B1D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0F219-D63C-4915-A0BF-355462F5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A30F4-324C-40DC-9E8C-98CBFFBA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54552-BED4-4C50-85AF-D15FEAED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80EDF-372B-4C7E-AA38-A0293B65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7F4DD-26C8-4248-A15C-E6FA8DA8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1496D-DA90-42FE-9405-8A1410B2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437-3AA4-49DF-808B-AF315074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EA86B-AF20-4204-8DA6-70A147C1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36607-1DAF-4464-A73D-5022120C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AAF8D-B4C7-4B6D-B3D8-92DB18AA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A6697-F392-4D6B-95C4-A842BD3C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BA1AF-F4D1-4FA3-83DB-26F72A1E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7C5E2-8EB5-4791-A7BC-09D95A3C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D369B-2B38-428E-9459-36AC0B26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BFE33-6A02-4342-8512-39008757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46BBC-E447-4F8E-A434-2FBF329F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128B9-630A-406E-B284-92C85FBC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D1B-90F3-4E61-B67F-40943901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DDCE4-D460-4324-8ABB-CA1B9330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05B5D-6CF3-4F2A-AD82-E5649FE6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9BCCD-B4AB-4365-81D2-9645919A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E06-5B6B-4F8E-A8C7-C590992A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E8E-0C64-4420-8A1D-0EABB1A2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9DED-13BA-49D4-B021-5E7391FFB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5604-9685-4F89-B192-0EB05FB46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27E7-F468-49A5-BC92-4F06626FF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1ED7-062A-4186-ADC4-8C95419DA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FBAE-A874-408E-A9E4-A037C5F1F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FED3-9420-4A16-9C6D-AC0EE9598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7280" y="2205000"/>
            <a:ext cx="6334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华文行楷"/>
                <a:ea typeface="华文行楷"/>
              </a:rPr>
              <a:t>16.3   </a:t>
            </a:r>
            <a:r>
              <a:rPr b="0" lang="zh-CN" sz="6000" spc="-1" strike="noStrike">
                <a:solidFill>
                  <a:srgbClr val="003366"/>
                </a:solidFill>
                <a:latin typeface="华文行楷"/>
                <a:ea typeface="华文行楷"/>
              </a:rPr>
              <a:t>分式方程</a:t>
            </a:r>
            <a:r>
              <a:rPr b="0" lang="en-US" sz="6000" spc="-1" strike="noStrike">
                <a:solidFill>
                  <a:srgbClr val="003366"/>
                </a:solidFill>
                <a:latin typeface="华文行楷"/>
                <a:ea typeface="华文行楷"/>
              </a:rPr>
              <a:t>(</a:t>
            </a:r>
            <a:r>
              <a:rPr b="0" lang="zh-CN" sz="6000" spc="-1" strike="noStrike">
                <a:solidFill>
                  <a:srgbClr val="003366"/>
                </a:solidFill>
                <a:latin typeface="华文行楷"/>
                <a:ea typeface="华文行楷"/>
              </a:rPr>
              <a:t>一</a:t>
            </a:r>
            <a:r>
              <a:rPr b="0" lang="en-US" sz="6000" spc="-1" strike="noStrike">
                <a:solidFill>
                  <a:srgbClr val="003366"/>
                </a:solidFill>
                <a:latin typeface="华文行楷"/>
                <a:ea typeface="华文行楷"/>
              </a:rPr>
              <a:t>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2268360" y="620640"/>
                <a:ext cx="3527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Text Box 5"/>
          <p:cNvSpPr/>
          <p:nvPr/>
        </p:nvSpPr>
        <p:spPr>
          <a:xfrm>
            <a:off x="32400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解下列方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6"/>
              <p:cNvSpPr txBox="1"/>
              <p:nvPr/>
            </p:nvSpPr>
            <p:spPr>
              <a:xfrm>
                <a:off x="2190600" y="3971880"/>
                <a:ext cx="337212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解分式方程容易犯的错误主要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1672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去分母时，原方程的整式部分漏乘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约去分母后，分子是多项式时， 要注意添括号．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增根不舍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4)…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4"/>
          <p:cNvGrpSpPr/>
          <p:nvPr/>
        </p:nvGrpSpPr>
        <p:grpSpPr>
          <a:xfrm>
            <a:off x="2771640" y="189000"/>
            <a:ext cx="3352680" cy="703440"/>
            <a:chOff x="2771640" y="189000"/>
            <a:chExt cx="3352680" cy="703440"/>
          </a:xfrm>
        </p:grpSpPr>
        <p:grpSp>
          <p:nvGrpSpPr>
            <p:cNvPr id="355" name="Group 5"/>
            <p:cNvGrpSpPr/>
            <p:nvPr/>
          </p:nvGrpSpPr>
          <p:grpSpPr>
            <a:xfrm>
              <a:off x="2771640" y="189000"/>
              <a:ext cx="3352680" cy="703440"/>
              <a:chOff x="2771640" y="189000"/>
              <a:chExt cx="3352680" cy="703440"/>
            </a:xfrm>
          </p:grpSpPr>
          <p:sp>
            <p:nvSpPr>
              <p:cNvPr id="356" name="Rectangle 6"/>
              <p:cNvSpPr/>
              <p:nvPr/>
            </p:nvSpPr>
            <p:spPr>
              <a:xfrm>
                <a:off x="2771640" y="189000"/>
                <a:ext cx="3352680" cy="7034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3333ff"/>
                    </a:solidFill>
                    <a:latin typeface="宋体"/>
                  </a:rPr>
                  <a:t>想一想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7"/>
              <p:cNvSpPr/>
              <p:nvPr/>
            </p:nvSpPr>
            <p:spPr>
              <a:xfrm>
                <a:off x="5634000" y="206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2843280" y="308520"/>
              <a:ext cx="459720" cy="532800"/>
              <a:chOff x="2843280" y="308520"/>
              <a:chExt cx="459720" cy="532800"/>
            </a:xfrm>
          </p:grpSpPr>
          <p:sp>
            <p:nvSpPr>
              <p:cNvPr id="359" name="Freeform 9"/>
              <p:cNvSpPr/>
              <p:nvPr/>
            </p:nvSpPr>
            <p:spPr>
              <a:xfrm rot="1290600">
                <a:off x="2904840" y="415080"/>
                <a:ext cx="244440" cy="38160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10"/>
              <p:cNvSpPr/>
              <p:nvPr/>
            </p:nvSpPr>
            <p:spPr>
              <a:xfrm rot="12367200">
                <a:off x="2986920" y="352440"/>
                <a:ext cx="244440" cy="38232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382320"/>
                  <a:gd name="textAreaBottom" fmla="*/ 382680 h 382320"/>
                </a:gdLst>
                <a:ahLst/>
                <a:rect l="textAreaLeft" t="textAreaTop" r="textAreaRight" b="textAreaBottom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8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11"/>
              <p:cNvSpPr/>
              <p:nvPr/>
            </p:nvSpPr>
            <p:spPr>
              <a:xfrm flipV="1">
                <a:off x="2927160" y="308520"/>
                <a:ext cx="304560" cy="532800"/>
              </a:xfrm>
              <a:prstGeom prst="line">
                <a:avLst/>
              </a:prstGeom>
              <a:ln w="57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2"/>
          <p:cNvGrpSpPr/>
          <p:nvPr/>
        </p:nvGrpSpPr>
        <p:grpSpPr>
          <a:xfrm>
            <a:off x="396720" y="2921040"/>
            <a:ext cx="3527280" cy="952200"/>
            <a:chOff x="396720" y="2921040"/>
            <a:chExt cx="3527280" cy="952200"/>
          </a:xfrm>
        </p:grpSpPr>
        <p:grpSp>
          <p:nvGrpSpPr>
            <p:cNvPr id="364" name="Group 3"/>
            <p:cNvGrpSpPr/>
            <p:nvPr/>
          </p:nvGrpSpPr>
          <p:grpSpPr>
            <a:xfrm>
              <a:off x="1021320" y="2921040"/>
              <a:ext cx="834480" cy="952200"/>
              <a:chOff x="1021320" y="2921040"/>
              <a:chExt cx="834480" cy="952200"/>
            </a:xfrm>
          </p:grpSpPr>
          <p:sp>
            <p:nvSpPr>
              <p:cNvPr id="365" name="Line 4"/>
              <p:cNvSpPr/>
              <p:nvPr/>
            </p:nvSpPr>
            <p:spPr>
              <a:xfrm>
                <a:off x="1042560" y="3429000"/>
                <a:ext cx="64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5"/>
              <p:cNvSpPr/>
              <p:nvPr/>
            </p:nvSpPr>
            <p:spPr>
              <a:xfrm>
                <a:off x="1212480" y="2921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6"/>
              <p:cNvSpPr/>
              <p:nvPr/>
            </p:nvSpPr>
            <p:spPr>
              <a:xfrm>
                <a:off x="1021320" y="3352680"/>
                <a:ext cx="83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x-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7"/>
            <p:cNvGrpSpPr/>
            <p:nvPr/>
          </p:nvGrpSpPr>
          <p:grpSpPr>
            <a:xfrm>
              <a:off x="2267640" y="2946240"/>
              <a:ext cx="834480" cy="927000"/>
              <a:chOff x="2267640" y="2946240"/>
              <a:chExt cx="834480" cy="927000"/>
            </a:xfrm>
          </p:grpSpPr>
          <p:sp>
            <p:nvSpPr>
              <p:cNvPr id="369" name="Line 8"/>
              <p:cNvSpPr/>
              <p:nvPr/>
            </p:nvSpPr>
            <p:spPr>
              <a:xfrm>
                <a:off x="2288880" y="3429000"/>
                <a:ext cx="64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2385720" y="2946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267640" y="3352680"/>
                <a:ext cx="83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-2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Text Box 11"/>
            <p:cNvSpPr/>
            <p:nvPr/>
          </p:nvSpPr>
          <p:spPr>
            <a:xfrm>
              <a:off x="396720" y="3141720"/>
              <a:ext cx="35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2)           +            =4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Group 12"/>
          <p:cNvGrpSpPr/>
          <p:nvPr/>
        </p:nvGrpSpPr>
        <p:grpSpPr>
          <a:xfrm>
            <a:off x="395280" y="1628640"/>
            <a:ext cx="2376360" cy="927000"/>
            <a:chOff x="395280" y="1628640"/>
            <a:chExt cx="2376360" cy="927000"/>
          </a:xfrm>
        </p:grpSpPr>
        <p:grpSp>
          <p:nvGrpSpPr>
            <p:cNvPr id="374" name="Group 13"/>
            <p:cNvGrpSpPr/>
            <p:nvPr/>
          </p:nvGrpSpPr>
          <p:grpSpPr>
            <a:xfrm>
              <a:off x="1042920" y="1628640"/>
              <a:ext cx="730440" cy="927000"/>
              <a:chOff x="1042920" y="1628640"/>
              <a:chExt cx="730440" cy="927000"/>
            </a:xfrm>
          </p:grpSpPr>
          <p:sp>
            <p:nvSpPr>
              <p:cNvPr id="375" name="Line 14"/>
              <p:cNvSpPr/>
              <p:nvPr/>
            </p:nvSpPr>
            <p:spPr>
              <a:xfrm>
                <a:off x="1042920" y="2111400"/>
                <a:ext cx="64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1212840" y="1628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1117080" y="2035080"/>
                <a:ext cx="65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17"/>
            <p:cNvGrpSpPr/>
            <p:nvPr/>
          </p:nvGrpSpPr>
          <p:grpSpPr>
            <a:xfrm>
              <a:off x="2122560" y="1628640"/>
              <a:ext cx="649080" cy="880920"/>
              <a:chOff x="2122560" y="1628640"/>
              <a:chExt cx="649080" cy="880920"/>
            </a:xfrm>
          </p:grpSpPr>
          <p:sp>
            <p:nvSpPr>
              <p:cNvPr id="379" name="Line 18"/>
              <p:cNvSpPr/>
              <p:nvPr/>
            </p:nvSpPr>
            <p:spPr>
              <a:xfrm>
                <a:off x="2122560" y="2111400"/>
                <a:ext cx="649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9"/>
              <p:cNvSpPr/>
              <p:nvPr/>
            </p:nvSpPr>
            <p:spPr>
              <a:xfrm>
                <a:off x="2268000" y="1628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2268000" y="1989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Text Box 21"/>
            <p:cNvSpPr/>
            <p:nvPr/>
          </p:nvSpPr>
          <p:spPr>
            <a:xfrm>
              <a:off x="395280" y="182088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22"/>
          <p:cNvGrpSpPr/>
          <p:nvPr/>
        </p:nvGrpSpPr>
        <p:grpSpPr>
          <a:xfrm>
            <a:off x="468360" y="260280"/>
            <a:ext cx="1871640" cy="914400"/>
            <a:chOff x="468360" y="260280"/>
            <a:chExt cx="1871640" cy="914400"/>
          </a:xfrm>
        </p:grpSpPr>
        <p:pic>
          <p:nvPicPr>
            <p:cNvPr id="384" name="Picture 23" descr="010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8716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24"/>
            <p:cNvSpPr/>
            <p:nvPr/>
          </p:nvSpPr>
          <p:spPr>
            <a:xfrm>
              <a:off x="539640" y="40500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解方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Text Box 25"/>
          <p:cNvSpPr/>
          <p:nvPr/>
        </p:nvSpPr>
        <p:spPr>
          <a:xfrm>
            <a:off x="7196400" y="260280"/>
            <a:ext cx="127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Times New Roman"/>
                <a:ea typeface="华文行楷"/>
              </a:rPr>
              <a:t>随堂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Group 26"/>
          <p:cNvGrpSpPr/>
          <p:nvPr/>
        </p:nvGrpSpPr>
        <p:grpSpPr>
          <a:xfrm>
            <a:off x="358920" y="4365720"/>
            <a:ext cx="8677080" cy="1632960"/>
            <a:chOff x="358920" y="4365720"/>
            <a:chExt cx="8677080" cy="1632960"/>
          </a:xfrm>
        </p:grpSpPr>
        <p:sp>
          <p:nvSpPr>
            <p:cNvPr id="388" name="Text Box 27"/>
            <p:cNvSpPr/>
            <p:nvPr/>
          </p:nvSpPr>
          <p:spPr>
            <a:xfrm>
              <a:off x="358920" y="4365720"/>
              <a:ext cx="8677080" cy="16329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2156"/>
                  </a:srgbClr>
                </a:gs>
                <a:gs pos="100000">
                  <a:srgbClr val="ffff99">
                    <a:alpha val="7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99"/>
                  </a:solidFill>
                  <a:latin typeface="Times New Roman"/>
                  <a:ea typeface="华文行楷"/>
                </a:rPr>
                <a:t>思考题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解关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方程                           产生增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常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值等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    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A)-2       (B)-1       (C ) 1        (D)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Group 28"/>
            <p:cNvGrpSpPr/>
            <p:nvPr/>
          </p:nvGrpSpPr>
          <p:grpSpPr>
            <a:xfrm>
              <a:off x="2627280" y="4726080"/>
              <a:ext cx="2015640" cy="865800"/>
              <a:chOff x="2627280" y="4726080"/>
              <a:chExt cx="2015640" cy="865800"/>
            </a:xfrm>
          </p:grpSpPr>
          <p:grpSp>
            <p:nvGrpSpPr>
              <p:cNvPr id="390" name="Group 29"/>
              <p:cNvGrpSpPr/>
              <p:nvPr/>
            </p:nvGrpSpPr>
            <p:grpSpPr>
              <a:xfrm>
                <a:off x="2627280" y="4726080"/>
                <a:ext cx="720720" cy="820080"/>
                <a:chOff x="2627280" y="4726080"/>
                <a:chExt cx="720720" cy="820080"/>
              </a:xfrm>
            </p:grpSpPr>
            <p:sp>
              <p:nvSpPr>
                <p:cNvPr id="391" name="Line 30"/>
                <p:cNvSpPr/>
                <p:nvPr/>
              </p:nvSpPr>
              <p:spPr>
                <a:xfrm>
                  <a:off x="2627280" y="5157720"/>
                  <a:ext cx="720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31"/>
                <p:cNvSpPr/>
                <p:nvPr/>
              </p:nvSpPr>
              <p:spPr>
                <a:xfrm>
                  <a:off x="2693880" y="4726080"/>
                  <a:ext cx="587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-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Rectangle 32"/>
                <p:cNvSpPr/>
                <p:nvPr/>
              </p:nvSpPr>
              <p:spPr>
                <a:xfrm>
                  <a:off x="2701800" y="5086440"/>
                  <a:ext cx="587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Group 33"/>
              <p:cNvGrpSpPr/>
              <p:nvPr/>
            </p:nvGrpSpPr>
            <p:grpSpPr>
              <a:xfrm>
                <a:off x="3851280" y="4726080"/>
                <a:ext cx="791640" cy="865800"/>
                <a:chOff x="3851280" y="4726080"/>
                <a:chExt cx="791640" cy="865800"/>
              </a:xfrm>
            </p:grpSpPr>
            <p:sp>
              <p:nvSpPr>
                <p:cNvPr id="395" name="Text Box 34"/>
                <p:cNvSpPr/>
                <p:nvPr/>
              </p:nvSpPr>
              <p:spPr>
                <a:xfrm>
                  <a:off x="3995280" y="513216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35"/>
                <p:cNvSpPr/>
                <p:nvPr/>
              </p:nvSpPr>
              <p:spPr>
                <a:xfrm>
                  <a:off x="3851280" y="5157720"/>
                  <a:ext cx="72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Rectangle 36"/>
                <p:cNvSpPr/>
                <p:nvPr/>
              </p:nvSpPr>
              <p:spPr>
                <a:xfrm>
                  <a:off x="4007520" y="4726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Text Box 37"/>
              <p:cNvSpPr/>
              <p:nvPr/>
            </p:nvSpPr>
            <p:spPr>
              <a:xfrm>
                <a:off x="3348000" y="486720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"/>
          <p:cNvSpPr/>
          <p:nvPr/>
        </p:nvSpPr>
        <p:spPr>
          <a:xfrm>
            <a:off x="1306440" y="5791320"/>
            <a:ext cx="358164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539640" y="404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分式方程                    的最简公分母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4"/>
              <p:cNvSpPr txBox="1"/>
              <p:nvPr/>
            </p:nvSpPr>
            <p:spPr>
              <a:xfrm>
                <a:off x="2627280" y="333360"/>
                <a:ext cx="17082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Text Box 5"/>
          <p:cNvSpPr/>
          <p:nvPr/>
        </p:nvSpPr>
        <p:spPr>
          <a:xfrm>
            <a:off x="611280" y="1197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如果                         有增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么增根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6"/>
              <p:cNvSpPr txBox="1"/>
              <p:nvPr/>
            </p:nvSpPr>
            <p:spPr>
              <a:xfrm>
                <a:off x="2050920" y="1125360"/>
                <a:ext cx="2090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Text Box 7"/>
          <p:cNvSpPr/>
          <p:nvPr/>
        </p:nvSpPr>
        <p:spPr>
          <a:xfrm>
            <a:off x="611280" y="2637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若分式方程                             有增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2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8"/>
              <p:cNvSpPr txBox="1"/>
              <p:nvPr/>
            </p:nvSpPr>
            <p:spPr>
              <a:xfrm>
                <a:off x="3132000" y="2637000"/>
                <a:ext cx="2451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Text Box 9"/>
          <p:cNvSpPr/>
          <p:nvPr/>
        </p:nvSpPr>
        <p:spPr>
          <a:xfrm>
            <a:off x="7093080" y="112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X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6948360" y="333360"/>
            <a:ext cx="10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-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395280" y="378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析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1619280" y="378936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分式方程去分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边同乘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-4)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(x+2)+4=0     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1546200" y="465300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代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整式方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a+4=0,   a=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042920" y="558972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x=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原方程的增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2124000" y="3141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-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611280" y="1916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关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方程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解是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=     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17"/>
              <p:cNvSpPr txBox="1"/>
              <p:nvPr/>
            </p:nvSpPr>
            <p:spPr>
              <a:xfrm>
                <a:off x="3276720" y="1844640"/>
                <a:ext cx="8636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18"/>
              <p:cNvSpPr txBox="1"/>
              <p:nvPr/>
            </p:nvSpPr>
            <p:spPr>
              <a:xfrm>
                <a:off x="6227640" y="1844640"/>
                <a:ext cx="2667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7" name="Text Box 19"/>
          <p:cNvSpPr/>
          <p:nvPr/>
        </p:nvSpPr>
        <p:spPr>
          <a:xfrm>
            <a:off x="7380360" y="1844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"/>
          <p:cNvSpPr/>
          <p:nvPr/>
        </p:nvSpPr>
        <p:spPr>
          <a:xfrm>
            <a:off x="0" y="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509760" y="15228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情景问题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0" y="6858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艘轮船在静水中的最大航速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它沿江最大航速顺流航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所用时间，与以最大航速逆流航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所用时间相等，江水的水流速度为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400320" y="2133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371600" y="1981080"/>
            <a:ext cx="7010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设江水的水流速度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轮船顺流航行的速度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_____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逆流航行的速度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_____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流航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千米所用时间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逆流航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千米所用时间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4955760" y="228600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20+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345560" y="274320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20-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8"/>
              <p:cNvSpPr txBox="1"/>
              <p:nvPr/>
            </p:nvSpPr>
            <p:spPr>
              <a:xfrm>
                <a:off x="2895480" y="4648320"/>
                <a:ext cx="255456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9"/>
              <p:cNvSpPr txBox="1"/>
              <p:nvPr/>
            </p:nvSpPr>
            <p:spPr>
              <a:xfrm>
                <a:off x="5867280" y="4114800"/>
                <a:ext cx="99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6019920" y="3048120"/>
                <a:ext cx="9903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Text Box 11"/>
          <p:cNvSpPr/>
          <p:nvPr/>
        </p:nvSpPr>
        <p:spPr>
          <a:xfrm>
            <a:off x="662040" y="472428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列得方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57200" y="5715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分式方程</a:t>
            </a:r>
            <a:r>
              <a:rPr b="0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分母含有未知数的方程</a:t>
            </a:r>
            <a:r>
              <a:rPr b="0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533520" y="990720"/>
            <a:ext cx="799920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一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方程中属于分式方程的有（                   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属于一元分式方程的有（               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                ②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③                 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+2x-1=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6084720" y="162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① 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859280" y="2276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666880" y="380880"/>
            <a:ext cx="38862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巩  固  定  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Object 6"/>
          <p:cNvGraphicFramePr/>
          <p:nvPr/>
        </p:nvGraphicFramePr>
        <p:xfrm>
          <a:off x="1403280" y="2924280"/>
          <a:ext cx="2016360" cy="93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924280"/>
                    <a:ext cx="20163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7"/>
          <p:cNvGraphicFramePr/>
          <p:nvPr/>
        </p:nvGraphicFramePr>
        <p:xfrm>
          <a:off x="4572000" y="2852640"/>
          <a:ext cx="2592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852640"/>
                    <a:ext cx="2592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8"/>
          <p:cNvGraphicFramePr/>
          <p:nvPr/>
        </p:nvGraphicFramePr>
        <p:xfrm>
          <a:off x="1332000" y="4076640"/>
          <a:ext cx="2160360" cy="115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4076640"/>
                    <a:ext cx="2160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2987640" y="476280"/>
                <a:ext cx="1944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Text Box 5"/>
          <p:cNvSpPr/>
          <p:nvPr/>
        </p:nvSpPr>
        <p:spPr>
          <a:xfrm>
            <a:off x="250920" y="1484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怎样才能解这个方程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说说你的想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24000" y="227664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两边同乘以                                  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2362320" y="2286000"/>
                <a:ext cx="27194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AutoShape 8"/>
          <p:cNvSpPr/>
          <p:nvPr/>
        </p:nvSpPr>
        <p:spPr>
          <a:xfrm>
            <a:off x="5219640" y="333360"/>
            <a:ext cx="2737080" cy="1584360"/>
          </a:xfrm>
          <a:prstGeom prst="wedgeRectCallout">
            <a:avLst>
              <a:gd name="adj1" fmla="val -48953"/>
              <a:gd name="adj2" fmla="val 8366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这个是什么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0"/>
              <p:cNvSpPr txBox="1"/>
              <p:nvPr/>
            </p:nvSpPr>
            <p:spPr>
              <a:xfrm>
                <a:off x="1447920" y="2819520"/>
                <a:ext cx="446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Text Box 11"/>
          <p:cNvSpPr/>
          <p:nvPr/>
        </p:nvSpPr>
        <p:spPr>
          <a:xfrm>
            <a:off x="539640" y="36450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解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:                      v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457200" y="419112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检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v=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代入原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左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=4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右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因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v=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分式方程的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4716360" y="476280"/>
            <a:ext cx="2664000" cy="1511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各分母的最简公分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04920" y="563868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解一元一次方程的一般步骤是什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解分式方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方程两边都乘以最简公分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+1)(x-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+1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这个整式方程，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3809880" y="685800"/>
            <a:ext cx="2448000" cy="100332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5"/>
          <p:cNvGrpSpPr/>
          <p:nvPr/>
        </p:nvGrpSpPr>
        <p:grpSpPr>
          <a:xfrm>
            <a:off x="324000" y="4221000"/>
            <a:ext cx="8424720" cy="1937880"/>
            <a:chOff x="324000" y="4221000"/>
            <a:chExt cx="8424720" cy="1937880"/>
          </a:xfrm>
        </p:grpSpPr>
        <p:sp>
          <p:nvSpPr>
            <p:cNvPr id="295" name="Text Box 6"/>
            <p:cNvSpPr/>
            <p:nvPr/>
          </p:nvSpPr>
          <p:spPr>
            <a:xfrm>
              <a:off x="324000" y="4221000"/>
              <a:ext cx="842472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把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=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代入原分式方程检验，结果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=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使分式方程式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    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的分母的值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这两个分式没有意义，因此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=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不是原分式方程的根。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Picture 7" descr=""/>
            <p:cNvPicPr/>
            <p:nvPr/>
          </p:nvPicPr>
          <p:blipFill>
            <a:blip r:embed="rId2"/>
            <a:stretch/>
          </p:blipFill>
          <p:spPr>
            <a:xfrm>
              <a:off x="755640" y="4869000"/>
              <a:ext cx="194472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762120" y="3049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分式方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762120" y="9907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  方程两边同乘以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最简公分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(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762120" y="2286000"/>
            <a:ext cx="60195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整式方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685800" y="297180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检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-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代入原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685800" y="3581280"/>
            <a:ext cx="66294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果使原方程的最简公分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=0 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式无意义，因此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是原方程的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609480" y="4572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900000" y="46530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方程无解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04920" y="1676520"/>
            <a:ext cx="549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307800" y="1676520"/>
            <a:ext cx="546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1"/>
          <p:cNvSpPr/>
          <p:nvPr/>
        </p:nvSpPr>
        <p:spPr>
          <a:xfrm>
            <a:off x="5410080" y="1523880"/>
            <a:ext cx="2819520" cy="12193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900000" y="1700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  （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-1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5x+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3"/>
              <p:cNvSpPr txBox="1"/>
              <p:nvPr/>
            </p:nvSpPr>
            <p:spPr>
              <a:xfrm>
                <a:off x="3708360" y="26028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1" name="Text Box 15"/>
          <p:cNvSpPr/>
          <p:nvPr/>
        </p:nvSpPr>
        <p:spPr>
          <a:xfrm>
            <a:off x="5486400" y="304920"/>
            <a:ext cx="792000" cy="581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4430880" y="1700280"/>
            <a:ext cx="2277720" cy="5205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(x+1)(x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17"/>
          <p:cNvSpPr/>
          <p:nvPr/>
        </p:nvSpPr>
        <p:spPr>
          <a:xfrm>
            <a:off x="7093080" y="4365720"/>
            <a:ext cx="1224000" cy="720720"/>
          </a:xfrm>
          <a:prstGeom prst="wedgeRoundRectCallout">
            <a:avLst>
              <a:gd name="adj1" fmla="val -179833"/>
              <a:gd name="adj2" fmla="val -122027"/>
              <a:gd name="adj3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增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18"/>
          <p:cNvSpPr/>
          <p:nvPr/>
        </p:nvSpPr>
        <p:spPr>
          <a:xfrm>
            <a:off x="5003640" y="2565360"/>
            <a:ext cx="3745080" cy="1655640"/>
          </a:xfrm>
          <a:prstGeom prst="wedgeRectCallout">
            <a:avLst>
              <a:gd name="adj1" fmla="val -58731"/>
              <a:gd name="adj2" fmla="val -76560"/>
            </a:avLst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2x+1=5x+9+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-7x=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x=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95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隶书"/>
                <a:ea typeface="隶书"/>
              </a:rPr>
              <a:t>增根与验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3">
            <a:hlinkClick r:id="" action="ppaction://hlinkshowjump?jump=previousslide"/>
          </p:cNvPr>
          <p:cNvSpPr/>
          <p:nvPr/>
        </p:nvSpPr>
        <p:spPr>
          <a:xfrm>
            <a:off x="685800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10800"/>
                </a:moveTo>
                <a:lnTo>
                  <a:pt x="20203" y="3794"/>
                </a:lnTo>
                <a:lnTo>
                  <a:pt x="20203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4">
            <a:hlinkClick r:id="" action="ppaction://hlinkshowjump?jump=nextslide"/>
          </p:cNvPr>
          <p:cNvSpPr/>
          <p:nvPr/>
        </p:nvSpPr>
        <p:spPr>
          <a:xfrm>
            <a:off x="769608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5">
            <a:hlinkClick r:id="rId1" action="ppaction://hlinksldjump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4995" y="17806"/>
                </a:lnTo>
                <a:lnTo>
                  <a:pt x="4995" y="3794"/>
                </a:lnTo>
                <a:close/>
              </a:path>
              <a:path fill="darken" w="24003" h="21600">
                <a:moveTo>
                  <a:pt x="17345" y="3794"/>
                </a:moveTo>
                <a:lnTo>
                  <a:pt x="17345" y="17806"/>
                </a:lnTo>
                <a:lnTo>
                  <a:pt x="19008" y="17806"/>
                </a:lnTo>
                <a:lnTo>
                  <a:pt x="19008" y="3794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上面的方程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x=-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是原方程的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因为它使得原分式方程的分母为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你它为原方程的 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增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产生增根的原因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在方程的两边同乘了一个可能使分母为零的整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因此解分式方程可能产生增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以解分式方程 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必须检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"/>
          <p:cNvSpPr txBox="1"/>
          <p:nvPr/>
        </p:nvSpPr>
        <p:spPr>
          <a:xfrm>
            <a:off x="309600" y="227160"/>
            <a:ext cx="2246400" cy="68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总结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116000" y="10810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一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. 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通过例题的讲解和练习的操作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你能总结出解分式方程的一般步骤吗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249200" y="2314440"/>
            <a:ext cx="72010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解分式方程的一般步骤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在方程的两边都乘以最简公分母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化成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____________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方程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解这个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____________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方程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检验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把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__________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方程的根代入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____________.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如果值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_________,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就是原方程的根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;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如果值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__________,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就是增根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应当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5"/>
          <p:cNvGrpSpPr/>
          <p:nvPr/>
        </p:nvGrpSpPr>
        <p:grpSpPr>
          <a:xfrm>
            <a:off x="1898640" y="3325680"/>
            <a:ext cx="5872320" cy="3092400"/>
            <a:chOff x="1898640" y="3325680"/>
            <a:chExt cx="5872320" cy="3092400"/>
          </a:xfrm>
        </p:grpSpPr>
        <p:sp>
          <p:nvSpPr>
            <p:cNvPr id="326" name="Text Box 6"/>
            <p:cNvSpPr/>
            <p:nvPr/>
          </p:nvSpPr>
          <p:spPr>
            <a:xfrm>
              <a:off x="2424240" y="332568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整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7"/>
            <p:cNvSpPr/>
            <p:nvPr/>
          </p:nvSpPr>
          <p:spPr>
            <a:xfrm>
              <a:off x="3832200" y="394344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整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8"/>
            <p:cNvSpPr/>
            <p:nvPr/>
          </p:nvSpPr>
          <p:spPr>
            <a:xfrm>
              <a:off x="3409920" y="459108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这个整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9"/>
            <p:cNvSpPr/>
            <p:nvPr/>
          </p:nvSpPr>
          <p:spPr>
            <a:xfrm>
              <a:off x="1898640" y="5043600"/>
              <a:ext cx="25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最简公分母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10"/>
            <p:cNvSpPr/>
            <p:nvPr/>
          </p:nvSpPr>
          <p:spPr>
            <a:xfrm>
              <a:off x="5899320" y="503388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不为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1"/>
            <p:cNvSpPr/>
            <p:nvPr/>
          </p:nvSpPr>
          <p:spPr>
            <a:xfrm>
              <a:off x="5784840" y="547704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为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2"/>
            <p:cNvSpPr/>
            <p:nvPr/>
          </p:nvSpPr>
          <p:spPr>
            <a:xfrm>
              <a:off x="3789360" y="589752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舍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Rectangle 13"/>
          <p:cNvSpPr/>
          <p:nvPr/>
        </p:nvSpPr>
        <p:spPr>
          <a:xfrm>
            <a:off x="2771640" y="1890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3657600" y="41148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3238560" y="1143000"/>
            <a:ext cx="2019240" cy="3126600"/>
            <a:chOff x="3238560" y="1143000"/>
            <a:chExt cx="2019240" cy="3126600"/>
          </a:xfrm>
        </p:grpSpPr>
        <p:sp>
          <p:nvSpPr>
            <p:cNvPr id="337" name="Text Box 4"/>
            <p:cNvSpPr/>
            <p:nvPr/>
          </p:nvSpPr>
          <p:spPr>
            <a:xfrm>
              <a:off x="3429000" y="11430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分式方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5"/>
            <p:cNvSpPr/>
            <p:nvPr/>
          </p:nvSpPr>
          <p:spPr>
            <a:xfrm>
              <a:off x="3675960" y="1600200"/>
              <a:ext cx="9118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去分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6"/>
            <p:cNvSpPr/>
            <p:nvPr/>
          </p:nvSpPr>
          <p:spPr>
            <a:xfrm>
              <a:off x="3505320" y="2590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整式方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7"/>
            <p:cNvSpPr/>
            <p:nvPr/>
          </p:nvSpPr>
          <p:spPr>
            <a:xfrm>
              <a:off x="3238560" y="3200400"/>
              <a:ext cx="20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解整式方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8"/>
            <p:cNvSpPr/>
            <p:nvPr/>
          </p:nvSpPr>
          <p:spPr>
            <a:xfrm>
              <a:off x="3733920" y="38098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检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9"/>
            <p:cNvSpPr/>
            <p:nvPr/>
          </p:nvSpPr>
          <p:spPr>
            <a:xfrm>
              <a:off x="4114800" y="1523880"/>
              <a:ext cx="0" cy="1143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0"/>
            <p:cNvSpPr/>
            <p:nvPr/>
          </p:nvSpPr>
          <p:spPr>
            <a:xfrm>
              <a:off x="4114800" y="2895480"/>
              <a:ext cx="0" cy="381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1"/>
            <p:cNvSpPr/>
            <p:nvPr/>
          </p:nvSpPr>
          <p:spPr>
            <a:xfrm>
              <a:off x="4114800" y="3581280"/>
              <a:ext cx="0" cy="381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4:14:24Z</dcterms:created>
  <dc:creator>kejianyuan.com</dc:creator>
  <dc:description>kejianyuan.com</dc:description>
  <cp:keywords>kejianyuan.com</cp:keywords>
  <dc:language>en-US</dc:language>
  <cp:lastModifiedBy/>
  <dcterms:modified xsi:type="dcterms:W3CDTF">2014-09-10T16:21:34Z</dcterms:modified>
  <cp:revision>4</cp:revision>
  <dc:subject>人教版八年级数学（下）全套课件</dc:subject>
  <dc:title>人教版八年级数学（下）全套课件</dc:title>
</cp:coreProperties>
</file>