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7E8C-C450-4AB1-BF89-A185EFC6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131B-63F4-42E5-9719-B5A7516F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A8E3-D858-46D7-BADD-D4A6D7D7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119-61F5-403E-9ACD-E550E3F9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7190-5758-4BAF-992D-99638E14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7018-73F6-44FC-9421-C2866A77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660C-6DDB-4331-ABD7-B33EC1C1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285C-4D1C-4827-A489-F51B647F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4676-1EFF-478B-9440-9B404F55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366C-D4E9-49E9-A786-B2A939C3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6DFD-BED0-4A65-B2B2-784E179A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EA78-8F0B-4979-BC97-7A030170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83A1-1661-46AC-AA97-53B33D48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CF03-D463-44B1-8D5B-396FD29B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5949-EE44-4590-A5E8-632CAA05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F59E-8D11-47D9-9006-EB4DFF86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BF88-6FF2-40E8-86B4-0B909983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D1C1-7E05-4F61-B386-88C8771E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5AE-699A-4893-BE62-717BC4E3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3A55-A672-417C-9EF9-2392293A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22D8-A8D8-4AC2-B509-A2C0BF11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56C6-3BF7-4BDC-B2D7-6BCB8933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3AA5-E90D-4FBF-AAF1-BCCA71F6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697D-21CD-405E-A980-D1D2247D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49D7-60B7-4799-9DAF-67222069D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15C5-4205-4E70-A794-0B24BF5F7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304920" y="2438280"/>
            <a:ext cx="79246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8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实际问题与反比例函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1813320" y="2057400"/>
            <a:ext cx="5720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气球充满了一定质量的气体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温度不变时，气球内的气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(kPa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气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反比例函数。当气球体积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8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气球内的气压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0 kPa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写出这一函数表达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当气体体积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气压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当气球内气压大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2 kP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气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爆炸。为安全起见，气球体积应小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WordArt 3"/>
          <p:cNvSpPr txBox="1"/>
          <p:nvPr/>
        </p:nvSpPr>
        <p:spPr>
          <a:xfrm>
            <a:off x="380880" y="380880"/>
            <a:ext cx="3657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临时课堂二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457200" y="274680"/>
            <a:ext cx="830592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思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一个圆台形物体的上底面积是下底面积的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/3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，如图放在桌面的压强是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00P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，若翻过来放，对桌面的压强是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3505320" y="2971800"/>
            <a:ext cx="137160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2971800" y="4952880"/>
            <a:ext cx="2438280" cy="4572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7"/>
          <p:cNvSpPr/>
          <p:nvPr/>
        </p:nvSpPr>
        <p:spPr>
          <a:xfrm>
            <a:off x="4876920" y="3124080"/>
            <a:ext cx="533160" cy="20574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 flipH="1">
            <a:off x="2971800" y="3124080"/>
            <a:ext cx="533520" cy="20574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WordArt 3"/>
          <p:cNvSpPr txBox="1"/>
          <p:nvPr/>
        </p:nvSpPr>
        <p:spPr>
          <a:xfrm>
            <a:off x="1600200" y="1676520"/>
            <a:ext cx="54864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http://www.pep.com.cn/images/200503/pic_219043.jpg"/>
          <p:cNvPicPr/>
          <p:nvPr/>
        </p:nvPicPr>
        <p:blipFill>
          <a:blip r:embed="rId1"/>
          <a:srcRect l="12385" t="31776" r="65422" b="55939"/>
          <a:stretch/>
        </p:blipFill>
        <p:spPr>
          <a:xfrm>
            <a:off x="7391520" y="3962520"/>
            <a:ext cx="1447560" cy="2895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380880" y="165240"/>
            <a:ext cx="853452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例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码头工人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每天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吨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速度往一艘轮船上装载货物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把轮船装载完毕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恰好用了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天时间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轮船到达目的地后开始卸货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卸货速度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单位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吨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天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卸货时间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单位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天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之间有怎样的函数关系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由于遇到紧急情况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船上的货物必须在不超过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日内卸载完毕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那么平均每天至少要卸多少吨货物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066680" y="480060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装货速度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装货时间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货物的总量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，可以求出轮船装载货物的总量；再根据卸货速度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货物的总量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÷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卸货时间，得到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v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的函数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WordArt 5"/>
          <p:cNvSpPr txBox="1"/>
          <p:nvPr/>
        </p:nvSpPr>
        <p:spPr>
          <a:xfrm rot="5400000">
            <a:off x="-457560" y="5105160"/>
            <a:ext cx="205740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分析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57200" y="30492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练</a:t>
            </a:r>
            <a:r>
              <a:rPr b="1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1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某蓄水池的排水管每小时排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8m</a:t>
            </a:r>
            <a:r>
              <a:rPr b="1" lang="en-US" sz="3600" spc="-1" strike="noStrike" baseline="30000">
                <a:solidFill>
                  <a:srgbClr val="333399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， 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6h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可将满池水全部排空。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457200" y="19810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蓄水池的容积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04920" y="28954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⑵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如果增加排水管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使每小时排水量达到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Q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m</a:t>
            </a:r>
            <a:r>
              <a:rPr b="1" lang="en-US" sz="3200" spc="-1" strike="noStrike" baseline="30000">
                <a:solidFill>
                  <a:srgbClr val="333399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，将满池水排空所需时间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t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h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求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Q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与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t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之间的函数关系式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80880" y="46483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(3)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如果准备在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小时内将满池水排空，那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每小时的排水量至少为多少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2"/>
          <p:cNvSpPr txBox="1"/>
          <p:nvPr/>
        </p:nvSpPr>
        <p:spPr>
          <a:xfrm>
            <a:off x="685800" y="380880"/>
            <a:ext cx="2209680" cy="8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背景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609480" y="3962520"/>
            <a:ext cx="7239240" cy="1800360"/>
            <a:chOff x="609480" y="3962520"/>
            <a:chExt cx="7239240" cy="1800360"/>
          </a:xfrm>
        </p:grpSpPr>
        <p:sp>
          <p:nvSpPr>
            <p:cNvPr id="98" name="Line 5"/>
            <p:cNvSpPr/>
            <p:nvPr/>
          </p:nvSpPr>
          <p:spPr>
            <a:xfrm>
              <a:off x="1600200" y="4800600"/>
              <a:ext cx="510552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3352680" y="4800600"/>
              <a:ext cx="457200" cy="3042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7"/>
            <p:cNvSpPr/>
            <p:nvPr/>
          </p:nvSpPr>
          <p:spPr>
            <a:xfrm>
              <a:off x="1600200" y="396252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8"/>
            <p:cNvSpPr/>
            <p:nvPr/>
          </p:nvSpPr>
          <p:spPr>
            <a:xfrm>
              <a:off x="6705720" y="396252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9"/>
            <p:cNvSpPr/>
            <p:nvPr/>
          </p:nvSpPr>
          <p:spPr>
            <a:xfrm>
              <a:off x="609480" y="411480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阻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6705720" y="41148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动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1600200" y="4800600"/>
              <a:ext cx="1981080" cy="30420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1248" h="192">
                  <a:moveTo>
                    <a:pt x="0" y="0"/>
                  </a:moveTo>
                  <a:cubicBezTo>
                    <a:pt x="16" y="40"/>
                    <a:pt x="32" y="80"/>
                    <a:pt x="96" y="96"/>
                  </a:cubicBezTo>
                  <a:cubicBezTo>
                    <a:pt x="160" y="112"/>
                    <a:pt x="328" y="80"/>
                    <a:pt x="384" y="96"/>
                  </a:cubicBezTo>
                  <a:cubicBezTo>
                    <a:pt x="440" y="112"/>
                    <a:pt x="408" y="192"/>
                    <a:pt x="432" y="192"/>
                  </a:cubicBezTo>
                  <a:cubicBezTo>
                    <a:pt x="456" y="192"/>
                    <a:pt x="424" y="112"/>
                    <a:pt x="528" y="96"/>
                  </a:cubicBezTo>
                  <a:cubicBezTo>
                    <a:pt x="632" y="80"/>
                    <a:pt x="936" y="112"/>
                    <a:pt x="1056" y="96"/>
                  </a:cubicBezTo>
                  <a:cubicBezTo>
                    <a:pt x="1176" y="80"/>
                    <a:pt x="1212" y="40"/>
                    <a:pt x="124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1523880" y="518148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阻力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3"/>
            <p:cNvSpPr/>
            <p:nvPr/>
          </p:nvSpPr>
          <p:spPr>
            <a:xfrm>
              <a:off x="3581280" y="4800600"/>
              <a:ext cx="3124440" cy="30420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1968" h="192">
                  <a:moveTo>
                    <a:pt x="0" y="0"/>
                  </a:moveTo>
                  <a:cubicBezTo>
                    <a:pt x="28" y="40"/>
                    <a:pt x="56" y="80"/>
                    <a:pt x="192" y="96"/>
                  </a:cubicBezTo>
                  <a:cubicBezTo>
                    <a:pt x="328" y="112"/>
                    <a:pt x="696" y="80"/>
                    <a:pt x="816" y="96"/>
                  </a:cubicBezTo>
                  <a:cubicBezTo>
                    <a:pt x="936" y="112"/>
                    <a:pt x="864" y="192"/>
                    <a:pt x="912" y="192"/>
                  </a:cubicBezTo>
                  <a:cubicBezTo>
                    <a:pt x="960" y="192"/>
                    <a:pt x="968" y="112"/>
                    <a:pt x="1104" y="96"/>
                  </a:cubicBezTo>
                  <a:cubicBezTo>
                    <a:pt x="1240" y="80"/>
                    <a:pt x="1584" y="112"/>
                    <a:pt x="1728" y="96"/>
                  </a:cubicBezTo>
                  <a:cubicBezTo>
                    <a:pt x="1872" y="80"/>
                    <a:pt x="1920" y="40"/>
                    <a:pt x="196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4876920" y="51814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动力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18"/>
          <p:cNvGrpSpPr/>
          <p:nvPr/>
        </p:nvGrpSpPr>
        <p:grpSpPr>
          <a:xfrm>
            <a:off x="457200" y="1447920"/>
            <a:ext cx="8305920" cy="2242800"/>
            <a:chOff x="457200" y="1447920"/>
            <a:chExt cx="8305920" cy="2242800"/>
          </a:xfrm>
        </p:grpSpPr>
        <p:sp>
          <p:nvSpPr>
            <p:cNvPr id="109" name="Text Box 4"/>
            <p:cNvSpPr/>
            <p:nvPr/>
          </p:nvSpPr>
          <p:spPr>
            <a:xfrm>
              <a:off x="457200" y="1447920"/>
              <a:ext cx="83059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</a:rPr>
                <a:t>公元前</a:t>
              </a:r>
              <a:r>
                <a:rPr b="1" lang="en-US" sz="2800" spc="-1" strike="noStrike">
                  <a:solidFill>
                    <a:srgbClr val="80808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</a:rPr>
                <a:t>世纪</a:t>
              </a:r>
              <a:r>
                <a:rPr b="1" lang="en-US" sz="28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</a:rPr>
                <a:t>古希腊科学家阿基米德发现了著名的“杠杆定律”</a:t>
              </a:r>
              <a:r>
                <a:rPr b="1" lang="en-US" sz="2800" spc="-1" strike="noStrike">
                  <a:solidFill>
                    <a:srgbClr val="808080"/>
                  </a:solidFill>
                  <a:latin typeface="Times New Roman"/>
                </a:rPr>
                <a:t>:</a:t>
              </a: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</a:rPr>
                <a:t>若两物体与支点的距离反比于重量</a:t>
              </a:r>
              <a:r>
                <a:rPr b="1" lang="en-US" sz="28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</a:rPr>
                <a:t>则杠杆平衡</a:t>
              </a:r>
              <a:r>
                <a:rPr b="1" lang="en-US" sz="2800" spc="-1" strike="noStrike">
                  <a:solidFill>
                    <a:srgbClr val="808080"/>
                  </a:solidFill>
                  <a:latin typeface="Times New Roman"/>
                </a:rPr>
                <a:t>.</a:t>
              </a: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</a:rPr>
                <a:t>通俗一点可以描述为</a:t>
              </a:r>
              <a:r>
                <a:rPr b="1" lang="en-US" sz="2800" spc="-1" strike="noStrike">
                  <a:solidFill>
                    <a:srgbClr val="808080"/>
                  </a:solidFill>
                  <a:latin typeface="Times New Roman"/>
                </a:rPr>
                <a:t>: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16"/>
            <p:cNvSpPr/>
            <p:nvPr/>
          </p:nvSpPr>
          <p:spPr>
            <a:xfrm>
              <a:off x="762120" y="3048120"/>
              <a:ext cx="693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阻力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×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阻力臂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=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动力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×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动力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16"/>
          <p:cNvGrpSpPr/>
          <p:nvPr/>
        </p:nvGrpSpPr>
        <p:grpSpPr>
          <a:xfrm>
            <a:off x="838080" y="304920"/>
            <a:ext cx="7239240" cy="1754640"/>
            <a:chOff x="838080" y="304920"/>
            <a:chExt cx="7239240" cy="1754640"/>
          </a:xfrm>
        </p:grpSpPr>
        <p:grpSp>
          <p:nvGrpSpPr>
            <p:cNvPr id="113" name="Group 15"/>
            <p:cNvGrpSpPr/>
            <p:nvPr/>
          </p:nvGrpSpPr>
          <p:grpSpPr>
            <a:xfrm>
              <a:off x="838080" y="838080"/>
              <a:ext cx="7239240" cy="1221480"/>
              <a:chOff x="838080" y="838080"/>
              <a:chExt cx="7239240" cy="1221480"/>
            </a:xfrm>
          </p:grpSpPr>
          <p:sp>
            <p:nvSpPr>
              <p:cNvPr id="114" name="Line 4"/>
              <p:cNvSpPr/>
              <p:nvPr/>
            </p:nvSpPr>
            <p:spPr>
              <a:xfrm>
                <a:off x="1828800" y="1361880"/>
                <a:ext cx="5105520" cy="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AutoShape 5"/>
              <p:cNvSpPr/>
              <p:nvPr/>
            </p:nvSpPr>
            <p:spPr>
              <a:xfrm>
                <a:off x="3581280" y="1361880"/>
                <a:ext cx="457200" cy="19044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6"/>
              <p:cNvSpPr/>
              <p:nvPr/>
            </p:nvSpPr>
            <p:spPr>
              <a:xfrm>
                <a:off x="1828800" y="838080"/>
                <a:ext cx="0" cy="523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7"/>
              <p:cNvSpPr/>
              <p:nvPr/>
            </p:nvSpPr>
            <p:spPr>
              <a:xfrm>
                <a:off x="6934320" y="838080"/>
                <a:ext cx="0" cy="523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8"/>
              <p:cNvSpPr/>
              <p:nvPr/>
            </p:nvSpPr>
            <p:spPr>
              <a:xfrm>
                <a:off x="838080" y="93312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阻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9"/>
              <p:cNvSpPr/>
              <p:nvPr/>
            </p:nvSpPr>
            <p:spPr>
              <a:xfrm>
                <a:off x="6934320" y="9331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动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Freeform 10"/>
              <p:cNvSpPr/>
              <p:nvPr/>
            </p:nvSpPr>
            <p:spPr>
              <a:xfrm>
                <a:off x="1828800" y="1361880"/>
                <a:ext cx="1981080" cy="19044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1248" h="192">
                    <a:moveTo>
                      <a:pt x="0" y="0"/>
                    </a:moveTo>
                    <a:cubicBezTo>
                      <a:pt x="16" y="40"/>
                      <a:pt x="32" y="80"/>
                      <a:pt x="96" y="96"/>
                    </a:cubicBezTo>
                    <a:cubicBezTo>
                      <a:pt x="160" y="112"/>
                      <a:pt x="328" y="80"/>
                      <a:pt x="384" y="96"/>
                    </a:cubicBezTo>
                    <a:cubicBezTo>
                      <a:pt x="440" y="112"/>
                      <a:pt x="408" y="192"/>
                      <a:pt x="432" y="192"/>
                    </a:cubicBezTo>
                    <a:cubicBezTo>
                      <a:pt x="456" y="192"/>
                      <a:pt x="424" y="112"/>
                      <a:pt x="528" y="96"/>
                    </a:cubicBezTo>
                    <a:cubicBezTo>
                      <a:pt x="632" y="80"/>
                      <a:pt x="936" y="112"/>
                      <a:pt x="1056" y="96"/>
                    </a:cubicBezTo>
                    <a:cubicBezTo>
                      <a:pt x="1176" y="80"/>
                      <a:pt x="1212" y="40"/>
                      <a:pt x="124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11"/>
              <p:cNvSpPr/>
              <p:nvPr/>
            </p:nvSpPr>
            <p:spPr>
              <a:xfrm>
                <a:off x="1752480" y="1599840"/>
                <a:ext cx="167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阻力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Freeform 12"/>
              <p:cNvSpPr/>
              <p:nvPr/>
            </p:nvSpPr>
            <p:spPr>
              <a:xfrm>
                <a:off x="3809880" y="1361880"/>
                <a:ext cx="3124440" cy="190440"/>
              </a:xfrm>
              <a:custGeom>
                <a:avLst/>
                <a:gdLst>
                  <a:gd name="textAreaLeft" fmla="*/ 0 w 3124440"/>
                  <a:gd name="textAreaRight" fmla="*/ 3124800 w 312444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1968" h="192">
                    <a:moveTo>
                      <a:pt x="0" y="0"/>
                    </a:moveTo>
                    <a:cubicBezTo>
                      <a:pt x="28" y="40"/>
                      <a:pt x="56" y="80"/>
                      <a:pt x="192" y="96"/>
                    </a:cubicBezTo>
                    <a:cubicBezTo>
                      <a:pt x="328" y="112"/>
                      <a:pt x="696" y="80"/>
                      <a:pt x="816" y="96"/>
                    </a:cubicBezTo>
                    <a:cubicBezTo>
                      <a:pt x="936" y="112"/>
                      <a:pt x="864" y="192"/>
                      <a:pt x="912" y="192"/>
                    </a:cubicBezTo>
                    <a:cubicBezTo>
                      <a:pt x="960" y="192"/>
                      <a:pt x="968" y="112"/>
                      <a:pt x="1104" y="96"/>
                    </a:cubicBezTo>
                    <a:cubicBezTo>
                      <a:pt x="1240" y="80"/>
                      <a:pt x="1584" y="112"/>
                      <a:pt x="1728" y="96"/>
                    </a:cubicBezTo>
                    <a:cubicBezTo>
                      <a:pt x="1872" y="80"/>
                      <a:pt x="1920" y="40"/>
                      <a:pt x="19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13"/>
              <p:cNvSpPr/>
              <p:nvPr/>
            </p:nvSpPr>
            <p:spPr>
              <a:xfrm>
                <a:off x="5105520" y="159984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动力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Text Box 14"/>
            <p:cNvSpPr/>
            <p:nvPr/>
          </p:nvSpPr>
          <p:spPr>
            <a:xfrm>
              <a:off x="1981080" y="304920"/>
              <a:ext cx="518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阻力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×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阻力臂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=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动力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×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动力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Text Box 17"/>
          <p:cNvSpPr/>
          <p:nvPr/>
        </p:nvSpPr>
        <p:spPr>
          <a:xfrm>
            <a:off x="457200" y="2590920"/>
            <a:ext cx="83818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小伟欲用撬棍撬动一块大石头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已知阻力和阻力臂不变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分别为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20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牛顿和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0.5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米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动力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F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与动力臂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有怎样的函数关系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?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当动力臂为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5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米时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撬动石头至少需要多大的力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若想使动力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不超过题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中所用力的一半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则动力臂至少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加长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多少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838080" y="304920"/>
            <a:ext cx="7239240" cy="1754640"/>
            <a:chOff x="838080" y="304920"/>
            <a:chExt cx="7239240" cy="1754640"/>
          </a:xfrm>
        </p:grpSpPr>
        <p:grpSp>
          <p:nvGrpSpPr>
            <p:cNvPr id="128" name="Group 3"/>
            <p:cNvGrpSpPr/>
            <p:nvPr/>
          </p:nvGrpSpPr>
          <p:grpSpPr>
            <a:xfrm>
              <a:off x="838080" y="838080"/>
              <a:ext cx="7239240" cy="1221480"/>
              <a:chOff x="838080" y="838080"/>
              <a:chExt cx="7239240" cy="1221480"/>
            </a:xfrm>
          </p:grpSpPr>
          <p:sp>
            <p:nvSpPr>
              <p:cNvPr id="129" name="Line 4"/>
              <p:cNvSpPr/>
              <p:nvPr/>
            </p:nvSpPr>
            <p:spPr>
              <a:xfrm>
                <a:off x="1828800" y="1361880"/>
                <a:ext cx="5105520" cy="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AutoShape 5"/>
              <p:cNvSpPr/>
              <p:nvPr/>
            </p:nvSpPr>
            <p:spPr>
              <a:xfrm>
                <a:off x="3581280" y="1361880"/>
                <a:ext cx="457200" cy="19044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6"/>
              <p:cNvSpPr/>
              <p:nvPr/>
            </p:nvSpPr>
            <p:spPr>
              <a:xfrm>
                <a:off x="1828800" y="838080"/>
                <a:ext cx="0" cy="523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7"/>
              <p:cNvSpPr/>
              <p:nvPr/>
            </p:nvSpPr>
            <p:spPr>
              <a:xfrm>
                <a:off x="6934320" y="838080"/>
                <a:ext cx="0" cy="523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 Box 8"/>
              <p:cNvSpPr/>
              <p:nvPr/>
            </p:nvSpPr>
            <p:spPr>
              <a:xfrm>
                <a:off x="838080" y="93312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阻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Text Box 9"/>
              <p:cNvSpPr/>
              <p:nvPr/>
            </p:nvSpPr>
            <p:spPr>
              <a:xfrm>
                <a:off x="6934320" y="9331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动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>
                <a:off x="1828800" y="1361880"/>
                <a:ext cx="1981080" cy="19044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1248" h="192">
                    <a:moveTo>
                      <a:pt x="0" y="0"/>
                    </a:moveTo>
                    <a:cubicBezTo>
                      <a:pt x="16" y="40"/>
                      <a:pt x="32" y="80"/>
                      <a:pt x="96" y="96"/>
                    </a:cubicBezTo>
                    <a:cubicBezTo>
                      <a:pt x="160" y="112"/>
                      <a:pt x="328" y="80"/>
                      <a:pt x="384" y="96"/>
                    </a:cubicBezTo>
                    <a:cubicBezTo>
                      <a:pt x="440" y="112"/>
                      <a:pt x="408" y="192"/>
                      <a:pt x="432" y="192"/>
                    </a:cubicBezTo>
                    <a:cubicBezTo>
                      <a:pt x="456" y="192"/>
                      <a:pt x="424" y="112"/>
                      <a:pt x="528" y="96"/>
                    </a:cubicBezTo>
                    <a:cubicBezTo>
                      <a:pt x="632" y="80"/>
                      <a:pt x="936" y="112"/>
                      <a:pt x="1056" y="96"/>
                    </a:cubicBezTo>
                    <a:cubicBezTo>
                      <a:pt x="1176" y="80"/>
                      <a:pt x="1212" y="40"/>
                      <a:pt x="124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Text Box 11"/>
              <p:cNvSpPr/>
              <p:nvPr/>
            </p:nvSpPr>
            <p:spPr>
              <a:xfrm>
                <a:off x="1752480" y="1599840"/>
                <a:ext cx="167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阻力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2"/>
              <p:cNvSpPr/>
              <p:nvPr/>
            </p:nvSpPr>
            <p:spPr>
              <a:xfrm>
                <a:off x="3809880" y="1361880"/>
                <a:ext cx="3124440" cy="190440"/>
              </a:xfrm>
              <a:custGeom>
                <a:avLst/>
                <a:gdLst>
                  <a:gd name="textAreaLeft" fmla="*/ 0 w 3124440"/>
                  <a:gd name="textAreaRight" fmla="*/ 3124800 w 312444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1968" h="192">
                    <a:moveTo>
                      <a:pt x="0" y="0"/>
                    </a:moveTo>
                    <a:cubicBezTo>
                      <a:pt x="28" y="40"/>
                      <a:pt x="56" y="80"/>
                      <a:pt x="192" y="96"/>
                    </a:cubicBezTo>
                    <a:cubicBezTo>
                      <a:pt x="328" y="112"/>
                      <a:pt x="696" y="80"/>
                      <a:pt x="816" y="96"/>
                    </a:cubicBezTo>
                    <a:cubicBezTo>
                      <a:pt x="936" y="112"/>
                      <a:pt x="864" y="192"/>
                      <a:pt x="912" y="192"/>
                    </a:cubicBezTo>
                    <a:cubicBezTo>
                      <a:pt x="960" y="192"/>
                      <a:pt x="968" y="112"/>
                      <a:pt x="1104" y="96"/>
                    </a:cubicBezTo>
                    <a:cubicBezTo>
                      <a:pt x="1240" y="80"/>
                      <a:pt x="1584" y="112"/>
                      <a:pt x="1728" y="96"/>
                    </a:cubicBezTo>
                    <a:cubicBezTo>
                      <a:pt x="1872" y="80"/>
                      <a:pt x="1920" y="40"/>
                      <a:pt x="19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13"/>
              <p:cNvSpPr/>
              <p:nvPr/>
            </p:nvSpPr>
            <p:spPr>
              <a:xfrm>
                <a:off x="5105520" y="159984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动力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Text Box 14"/>
            <p:cNvSpPr/>
            <p:nvPr/>
          </p:nvSpPr>
          <p:spPr>
            <a:xfrm>
              <a:off x="1981080" y="304920"/>
              <a:ext cx="518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阻力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×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阻力臂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=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动力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×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动力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Text Box 15"/>
          <p:cNvSpPr/>
          <p:nvPr/>
        </p:nvSpPr>
        <p:spPr>
          <a:xfrm>
            <a:off x="457200" y="2895480"/>
            <a:ext cx="8153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思考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用反比例函数的知识解释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在我们使用撬棍时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为什么动力臂越长求越省力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WordArt 2" descr="纸袋"/>
          <p:cNvPicPr/>
          <p:nvPr/>
        </p:nvPicPr>
        <p:blipFill>
          <a:blip r:embed="rId1"/>
          <a:stretch/>
        </p:blipFill>
        <p:spPr>
          <a:xfrm>
            <a:off x="115920" y="291960"/>
            <a:ext cx="3736800" cy="10065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914400" y="1828800"/>
            <a:ext cx="7315200" cy="21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电器的输出功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两端的电压Ｕ（伏）及用电器的电阻Ｒ（欧姆）有如下关系：　　　　　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ＰＲ＝Ｕ</a:t>
            </a:r>
            <a:r>
              <a:rPr b="1" lang="zh-CN" sz="4000" spc="-1" strike="noStrike" baseline="30000">
                <a:solidFill>
                  <a:srgbClr val="ff3300"/>
                </a:solidFill>
                <a:latin typeface="Times New Roman"/>
              </a:rPr>
              <a:t>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个关系也可写为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Ｐ＝　　　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Ｒ＝　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5181480" y="3276720"/>
            <a:ext cx="1447920" cy="1114560"/>
            <a:chOff x="5181480" y="3276720"/>
            <a:chExt cx="1447920" cy="1114560"/>
          </a:xfrm>
        </p:grpSpPr>
        <p:sp>
          <p:nvSpPr>
            <p:cNvPr id="145" name="Text Box 4"/>
            <p:cNvSpPr/>
            <p:nvPr/>
          </p:nvSpPr>
          <p:spPr>
            <a:xfrm>
              <a:off x="5181480" y="36576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──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5410080" y="3809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Ｒ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5334120" y="32767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Ｕ</a:t>
              </a:r>
              <a:r>
                <a:rPr b="1" lang="zh-CN" sz="3200" spc="-1" strike="noStrike" baseline="30000">
                  <a:solidFill>
                    <a:srgbClr val="ff3300"/>
                  </a:solidFill>
                  <a:latin typeface="Times New Roman"/>
                </a:rPr>
                <a:t>２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13"/>
          <p:cNvGrpSpPr/>
          <p:nvPr/>
        </p:nvGrpSpPr>
        <p:grpSpPr>
          <a:xfrm>
            <a:off x="2286000" y="4038480"/>
            <a:ext cx="990720" cy="1099800"/>
            <a:chOff x="2286000" y="4038480"/>
            <a:chExt cx="990720" cy="1099800"/>
          </a:xfrm>
        </p:grpSpPr>
        <p:sp>
          <p:nvSpPr>
            <p:cNvPr id="149" name="Text Box 9"/>
            <p:cNvSpPr/>
            <p:nvPr/>
          </p:nvSpPr>
          <p:spPr>
            <a:xfrm>
              <a:off x="2286000" y="438912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─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0"/>
            <p:cNvSpPr/>
            <p:nvPr/>
          </p:nvSpPr>
          <p:spPr>
            <a:xfrm>
              <a:off x="2438280" y="46177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12"/>
            <p:cNvSpPr/>
            <p:nvPr/>
          </p:nvSpPr>
          <p:spPr>
            <a:xfrm>
              <a:off x="2510280" y="4038480"/>
              <a:ext cx="56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Ｕ</a:t>
              </a:r>
              <a:r>
                <a:rPr b="1" lang="zh-CN" sz="3200" spc="-1" strike="noStrike" baseline="30000">
                  <a:solidFill>
                    <a:srgbClr val="ff3300"/>
                  </a:solidFill>
                  <a:latin typeface="Times New Roman"/>
                </a:rPr>
                <a:t>２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Rectangle 14"/>
          <p:cNvSpPr/>
          <p:nvPr/>
        </p:nvSpPr>
        <p:spPr>
          <a:xfrm>
            <a:off x="3560760" y="2602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533520" y="457200"/>
            <a:ext cx="777240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一个用电器的电阻是可调节的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其范围为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1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欧姆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已知电压为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20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伏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这个用电器的电路图如图所示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输出功率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与 电阻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有怎样的函数关系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用电器输出功率的范围多大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4"/>
          <p:cNvGrpSpPr/>
          <p:nvPr/>
        </p:nvGrpSpPr>
        <p:grpSpPr>
          <a:xfrm>
            <a:off x="533160" y="4038480"/>
            <a:ext cx="4343760" cy="1676520"/>
            <a:chOff x="533160" y="4038480"/>
            <a:chExt cx="4343760" cy="1676520"/>
          </a:xfrm>
        </p:grpSpPr>
        <p:sp>
          <p:nvSpPr>
            <p:cNvPr id="156" name="Rectangle 3"/>
            <p:cNvSpPr/>
            <p:nvPr/>
          </p:nvSpPr>
          <p:spPr>
            <a:xfrm>
              <a:off x="1447920" y="5334120"/>
              <a:ext cx="2209680" cy="3808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"/>
            <p:cNvSpPr/>
            <p:nvPr/>
          </p:nvSpPr>
          <p:spPr>
            <a:xfrm>
              <a:off x="3657600" y="556272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5"/>
            <p:cNvSpPr/>
            <p:nvPr/>
          </p:nvSpPr>
          <p:spPr>
            <a:xfrm flipV="1">
              <a:off x="4876920" y="441936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6"/>
            <p:cNvSpPr/>
            <p:nvPr/>
          </p:nvSpPr>
          <p:spPr>
            <a:xfrm flipH="1">
              <a:off x="3123720" y="441972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7"/>
            <p:cNvSpPr/>
            <p:nvPr/>
          </p:nvSpPr>
          <p:spPr>
            <a:xfrm>
              <a:off x="3124080" y="43434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2514600" y="43434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 flipH="1">
              <a:off x="533160" y="4419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0"/>
            <p:cNvSpPr/>
            <p:nvPr/>
          </p:nvSpPr>
          <p:spPr>
            <a:xfrm>
              <a:off x="533520" y="4419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1"/>
            <p:cNvSpPr/>
            <p:nvPr/>
          </p:nvSpPr>
          <p:spPr>
            <a:xfrm>
              <a:off x="533520" y="495288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2"/>
            <p:cNvSpPr/>
            <p:nvPr/>
          </p:nvSpPr>
          <p:spPr>
            <a:xfrm>
              <a:off x="1905120" y="49528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3"/>
            <p:cNvSpPr/>
            <p:nvPr/>
          </p:nvSpPr>
          <p:spPr>
            <a:xfrm>
              <a:off x="2590920" y="4038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609480" y="685800"/>
            <a:ext cx="822960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例</a:t>
            </a:r>
            <a:r>
              <a:rPr b="1" lang="en-US" sz="3600" spc="-1" strike="noStrike">
                <a:solidFill>
                  <a:srgbClr val="ff0066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某校科技小组进行野外考察，途中遇到一片十几米宽的烂泥湿地，为了安全、迅速通过湿地，他们沿着前进路线铺垫了若干木板，构筑成一条临时通道，从而顺利完成了任务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）你能理解这样做的道理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）若人和木板对湿地地面的压力合计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600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牛，那么如何用含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S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（木板面积）的代数式表示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（压强）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）当木板面积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S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0.2m</a:t>
            </a:r>
            <a:r>
              <a:rPr b="1" lang="en-US" sz="2800" spc="-1" strike="noStrike" baseline="30000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时，压强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多大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）当压强是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6000Pa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时，木板面积多大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压强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=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压力 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/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面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04:18:35Z</dcterms:created>
  <dc:creator>kejianyuan.com</dc:creator>
  <dc:description>kejianyuan.com</dc:description>
  <cp:keywords>kejianyuan.com</cp:keywords>
  <dc:language>en-US</dc:language>
  <cp:lastModifiedBy/>
  <dcterms:modified xsi:type="dcterms:W3CDTF">2014-09-10T16:22:09Z</dcterms:modified>
  <cp:revision>39</cp:revision>
  <dc:subject>人教版八年级数学（下）全套课件</dc:subject>
  <dc:title>人教版八年级数学（下）全套课件</dc:title>
</cp:coreProperties>
</file>