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70E-D63A-4D23-86A8-87A45D50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BE7-4FE4-4A66-B087-9E435ADB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6DC-0598-406D-8547-54C06FFC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4E1-1621-4332-B3BF-C78E85BA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1D3F-42A3-402C-9D17-B93AC200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9FB-7FA8-49FD-ACC0-F977439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FFF0-A7EF-4B5E-8218-E89898A0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97B0-7D4D-46D1-863C-47B77D0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F09B-9E73-4F26-9123-CEF44AA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485-5429-4C77-9F29-C4A369A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84F9-2CD2-429B-A78D-430BCD8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52E-2347-4849-BD93-20F34410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8EB7-CDC1-4329-94D9-3BE13211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B58D-A5C2-4D34-A87D-569F4B3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20DA-6D85-4874-98DF-58270C2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56B1-5955-4DCF-B975-48EA4134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26E-2F0F-4A1E-8623-F69BA8C3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3C0B-37EB-4C11-A323-D7D6382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0A1E-7E5D-43EC-A0A4-34E7332B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6D3C-F1D6-42CD-903A-3F3D7F5F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FEF9-B897-4A67-A49D-C8A3FCCD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2FA3-8C5A-431B-A029-B0C20BAB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11B-6B58-4A17-A2B1-5E51ED4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431D-EBCE-4E16-B950-FEBA333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93D7-DBDF-42F9-82B9-BB89B78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7F9C-088D-46DC-B7DE-1E6F7AA7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8E07-571E-43E4-932A-265D8F1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8EA1-C623-438D-AD75-01927D7E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0DCA-D3BF-4F5A-9A1C-334A9DC2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A743-0880-4470-B27F-164E3EA0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3D84-1540-4E14-835F-49D5188E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135A-B14F-45C4-9E7A-D844B24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0BD9-D88B-4B43-8B28-E042A67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AA4-23EE-4EF3-8675-8BA2B7A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E0B3-7B12-491D-BE95-314B3A5D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F6588-C8CE-485E-9645-BD7FEE6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50D5-0523-459D-AF46-FD3C6C47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5F1E-EBBE-434E-8334-DE281FCE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38993-96FD-4774-950C-21D8AAAA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B666-68DA-4C0D-B7A2-0BF8E0DC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E59C-CC8B-4202-A7EE-2945AE85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7C9E2-4AE0-42C5-8572-864402E6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9E6B-A8D3-4647-8CF0-0E28D745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33CE-A554-44E2-BAA4-181017F7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302-C84A-4D85-A82E-91237480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39C5-457C-44E8-ADCF-92DD638D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6A0CB-35B8-44BA-AD7F-C77661A2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7818-AF62-4836-8275-85B1B024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C572F-2C10-46D8-9ECF-714369A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05FA-F61E-4AE5-BE62-290A550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198F-203A-408D-A99E-468F2F9E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5DCC3-7C5D-4B95-8D2B-FB0822D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DDC2-FE1D-4C02-BD30-D1168C3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F12F-7ED3-4B53-BF79-9C697B28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DB7A-D65A-44BB-A10B-1E09BA76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A32-E91B-4273-9552-9C475CF4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BB085-449C-448F-97E5-E34B0F4B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86767-9630-483B-8A8E-75453DE2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8457C-E60E-47D6-B97E-4A55E095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E7C9-F6C0-42BF-B785-79A11B1C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F6B33-1A1A-4AFF-A6BC-1A0E790A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B7AA2-BF71-46CB-8E6D-7DFD9EE6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6EA8-426C-4383-B6CA-147B2190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48804-CB8F-41A8-81E4-A18759A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8F31A-7F5D-4036-84E7-8B2D78C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4C7E-CBD8-4E83-9D01-84834D4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21F-7842-4924-9FE4-3D421F4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34FC2-9C69-4AAB-8168-775F74E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F89D1-4CAB-4C8B-840D-E11783C2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1C89-C037-4BD9-A40F-8C2CE7FE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B9D-B3B2-4F0D-82FD-988F738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1BF-A39D-4859-81C3-98E4D569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AAAB-B905-4758-BD9E-CAEE11C81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0F88-811A-478B-9618-6CE0E4E8A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4D4-5702-43D7-B509-8962506E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EFBF-D528-40A5-8B03-3C5A45256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9F83-0701-49FA-B166-A0ABCE804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9103-9251-429D-B461-7F1FADC88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</a:rPr>
              <a:t>第二十章   数据的分析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20.1.1</a:t>
            </a:r>
            <a:r>
              <a:rPr b="0" lang="zh-CN" sz="5400" spc="-1" strike="noStrike">
                <a:solidFill>
                  <a:srgbClr val="ffffcc"/>
                </a:solidFill>
                <a:latin typeface="Arial"/>
              </a:rPr>
              <a:t>平均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北京市第八十中学   关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684360" y="404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练习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141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142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2409840" y="32464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324000" y="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一次数学测验，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名同学的数学成绩分别是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60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80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和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100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分，则他们的平均成绩是多少？你怎样列式计算？算式中的分子分母分别表示什么含义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611280" y="57913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平均数是一组数据的数值的代表值，它刻画了这组数据整体的平均状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468360" y="2781360"/>
            <a:ext cx="795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有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数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χ</a:t>
            </a:r>
            <a:r>
              <a:rPr b="0" lang="en-US" sz="3600" spc="-1" strike="noStrike" baseline="-18000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χ</a:t>
            </a:r>
            <a:r>
              <a:rPr b="0" lang="en-US" sz="3600" spc="-1" strike="noStrike" baseline="-18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χ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  <a:ea typeface="黑体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χ</a:t>
            </a:r>
            <a:r>
              <a:rPr b="0" lang="en-US" sz="3600" spc="-1" strike="noStrike" baseline="-18000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那么它们的平均数我们表示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2" name="Object 6"/>
          <p:cNvGraphicFramePr/>
          <p:nvPr/>
        </p:nvGraphicFramePr>
        <p:xfrm>
          <a:off x="1979640" y="4076640"/>
          <a:ext cx="458316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076640"/>
                    <a:ext cx="45831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95280" y="549360"/>
            <a:ext cx="82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如果知道有一个小组中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名学生得了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分，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名学生得了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分，还有一名学生得了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分，此时这个小组的数学测验平均分还是一问中的答案吗？该如何计算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6" name="Object 6"/>
          <p:cNvGraphicFramePr/>
          <p:nvPr/>
        </p:nvGraphicFramePr>
        <p:xfrm>
          <a:off x="1116000" y="3716280"/>
          <a:ext cx="7056360" cy="17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716280"/>
                    <a:ext cx="705636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3"/>
          <p:cNvSpPr/>
          <p:nvPr/>
        </p:nvSpPr>
        <p:spPr>
          <a:xfrm>
            <a:off x="1547640" y="260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权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763640" y="1197000"/>
          <a:ext cx="5688000" cy="13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197000"/>
                    <a:ext cx="56880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19764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250920" y="260280"/>
            <a:ext cx="914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8ae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68ae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250920" y="4724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听说读写　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　录取谁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听说读写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　录取谁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1403280" y="260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一家公司打算招聘一名英文翻译，对甲、乙两名应试者进行了听、说、读、写的英文水平测试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们的各项成绩（百分制）如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611280" y="476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练习：教材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139-1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3" name="Object 7"/>
          <p:cNvGraphicFramePr/>
          <p:nvPr/>
        </p:nvGraphicFramePr>
        <p:xfrm>
          <a:off x="-73080" y="1413000"/>
          <a:ext cx="921708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413000"/>
                    <a:ext cx="921708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8"/>
          <p:cNvGraphicFramePr/>
          <p:nvPr/>
        </p:nvGraphicFramePr>
        <p:xfrm>
          <a:off x="755640" y="2492280"/>
          <a:ext cx="6027840" cy="30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492280"/>
                    <a:ext cx="602784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 Box 9"/>
          <p:cNvSpPr/>
          <p:nvPr/>
        </p:nvSpPr>
        <p:spPr>
          <a:xfrm>
            <a:off x="0" y="580536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.  88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5"/>
          <p:cNvSpPr/>
          <p:nvPr/>
        </p:nvSpPr>
        <p:spPr>
          <a:xfrm>
            <a:off x="2627280" y="333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468360" y="155736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250920" y="76500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、从一批机器零件毛坯中取出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件，称得它们的质量如下（单位：千克）：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208   200   202   192   182   218   198   187   213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　计算它们的平均质量。 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39640" y="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某市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月下旬最高气温统计如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042920" y="3573360"/>
          <a:ext cx="7201080" cy="1608120"/>
        </p:xfrm>
        <a:graphic>
          <a:graphicData uri="http://schemas.openxmlformats.org/drawingml/2006/table">
            <a:tbl>
              <a:tblPr/>
              <a:tblGrid>
                <a:gridCol w="1629000"/>
                <a:gridCol w="1114200"/>
                <a:gridCol w="1114560"/>
                <a:gridCol w="1112760"/>
                <a:gridCol w="1127160"/>
                <a:gridCol w="110340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气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5</a:t>
                      </a:r>
                      <a:r>
                        <a:rPr b="1" lang="zh-CN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4</a:t>
                      </a:r>
                      <a:r>
                        <a:rPr b="1" lang="zh-CN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3</a:t>
                      </a:r>
                      <a:r>
                        <a:rPr b="1" lang="zh-CN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r>
                        <a:rPr b="1" lang="zh-CN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天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7" name="Rectangle 40"/>
          <p:cNvSpPr/>
          <p:nvPr/>
        </p:nvSpPr>
        <p:spPr>
          <a:xfrm>
            <a:off x="609480" y="5345280"/>
            <a:ext cx="85345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该市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月中旬最高气温的平均数是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_____,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这个平均数是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平均数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2:49:29Z</dcterms:created>
  <dc:creator>kejianyuan.com</dc:creator>
  <dc:description>kejianyuan.com</dc:description>
  <cp:keywords>kejianyuan.com</cp:keywords>
  <dc:language>en-US</dc:language>
  <cp:lastModifiedBy/>
  <dcterms:modified xsi:type="dcterms:W3CDTF">2014-09-10T16:22:14Z</dcterms:modified>
  <cp:revision>7</cp:revision>
  <dc:subject>人教版八年级数学（下）全套课件</dc:subject>
  <dc:title>人教版八年级数学（下）全套课件</dc:title>
</cp:coreProperties>
</file>