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type.wav" ContentType="audio/x-wav"/>
  <Override PartName="/ppt/media/chimes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9AE-3E0C-48B4-A30C-B0EA6C9B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483-304B-4607-A8D8-4B9954CD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20CBC-64D9-4343-B478-DB85C1D1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68FC6-731F-455A-9C09-CE76403A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55AB7-662A-41ED-981A-461E4EF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6A601-56EB-4EE6-AB43-F9F2169D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96B5C-F98D-46CE-AC40-4FD98CE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DE410-B253-4B61-859C-2F5CE50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05480-F414-43B1-9234-275B5FC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49B71-097F-45B2-9BE4-034C71E4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BAACF-5D63-4144-81BA-136ED290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88297-AFA0-44E8-9F9A-F712E22F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81E-3F7E-43D1-AEBC-C17686EB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36511-0969-4B7B-9CE0-E384EC27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AB0DE-19C2-4EC4-8C07-E501E6E7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26603-6FD4-4018-A2BC-4D46353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60C19-9275-44EE-9944-BC084F05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D64F5-578C-4162-9034-F5CDBC23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C1563-224F-49DA-85AC-D01F9BF2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5B63A-332C-4E2C-BFEC-B34E3E3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F5CF4-3FA7-4F1F-8700-C09F1218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5C142-79F9-4493-803F-0DDD81B0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13C5F-9A89-4ABD-A4EC-3320F96B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B40-AD98-4326-A6E2-3B36AC3B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3D73-C763-4D21-A72F-FB38A6FF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B095-6508-4A97-B613-F864A4B6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7DE3-8A7B-4446-8E5D-03DB689B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67F4-F065-48D8-8012-050A0DA3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B2B9-B1AD-43AD-9BC2-5AD38668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DD55-A89A-43CB-8F79-1619AE12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292A-BFA7-46CD-9DD5-E7B5387E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BF30-F1A6-4A8B-971F-906385C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5AA-26C4-48B0-9D85-8197CF06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BCE-6BAD-496D-9AA6-8D0AFC85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A2C-2193-4A42-8C78-DEDAB471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05F4-800C-49E5-8798-B4A7DB98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3434-3A1B-4441-8EC8-4C25B0B2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6050-FC38-410C-BCA9-F76BCF0E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4207-C1EA-4E71-8E16-EFDA2070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3002-FFD4-42F4-BCB0-76A117C2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A6B2-4A1C-47EB-BAE9-0D7898A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C90A-CC83-4C2C-AF3F-980AF97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FBA4-930A-4AA1-B0FF-19FE1B7F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D10-45C6-45AE-BBC4-186E2C9F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4465-ECDE-4CC1-BE83-DE3BFF65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3C37-986F-4A20-B369-5A5FE9C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606D-BDC6-4F16-A51F-D8AD5B0F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19C8-0ED6-4A18-AE75-E4A6F5D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FF89-8E1D-4349-BCEF-A66B07EE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F6BF-2568-43AB-89CE-EC37B0BF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F954-0E12-4F52-9F6A-41AB3C8F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A429-A47D-4D6F-9341-92DF34D8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EC33-E614-4749-85D0-513112E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244E-AED7-4FAA-B3FE-AFC250FC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9BC-9273-45AB-B6EF-D77E903C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09B8-49D5-4BFF-90A8-3CE6126B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384EC-51AF-4FC6-B19B-AF272B20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E3E0-A5F2-4063-9192-218AC488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00A3-2A84-446E-BF6F-56FEEB3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40A45-8AC2-49FD-9911-8A721D69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8BF4-E85B-4411-B132-8E2304F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2866-0953-44F7-BBC1-5DB6DB8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8059-DFCE-44B0-B96E-5EB6EC0B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A1B2-F948-42EE-8145-7057A22E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E912-164B-456F-9978-041A2748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5A8-5089-4638-A1BE-83A4EDAA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180F-DF29-45A0-A5B1-0D82EFBF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0A7BD-EF75-46E9-9D32-D61E31EF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D19A-DEF4-46DA-9409-A4943A6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E454-BF4E-49C1-B519-016687D3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C3E03-4AE8-4BAB-B30E-E9B5B45A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4F118-BB9F-4CAA-BACB-71EB1E90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2AF7-FB12-4B37-80C7-D1DA060D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CFFC-4370-4B35-A9EF-8B587C5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E7ED-8613-41F3-A7AE-16B2E02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B89E8-B783-45C5-995D-AC023317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21B-F5B2-444A-83B0-273F57E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F4F89-01F4-4EA3-82C1-87F30A6D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AD43-F491-4219-B3A5-C9CA52CB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C184-7B83-41D0-B864-4811BF35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2C85-DD15-4D8B-965B-45204A08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F42D-D769-4E94-B8DB-B0DC7C3F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9952-2AC2-49D4-920C-CB601297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A320-10F0-4A82-B8AD-2D0D652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1585F-6EA5-44C1-96AE-93335264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F6FE-1EB4-4F37-9A70-0B4A527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A1A60-4361-42E0-9AD4-B4E12338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72F-48F2-4104-A5CE-7FC287E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B9DE-1EE5-4D8A-B7B7-7838F2CC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D8BE-4303-4966-8B68-AEC2562E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AFAF-30D5-469D-91BC-45E2D4B3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2542-53B8-4128-A765-962533D8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5807-FB3C-448D-AFD4-FCA5CCB7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DBEA-7562-44F8-9D6F-B2A9DFD4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5347-3365-4729-B252-A1CFB076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C5265-FEF1-4B0D-9825-3E84FDC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3365-DBC3-4FC2-B7B1-11861573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4D7A4-38FC-4E7D-A5CD-B467F8D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597-9A04-479F-A2B1-9ADD295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6971-A1C2-4300-BF07-59DF4E1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96C65-E164-4ACA-A696-DCD0B63E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2AD24-5E21-4B3F-A6EB-A6775C33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90CA9-11BC-4E60-ADF4-96E748F0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DCBCC-1D16-43D7-A498-A03A76D1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B73C3-BBF4-4630-B692-CF2D1187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46E99-E53A-4B74-945C-D54C9BF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91F7-9955-4E24-BE96-B831BA1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AA807-1EBD-4455-BEAD-8C605D7A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00B0-76E9-4566-8FB5-68F2F013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BE1-331E-4CC0-9FB3-5CC817D6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12C6-ECB1-4B1D-8BAE-6558EA4A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7F44-F7D1-4EB9-9819-8356898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53FE-3C50-468D-AA50-77651FB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18C53-A997-4F9C-927B-BA056AB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B2A69-C370-4D95-BD29-CCE2FE3F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632F8-47E9-43D1-B943-1CF2D027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E55C7-5441-4B68-A9B1-D83658DE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42276-764D-4B92-81C1-03EBD48F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D164-1412-4C9E-A262-4544EF7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53831-49B1-437C-8D2D-4A6D5C6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3F1-A9C5-4C61-822B-6CD5437CAE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5D69-512E-494C-A755-93821675F7F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BE9B-AB83-4ED9-AA1F-6909B0845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B30D-6C2D-4929-AFA5-0528855B61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44FE-2EED-444D-85E8-EB0BCD45E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C3AB-61B5-4D61-9D90-0E3C3AD7C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9103-9D07-49AD-B685-9A919D3A0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8E2B-A823-4E8B-8713-4D67AF846E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8FEB-155F-4EDC-8D9B-B12FEBEC5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BBE-34A5-46D3-8E94-9B63D5D67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2" name="WordArt 3"/>
          <p:cNvSpPr txBox="1"/>
          <p:nvPr/>
        </p:nvSpPr>
        <p:spPr>
          <a:xfrm>
            <a:off x="1066680" y="1295280"/>
            <a:ext cx="6629400" cy="24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710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7600e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行四边形的判别 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solidFill>
                <a:srgbClr val="7600ec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3" name="WordArt 7"/>
          <p:cNvSpPr txBox="1"/>
          <p:nvPr/>
        </p:nvSpPr>
        <p:spPr>
          <a:xfrm>
            <a:off x="4038480" y="4038480"/>
            <a:ext cx="433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1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131640" y="2997360"/>
            <a:ext cx="33116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7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页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1763640" y="1773360"/>
            <a:ext cx="12970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0" y="189000"/>
          <a:ext cx="9144000" cy="6686640"/>
        </p:xfrm>
        <a:graphic>
          <a:graphicData uri="http://schemas.openxmlformats.org/drawingml/2006/table">
            <a:tbl>
              <a:tblPr/>
              <a:tblGrid>
                <a:gridCol w="684360"/>
                <a:gridCol w="3527280"/>
                <a:gridCol w="1873080"/>
                <a:gridCol w="3059280"/>
              </a:tblGrid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判定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文字语言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图形语言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符号语言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定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两组对边分别平行的四边形是平行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B∥CD,AD∥BC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∴…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定理１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两组对边分别相等的四边形是平等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B=CD,AD= BC     ∴…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定理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角线互相平分的四边形是平行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OA=OC,OB=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OD    ∴…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推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两组对角分别相等的四边形是平行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∠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=∠C,∠B=∠D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∴…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1" name="Group 63"/>
          <p:cNvGrpSpPr/>
          <p:nvPr/>
        </p:nvGrpSpPr>
        <p:grpSpPr>
          <a:xfrm>
            <a:off x="4140360" y="981000"/>
            <a:ext cx="1944000" cy="1589400"/>
            <a:chOff x="4140360" y="981000"/>
            <a:chExt cx="1944000" cy="1589400"/>
          </a:xfrm>
        </p:grpSpPr>
        <p:sp>
          <p:nvSpPr>
            <p:cNvPr id="492" name="AutoShape 64"/>
            <p:cNvSpPr/>
            <p:nvPr/>
          </p:nvSpPr>
          <p:spPr>
            <a:xfrm>
              <a:off x="4284720" y="1485720"/>
              <a:ext cx="1655280" cy="504720"/>
            </a:xfrm>
            <a:prstGeom prst="parallelogram">
              <a:avLst>
                <a:gd name="adj" fmla="val 819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3" name="Text Box 65"/>
            <p:cNvSpPr/>
            <p:nvPr/>
          </p:nvSpPr>
          <p:spPr>
            <a:xfrm>
              <a:off x="4140360" y="1917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Ａ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4" name="Text Box 66"/>
            <p:cNvSpPr/>
            <p:nvPr/>
          </p:nvSpPr>
          <p:spPr>
            <a:xfrm>
              <a:off x="5364000" y="1989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5" name="Text Box 67"/>
            <p:cNvSpPr/>
            <p:nvPr/>
          </p:nvSpPr>
          <p:spPr>
            <a:xfrm>
              <a:off x="5653080" y="9810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Ｃ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6" name="Text Box 68"/>
            <p:cNvSpPr/>
            <p:nvPr/>
          </p:nvSpPr>
          <p:spPr>
            <a:xfrm>
              <a:off x="4284720" y="981000"/>
              <a:ext cx="5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Ｄ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97" name="Group 75"/>
          <p:cNvGrpSpPr/>
          <p:nvPr/>
        </p:nvGrpSpPr>
        <p:grpSpPr>
          <a:xfrm>
            <a:off x="4067280" y="5270400"/>
            <a:ext cx="1944720" cy="1589400"/>
            <a:chOff x="4067280" y="5270400"/>
            <a:chExt cx="1944720" cy="1589400"/>
          </a:xfrm>
        </p:grpSpPr>
        <p:sp>
          <p:nvSpPr>
            <p:cNvPr id="498" name="AutoShape 76"/>
            <p:cNvSpPr/>
            <p:nvPr/>
          </p:nvSpPr>
          <p:spPr>
            <a:xfrm>
              <a:off x="4212000" y="5775120"/>
              <a:ext cx="1655640" cy="504720"/>
            </a:xfrm>
            <a:prstGeom prst="parallelogram">
              <a:avLst>
                <a:gd name="adj" fmla="val 820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9" name="Text Box 77"/>
            <p:cNvSpPr/>
            <p:nvPr/>
          </p:nvSpPr>
          <p:spPr>
            <a:xfrm>
              <a:off x="4067280" y="62067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Ａ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0" name="Text Box 78"/>
            <p:cNvSpPr/>
            <p:nvPr/>
          </p:nvSpPr>
          <p:spPr>
            <a:xfrm>
              <a:off x="5291280" y="62784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Text Box 79"/>
            <p:cNvSpPr/>
            <p:nvPr/>
          </p:nvSpPr>
          <p:spPr>
            <a:xfrm>
              <a:off x="5580360" y="52704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Ｃ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Text Box 80"/>
            <p:cNvSpPr/>
            <p:nvPr/>
          </p:nvSpPr>
          <p:spPr>
            <a:xfrm>
              <a:off x="4212000" y="527040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Ｄ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03" name="Group 110"/>
          <p:cNvGrpSpPr/>
          <p:nvPr/>
        </p:nvGrpSpPr>
        <p:grpSpPr>
          <a:xfrm>
            <a:off x="4067280" y="2492280"/>
            <a:ext cx="1944720" cy="2886480"/>
            <a:chOff x="4067280" y="2492280"/>
            <a:chExt cx="1944720" cy="2886480"/>
          </a:xfrm>
        </p:grpSpPr>
        <p:grpSp>
          <p:nvGrpSpPr>
            <p:cNvPr id="504" name="Group 69"/>
            <p:cNvGrpSpPr/>
            <p:nvPr/>
          </p:nvGrpSpPr>
          <p:grpSpPr>
            <a:xfrm>
              <a:off x="4067280" y="2492280"/>
              <a:ext cx="1944720" cy="1589400"/>
              <a:chOff x="4067280" y="2492280"/>
              <a:chExt cx="1944720" cy="1589400"/>
            </a:xfrm>
          </p:grpSpPr>
          <p:sp>
            <p:nvSpPr>
              <p:cNvPr id="505" name="AutoShape 70"/>
              <p:cNvSpPr/>
              <p:nvPr/>
            </p:nvSpPr>
            <p:spPr>
              <a:xfrm>
                <a:off x="4212000" y="2997000"/>
                <a:ext cx="1655640" cy="504720"/>
              </a:xfrm>
              <a:prstGeom prst="parallelogram">
                <a:avLst>
                  <a:gd name="adj" fmla="val 8200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06" name="Text Box 71"/>
              <p:cNvSpPr/>
              <p:nvPr/>
            </p:nvSpPr>
            <p:spPr>
              <a:xfrm>
                <a:off x="4067280" y="342864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7a77"/>
                    </a:solidFill>
                    <a:latin typeface="Arial"/>
                  </a:rPr>
                  <a:t>Ａ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07" name="Text Box 72"/>
              <p:cNvSpPr/>
              <p:nvPr/>
            </p:nvSpPr>
            <p:spPr>
              <a:xfrm>
                <a:off x="5291280" y="35002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7a77"/>
                    </a:solidFill>
                    <a:latin typeface="Arial"/>
                  </a:rPr>
                  <a:t>Ｂ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08" name="Text Box 73"/>
              <p:cNvSpPr/>
              <p:nvPr/>
            </p:nvSpPr>
            <p:spPr>
              <a:xfrm>
                <a:off x="5580360" y="2492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7a77"/>
                    </a:solidFill>
                    <a:latin typeface="Arial"/>
                  </a:rPr>
                  <a:t>Ｃ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09" name="Text Box 74"/>
              <p:cNvSpPr/>
              <p:nvPr/>
            </p:nvSpPr>
            <p:spPr>
              <a:xfrm>
                <a:off x="4212000" y="2492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7a77"/>
                    </a:solidFill>
                    <a:latin typeface="Arial"/>
                  </a:rPr>
                  <a:t>Ｄ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10" name="Line 100"/>
            <p:cNvSpPr/>
            <p:nvPr/>
          </p:nvSpPr>
          <p:spPr>
            <a:xfrm>
              <a:off x="4932360" y="34797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1" name="Line 101"/>
            <p:cNvSpPr/>
            <p:nvPr/>
          </p:nvSpPr>
          <p:spPr>
            <a:xfrm>
              <a:off x="5003640" y="35002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2" name="Line 102"/>
            <p:cNvSpPr/>
            <p:nvPr/>
          </p:nvSpPr>
          <p:spPr>
            <a:xfrm>
              <a:off x="5219640" y="29559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3" name="Line 103"/>
            <p:cNvSpPr/>
            <p:nvPr/>
          </p:nvSpPr>
          <p:spPr>
            <a:xfrm>
              <a:off x="5292720" y="29559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14" name="Group 109"/>
            <p:cNvGrpSpPr/>
            <p:nvPr/>
          </p:nvGrpSpPr>
          <p:grpSpPr>
            <a:xfrm>
              <a:off x="4067280" y="3789360"/>
              <a:ext cx="1944720" cy="1589400"/>
              <a:chOff x="4067280" y="3789360"/>
              <a:chExt cx="1944720" cy="1589400"/>
            </a:xfrm>
          </p:grpSpPr>
          <p:grpSp>
            <p:nvGrpSpPr>
              <p:cNvPr id="515" name="Group 96"/>
              <p:cNvGrpSpPr/>
              <p:nvPr/>
            </p:nvGrpSpPr>
            <p:grpSpPr>
              <a:xfrm>
                <a:off x="4067280" y="3789360"/>
                <a:ext cx="1944720" cy="1589400"/>
                <a:chOff x="4067280" y="3789360"/>
                <a:chExt cx="1944720" cy="1589400"/>
              </a:xfrm>
            </p:grpSpPr>
            <p:grpSp>
              <p:nvGrpSpPr>
                <p:cNvPr id="516" name="Group 62"/>
                <p:cNvGrpSpPr/>
                <p:nvPr/>
              </p:nvGrpSpPr>
              <p:grpSpPr>
                <a:xfrm>
                  <a:off x="4067280" y="3789360"/>
                  <a:ext cx="1944720" cy="1589400"/>
                  <a:chOff x="4067280" y="3789360"/>
                  <a:chExt cx="1944720" cy="1589400"/>
                </a:xfrm>
              </p:grpSpPr>
              <p:sp>
                <p:nvSpPr>
                  <p:cNvPr id="517" name="AutoShape 53"/>
                  <p:cNvSpPr/>
                  <p:nvPr/>
                </p:nvSpPr>
                <p:spPr>
                  <a:xfrm>
                    <a:off x="4212000" y="4294080"/>
                    <a:ext cx="1655640" cy="504720"/>
                  </a:xfrm>
                  <a:prstGeom prst="parallelogram">
                    <a:avLst>
                      <a:gd name="adj" fmla="val 8200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Text Box 54"/>
                  <p:cNvSpPr/>
                  <p:nvPr/>
                </p:nvSpPr>
                <p:spPr>
                  <a:xfrm>
                    <a:off x="4067280" y="4725720"/>
                    <a:ext cx="432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7a77"/>
                        </a:solidFill>
                        <a:latin typeface="Arial"/>
                      </a:rPr>
                      <a:t>Ａ</a:t>
                    </a:r>
                    <a:endParaRPr b="0" lang="en-US" sz="32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Text Box 57"/>
                  <p:cNvSpPr/>
                  <p:nvPr/>
                </p:nvSpPr>
                <p:spPr>
                  <a:xfrm>
                    <a:off x="5291280" y="4797360"/>
                    <a:ext cx="5763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7a77"/>
                        </a:solidFill>
                        <a:latin typeface="Arial"/>
                      </a:rPr>
                      <a:t>Ｂ</a:t>
                    </a:r>
                    <a:endParaRPr b="0" lang="en-US" sz="32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Text Box 58"/>
                  <p:cNvSpPr/>
                  <p:nvPr/>
                </p:nvSpPr>
                <p:spPr>
                  <a:xfrm>
                    <a:off x="5580360" y="3789360"/>
                    <a:ext cx="431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7a77"/>
                        </a:solidFill>
                        <a:latin typeface="Arial"/>
                      </a:rPr>
                      <a:t>Ｃ</a:t>
                    </a:r>
                    <a:endParaRPr b="0" lang="en-US" sz="32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Text Box 59"/>
                  <p:cNvSpPr/>
                  <p:nvPr/>
                </p:nvSpPr>
                <p:spPr>
                  <a:xfrm>
                    <a:off x="4212000" y="3789360"/>
                    <a:ext cx="502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7a77"/>
                        </a:solidFill>
                        <a:latin typeface="Arial"/>
                      </a:rPr>
                      <a:t>Ｄ</a:t>
                    </a:r>
                    <a:endParaRPr b="0" lang="en-US" sz="32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2" name="Line 81"/>
                <p:cNvSpPr/>
                <p:nvPr/>
              </p:nvSpPr>
              <p:spPr>
                <a:xfrm flipV="1">
                  <a:off x="4211640" y="4294080"/>
                  <a:ext cx="1655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23" name="Line 82"/>
                <p:cNvSpPr/>
                <p:nvPr/>
              </p:nvSpPr>
              <p:spPr>
                <a:xfrm>
                  <a:off x="4643280" y="4294080"/>
                  <a:ext cx="79236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24" name="Text Box 92"/>
                <p:cNvSpPr/>
                <p:nvPr/>
              </p:nvSpPr>
              <p:spPr>
                <a:xfrm>
                  <a:off x="4932360" y="4365360"/>
                  <a:ext cx="36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7a77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Line 97"/>
              <p:cNvSpPr/>
              <p:nvPr/>
            </p:nvSpPr>
            <p:spPr>
              <a:xfrm>
                <a:off x="4572000" y="46530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6" name="Line 98"/>
              <p:cNvSpPr/>
              <p:nvPr/>
            </p:nvSpPr>
            <p:spPr>
              <a:xfrm>
                <a:off x="5283360" y="46530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7" name="Line 99"/>
              <p:cNvSpPr/>
              <p:nvPr/>
            </p:nvSpPr>
            <p:spPr>
              <a:xfrm>
                <a:off x="4859280" y="43959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8" name="Line 104"/>
              <p:cNvSpPr/>
              <p:nvPr/>
            </p:nvSpPr>
            <p:spPr>
              <a:xfrm>
                <a:off x="4643280" y="464328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9" name="Line 105"/>
              <p:cNvSpPr/>
              <p:nvPr/>
            </p:nvSpPr>
            <p:spPr>
              <a:xfrm>
                <a:off x="5435640" y="43862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0" name="Line 106"/>
              <p:cNvSpPr/>
              <p:nvPr/>
            </p:nvSpPr>
            <p:spPr>
              <a:xfrm>
                <a:off x="5364000" y="441648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31" name="Line 107"/>
            <p:cNvSpPr/>
            <p:nvPr/>
          </p:nvSpPr>
          <p:spPr>
            <a:xfrm>
              <a:off x="4500720" y="3121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2" name="Line 108"/>
            <p:cNvSpPr/>
            <p:nvPr/>
          </p:nvSpPr>
          <p:spPr>
            <a:xfrm>
              <a:off x="5651640" y="3254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1042920" y="98100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771640" y="2060640"/>
            <a:ext cx="51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１、课本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P100--101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习题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19.1  4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２、继续预习“平行四边形的判定”一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 flipH="1">
            <a:off x="1752480" y="1828800"/>
            <a:ext cx="5639040" cy="2590920"/>
          </a:xfrm>
          <a:prstGeom prst="parallelogram">
            <a:avLst>
              <a:gd name="adj" fmla="val 54412"/>
            </a:avLst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38" name="Group 16"/>
          <p:cNvGrpSpPr/>
          <p:nvPr/>
        </p:nvGrpSpPr>
        <p:grpSpPr>
          <a:xfrm>
            <a:off x="2363760" y="762120"/>
            <a:ext cx="4333680" cy="4650480"/>
            <a:chOff x="2363760" y="762120"/>
            <a:chExt cx="4333680" cy="4650480"/>
          </a:xfrm>
        </p:grpSpPr>
        <p:sp>
          <p:nvSpPr>
            <p:cNvPr id="539" name="Text Box 9"/>
            <p:cNvSpPr/>
            <p:nvPr/>
          </p:nvSpPr>
          <p:spPr>
            <a:xfrm>
              <a:off x="6021360" y="762120"/>
              <a:ext cx="67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cc00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Text Box 10"/>
            <p:cNvSpPr/>
            <p:nvPr/>
          </p:nvSpPr>
          <p:spPr>
            <a:xfrm>
              <a:off x="2363760" y="449568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cc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164760" y="1819440"/>
              <a:ext cx="2798280" cy="2577960"/>
              <a:chOff x="3164760" y="1819440"/>
              <a:chExt cx="2798280" cy="2577960"/>
            </a:xfrm>
          </p:grpSpPr>
          <p:sp>
            <p:nvSpPr>
              <p:cNvPr id="542" name="Line 3"/>
              <p:cNvSpPr/>
              <p:nvPr/>
            </p:nvSpPr>
            <p:spPr>
              <a:xfrm flipV="1">
                <a:off x="3164760" y="1819440"/>
                <a:ext cx="2798280" cy="257796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3" name="Oval 11"/>
              <p:cNvSpPr/>
              <p:nvPr/>
            </p:nvSpPr>
            <p:spPr>
              <a:xfrm>
                <a:off x="4505400" y="3013200"/>
                <a:ext cx="152280" cy="152280"/>
              </a:xfrm>
              <a:prstGeom prst="ellipse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15"/>
          <p:cNvGrpSpPr/>
          <p:nvPr/>
        </p:nvGrpSpPr>
        <p:grpSpPr>
          <a:xfrm>
            <a:off x="1117440" y="981000"/>
            <a:ext cx="7092720" cy="4613400"/>
            <a:chOff x="1117440" y="981000"/>
            <a:chExt cx="7092720" cy="4613400"/>
          </a:xfrm>
        </p:grpSpPr>
        <p:sp>
          <p:nvSpPr>
            <p:cNvPr id="545" name="Text Box 7"/>
            <p:cNvSpPr/>
            <p:nvPr/>
          </p:nvSpPr>
          <p:spPr>
            <a:xfrm>
              <a:off x="1117440" y="981000"/>
              <a:ext cx="67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cc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Text Box 8"/>
            <p:cNvSpPr/>
            <p:nvPr/>
          </p:nvSpPr>
          <p:spPr>
            <a:xfrm>
              <a:off x="7534080" y="3854520"/>
              <a:ext cx="67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cc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47" name="Group 13"/>
            <p:cNvGrpSpPr/>
            <p:nvPr/>
          </p:nvGrpSpPr>
          <p:grpSpPr>
            <a:xfrm>
              <a:off x="1782720" y="1859040"/>
              <a:ext cx="5521320" cy="2496960"/>
              <a:chOff x="1782720" y="1859040"/>
              <a:chExt cx="5521320" cy="2496960"/>
            </a:xfrm>
          </p:grpSpPr>
          <p:sp>
            <p:nvSpPr>
              <p:cNvPr id="548" name="Line 2"/>
              <p:cNvSpPr/>
              <p:nvPr/>
            </p:nvSpPr>
            <p:spPr>
              <a:xfrm>
                <a:off x="1782720" y="1859040"/>
                <a:ext cx="5521320" cy="249696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9" name="Oval 12"/>
              <p:cNvSpPr/>
              <p:nvPr/>
            </p:nvSpPr>
            <p:spPr>
              <a:xfrm>
                <a:off x="4484520" y="3019320"/>
                <a:ext cx="152640" cy="152280"/>
              </a:xfrm>
              <a:prstGeom prst="ellipse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AutoShape 17">
            <a:hlinkClick r:id="rId1" action="ppaction://hlinksldjump"/>
          </p:cNvPr>
          <p:cNvSpPr/>
          <p:nvPr/>
        </p:nvSpPr>
        <p:spPr>
          <a:xfrm>
            <a:off x="7924680" y="62485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Text Box 18"/>
          <p:cNvSpPr/>
          <p:nvPr/>
        </p:nvSpPr>
        <p:spPr>
          <a:xfrm>
            <a:off x="4500720" y="3141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Line 2"/>
          <p:cNvSpPr/>
          <p:nvPr/>
        </p:nvSpPr>
        <p:spPr>
          <a:xfrm>
            <a:off x="2116080" y="2362320"/>
            <a:ext cx="350532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Line 4"/>
          <p:cNvSpPr/>
          <p:nvPr/>
        </p:nvSpPr>
        <p:spPr>
          <a:xfrm>
            <a:off x="3371760" y="4191120"/>
            <a:ext cx="350532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1297080" y="13716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5716800" y="12952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2668680" y="41911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240680" y="42670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AutoShape 11">
            <a:hlinkClick r:id="rId1" action="ppaction://hlinksldjump"/>
          </p:cNvPr>
          <p:cNvSpPr/>
          <p:nvPr/>
        </p:nvSpPr>
        <p:spPr>
          <a:xfrm>
            <a:off x="7924680" y="61722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457200" y="2514600"/>
            <a:ext cx="1219320" cy="18288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990720" y="2514600"/>
            <a:ext cx="1218960" cy="18288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Line 14"/>
          <p:cNvSpPr/>
          <p:nvPr/>
        </p:nvSpPr>
        <p:spPr>
          <a:xfrm>
            <a:off x="2133720" y="2362320"/>
            <a:ext cx="1218960" cy="18288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5651640" y="2349360"/>
            <a:ext cx="1218960" cy="18288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Line 17"/>
          <p:cNvSpPr/>
          <p:nvPr/>
        </p:nvSpPr>
        <p:spPr>
          <a:xfrm>
            <a:off x="2124000" y="2349360"/>
            <a:ext cx="4680000" cy="1800360"/>
          </a:xfrm>
          <a:prstGeom prst="line">
            <a:avLst/>
          </a:prstGeom>
          <a:ln w="5724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65" name="Group 26"/>
          <p:cNvGrpSpPr/>
          <p:nvPr/>
        </p:nvGrpSpPr>
        <p:grpSpPr>
          <a:xfrm>
            <a:off x="2417400" y="2205000"/>
            <a:ext cx="4027680" cy="2092680"/>
            <a:chOff x="2417400" y="2205000"/>
            <a:chExt cx="4027680" cy="2092680"/>
          </a:xfrm>
        </p:grpSpPr>
        <p:sp>
          <p:nvSpPr>
            <p:cNvPr id="566" name="Arc 18"/>
            <p:cNvSpPr/>
            <p:nvPr/>
          </p:nvSpPr>
          <p:spPr>
            <a:xfrm rot="16200000">
              <a:off x="5686200" y="3898440"/>
              <a:ext cx="293760" cy="217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fill="none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</a:path>
                <a:path stroke="0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7" name="Text Box 19"/>
            <p:cNvSpPr/>
            <p:nvPr/>
          </p:nvSpPr>
          <p:spPr>
            <a:xfrm>
              <a:off x="5219640" y="371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8" name="Arc 20"/>
            <p:cNvSpPr/>
            <p:nvPr/>
          </p:nvSpPr>
          <p:spPr>
            <a:xfrm rot="16200000">
              <a:off x="6189480" y="3611520"/>
              <a:ext cx="293760" cy="217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fill="none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</a:path>
                <a:path stroke="0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5724360" y="3284640"/>
              <a:ext cx="2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0" name="Text Box 22"/>
            <p:cNvSpPr/>
            <p:nvPr/>
          </p:nvSpPr>
          <p:spPr>
            <a:xfrm>
              <a:off x="3132000" y="2205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1" name="Text Box 23"/>
            <p:cNvSpPr/>
            <p:nvPr/>
          </p:nvSpPr>
          <p:spPr>
            <a:xfrm>
              <a:off x="2700360" y="263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2" name="Arc 24"/>
            <p:cNvSpPr/>
            <p:nvPr/>
          </p:nvSpPr>
          <p:spPr>
            <a:xfrm rot="4311600">
              <a:off x="2986920" y="2349360"/>
              <a:ext cx="289080" cy="2890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fill="none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</a:path>
                <a:path stroke="0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3" name="Arc 25"/>
            <p:cNvSpPr/>
            <p:nvPr/>
          </p:nvSpPr>
          <p:spPr>
            <a:xfrm flipH="1" rot="7993200">
              <a:off x="2408040" y="2639880"/>
              <a:ext cx="220680" cy="70200"/>
            </a:xfrm>
            <a:custGeom>
              <a:avLst/>
              <a:gdLst>
                <a:gd name="textAreaLeft" fmla="*/ -360 w 220680"/>
                <a:gd name="textAreaRight" fmla="*/ 220680 w 2206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fill="none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</a:path>
                <a:path stroke="0" w="21696" h="21600">
                  <a:moveTo>
                    <a:pt x="0" y="0"/>
                  </a:moveTo>
                  <a:cubicBezTo>
                    <a:pt x="32" y="0"/>
                    <a:pt x="64" y="-1"/>
                    <a:pt x="96" y="0"/>
                  </a:cubicBezTo>
                  <a:cubicBezTo>
                    <a:pt x="12025" y="0"/>
                    <a:pt x="21696" y="9670"/>
                    <a:pt x="21696" y="21600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t" anchorCtr="1" rot="10800000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24000" y="11253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一、知识目标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、经历并了解平行四边形的判别方法探索过程，我们可以逐步掌握说理的基本方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、探索并了解平行四边形的判别方法：两条对角线互相平分的四边形是平行四边形；一组对边平行且相等的四边形是平行四边形。能根据判别方法进行有关的应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0" y="4149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</a:rPr>
              <a:t>二、能力目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111111"/>
                </a:solidFill>
                <a:latin typeface="宋体"/>
              </a:rPr>
              <a:t>在探索过程中发展我们的合理推理意识、主动探究的习惯。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548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宋体"/>
              </a:rPr>
              <a:t>三、德育目标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111111"/>
                </a:solidFill>
                <a:latin typeface="宋体"/>
              </a:rPr>
              <a:t>体验数学活动来源于生活又服务于生活，提高我们的学习兴趣。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8" name="Picture 6" descr="13"/>
          <p:cNvPicPr/>
          <p:nvPr/>
        </p:nvPicPr>
        <p:blipFill>
          <a:blip r:embed="rId1"/>
          <a:stretch/>
        </p:blipFill>
        <p:spPr>
          <a:xfrm flipH="1" rot="10800000"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419" name="WordArt 8"/>
          <p:cNvSpPr txBox="1"/>
          <p:nvPr/>
        </p:nvSpPr>
        <p:spPr>
          <a:xfrm>
            <a:off x="1042920" y="0"/>
            <a:ext cx="31687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：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Text Box 1026"/>
          <p:cNvSpPr/>
          <p:nvPr/>
        </p:nvSpPr>
        <p:spPr>
          <a:xfrm>
            <a:off x="0" y="2743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四边形的性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AutoShape 1027"/>
          <p:cNvSpPr/>
          <p:nvPr/>
        </p:nvSpPr>
        <p:spPr>
          <a:xfrm>
            <a:off x="3505320" y="762120"/>
            <a:ext cx="152280" cy="4724280"/>
          </a:xfrm>
          <a:custGeom>
            <a:avLst/>
            <a:gdLst>
              <a:gd name="textAreaLeft" fmla="*/ 97200 w 152280"/>
              <a:gd name="textAreaRight" fmla="*/ 152640 w 15228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Oval 1028"/>
          <p:cNvSpPr/>
          <p:nvPr/>
        </p:nvSpPr>
        <p:spPr>
          <a:xfrm>
            <a:off x="3886200" y="609480"/>
            <a:ext cx="91440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Text Box 1029"/>
          <p:cNvSpPr/>
          <p:nvPr/>
        </p:nvSpPr>
        <p:spPr>
          <a:xfrm>
            <a:off x="4038480" y="609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Text Box 1030"/>
          <p:cNvSpPr/>
          <p:nvPr/>
        </p:nvSpPr>
        <p:spPr>
          <a:xfrm>
            <a:off x="4876920" y="304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对边平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Text Box 1031"/>
          <p:cNvSpPr/>
          <p:nvPr/>
        </p:nvSpPr>
        <p:spPr>
          <a:xfrm>
            <a:off x="487692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对边相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Oval 1032"/>
          <p:cNvSpPr/>
          <p:nvPr/>
        </p:nvSpPr>
        <p:spPr>
          <a:xfrm>
            <a:off x="3809880" y="2743200"/>
            <a:ext cx="91440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Oval 1033"/>
          <p:cNvSpPr/>
          <p:nvPr/>
        </p:nvSpPr>
        <p:spPr>
          <a:xfrm>
            <a:off x="3733920" y="4419720"/>
            <a:ext cx="106668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Text Box 1034"/>
          <p:cNvSpPr/>
          <p:nvPr/>
        </p:nvSpPr>
        <p:spPr>
          <a:xfrm>
            <a:off x="3962520" y="27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Text Box 1035"/>
          <p:cNvSpPr/>
          <p:nvPr/>
        </p:nvSpPr>
        <p:spPr>
          <a:xfrm>
            <a:off x="4800600" y="2438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对角相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Text Box 1036"/>
          <p:cNvSpPr/>
          <p:nvPr/>
        </p:nvSpPr>
        <p:spPr>
          <a:xfrm>
            <a:off x="4800600" y="3048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邻角互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Text Box 1037"/>
          <p:cNvSpPr/>
          <p:nvPr/>
        </p:nvSpPr>
        <p:spPr>
          <a:xfrm>
            <a:off x="3657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对角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Text Box 1038"/>
          <p:cNvSpPr/>
          <p:nvPr/>
        </p:nvSpPr>
        <p:spPr>
          <a:xfrm>
            <a:off x="4648320" y="457200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对角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互相平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WordArt 1039"/>
          <p:cNvSpPr txBox="1"/>
          <p:nvPr/>
        </p:nvSpPr>
        <p:spPr>
          <a:xfrm>
            <a:off x="380880" y="0"/>
            <a:ext cx="266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温故知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5" name="Rectangle 1041"/>
          <p:cNvSpPr/>
          <p:nvPr/>
        </p:nvSpPr>
        <p:spPr>
          <a:xfrm>
            <a:off x="1042920" y="18900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75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Text Box 33"/>
          <p:cNvSpPr/>
          <p:nvPr/>
        </p:nvSpPr>
        <p:spPr>
          <a:xfrm>
            <a:off x="228600" y="1066680"/>
            <a:ext cx="8640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知道了平行四边形的性质，那么，有哪些方法可以判断一个四边形是平行四边形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根据定义：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两组对边分别平行的四边形叫做平行四边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因为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B//CD,AD//BC;</a:t>
            </a: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所以四边形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BCD</a:t>
            </a: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是平行四边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228600" y="774720"/>
            <a:ext cx="86868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明的爸爸在钉制平行四边形框架时采用了下面两种方法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方法一：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宋体"/>
                <a:hlinkClick r:id="rId1" action="ppaction://hlinksldjump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将两根木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中点重叠，并用钉子固定，则四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是平行四边形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755640" y="5445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684360" y="4292640"/>
            <a:ext cx="71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条对角线互相平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四边形是平行四边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457200" y="692280"/>
            <a:ext cx="8686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方法二：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Times New Roman"/>
                <a:hlinkClick r:id="rId1" action="ppaction://hlinksldjump"/>
              </a:rPr>
              <a:t>如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将两根同样长的木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平行放置，再用木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固，得到的四边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平行四边形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3350520" y="3716280"/>
            <a:ext cx="190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组对边平行且相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四边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平行四边形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900000" y="549360"/>
            <a:ext cx="7488360" cy="230328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304920" y="297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）根据定义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组对边分别平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的四边形叫做平行四边形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条对角线互相平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四边形是平行四边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组对边平行且相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四边形是平行四边形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WordArt 3"/>
          <p:cNvSpPr txBox="1"/>
          <p:nvPr/>
        </p:nvSpPr>
        <p:spPr>
          <a:xfrm>
            <a:off x="1403280" y="765000"/>
            <a:ext cx="63248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平行四边形的判别方法</a:t>
            </a:r>
            <a:endParaRPr b="1" lang="en-US" sz="3200" spc="1" strike="noStrike">
              <a:ln w="1260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WordArt 3"/>
          <p:cNvSpPr txBox="1"/>
          <p:nvPr/>
        </p:nvSpPr>
        <p:spPr>
          <a:xfrm>
            <a:off x="2629080" y="76320"/>
            <a:ext cx="25192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5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rnd" w="12600">
                  <a:solidFill>
                    <a:srgbClr val="ffff9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做一做 </a:t>
            </a:r>
            <a:endParaRPr b="1" lang="en-US" sz="3200" spc="1" strike="noStrike">
              <a:ln cap="rnd" w="12600">
                <a:solidFill>
                  <a:srgbClr val="ffff9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324000" y="1268280"/>
            <a:ext cx="489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上且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=ED=BC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找出图中的平行四边形。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2" name="Group 19"/>
          <p:cNvGrpSpPr/>
          <p:nvPr/>
        </p:nvGrpSpPr>
        <p:grpSpPr>
          <a:xfrm>
            <a:off x="5149800" y="1125360"/>
            <a:ext cx="3586320" cy="3720600"/>
            <a:chOff x="5149800" y="1125360"/>
            <a:chExt cx="3586320" cy="3720600"/>
          </a:xfrm>
        </p:grpSpPr>
        <p:sp>
          <p:nvSpPr>
            <p:cNvPr id="453" name="Rectangle 8"/>
            <p:cNvSpPr/>
            <p:nvPr/>
          </p:nvSpPr>
          <p:spPr>
            <a:xfrm>
              <a:off x="5149800" y="394164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4" name="Rectangle 9"/>
            <p:cNvSpPr/>
            <p:nvPr/>
          </p:nvSpPr>
          <p:spPr>
            <a:xfrm>
              <a:off x="8115120" y="402084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5" name="Rectangle 10"/>
            <p:cNvSpPr/>
            <p:nvPr/>
          </p:nvSpPr>
          <p:spPr>
            <a:xfrm>
              <a:off x="6667200" y="402084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6" name="Rectangle 11"/>
            <p:cNvSpPr/>
            <p:nvPr/>
          </p:nvSpPr>
          <p:spPr>
            <a:xfrm>
              <a:off x="5752800" y="112536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7" name="Rectangle 12"/>
            <p:cNvSpPr/>
            <p:nvPr/>
          </p:nvSpPr>
          <p:spPr>
            <a:xfrm>
              <a:off x="7429320" y="112536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58" name="Group 18"/>
            <p:cNvGrpSpPr/>
            <p:nvPr/>
          </p:nvGrpSpPr>
          <p:grpSpPr>
            <a:xfrm>
              <a:off x="5599080" y="2098440"/>
              <a:ext cx="2784600" cy="1846080"/>
              <a:chOff x="5599080" y="2098440"/>
              <a:chExt cx="2784600" cy="1846080"/>
            </a:xfrm>
          </p:grpSpPr>
          <p:sp>
            <p:nvSpPr>
              <p:cNvPr id="459" name="AutoShape 5"/>
              <p:cNvSpPr/>
              <p:nvPr/>
            </p:nvSpPr>
            <p:spPr>
              <a:xfrm>
                <a:off x="6970680" y="2115720"/>
                <a:ext cx="1371600" cy="1828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0" name="AutoShape 6"/>
              <p:cNvSpPr/>
              <p:nvPr/>
            </p:nvSpPr>
            <p:spPr>
              <a:xfrm flipV="1">
                <a:off x="6284880" y="2115720"/>
                <a:ext cx="1371600" cy="1828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1" name="AutoShape 7"/>
              <p:cNvSpPr/>
              <p:nvPr/>
            </p:nvSpPr>
            <p:spPr>
              <a:xfrm>
                <a:off x="5599080" y="2115720"/>
                <a:ext cx="1371600" cy="1828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2" name="Line 13"/>
              <p:cNvSpPr/>
              <p:nvPr/>
            </p:nvSpPr>
            <p:spPr>
              <a:xfrm>
                <a:off x="5599080" y="3927240"/>
                <a:ext cx="1371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3" name="Line 14"/>
              <p:cNvSpPr/>
              <p:nvPr/>
            </p:nvSpPr>
            <p:spPr>
              <a:xfrm>
                <a:off x="7012080" y="3920760"/>
                <a:ext cx="1371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6256440" y="2098440"/>
                <a:ext cx="1371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Text Box 22"/>
          <p:cNvSpPr/>
          <p:nvPr/>
        </p:nvSpPr>
        <p:spPr>
          <a:xfrm>
            <a:off x="3200400" y="5105520"/>
            <a:ext cx="51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一组对边平行且相等的四边形是平行四边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Text Box 1026"/>
          <p:cNvSpPr/>
          <p:nvPr/>
        </p:nvSpPr>
        <p:spPr>
          <a:xfrm>
            <a:off x="-667080" y="981000"/>
            <a:ext cx="152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大显身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Oval 1027"/>
          <p:cNvSpPr/>
          <p:nvPr/>
        </p:nvSpPr>
        <p:spPr>
          <a:xfrm>
            <a:off x="0" y="692280"/>
            <a:ext cx="990720" cy="3276360"/>
          </a:xfrm>
          <a:prstGeom prst="ellipse">
            <a:avLst/>
          </a:pr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Text Box 1028"/>
          <p:cNvSpPr/>
          <p:nvPr/>
        </p:nvSpPr>
        <p:spPr>
          <a:xfrm>
            <a:off x="1187280" y="0"/>
            <a:ext cx="795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：已知：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是平行四边形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对角线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上的两点，并且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E=CF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求证：四边形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BFDE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是平行四边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Text Box 1029"/>
          <p:cNvSpPr/>
          <p:nvPr/>
        </p:nvSpPr>
        <p:spPr>
          <a:xfrm>
            <a:off x="4114800" y="2666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Line 1030"/>
          <p:cNvSpPr/>
          <p:nvPr/>
        </p:nvSpPr>
        <p:spPr>
          <a:xfrm>
            <a:off x="1676520" y="3124080"/>
            <a:ext cx="1676160" cy="1143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Line 1031"/>
          <p:cNvSpPr/>
          <p:nvPr/>
        </p:nvSpPr>
        <p:spPr>
          <a:xfrm flipV="1">
            <a:off x="2133720" y="3123720"/>
            <a:ext cx="2057400" cy="304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Text Box 1032"/>
          <p:cNvSpPr/>
          <p:nvPr/>
        </p:nvSpPr>
        <p:spPr>
          <a:xfrm>
            <a:off x="24382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AutoShape 1033"/>
          <p:cNvSpPr/>
          <p:nvPr/>
        </p:nvSpPr>
        <p:spPr>
          <a:xfrm>
            <a:off x="838080" y="3124080"/>
            <a:ext cx="3353040" cy="1143000"/>
          </a:xfrm>
          <a:prstGeom prst="parallelogram">
            <a:avLst>
              <a:gd name="adj" fmla="val 73339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Text Box 1034"/>
          <p:cNvSpPr/>
          <p:nvPr/>
        </p:nvSpPr>
        <p:spPr>
          <a:xfrm>
            <a:off x="1295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Text Box 1035"/>
          <p:cNvSpPr/>
          <p:nvPr/>
        </p:nvSpPr>
        <p:spPr>
          <a:xfrm>
            <a:off x="533520" y="4243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Text Box 1036"/>
          <p:cNvSpPr/>
          <p:nvPr/>
        </p:nvSpPr>
        <p:spPr>
          <a:xfrm>
            <a:off x="3276720" y="431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Line 1037"/>
          <p:cNvSpPr/>
          <p:nvPr/>
        </p:nvSpPr>
        <p:spPr>
          <a:xfrm flipV="1">
            <a:off x="838080" y="3429000"/>
            <a:ext cx="1295640" cy="838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Line 1038"/>
          <p:cNvSpPr/>
          <p:nvPr/>
        </p:nvSpPr>
        <p:spPr>
          <a:xfrm flipH="1">
            <a:off x="2895120" y="3124080"/>
            <a:ext cx="1295640" cy="8384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Line 1039"/>
          <p:cNvSpPr/>
          <p:nvPr/>
        </p:nvSpPr>
        <p:spPr>
          <a:xfrm flipV="1">
            <a:off x="838080" y="3962520"/>
            <a:ext cx="2133720" cy="304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Text Box 1040"/>
          <p:cNvSpPr/>
          <p:nvPr/>
        </p:nvSpPr>
        <p:spPr>
          <a:xfrm>
            <a:off x="1752480" y="31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Text Box 1041"/>
          <p:cNvSpPr/>
          <p:nvPr/>
        </p:nvSpPr>
        <p:spPr>
          <a:xfrm>
            <a:off x="304812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Text Box 1042"/>
          <p:cNvSpPr/>
          <p:nvPr/>
        </p:nvSpPr>
        <p:spPr>
          <a:xfrm>
            <a:off x="3492360" y="1484280"/>
            <a:ext cx="594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证明：作对角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四边形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平行四边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O=C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=D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E=C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O-AE=CO-C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O=F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又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=D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∴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四边形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F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平行四边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Line 1043"/>
          <p:cNvSpPr/>
          <p:nvPr/>
        </p:nvSpPr>
        <p:spPr>
          <a:xfrm flipV="1">
            <a:off x="838080" y="3200040"/>
            <a:ext cx="3124440" cy="1066680"/>
          </a:xfrm>
          <a:prstGeom prst="line">
            <a:avLst/>
          </a:prstGeom>
          <a:ln w="2844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AutoShape 1044">
            <a:hlinkClick r:id="rId1" action="ppaction://hlinksldjump"/>
          </p:cNvPr>
          <p:cNvSpPr/>
          <p:nvPr/>
        </p:nvSpPr>
        <p:spPr>
          <a:xfrm>
            <a:off x="539640" y="5950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3794"/>
                </a:moveTo>
                <a:lnTo>
                  <a:pt x="21898" y="10800"/>
                </a:lnTo>
                <a:lnTo>
                  <a:pt x="7885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75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75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75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75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jianyuan.com</dc:creator>
  <dc:description>kejianyuan.com</dc:description>
  <cp:keywords>kejianyuan.com</cp:keywords>
  <dc:language>en-US</dc:language>
  <cp:lastModifiedBy/>
  <dcterms:modified xsi:type="dcterms:W3CDTF">2014-09-10T16:22:19Z</dcterms:modified>
  <cp:revision>51</cp:revision>
  <dc:subject>人教版八年级数学（下）全套课件</dc:subject>
  <dc:title>人教版八年级数学（下）全套课件</dc:title>
</cp:coreProperties>
</file>