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wmf" ContentType="image/x-wmf"/>
  <Override PartName="/ppt/media/chimes.wav" ContentType="audio/x-wav"/>
  <Override PartName="/ppt/media/camera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90C-162A-4D62-8EEA-D8882EA7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CBC-5207-4F39-AA49-FD4A44ED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BD250-C620-4BAB-8205-3A2632A2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E0F0F-15E8-4072-B337-2C2F1273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A9CFF-39E4-4DF3-8020-95FDFD8A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6DE90-36CA-46B0-87A8-9F44F9B7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6EF7F-6C20-465C-9CB9-4BCA2834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281C9-2966-46B1-8B55-9E4245A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30858-D01E-4DDA-BE76-23441319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CEE92-399E-4AA7-8A11-9FADA7A7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99936-683D-48DF-897D-1B68D24C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72AE6-8043-4B87-A39F-F16F6664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848-8B2F-41E8-9866-C9035876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81C0D-817C-4F1A-8283-FE4DD3CC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A6EC0-B404-482E-9A39-665B30DF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04272-F1BB-4613-8938-F02714BC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1F61A-2FE4-4222-909C-38E30F65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5D015-4EBB-4044-AE04-7766ABB7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71CCA-FBEA-4103-A3AD-43707A4E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29D58-1AAD-4ED3-B333-DAF9A60C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7A3E4-DE80-495B-B076-CB75C84E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D5B2A-46D3-4EB6-9414-DA4F68B4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35C49-F45B-4DC1-A5D1-D57D7152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56B-D1F7-40F8-B058-7EBAE3C5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FAD86-E200-4FBC-B253-E76B1529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4044A-C6C5-4113-BC40-89EC5C47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726E6-B9AA-4802-9638-6383A3C6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1B880-04D1-410D-8703-E122B6F3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1B639-C2F1-4C7B-95AC-FBA5381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939CB-65F5-4551-BF01-0A473E15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DD877-A2B4-4254-8F56-FC7D0DD7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BAF92-4BCF-444B-87C8-90053F6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16C15-809B-463F-89E8-3BE3059B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145BF-F5C4-4138-9F52-FC8A9595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0FC-8B6D-4E83-8209-9C8D6F9F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4E49D-32FD-42FD-BA53-1278C519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4F003-F550-4F59-BB11-F054B97D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A1D65-A468-437F-BBC9-BB834150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AFDB1-6D93-41E1-8BC3-88637C72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1835E-B47D-4F46-A7E7-741D51B2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49C18-8A2E-42CC-94EE-F37A94AD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0BA2E-31E6-42CE-ABDC-25217FA1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D332A-4983-459E-85AA-0C39E51C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4DAC1-4344-427C-91FF-0AE11B38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6E193-81B6-43AE-87D6-212CD00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2C95-922C-4E42-9C7F-ACA6616F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F40C2-86A4-4D08-9887-C734EE98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70E3D-23B2-46F8-9256-7C3A9DBA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A87DC-6F2D-4035-A05B-A8AA2869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54654-8708-4F56-A76B-FF60957A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8A021-E485-4E70-AC13-D5712494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ACCD-E9F5-4D33-8341-91A856C8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7A13-3D35-453C-8344-EB05FBA8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4309-CC6E-42AC-B30D-5D20718C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03EC-889C-4DD9-9868-BC9FF910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74B9-1C54-4798-8490-63B71500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370-415A-4C81-B772-2559D170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3DFB-FE6A-42A9-B42D-CCB3E9A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060A-674B-4104-918A-96FA98C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513A-AD26-4EF9-B2B4-889671A9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94D5-8919-4D00-859E-85A730F1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3077-1952-4830-B0F3-21A0FA89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C1B6-931A-46C2-A527-DDAE6E18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3CAA-2261-4E1D-9607-1E705C4C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492D-DE41-48F0-8851-BD0E8354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0B28-C1D8-4C44-8F63-5B089491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DF0FF-2F54-4E3C-8AA9-DCABD8AA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40B-579B-4C95-AB20-3A748F58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5C06-7EBB-496C-BC9C-B46E776C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2826-1BDC-419E-8A9D-8CF47CE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B71AD-8B34-4752-8E7B-F690F589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B467-6ED5-41BE-B5FD-FF8A14FD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1F68-715C-4A5A-9EEF-BC57C326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5B50-30BD-49BE-A526-90AADC39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F56E-19C0-4608-8D86-7FC6C6DD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5517E-F021-4A63-AC0D-763CB55A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790E-E63A-4B1E-8B2C-507DBE62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D5F3-302D-4653-9EE6-553C655D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0D2-AABE-4322-A01D-0AF84CD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4060-E801-454C-AEDD-12458A65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5A9B-AB57-4CC5-B5AC-05342FC9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D3416-8410-42F7-8334-BB87A093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C56C-9EDF-4030-BC10-EFA7B17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CA434-E6F5-4729-A6AF-D9F4AEEE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1863-D5FA-4858-BCA8-F3985526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054CF-46DF-4003-8C6C-2DB37301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5FEE-D8D4-4EA2-8EC7-0796F103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7192-10F0-4500-861D-4911AAC2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99549-D1AB-4B60-88B2-19806AE7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721-72C0-4393-9429-5359749C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7C47F-179E-4414-90EE-B5057C26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86651-0049-4EFE-AFEE-968D91BE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D07C6-99BE-4387-92FC-9FD4B3C8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11B47-4B60-4158-920A-C1707755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B8BA8-3C2A-4FCD-A16E-B2894740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892EC-AE88-4CB9-A852-D170B4F8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CD7E0-958B-4D4F-8DCA-2B945519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B70F9-F6A5-4921-BDCC-5FEA697D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50F2-64BC-4EBA-ADB9-30393C57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EC3ED-888E-4409-8D4E-4F6E864B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4BA-964B-45CE-BD3F-3526803B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7BE0-7385-4180-BC41-B9AC98F0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4C327-AB26-4CE3-9494-747CD4E4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3189B-2331-4F01-BB0D-08B22215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7EE6C-7DA0-42E0-86FF-3B2E5C34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4AE3-10DF-4851-9954-151BF1F6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DC9C-2202-4491-B3AC-BFEDC975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778A3-8009-49B1-B0EB-CF697046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09CB-314E-457D-B350-3178FAA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E3270-9A13-4BAD-87D4-36B3A554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8B85-DDBD-425E-852E-F9843386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11A-C4FD-40F2-8511-2834E07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61087-3556-41C2-94BF-6DF2F7F5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10D57-0840-48ED-AAAD-AC81E392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C7874-0E7C-4381-A297-33660436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D71DA-6CA3-4DB7-8643-756DFFDA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03790-67A5-460E-9F5B-B1831FB2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67F5A-8831-4255-8C8C-C5C5DB93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D0F9A-09CA-4912-8697-17A33355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327BC-E1AB-475A-A90F-10E3636B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DC532-5827-4AB1-88EA-155EA476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A561C-239B-4EFE-8D70-BF42CF7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780-ACAB-410F-99E6-D9328796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0D117-0893-4E3D-B234-34CA900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D120D-7A99-4BF9-B73D-76A5750A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D67C1-8025-4EB6-A315-961EEF53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95B6A-CA5B-4A8C-9668-F3D616B4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F9C66-5929-4A8F-A207-D6533956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B2871-9F5A-400B-9BA4-1E1F5F75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F514F-4B21-4C49-8454-5D1EF3A5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81436-8094-4132-B14C-B4ADE0F8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5F330-9967-4184-AD50-B428E296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662C0-EE1F-4187-B35F-16913BFE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77F-A2AD-456D-B53C-A2F5C0B1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C7955-106B-4673-AC03-3AEB3B9B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0E0DE-4609-470F-A125-D81EE632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2A27B-8633-41BF-ABFA-3174885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10707-F310-4E77-806A-AB3BDCEE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25FEE-4C8A-485C-8DA4-E657021D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33703-9D27-453A-AB2F-E9FB71BC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480B1-175C-45B9-85D6-F97F6F96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B38B4-2235-439C-8957-7A641F34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5FD11-22DA-4E8C-BA5D-4D500C43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C9778-3FCE-4F77-8452-18EA9910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09D7-5DE0-42FA-92B2-CAE8C7A88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2CAF-5D19-4B4B-8009-928CCCCE0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EE13-B882-4314-84E9-C0AF89C8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004A-EBC3-4F93-BF5D-6C8B11B81D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EFE6-E5C9-4C7E-BDC8-C35D95616D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1641-7411-4B22-8F76-01EA609F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B4F-8C7B-4878-B5EB-73D3DE2F7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9717-7BD6-430E-83C7-A9B240E0F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A280-BFBC-46C4-89B7-DEDC94749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D306-34C5-4B5D-9FA3-3A26C536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292E-5126-4FF2-BE08-9D89A8BD4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BDCD-BA8B-45B0-8E3B-EB3EFF3EB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7"/>
          <p:cNvGrpSpPr/>
          <p:nvPr/>
        </p:nvGrpSpPr>
        <p:grpSpPr>
          <a:xfrm>
            <a:off x="0" y="3565440"/>
            <a:ext cx="9134640" cy="3319560"/>
            <a:chOff x="0" y="3565440"/>
            <a:chExt cx="9134640" cy="3319560"/>
          </a:xfrm>
        </p:grpSpPr>
        <p:pic>
          <p:nvPicPr>
            <p:cNvPr id="502" name="Picture 2" descr="37501"/>
            <p:cNvPicPr/>
            <p:nvPr/>
          </p:nvPicPr>
          <p:blipFill>
            <a:blip r:embed="rId1"/>
            <a:stretch/>
          </p:blipFill>
          <p:spPr>
            <a:xfrm>
              <a:off x="0" y="3565440"/>
              <a:ext cx="5051520" cy="32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3" descr="37501"/>
            <p:cNvPicPr/>
            <p:nvPr/>
          </p:nvPicPr>
          <p:blipFill>
            <a:blip r:embed="rId2"/>
            <a:stretch/>
          </p:blipFill>
          <p:spPr>
            <a:xfrm>
              <a:off x="4083120" y="3592440"/>
              <a:ext cx="5051520" cy="329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4" name="WordArt 4" descr=""/>
          <p:cNvPicPr/>
          <p:nvPr/>
        </p:nvPicPr>
        <p:blipFill>
          <a:blip r:embed="rId3"/>
          <a:stretch/>
        </p:blipFill>
        <p:spPr>
          <a:xfrm>
            <a:off x="1249200" y="682560"/>
            <a:ext cx="6834240" cy="141444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8"/>
          <p:cNvSpPr/>
          <p:nvPr/>
        </p:nvSpPr>
        <p:spPr>
          <a:xfrm>
            <a:off x="2409840" y="32464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-360" y="1844280"/>
            <a:ext cx="88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已知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BCD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中，∠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=80°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，你能求出其他各角的度数吗？说说你的理由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AutoShape 3"/>
          <p:cNvSpPr/>
          <p:nvPr/>
        </p:nvSpPr>
        <p:spPr>
          <a:xfrm>
            <a:off x="228600" y="0"/>
            <a:ext cx="3429000" cy="190512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说一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1644480" y="2073240"/>
            <a:ext cx="720720" cy="289080"/>
          </a:xfrm>
          <a:prstGeom prst="parallelogram">
            <a:avLst>
              <a:gd name="adj" fmla="val 623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5"/>
          <p:cNvGrpSpPr/>
          <p:nvPr/>
        </p:nvGrpSpPr>
        <p:grpSpPr>
          <a:xfrm>
            <a:off x="4572000" y="3716280"/>
            <a:ext cx="3455280" cy="1969920"/>
            <a:chOff x="4572000" y="3716280"/>
            <a:chExt cx="3455280" cy="1969920"/>
          </a:xfrm>
        </p:grpSpPr>
        <p:sp>
          <p:nvSpPr>
            <p:cNvPr id="669" name="AutoShape 6"/>
            <p:cNvSpPr/>
            <p:nvPr/>
          </p:nvSpPr>
          <p:spPr>
            <a:xfrm>
              <a:off x="4962600" y="4044600"/>
              <a:ext cx="2534400" cy="1198800"/>
            </a:xfrm>
            <a:prstGeom prst="parallelogram">
              <a:avLst>
                <a:gd name="adj" fmla="val 5285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WordArt 7"/>
            <p:cNvSpPr txBox="1"/>
            <p:nvPr/>
          </p:nvSpPr>
          <p:spPr>
            <a:xfrm>
              <a:off x="4572000" y="5086800"/>
              <a:ext cx="345240" cy="51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671" name="WordArt 8"/>
            <p:cNvSpPr txBox="1"/>
            <p:nvPr/>
          </p:nvSpPr>
          <p:spPr>
            <a:xfrm>
              <a:off x="7221240" y="5172480"/>
              <a:ext cx="345240" cy="51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672" name="WordArt 9"/>
            <p:cNvSpPr txBox="1"/>
            <p:nvPr/>
          </p:nvSpPr>
          <p:spPr>
            <a:xfrm>
              <a:off x="7682040" y="3801960"/>
              <a:ext cx="345240" cy="51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673" name="WordArt 10"/>
            <p:cNvSpPr txBox="1"/>
            <p:nvPr/>
          </p:nvSpPr>
          <p:spPr>
            <a:xfrm>
              <a:off x="4917240" y="3716280"/>
              <a:ext cx="345240" cy="51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674" name="Text Box 11"/>
          <p:cNvSpPr/>
          <p:nvPr/>
        </p:nvSpPr>
        <p:spPr>
          <a:xfrm>
            <a:off x="755640" y="414972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=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684360" y="57340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=10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684360" y="494172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=10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468360" y="181944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， 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=48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C=3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=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WordArt 3"/>
          <p:cNvSpPr txBox="1"/>
          <p:nvPr/>
        </p:nvSpPr>
        <p:spPr>
          <a:xfrm>
            <a:off x="2125800" y="3114720"/>
            <a:ext cx="792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48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680" name="WordArt 4"/>
          <p:cNvSpPr txBox="1"/>
          <p:nvPr/>
        </p:nvSpPr>
        <p:spPr>
          <a:xfrm>
            <a:off x="5942160" y="3114720"/>
            <a:ext cx="83016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3cm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681" name="AutoShape 5"/>
          <p:cNvSpPr/>
          <p:nvPr/>
        </p:nvSpPr>
        <p:spPr>
          <a:xfrm>
            <a:off x="1187280" y="2108160"/>
            <a:ext cx="576360" cy="21600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WordArt 6"/>
          <p:cNvSpPr txBox="1"/>
          <p:nvPr/>
        </p:nvSpPr>
        <p:spPr>
          <a:xfrm>
            <a:off x="4933800" y="2540160"/>
            <a:ext cx="72072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132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grpSp>
        <p:nvGrpSpPr>
          <p:cNvPr id="683" name="Group 7"/>
          <p:cNvGrpSpPr/>
          <p:nvPr/>
        </p:nvGrpSpPr>
        <p:grpSpPr>
          <a:xfrm>
            <a:off x="2411280" y="4122720"/>
            <a:ext cx="3455280" cy="1969920"/>
            <a:chOff x="2411280" y="4122720"/>
            <a:chExt cx="3455280" cy="1969920"/>
          </a:xfrm>
        </p:grpSpPr>
        <p:sp>
          <p:nvSpPr>
            <p:cNvPr id="684" name="AutoShape 8"/>
            <p:cNvSpPr/>
            <p:nvPr/>
          </p:nvSpPr>
          <p:spPr>
            <a:xfrm>
              <a:off x="2801880" y="4451040"/>
              <a:ext cx="2534400" cy="1198800"/>
            </a:xfrm>
            <a:prstGeom prst="parallelogram">
              <a:avLst>
                <a:gd name="adj" fmla="val 5285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WordArt 9"/>
            <p:cNvSpPr txBox="1"/>
            <p:nvPr/>
          </p:nvSpPr>
          <p:spPr>
            <a:xfrm>
              <a:off x="2411280" y="5493240"/>
              <a:ext cx="345240" cy="51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686" name="WordArt 10"/>
            <p:cNvSpPr txBox="1"/>
            <p:nvPr/>
          </p:nvSpPr>
          <p:spPr>
            <a:xfrm>
              <a:off x="5060520" y="5578920"/>
              <a:ext cx="345240" cy="51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687" name="WordArt 11"/>
            <p:cNvSpPr txBox="1"/>
            <p:nvPr/>
          </p:nvSpPr>
          <p:spPr>
            <a:xfrm>
              <a:off x="5521320" y="4208400"/>
              <a:ext cx="345240" cy="51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688" name="WordArt 12"/>
            <p:cNvSpPr txBox="1"/>
            <p:nvPr/>
          </p:nvSpPr>
          <p:spPr>
            <a:xfrm>
              <a:off x="2756520" y="4122720"/>
              <a:ext cx="345240" cy="51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689" name="AutoShape 14"/>
          <p:cNvSpPr/>
          <p:nvPr/>
        </p:nvSpPr>
        <p:spPr>
          <a:xfrm>
            <a:off x="228600" y="0"/>
            <a:ext cx="3429000" cy="190512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说一说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466560" y="1628640"/>
            <a:ext cx="7921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右图，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对角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,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,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,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相交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,F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E=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3"/>
          <p:cNvSpPr/>
          <p:nvPr/>
        </p:nvSpPr>
        <p:spPr>
          <a:xfrm>
            <a:off x="228600" y="0"/>
            <a:ext cx="2111400" cy="98100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48"/>
          <p:cNvSpPr/>
          <p:nvPr/>
        </p:nvSpPr>
        <p:spPr>
          <a:xfrm>
            <a:off x="1979640" y="1773360"/>
            <a:ext cx="576360" cy="215640"/>
          </a:xfrm>
          <a:prstGeom prst="parallelogram">
            <a:avLst>
              <a:gd name="adj" fmla="val 668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54"/>
          <p:cNvGrpSpPr/>
          <p:nvPr/>
        </p:nvGrpSpPr>
        <p:grpSpPr>
          <a:xfrm>
            <a:off x="3016080" y="3476520"/>
            <a:ext cx="6019560" cy="2547360"/>
            <a:chOff x="3016080" y="3476520"/>
            <a:chExt cx="6019560" cy="2547360"/>
          </a:xfrm>
        </p:grpSpPr>
        <p:grpSp>
          <p:nvGrpSpPr>
            <p:cNvPr id="695" name="Group 32"/>
            <p:cNvGrpSpPr/>
            <p:nvPr/>
          </p:nvGrpSpPr>
          <p:grpSpPr>
            <a:xfrm>
              <a:off x="3016080" y="3836880"/>
              <a:ext cx="6019560" cy="1925280"/>
              <a:chOff x="3016080" y="3836880"/>
              <a:chExt cx="6019560" cy="1925280"/>
            </a:xfrm>
          </p:grpSpPr>
          <p:grpSp>
            <p:nvGrpSpPr>
              <p:cNvPr id="696" name="Group 33"/>
              <p:cNvGrpSpPr/>
              <p:nvPr/>
            </p:nvGrpSpPr>
            <p:grpSpPr>
              <a:xfrm>
                <a:off x="3016080" y="3836880"/>
                <a:ext cx="6019560" cy="1925280"/>
                <a:chOff x="3016080" y="3836880"/>
                <a:chExt cx="6019560" cy="1925280"/>
              </a:xfrm>
            </p:grpSpPr>
            <p:sp>
              <p:nvSpPr>
                <p:cNvPr id="697" name="AutoShape 34"/>
                <p:cNvSpPr/>
                <p:nvPr/>
              </p:nvSpPr>
              <p:spPr>
                <a:xfrm>
                  <a:off x="3738240" y="4003920"/>
                  <a:ext cx="4815360" cy="1506960"/>
                </a:xfrm>
                <a:prstGeom prst="parallelogram">
                  <a:avLst>
                    <a:gd name="adj" fmla="val 79885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WordArt 35"/>
                <p:cNvSpPr txBox="1"/>
                <p:nvPr/>
              </p:nvSpPr>
              <p:spPr>
                <a:xfrm>
                  <a:off x="4430520" y="3836880"/>
                  <a:ext cx="361080" cy="25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</a:rPr>
                    <a:t>A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  <p:sp>
              <p:nvSpPr>
                <p:cNvPr id="699" name="WordArt 36"/>
                <p:cNvSpPr txBox="1"/>
                <p:nvPr/>
              </p:nvSpPr>
              <p:spPr>
                <a:xfrm>
                  <a:off x="3016080" y="5427360"/>
                  <a:ext cx="361080" cy="25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</a:rPr>
                    <a:t>B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  <p:sp>
              <p:nvSpPr>
                <p:cNvPr id="700" name="WordArt 37"/>
                <p:cNvSpPr txBox="1"/>
                <p:nvPr/>
              </p:nvSpPr>
              <p:spPr>
                <a:xfrm>
                  <a:off x="7590960" y="5511240"/>
                  <a:ext cx="361080" cy="25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</a:rPr>
                    <a:t>C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  <p:sp>
              <p:nvSpPr>
                <p:cNvPr id="701" name="WordArt 38"/>
                <p:cNvSpPr txBox="1"/>
                <p:nvPr/>
              </p:nvSpPr>
              <p:spPr>
                <a:xfrm>
                  <a:off x="8674560" y="3920040"/>
                  <a:ext cx="361080" cy="25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</a:rPr>
                    <a:t>D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sp>
            <p:nvSpPr>
              <p:cNvPr id="702" name="Line 39"/>
              <p:cNvSpPr/>
              <p:nvPr/>
            </p:nvSpPr>
            <p:spPr>
              <a:xfrm>
                <a:off x="4921200" y="3965040"/>
                <a:ext cx="2457360" cy="154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3" name="Group 40"/>
              <p:cNvGrpSpPr/>
              <p:nvPr/>
            </p:nvGrpSpPr>
            <p:grpSpPr>
              <a:xfrm>
                <a:off x="3720600" y="3965040"/>
                <a:ext cx="3657960" cy="1540440"/>
                <a:chOff x="3720600" y="3965040"/>
                <a:chExt cx="3657960" cy="1540440"/>
              </a:xfrm>
            </p:grpSpPr>
            <p:sp>
              <p:nvSpPr>
                <p:cNvPr id="704" name="Line 41"/>
                <p:cNvSpPr/>
                <p:nvPr/>
              </p:nvSpPr>
              <p:spPr>
                <a:xfrm flipH="1">
                  <a:off x="3720600" y="3965040"/>
                  <a:ext cx="1219320" cy="15404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42"/>
                <p:cNvSpPr/>
                <p:nvPr/>
              </p:nvSpPr>
              <p:spPr>
                <a:xfrm>
                  <a:off x="3720960" y="5505480"/>
                  <a:ext cx="3657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43"/>
                <p:cNvSpPr/>
                <p:nvPr/>
              </p:nvSpPr>
              <p:spPr>
                <a:xfrm>
                  <a:off x="4940280" y="3965040"/>
                  <a:ext cx="2438280" cy="15404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44"/>
              <p:cNvGrpSpPr/>
              <p:nvPr/>
            </p:nvGrpSpPr>
            <p:grpSpPr>
              <a:xfrm>
                <a:off x="4940280" y="3980520"/>
                <a:ext cx="3657960" cy="1540440"/>
                <a:chOff x="4940280" y="3980520"/>
                <a:chExt cx="3657960" cy="1540440"/>
              </a:xfrm>
            </p:grpSpPr>
            <p:sp>
              <p:nvSpPr>
                <p:cNvPr id="708" name="Line 45"/>
                <p:cNvSpPr/>
                <p:nvPr/>
              </p:nvSpPr>
              <p:spPr>
                <a:xfrm flipV="1">
                  <a:off x="7378920" y="3980520"/>
                  <a:ext cx="1219320" cy="154044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6"/>
                <p:cNvSpPr/>
                <p:nvPr/>
              </p:nvSpPr>
              <p:spPr>
                <a:xfrm flipH="1">
                  <a:off x="4940280" y="3980520"/>
                  <a:ext cx="365760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7"/>
                <p:cNvSpPr/>
                <p:nvPr/>
              </p:nvSpPr>
              <p:spPr>
                <a:xfrm flipH="1" flipV="1">
                  <a:off x="4940280" y="3980520"/>
                  <a:ext cx="2438280" cy="154044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1" name="Line 49"/>
            <p:cNvSpPr/>
            <p:nvPr/>
          </p:nvSpPr>
          <p:spPr>
            <a:xfrm flipV="1">
              <a:off x="3706560" y="3979800"/>
              <a:ext cx="4897440" cy="151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50"/>
            <p:cNvSpPr/>
            <p:nvPr/>
          </p:nvSpPr>
          <p:spPr>
            <a:xfrm flipH="1">
              <a:off x="5563800" y="3979800"/>
              <a:ext cx="1150920" cy="151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51"/>
            <p:cNvSpPr/>
            <p:nvPr/>
          </p:nvSpPr>
          <p:spPr>
            <a:xfrm>
              <a:off x="5581080" y="4441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52"/>
            <p:cNvSpPr/>
            <p:nvPr/>
          </p:nvSpPr>
          <p:spPr>
            <a:xfrm>
              <a:off x="6661080" y="347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53"/>
            <p:cNvSpPr/>
            <p:nvPr/>
          </p:nvSpPr>
          <p:spPr>
            <a:xfrm>
              <a:off x="5365440" y="5564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3"/>
          <p:cNvGrpSpPr/>
          <p:nvPr/>
        </p:nvGrpSpPr>
        <p:grpSpPr>
          <a:xfrm>
            <a:off x="628560" y="985680"/>
            <a:ext cx="1809720" cy="729000"/>
            <a:chOff x="628560" y="985680"/>
            <a:chExt cx="1809720" cy="729000"/>
          </a:xfrm>
        </p:grpSpPr>
        <p:sp>
          <p:nvSpPr>
            <p:cNvPr id="718" name="Oval 4"/>
            <p:cNvSpPr/>
            <p:nvPr/>
          </p:nvSpPr>
          <p:spPr>
            <a:xfrm>
              <a:off x="628560" y="1028880"/>
              <a:ext cx="1809720" cy="6858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5"/>
            <p:cNvSpPr/>
            <p:nvPr/>
          </p:nvSpPr>
          <p:spPr>
            <a:xfrm>
              <a:off x="893880" y="985680"/>
              <a:ext cx="131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作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6"/>
          <p:cNvSpPr/>
          <p:nvPr/>
        </p:nvSpPr>
        <p:spPr>
          <a:xfrm>
            <a:off x="2001960" y="2133720"/>
            <a:ext cx="512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后作业：课本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9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56~5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识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tu1"/>
          <p:cNvPicPr/>
          <p:nvPr/>
        </p:nvPicPr>
        <p:blipFill>
          <a:blip r:embed="rId1"/>
          <a:stretch/>
        </p:blipFill>
        <p:spPr>
          <a:xfrm>
            <a:off x="0" y="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tu2"/>
          <p:cNvPicPr/>
          <p:nvPr/>
        </p:nvPicPr>
        <p:blipFill>
          <a:blip r:embed="rId2"/>
          <a:stretch/>
        </p:blipFill>
        <p:spPr>
          <a:xfrm>
            <a:off x="4572000" y="0"/>
            <a:ext cx="4824360" cy="3124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tu3"/>
          <p:cNvPicPr/>
          <p:nvPr/>
        </p:nvPicPr>
        <p:blipFill>
          <a:blip r:embed="rId3"/>
          <a:stretch/>
        </p:blipFill>
        <p:spPr>
          <a:xfrm>
            <a:off x="0" y="3141720"/>
            <a:ext cx="4716360" cy="37162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5"/>
          <p:cNvSpPr/>
          <p:nvPr/>
        </p:nvSpPr>
        <p:spPr>
          <a:xfrm>
            <a:off x="34290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6" descr="www.war77.comc.cn"/>
          <p:cNvPicPr/>
          <p:nvPr/>
        </p:nvPicPr>
        <p:blipFill>
          <a:blip r:embed="rId4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7"/>
          <p:cNvSpPr/>
          <p:nvPr/>
        </p:nvSpPr>
        <p:spPr>
          <a:xfrm>
            <a:off x="3886200" y="2314440"/>
            <a:ext cx="86868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4185720" y="1825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留意生活中的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95280" y="836640"/>
            <a:ext cx="842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组对边分别平行的四边形叫做平行四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396720" y="3751200"/>
            <a:ext cx="874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四边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是平行四边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作：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 　                  “     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BCD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读作：平行四边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"/>
          <p:cNvSpPr/>
          <p:nvPr/>
        </p:nvSpPr>
        <p:spPr>
          <a:xfrm>
            <a:off x="3201840" y="1654200"/>
            <a:ext cx="2592360" cy="1584360"/>
          </a:xfrm>
          <a:prstGeom prst="parallelogram">
            <a:avLst>
              <a:gd name="adj" fmla="val 409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3489480" y="1413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841480" y="29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146560" y="306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794200" y="1413000"/>
            <a:ext cx="2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3348000" y="71280"/>
            <a:ext cx="30243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平行四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0"/>
          <p:cNvSpPr/>
          <p:nvPr/>
        </p:nvSpPr>
        <p:spPr>
          <a:xfrm>
            <a:off x="793800" y="4497480"/>
            <a:ext cx="609480" cy="299880"/>
          </a:xfrm>
          <a:prstGeom prst="flowChartInputOutpu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144000" y="1414440"/>
            <a:ext cx="9541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两组对边分别平行的四边形叫做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平行四边形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AutoShape 3"/>
          <p:cNvSpPr/>
          <p:nvPr/>
        </p:nvSpPr>
        <p:spPr>
          <a:xfrm>
            <a:off x="0" y="0"/>
            <a:ext cx="2971800" cy="11430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7"/>
          <p:cNvGrpSpPr/>
          <p:nvPr/>
        </p:nvGrpSpPr>
        <p:grpSpPr>
          <a:xfrm>
            <a:off x="647640" y="1990800"/>
            <a:ext cx="6300720" cy="1072440"/>
            <a:chOff x="647640" y="1990800"/>
            <a:chExt cx="6300720" cy="1072440"/>
          </a:xfrm>
        </p:grpSpPr>
        <p:sp>
          <p:nvSpPr>
            <p:cNvPr id="529" name="Text Box 4"/>
            <p:cNvSpPr/>
            <p:nvPr/>
          </p:nvSpPr>
          <p:spPr>
            <a:xfrm>
              <a:off x="647640" y="1990800"/>
              <a:ext cx="630072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如图四边形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BCD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是平行四边形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记作：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BC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5"/>
            <p:cNvSpPr/>
            <p:nvPr/>
          </p:nvSpPr>
          <p:spPr>
            <a:xfrm>
              <a:off x="1834920" y="2698560"/>
              <a:ext cx="533520" cy="228600"/>
            </a:xfrm>
            <a:prstGeom prst="parallelogram">
              <a:avLst>
                <a:gd name="adj" fmla="val 5834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6"/>
          <p:cNvGrpSpPr/>
          <p:nvPr/>
        </p:nvGrpSpPr>
        <p:grpSpPr>
          <a:xfrm>
            <a:off x="5651640" y="1917720"/>
            <a:ext cx="3237840" cy="1752120"/>
            <a:chOff x="5651640" y="1917720"/>
            <a:chExt cx="3237840" cy="1752120"/>
          </a:xfrm>
        </p:grpSpPr>
        <p:sp>
          <p:nvSpPr>
            <p:cNvPr id="532" name="AutoShape 7"/>
            <p:cNvSpPr/>
            <p:nvPr/>
          </p:nvSpPr>
          <p:spPr>
            <a:xfrm>
              <a:off x="6118920" y="2501640"/>
              <a:ext cx="2603880" cy="908280"/>
            </a:xfrm>
            <a:prstGeom prst="parallelogram">
              <a:avLst>
                <a:gd name="adj" fmla="val 71671"/>
              </a:avLst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WordArt 8"/>
            <p:cNvSpPr txBox="1"/>
            <p:nvPr/>
          </p:nvSpPr>
          <p:spPr>
            <a:xfrm>
              <a:off x="6719760" y="2047320"/>
              <a:ext cx="233640" cy="38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34" name="WordArt 9"/>
            <p:cNvSpPr txBox="1"/>
            <p:nvPr/>
          </p:nvSpPr>
          <p:spPr>
            <a:xfrm>
              <a:off x="5651640" y="3215520"/>
              <a:ext cx="233640" cy="38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35" name="WordArt 10"/>
            <p:cNvSpPr txBox="1"/>
            <p:nvPr/>
          </p:nvSpPr>
          <p:spPr>
            <a:xfrm>
              <a:off x="8255520" y="3280680"/>
              <a:ext cx="233640" cy="38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36" name="WordArt 11"/>
            <p:cNvSpPr txBox="1"/>
            <p:nvPr/>
          </p:nvSpPr>
          <p:spPr>
            <a:xfrm>
              <a:off x="8655840" y="1917720"/>
              <a:ext cx="233640" cy="38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37" name="Line 12"/>
          <p:cNvSpPr/>
          <p:nvPr/>
        </p:nvSpPr>
        <p:spPr>
          <a:xfrm>
            <a:off x="6745320" y="2479680"/>
            <a:ext cx="1338120" cy="88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250920" y="3684600"/>
            <a:ext cx="84247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平行四边形不相邻的两个顶点连成的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叫它的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对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973080" y="45100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.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就是它的对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324000" y="5302080"/>
            <a:ext cx="669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平行四边形相对的边称为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对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相对的角称为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对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6119640" y="2522160"/>
            <a:ext cx="25848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365040" y="304920"/>
            <a:ext cx="21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活动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2700360" y="40464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探求平行四边形的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684360" y="1413000"/>
            <a:ext cx="39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对边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684360" y="2060640"/>
            <a:ext cx="41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对角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685880" y="3357720"/>
            <a:ext cx="39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平行四边形的对边平行且相等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1409400" y="4076640"/>
            <a:ext cx="31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平行四边形的对角相等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684360" y="2716200"/>
            <a:ext cx="41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对角线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1685880" y="4803840"/>
            <a:ext cx="39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平行四边形的对角线互相平分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4000" y="360000"/>
            <a:ext cx="48960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Garamond"/>
              </a:rPr>
              <a:t>平行四边形的性质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3" name="Group 5"/>
          <p:cNvGrpSpPr/>
          <p:nvPr/>
        </p:nvGrpSpPr>
        <p:grpSpPr>
          <a:xfrm>
            <a:off x="1619280" y="1413000"/>
            <a:ext cx="1794960" cy="1297800"/>
            <a:chOff x="1619280" y="1413000"/>
            <a:chExt cx="1794960" cy="1297800"/>
          </a:xfrm>
        </p:grpSpPr>
        <p:sp>
          <p:nvSpPr>
            <p:cNvPr id="554" name="AutoShape 6"/>
            <p:cNvSpPr/>
            <p:nvPr/>
          </p:nvSpPr>
          <p:spPr>
            <a:xfrm>
              <a:off x="1908000" y="1780920"/>
              <a:ext cx="1312560" cy="622080"/>
            </a:xfrm>
            <a:prstGeom prst="parallelogram">
              <a:avLst>
                <a:gd name="adj" fmla="val 52749"/>
              </a:avLst>
            </a:prstGeom>
            <a:noFill/>
            <a:ln w="936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7"/>
            <p:cNvSpPr/>
            <p:nvPr/>
          </p:nvSpPr>
          <p:spPr>
            <a:xfrm>
              <a:off x="1923840" y="1413000"/>
              <a:ext cx="2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8"/>
            <p:cNvSpPr/>
            <p:nvPr/>
          </p:nvSpPr>
          <p:spPr>
            <a:xfrm>
              <a:off x="3143160" y="1413000"/>
              <a:ext cx="2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9"/>
            <p:cNvSpPr/>
            <p:nvPr/>
          </p:nvSpPr>
          <p:spPr>
            <a:xfrm>
              <a:off x="2812680" y="225108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1619280" y="2251080"/>
              <a:ext cx="2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9" name="Object 11"/>
          <p:cNvGraphicFramePr/>
          <p:nvPr/>
        </p:nvGraphicFramePr>
        <p:xfrm>
          <a:off x="-1116000" y="3068640"/>
          <a:ext cx="11130120" cy="796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00" y="3068640"/>
                    <a:ext cx="11130120" cy="796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Text Box 12"/>
          <p:cNvSpPr/>
          <p:nvPr/>
        </p:nvSpPr>
        <p:spPr>
          <a:xfrm>
            <a:off x="2627280" y="3551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3236760" y="3551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且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3014640" y="4470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3057480" y="4941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互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9"/>
          <p:cNvSpPr/>
          <p:nvPr/>
        </p:nvSpPr>
        <p:spPr>
          <a:xfrm>
            <a:off x="4748400" y="447192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＝∠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,∠B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＝∠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20"/>
          <p:cNvGrpSpPr/>
          <p:nvPr/>
        </p:nvGrpSpPr>
        <p:grpSpPr>
          <a:xfrm>
            <a:off x="4788000" y="3484440"/>
            <a:ext cx="3429000" cy="612000"/>
            <a:chOff x="4788000" y="3484440"/>
            <a:chExt cx="3429000" cy="612000"/>
          </a:xfrm>
        </p:grpSpPr>
        <p:sp>
          <p:nvSpPr>
            <p:cNvPr id="567" name="Text Box 21"/>
            <p:cNvSpPr/>
            <p:nvPr/>
          </p:nvSpPr>
          <p:spPr>
            <a:xfrm>
              <a:off x="4788000" y="348444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AB∥CD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AD∥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2"/>
            <p:cNvSpPr/>
            <p:nvPr/>
          </p:nvSpPr>
          <p:spPr>
            <a:xfrm>
              <a:off x="5168880" y="3636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3"/>
            <p:cNvSpPr/>
            <p:nvPr/>
          </p:nvSpPr>
          <p:spPr>
            <a:xfrm>
              <a:off x="6616800" y="363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4"/>
          <p:cNvSpPr/>
          <p:nvPr/>
        </p:nvSpPr>
        <p:spPr>
          <a:xfrm>
            <a:off x="5064480" y="488628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＋∠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2843280" y="531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互相平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2"/>
          <p:cNvSpPr/>
          <p:nvPr/>
        </p:nvSpPr>
        <p:spPr>
          <a:xfrm>
            <a:off x="4632480" y="54198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O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O     BO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52"/>
          <p:cNvGrpSpPr/>
          <p:nvPr/>
        </p:nvGrpSpPr>
        <p:grpSpPr>
          <a:xfrm>
            <a:off x="4284360" y="1379520"/>
            <a:ext cx="2304000" cy="1288800"/>
            <a:chOff x="4284360" y="1379520"/>
            <a:chExt cx="2304000" cy="1288800"/>
          </a:xfrm>
        </p:grpSpPr>
        <p:sp>
          <p:nvSpPr>
            <p:cNvPr id="574" name="AutoShape 34"/>
            <p:cNvSpPr/>
            <p:nvPr/>
          </p:nvSpPr>
          <p:spPr>
            <a:xfrm>
              <a:off x="4284720" y="1484280"/>
              <a:ext cx="223200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36"/>
            <p:cNvSpPr/>
            <p:nvPr/>
          </p:nvSpPr>
          <p:spPr>
            <a:xfrm>
              <a:off x="4940280" y="1689120"/>
              <a:ext cx="855720" cy="65088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7"/>
            <p:cNvSpPr/>
            <p:nvPr/>
          </p:nvSpPr>
          <p:spPr>
            <a:xfrm flipH="1">
              <a:off x="4939920" y="1652760"/>
              <a:ext cx="1384200" cy="363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8"/>
            <p:cNvSpPr/>
            <p:nvPr/>
          </p:nvSpPr>
          <p:spPr>
            <a:xfrm flipH="1">
              <a:off x="5796000" y="1652760"/>
              <a:ext cx="528480" cy="6872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9"/>
            <p:cNvSpPr/>
            <p:nvPr/>
          </p:nvSpPr>
          <p:spPr>
            <a:xfrm flipH="1">
              <a:off x="4412880" y="1652760"/>
              <a:ext cx="1911240" cy="7236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0"/>
            <p:cNvSpPr/>
            <p:nvPr/>
          </p:nvSpPr>
          <p:spPr>
            <a:xfrm flipH="1">
              <a:off x="4412880" y="2340000"/>
              <a:ext cx="1382760" cy="363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41"/>
            <p:cNvSpPr/>
            <p:nvPr/>
          </p:nvSpPr>
          <p:spPr>
            <a:xfrm flipH="1">
              <a:off x="4413240" y="1689120"/>
              <a:ext cx="527040" cy="6872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2"/>
            <p:cNvSpPr/>
            <p:nvPr/>
          </p:nvSpPr>
          <p:spPr>
            <a:xfrm>
              <a:off x="5354640" y="2003400"/>
              <a:ext cx="34920" cy="36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43"/>
            <p:cNvSpPr/>
            <p:nvPr/>
          </p:nvSpPr>
          <p:spPr>
            <a:xfrm>
              <a:off x="5262480" y="1998720"/>
              <a:ext cx="20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4"/>
            <p:cNvSpPr/>
            <p:nvPr/>
          </p:nvSpPr>
          <p:spPr>
            <a:xfrm>
              <a:off x="4398840" y="236232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45"/>
            <p:cNvSpPr/>
            <p:nvPr/>
          </p:nvSpPr>
          <p:spPr>
            <a:xfrm>
              <a:off x="4284360" y="234792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46"/>
            <p:cNvSpPr/>
            <p:nvPr/>
          </p:nvSpPr>
          <p:spPr>
            <a:xfrm>
              <a:off x="4925880" y="1674720"/>
              <a:ext cx="36720" cy="36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47"/>
            <p:cNvSpPr/>
            <p:nvPr/>
          </p:nvSpPr>
          <p:spPr>
            <a:xfrm>
              <a:off x="4787640" y="137952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48"/>
            <p:cNvSpPr/>
            <p:nvPr/>
          </p:nvSpPr>
          <p:spPr>
            <a:xfrm>
              <a:off x="5781600" y="2325600"/>
              <a:ext cx="36720" cy="36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49"/>
            <p:cNvSpPr/>
            <p:nvPr/>
          </p:nvSpPr>
          <p:spPr>
            <a:xfrm>
              <a:off x="5746680" y="23148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50"/>
            <p:cNvSpPr/>
            <p:nvPr/>
          </p:nvSpPr>
          <p:spPr>
            <a:xfrm>
              <a:off x="6310440" y="1638360"/>
              <a:ext cx="34920" cy="363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51"/>
            <p:cNvSpPr/>
            <p:nvPr/>
          </p:nvSpPr>
          <p:spPr>
            <a:xfrm>
              <a:off x="6395760" y="14112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446040" y="222120"/>
            <a:ext cx="82296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00"/>
                </a:solidFill>
                <a:latin typeface="隶书"/>
                <a:ea typeface="隶书"/>
              </a:rPr>
              <a:t>问题</a:t>
            </a:r>
            <a:r>
              <a:rPr b="1" lang="en-US" sz="2800" spc="-1" strike="noStrike">
                <a:solidFill>
                  <a:srgbClr val="999900"/>
                </a:solidFill>
                <a:latin typeface="隶书"/>
                <a:ea typeface="隶书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32</a:t>
            </a:r>
            <a:r>
              <a:rPr b="1" lang="zh-CN" sz="3600" spc="-1" strike="noStrike" baseline="60000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其余三个角的度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2454120" y="463680"/>
            <a:ext cx="533520" cy="228600"/>
          </a:xfrm>
          <a:prstGeom prst="parallelogram">
            <a:avLst>
              <a:gd name="adj" fmla="val 5834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5"/>
          <p:cNvGrpSpPr/>
          <p:nvPr/>
        </p:nvGrpSpPr>
        <p:grpSpPr>
          <a:xfrm>
            <a:off x="5867280" y="1346040"/>
            <a:ext cx="3048120" cy="1221840"/>
            <a:chOff x="5867280" y="1346040"/>
            <a:chExt cx="3048120" cy="1221840"/>
          </a:xfrm>
        </p:grpSpPr>
        <p:grpSp>
          <p:nvGrpSpPr>
            <p:cNvPr id="595" name="Group 6"/>
            <p:cNvGrpSpPr/>
            <p:nvPr/>
          </p:nvGrpSpPr>
          <p:grpSpPr>
            <a:xfrm>
              <a:off x="6172200" y="1574640"/>
              <a:ext cx="2438280" cy="762120"/>
              <a:chOff x="6172200" y="1574640"/>
              <a:chExt cx="2438280" cy="762120"/>
            </a:xfrm>
          </p:grpSpPr>
          <p:sp>
            <p:nvSpPr>
              <p:cNvPr id="596" name="Line 7"/>
              <p:cNvSpPr/>
              <p:nvPr/>
            </p:nvSpPr>
            <p:spPr>
              <a:xfrm>
                <a:off x="6172200" y="1574640"/>
                <a:ext cx="167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8"/>
              <p:cNvSpPr/>
              <p:nvPr/>
            </p:nvSpPr>
            <p:spPr>
              <a:xfrm>
                <a:off x="7848360" y="1574640"/>
                <a:ext cx="76212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9"/>
              <p:cNvSpPr/>
              <p:nvPr/>
            </p:nvSpPr>
            <p:spPr>
              <a:xfrm>
                <a:off x="6933960" y="233676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"/>
              <p:cNvSpPr/>
              <p:nvPr/>
            </p:nvSpPr>
            <p:spPr>
              <a:xfrm>
                <a:off x="6172200" y="1574640"/>
                <a:ext cx="76176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Text Box 11"/>
            <p:cNvSpPr/>
            <p:nvPr/>
          </p:nvSpPr>
          <p:spPr>
            <a:xfrm>
              <a:off x="5867280" y="13460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12"/>
            <p:cNvSpPr/>
            <p:nvPr/>
          </p:nvSpPr>
          <p:spPr>
            <a:xfrm>
              <a:off x="6553080" y="2108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3"/>
            <p:cNvSpPr/>
            <p:nvPr/>
          </p:nvSpPr>
          <p:spPr>
            <a:xfrm>
              <a:off x="8610480" y="2108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4"/>
            <p:cNvSpPr/>
            <p:nvPr/>
          </p:nvSpPr>
          <p:spPr>
            <a:xfrm>
              <a:off x="7924680" y="134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15"/>
          <p:cNvSpPr/>
          <p:nvPr/>
        </p:nvSpPr>
        <p:spPr>
          <a:xfrm>
            <a:off x="1235160" y="20048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6"/>
          <p:cNvSpPr/>
          <p:nvPr/>
        </p:nvSpPr>
        <p:spPr>
          <a:xfrm>
            <a:off x="395280" y="1916280"/>
            <a:ext cx="9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7"/>
          <p:cNvSpPr/>
          <p:nvPr/>
        </p:nvSpPr>
        <p:spPr>
          <a:xfrm>
            <a:off x="1539720" y="2462040"/>
            <a:ext cx="38862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且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32</a:t>
            </a:r>
            <a:r>
              <a:rPr b="1" lang="zh-CN" sz="2800" spc="-1" strike="noStrike" baseline="60000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8"/>
          <p:cNvSpPr/>
          <p:nvPr/>
        </p:nvSpPr>
        <p:spPr>
          <a:xfrm>
            <a:off x="1235160" y="2919240"/>
            <a:ext cx="723888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32</a:t>
            </a:r>
            <a:r>
              <a:rPr b="1" lang="zh-CN" sz="2800" spc="-1" strike="noStrike" baseline="60000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平行四边形的对角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        </a:t>
            </a:r>
            <a:r>
              <a:rPr b="1" lang="zh-CN" sz="2800" spc="-1" strike="noStrike" baseline="60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9"/>
          <p:cNvSpPr/>
          <p:nvPr/>
        </p:nvSpPr>
        <p:spPr>
          <a:xfrm>
            <a:off x="1235160" y="3833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D∥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平行四边形的对边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0"/>
          <p:cNvSpPr/>
          <p:nvPr/>
        </p:nvSpPr>
        <p:spPr>
          <a:xfrm>
            <a:off x="1619280" y="4437000"/>
            <a:ext cx="6048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180</a:t>
            </a:r>
            <a:r>
              <a:rPr b="1" lang="zh-CN" sz="2800" spc="-1" strike="noStrike" baseline="60000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两直线平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旁内角互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1"/>
          <p:cNvSpPr/>
          <p:nvPr/>
        </p:nvSpPr>
        <p:spPr>
          <a:xfrm>
            <a:off x="1403280" y="5229360"/>
            <a:ext cx="75279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</a:t>
            </a:r>
            <a:r>
              <a:rPr b="1" lang="zh-CN" sz="2800" spc="-1" strike="noStrike" baseline="60000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180</a:t>
            </a:r>
            <a:r>
              <a:rPr b="1" lang="zh-CN" sz="2800" spc="-1" strike="noStrike" baseline="60000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 32</a:t>
            </a:r>
            <a:r>
              <a:rPr b="1" lang="zh-CN" sz="2800" spc="-1" strike="noStrike" baseline="60000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148</a:t>
            </a:r>
            <a:r>
              <a:rPr b="1" lang="zh-CN" sz="2800" spc="-1" strike="noStrike" baseline="60000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3564000" y="692280"/>
            <a:ext cx="457200" cy="152280"/>
          </a:xfrm>
          <a:prstGeom prst="parallelogram">
            <a:avLst>
              <a:gd name="adj" fmla="val 7505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0"/>
          <p:cNvGrpSpPr/>
          <p:nvPr/>
        </p:nvGrpSpPr>
        <p:grpSpPr>
          <a:xfrm>
            <a:off x="468360" y="457200"/>
            <a:ext cx="8675640" cy="1008000"/>
            <a:chOff x="468360" y="457200"/>
            <a:chExt cx="8675640" cy="1008000"/>
          </a:xfrm>
        </p:grpSpPr>
        <p:sp>
          <p:nvSpPr>
            <p:cNvPr id="614" name="Text Box 3"/>
            <p:cNvSpPr/>
            <p:nvPr/>
          </p:nvSpPr>
          <p:spPr>
            <a:xfrm>
              <a:off x="762120" y="457200"/>
              <a:ext cx="8381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9900"/>
                  </a:solidFill>
                  <a:latin typeface="隶书"/>
                  <a:ea typeface="隶书"/>
                </a:rPr>
                <a:t>问题</a:t>
              </a:r>
              <a:r>
                <a:rPr b="1" lang="en-US" sz="3200" spc="-1" strike="noStrike">
                  <a:solidFill>
                    <a:srgbClr val="999900"/>
                  </a:solidFill>
                  <a:latin typeface="隶书"/>
                  <a:ea typeface="隶书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已知在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BC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中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B=6cm,BC=4cm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BCD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周长。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5"/>
            <p:cNvSpPr/>
            <p:nvPr/>
          </p:nvSpPr>
          <p:spPr>
            <a:xfrm>
              <a:off x="468360" y="1125360"/>
              <a:ext cx="380880" cy="152640"/>
            </a:xfrm>
            <a:prstGeom prst="parallelogram">
              <a:avLst>
                <a:gd name="adj" fmla="val 62382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6"/>
          <p:cNvGrpSpPr/>
          <p:nvPr/>
        </p:nvGrpSpPr>
        <p:grpSpPr>
          <a:xfrm>
            <a:off x="6477120" y="1050840"/>
            <a:ext cx="2514600" cy="1084680"/>
            <a:chOff x="6477120" y="1050840"/>
            <a:chExt cx="2514600" cy="1084680"/>
          </a:xfrm>
        </p:grpSpPr>
        <p:sp>
          <p:nvSpPr>
            <p:cNvPr id="617" name="AutoShape 7"/>
            <p:cNvSpPr/>
            <p:nvPr/>
          </p:nvSpPr>
          <p:spPr>
            <a:xfrm>
              <a:off x="6781680" y="1279440"/>
              <a:ext cx="1752840" cy="609480"/>
            </a:xfrm>
            <a:prstGeom prst="parallelogram">
              <a:avLst>
                <a:gd name="adj" fmla="val 7189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8"/>
            <p:cNvSpPr/>
            <p:nvPr/>
          </p:nvSpPr>
          <p:spPr>
            <a:xfrm>
              <a:off x="6477120" y="17366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"/>
            <p:cNvSpPr/>
            <p:nvPr/>
          </p:nvSpPr>
          <p:spPr>
            <a:xfrm>
              <a:off x="8077320" y="17366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0"/>
            <p:cNvSpPr/>
            <p:nvPr/>
          </p:nvSpPr>
          <p:spPr>
            <a:xfrm>
              <a:off x="8534520" y="1050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1"/>
            <p:cNvSpPr/>
            <p:nvPr/>
          </p:nvSpPr>
          <p:spPr>
            <a:xfrm>
              <a:off x="6858000" y="1050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31"/>
          <p:cNvGrpSpPr/>
          <p:nvPr/>
        </p:nvGrpSpPr>
        <p:grpSpPr>
          <a:xfrm>
            <a:off x="250560" y="4508640"/>
            <a:ext cx="8450640" cy="1800000"/>
            <a:chOff x="250560" y="4508640"/>
            <a:chExt cx="8450640" cy="1800000"/>
          </a:xfrm>
        </p:grpSpPr>
        <p:sp>
          <p:nvSpPr>
            <p:cNvPr id="623" name="Text Box 23"/>
            <p:cNvSpPr/>
            <p:nvPr/>
          </p:nvSpPr>
          <p:spPr>
            <a:xfrm>
              <a:off x="1476360" y="4724280"/>
              <a:ext cx="487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连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已知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BC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周长等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0 c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C=7 c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求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B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周长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4"/>
            <p:cNvSpPr/>
            <p:nvPr/>
          </p:nvSpPr>
          <p:spPr>
            <a:xfrm>
              <a:off x="3924360" y="4941720"/>
              <a:ext cx="457200" cy="152640"/>
            </a:xfrm>
            <a:prstGeom prst="parallelogram">
              <a:avLst>
                <a:gd name="adj" fmla="val 74882"/>
              </a:avLst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WordArt 12"/>
            <p:cNvSpPr txBox="1"/>
            <p:nvPr/>
          </p:nvSpPr>
          <p:spPr>
            <a:xfrm rot="5400000">
              <a:off x="-217080" y="5191920"/>
              <a:ext cx="1584360" cy="649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变式：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26" name="AutoShape 16"/>
            <p:cNvSpPr/>
            <p:nvPr/>
          </p:nvSpPr>
          <p:spPr>
            <a:xfrm>
              <a:off x="6605640" y="4881600"/>
              <a:ext cx="1752480" cy="609480"/>
            </a:xfrm>
            <a:prstGeom prst="parallelogram">
              <a:avLst>
                <a:gd name="adj" fmla="val 71884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17"/>
            <p:cNvSpPr/>
            <p:nvPr/>
          </p:nvSpPr>
          <p:spPr>
            <a:xfrm>
              <a:off x="6300720" y="53388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8"/>
            <p:cNvSpPr/>
            <p:nvPr/>
          </p:nvSpPr>
          <p:spPr>
            <a:xfrm>
              <a:off x="7900920" y="5338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19"/>
            <p:cNvSpPr/>
            <p:nvPr/>
          </p:nvSpPr>
          <p:spPr>
            <a:xfrm>
              <a:off x="8244000" y="4508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0"/>
            <p:cNvSpPr/>
            <p:nvPr/>
          </p:nvSpPr>
          <p:spPr>
            <a:xfrm>
              <a:off x="6681960" y="4508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 flipV="1">
              <a:off x="6605640" y="4881240"/>
              <a:ext cx="17524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 Box 27"/>
          <p:cNvSpPr/>
          <p:nvPr/>
        </p:nvSpPr>
        <p:spPr>
          <a:xfrm>
            <a:off x="250920" y="2128680"/>
            <a:ext cx="88581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∵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平行四边形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=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=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平行四边形的对边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=6cm,BC=4cm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=CD= 6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=AD= 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33"/>
          <p:cNvGrpSpPr/>
          <p:nvPr/>
        </p:nvGrpSpPr>
        <p:grpSpPr>
          <a:xfrm>
            <a:off x="1273680" y="3914640"/>
            <a:ext cx="7567920" cy="336600"/>
            <a:chOff x="1273680" y="3914640"/>
            <a:chExt cx="7567920" cy="336600"/>
          </a:xfrm>
        </p:grpSpPr>
        <p:sp>
          <p:nvSpPr>
            <p:cNvPr id="634" name="Rectangle 32"/>
            <p:cNvSpPr/>
            <p:nvPr/>
          </p:nvSpPr>
          <p:spPr>
            <a:xfrm>
              <a:off x="1273680" y="3914640"/>
              <a:ext cx="75679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 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BC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AB+CD+BC+AD=6+6+4+4=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28"/>
            <p:cNvSpPr/>
            <p:nvPr/>
          </p:nvSpPr>
          <p:spPr>
            <a:xfrm>
              <a:off x="1820880" y="4125960"/>
              <a:ext cx="270000" cy="75960"/>
            </a:xfrm>
            <a:prstGeom prst="parallelogram">
              <a:avLst>
                <a:gd name="adj" fmla="val 8886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2"/>
          <p:cNvGrpSpPr/>
          <p:nvPr/>
        </p:nvGrpSpPr>
        <p:grpSpPr>
          <a:xfrm>
            <a:off x="1116000" y="1359000"/>
            <a:ext cx="6019560" cy="1925280"/>
            <a:chOff x="1116000" y="1359000"/>
            <a:chExt cx="6019560" cy="1925280"/>
          </a:xfrm>
        </p:grpSpPr>
        <p:grpSp>
          <p:nvGrpSpPr>
            <p:cNvPr id="638" name="Group 3"/>
            <p:cNvGrpSpPr/>
            <p:nvPr/>
          </p:nvGrpSpPr>
          <p:grpSpPr>
            <a:xfrm>
              <a:off x="1116000" y="1359000"/>
              <a:ext cx="6019560" cy="1925280"/>
              <a:chOff x="1116000" y="1359000"/>
              <a:chExt cx="6019560" cy="1925280"/>
            </a:xfrm>
          </p:grpSpPr>
          <p:sp>
            <p:nvSpPr>
              <p:cNvPr id="639" name="AutoShape 4"/>
              <p:cNvSpPr/>
              <p:nvPr/>
            </p:nvSpPr>
            <p:spPr>
              <a:xfrm>
                <a:off x="1838160" y="1526040"/>
                <a:ext cx="4815360" cy="1506960"/>
              </a:xfrm>
              <a:prstGeom prst="parallelogram">
                <a:avLst>
                  <a:gd name="adj" fmla="val 79885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WordArt 5"/>
              <p:cNvSpPr txBox="1"/>
              <p:nvPr/>
            </p:nvSpPr>
            <p:spPr>
              <a:xfrm>
                <a:off x="2530440" y="1359000"/>
                <a:ext cx="361080" cy="25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641" name="WordArt 6"/>
              <p:cNvSpPr txBox="1"/>
              <p:nvPr/>
            </p:nvSpPr>
            <p:spPr>
              <a:xfrm>
                <a:off x="1116000" y="2949480"/>
                <a:ext cx="361080" cy="25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642" name="WordArt 7"/>
              <p:cNvSpPr txBox="1"/>
              <p:nvPr/>
            </p:nvSpPr>
            <p:spPr>
              <a:xfrm>
                <a:off x="5690880" y="3033360"/>
                <a:ext cx="361080" cy="25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643" name="WordArt 8"/>
              <p:cNvSpPr txBox="1"/>
              <p:nvPr/>
            </p:nvSpPr>
            <p:spPr>
              <a:xfrm>
                <a:off x="6774480" y="1442160"/>
                <a:ext cx="361080" cy="25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644" name="Line 9"/>
            <p:cNvSpPr/>
            <p:nvPr/>
          </p:nvSpPr>
          <p:spPr>
            <a:xfrm>
              <a:off x="3021120" y="1487160"/>
              <a:ext cx="2457360" cy="154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10"/>
            <p:cNvGrpSpPr/>
            <p:nvPr/>
          </p:nvGrpSpPr>
          <p:grpSpPr>
            <a:xfrm>
              <a:off x="1820520" y="1487160"/>
              <a:ext cx="3657960" cy="1540440"/>
              <a:chOff x="1820520" y="1487160"/>
              <a:chExt cx="3657960" cy="1540440"/>
            </a:xfrm>
          </p:grpSpPr>
          <p:sp>
            <p:nvSpPr>
              <p:cNvPr id="646" name="Line 11"/>
              <p:cNvSpPr/>
              <p:nvPr/>
            </p:nvSpPr>
            <p:spPr>
              <a:xfrm flipH="1">
                <a:off x="1820520" y="1487160"/>
                <a:ext cx="1219320" cy="1540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2"/>
              <p:cNvSpPr/>
              <p:nvPr/>
            </p:nvSpPr>
            <p:spPr>
              <a:xfrm>
                <a:off x="1820880" y="3027600"/>
                <a:ext cx="3657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>
                <a:off x="3040200" y="1487160"/>
                <a:ext cx="2438280" cy="1540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4"/>
            <p:cNvGrpSpPr/>
            <p:nvPr/>
          </p:nvGrpSpPr>
          <p:grpSpPr>
            <a:xfrm>
              <a:off x="3040200" y="1502640"/>
              <a:ext cx="3657960" cy="1540440"/>
              <a:chOff x="3040200" y="1502640"/>
              <a:chExt cx="3657960" cy="1540440"/>
            </a:xfrm>
          </p:grpSpPr>
          <p:sp>
            <p:nvSpPr>
              <p:cNvPr id="650" name="Line 15"/>
              <p:cNvSpPr/>
              <p:nvPr/>
            </p:nvSpPr>
            <p:spPr>
              <a:xfrm flipV="1">
                <a:off x="5478840" y="1502640"/>
                <a:ext cx="1219320" cy="15404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6"/>
              <p:cNvSpPr/>
              <p:nvPr/>
            </p:nvSpPr>
            <p:spPr>
              <a:xfrm flipH="1">
                <a:off x="3040200" y="1502640"/>
                <a:ext cx="365760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7"/>
              <p:cNvSpPr/>
              <p:nvPr/>
            </p:nvSpPr>
            <p:spPr>
              <a:xfrm flipH="1" flipV="1">
                <a:off x="3040200" y="1502640"/>
                <a:ext cx="2438280" cy="15404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3" name="Text Box 18"/>
          <p:cNvSpPr/>
          <p:nvPr/>
        </p:nvSpPr>
        <p:spPr>
          <a:xfrm>
            <a:off x="179280" y="3357720"/>
            <a:ext cx="633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平行四边形的对边平行且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平行四边形的对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平行四边形的邻角互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平行四边形的的对角线互相平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0" descr="gaofeng491"/>
          <p:cNvPicPr/>
          <p:nvPr/>
        </p:nvPicPr>
        <p:blipFill>
          <a:blip r:embed="rId1"/>
          <a:stretch/>
        </p:blipFill>
        <p:spPr>
          <a:xfrm>
            <a:off x="0" y="0"/>
            <a:ext cx="2700360" cy="1398600"/>
          </a:xfrm>
          <a:prstGeom prst="rect">
            <a:avLst/>
          </a:prstGeom>
          <a:ln w="0">
            <a:noFill/>
          </a:ln>
        </p:spPr>
      </p:pic>
      <p:sp>
        <p:nvSpPr>
          <p:cNvPr id="655" name="WordArt 21"/>
          <p:cNvSpPr txBox="1"/>
          <p:nvPr/>
        </p:nvSpPr>
        <p:spPr>
          <a:xfrm>
            <a:off x="2195640" y="209520"/>
            <a:ext cx="48974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平行四边形的性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56" name="Group 30"/>
          <p:cNvGrpSpPr/>
          <p:nvPr/>
        </p:nvGrpSpPr>
        <p:grpSpPr>
          <a:xfrm>
            <a:off x="901080" y="3770280"/>
            <a:ext cx="6910920" cy="640800"/>
            <a:chOff x="901080" y="3770280"/>
            <a:chExt cx="6910920" cy="640800"/>
          </a:xfrm>
        </p:grpSpPr>
        <p:sp>
          <p:nvSpPr>
            <p:cNvPr id="657" name="Rectangle 22"/>
            <p:cNvSpPr/>
            <p:nvPr/>
          </p:nvSpPr>
          <p:spPr>
            <a:xfrm>
              <a:off x="901080" y="3789360"/>
              <a:ext cx="29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∵</a:t>
              </a: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四边形</a:t>
              </a: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BCD</a:t>
              </a: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是平行四边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4"/>
            <p:cNvSpPr/>
            <p:nvPr/>
          </p:nvSpPr>
          <p:spPr>
            <a:xfrm>
              <a:off x="4383000" y="37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3333ff"/>
                  </a:solidFill>
                  <a:latin typeface="隶书"/>
                  <a:ea typeface="隶书"/>
                </a:rPr>
                <a:t>AB∥CD</a:t>
              </a:r>
              <a:r>
                <a:rPr b="1" lang="zh-CN" sz="2400" spc="-1" strike="noStrike">
                  <a:solidFill>
                    <a:srgbClr val="3333ff"/>
                  </a:solidFill>
                  <a:latin typeface="隶书"/>
                  <a:ea typeface="隶书"/>
                </a:rPr>
                <a:t>，</a:t>
              </a:r>
              <a:r>
                <a:rPr b="1" lang="en-US" sz="2400" spc="-1" strike="noStrike">
                  <a:solidFill>
                    <a:srgbClr val="3333ff"/>
                  </a:solidFill>
                  <a:latin typeface="隶书"/>
                  <a:ea typeface="隶书"/>
                </a:rPr>
                <a:t>AD∥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25"/>
            <p:cNvSpPr/>
            <p:nvPr/>
          </p:nvSpPr>
          <p:spPr>
            <a:xfrm>
              <a:off x="4964040" y="3951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26"/>
            <p:cNvSpPr/>
            <p:nvPr/>
          </p:nvSpPr>
          <p:spPr>
            <a:xfrm>
              <a:off x="6202440" y="39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Rectangle 28"/>
          <p:cNvSpPr/>
          <p:nvPr/>
        </p:nvSpPr>
        <p:spPr>
          <a:xfrm>
            <a:off x="966240" y="4507560"/>
            <a:ext cx="62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∵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四边形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ABCD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是平行四边形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∴ 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A = ∠C, ∠B= ∠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903600" y="5228280"/>
            <a:ext cx="74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∵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四边形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ABCD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是平行四边形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∴ 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A +∠B=18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 ∠C+∠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=18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2"/>
          <p:cNvSpPr/>
          <p:nvPr/>
        </p:nvSpPr>
        <p:spPr>
          <a:xfrm>
            <a:off x="870480" y="6020280"/>
            <a:ext cx="58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∵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四边形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ABCD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是平行四边形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∴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O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CO     BO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09:24:00Z</dcterms:created>
  <dc:creator>kejianyuan.com</dc:creator>
  <dc:description>kejianyuan.com</dc:description>
  <cp:keywords>kejianyuan.com</cp:keywords>
  <dc:language>en-US</dc:language>
  <cp:lastModifiedBy/>
  <dcterms:modified xsi:type="dcterms:W3CDTF">2014-09-10T16:22:26Z</dcterms:modified>
  <cp:revision>47</cp:revision>
  <dc:subject>人教版八年级数学（下）全套课件</dc:subject>
  <dc:title>人教版八年级数学（下）全套课件</dc:title>
</cp:coreProperties>
</file>