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2.gif" ContentType="image/gif"/>
  <Override PartName="/ppt/media/image9.png" ContentType="image/png"/>
  <Override PartName="/ppt/media/image16.gif" ContentType="image/gif"/>
  <Override PartName="/ppt/media/image15.jpeg" ContentType="image/jpeg"/>
  <Override PartName="/ppt/media/image14.gif" ContentType="image/gif"/>
  <Override PartName="/ppt/media/image17.png" ContentType="image/png"/>
  <Override PartName="/ppt/media/image8.gif" ContentType="image/gif"/>
  <Override PartName="/ppt/media/image1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B878-486B-46A8-9FA3-9FA4E4D5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B1B7-0BCB-423B-8C86-F2A76A1B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BAF0-BFE9-4483-A6B7-2E5FC432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07BD-CF82-4702-923A-7144ED66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E5EC-E3EB-46B7-A6A7-5CFCCCA5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E522-6640-4B8D-BF89-3DF772EA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CFBE-5C61-4C45-AD42-6A7C6993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8C8F-8D6E-41F6-9628-42A0AB2B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DCC5-FE0B-410E-BBED-BB61178E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C4B9-7361-4394-B5A9-F692B6CB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2BF1-0DF1-4E85-AF03-2FC618F0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7937-BB54-4B64-8F79-6025B829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3765-7891-4449-B29E-EFAC71B2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9FF4-284E-4653-B993-53EC53C4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5BF2-A2BA-44EE-A458-ADFE956E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0B1E-74F1-4DBE-8E96-EE5AAC3C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2B73-91E1-46C0-ABE5-B2EA96B09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149DE-A936-46B3-AB26-391ED1D7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A6C31-9EC8-478C-9026-989A6412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907DE-B79C-4188-82E3-FAE324D0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F8B9F-045E-4F5E-B4EE-13019909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85B14-3CE8-4CF7-858F-1C3A5AE2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E018-CB5D-4858-942D-65F7F58A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D98AD-0FAB-4AB0-84A8-7FD5D3DB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4D48C-921D-4C4E-927E-CAA8A0AC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4D8FD-3888-4740-AE1F-232316FF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491A4-FBDD-4365-B222-3E921E3D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ECCCC-6853-4E3E-8789-9C6BDF7F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22D00-768E-451B-836E-B334CBAA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36DF9-13FE-4EE6-8480-8D498905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2F94-AA2B-490D-8679-28F6B33F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7968-0776-4E8C-AAA3-272CFE27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5FF1-155B-4B59-9739-3B83A7D8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D9C1-5ECA-43E5-8EA2-C927C81B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DAA4-AF00-4510-9BCF-C5029A6F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2BFA-BACE-483D-953F-D38244DE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1219-4082-43A5-AE89-5EB7C5A63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0C28-2487-4AAF-B954-F4D82B99B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5201-DD18-4130-844E-56161CB2B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2.xml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A2_007"/>
          <p:cNvPicPr/>
          <p:nvPr/>
        </p:nvPicPr>
        <p:blipFill>
          <a:blip r:embed="rId1"/>
          <a:stretch/>
        </p:blipFill>
        <p:spPr>
          <a:xfrm>
            <a:off x="1828800" y="0"/>
            <a:ext cx="5607000" cy="6408720"/>
          </a:xfrm>
          <a:prstGeom prst="rect">
            <a:avLst/>
          </a:prstGeom>
          <a:ln w="0">
            <a:noFill/>
          </a:ln>
        </p:spPr>
      </p:pic>
      <p:sp>
        <p:nvSpPr>
          <p:cNvPr id="125" name="WordArt 17"/>
          <p:cNvSpPr txBox="1"/>
          <p:nvPr/>
        </p:nvSpPr>
        <p:spPr>
          <a:xfrm>
            <a:off x="2209680" y="2209680"/>
            <a:ext cx="43434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抽样</a:t>
            </a:r>
            <a:endParaRPr b="1" lang="en-US" sz="80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26" name="高山流水.mp3" descr=""/>
          <p:cNvPicPr/>
          <p:nvPr/>
        </p:nvPicPr>
        <p:blipFill>
          <a:blip r:embed="rId2"/>
          <a:stretch/>
        </p:blipFill>
        <p:spPr>
          <a:xfrm>
            <a:off x="640080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2"/>
          <p:cNvSpPr txBox="1"/>
          <p:nvPr/>
        </p:nvSpPr>
        <p:spPr>
          <a:xfrm>
            <a:off x="0" y="0"/>
            <a:ext cx="1143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议一议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0" y="30492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央电视台需要在我市调查“春节联欢晚会”的收视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每个看电视的人都要被问到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对我校学生的调查结果能否作为该节目的收视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你认为对不同社区、年龄层次、文化背景的人所做调查的结果会一样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76320" y="3429000"/>
            <a:ext cx="896436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答 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中央电视台在调查时不可能问到每一个看电视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533520" y="3886200"/>
            <a:ext cx="81356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对一所中学学生的调查结果不能作为该节目的收视率，因为只有中学生，缺乏代表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533520" y="4648320"/>
            <a:ext cx="8135640" cy="82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不同社区、年龄层次、文化背景的人所做调查的结果不一样，因为他们的兴趣、爱好等方面情况相距甚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533520" y="5410080"/>
            <a:ext cx="8569080" cy="147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抽样调查选取的对象应具有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代表性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-76320" y="2895480"/>
            <a:ext cx="9296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认为抽样调查选取的对象应具备什么条件才有说服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1219320" y="6019920"/>
            <a:ext cx="856908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同时抽样调查选取的对象数量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合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611280" y="90792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了了解学生对学校伙食的满意程度，小红访问了５０名女生；小聪访问了５０名男生；小明访问了２４名男生和２４名女生，其中七年级、八年级和九年级的男生和女生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名。你认为小红、小聪、小明三人的不同抽样方法那一种最好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5"/>
          <p:cNvSpPr txBox="1"/>
          <p:nvPr/>
        </p:nvSpPr>
        <p:spPr>
          <a:xfrm>
            <a:off x="0" y="0"/>
            <a:ext cx="334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习致用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609480" y="28954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答：小明的方法最好。小明抽得样本既有男生，又有女生，而均匀分布在各年级，这样的抽样较具有代表性，反映的情况具有普遍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295280" y="41911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我们常常根据样本得到结果来推测总体的结果。不同的抽样可能得到不同的结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1295280" y="5181480"/>
            <a:ext cx="5867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为了使结果更具准确性，抽样时，样本的容量要合理，样本的个体要有代表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11"/>
          <p:cNvSpPr txBox="1"/>
          <p:nvPr/>
        </p:nvSpPr>
        <p:spPr>
          <a:xfrm>
            <a:off x="4211640" y="6019920"/>
            <a:ext cx="41148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抽样才具有普遍意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09" name="WordArt 12"/>
          <p:cNvSpPr txBox="1"/>
          <p:nvPr/>
        </p:nvSpPr>
        <p:spPr>
          <a:xfrm rot="5400000">
            <a:off x="-152280" y="51055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温馨提醒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0" y="83664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某市去年约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名学生参加初中毕业升学考试。</a:t>
            </a:r>
            <a:r>
              <a:rPr b="0" lang="zh-CN" sz="2400" spc="-1" strike="noStrike">
                <a:solidFill>
                  <a:srgbClr val="cc00ff"/>
                </a:solidFill>
                <a:latin typeface="Arial"/>
                <a:ea typeface="黑体"/>
              </a:rPr>
              <a:t>为了解数学考试成绩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从中取出的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  <a:ea typeface="黑体"/>
              </a:rPr>
              <a:t>12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份学生的答卷来统计合格率、优秀率和平均分，问应怎样抽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份答卷，使所了解的数据具有代表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已知有关信息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抽样在卷头拆封前进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即看不见考生的姓名、所在学校、准考证号码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每个考场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名考生，每个考场考生的答卷装订成一叠，包装袋上写有考场编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参加考试的同一所学校的学生的各个考场连续编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6"/>
          <p:cNvSpPr txBox="1"/>
          <p:nvPr/>
        </p:nvSpPr>
        <p:spPr>
          <a:xfrm>
            <a:off x="228600" y="152280"/>
            <a:ext cx="24382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合作学习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3002760" y="3352680"/>
            <a:ext cx="550692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明不能按照调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  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　　   ＿＿＿抽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2195640" y="4581360"/>
            <a:ext cx="48974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明要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袋中抽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＿　　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826920" y="5661000"/>
            <a:ext cx="7250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明抽取４０袋不能按照＿＿＿＿＿＿＿＿     抽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859280" y="3276720"/>
            <a:ext cx="15415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在学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705720" y="3276720"/>
            <a:ext cx="18288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准考证号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4923360" y="5583240"/>
            <a:ext cx="164376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卷袋的序号连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5267160" y="4495680"/>
            <a:ext cx="90504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４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2"/>
          <p:cNvGrpSpPr/>
          <p:nvPr/>
        </p:nvGrpSpPr>
        <p:grpSpPr>
          <a:xfrm>
            <a:off x="533520" y="58680"/>
            <a:ext cx="3673440" cy="1007640"/>
            <a:chOff x="533520" y="58680"/>
            <a:chExt cx="3673440" cy="1007640"/>
          </a:xfrm>
        </p:grpSpPr>
        <p:grpSp>
          <p:nvGrpSpPr>
            <p:cNvPr id="222" name="Group 3"/>
            <p:cNvGrpSpPr/>
            <p:nvPr/>
          </p:nvGrpSpPr>
          <p:grpSpPr>
            <a:xfrm>
              <a:off x="533520" y="58680"/>
              <a:ext cx="3673440" cy="1007640"/>
              <a:chOff x="533520" y="58680"/>
              <a:chExt cx="3673440" cy="1007640"/>
            </a:xfrm>
          </p:grpSpPr>
          <p:grpSp>
            <p:nvGrpSpPr>
              <p:cNvPr id="223" name="Group 4"/>
              <p:cNvGrpSpPr/>
              <p:nvPr/>
            </p:nvGrpSpPr>
            <p:grpSpPr>
              <a:xfrm>
                <a:off x="533520" y="58680"/>
                <a:ext cx="1904760" cy="1007640"/>
                <a:chOff x="533520" y="58680"/>
                <a:chExt cx="1904760" cy="1007640"/>
              </a:xfrm>
            </p:grpSpPr>
            <p:sp>
              <p:nvSpPr>
                <p:cNvPr id="224" name="AutoShape 5"/>
                <p:cNvSpPr/>
                <p:nvPr/>
              </p:nvSpPr>
              <p:spPr>
                <a:xfrm>
                  <a:off x="533520" y="137880"/>
                  <a:ext cx="1861200" cy="928440"/>
                </a:xfrm>
                <a:prstGeom prst="horizontalScroll">
                  <a:avLst>
                    <a:gd name="adj" fmla="val 12500"/>
                  </a:avLst>
                </a:prstGeom>
                <a:solidFill>
                  <a:srgbClr val="00ffff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Text Box 6"/>
                <p:cNvSpPr/>
                <p:nvPr/>
              </p:nvSpPr>
              <p:spPr>
                <a:xfrm>
                  <a:off x="555840" y="58680"/>
                  <a:ext cx="1882440" cy="57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Text Box 7"/>
              <p:cNvSpPr/>
              <p:nvPr/>
            </p:nvSpPr>
            <p:spPr>
              <a:xfrm>
                <a:off x="593640" y="360360"/>
                <a:ext cx="192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议一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7" name="Picture 8" descr="qz_1rejo[1]"/>
              <p:cNvPicPr/>
              <p:nvPr/>
            </p:nvPicPr>
            <p:blipFill>
              <a:blip r:embed="rId1"/>
              <a:stretch/>
            </p:blipFill>
            <p:spPr>
              <a:xfrm>
                <a:off x="2438280" y="163800"/>
                <a:ext cx="1768680" cy="828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8" name="Picture 9" descr="Q_011"/>
            <p:cNvPicPr/>
            <p:nvPr/>
          </p:nvPicPr>
          <p:blipFill>
            <a:blip r:embed="rId2"/>
            <a:stretch/>
          </p:blipFill>
          <p:spPr>
            <a:xfrm>
              <a:off x="2972160" y="130320"/>
              <a:ext cx="392040" cy="34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Rectangle 10"/>
          <p:cNvSpPr/>
          <p:nvPr/>
        </p:nvSpPr>
        <p:spPr>
          <a:xfrm>
            <a:off x="533520" y="11430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学们觉得在什么时候用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普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式较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什么时候用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抽样调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式较好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抽样调查有什么优点？在用抽样调查时要注意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152280" y="2590920"/>
            <a:ext cx="84582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当调查的对象个数较少，调查容易进行时，我们一般采用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普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方式进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当调查的结果对调查对象具有破坏性时，或者会产生一定的危害性时，我们通常采用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抽样调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方式进行调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当调查对象的个数较多，调查不易进行时，我们常采用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抽样调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方式进行调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）当调查的结果有特别要求时，或调查的结果有特殊意义时，如国家的人口普查，我们就仍须采用</a:t>
            </a:r>
            <a:r>
              <a:rPr b="1" lang="zh-CN" sz="2400" spc="-1" strike="noStrike">
                <a:solidFill>
                  <a:srgbClr val="ff3300"/>
                </a:solidFill>
                <a:latin typeface="隶书"/>
              </a:rPr>
              <a:t>普查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的方式进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76320" y="5867280"/>
            <a:ext cx="97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抽样时，样本的容量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合理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样本的个体要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代表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bt"/>
          <p:cNvPicPr/>
          <p:nvPr/>
        </p:nvPicPr>
        <p:blipFill>
          <a:blip r:embed="rId1"/>
          <a:stretch/>
        </p:blipFill>
        <p:spPr>
          <a:xfrm>
            <a:off x="2286000" y="838080"/>
            <a:ext cx="4267080" cy="19814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1295280" y="2819520"/>
            <a:ext cx="60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Arial"/>
              </a:rPr>
              <a:t>品尝一勺汤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i="1" lang="zh-CN" sz="2800" spc="-1" strike="noStrike">
                <a:solidFill>
                  <a:srgbClr val="cc0000"/>
                </a:solidFill>
                <a:latin typeface="Arial"/>
              </a:rPr>
              <a:t>就可以知道一锅汤的味道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Arial"/>
              </a:rPr>
              <a:t>你知道其中蕴涵的道理吗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ZW_008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04000" y="5268960"/>
            <a:ext cx="2340000" cy="11318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5"/>
          <p:cNvSpPr/>
          <p:nvPr/>
        </p:nvSpPr>
        <p:spPr>
          <a:xfrm>
            <a:off x="228600" y="-76320"/>
            <a:ext cx="4038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生活中的“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数学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1295280" y="38862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能举出生活中类似的例子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1295280" y="45720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某人为了解要买的西瓜甜不甜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在西瓜的某个部位打了一个三角口子取出来尝尝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979640" y="2205000"/>
            <a:ext cx="6696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后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业本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WordArt 4"/>
          <p:cNvSpPr txBox="1"/>
          <p:nvPr/>
        </p:nvSpPr>
        <p:spPr>
          <a:xfrm>
            <a:off x="1835280" y="1916280"/>
            <a:ext cx="5688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指导！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684360" y="54936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收视率指在某个时段收看某个电视节目的观众人数，以百分数表示。现在一般由电视台委托专业公司，通过电话或其他方式取样调查来得到收视率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bj1"/>
          <p:cNvPicPr/>
          <p:nvPr/>
        </p:nvPicPr>
        <p:blipFill>
          <a:blip r:embed="rId1"/>
          <a:stretch/>
        </p:blipFill>
        <p:spPr>
          <a:xfrm>
            <a:off x="0" y="-1066680"/>
            <a:ext cx="9144000" cy="75452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1143000" y="228600"/>
            <a:ext cx="5805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生活中的“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小插曲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5800" y="13716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妈妈：“孩子，再帮妈妈买鸡蛋去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85800" y="1905120"/>
            <a:ext cx="8001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妈妈：“这次注意点，上次你买的鸡蛋有好几个是坏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685800" y="2362320"/>
            <a:ext cx="8001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妈妈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685800" y="2895480"/>
            <a:ext cx="800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孩子高兴地跑回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685800" y="3352680"/>
            <a:ext cx="5715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孩子：“妈妈，这次的鸡蛋全是好的，我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每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打开看过了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685800" y="41911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妈妈：“啊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107360_1_small_jpg"/>
          <p:cNvPicPr/>
          <p:nvPr/>
        </p:nvPicPr>
        <p:blipFill>
          <a:blip r:embed="rId2"/>
          <a:stretch/>
        </p:blipFill>
        <p:spPr>
          <a:xfrm>
            <a:off x="6553080" y="3873600"/>
            <a:ext cx="1828800" cy="1460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121701"/>
          <p:cNvPicPr/>
          <p:nvPr/>
        </p:nvPicPr>
        <p:blipFill>
          <a:blip r:embed="rId3"/>
          <a:stretch/>
        </p:blipFill>
        <p:spPr>
          <a:xfrm>
            <a:off x="6553080" y="2359080"/>
            <a:ext cx="182880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WordArt 5" descr=""/>
          <p:cNvPicPr/>
          <p:nvPr/>
        </p:nvPicPr>
        <p:blipFill>
          <a:blip r:embed="rId1"/>
          <a:stretch/>
        </p:blipFill>
        <p:spPr>
          <a:xfrm>
            <a:off x="-12600" y="-6480"/>
            <a:ext cx="1164960" cy="1043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1116000" y="76500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班级不近视的同学有多少人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258920" y="260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调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116000" y="1628640"/>
            <a:ext cx="68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学校不近视的同学又有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1095480" y="2057400"/>
            <a:ext cx="70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像这样为一定目的而全面的调查叫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普查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例如人口普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fhjkl"/>
          <p:cNvPicPr/>
          <p:nvPr/>
        </p:nvPicPr>
        <p:blipFill>
          <a:blip r:embed="rId2"/>
          <a:stretch/>
        </p:blipFill>
        <p:spPr>
          <a:xfrm>
            <a:off x="6804000" y="5516640"/>
            <a:ext cx="2087640" cy="10033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1"/>
          <p:cNvSpPr/>
          <p:nvPr/>
        </p:nvSpPr>
        <p:spPr>
          <a:xfrm>
            <a:off x="1143000" y="3886200"/>
            <a:ext cx="6705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你愿意采用普查的方式了解一批日光灯管的使用寿命吗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12"/>
          <p:cNvSpPr txBox="1"/>
          <p:nvPr/>
        </p:nvSpPr>
        <p:spPr>
          <a:xfrm>
            <a:off x="0" y="3352680"/>
            <a:ext cx="1371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思考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1219320" y="5029200"/>
            <a:ext cx="712944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具有破坏性，最好不要使用普查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WordArt 2" descr=""/>
          <p:cNvPicPr/>
          <p:nvPr/>
        </p:nvPicPr>
        <p:blipFill>
          <a:blip r:embed="rId1"/>
          <a:stretch/>
        </p:blipFill>
        <p:spPr>
          <a:xfrm>
            <a:off x="-12600" y="-6480"/>
            <a:ext cx="1164960" cy="10432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1187280" y="26028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042920" y="907920"/>
            <a:ext cx="7058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了解全国初中生的视力情况，有人设计了下面三种调查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对全国所有的初中生进行视力测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对某一所著名中学的初中生进行视力测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全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按东、西、南、北、中分片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个区域各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中学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中学的全部初中进行视力测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认为采用哪一种调查方法比较合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8"/>
          <p:cNvSpPr txBox="1"/>
          <p:nvPr/>
        </p:nvSpPr>
        <p:spPr>
          <a:xfrm>
            <a:off x="6372360" y="5877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第三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1187280" y="2133720"/>
            <a:ext cx="712980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属于普查，工作量太大，不方便，没有必要</a:t>
            </a:r>
            <a:r>
              <a:rPr b="0" lang="zh-CN" sz="2800" spc="-1" strike="noStrike">
                <a:solidFill>
                  <a:srgbClr val="cc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1219320" y="3284640"/>
            <a:ext cx="633564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种方法缺乏普遍性，不合适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1219320" y="5445000"/>
            <a:ext cx="6335640" cy="520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种调查具有可操作性及代表性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1371600" y="1066680"/>
            <a:ext cx="662472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们在研究某个自然现象或社会现象时，往往会遇到不方便、不可能或不必要对所有的对象作调查的情况，于是从中抽取一部分对象作调查分析，这就是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抽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2340000" y="3333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1026"/>
          <p:cNvSpPr txBox="1"/>
          <p:nvPr/>
        </p:nvSpPr>
        <p:spPr>
          <a:xfrm>
            <a:off x="152280" y="0"/>
            <a:ext cx="17528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做一做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161" name="Text Box 1028"/>
          <p:cNvSpPr/>
          <p:nvPr/>
        </p:nvSpPr>
        <p:spPr>
          <a:xfrm>
            <a:off x="762120" y="533520"/>
            <a:ext cx="8076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某机构要调查一手机生产厂家的手机质量，是否需要把该厂生产的所有手机进行检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要了解初中生有多少学生知道父母的生日，如果只对你校初中各年级所有同学进行调查，可以吗？有没有必要对全国初中学生进行调查？如需要用抽样的方法，请设计一个抽样方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30"/>
          <p:cNvSpPr/>
          <p:nvPr/>
        </p:nvSpPr>
        <p:spPr>
          <a:xfrm>
            <a:off x="1187280" y="1981080"/>
            <a:ext cx="712980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：不需要，只需抽样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32"/>
          <p:cNvSpPr/>
          <p:nvPr/>
        </p:nvSpPr>
        <p:spPr>
          <a:xfrm>
            <a:off x="685800" y="4495680"/>
            <a:ext cx="813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一所学校一个年级所有同学进行调查缺乏普遍性，不可取，对全国初中学生进行调查即普查，工作量太大，没有必要。应采取抽样调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如在全国按东、西、南、北、中分片，每个区域各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中学，对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中学的全部初中进行调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3"/>
          <p:cNvPicPr/>
          <p:nvPr/>
        </p:nvPicPr>
        <p:blipFill>
          <a:blip r:embed="rId1"/>
          <a:stretch/>
        </p:blipFill>
        <p:spPr>
          <a:xfrm>
            <a:off x="5062680" y="0"/>
            <a:ext cx="40813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324000" y="981000"/>
            <a:ext cx="44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山西出现百里蝶群奇观 将持续近一个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04920" y="1981080"/>
            <a:ext cx="4495680" cy="13816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山西交口县水头镇新庄村前后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里范围内，数不清的白色蝴蝶中夹杂着彩色蝴蝶，漫山遍野上下翻飞，蔚为奇观。据了解，地处吕梁地区的交口县林草覆盖率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6.3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林木茂密，空气清新，每逢夏季便有数不清的蝴蝶出现，受今年华北地区降雨较多、气温偏低的影响，蝴蝶的数量尤为众多，以致出现百里蝶群的奇观，这种现象大概要持续近一个月的时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新华社记者申宏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A2_007"/>
          <p:cNvPicPr/>
          <p:nvPr/>
        </p:nvPicPr>
        <p:blipFill>
          <a:blip r:embed="rId2"/>
          <a:stretch/>
        </p:blipFill>
        <p:spPr>
          <a:xfrm>
            <a:off x="5067360" y="2924280"/>
            <a:ext cx="1665360" cy="2089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A2_007"/>
          <p:cNvPicPr/>
          <p:nvPr/>
        </p:nvPicPr>
        <p:blipFill>
          <a:blip r:embed="rId3"/>
          <a:stretch/>
        </p:blipFill>
        <p:spPr>
          <a:xfrm>
            <a:off x="5549760" y="549360"/>
            <a:ext cx="1689120" cy="2160360"/>
          </a:xfrm>
          <a:prstGeom prst="rect">
            <a:avLst/>
          </a:prstGeom>
          <a:ln w="0">
            <a:noFill/>
          </a:ln>
        </p:spPr>
      </p:pic>
      <p:sp>
        <p:nvSpPr>
          <p:cNvPr id="170" name="WordArt 7"/>
          <p:cNvSpPr txBox="1"/>
          <p:nvPr/>
        </p:nvSpPr>
        <p:spPr>
          <a:xfrm>
            <a:off x="179280" y="-243000"/>
            <a:ext cx="591660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你有方法估计“百里蝶群”中大约有多少只蝴蝶？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WordArt 2" descr=""/>
          <p:cNvPicPr/>
          <p:nvPr/>
        </p:nvPicPr>
        <p:blipFill>
          <a:blip r:embed="rId1"/>
          <a:stretch/>
        </p:blipFill>
        <p:spPr>
          <a:xfrm>
            <a:off x="-12600" y="-6480"/>
            <a:ext cx="1164960" cy="10432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1187280" y="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684360" y="476280"/>
            <a:ext cx="845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了解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黑体"/>
              </a:rPr>
              <a:t>全国初中生的视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情况，第三种调查方法：在全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东、西、南、北、中分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个区域各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中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中学的全部初中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进行视力测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152280" y="3200400"/>
            <a:ext cx="33130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考察对象是什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3962520" y="27432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在统计中，我们把所要考察的对象的全体叫做总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76320" y="37321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全国每位初中学生的视力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3962520" y="373392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把组成总体的每一个考察的对象叫做个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0" y="47689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这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50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名学生的视力情况又组成一个集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3946680" y="472428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从总体中取出的一部分个体的集体叫做这个总体的一个样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1"/>
          <p:cNvSpPr/>
          <p:nvPr/>
        </p:nvSpPr>
        <p:spPr>
          <a:xfrm>
            <a:off x="838080" y="58816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15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3986280" y="5715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样本中的个体的数目叫做样本的容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685800" y="9907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检测一批日光灯的寿命，从中抽样检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是日光灯的寿命。其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2"/>
          <p:cNvSpPr/>
          <p:nvPr/>
        </p:nvSpPr>
        <p:spPr>
          <a:xfrm>
            <a:off x="990720" y="2314440"/>
            <a:ext cx="5715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总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3"/>
          <p:cNvSpPr/>
          <p:nvPr/>
        </p:nvSpPr>
        <p:spPr>
          <a:xfrm>
            <a:off x="2286000" y="2133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批日光灯的寿命的全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4"/>
          <p:cNvSpPr/>
          <p:nvPr/>
        </p:nvSpPr>
        <p:spPr>
          <a:xfrm>
            <a:off x="990720" y="30621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个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5"/>
          <p:cNvSpPr/>
          <p:nvPr/>
        </p:nvSpPr>
        <p:spPr>
          <a:xfrm>
            <a:off x="2292480" y="2909880"/>
            <a:ext cx="349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支日光灯的寿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1023840" y="4281480"/>
            <a:ext cx="72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总体的一个样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4114800" y="365760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抽取的各支日光灯的寿命的集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8"/>
          <p:cNvSpPr/>
          <p:nvPr/>
        </p:nvSpPr>
        <p:spPr>
          <a:xfrm>
            <a:off x="1348920" y="5043600"/>
            <a:ext cx="35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样本容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9"/>
          <p:cNvSpPr/>
          <p:nvPr/>
        </p:nvSpPr>
        <p:spPr>
          <a:xfrm>
            <a:off x="3497400" y="49816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3:03:20Z</dcterms:created>
  <dc:creator>kejianyuan.com</dc:creator>
  <dc:description>kejianyuan.com</dc:description>
  <cp:keywords>kejianyuan.com</cp:keywords>
  <dc:language>en-US</dc:language>
  <cp:lastModifiedBy/>
  <dcterms:modified xsi:type="dcterms:W3CDTF">2014-09-10T16:22:33Z</dcterms:modified>
  <cp:revision>62</cp:revision>
  <dc:subject>人教版八年级数学（下）全套课件</dc:subject>
  <dc:title>人教版八年级数学（下）全套课件</dc:title>
</cp:coreProperties>
</file>