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74D-D6DD-46FB-999C-B5F38F05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C82-7570-4D7A-92E7-4E734609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F9C-45F7-47C6-AA9F-96EC4F8C8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859-9BD6-42C5-949D-402BE57B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A3B-8972-4429-9912-1E0D4A63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D74-E4EF-4553-85BE-E94D7BC1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DD4-6AD5-4581-B05B-1489DD8E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B2D-078C-42A7-A696-AB2B0EFD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4BE-820F-4901-BB84-E8A00AD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8AB8-97A4-42EC-B074-8E4FDDA6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2E05-3027-4BAE-986E-DBA79804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AA680-61B6-4C6D-8CE3-72B70BD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A013E-E795-4568-B946-465B1F3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FD696-503E-4149-8DC9-F7A73E5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D22F4-6A9E-443D-BDBB-2ABB1CB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8E501-CB5A-4572-8F59-D89037C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F9B0-C873-42D5-A76B-DF21BAEA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5C92-9ED4-41A5-9E32-F3B3DB71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B530F-3697-4236-B6BD-E7D9498A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8F5-2244-46FD-96DC-705F360F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8E520-3F91-4914-A596-5E602FCB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81EC-5EC6-4A1A-A100-ADD59F8C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5069-028A-4581-A5F3-F04F3CF8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4104F-5B4A-4FC8-9F7A-6674857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288DF-D2FC-404D-8CFC-B944D5B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85E67-0753-405E-B253-E50853B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5462-436C-42A0-A491-F7320D9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521D1-FA12-41D4-9630-00A4CF2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656A1-105A-4620-8F84-FAFD0E8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FAAA6-4376-4475-ADE2-C6CB0F3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45D-60EA-465F-88AC-C7506540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7AEE-AE49-4B0C-8A26-D4676079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A0478-2403-4795-9C25-10069379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26BD-85C3-4BE7-8520-3A834FB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596C5-5242-4484-9A39-12709156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71A68-D1F4-4A42-B1D2-B8428C6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3EB4-8286-4B9A-A1D0-B77E32E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AA7B-8854-4614-B769-DB8B47F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6755-97CF-45DA-B560-2EEDFBA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7A42A-05B3-440C-BB46-A81A8E0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B613F-716E-4051-8E60-AD6260B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2AF-5C8E-4C28-8BE8-262185CA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F68C0-7D89-4FD6-AB67-84093AD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22D37-4EE6-4B2C-AD4A-051BDDB2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E75B-7A62-4443-B229-92183B6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76DE1-D523-4A61-BC92-278B98B6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38031-56EA-4801-AFE7-B1CF609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9D413-1455-4806-949F-23F7EEC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1ACD4-9F43-46D7-A0F1-E116B7F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5FF8-5EFD-4875-BBB1-86C3EFDF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805FD-D8D8-4379-A791-665444E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8465A-14BA-4062-A095-A7E8D10C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2EB1-9900-4337-AACB-BD389B3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CF12-95BF-49A3-90BB-72B1B31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D81BB-C719-46D7-B84D-DFACDCB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7284-720C-4572-962E-C5FB80CF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2F59-8AA2-47CE-BF7F-E93E44C2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9D636-7A06-4344-90B1-EC21D57D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6D9A-7515-4C47-8F90-A9581F25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1CB-74D9-4185-8EC0-643FD80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ED00-D684-4FD1-80E6-2E642C5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5B4B-BC40-40F9-A28F-CB34F27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239-9B4F-4A72-8694-1809D9C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82A-6EF3-4F8E-BAE2-A682739A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E8B6-2764-44E9-8738-56F2179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8C5-3FE2-4F80-AF81-A19BB88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FB70-8B0E-48C3-9B08-F9D5C61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4550-6A76-43C1-82C4-7F712DE1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43B6-A3C7-4A1B-A2A4-6302AF55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F39F-F47A-4C39-9292-C5E7D0A6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53E1-267A-4DFA-AEC4-81BB549F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AD1B-8995-46E8-B21E-8F43601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7376-9705-4E23-94AB-ABDE13B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2D59-4204-4F5C-85C3-67B6920B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C63-C83F-4052-A03F-9A3E80A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ED00-A1BD-45B0-9498-03018FA7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DBD4-8954-4F05-BDC7-1A64B06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0560-8C3B-41E7-A5D4-5B8B0DE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CD99-53DA-4A24-A559-52B198B3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1612-3541-485C-94DE-6C7F483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9A44-388E-4911-9054-9DBD4A44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2A0A-FDC5-44E6-98F7-3D42BB51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CF72-1203-4341-A0A1-CF2D3A9C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C21A-44F3-4F3E-AAA8-B772ED2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F733-DDC4-483C-8308-9ACD7495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DEA-4D43-4DBF-8DB0-0C0B8F3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915A-B9AA-4380-BE18-CC0E57B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570C-451D-45E0-8C37-695C001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3E0E-8454-42A3-8DA3-D0087F81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D1290-7E14-4C66-922E-A0713FC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BFDC-AD3E-4958-B769-CDDC58D3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1E2E-ADEB-4D9A-8B00-A5EF598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1BE9-3EA7-4C67-BD86-7419AA7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91A10-3688-47F5-8D0A-54187C0A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CF6E-6F2E-49B4-90A2-08A8A85E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0969-ADF7-4839-963D-3B4DF13C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71A-E410-4ECA-AF21-BFDF030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93F54-F31F-4080-8687-61D432C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98F8-6F41-4165-82E8-1FCB188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D5D5-CD3D-45AE-B2C0-9B1F8D30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1A53-2E41-4B6A-A3E7-48A474A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A738-0295-453C-B39A-37FE9CF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1AB0-6AC1-4854-BC8F-496C8E0E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32013-13B6-49C1-919E-20C786B5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7930-B557-468B-A52B-6A0CD28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C832-A5D4-4E3C-846B-F9CEB5D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1833-70DD-4CEB-8C73-A8313417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CB6-F51D-4051-A47A-C4705A0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732E-C68A-4AAF-ACB4-0935D6FC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4106-BFF8-42DE-A1A8-2455054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8461-B6B1-48B5-9A8C-8FFA6440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D0DA-5E45-4C53-96F7-E729B57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75B9-4A2B-4245-893F-BF34AD5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90D3-3DFC-44B4-A75C-8B87CAB9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3F65-13E4-471B-ABD7-1E05144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2AA3D-E5EE-443C-B398-64DF686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12E0-6F4F-4C4F-A913-46D2D88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2A74-E395-4EC9-AB74-5F40423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9ED-61BE-4581-A4E7-246E5B5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9FE0E-B6E7-4591-98A8-FE601E3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11EF-2C04-48E9-A24E-44C1AB69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A346-7D67-40EB-93D3-F18279EE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4702-D776-407F-9C6E-E385C162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6691-7B3B-4BFC-8A4B-208A533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15F8-FFF1-4504-9E81-3C2C2F01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FA34-C599-4546-9A6F-D1F8CAE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C228-79AC-4841-9AE0-22E77D0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5388A-3A48-455E-BCF2-1E85698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D6E64-8F4E-49C1-9C56-5591BAE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0A6-A5B0-4C03-A36E-3B2AE9A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824E-E1C6-4413-87DA-B513B46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37D1-9FAD-4FCC-80F8-C08DC4F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D662-D6B6-4849-A664-DA28A4CE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5A5E-69D8-46C5-A232-CE3DEC2E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B51B-D912-4CF3-9F56-D913860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51CD-5E39-48A9-83F6-656F91F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62FE2-2600-4B76-A854-49C2499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1B58-762C-4E5A-B414-0C25D7C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DF92A-23E5-45AE-9A25-6496408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D3A71-8D93-44D3-BEFD-3ECFFCE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682-0B3D-4275-82B6-678B2FC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02CB-BA91-4B9D-BEE6-59120175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08B9-703B-4A27-B108-85D3A80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0B51-7323-48CD-88A6-1ECE5F5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CDCDE-88D9-4A67-9815-CE31178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A86DD-391E-4DB6-B489-B1DFA77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DBDC2-43A7-43F8-BED7-14B5116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88E1-9E45-4A19-AAC8-6D0B1EA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07C1-6030-412A-B948-017F7559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89BC8-2B1B-43F3-99FF-98D7E82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4D27D-537D-4E8F-910F-D3D1038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FD4-04E4-4224-95B7-7178FEFEF0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1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13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4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7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529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30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532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3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4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5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6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7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8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DD0B-16BF-4D67-A352-FCC7E7C62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5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6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587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88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590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1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2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3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4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5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6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80EE-D9DA-4460-85EC-375674B74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3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645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646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648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9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0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1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2" name="AutoShape 19"/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4" name="AutoShape 23"/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99cc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635-2917-4819-923C-5F97FFB7B863}" type="slidenum">
              <a:rPr b="0" lang="en-U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3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66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68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9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0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1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2D58-8B2D-4294-854A-8C78256E0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1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24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126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7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8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9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0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1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2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AEC1-626F-4921-B58A-161476DCB1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9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181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82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184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5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6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7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8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9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0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7C8-C986-4784-8023-439C749B52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7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239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40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242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3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4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5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6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7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8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AEB6-89C2-4DC1-91A1-37B7E27A9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5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98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300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1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2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3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4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5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6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356-E328-447F-875F-D2F9E452E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3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356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358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9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0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1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2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3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4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3E4-B97E-4072-8F4A-10F06C2926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1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413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14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415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416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7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8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9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0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1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2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040-9F73-4D01-B123-7250343492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9" name="Rectangle 10">
            <a:hlinkClick r:id="rId2" action="ppaction://hlinksldjump"/>
          </p:cNvPr>
          <p:cNvSpPr/>
          <p:nvPr/>
        </p:nvSpPr>
        <p:spPr>
          <a:xfrm>
            <a:off x="127080" y="457200"/>
            <a:ext cx="222228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cc"/>
                </a:solidFill>
                <a:latin typeface="Times New Roman"/>
              </a:rPr>
              <a:t>第四章四边形</a:t>
            </a: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72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99cc00"/>
                </a:solidFill>
                <a:latin typeface="Times New Roman"/>
              </a:endParaRPr>
            </a:p>
          </p:txBody>
        </p:sp>
      </p:grpSp>
      <p:sp>
        <p:nvSpPr>
          <p:cNvPr id="474" name="AutoShape 15">
            <a:hlinkClick r:id="rId3" action="ppaction://hlinksldjump"/>
          </p:cNvPr>
          <p:cNvSpPr/>
          <p:nvPr/>
        </p:nvSpPr>
        <p:spPr>
          <a:xfrm>
            <a:off x="0" y="2565360"/>
            <a:ext cx="2349360" cy="406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5" name="AutoShape 16">
            <a:hlinkClick r:id="rId4" action="ppaction://hlinksldjump"/>
          </p:cNvPr>
          <p:cNvSpPr/>
          <p:nvPr/>
        </p:nvSpPr>
        <p:spPr>
          <a:xfrm>
            <a:off x="0" y="3068640"/>
            <a:ext cx="2349360" cy="36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6" name="AutoShape 17">
            <a:hlinkClick r:id="rId5" action="ppaction://hlinksldjump"/>
          </p:cNvPr>
          <p:cNvSpPr/>
          <p:nvPr/>
        </p:nvSpPr>
        <p:spPr>
          <a:xfrm>
            <a:off x="0" y="3573360"/>
            <a:ext cx="2349360" cy="4320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Times New Roman"/>
              </a:rPr>
              <a:t>例题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7" name="AutoShape 18">
            <a:hlinkClick r:id="rId6" action="ppaction://hlinksldjump"/>
          </p:cNvPr>
          <p:cNvSpPr/>
          <p:nvPr/>
        </p:nvSpPr>
        <p:spPr>
          <a:xfrm>
            <a:off x="0" y="4076640"/>
            <a:ext cx="2349360" cy="4096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练习</a:t>
            </a:r>
            <a:r>
              <a:rPr b="0" i="1" lang="zh-CN" sz="20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8" name="AutoShape 19">
            <a:hlinkClick r:id="rId7" action="ppaction://hlinksldjump"/>
          </p:cNvPr>
          <p:cNvSpPr/>
          <p:nvPr/>
        </p:nvSpPr>
        <p:spPr>
          <a:xfrm>
            <a:off x="0" y="2133720"/>
            <a:ext cx="234936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99cc00"/>
                </a:solidFill>
                <a:latin typeface="Times New Roman"/>
              </a:rPr>
              <a:t>定义</a:t>
            </a:r>
            <a:endParaRPr b="0" i="1" lang="en-US" sz="2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9" name="AutoShape 20">
            <a:hlinkClick r:id="rId8" action="ppaction://hlinksldjump"/>
          </p:cNvPr>
          <p:cNvSpPr/>
          <p:nvPr/>
        </p:nvSpPr>
        <p:spPr>
          <a:xfrm>
            <a:off x="0" y="1447920"/>
            <a:ext cx="234936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cc00"/>
                </a:solidFill>
                <a:latin typeface="Times New Roman"/>
              </a:rPr>
              <a:t>问题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80" name="AutoShape 23">
            <a:hlinkClick r:id="rId9" action="ppaction://hlinksldjump"/>
          </p:cNvPr>
          <p:cNvSpPr/>
          <p:nvPr/>
        </p:nvSpPr>
        <p:spPr>
          <a:xfrm>
            <a:off x="0" y="4581360"/>
            <a:ext cx="2311560" cy="576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cc00"/>
                </a:solidFill>
                <a:latin typeface="Times New Roman"/>
              </a:rPr>
              <a:t>小结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DDE-5361-4971-BC7B-61D09B2EA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日期占位符 1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04" name="页脚占位符 2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graphicFrame>
        <p:nvGraphicFramePr>
          <p:cNvPr id="705" name="Object 7"/>
          <p:cNvGraphicFramePr/>
          <p:nvPr/>
        </p:nvGraphicFramePr>
        <p:xfrm>
          <a:off x="3392640" y="3249720"/>
          <a:ext cx="25146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3249720"/>
                    <a:ext cx="2514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8"/>
          <p:cNvGraphicFramePr/>
          <p:nvPr/>
        </p:nvGraphicFramePr>
        <p:xfrm>
          <a:off x="3438360" y="3914640"/>
          <a:ext cx="2438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3914640"/>
                    <a:ext cx="2438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9"/>
          <p:cNvGraphicFramePr/>
          <p:nvPr/>
        </p:nvGraphicFramePr>
        <p:xfrm>
          <a:off x="3429000" y="4648320"/>
          <a:ext cx="24512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648320"/>
                    <a:ext cx="2451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0"/>
          <p:cNvGraphicFramePr/>
          <p:nvPr/>
        </p:nvGraphicFramePr>
        <p:xfrm>
          <a:off x="3443400" y="5310360"/>
          <a:ext cx="23619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3400" y="5310360"/>
                    <a:ext cx="2361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1"/>
          <p:cNvGraphicFramePr/>
          <p:nvPr/>
        </p:nvGraphicFramePr>
        <p:xfrm>
          <a:off x="3422520" y="5943600"/>
          <a:ext cx="24386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2520" y="5943600"/>
                    <a:ext cx="2438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5" name="Picture 15" descr="定义"/>
          <p:cNvPicPr/>
          <p:nvPr/>
        </p:nvPicPr>
        <p:blipFill>
          <a:blip r:embed="rId11"/>
          <a:stretch/>
        </p:blipFill>
        <p:spPr>
          <a:xfrm>
            <a:off x="3430440" y="2590920"/>
            <a:ext cx="2438640" cy="5331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7" descr="正方形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3816360" y="1108080"/>
            <a:ext cx="3551400" cy="56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8" descr="梯形"/>
          <p:cNvPicPr/>
          <p:nvPr/>
        </p:nvPicPr>
        <p:blipFill>
          <a:blip r:embed="rId13"/>
          <a:stretch/>
        </p:blipFill>
        <p:spPr>
          <a:xfrm>
            <a:off x="3809880" y="957240"/>
            <a:ext cx="3662640" cy="73656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9"/>
          <p:cNvSpPr/>
          <p:nvPr/>
        </p:nvSpPr>
        <p:spPr>
          <a:xfrm>
            <a:off x="2987640" y="2060640"/>
            <a:ext cx="185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日期占位符 3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0" name="页脚占位符 4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2666880" y="1341360"/>
            <a:ext cx="3581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Times New Roman"/>
              </a:rPr>
              <a:t>看下面问题</a:t>
            </a:r>
            <a:r>
              <a:rPr b="0" lang="zh-CN" sz="4400" spc="-1" strike="noStrike">
                <a:solidFill>
                  <a:srgbClr val="99cc00"/>
                </a:solidFill>
                <a:latin typeface="Times New Roman"/>
              </a:rPr>
              <a:t>：</a:t>
            </a:r>
            <a:endParaRPr b="0" i="1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0920" y="762120"/>
            <a:ext cx="62481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cc"/>
                </a:solidFill>
                <a:latin typeface="Times New Roman"/>
              </a:rPr>
              <a:t>上次更新</a:t>
            </a: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: </a:t>
            </a:r>
            <a:fld id="{C243C16A-3E7A-4E76-B632-FE8170228960}" type="datetime3">
              <a:rPr b="0" i="1" lang="zh-CN" sz="1400" spc="-1" strike="noStrike">
                <a:solidFill>
                  <a:srgbClr val="ffffcc"/>
                </a:solidFill>
                <a:latin typeface="Times New Roman"/>
              </a:rPr>
              <a:t>2026年7月31日</a:t>
            </a:fld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2540160" y="0"/>
            <a:ext cx="660384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九节梯形</a:t>
            </a:r>
            <a:endParaRPr b="0" i="1" lang="en-US" sz="1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5" name="Rectangle 28"/>
          <p:cNvSpPr/>
          <p:nvPr/>
        </p:nvSpPr>
        <p:spPr>
          <a:xfrm>
            <a:off x="3429000" y="243828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．什么样的四边形是平行四边形？平行四边形有什么性质？</a:t>
            </a:r>
            <a:endParaRPr b="0" i="1" lang="en-US" sz="3600" spc="-1" strike="noStrike">
              <a:solidFill>
                <a:srgbClr val="99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6600ff"/>
                </a:solidFill>
                <a:latin typeface="宋体"/>
              </a:rPr>
              <a:t>．小学学过的梯形是什么样的四边形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日期占位符 2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27" name="页脚占位符 3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graphicFrame>
        <p:nvGraphicFramePr>
          <p:cNvPr id="728" name="Object 19"/>
          <p:cNvGraphicFramePr/>
          <p:nvPr/>
        </p:nvGraphicFramePr>
        <p:xfrm>
          <a:off x="5486400" y="3352680"/>
          <a:ext cx="327672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352680"/>
                    <a:ext cx="327672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Rectangle 2"/>
          <p:cNvSpPr/>
          <p:nvPr/>
        </p:nvSpPr>
        <p:spPr>
          <a:xfrm>
            <a:off x="2666880" y="1600200"/>
            <a:ext cx="212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梯形定义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800600" y="16765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一组对边平行而另一组对边不平行的四边形叫做梯形．  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666520" y="873000"/>
            <a:ext cx="6286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5029200" y="2819520"/>
            <a:ext cx="2158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4" name="Oval 15"/>
          <p:cNvSpPr/>
          <p:nvPr/>
        </p:nvSpPr>
        <p:spPr>
          <a:xfrm>
            <a:off x="5410080" y="3962520"/>
            <a:ext cx="3353040" cy="198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6705720" y="3809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四边形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6400800" y="44197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梯形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37" name="WordArt 20"/>
          <p:cNvSpPr txBox="1"/>
          <p:nvPr/>
        </p:nvSpPr>
        <p:spPr>
          <a:xfrm>
            <a:off x="7696080" y="4419720"/>
            <a:ext cx="6177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平行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四边形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1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9" name="页脚占位符 2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0" name="Rectangle 4"/>
          <p:cNvSpPr/>
          <p:nvPr/>
        </p:nvSpPr>
        <p:spPr>
          <a:xfrm>
            <a:off x="2666880" y="873720"/>
            <a:ext cx="62866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2666880" y="1676520"/>
            <a:ext cx="6248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例题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：在图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已知只有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AD∥CB</a:t>
            </a:r>
            <a:r>
              <a:rPr b="0" i="1" lang="zh-CN" sz="28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且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CB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；在图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中只有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AD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BC</a:t>
            </a:r>
            <a:r>
              <a:rPr b="0" i="1" lang="zh-CN" sz="28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且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0" i="1" lang="zh-CN" sz="2800" spc="-1" strike="noStrike">
                <a:solidFill>
                  <a:srgbClr val="6600ff"/>
                </a:solidFill>
                <a:latin typeface="Times New Roman"/>
              </a:rPr>
              <a:t>＝</a:t>
            </a:r>
            <a:r>
              <a:rPr b="0" i="1" lang="en-US" sz="2800" spc="-1" strike="noStrike">
                <a:solidFill>
                  <a:srgbClr val="6600ff"/>
                </a:solidFill>
                <a:latin typeface="Times New Roman"/>
              </a:rPr>
              <a:t>CD</a:t>
            </a:r>
            <a:r>
              <a:rPr b="0" i="1" lang="zh-CN" sz="28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请给两个图形命名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99cc00"/>
              </a:solidFill>
              <a:latin typeface="Times New Roman"/>
            </a:endParaRPr>
          </a:p>
        </p:txBody>
      </p:sp>
      <p:grpSp>
        <p:nvGrpSpPr>
          <p:cNvPr id="742" name="Group 11"/>
          <p:cNvGrpSpPr/>
          <p:nvPr/>
        </p:nvGrpSpPr>
        <p:grpSpPr>
          <a:xfrm>
            <a:off x="2819520" y="3962520"/>
            <a:ext cx="6083280" cy="2400120"/>
            <a:chOff x="2819520" y="3962520"/>
            <a:chExt cx="6083280" cy="2400120"/>
          </a:xfrm>
        </p:grpSpPr>
        <p:graphicFrame>
          <p:nvGraphicFramePr>
            <p:cNvPr id="743" name="Object 9"/>
            <p:cNvGraphicFramePr/>
            <p:nvPr/>
          </p:nvGraphicFramePr>
          <p:xfrm>
            <a:off x="2819520" y="3962520"/>
            <a:ext cx="2844720" cy="24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4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3962520"/>
                      <a:ext cx="2844720" cy="24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10"/>
            <p:cNvGraphicFramePr/>
            <p:nvPr/>
          </p:nvGraphicFramePr>
          <p:xfrm>
            <a:off x="5562720" y="3962520"/>
            <a:ext cx="3340080" cy="22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6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962520"/>
                      <a:ext cx="3340080" cy="22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日期占位符 3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2666880" y="1447920"/>
            <a:ext cx="21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讨论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826160" y="1447920"/>
            <a:ext cx="416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在例题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在图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中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，那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吗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D⊥BC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时，另一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可以垂直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吗？为什么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99cc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在图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中，上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与下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能相等吗？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3203640" y="404640"/>
            <a:ext cx="185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日期占位符 2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4" name="页脚占位符 3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2666880" y="1447920"/>
            <a:ext cx="215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例题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666520" y="873000"/>
            <a:ext cx="6286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070"/>
          <p:cNvSpPr/>
          <p:nvPr/>
        </p:nvSpPr>
        <p:spPr>
          <a:xfrm>
            <a:off x="4724280" y="152388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已知，在梯形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BCD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中，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D∥BC</a:t>
            </a:r>
            <a:r>
              <a:rPr b="0" i="1" lang="zh-CN" sz="24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0" i="1" lang="zh-CN" sz="2400" spc="-1" strike="noStrike">
                <a:solidFill>
                  <a:srgbClr val="6600ff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．            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求证：</a:t>
            </a:r>
            <a:r>
              <a:rPr b="0" i="1" lang="zh-CN" sz="2400" spc="-1" strike="noStrike">
                <a:solidFill>
                  <a:srgbClr val="6600ff"/>
                </a:solidFill>
                <a:latin typeface="宋体"/>
              </a:rPr>
              <a:t>∠</a:t>
            </a:r>
            <a:r>
              <a:rPr b="0" i="1" lang="en-US" sz="2400" spc="-1" strike="noStrike">
                <a:solidFill>
                  <a:srgbClr val="6600ff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＝</a:t>
            </a:r>
            <a:r>
              <a:rPr b="0" i="1" lang="zh-CN" sz="2400" spc="-1" strike="noStrike">
                <a:solidFill>
                  <a:srgbClr val="6600ff"/>
                </a:solidFill>
                <a:latin typeface="宋体"/>
              </a:rPr>
              <a:t>∠</a:t>
            </a:r>
            <a:r>
              <a:rPr b="0" i="1" lang="en-US" sz="2400" spc="-1" strike="noStrike">
                <a:solidFill>
                  <a:srgbClr val="6600ff"/>
                </a:solidFill>
                <a:latin typeface="宋体"/>
              </a:rPr>
              <a:t>B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pic>
        <p:nvPicPr>
          <p:cNvPr id="758" name="Picture 2071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105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日期占位符 3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0" name="页脚占位符 4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2666880" y="1447920"/>
            <a:ext cx="21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练习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梯形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4"/>
          <p:cNvSpPr/>
          <p:nvPr/>
        </p:nvSpPr>
        <p:spPr>
          <a:xfrm>
            <a:off x="4495680" y="152388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已知，在梯形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BCD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中，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D∥BC</a:t>
            </a:r>
            <a:r>
              <a:rPr b="0" i="1" lang="zh-CN" sz="24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B</a:t>
            </a:r>
            <a:r>
              <a:rPr b="0" i="1" lang="zh-CN" sz="2400" spc="-1" strike="noStrike">
                <a:solidFill>
                  <a:srgbClr val="6600ff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．            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求证：</a:t>
            </a:r>
            <a:r>
              <a:rPr b="0" i="1" lang="en-US" sz="2400" spc="-1" strike="noStrike">
                <a:solidFill>
                  <a:srgbClr val="6600ff"/>
                </a:solidFill>
                <a:latin typeface="宋体"/>
              </a:rPr>
              <a:t>AC</a:t>
            </a: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＝</a:t>
            </a:r>
            <a:r>
              <a:rPr b="0" i="1" lang="en-US" sz="2400" spc="-1" strike="noStrike">
                <a:solidFill>
                  <a:srgbClr val="6600ff"/>
                </a:solidFill>
                <a:latin typeface="宋体"/>
              </a:rPr>
              <a:t>DB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pic>
        <p:nvPicPr>
          <p:cNvPr id="764" name="Picture 35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086280" cy="210024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7"/>
          <p:cNvSpPr/>
          <p:nvPr/>
        </p:nvSpPr>
        <p:spPr>
          <a:xfrm>
            <a:off x="2700360" y="476280"/>
            <a:ext cx="185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日期占位符 3"/>
          <p:cNvSpPr/>
          <p:nvPr/>
        </p:nvSpPr>
        <p:spPr>
          <a:xfrm>
            <a:off x="6921360" y="662940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7" name="页脚占位符 4"/>
          <p:cNvSpPr/>
          <p:nvPr/>
        </p:nvSpPr>
        <p:spPr>
          <a:xfrm>
            <a:off x="2476440" y="662940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8" name="Rectangle 2050">
            <a:hlinkClick r:id="" action="ppaction://hlinkshowjump?jump=nextslide"/>
          </p:cNvPr>
          <p:cNvSpPr/>
          <p:nvPr/>
        </p:nvSpPr>
        <p:spPr>
          <a:xfrm>
            <a:off x="2666880" y="1447920"/>
            <a:ext cx="266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等腰梯形的性质</a:t>
            </a:r>
            <a:endParaRPr b="0" i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0" name="Object 2070"/>
          <p:cNvGraphicFramePr/>
          <p:nvPr/>
        </p:nvGraphicFramePr>
        <p:xfrm>
          <a:off x="2666880" y="2286000"/>
          <a:ext cx="62485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20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6248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9:43:21Z</dcterms:created>
  <dc:creator>kejianyuan.com</dc:creator>
  <dc:description>kejianyuan.com</dc:description>
  <cp:keywords>kejianyuan.com</cp:keywords>
  <dc:language>en-US</dc:language>
  <cp:lastModifiedBy/>
  <dcterms:modified xsi:type="dcterms:W3CDTF">2014-09-10T16:22:45Z</dcterms:modified>
  <cp:revision>69</cp:revision>
  <dc:subject>人教版八年级数学（下）全套课件</dc:subject>
  <dc:title>人教版八年级数学（下）全套课件</dc:title>
</cp:coreProperties>
</file>