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gif" ContentType="image/gif"/>
  <Override PartName="/ppt/media/image27.jpeg" ContentType="image/jpeg"/>
  <Override PartName="/ppt/media/image10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54.gif" ContentType="image/gif"/>
  <Override PartName="/ppt/media/image22.jpeg" ContentType="image/jpeg"/>
  <Override PartName="/ppt/media/image13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1.jpeg" ContentType="image/jpeg"/>
  <Override PartName="/ppt/media/image29.png" ContentType="image/png"/>
  <Override PartName="/ppt/media/image23.jpeg" ContentType="image/jpeg"/>
  <Override PartName="/ppt/media/image56.gif" ContentType="image/gif"/>
  <Override PartName="/ppt/media/image19.jpeg" ContentType="image/jpeg"/>
  <Override PartName="/ppt/media/image20.jpeg" ContentType="image/jpeg"/>
  <Override PartName="/ppt/media/image42.jpeg" ContentType="image/jpeg"/>
  <Override PartName="/ppt/media/image59.jpeg" ContentType="image/jpeg"/>
  <Override PartName="/ppt/media/chimes.wav" ContentType="audio/x-wav"/>
  <Override PartName="/ppt/media/image17.jpeg" ContentType="image/jpeg"/>
  <Override PartName="/ppt/media/image50.jpeg" ContentType="image/jpeg"/>
  <Override PartName="/ppt/media/image6.jpeg" ContentType="image/jpeg"/>
  <Override PartName="/ppt/media/image16.jpeg" ContentType="image/jpeg"/>
  <Override PartName="/ppt/media/image9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png" ContentType="image/png"/>
  <Override PartName="/ppt/media/image3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8.gif" ContentType="image/gif"/>
  <Override PartName="/ppt/media/image49.jpeg" ContentType="image/jpeg"/>
  <Override PartName="/ppt/media/image52.jpeg" ContentType="image/jpeg"/>
  <Override PartName="/ppt/media/image40.jpeg" ContentType="image/jpeg"/>
  <Override PartName="/ppt/media/image53.gif" ContentType="image/gif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1D06-DF65-4A2C-8A16-89A5E19C1E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AD5-B2BB-46D3-97BD-C30A876F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293-3460-49D5-A440-9D6A4091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1FC-E0C4-48EF-A3DD-E7A29E58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7EF-86C8-4CE1-B05B-FF366D4B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953-05E5-4511-A154-A98C2B5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D1C-54C4-4B10-AE84-2A2B499F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C3A-D12A-4704-97B4-ECBD5494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E65-14BD-4C6A-9E48-CD0DCE82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D8A-C793-449F-B3A1-7A4DCAED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EC8-41C6-455E-A5B5-F4B33804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620-B7AB-4151-B2A1-692685E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B2B-16F8-47B2-8DC6-99F5BE5D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233-F5CD-4C26-B82E-1F917F1DD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8.gif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jpe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image" Target="../media/image51.jpeg"/><Relationship Id="rId19" Type="http://schemas.openxmlformats.org/officeDocument/2006/relationships/image" Target="../media/image52.jpeg"/><Relationship Id="rId20" Type="http://schemas.openxmlformats.org/officeDocument/2006/relationships/image" Target="../media/image36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3.gif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8.gif"/><Relationship Id="rId7" Type="http://schemas.openxmlformats.org/officeDocument/2006/relationships/image" Target="../media/image5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8.gif"/><Relationship Id="rId4" Type="http://schemas.openxmlformats.org/officeDocument/2006/relationships/slide" Target="slide9.xml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3.gif"/><Relationship Id="rId4" Type="http://schemas.openxmlformats.org/officeDocument/2006/relationships/slide" Target="slide3.xml"/><Relationship Id="rId5" Type="http://schemas.openxmlformats.org/officeDocument/2006/relationships/image" Target="../media/image5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slide" Target="slide4.xm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5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3.gif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8.gif"/><Relationship Id="rId7" Type="http://schemas.openxmlformats.org/officeDocument/2006/relationships/slide" Target="slide12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iananmen.org.cn/perindex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4.xml"/><Relationship Id="rId4" Type="http://schemas.openxmlformats.org/officeDocument/2006/relationships/image" Target="../media/image8.gif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" Target="slide4.xml"/><Relationship Id="rId5" Type="http://schemas.openxmlformats.org/officeDocument/2006/relationships/image" Target="../media/image8.gif"/><Relationship Id="rId6" Type="http://schemas.openxmlformats.org/officeDocument/2006/relationships/slide" Target="slide3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hyperlink" Target="http://image.baidu.com/ir?u=http://www.beiqijiazhongxinxx.cn/teacher/gaobingfeng/images/yiheyuan9.jpg&amp;f=http://www.beiqijiazhongxinxx.cn/teacher/gaobingfeng/gaobingfeng.htm&amp;c=baidu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://image.baidu.com/ir?u=http://heritage.tom.com/img/assets/14/beijww.jpg&amp;f=http://heritage.tom.com/Archive/2001/8/30-47519.html&amp;c=baidu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://image.baidu.com/ir?u=http://www.wxedu.net/~beijing/pic/fxg.jpg&amp;f=http://www.wxedu.net/~beijing/html/yhy.htm&amp;c=baidu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://image.baidu.com/ir?u=http://www.zxdlzx.net/dlhj/zgfg/&#21271;&#20140;&#25925;&#23467;3.jpg&amp;f=http://www.zxdlzx.net/dlhj/zgfg/page_01.htm&amp;c=baidu" TargetMode="External"/><Relationship Id="rId15" Type="http://schemas.openxmlformats.org/officeDocument/2006/relationships/image" Target="../media/image20.jpeg"/><Relationship Id="rId16" Type="http://schemas.openxmlformats.org/officeDocument/2006/relationships/hyperlink" Target="http://image.baidu.com/ir?u=http://www.zxdlzx.net/dlhj/zgfg/&#21271;&#20140;&#25925;&#23467;2.jpg&amp;f=http://www.zxdlzx.net/dlhj/zgfg/page_01.htm&amp;c=baidu" TargetMode="External"/><Relationship Id="rId17" Type="http://schemas.openxmlformats.org/officeDocument/2006/relationships/image" Target="../media/image21.jpeg"/><Relationship Id="rId18" Type="http://schemas.openxmlformats.org/officeDocument/2006/relationships/hyperlink" Target="http://image.baidu.com/ir?u=http://www.youbj.com/dongchen/gugong.gif&amp;f=http://www.youbj.com/dongchen/gugong.htm&amp;c=baidu" TargetMode="External"/><Relationship Id="rId19" Type="http://schemas.openxmlformats.org/officeDocument/2006/relationships/image" Target="../media/image22.jpeg"/><Relationship Id="rId20" Type="http://schemas.openxmlformats.org/officeDocument/2006/relationships/hyperlink" Target="http://image.baidu.com/ir?u=http://landscape.nease.net/ylgh/ylysh/gg/gugong.jpg&amp;f=http://landscape.nease.net/ylgh/ylysh/gg.htm&amp;c=baidu" TargetMode="External"/><Relationship Id="rId21" Type="http://schemas.openxmlformats.org/officeDocument/2006/relationships/image" Target="../media/image23.jpeg"/><Relationship Id="rId22" Type="http://schemas.openxmlformats.org/officeDocument/2006/relationships/hyperlink" Target="http://news.crcstar.com/news/26/2003-11-07/20031107-50727-26.shtml" TargetMode="External"/><Relationship Id="rId23" Type="http://schemas.openxmlformats.org/officeDocument/2006/relationships/image" Target="../media/image24.jpeg"/><Relationship Id="rId24" Type="http://schemas.openxmlformats.org/officeDocument/2006/relationships/hyperlink" Target="http://www.syeps.net/jspd/beijing/html/ming13.htm" TargetMode="External"/><Relationship Id="rId25" Type="http://schemas.openxmlformats.org/officeDocument/2006/relationships/image" Target="../media/image25.jpeg"/><Relationship Id="rId26" Type="http://schemas.openxmlformats.org/officeDocument/2006/relationships/hyperlink" Target="http://www.cnradio.com/internal/200307040200.html" TargetMode="External"/><Relationship Id="rId27" Type="http://schemas.openxmlformats.org/officeDocument/2006/relationships/image" Target="../media/image26.jpeg"/><Relationship Id="rId28" Type="http://schemas.openxmlformats.org/officeDocument/2006/relationships/image" Target="../media/image27.jpeg"/><Relationship Id="rId29" Type="http://schemas.openxmlformats.org/officeDocument/2006/relationships/image" Target="../media/image28.jpe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image" Target="../media/image30.jpeg"/><Relationship Id="rId33" Type="http://schemas.openxmlformats.org/officeDocument/2006/relationships/hyperlink" Target="http://image.baidu.com/ir?u=http://www.cnwh.org/cnsites/nbjr/image/zkd.jpg&amp;f=http://www.cnwh.org/cnsites/nbjr/zkd1.htm&amp;c=baidu" TargetMode="External"/><Relationship Id="rId34" Type="http://schemas.openxmlformats.org/officeDocument/2006/relationships/image" Target="../media/image31.jpeg"/><Relationship Id="rId35" Type="http://schemas.openxmlformats.org/officeDocument/2006/relationships/image" Target="../media/image32.jpeg"/><Relationship Id="rId36" Type="http://schemas.openxmlformats.org/officeDocument/2006/relationships/image" Target="../media/image33.jpeg"/><Relationship Id="rId37" Type="http://schemas.openxmlformats.org/officeDocument/2006/relationships/image" Target="../media/image34.jpeg"/><Relationship Id="rId38" Type="http://schemas.openxmlformats.org/officeDocument/2006/relationships/hyperlink" Target="http://www.tsinghua.edu.cn/chn/xxjs/jdjs/index.htm" TargetMode="External"/><Relationship Id="rId39" Type="http://schemas.openxmlformats.org/officeDocument/2006/relationships/image" Target="../media/image35.jpeg"/><Relationship Id="rId40" Type="http://schemas.openxmlformats.org/officeDocument/2006/relationships/slide" Target="slide11.xml"/><Relationship Id="rId41" Type="http://schemas.openxmlformats.org/officeDocument/2006/relationships/image" Target="../media/image36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417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52480" y="251460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北京的现代建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42120"/>
            <a:ext cx="533520" cy="51588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09480" y="304920"/>
              <a:ext cx="2514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9999"/>
                  </a:solidFill>
                  <a:latin typeface="Times New Roman"/>
                  <a:ea typeface="隶书"/>
                </a:rPr>
                <a:t>紫  竹  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0"/>
            <a:ext cx="9448920" cy="6858000"/>
            <a:chOff x="0" y="0"/>
            <a:chExt cx="9448920" cy="6858000"/>
          </a:xfrm>
        </p:grpSpPr>
        <p:pic>
          <p:nvPicPr>
            <p:cNvPr id="179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448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09480" y="457200"/>
              <a:ext cx="3810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斜    拉    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0" y="0"/>
            <a:ext cx="9524880" cy="6858000"/>
            <a:chOff x="0" y="0"/>
            <a:chExt cx="9524880" cy="6858000"/>
          </a:xfrm>
        </p:grpSpPr>
        <p:pic>
          <p:nvPicPr>
            <p:cNvPr id="182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524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209680" y="60480"/>
              <a:ext cx="4496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西  三  环  路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76320" y="0"/>
            <a:ext cx="9525240" cy="6858000"/>
            <a:chOff x="-76320" y="0"/>
            <a:chExt cx="9525240" cy="6858000"/>
          </a:xfrm>
        </p:grpSpPr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-76320" y="0"/>
              <a:ext cx="9525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232840" y="609480"/>
              <a:ext cx="100332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11d5ef"/>
                  </a:solidFill>
                  <a:latin typeface="隶书"/>
                  <a:ea typeface="隶书"/>
                </a:rPr>
                <a:t>五   方   桥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0" y="0"/>
            <a:ext cx="9448920" cy="6858000"/>
            <a:chOff x="0" y="0"/>
            <a:chExt cx="9448920" cy="6858000"/>
          </a:xfrm>
        </p:grpSpPr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448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28600" y="304920"/>
              <a:ext cx="4876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ffcc"/>
                  </a:solidFill>
                  <a:latin typeface="隶书"/>
                  <a:ea typeface="隶书"/>
                </a:rPr>
                <a:t>天  宁  寺  桥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0" y="0"/>
            <a:ext cx="9524880" cy="6858000"/>
            <a:chOff x="0" y="0"/>
            <a:chExt cx="9524880" cy="6858000"/>
          </a:xfrm>
        </p:grpSpPr>
        <p:pic>
          <p:nvPicPr>
            <p:cNvPr id="191" name="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524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057400" y="0"/>
              <a:ext cx="6248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9999"/>
                  </a:solidFill>
                  <a:latin typeface="隶书"/>
                  <a:ea typeface="隶书"/>
                </a:rPr>
                <a:t>四     惠      桥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0" y="0"/>
            <a:ext cx="9448920" cy="6859440"/>
            <a:chOff x="0" y="0"/>
            <a:chExt cx="9448920" cy="6859440"/>
          </a:xfrm>
        </p:grpSpPr>
        <p:pic>
          <p:nvPicPr>
            <p:cNvPr id="198" name="" descr="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944892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228600"/>
              <a:ext cx="335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国 际 饭 店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0" y="0"/>
            <a:ext cx="9448920" cy="6858000"/>
            <a:chOff x="0" y="0"/>
            <a:chExt cx="9448920" cy="6858000"/>
          </a:xfrm>
        </p:grpSpPr>
        <p:pic>
          <p:nvPicPr>
            <p:cNvPr id="201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9448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28600" y="304920"/>
              <a:ext cx="7391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11d5ef"/>
                  </a:solidFill>
                  <a:latin typeface="Times New Roman"/>
                  <a:ea typeface="隶书"/>
                </a:rPr>
                <a:t>奥林匹克体育中心外景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0" y="0"/>
            <a:ext cx="9524880" cy="6858000"/>
            <a:chOff x="0" y="0"/>
            <a:chExt cx="9524880" cy="6858000"/>
          </a:xfrm>
        </p:grpSpPr>
        <p:pic>
          <p:nvPicPr>
            <p:cNvPr id="204" name="" descr=""/>
            <p:cNvPicPr/>
            <p:nvPr/>
          </p:nvPicPr>
          <p:blipFill>
            <a:blip r:embed="rId16"/>
            <a:stretch/>
          </p:blipFill>
          <p:spPr>
            <a:xfrm>
              <a:off x="0" y="0"/>
              <a:ext cx="9524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819520" y="137160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cc00"/>
                  </a:solidFill>
                  <a:latin typeface="隶书"/>
                  <a:ea typeface="隶书"/>
                </a:rPr>
                <a:t>体 育 中 心 内 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8"/>
          <a:stretch/>
        </p:blipFill>
        <p:spPr>
          <a:xfrm>
            <a:off x="1143000" y="-228600"/>
            <a:ext cx="7207200" cy="7543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9448920" cy="7238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0"/>
          <a:stretch/>
        </p:blipFill>
        <p:spPr>
          <a:xfrm>
            <a:off x="94489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9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500"/>
                            </p:stCondLst>
                            <p:childTnLst>
                              <p:par>
                                <p:cTn id="247" nodeType="afterEffect" fill="hold" presetClass="entr" presetID="23" presetSubtype="3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4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58" nodeType="after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95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5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500"/>
                            </p:stCondLst>
                            <p:childTnLst>
                              <p:par>
                                <p:cTn id="275" nodeType="after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50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72200"/>
            <a:ext cx="1257480" cy="457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57200" y="853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综合刚才的图片，再加上课本上的内容，北京的城市职能主要体现在以下的几个方面：</a:t>
            </a:r>
            <a:r>
              <a:rPr b="1" lang="zh-CN" sz="3200" spc="-1" strike="noStrike">
                <a:solidFill>
                  <a:srgbClr val="f60a20"/>
                </a:solidFill>
                <a:latin typeface="Times New Roman"/>
              </a:rPr>
              <a:t>（课本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0" y="5638680"/>
            <a:ext cx="1371600" cy="121932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10480" y="6342120"/>
            <a:ext cx="533520" cy="515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8188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152280" y="228600"/>
            <a:ext cx="1074960" cy="1017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2590920"/>
            <a:ext cx="784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政治中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文化中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交通中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经济中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0480" y="6342120"/>
            <a:ext cx="533520" cy="5158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2620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5943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1138320"/>
            <a:ext cx="9144000" cy="6626880"/>
            <a:chOff x="0" y="1138320"/>
            <a:chExt cx="9144000" cy="6626880"/>
          </a:xfrm>
        </p:grpSpPr>
        <p:sp>
          <p:nvSpPr>
            <p:cNvPr id="224" name=""/>
            <p:cNvSpPr/>
            <p:nvPr/>
          </p:nvSpPr>
          <p:spPr>
            <a:xfrm>
              <a:off x="0" y="1138320"/>
              <a:ext cx="9144000" cy="66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、阅读资料：北京是中共中央、全国人大常委会和国务院所在地，全国政协、最高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民法院、最高人民检察院也驻在北京。据此说明北京的职能之一是（   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A.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全国的军事中心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B.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全国的经济中心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C.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全国的政治中心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D.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全国的文化中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下列四所名校，不是位于北京的是（         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清华大学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北京大学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中国人民大学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复旦大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、北京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2008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奥运会的会徽是（    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、下列旅游景点中，还没列入世界人类遗产的是（         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八达岭长城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天坛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颐和园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天安门广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5"/>
            <a:stretch/>
          </p:blipFill>
          <p:spPr>
            <a:xfrm>
              <a:off x="457200" y="4008600"/>
              <a:ext cx="7391520" cy="17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105520" y="27432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20a00"/>
                  </a:solidFill>
                  <a:latin typeface="Times New Roman"/>
                </a:rPr>
                <a:t>（文化、教育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城市职能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华文彩云"/>
                <a:ea typeface="华文彩云"/>
              </a:rPr>
              <a:t>    </a:t>
            </a:r>
            <a:r>
              <a:rPr b="1" lang="zh-CN" sz="2400" spc="-1" strike="noStrike">
                <a:solidFill>
                  <a:srgbClr val="99cc00"/>
                </a:solidFill>
                <a:latin typeface="宋体"/>
              </a:rPr>
              <a:t>阅读课本的内容，完成下列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6095880"/>
            <a:ext cx="1257120" cy="457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533520"/>
            <a:ext cx="91440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20025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c20025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北京申奥所确定的三大主题分别是：人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奥运、科技奥运，还有是什么奥运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4038480"/>
            <a:ext cx="449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隶书"/>
              </a:rPr>
              <a:t>绿 色 奥 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7543800" y="58672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523880" cy="906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14400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三、环境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经济的繁荣和城市规模的日益扩大，北京市面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着许多发展中的环境问题，请同学们进行讨论：北京现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环境问题主要存在着哪些方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48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隶书"/>
              </a:rPr>
              <a:t>沙尘暴、缺水（自然方面）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96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cc00"/>
                </a:solidFill>
                <a:latin typeface="隶书"/>
                <a:ea typeface="隶书"/>
              </a:rPr>
              <a:t>交通堵塞、空气污染、住房     紧张等（人文方面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075520" y="-228600"/>
            <a:ext cx="1068480" cy="1235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10480" y="6342120"/>
            <a:ext cx="533520" cy="515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8610480" y="6332400"/>
            <a:ext cx="533520" cy="516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981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13372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理位置：北京位于太行山、燕山和华北平原的结合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城市职能：政治、文化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通、经济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环境问题：沙尘暴影响、缺水、人口多、空气污染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通堵塞、住房紧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1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1257480" cy="457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624852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0"/>
            <a:ext cx="9144000" cy="6553080"/>
          </a:xfrm>
          <a:prstGeom prst="horizontalScroll">
            <a:avLst>
              <a:gd name="adj" fmla="val 1102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 rot="5400000">
            <a:off x="-1936080" y="1936080"/>
            <a:ext cx="450072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09999"/>
                  </a:solidFill>
                  <a:miter/>
                </a:ln>
                <a:solidFill>
                  <a:srgbClr val="99cc00"/>
                </a:solidFill>
                <a:latin typeface="隶书"/>
              </a:rPr>
              <a:t>达 标 测 试</a:t>
            </a:r>
            <a:endParaRPr b="1" lang="en-US" sz="2400" spc="1" strike="noStrike">
              <a:ln w="19080">
                <a:solidFill>
                  <a:srgbClr val="009999"/>
                </a:solidFill>
                <a:miter/>
              </a:ln>
              <a:solidFill>
                <a:srgbClr val="99cc00"/>
              </a:solidFill>
              <a:latin typeface="隶书"/>
              <a:ea typeface="隶书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914400"/>
            <a:ext cx="830592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、北京位于华北平原的（           ）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A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中部 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B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东部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C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西南部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D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西北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、北京东南临近的海是（           ）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A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渤海  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B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黄海 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C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东海           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D.</a:t>
            </a:r>
            <a:r>
              <a:rPr b="1" lang="zh-CN" sz="2000" spc="-1" strike="noStrike">
                <a:solidFill>
                  <a:srgbClr val="808080"/>
                </a:solidFill>
                <a:latin typeface="Times New Roman"/>
              </a:rPr>
              <a:t>南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、北京主要的城市职能是（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A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政治、文化中心  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B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旅游中心  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C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工业中心  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D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贸易中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4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、世界名城中最大的广场是我国的（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A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莫斯科红场 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B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北京天安门广场 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C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上海人民广场  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D.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罗马广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、从北京到广州经过的铁路干线是（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A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、京广线 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B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、京包线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C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、京沪线 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D</a:t>
            </a:r>
            <a:r>
              <a:rPr b="1" lang="zh-CN" sz="1800" spc="-1" strike="noStrike">
                <a:solidFill>
                  <a:srgbClr val="808080"/>
                </a:solidFill>
                <a:latin typeface="宋体"/>
              </a:rPr>
              <a:t>、京九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838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1752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2590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3429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90720" y="6400800"/>
            <a:ext cx="1257120" cy="45720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rId4" action="ppaction://hlinksldjump"/>
          </p:cNvPr>
          <p:cNvSpPr/>
          <p:nvPr/>
        </p:nvSpPr>
        <p:spPr>
          <a:xfrm>
            <a:off x="838080" y="6172200"/>
            <a:ext cx="1524240" cy="685800"/>
          </a:xfrm>
          <a:custGeom>
            <a:avLst/>
            <a:gdLst>
              <a:gd name="textAreaLeft" fmla="*/ 44280 w 1524240"/>
              <a:gd name="textAreaRight" fmla="*/ 1479960 w 152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7994" h="21600">
                <a:moveTo>
                  <a:pt x="0" y="0"/>
                </a:moveTo>
                <a:lnTo>
                  <a:pt x="47994" y="0"/>
                </a:lnTo>
                <a:lnTo>
                  <a:pt x="47994" y="21600"/>
                </a:lnTo>
                <a:lnTo>
                  <a:pt x="0" y="21600"/>
                </a:lnTo>
                <a:close/>
              </a:path>
              <a:path fill="lightenLess" w="47994" h="21600">
                <a:moveTo>
                  <a:pt x="0" y="0"/>
                </a:moveTo>
                <a:lnTo>
                  <a:pt x="47994" y="0"/>
                </a:lnTo>
                <a:lnTo>
                  <a:pt x="46594" y="1400"/>
                </a:lnTo>
                <a:lnTo>
                  <a:pt x="1400" y="1400"/>
                </a:lnTo>
                <a:close/>
              </a:path>
              <a:path fill="darken" w="47994" h="21600">
                <a:moveTo>
                  <a:pt x="47994" y="0"/>
                </a:moveTo>
                <a:lnTo>
                  <a:pt x="47994" y="21600"/>
                </a:lnTo>
                <a:lnTo>
                  <a:pt x="46594" y="20200"/>
                </a:lnTo>
                <a:lnTo>
                  <a:pt x="46594" y="1400"/>
                </a:lnTo>
                <a:close/>
              </a:path>
              <a:path fill="darkenLess" w="47994" h="21600">
                <a:moveTo>
                  <a:pt x="47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594" y="20200"/>
                </a:lnTo>
                <a:close/>
              </a:path>
              <a:path fill="lighten" w="47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10480" y="6342120"/>
            <a:ext cx="533520" cy="51588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rId7" action="ppaction://hlinksldjump"/>
          </p:cNvPr>
          <p:cNvSpPr/>
          <p:nvPr/>
        </p:nvSpPr>
        <p:spPr>
          <a:xfrm>
            <a:off x="8305920" y="6019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41911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11736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466560"/>
            <a:ext cx="9361440" cy="6391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0" y="385920"/>
            <a:ext cx="9144000" cy="6421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885080" y="630864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多谢指导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5257800" cy="3657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581280" y="2286000"/>
            <a:ext cx="5562720" cy="3728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28600" y="6019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</a:rPr>
              <a:t>北京的香山红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am1a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19280" y="2602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60a20"/>
                </a:solidFill>
                <a:latin typeface="黑体"/>
                <a:ea typeface="黑体"/>
              </a:rPr>
              <a:t>第二节        首都北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76320" y="-57240"/>
            <a:ext cx="9448920" cy="7220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03640" y="692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66"/>
                </a:solidFill>
                <a:latin typeface="Arial"/>
                <a:ea typeface="华文琥珀"/>
              </a:rPr>
              <a:t>北京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20500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Comic Sans MS"/>
              </a:rPr>
              <a:t>BEI  J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Hk.gif (2015 bytes)"/>
          <p:cNvPicPr/>
          <p:nvPr/>
        </p:nvPicPr>
        <p:blipFill>
          <a:blip r:embed="rId3"/>
          <a:stretch/>
        </p:blipFill>
        <p:spPr>
          <a:xfrm>
            <a:off x="4140360" y="3141720"/>
            <a:ext cx="933120" cy="5713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962640" y="3200400"/>
            <a:ext cx="78984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华文彩云"/>
              </a:rPr>
              <a:t>地理位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3352680" y="4876920"/>
            <a:ext cx="2743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华文彩云"/>
              </a:rPr>
              <a:t>城市职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6830280" y="3276720"/>
            <a:ext cx="139932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华文彩云"/>
              </a:rPr>
              <a:t>环境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读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.26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一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华北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燕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太行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渤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军都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西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永定河、京杭运河、密云水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791320" y="1676520"/>
            <a:ext cx="1523880" cy="761760"/>
          </a:xfrm>
          <a:prstGeom prst="wedgeRectCallout">
            <a:avLst>
              <a:gd name="adj1" fmla="val 15208"/>
              <a:gd name="adj2" fmla="val -165416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燕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486400"/>
            <a:ext cx="1524240" cy="762120"/>
          </a:xfrm>
          <a:prstGeom prst="wedgeRectCallout">
            <a:avLst>
              <a:gd name="adj1" fmla="val -95731"/>
              <a:gd name="adj2" fmla="val -140416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北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2000" y="4221000"/>
            <a:ext cx="1523880" cy="762120"/>
          </a:xfrm>
          <a:prstGeom prst="wedgeRectCallout">
            <a:avLst>
              <a:gd name="adj1" fmla="val 144481"/>
              <a:gd name="adj2" fmla="val -50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渤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562720"/>
            <a:ext cx="1905120" cy="761760"/>
          </a:xfrm>
          <a:prstGeom prst="wedgeRectCallout">
            <a:avLst>
              <a:gd name="adj1" fmla="val -86500"/>
              <a:gd name="adj2" fmla="val -149583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太行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3068640"/>
            <a:ext cx="1752480" cy="762120"/>
          </a:xfrm>
          <a:prstGeom prst="wedgeRectCallout">
            <a:avLst>
              <a:gd name="adj1" fmla="val -106430"/>
              <a:gd name="adj2" fmla="val 25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华北平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333360"/>
            <a:ext cx="2374920" cy="720720"/>
          </a:xfrm>
          <a:prstGeom prst="wedgeRectCallout">
            <a:avLst>
              <a:gd name="adj1" fmla="val -56083"/>
              <a:gd name="adj2" fmla="val 24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军都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1557360"/>
            <a:ext cx="1523880" cy="762120"/>
          </a:xfrm>
          <a:prstGeom prst="wedgeRectCallout">
            <a:avLst>
              <a:gd name="adj1" fmla="val 17814"/>
              <a:gd name="adj2" fmla="val 275416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西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7956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位置：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北京位于北靠燕山、西临军都山和西山，华北平原的西北部；东望渤海，是连接东北、西北和中原的枢纽，地理位置十分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068640"/>
            <a:ext cx="7921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势特点：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</a:rPr>
              <a:t>地势主要是从西北高，东南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3657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气候：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类型是温带大陆性季风气候，冬天寒冷干燥，春季多风沙，夏季高温多雨，秋季天气晴朗温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0" t="0" r="27" b="0"/>
          <a:stretch/>
        </p:blipFill>
        <p:spPr>
          <a:xfrm>
            <a:off x="3770280" y="0"/>
            <a:ext cx="5373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638680" y="3657600"/>
            <a:ext cx="381240" cy="457200"/>
          </a:xfrm>
          <a:prstGeom prst="star5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080" y="-47520"/>
            <a:ext cx="25275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了解北京主要铁路干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京哈线 ②京沪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京广线 ④京九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⑤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京包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10480" y="6342120"/>
            <a:ext cx="533520" cy="51588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8305920" y="5638680"/>
            <a:ext cx="838080" cy="12193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219320"/>
              <a:gd name="textAreaBottom" fmla="*/ 1165320 h 1219320"/>
            </a:gdLst>
            <a:ahLst/>
            <a:rect l="textAreaLeft" t="textAreaTop" r="textAreaRight" b="textAreaBottom"/>
            <a:pathLst>
              <a:path w="21600" h="31422">
                <a:moveTo>
                  <a:pt x="0" y="0"/>
                </a:moveTo>
                <a:lnTo>
                  <a:pt x="21600" y="0"/>
                </a:lnTo>
                <a:lnTo>
                  <a:pt x="21600" y="31422"/>
                </a:lnTo>
                <a:lnTo>
                  <a:pt x="0" y="31422"/>
                </a:lnTo>
                <a:close/>
              </a:path>
              <a:path fill="lightenLess" w="21600" h="314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422">
                <a:moveTo>
                  <a:pt x="21600" y="0"/>
                </a:moveTo>
                <a:lnTo>
                  <a:pt x="21600" y="31422"/>
                </a:lnTo>
                <a:lnTo>
                  <a:pt x="20200" y="30022"/>
                </a:lnTo>
                <a:lnTo>
                  <a:pt x="20200" y="1400"/>
                </a:lnTo>
                <a:close/>
              </a:path>
              <a:path fill="darkenLess" w="21600" h="31422">
                <a:moveTo>
                  <a:pt x="21600" y="31422"/>
                </a:moveTo>
                <a:lnTo>
                  <a:pt x="0" y="31422"/>
                </a:lnTo>
                <a:lnTo>
                  <a:pt x="1400" y="30022"/>
                </a:lnTo>
                <a:lnTo>
                  <a:pt x="20200" y="30022"/>
                </a:lnTo>
                <a:close/>
              </a:path>
              <a:path fill="lighten" w="21600" h="31422">
                <a:moveTo>
                  <a:pt x="0" y="314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0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905920" y="1523880"/>
            <a:ext cx="5933160" cy="5257800"/>
            <a:chOff x="2905920" y="1523880"/>
            <a:chExt cx="5933160" cy="5257800"/>
          </a:xfrm>
        </p:grpSpPr>
        <p:grpSp>
          <p:nvGrpSpPr>
            <p:cNvPr id="78" name=""/>
            <p:cNvGrpSpPr/>
            <p:nvPr/>
          </p:nvGrpSpPr>
          <p:grpSpPr>
            <a:xfrm>
              <a:off x="6019920" y="1523880"/>
              <a:ext cx="2819160" cy="2438280"/>
              <a:chOff x="6019920" y="1523880"/>
              <a:chExt cx="2819160" cy="2438280"/>
            </a:xfrm>
          </p:grpSpPr>
          <p:sp>
            <p:nvSpPr>
              <p:cNvPr id="79" name=""/>
              <p:cNvSpPr/>
              <p:nvPr/>
            </p:nvSpPr>
            <p:spPr>
              <a:xfrm>
                <a:off x="6019920" y="1523880"/>
                <a:ext cx="2819160" cy="2438280"/>
              </a:xfrm>
              <a:custGeom>
                <a:avLst/>
                <a:gdLst/>
                <a:ahLst/>
                <a:rect l="l" t="t" r="r" b="b"/>
                <a:pathLst>
                  <a:path w="1776" h="1536">
                    <a:moveTo>
                      <a:pt x="0" y="1504"/>
                    </a:moveTo>
                    <a:cubicBezTo>
                      <a:pt x="60" y="1520"/>
                      <a:pt x="120" y="1536"/>
                      <a:pt x="144" y="1504"/>
                    </a:cubicBezTo>
                    <a:cubicBezTo>
                      <a:pt x="168" y="1472"/>
                      <a:pt x="152" y="1392"/>
                      <a:pt x="144" y="1312"/>
                    </a:cubicBezTo>
                    <a:cubicBezTo>
                      <a:pt x="136" y="1232"/>
                      <a:pt x="104" y="1096"/>
                      <a:pt x="96" y="1024"/>
                    </a:cubicBezTo>
                    <a:cubicBezTo>
                      <a:pt x="88" y="952"/>
                      <a:pt x="64" y="928"/>
                      <a:pt x="96" y="880"/>
                    </a:cubicBezTo>
                    <a:cubicBezTo>
                      <a:pt x="128" y="832"/>
                      <a:pt x="240" y="768"/>
                      <a:pt x="288" y="736"/>
                    </a:cubicBezTo>
                    <a:cubicBezTo>
                      <a:pt x="336" y="704"/>
                      <a:pt x="352" y="680"/>
                      <a:pt x="384" y="688"/>
                    </a:cubicBezTo>
                    <a:cubicBezTo>
                      <a:pt x="416" y="696"/>
                      <a:pt x="448" y="784"/>
                      <a:pt x="480" y="784"/>
                    </a:cubicBezTo>
                    <a:cubicBezTo>
                      <a:pt x="512" y="784"/>
                      <a:pt x="544" y="712"/>
                      <a:pt x="576" y="688"/>
                    </a:cubicBezTo>
                    <a:cubicBezTo>
                      <a:pt x="608" y="664"/>
                      <a:pt x="640" y="640"/>
                      <a:pt x="672" y="640"/>
                    </a:cubicBezTo>
                    <a:cubicBezTo>
                      <a:pt x="704" y="640"/>
                      <a:pt x="736" y="680"/>
                      <a:pt x="768" y="688"/>
                    </a:cubicBezTo>
                    <a:cubicBezTo>
                      <a:pt x="800" y="696"/>
                      <a:pt x="824" y="704"/>
                      <a:pt x="864" y="688"/>
                    </a:cubicBezTo>
                    <a:cubicBezTo>
                      <a:pt x="904" y="672"/>
                      <a:pt x="960" y="624"/>
                      <a:pt x="1008" y="592"/>
                    </a:cubicBezTo>
                    <a:cubicBezTo>
                      <a:pt x="1056" y="560"/>
                      <a:pt x="1104" y="536"/>
                      <a:pt x="1152" y="496"/>
                    </a:cubicBezTo>
                    <a:cubicBezTo>
                      <a:pt x="1200" y="456"/>
                      <a:pt x="1256" y="416"/>
                      <a:pt x="1296" y="352"/>
                    </a:cubicBezTo>
                    <a:cubicBezTo>
                      <a:pt x="1336" y="288"/>
                      <a:pt x="1352" y="168"/>
                      <a:pt x="1392" y="112"/>
                    </a:cubicBezTo>
                    <a:cubicBezTo>
                      <a:pt x="1432" y="56"/>
                      <a:pt x="1496" y="32"/>
                      <a:pt x="1536" y="16"/>
                    </a:cubicBezTo>
                    <a:cubicBezTo>
                      <a:pt x="1576" y="0"/>
                      <a:pt x="1592" y="0"/>
                      <a:pt x="1632" y="16"/>
                    </a:cubicBezTo>
                    <a:cubicBezTo>
                      <a:pt x="1672" y="32"/>
                      <a:pt x="1752" y="96"/>
                      <a:pt x="1776" y="112"/>
                    </a:cubicBez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342480" y="2020680"/>
                <a:ext cx="1658520" cy="17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9999"/>
                    </a:solidFill>
                    <a:latin typeface="Times New Roman"/>
                  </a:rPr>
                  <a:t>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9999"/>
                    </a:solidFill>
                    <a:latin typeface="Times New Roman"/>
                  </a:rPr>
                  <a:t>       </a:t>
                </a:r>
                <a:r>
                  <a:rPr b="1" lang="zh-CN" sz="2400" spc="-1" strike="noStrike">
                    <a:solidFill>
                      <a:srgbClr val="009999"/>
                    </a:solidFill>
                    <a:latin typeface="Times New Roman"/>
                  </a:rPr>
                  <a:t>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9999"/>
                    </a:solidFill>
                    <a:latin typeface="Times New Roman"/>
                  </a:rPr>
                  <a:t>          </a:t>
                </a:r>
                <a:r>
                  <a:rPr b="1" lang="zh-CN" sz="2400" spc="-1" strike="noStrike">
                    <a:solidFill>
                      <a:srgbClr val="009999"/>
                    </a:solidFill>
                    <a:latin typeface="Times New Roman"/>
                  </a:rPr>
                  <a:t>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907880" y="3987720"/>
              <a:ext cx="2331000" cy="2743200"/>
              <a:chOff x="4907880" y="3987720"/>
              <a:chExt cx="2331000" cy="2743200"/>
            </a:xfrm>
          </p:grpSpPr>
          <p:sp>
            <p:nvSpPr>
              <p:cNvPr id="82" name=""/>
              <p:cNvSpPr/>
              <p:nvPr/>
            </p:nvSpPr>
            <p:spPr>
              <a:xfrm>
                <a:off x="5562720" y="3987720"/>
                <a:ext cx="1549440" cy="2743200"/>
              </a:xfrm>
              <a:custGeom>
                <a:avLst/>
                <a:gdLst/>
                <a:ahLst/>
                <a:rect l="l" t="t" r="r" b="b"/>
                <a:pathLst>
                  <a:path w="976" h="1728">
                    <a:moveTo>
                      <a:pt x="96" y="0"/>
                    </a:moveTo>
                    <a:cubicBezTo>
                      <a:pt x="48" y="32"/>
                      <a:pt x="0" y="64"/>
                      <a:pt x="0" y="96"/>
                    </a:cubicBezTo>
                    <a:cubicBezTo>
                      <a:pt x="0" y="128"/>
                      <a:pt x="72" y="136"/>
                      <a:pt x="96" y="192"/>
                    </a:cubicBezTo>
                    <a:cubicBezTo>
                      <a:pt x="120" y="248"/>
                      <a:pt x="112" y="376"/>
                      <a:pt x="144" y="432"/>
                    </a:cubicBezTo>
                    <a:cubicBezTo>
                      <a:pt x="176" y="488"/>
                      <a:pt x="240" y="496"/>
                      <a:pt x="288" y="528"/>
                    </a:cubicBezTo>
                    <a:cubicBezTo>
                      <a:pt x="336" y="560"/>
                      <a:pt x="368" y="584"/>
                      <a:pt x="432" y="624"/>
                    </a:cubicBezTo>
                    <a:cubicBezTo>
                      <a:pt x="496" y="664"/>
                      <a:pt x="600" y="720"/>
                      <a:pt x="672" y="768"/>
                    </a:cubicBezTo>
                    <a:cubicBezTo>
                      <a:pt x="744" y="816"/>
                      <a:pt x="816" y="864"/>
                      <a:pt x="864" y="912"/>
                    </a:cubicBezTo>
                    <a:cubicBezTo>
                      <a:pt x="912" y="960"/>
                      <a:pt x="944" y="1008"/>
                      <a:pt x="960" y="1056"/>
                    </a:cubicBezTo>
                    <a:cubicBezTo>
                      <a:pt x="976" y="1104"/>
                      <a:pt x="976" y="1176"/>
                      <a:pt x="960" y="1200"/>
                    </a:cubicBezTo>
                    <a:cubicBezTo>
                      <a:pt x="944" y="1224"/>
                      <a:pt x="896" y="1176"/>
                      <a:pt x="864" y="1200"/>
                    </a:cubicBezTo>
                    <a:cubicBezTo>
                      <a:pt x="832" y="1224"/>
                      <a:pt x="784" y="1296"/>
                      <a:pt x="768" y="1344"/>
                    </a:cubicBezTo>
                    <a:cubicBezTo>
                      <a:pt x="752" y="1392"/>
                      <a:pt x="776" y="1424"/>
                      <a:pt x="768" y="1488"/>
                    </a:cubicBezTo>
                    <a:cubicBezTo>
                      <a:pt x="760" y="1552"/>
                      <a:pt x="736" y="1688"/>
                      <a:pt x="720" y="1728"/>
                    </a:cubicBez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907880" y="4368600"/>
                <a:ext cx="233100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cc00"/>
                    </a:solidFill>
                    <a:latin typeface="Times New Roman"/>
                  </a:rPr>
                  <a:t>                   </a:t>
                </a:r>
                <a:r>
                  <a:rPr b="1" lang="zh-CN" sz="2800" spc="-1" strike="noStrike">
                    <a:solidFill>
                      <a:srgbClr val="99cc00"/>
                    </a:solidFill>
                    <a:latin typeface="Times New Roman"/>
                  </a:rPr>
                  <a:t>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cc00"/>
                    </a:solidFill>
                    <a:latin typeface="Times New Roman"/>
                  </a:rPr>
                  <a:t>           </a:t>
                </a:r>
                <a:r>
                  <a:rPr b="1" lang="zh-CN" sz="2800" spc="-1" strike="noStrike">
                    <a:solidFill>
                      <a:srgbClr val="99cc00"/>
                    </a:solidFill>
                    <a:latin typeface="Times New Roman"/>
                  </a:rPr>
                  <a:t>沪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99cc00"/>
                    </a:solidFill>
                    <a:latin typeface="Times New Roman"/>
                  </a:rPr>
                  <a:t>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3886200" y="2463480"/>
              <a:ext cx="2057400" cy="1295640"/>
              <a:chOff x="3886200" y="2463480"/>
              <a:chExt cx="2057400" cy="1295640"/>
            </a:xfrm>
          </p:grpSpPr>
          <p:sp>
            <p:nvSpPr>
              <p:cNvPr id="85" name=""/>
              <p:cNvSpPr/>
              <p:nvPr/>
            </p:nvSpPr>
            <p:spPr>
              <a:xfrm>
                <a:off x="3886200" y="2463480"/>
                <a:ext cx="1905120" cy="1295640"/>
              </a:xfrm>
              <a:custGeom>
                <a:avLst/>
                <a:gdLst/>
                <a:ahLst/>
                <a:rect l="l" t="t" r="r" b="b"/>
                <a:pathLst>
                  <a:path w="1200" h="816">
                    <a:moveTo>
                      <a:pt x="1200" y="816"/>
                    </a:moveTo>
                    <a:cubicBezTo>
                      <a:pt x="1148" y="728"/>
                      <a:pt x="1096" y="640"/>
                      <a:pt x="1056" y="576"/>
                    </a:cubicBezTo>
                    <a:cubicBezTo>
                      <a:pt x="1016" y="512"/>
                      <a:pt x="992" y="480"/>
                      <a:pt x="960" y="432"/>
                    </a:cubicBezTo>
                    <a:cubicBezTo>
                      <a:pt x="928" y="384"/>
                      <a:pt x="896" y="320"/>
                      <a:pt x="864" y="288"/>
                    </a:cubicBezTo>
                    <a:cubicBezTo>
                      <a:pt x="832" y="256"/>
                      <a:pt x="824" y="256"/>
                      <a:pt x="768" y="240"/>
                    </a:cubicBezTo>
                    <a:cubicBezTo>
                      <a:pt x="712" y="224"/>
                      <a:pt x="592" y="208"/>
                      <a:pt x="528" y="192"/>
                    </a:cubicBezTo>
                    <a:cubicBezTo>
                      <a:pt x="464" y="176"/>
                      <a:pt x="432" y="160"/>
                      <a:pt x="384" y="144"/>
                    </a:cubicBezTo>
                    <a:cubicBezTo>
                      <a:pt x="336" y="128"/>
                      <a:pt x="304" y="120"/>
                      <a:pt x="240" y="96"/>
                    </a:cubicBezTo>
                    <a:cubicBezTo>
                      <a:pt x="176" y="72"/>
                      <a:pt x="48" y="16"/>
                      <a:pt x="0" y="0"/>
                    </a:cubicBezTo>
                  </a:path>
                </a:pathLst>
              </a:custGeom>
              <a:noFill/>
              <a:ln w="57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962520" y="2539800"/>
                <a:ext cx="19810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京      包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3809880" y="3743280"/>
              <a:ext cx="1905120" cy="1044360"/>
              <a:chOff x="3809880" y="3743280"/>
              <a:chExt cx="1905120" cy="1044360"/>
            </a:xfrm>
          </p:grpSpPr>
          <p:sp>
            <p:nvSpPr>
              <p:cNvPr id="88" name=""/>
              <p:cNvSpPr/>
              <p:nvPr/>
            </p:nvSpPr>
            <p:spPr>
              <a:xfrm>
                <a:off x="3886200" y="3987720"/>
                <a:ext cx="1523880" cy="799920"/>
              </a:xfrm>
              <a:custGeom>
                <a:avLst/>
                <a:gdLst/>
                <a:ahLst/>
                <a:rect l="l" t="t" r="r" b="b"/>
                <a:pathLst>
                  <a:path w="960" h="504">
                    <a:moveTo>
                      <a:pt x="960" y="0"/>
                    </a:moveTo>
                    <a:cubicBezTo>
                      <a:pt x="812" y="180"/>
                      <a:pt x="664" y="360"/>
                      <a:pt x="576" y="432"/>
                    </a:cubicBezTo>
                    <a:cubicBezTo>
                      <a:pt x="488" y="504"/>
                      <a:pt x="472" y="440"/>
                      <a:pt x="432" y="432"/>
                    </a:cubicBezTo>
                    <a:cubicBezTo>
                      <a:pt x="392" y="424"/>
                      <a:pt x="376" y="400"/>
                      <a:pt x="336" y="384"/>
                    </a:cubicBezTo>
                    <a:cubicBezTo>
                      <a:pt x="296" y="368"/>
                      <a:pt x="248" y="344"/>
                      <a:pt x="192" y="336"/>
                    </a:cubicBezTo>
                    <a:cubicBezTo>
                      <a:pt x="136" y="328"/>
                      <a:pt x="32" y="336"/>
                      <a:pt x="0" y="336"/>
                    </a:cubicBezTo>
                  </a:path>
                </a:pathLst>
              </a:custGeom>
              <a:noFill/>
              <a:ln w="572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809880" y="3743280"/>
                <a:ext cx="19051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             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京     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905920" y="4140000"/>
              <a:ext cx="2656800" cy="2641680"/>
              <a:chOff x="2905920" y="4140000"/>
              <a:chExt cx="2656800" cy="2641680"/>
            </a:xfrm>
          </p:grpSpPr>
          <p:sp>
            <p:nvSpPr>
              <p:cNvPr id="91" name=""/>
              <p:cNvSpPr/>
              <p:nvPr/>
            </p:nvSpPr>
            <p:spPr>
              <a:xfrm>
                <a:off x="3809880" y="4140000"/>
                <a:ext cx="1752840" cy="2641680"/>
              </a:xfrm>
              <a:custGeom>
                <a:avLst/>
                <a:gdLst/>
                <a:ahLst/>
                <a:rect l="l" t="t" r="r" b="b"/>
                <a:pathLst>
                  <a:path w="1104" h="1664">
                    <a:moveTo>
                      <a:pt x="1104" y="0"/>
                    </a:moveTo>
                    <a:cubicBezTo>
                      <a:pt x="1068" y="28"/>
                      <a:pt x="1032" y="56"/>
                      <a:pt x="1008" y="96"/>
                    </a:cubicBezTo>
                    <a:cubicBezTo>
                      <a:pt x="984" y="136"/>
                      <a:pt x="984" y="176"/>
                      <a:pt x="960" y="240"/>
                    </a:cubicBezTo>
                    <a:cubicBezTo>
                      <a:pt x="936" y="304"/>
                      <a:pt x="912" y="392"/>
                      <a:pt x="864" y="480"/>
                    </a:cubicBezTo>
                    <a:cubicBezTo>
                      <a:pt x="816" y="568"/>
                      <a:pt x="728" y="664"/>
                      <a:pt x="672" y="768"/>
                    </a:cubicBezTo>
                    <a:cubicBezTo>
                      <a:pt x="616" y="872"/>
                      <a:pt x="584" y="992"/>
                      <a:pt x="528" y="1104"/>
                    </a:cubicBezTo>
                    <a:cubicBezTo>
                      <a:pt x="472" y="1216"/>
                      <a:pt x="408" y="1352"/>
                      <a:pt x="336" y="1440"/>
                    </a:cubicBezTo>
                    <a:cubicBezTo>
                      <a:pt x="264" y="1528"/>
                      <a:pt x="152" y="1600"/>
                      <a:pt x="96" y="1632"/>
                    </a:cubicBezTo>
                    <a:cubicBezTo>
                      <a:pt x="40" y="1664"/>
                      <a:pt x="8" y="1632"/>
                      <a:pt x="0" y="1632"/>
                    </a:cubicBezTo>
                  </a:path>
                </a:pathLst>
              </a:custGeom>
              <a:noFill/>
              <a:ln w="5724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05920" y="4444920"/>
                <a:ext cx="258048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ccff"/>
                    </a:solidFill>
                    <a:latin typeface="Times New Roman"/>
                  </a:rPr>
                  <a:t>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ccff"/>
                    </a:solidFill>
                    <a:latin typeface="Times New Roman"/>
                  </a:rPr>
                  <a:t>            </a:t>
                </a:r>
                <a:r>
                  <a:rPr b="1" lang="zh-CN" sz="2400" spc="-1" strike="noStrike">
                    <a:solidFill>
                      <a:srgbClr val="ffccff"/>
                    </a:solidFill>
                    <a:latin typeface="Times New Roman"/>
                  </a:rPr>
                  <a:t>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ccff"/>
                    </a:solidFill>
                    <a:latin typeface="Times New Roman"/>
                  </a:rPr>
                  <a:t>                      </a:t>
                </a:r>
                <a:r>
                  <a:rPr b="1" lang="zh-CN" sz="2400" spc="-1" strike="noStrike">
                    <a:solidFill>
                      <a:srgbClr val="ffccff"/>
                    </a:solidFill>
                    <a:latin typeface="Times New Roman"/>
                  </a:rPr>
                  <a:t>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2971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609480"/>
            <a:ext cx="94489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家都知道，北京是国内外著名的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城市，那如果我们要从赣州出发到北京，你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最好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择哪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种交通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？并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简单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要的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6523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286000" y="1270080"/>
            <a:ext cx="6858000" cy="5587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10480" y="6342120"/>
            <a:ext cx="533520" cy="5158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305920" y="58672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464160" y="2971800"/>
            <a:ext cx="1613160" cy="3218400"/>
            <a:chOff x="6464160" y="2971800"/>
            <a:chExt cx="1613160" cy="3218400"/>
          </a:xfrm>
        </p:grpSpPr>
        <p:grpSp>
          <p:nvGrpSpPr>
            <p:cNvPr id="100" name=""/>
            <p:cNvGrpSpPr/>
            <p:nvPr/>
          </p:nvGrpSpPr>
          <p:grpSpPr>
            <a:xfrm>
              <a:off x="6553080" y="2971800"/>
              <a:ext cx="1524240" cy="3218400"/>
              <a:chOff x="6553080" y="2971800"/>
              <a:chExt cx="1524240" cy="3218400"/>
            </a:xfrm>
          </p:grpSpPr>
          <p:sp>
            <p:nvSpPr>
              <p:cNvPr id="101" name=""/>
              <p:cNvSpPr/>
              <p:nvPr/>
            </p:nvSpPr>
            <p:spPr>
              <a:xfrm>
                <a:off x="6858000" y="5791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6553080" y="2971800"/>
                <a:ext cx="1524240" cy="3218400"/>
                <a:chOff x="6553080" y="2971800"/>
                <a:chExt cx="1524240" cy="32184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832440" y="3429000"/>
                  <a:ext cx="330480" cy="2362320"/>
                </a:xfrm>
                <a:custGeom>
                  <a:avLst/>
                  <a:gdLst/>
                  <a:ahLst/>
                  <a:rect l="l" t="t" r="r" b="b"/>
                  <a:pathLst>
                    <a:path w="208" h="1488">
                      <a:moveTo>
                        <a:pt x="64" y="1488"/>
                      </a:moveTo>
                      <a:cubicBezTo>
                        <a:pt x="92" y="1432"/>
                        <a:pt x="120" y="1376"/>
                        <a:pt x="112" y="1344"/>
                      </a:cubicBezTo>
                      <a:cubicBezTo>
                        <a:pt x="104" y="1312"/>
                        <a:pt x="32" y="1328"/>
                        <a:pt x="16" y="1296"/>
                      </a:cubicBezTo>
                      <a:cubicBezTo>
                        <a:pt x="0" y="1264"/>
                        <a:pt x="16" y="1192"/>
                        <a:pt x="16" y="1152"/>
                      </a:cubicBezTo>
                      <a:cubicBezTo>
                        <a:pt x="16" y="1112"/>
                        <a:pt x="8" y="1096"/>
                        <a:pt x="16" y="1056"/>
                      </a:cubicBezTo>
                      <a:cubicBezTo>
                        <a:pt x="24" y="1016"/>
                        <a:pt x="48" y="960"/>
                        <a:pt x="64" y="912"/>
                      </a:cubicBezTo>
                      <a:cubicBezTo>
                        <a:pt x="80" y="864"/>
                        <a:pt x="104" y="816"/>
                        <a:pt x="112" y="768"/>
                      </a:cubicBezTo>
                      <a:cubicBezTo>
                        <a:pt x="120" y="720"/>
                        <a:pt x="120" y="664"/>
                        <a:pt x="112" y="624"/>
                      </a:cubicBezTo>
                      <a:cubicBezTo>
                        <a:pt x="104" y="584"/>
                        <a:pt x="72" y="560"/>
                        <a:pt x="64" y="528"/>
                      </a:cubicBezTo>
                      <a:cubicBezTo>
                        <a:pt x="56" y="496"/>
                        <a:pt x="64" y="464"/>
                        <a:pt x="64" y="432"/>
                      </a:cubicBezTo>
                      <a:cubicBezTo>
                        <a:pt x="64" y="400"/>
                        <a:pt x="64" y="376"/>
                        <a:pt x="64" y="336"/>
                      </a:cubicBezTo>
                      <a:cubicBezTo>
                        <a:pt x="64" y="296"/>
                        <a:pt x="64" y="232"/>
                        <a:pt x="64" y="192"/>
                      </a:cubicBezTo>
                      <a:cubicBezTo>
                        <a:pt x="64" y="152"/>
                        <a:pt x="48" y="120"/>
                        <a:pt x="64" y="96"/>
                      </a:cubicBezTo>
                      <a:cubicBezTo>
                        <a:pt x="80" y="72"/>
                        <a:pt x="136" y="64"/>
                        <a:pt x="160" y="48"/>
                      </a:cubicBezTo>
                      <a:cubicBezTo>
                        <a:pt x="184" y="32"/>
                        <a:pt x="200" y="16"/>
                        <a:pt x="208" y="0"/>
                      </a:cubicBezTo>
                    </a:path>
                  </a:pathLst>
                </a:custGeom>
                <a:noFill/>
                <a:ln w="57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86600" y="3276720"/>
                  <a:ext cx="152280" cy="152280"/>
                </a:xfrm>
                <a:prstGeom prst="star5">
                  <a:avLst/>
                </a:prstGeom>
                <a:solidFill>
                  <a:srgbClr val="009999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086600" y="297180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9999"/>
                      </a:solidFill>
                      <a:latin typeface="Times New Roman"/>
                    </a:rPr>
                    <a:t>北京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553080" y="5791320"/>
                  <a:ext cx="114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9999"/>
                      </a:solidFill>
                      <a:latin typeface="Times New Roman"/>
                    </a:rPr>
                    <a:t>广州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6464160" y="3733920"/>
              <a:ext cx="54612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50394"/>
                  </a:solidFill>
                  <a:latin typeface="Times New Roman"/>
                </a:rPr>
                <a:t>京     广     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010280" y="5943600"/>
            <a:ext cx="76320" cy="763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708240" y="3429000"/>
            <a:ext cx="1597680" cy="2820960"/>
            <a:chOff x="6708240" y="3429000"/>
            <a:chExt cx="1597680" cy="2820960"/>
          </a:xfrm>
        </p:grpSpPr>
        <p:grpSp>
          <p:nvGrpSpPr>
            <p:cNvPr id="110" name=""/>
            <p:cNvGrpSpPr/>
            <p:nvPr/>
          </p:nvGrpSpPr>
          <p:grpSpPr>
            <a:xfrm>
              <a:off x="7010280" y="3429000"/>
              <a:ext cx="1295640" cy="2820960"/>
              <a:chOff x="7010280" y="3429000"/>
              <a:chExt cx="1295640" cy="2820960"/>
            </a:xfrm>
          </p:grpSpPr>
          <p:sp>
            <p:nvSpPr>
              <p:cNvPr id="111" name=""/>
              <p:cNvSpPr/>
              <p:nvPr/>
            </p:nvSpPr>
            <p:spPr>
              <a:xfrm>
                <a:off x="7010280" y="3429000"/>
                <a:ext cx="228600" cy="2514600"/>
              </a:xfrm>
              <a:custGeom>
                <a:avLst/>
                <a:gdLst/>
                <a:ahLst/>
                <a:rect l="l" t="t" r="r" b="b"/>
                <a:pathLst>
                  <a:path w="144" h="1584">
                    <a:moveTo>
                      <a:pt x="96" y="0"/>
                    </a:moveTo>
                    <a:cubicBezTo>
                      <a:pt x="96" y="140"/>
                      <a:pt x="96" y="280"/>
                      <a:pt x="96" y="384"/>
                    </a:cubicBezTo>
                    <a:cubicBezTo>
                      <a:pt x="96" y="488"/>
                      <a:pt x="96" y="568"/>
                      <a:pt x="96" y="624"/>
                    </a:cubicBezTo>
                    <a:cubicBezTo>
                      <a:pt x="96" y="680"/>
                      <a:pt x="96" y="688"/>
                      <a:pt x="96" y="720"/>
                    </a:cubicBezTo>
                    <a:cubicBezTo>
                      <a:pt x="96" y="752"/>
                      <a:pt x="88" y="768"/>
                      <a:pt x="96" y="816"/>
                    </a:cubicBezTo>
                    <a:cubicBezTo>
                      <a:pt x="104" y="864"/>
                      <a:pt x="144" y="960"/>
                      <a:pt x="144" y="1008"/>
                    </a:cubicBezTo>
                    <a:cubicBezTo>
                      <a:pt x="144" y="1056"/>
                      <a:pt x="104" y="1072"/>
                      <a:pt x="96" y="1104"/>
                    </a:cubicBezTo>
                    <a:cubicBezTo>
                      <a:pt x="88" y="1136"/>
                      <a:pt x="96" y="1160"/>
                      <a:pt x="96" y="1200"/>
                    </a:cubicBezTo>
                    <a:cubicBezTo>
                      <a:pt x="96" y="1240"/>
                      <a:pt x="104" y="1296"/>
                      <a:pt x="96" y="1344"/>
                    </a:cubicBezTo>
                    <a:cubicBezTo>
                      <a:pt x="88" y="1392"/>
                      <a:pt x="64" y="1448"/>
                      <a:pt x="48" y="1488"/>
                    </a:cubicBezTo>
                    <a:cubicBezTo>
                      <a:pt x="32" y="1528"/>
                      <a:pt x="8" y="1568"/>
                      <a:pt x="0" y="1584"/>
                    </a:cubicBezTo>
                  </a:path>
                </a:pathLst>
              </a:custGeom>
              <a:noFill/>
              <a:ln w="381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0280" y="5881680"/>
                <a:ext cx="12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920a00"/>
                    </a:solidFill>
                    <a:latin typeface="Times New Roman"/>
                  </a:rPr>
                  <a:t>九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708240" y="3581280"/>
              <a:ext cx="9118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99"/>
                  </a:solidFill>
                  <a:latin typeface="Times New Roman"/>
                </a:rPr>
                <a:t>京     九      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55468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0322"/>
                </a:solidFill>
                <a:latin typeface="Times New Roman"/>
                <a:ea typeface="隶书"/>
              </a:rPr>
              <a:t>铁路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0322"/>
                </a:solidFill>
                <a:latin typeface="Times New Roman"/>
                <a:ea typeface="隶书"/>
              </a:rPr>
              <a:t>京广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0" y="0"/>
            <a:ext cx="9144000" cy="7101000"/>
            <a:chOff x="0" y="0"/>
            <a:chExt cx="9144000" cy="710100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10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71800" y="457200"/>
              <a:ext cx="525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Times New Roman"/>
                  <a:ea typeface="隶书"/>
                </a:rPr>
                <a:t>天 安 门 夜 景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0" y="7920"/>
            <a:ext cx="9144000" cy="6859440"/>
            <a:chOff x="0" y="7920"/>
            <a:chExt cx="9144000" cy="685944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0" y="792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851600" y="838080"/>
              <a:ext cx="9115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cc00"/>
                  </a:solidFill>
                  <a:latin typeface="隶书"/>
                  <a:ea typeface="隶书"/>
                </a:rPr>
                <a:t>天 坛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0" y="9360"/>
            <a:ext cx="9220320" cy="6858000"/>
            <a:chOff x="0" y="9360"/>
            <a:chExt cx="9220320" cy="6858000"/>
          </a:xfrm>
        </p:grpSpPr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0" y="936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781680" y="609480"/>
              <a:ext cx="243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9900cc"/>
                  </a:solidFill>
                  <a:latin typeface="隶书"/>
                  <a:ea typeface="隶书"/>
                </a:rPr>
                <a:t>天  坛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000160" y="0"/>
            <a:ext cx="5086440" cy="7156440"/>
            <a:chOff x="2000160" y="0"/>
            <a:chExt cx="5086440" cy="7156440"/>
          </a:xfrm>
        </p:grpSpPr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2693880" y="0"/>
              <a:ext cx="4392720" cy="71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000160" y="1143000"/>
              <a:ext cx="152100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Times New Roman"/>
                  <a:ea typeface="隶书"/>
                </a:rPr>
                <a:t>人 民 英 雄 纪  念 碑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0" y="0"/>
            <a:ext cx="9220320" cy="7162560"/>
            <a:chOff x="0" y="0"/>
            <a:chExt cx="9220320" cy="716256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71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743200" y="230400"/>
              <a:ext cx="647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故 宫 博 物 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0" y="-152280"/>
            <a:ext cx="9144000" cy="6858000"/>
            <a:chOff x="0" y="-152280"/>
            <a:chExt cx="9144000" cy="6858000"/>
          </a:xfrm>
        </p:grpSpPr>
        <p:grpSp>
          <p:nvGrpSpPr>
            <p:cNvPr id="132" name=""/>
            <p:cNvGrpSpPr/>
            <p:nvPr/>
          </p:nvGrpSpPr>
          <p:grpSpPr>
            <a:xfrm>
              <a:off x="0" y="-152280"/>
              <a:ext cx="9144000" cy="6858000"/>
              <a:chOff x="0" y="-152280"/>
              <a:chExt cx="9144000" cy="6858000"/>
            </a:xfrm>
          </p:grpSpPr>
          <p:pic>
            <p:nvPicPr>
              <p:cNvPr id="133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4876920" y="-152280"/>
                <a:ext cx="426708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0" y="3127320"/>
                <a:ext cx="4876920" cy="357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0" y="-152280"/>
                <a:ext cx="4876920" cy="327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"/>
            <p:cNvSpPr/>
            <p:nvPr/>
          </p:nvSpPr>
          <p:spPr>
            <a:xfrm>
              <a:off x="4500360" y="1524240"/>
              <a:ext cx="91152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e11fdc"/>
                  </a:solidFill>
                  <a:latin typeface="隶书"/>
                  <a:ea typeface="隶书"/>
                </a:rPr>
                <a:t>颐 和 园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grpSp>
          <p:nvGrpSpPr>
            <p:cNvPr id="138" name=""/>
            <p:cNvGrpSpPr/>
            <p:nvPr/>
          </p:nvGrpSpPr>
          <p:grpSpPr>
            <a:xfrm>
              <a:off x="0" y="0"/>
              <a:ext cx="9372600" cy="6858000"/>
              <a:chOff x="0" y="0"/>
              <a:chExt cx="9372600" cy="6858000"/>
            </a:xfrm>
          </p:grpSpPr>
          <p:pic>
            <p:nvPicPr>
              <p:cNvPr id="139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876920" y="0"/>
                <a:ext cx="4343400" cy="312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0" y="0"/>
                <a:ext cx="4876920" cy="317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0" y="3124080"/>
                <a:ext cx="4876920" cy="373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4876920" y="3124080"/>
                <a:ext cx="4495680" cy="373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/>
            <p:nvPr/>
          </p:nvSpPr>
          <p:spPr>
            <a:xfrm>
              <a:off x="3505320" y="228600"/>
              <a:ext cx="281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e11fdc"/>
                  </a:solidFill>
                  <a:latin typeface="隶书"/>
                  <a:ea typeface="隶书"/>
                </a:rPr>
                <a:t>故     宫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pic>
          <p:nvPicPr>
            <p:cNvPr id="145" name="" descr="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0" y="3362400"/>
              <a:ext cx="5029200" cy="34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0" y="0"/>
              <a:ext cx="502920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5029200" y="0"/>
              <a:ext cx="4114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238880" y="152280"/>
              <a:ext cx="198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e11fdc"/>
                  </a:solidFill>
                  <a:latin typeface="Times New Roman"/>
                  <a:ea typeface="隶书"/>
                </a:rPr>
                <a:t>十三陵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0" y="0"/>
            <a:ext cx="9448920" cy="6858000"/>
            <a:chOff x="0" y="0"/>
            <a:chExt cx="9448920" cy="6858000"/>
          </a:xfrm>
        </p:grpSpPr>
        <p:pic>
          <p:nvPicPr>
            <p:cNvPr id="150" name="1035562177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9448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 txBox="1"/>
            <p:nvPr/>
          </p:nvSpPr>
          <p:spPr>
            <a:xfrm>
              <a:off x="609840" y="533520"/>
              <a:ext cx="37004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后宫全景</a:t>
              </a:r>
              <a:endPara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0" y="-152280"/>
            <a:ext cx="9144000" cy="6867360"/>
            <a:chOff x="0" y="-152280"/>
            <a:chExt cx="9144000" cy="6867360"/>
          </a:xfrm>
        </p:grpSpPr>
        <p:pic>
          <p:nvPicPr>
            <p:cNvPr id="153" name="1035562472" descr=""/>
            <p:cNvPicPr/>
            <p:nvPr/>
          </p:nvPicPr>
          <p:blipFill>
            <a:blip r:embed="rId29"/>
            <a:stretch/>
          </p:blipFill>
          <p:spPr>
            <a:xfrm>
              <a:off x="0" y="-152280"/>
              <a:ext cx="9144000" cy="68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 txBox="1"/>
            <p:nvPr/>
          </p:nvSpPr>
          <p:spPr>
            <a:xfrm>
              <a:off x="5996160" y="457200"/>
              <a:ext cx="3147840" cy="7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blipFill rotWithShape="0">
                    <a:blip r:embed="rId30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宫廷长廊</a:t>
              </a:r>
              <a:endParaRPr b="1" lang="en-US" sz="4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-152280" y="-152280"/>
            <a:ext cx="9372240" cy="6858000"/>
            <a:chOff x="-152280" y="-152280"/>
            <a:chExt cx="9372240" cy="6858000"/>
          </a:xfrm>
        </p:grpSpPr>
        <p:pic>
          <p:nvPicPr>
            <p:cNvPr id="156" name="" descr=""/>
            <p:cNvPicPr/>
            <p:nvPr/>
          </p:nvPicPr>
          <p:blipFill>
            <a:blip r:embed="rId32"/>
            <a:stretch/>
          </p:blipFill>
          <p:spPr>
            <a:xfrm>
              <a:off x="-152280" y="-152280"/>
              <a:ext cx="9372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09400" y="381240"/>
              <a:ext cx="6248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99cc00"/>
                  </a:solidFill>
                  <a:latin typeface="Times New Roman"/>
                  <a:ea typeface="隶书"/>
                </a:rPr>
                <a:t>北 京 明 代 皇 极 门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56800" y="0"/>
            <a:ext cx="5788440" cy="6858000"/>
            <a:chOff x="856800" y="0"/>
            <a:chExt cx="5788440" cy="6858000"/>
          </a:xfrm>
        </p:grpSpPr>
        <p:pic>
          <p:nvPicPr>
            <p:cNvPr id="159" name="" descr="">
              <a:hlinkClick r:id="rId33"/>
            </p:cNvPr>
            <p:cNvPicPr/>
            <p:nvPr/>
          </p:nvPicPr>
          <p:blipFill>
            <a:blip r:embed="rId34"/>
            <a:stretch/>
          </p:blipFill>
          <p:spPr>
            <a:xfrm>
              <a:off x="1768320" y="0"/>
              <a:ext cx="4876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856800" y="0"/>
              <a:ext cx="1521000" cy="61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99cc00"/>
                  </a:solidFill>
                  <a:latin typeface="Times New Roman"/>
                  <a:ea typeface="隶书"/>
                </a:rPr>
                <a:t>周 口 店 古 人 类 头 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-76320" y="0"/>
            <a:ext cx="9372240" cy="6858000"/>
            <a:chOff x="-76320" y="0"/>
            <a:chExt cx="9372240" cy="6858000"/>
          </a:xfrm>
        </p:grpSpPr>
        <p:pic>
          <p:nvPicPr>
            <p:cNvPr id="162" name="" descr=""/>
            <p:cNvPicPr/>
            <p:nvPr/>
          </p:nvPicPr>
          <p:blipFill>
            <a:blip r:embed="rId35"/>
            <a:stretch/>
          </p:blipFill>
          <p:spPr>
            <a:xfrm>
              <a:off x="-76320" y="0"/>
              <a:ext cx="9372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813400" y="142920"/>
              <a:ext cx="390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万 里 长 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6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0" y="9360"/>
            <a:ext cx="9144000" cy="6858000"/>
            <a:chOff x="0" y="9360"/>
            <a:chExt cx="9144000" cy="6858000"/>
          </a:xfrm>
        </p:grpSpPr>
        <p:pic>
          <p:nvPicPr>
            <p:cNvPr id="166" name="" descr=""/>
            <p:cNvPicPr/>
            <p:nvPr/>
          </p:nvPicPr>
          <p:blipFill>
            <a:blip r:embed="rId37"/>
            <a:stretch/>
          </p:blipFill>
          <p:spPr>
            <a:xfrm>
              <a:off x="0" y="936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752480" y="542880"/>
              <a:ext cx="6019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北 京 林 业 大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0" y="66600"/>
            <a:ext cx="9143640" cy="6791040"/>
            <a:chOff x="0" y="66600"/>
            <a:chExt cx="9143640" cy="6791040"/>
          </a:xfrm>
        </p:grpSpPr>
        <p:pic>
          <p:nvPicPr>
            <p:cNvPr id="169" name="zhuye_r7_c2" descr="">
              <a:hlinkClick r:id="rId38"/>
            </p:cNvPr>
            <p:cNvPicPr/>
            <p:nvPr/>
          </p:nvPicPr>
          <p:blipFill>
            <a:blip r:embed="rId39"/>
            <a:stretch/>
          </p:blipFill>
          <p:spPr>
            <a:xfrm>
              <a:off x="0" y="317160"/>
              <a:ext cx="914364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 txBox="1"/>
            <p:nvPr/>
          </p:nvSpPr>
          <p:spPr>
            <a:xfrm>
              <a:off x="389160" y="66600"/>
              <a:ext cx="7975800" cy="135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行楷"/>
                </a:rPr>
                <a:t>著名大学之清华大学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171" name="">
            <a:hlinkClick r:id="rId40" action="ppaction://hlinksldjump"/>
          </p:cNvPr>
          <p:cNvSpPr/>
          <p:nvPr/>
        </p:nvSpPr>
        <p:spPr>
          <a:xfrm>
            <a:off x="0" y="0"/>
            <a:ext cx="9677520" cy="7238880"/>
          </a:xfrm>
          <a:custGeom>
            <a:avLst/>
            <a:gdLst>
              <a:gd name="textAreaLeft" fmla="*/ 469080 w 9677520"/>
              <a:gd name="textAreaRight" fmla="*/ 9208440 w 9677520"/>
              <a:gd name="textAreaTop" fmla="*/ 469080 h 7238880"/>
              <a:gd name="textAreaBottom" fmla="*/ 6769800 h 7238880"/>
            </a:gdLst>
            <a:ahLst/>
            <a:rect l="textAreaLeft" t="textAreaTop" r="textAreaRight" b="textAreaBottom"/>
            <a:pathLst>
              <a:path w="28876" h="21600">
                <a:moveTo>
                  <a:pt x="0" y="0"/>
                </a:moveTo>
                <a:lnTo>
                  <a:pt x="28876" y="0"/>
                </a:lnTo>
                <a:lnTo>
                  <a:pt x="28876" y="21600"/>
                </a:lnTo>
                <a:lnTo>
                  <a:pt x="0" y="21600"/>
                </a:lnTo>
                <a:close/>
              </a:path>
              <a:path fill="lightenLess" w="28876" h="21600">
                <a:moveTo>
                  <a:pt x="0" y="0"/>
                </a:moveTo>
                <a:lnTo>
                  <a:pt x="28876" y="0"/>
                </a:lnTo>
                <a:lnTo>
                  <a:pt x="27476" y="1400"/>
                </a:lnTo>
                <a:lnTo>
                  <a:pt x="1400" y="1400"/>
                </a:lnTo>
                <a:close/>
              </a:path>
              <a:path fill="darken" w="28876" h="21600">
                <a:moveTo>
                  <a:pt x="28876" y="0"/>
                </a:moveTo>
                <a:lnTo>
                  <a:pt x="28876" y="21600"/>
                </a:lnTo>
                <a:lnTo>
                  <a:pt x="27476" y="20200"/>
                </a:lnTo>
                <a:lnTo>
                  <a:pt x="27476" y="1400"/>
                </a:lnTo>
                <a:close/>
              </a:path>
              <a:path fill="darkenLess" w="28876" h="21600">
                <a:moveTo>
                  <a:pt x="2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76" y="20200"/>
                </a:lnTo>
                <a:close/>
              </a:path>
              <a:path fill="lighten" w="2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1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2" nodeType="after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0" nodeType="afterEffect" fill="hold" presetClass="entr" presetID="14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9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35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35:14Z</dcterms:created>
  <dc:creator>3edu</dc:creator>
  <dc:description>3edu教育网</dc:description>
  <cp:keywords>免费课件、免费试题、免费教案、免费论文</cp:keywords>
  <dc:language>en-US</dc:language>
  <cp:lastModifiedBy>微软系统</cp:lastModifiedBy>
  <dcterms:modified xsi:type="dcterms:W3CDTF">2011-04-11T08:26:14Z</dcterms:modified>
  <cp:revision>3</cp:revision>
  <dc:subject>免费教育资源集散地</dc:subject>
  <dc:title>3edu教育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c000000000001024120</vt:lpwstr>
  </property>
</Properties>
</file>