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29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camera.wav" ContentType="audio/x-wav"/>
  <Override PartName="/ppt/media/image43.gif" ContentType="image/gif"/>
  <Override PartName="/ppt/media/image45.jpeg" ContentType="image/jpeg"/>
  <Override PartName="/ppt/media/image33.png" ContentType="image/png"/>
  <Override PartName="/ppt/media/image52.jpeg" ContentType="image/jpeg"/>
  <Override PartName="/ppt/media/image30.gif" ContentType="image/gif"/>
  <Override PartName="/ppt/media/image46.jpeg" ContentType="image/jpeg"/>
  <Override PartName="/ppt/media/image6.jpeg" ContentType="image/jpeg"/>
  <Override PartName="/ppt/media/image18.png" ContentType="image/png"/>
  <Override PartName="/ppt/media/type.wav" ContentType="audio/x-wav"/>
  <Override PartName="/ppt/media/image32.jpeg" ContentType="image/jpeg"/>
  <Override PartName="/ppt/media/image49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3BE-66B6-4557-B261-4ABD2EF91C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资料来源：回澜阁教育 免费下载 天天更新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HuiLanGe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83F-18D7-49DF-A546-054DE9B6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A6B-A05B-44EA-AD47-CD26E8D8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E7B-A66D-49E8-AEBB-B1E0385B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F9C-9CAE-437E-A57C-55D52E26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FCB-035C-4E3D-AF57-EF0C3161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890-3AE5-43CE-ACE3-29328A5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FD3-DF00-402A-9843-465DA288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C30-4168-46A2-9EC6-3A62616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5A0-7371-42F1-BC4C-BC76816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DB7-E016-49F1-8F99-18DA28C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A23-A84E-41C1-95DB-930B2DD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5AA-C90D-4FE0-B333-F6D78B7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D0D-DB2B-4CE9-897B-C1D16279C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image" Target="../media/image44.jpe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6642360" y="3270960"/>
            <a:ext cx="3200400" cy="716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上有天堂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685800"/>
            <a:ext cx="54864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ff0000">
                    <a:alpha val="7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下天甲林园州苏</a:t>
            </a:r>
            <a:endParaRPr b="0" lang="en-US" sz="5400" spc="1" strike="noStrike">
              <a:ln w="12600">
                <a:solidFill>
                  <a:srgbClr val="0033cc"/>
                </a:solidFill>
                <a:miter/>
              </a:ln>
              <a:solidFill>
                <a:srgbClr val="ff0000">
                  <a:alpha val="7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747000" y="3261600"/>
            <a:ext cx="3276720" cy="71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下有苏杭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38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1000" y="622440"/>
            <a:ext cx="1628640" cy="158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4560" y="1857240"/>
            <a:ext cx="734508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欣赏完图片后，如果让你用一个比喻句形容苏州园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我觉得，苏州园林就像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91520" y="5867280"/>
            <a:ext cx="9903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ndex_1" descr=""/>
          <p:cNvPicPr/>
          <p:nvPr/>
        </p:nvPicPr>
        <p:blipFill>
          <a:blip r:embed="rId2"/>
          <a:srcRect l="1399" t="0" r="2791" b="0"/>
          <a:stretch/>
        </p:blipFill>
        <p:spPr>
          <a:xfrm>
            <a:off x="3738600" y="457200"/>
            <a:ext cx="5405400" cy="155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5916600" y="2057400"/>
            <a:ext cx="20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—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叶圣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419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4081320"/>
            <a:ext cx="3787920" cy="277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733920" y="2859120"/>
            <a:ext cx="5410080" cy="3998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877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执教：晋江市季延初级中学    邓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1447920"/>
            <a:ext cx="691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叶圣陶</a:t>
            </a:r>
            <a:r>
              <a:rPr b="0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894~1989)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名叶绍钧，现代著名作家、教育家，有“优秀的语言艺术家”之称，代表作是长篇小说《倪焕之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童话集《稻草人》、《古代英雄的石像》。出版有《叶圣陶全集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原籍是江苏苏州，所以对苏州园林很熟悉，又有深刻的研究。《苏州园林》是一篇为摄影集撰写的序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990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8580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3872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3880" y="1523880"/>
            <a:ext cx="693432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轩榭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峦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丘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壑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嶙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蔷薇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（  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52480" y="152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xuān  x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89840" y="2057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luán  zhà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50360" y="25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60960" y="30481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lín  x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504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l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114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qiáng  wē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3760" y="4572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zhǎ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105520"/>
            <a:ext cx="97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2240" y="5638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4760" y="685800"/>
            <a:ext cx="1643760" cy="5814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给下列字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33440" y="1197000"/>
            <a:ext cx="539928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听读课文 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8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认真听读课文，思考：苏州园林给你留下印象最深的是什么？请试用文中的一句话概括苏州园林的总体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476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游览者无论站在哪个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03400" y="2766960"/>
            <a:ext cx="6937200" cy="1311120"/>
            <a:chOff x="1103400" y="2766960"/>
            <a:chExt cx="6937200" cy="1311120"/>
          </a:xfrm>
        </p:grpSpPr>
        <p:sp>
          <p:nvSpPr>
            <p:cNvPr id="96" name=""/>
            <p:cNvSpPr/>
            <p:nvPr/>
          </p:nvSpPr>
          <p:spPr>
            <a:xfrm>
              <a:off x="1103400" y="276696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03400" y="276696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876920" y="3200400"/>
            <a:ext cx="3504960" cy="2286000"/>
            <a:chOff x="4876920" y="3200400"/>
            <a:chExt cx="3504960" cy="2286000"/>
          </a:xfrm>
        </p:grpSpPr>
        <p:sp>
          <p:nvSpPr>
            <p:cNvPr id="99" name=""/>
            <p:cNvSpPr/>
            <p:nvPr/>
          </p:nvSpPr>
          <p:spPr>
            <a:xfrm>
              <a:off x="4952880" y="3276720"/>
              <a:ext cx="342900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留 园"/>
            <p:cNvPicPr/>
            <p:nvPr/>
          </p:nvPicPr>
          <p:blipFill>
            <a:blip r:embed="rId2"/>
            <a:stretch/>
          </p:blipFill>
          <p:spPr>
            <a:xfrm>
              <a:off x="4876920" y="3200400"/>
              <a:ext cx="339084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38080" y="3200400"/>
            <a:ext cx="3505320" cy="2286000"/>
            <a:chOff x="838080" y="3200400"/>
            <a:chExt cx="3505320" cy="2286000"/>
          </a:xfrm>
        </p:grpSpPr>
        <p:sp>
          <p:nvSpPr>
            <p:cNvPr id="102" name=""/>
            <p:cNvSpPr/>
            <p:nvPr/>
          </p:nvSpPr>
          <p:spPr>
            <a:xfrm>
              <a:off x="1066680" y="3276720"/>
              <a:ext cx="327672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拙 政 园 之 冬"/>
            <p:cNvPicPr/>
            <p:nvPr/>
          </p:nvPicPr>
          <p:blipFill>
            <a:blip r:embed="rId3"/>
            <a:stretch/>
          </p:blipFill>
          <p:spPr>
            <a:xfrm>
              <a:off x="838080" y="3200400"/>
              <a:ext cx="339120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447920" y="5638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拙政园之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留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43000" y="2666880"/>
            <a:ext cx="6937200" cy="1311120"/>
            <a:chOff x="1143000" y="2666880"/>
            <a:chExt cx="6937200" cy="1311120"/>
          </a:xfrm>
        </p:grpSpPr>
        <p:sp>
          <p:nvSpPr>
            <p:cNvPr id="107" name=""/>
            <p:cNvSpPr/>
            <p:nvPr/>
          </p:nvSpPr>
          <p:spPr>
            <a:xfrm>
              <a:off x="1143000" y="26668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266688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257800" y="533520"/>
            <a:ext cx="2895480" cy="1904760"/>
            <a:chOff x="5257800" y="533520"/>
            <a:chExt cx="2895480" cy="1904760"/>
          </a:xfrm>
        </p:grpSpPr>
        <p:sp>
          <p:nvSpPr>
            <p:cNvPr id="110" name=""/>
            <p:cNvSpPr/>
            <p:nvPr/>
          </p:nvSpPr>
          <p:spPr>
            <a:xfrm>
              <a:off x="5334120" y="609480"/>
              <a:ext cx="2819160" cy="1828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网 师 园"/>
            <p:cNvPicPr/>
            <p:nvPr/>
          </p:nvPicPr>
          <p:blipFill>
            <a:blip r:embed="rId4"/>
            <a:stretch/>
          </p:blipFill>
          <p:spPr>
            <a:xfrm>
              <a:off x="5257800" y="533520"/>
              <a:ext cx="2819520" cy="18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5715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网师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5000" y="1469880"/>
            <a:ext cx="22381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眼前总是一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完美的图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30492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苏州园林为了达到图画美这个目的，具体设计主要表现在哪几个方面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怎样分项说明苏州园林的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7360" y="2387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971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文第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中的四个“讲究”的次序能不能调换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14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苏州园林追求完美的图画，除了上面讨论的四个“讲究”外，还注意了哪些细节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结尾写什么？有什么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48720" y="5715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43800" y="4648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990720"/>
            <a:ext cx="1752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紧扣 “无论站在哪个点上，眼前总是一幅完美的图画” 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35400" y="1447920"/>
            <a:ext cx="228600" cy="3429000"/>
            <a:chOff x="3335400" y="1447920"/>
            <a:chExt cx="228600" cy="3429000"/>
          </a:xfrm>
        </p:grpSpPr>
        <p:sp>
          <p:nvSpPr>
            <p:cNvPr id="123" name=""/>
            <p:cNvSpPr/>
            <p:nvPr/>
          </p:nvSpPr>
          <p:spPr>
            <a:xfrm>
              <a:off x="3335400" y="1447920"/>
              <a:ext cx="2286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400" y="1447920"/>
              <a:ext cx="0" cy="3429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5400" y="4876920"/>
              <a:ext cx="1828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735360" y="1143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亭台轩榭的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360" y="2286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假山池沼的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花草树木的映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5360" y="4495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近景远景的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21040" y="3124080"/>
            <a:ext cx="426960" cy="17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0720" y="3657600"/>
            <a:ext cx="3045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0720" y="2590920"/>
            <a:ext cx="3045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6019920"/>
            <a:ext cx="13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5638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分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20560" y="5638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095880"/>
            <a:ext cx="1578240" cy="97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0120" y="5410080"/>
            <a:ext cx="1143000" cy="83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4952880"/>
            <a:ext cx="17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9240" y="295200"/>
            <a:ext cx="41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讨论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143000" y="68580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讲究亭台轩榭的布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411480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2514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建筑是图案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园林是美术画，美术画要求自然之趣，是不讲究对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53352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讲究假山池沼的配合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851280" cy="2824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623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58" descr="狮 子 林"/>
          <p:cNvPicPr/>
          <p:nvPr/>
        </p:nvPicPr>
        <p:blipFill>
          <a:blip r:embed="rId3"/>
          <a:stretch/>
        </p:blipFill>
        <p:spPr>
          <a:xfrm>
            <a:off x="4191120" y="1752480"/>
            <a:ext cx="411480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耦 园 假 山"/>
          <p:cNvPicPr/>
          <p:nvPr/>
        </p:nvPicPr>
        <p:blipFill>
          <a:blip r:embed="rId4"/>
          <a:stretch/>
        </p:blipFill>
        <p:spPr>
          <a:xfrm>
            <a:off x="5867280" y="4076640"/>
            <a:ext cx="3025800" cy="2398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17524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假山的堆叠，是一项艺术而不仅是技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446400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池沼或河道的边沿很少砌齐整的石岸，总是高低屈曲任其自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3068640"/>
            <a:ext cx="5639040" cy="5814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讲究花草树木的映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457200"/>
            <a:ext cx="3727440" cy="19717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795920" y="4292640"/>
            <a:ext cx="3808080" cy="2057400"/>
            <a:chOff x="4795920" y="4292640"/>
            <a:chExt cx="3808080" cy="2057400"/>
          </a:xfrm>
        </p:grpSpPr>
        <p:sp>
          <p:nvSpPr>
            <p:cNvPr id="155" name=""/>
            <p:cNvSpPr/>
            <p:nvPr/>
          </p:nvSpPr>
          <p:spPr>
            <a:xfrm>
              <a:off x="4795920" y="4292640"/>
              <a:ext cx="3808080" cy="2057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884480" y="4368960"/>
              <a:ext cx="367524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539640" y="4343400"/>
            <a:ext cx="3671640" cy="2038320"/>
            <a:chOff x="539640" y="4343400"/>
            <a:chExt cx="3671640" cy="2038320"/>
          </a:xfrm>
        </p:grpSpPr>
        <p:sp>
          <p:nvSpPr>
            <p:cNvPr id="158" name=""/>
            <p:cNvSpPr/>
            <p:nvPr/>
          </p:nvSpPr>
          <p:spPr>
            <a:xfrm>
              <a:off x="539640" y="4343400"/>
              <a:ext cx="3671640" cy="2038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627120" y="4421880"/>
              <a:ext cx="3540960" cy="188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4876920" y="457200"/>
            <a:ext cx="3727080" cy="1905120"/>
            <a:chOff x="4876920" y="457200"/>
            <a:chExt cx="3727080" cy="1905120"/>
          </a:xfrm>
        </p:grpSpPr>
        <p:sp>
          <p:nvSpPr>
            <p:cNvPr id="161" name=""/>
            <p:cNvSpPr/>
            <p:nvPr/>
          </p:nvSpPr>
          <p:spPr>
            <a:xfrm>
              <a:off x="4876920" y="457200"/>
              <a:ext cx="3727080" cy="1905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967280" y="527400"/>
              <a:ext cx="3545640" cy="17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838080" y="371628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33cc"/>
                </a:solidFill>
                <a:latin typeface="Times New Roman"/>
              </a:rPr>
              <a:t>落叶树和常绿树相间，花时不同的多种花树相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9080" y="2540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cc"/>
                </a:solidFill>
                <a:latin typeface="Times New Roman"/>
              </a:rPr>
              <a:t>高树与低树俯仰生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838080" y="4495680"/>
            <a:ext cx="2590920" cy="1828800"/>
            <a:chOff x="838080" y="4495680"/>
            <a:chExt cx="2590920" cy="1828800"/>
          </a:xfrm>
        </p:grpSpPr>
        <p:sp>
          <p:nvSpPr>
            <p:cNvPr id="166" name=""/>
            <p:cNvSpPr/>
            <p:nvPr/>
          </p:nvSpPr>
          <p:spPr>
            <a:xfrm>
              <a:off x="914400" y="4571640"/>
              <a:ext cx="2514600" cy="1752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38080" y="4495680"/>
              <a:ext cx="251460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838080" y="304920"/>
            <a:ext cx="2590920" cy="1828800"/>
            <a:chOff x="838080" y="304920"/>
            <a:chExt cx="2590920" cy="1828800"/>
          </a:xfrm>
        </p:grpSpPr>
        <p:sp>
          <p:nvSpPr>
            <p:cNvPr id="169" name=""/>
            <p:cNvSpPr/>
            <p:nvPr/>
          </p:nvSpPr>
          <p:spPr>
            <a:xfrm>
              <a:off x="914400" y="457200"/>
              <a:ext cx="2514600" cy="1676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838080" y="304920"/>
              <a:ext cx="251460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838080" y="2438280"/>
            <a:ext cx="2590560" cy="1828800"/>
            <a:chOff x="838080" y="2438280"/>
            <a:chExt cx="2590560" cy="1828800"/>
          </a:xfrm>
        </p:grpSpPr>
        <p:sp>
          <p:nvSpPr>
            <p:cNvPr id="172" name=""/>
            <p:cNvSpPr/>
            <p:nvPr/>
          </p:nvSpPr>
          <p:spPr>
            <a:xfrm>
              <a:off x="914040" y="2514240"/>
              <a:ext cx="2514600" cy="1752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38080" y="2438280"/>
              <a:ext cx="251460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581280" y="7621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苏州园林的墙壁上有砖砌的镂空图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8862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廊子是隔而不隔，界而未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33920" y="251460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讲究近景远景的层次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448400" y="4952880"/>
            <a:ext cx="169560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505320" y="441972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613116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56000" y="2438280"/>
            <a:ext cx="4680000" cy="3367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81080" y="115920"/>
            <a:ext cx="7127640" cy="216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2520" y="2924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色彩的搭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4680" y="6338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门、窗的图案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72200" y="212760"/>
            <a:ext cx="10335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每一个角落的图画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2514600" cy="1774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105520" y="1143000"/>
            <a:ext cx="2590560" cy="101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2666880" y="3733920"/>
            <a:ext cx="2613240" cy="3124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57600" y="3048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1201680"/>
            <a:ext cx="4852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亭台轩榭的布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假山池沼的配合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花草树木的映衬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近景远景的层次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76360" y="37879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角落的图画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门窗的图案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色彩的搭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143000"/>
            <a:ext cx="65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完美的图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48284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4842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4005360"/>
            <a:ext cx="304920" cy="144756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1930320"/>
            <a:ext cx="60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27640" y="4221000"/>
            <a:ext cx="5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细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14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止这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64480" y="2262240"/>
            <a:ext cx="228600" cy="2751120"/>
          </a:xfrm>
          <a:custGeom>
            <a:avLst/>
            <a:gdLst>
              <a:gd name="textAreaLeft" fmla="*/ 0 w 228600"/>
              <a:gd name="textAreaRight" fmla="*/ 82440 w 228600"/>
              <a:gd name="textAreaTop" fmla="*/ 71640 h 2751120"/>
              <a:gd name="textAreaBottom" fmla="*/ 2679480 h 27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89680" y="594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分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2880" y="579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6248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6172200"/>
            <a:ext cx="10159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472428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我来总结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6" name=""/>
          <p:cNvSpPr/>
          <p:nvPr/>
        </p:nvSpPr>
        <p:spPr>
          <a:xfrm>
            <a:off x="8001000" y="3505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2707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10862" y="3794"/>
                </a:lnTo>
                <a:lnTo>
                  <a:pt x="10862" y="17806"/>
                </a:lnTo>
                <a:lnTo>
                  <a:pt x="9200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533520"/>
            <a:ext cx="2590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探究拓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37160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思考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假如要你来介绍苏州园林，你还有别的思路吗？写一篇小作文表现自己的思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807696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477120" y="1241280"/>
            <a:ext cx="990360" cy="65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268360" y="1989000"/>
            <a:ext cx="4876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13116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13080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3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06:56:27Z</dcterms:created>
  <dc:creator>回澜阁教育www.HuiLanGe.com</dc:creator>
  <dc:description>回澜阁教育www.HuiLanGe.com</dc:description>
  <cp:keywords>回澜阁教育www.HuiLanGe.com</cp:keywords>
  <dc:language>en-US</dc:language>
  <cp:lastModifiedBy>MS USER</cp:lastModifiedBy>
  <dcterms:modified xsi:type="dcterms:W3CDTF">2009-06-22T01:11:00Z</dcterms:modified>
  <cp:revision>138</cp:revision>
  <dc:subject>回澜阁教育www.HuiLanGe.com</dc:subject>
  <dc:title>回澜阁教育www.HuiLanGe.com</dc:title>
</cp:coreProperties>
</file>