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8.jpeg" ContentType="image/jpeg"/>
  <Override PartName="/ppt/media/image10.jpeg" ContentType="image/jpeg"/>
  <Override PartName="/ppt/media/image9.png" ContentType="image/png"/>
  <Override PartName="/ppt/media/image1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9908-97C4-4AF0-89B8-B6AA92EC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26E-B4C2-49AF-8154-4923BE76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167-EF20-4831-8E3A-234D0EA1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C71E-55A4-4EB4-A667-7432CE30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955-26DE-44D1-82AB-63A7144D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285D-4A33-43BF-A653-1CD49716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0E9D-95E2-4C9B-8270-9955D3F9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99C-1DA3-4A81-8DF1-BB71F4D4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212-6D00-4FC5-82B3-1EB1D3DB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78FA-5ED3-4A95-80AD-1901B4D7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33A2-483C-4B97-B280-BA20F1C4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EAC9-9F31-4149-8839-525338FB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F661-BECB-473A-99CB-3BD28390D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0055309428112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讲究亭台轩榭的布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拙 政 园 小 飞 虹"/>
          <p:cNvPicPr/>
          <p:nvPr/>
        </p:nvPicPr>
        <p:blipFill>
          <a:blip r:embed="rId1"/>
          <a:stretch/>
        </p:blipFill>
        <p:spPr>
          <a:xfrm>
            <a:off x="1547640" y="1413000"/>
            <a:ext cx="3484800" cy="218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st.jpg (14773 bytes)"/>
          <p:cNvPicPr/>
          <p:nvPr/>
        </p:nvPicPr>
        <p:blipFill>
          <a:blip r:embed="rId2"/>
          <a:stretch/>
        </p:blipFill>
        <p:spPr>
          <a:xfrm>
            <a:off x="4572000" y="3457440"/>
            <a:ext cx="2857680" cy="2867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讲究假山池沼的配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liuyuan3"/>
          <p:cNvPicPr/>
          <p:nvPr/>
        </p:nvPicPr>
        <p:blipFill>
          <a:blip r:embed="rId1"/>
          <a:stretch/>
        </p:blipFill>
        <p:spPr>
          <a:xfrm>
            <a:off x="5508720" y="3429000"/>
            <a:ext cx="3166920" cy="2793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耦 园 假 山"/>
          <p:cNvPicPr/>
          <p:nvPr/>
        </p:nvPicPr>
        <p:blipFill>
          <a:blip r:embed="rId2"/>
          <a:stretch/>
        </p:blipFill>
        <p:spPr>
          <a:xfrm>
            <a:off x="2050920" y="4005360"/>
            <a:ext cx="2881440" cy="190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狮 子 林"/>
          <p:cNvPicPr/>
          <p:nvPr/>
        </p:nvPicPr>
        <p:blipFill>
          <a:blip r:embed="rId3"/>
          <a:stretch/>
        </p:blipFill>
        <p:spPr>
          <a:xfrm>
            <a:off x="1258920" y="1341360"/>
            <a:ext cx="4537080" cy="2106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讲究花草树木的映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4"/>
          <p:cNvPicPr/>
          <p:nvPr/>
        </p:nvPicPr>
        <p:blipFill>
          <a:blip r:embed="rId1"/>
          <a:stretch/>
        </p:blipFill>
        <p:spPr>
          <a:xfrm>
            <a:off x="826920" y="1557360"/>
            <a:ext cx="2953080" cy="187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4020010"/>
          <p:cNvPicPr/>
          <p:nvPr/>
        </p:nvPicPr>
        <p:blipFill>
          <a:blip r:embed="rId2"/>
          <a:stretch/>
        </p:blipFill>
        <p:spPr>
          <a:xfrm>
            <a:off x="4067280" y="1484280"/>
            <a:ext cx="3673440" cy="2087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GH"/>
          <p:cNvPicPr/>
          <p:nvPr/>
        </p:nvPicPr>
        <p:blipFill>
          <a:blip r:embed="rId3"/>
          <a:stretch/>
        </p:blipFill>
        <p:spPr>
          <a:xfrm>
            <a:off x="1042920" y="3933720"/>
            <a:ext cx="2895840" cy="1852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P4020006"/>
          <p:cNvPicPr/>
          <p:nvPr/>
        </p:nvPicPr>
        <p:blipFill>
          <a:blip r:embed="rId4"/>
          <a:stretch/>
        </p:blipFill>
        <p:spPr>
          <a:xfrm>
            <a:off x="4343400" y="4390920"/>
            <a:ext cx="3276720" cy="1857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讲究近景远景的层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3743280" cy="252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5029200" y="3716280"/>
            <a:ext cx="3503520" cy="230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四个“讲究”的次序不能任意调换，因为前后有着从主体到“配合”到“映衬”，并由近而远的关系，如果任意调换次序，就会使文章条理不清，影响表达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每个角落都注意图画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门和窗有着高度的图案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极少使用彩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给人安静闲适的感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000" y="1196640"/>
            <a:ext cx="7189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苏州园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1476360" y="476280"/>
            <a:ext cx="71280" cy="5400720"/>
          </a:xfrm>
          <a:custGeom>
            <a:avLst/>
            <a:gdLst>
              <a:gd name="textAreaLeft" fmla="*/ 45720 w 71280"/>
              <a:gd name="textAreaRight" fmla="*/ 71640 w 7128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1"/>
          <p:cNvSpPr/>
          <p:nvPr/>
        </p:nvSpPr>
        <p:spPr>
          <a:xfrm>
            <a:off x="1332000" y="148356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亭台轩榭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＿＿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讲究布局   （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段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2"/>
          <p:cNvSpPr/>
          <p:nvPr/>
        </p:nvSpPr>
        <p:spPr>
          <a:xfrm>
            <a:off x="1332000" y="205668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假山池沼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－－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讲究配合  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段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3"/>
          <p:cNvSpPr/>
          <p:nvPr/>
        </p:nvSpPr>
        <p:spPr>
          <a:xfrm>
            <a:off x="1476360" y="249156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花草树木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＿＿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讲究映衬  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段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4"/>
          <p:cNvSpPr/>
          <p:nvPr/>
        </p:nvSpPr>
        <p:spPr>
          <a:xfrm>
            <a:off x="2843280" y="2996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花墙廊子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＿＿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讲究层次  （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段）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5"/>
          <p:cNvSpPr/>
          <p:nvPr/>
        </p:nvSpPr>
        <p:spPr>
          <a:xfrm>
            <a:off x="1332000" y="34995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每一个角落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＿＿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图画美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段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6"/>
          <p:cNvSpPr/>
          <p:nvPr/>
        </p:nvSpPr>
        <p:spPr>
          <a:xfrm>
            <a:off x="1692360" y="506880"/>
            <a:ext cx="6588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7"/>
          <p:cNvSpPr/>
          <p:nvPr/>
        </p:nvSpPr>
        <p:spPr>
          <a:xfrm>
            <a:off x="1692360" y="404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总 印象  ：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标本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8"/>
          <p:cNvSpPr/>
          <p:nvPr/>
        </p:nvSpPr>
        <p:spPr>
          <a:xfrm>
            <a:off x="1692360" y="83628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总 特征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：一幅完美的图画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0"/>
          <p:cNvSpPr/>
          <p:nvPr/>
        </p:nvSpPr>
        <p:spPr>
          <a:xfrm>
            <a:off x="1332000" y="393300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门、窗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－－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图案美          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段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1"/>
          <p:cNvSpPr/>
          <p:nvPr/>
        </p:nvSpPr>
        <p:spPr>
          <a:xfrm>
            <a:off x="1187280" y="436500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建筑颜色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－－色彩美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1835280" y="5734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小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：美不胜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达标训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读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自然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完成下列练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本段的中心句是＿＿＿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一年四季不感到寂寞的原因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因为依据中国画的审美观点来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这是不 足取的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这”指的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_______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片段中的“俯仰生姿”一词写出了高树与低树形成一种相     互呼应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_________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有几个园里有古老的藤萝，盘曲嶙峋的枝干就是一幅好画。这个句子用了＿＿＿＿的说明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赏析下面的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春天的江南是美丽的，风很柔和，空气很清新，太阳很温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纵横交错的弯弯曲曲的河道，河边的柳枝吐了嫩芽，河道里平静的水，从冬天的素净中苏醒过来，被大自然的色彩打扮得青青翠翠。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预 习 提 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作者向读者介绍苏州园林的思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作者用了哪些说明方法表现苏州园林的特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体会语言的准确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苏州园林的设计者和匠师们为了创造人与环境的协调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是怎样刻意追求自然之趣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结合文中的例子说说你的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20055309428360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20055309429790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20055309429954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苏州园林</a:t>
            </a:r>
            <a:br>
              <a:rPr sz="4800"/>
            </a:b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　　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叶圣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选出下列各组词语中注音书写全对的一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轩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uān xiè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池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hǎo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òu﹞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空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斟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hēnzhuó﹞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嶙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ínqún﹞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重恋叠嶂　　阑干 　　闲适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自出心栽 　　池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hǎo﹞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丘壑　　审美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因地制宜 　　布局　俯仰生姿   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óu 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整体感知课文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了解苏州园林的总体特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体会苏州园林的画意美以及作者描写苏州园林的语言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4883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自学提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作者对苏州园林的总印象是什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苏州园林共同的特征是什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设计者和匠师们是怎样达到“务必使游览者无论站在哪个点上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眼前总是一幅完美的图画”这一目的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四个“讲究”的次序能否任意调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苏州园林的花草树木是如何映衬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达到画意之美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自然段里有哪些词语精练形象而富有诗意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04:09:39Z</dcterms:created>
  <dc:creator>回澜阁教育www.HuiLanGe.com</dc:creator>
  <dc:description>回澜阁教育www.HuiLanGe.com</dc:description>
  <cp:keywords>回澜阁教育www.HuiLanGe.com</cp:keywords>
  <dc:language>en-US</dc:language>
  <cp:lastModifiedBy>user</cp:lastModifiedBy>
  <cp:lastPrinted>1899-12-30T00:00:00Z</cp:lastPrinted>
  <dcterms:modified xsi:type="dcterms:W3CDTF">2010-01-25T01:21:23Z</dcterms:modified>
  <cp:revision>85</cp:revision>
  <dc:subject>回澜阁教育www.HuiLanGe.com</dc:subject>
  <dc:title>回澜阁教育www.HuiLanGe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