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whoosh.wav" ContentType="audio/x-wav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3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  <p:custShowLst>
    <p:custShow name="自定义放映 1" id="0">
      <p:sldLst>
        <p:sld r:id="rId15"/>
        <p:sld r:id="rId16"/>
        <p:sld r:id="rId17"/>
        <p:sld r:id="rId1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B36C-85A3-4F25-849E-BE0A7AD62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9FDC-5840-4D5B-BAC6-56017E17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61EB-180E-4534-90FE-D8E74B212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E790-0091-4CA7-99F3-A10D7A9FA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6506A-D34D-4216-836E-519F356A7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4E4A-0720-4D19-9EDA-00DCDA43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E5A7-146A-4D70-9040-8A48DF2B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387B-CB66-4032-AFD1-72C3BAC7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02C84-48A8-47CF-91F3-B17EE20D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1359-6289-4814-995C-F7A80138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B66B-6232-4D3F-A3FA-228B9AEB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2033-6E08-4C3D-A0A0-4D650643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A50F-7324-442C-A17F-49FF0E57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04B9-4D05-4551-A4E5-0ADA3366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3487-46A5-4E30-AA10-6AF7FC3D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7834-523B-42EC-8BFE-E6DEF7BED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CF34-120A-450C-9BC9-6CC1DA465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C5F48-3B36-4005-A371-299EBD553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2B1AA-A813-46FF-9A16-759BF45C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06C98-841F-4516-BAB7-5DCFE863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427A3-6B87-4970-8A8C-72AA4E49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C156B-23AA-4F8B-9E9C-1DC1B4BF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1D90-D5D0-4335-BB7C-2012A94F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8331E-ED51-4A75-BE4A-4CB7BF5E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CFD8B-E039-4410-90B5-DAB08777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8C1F6-6173-4FD7-9A96-E87DDD03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79DE2-7617-4BC1-9613-E7ECA738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E55B7-1B4E-4E20-A24C-182CAB46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A8A96-B752-4006-8AC8-4D2F70B18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F861D-0C70-4DD5-9DE7-DDA661F70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CA2097-A42A-4692-A987-DBDC7ED9D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4F04C4-C37A-4AD4-B8BC-92EA7388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C04476-B062-4BD4-93D6-5AB14604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063C-81C4-4F06-8DC1-1E255775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57D7ED-910B-42D9-9C53-5B8A89F1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1C4203-EC1A-4384-936F-FD033837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FCE8FE-A719-41BF-86A8-0377EBC3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76BC65-DB9F-44BA-BAC5-437DF347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0D2E48-5C96-4179-B78F-0B62654D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CDF081-FF70-4B95-AD70-970DA271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5B7739-B8F5-4B30-AADE-46DCFABF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17B052-9EE1-4FA7-8A8C-B3EBFBDF2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28A492-1A72-46AE-BD24-6288139EA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11443-39CD-4BE5-9C77-A6AB0052F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4140-D170-4130-9DD9-414A0A2D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FB7F9-E417-490C-83F6-A2108103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71684-1260-44DA-A40D-C31982B1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BB2FF-E550-4EC8-B5AD-3085DBD4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85DF9-CFC8-4F7D-9786-EA44007D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0E7A5-5F7B-496F-912A-F20BA465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A084E-619B-4C2F-A15B-F4B12DE4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DDE68-16E8-4DA9-AD98-16D4CEEE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FD024-965A-4709-9A25-14AF267F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F83A8-5ECA-4A25-B709-034DEA2A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DCBE3-28BB-4EE1-843A-D547E6B0E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E13F-FB01-4DA6-B917-B965C5A5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C796C-FCDE-4A87-9097-C5A04597B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D64A1-B671-4B26-817D-534A7F374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8E603-EDBC-4BCD-A375-DA4B778D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6E77A-286C-4BE9-A0E4-82B6839D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DDA81-29B3-47CA-B711-6FA201C4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F7E35-7773-4FB4-B76F-08F9804C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8ABED-868A-4F0D-BD86-E25D554C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76C30-CCB9-460F-8233-7216E1BD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F476A-5F37-421D-A2BB-378646AB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86E9B-476B-4EAE-B1B6-A626812E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18C6-BD46-44F4-9580-279A7000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E1223-0D07-4B35-A9B8-55C5A4FA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EC747-D3EC-42EB-AC91-7942295A7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B5DBE-3744-46B8-AA58-F81F46BFA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5DE0-01BA-4F10-BF5F-48072E56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C01B-9A1B-416C-9627-7E717ED3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F74D-EE89-4523-84EF-65D1552DCF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0"/>
            <a:ext cx="2857680" cy="6867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5DE8-C4C7-41C1-948E-57C51FAE7B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C186-E976-4E3C-8146-1392B515C9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未知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B0B6-E8B5-4A72-9451-C410C69165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A6F7-B835-43E5-B09C-B51B8930A695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BCC1-1A96-4887-BBA9-75C0B2487722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tu.jpg (17257 bytes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68360" y="260280"/>
            <a:ext cx="266364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38160">
                  <a:solidFill>
                    <a:srgbClr val="3333ff"/>
                  </a:solidFill>
                  <a:miter/>
                </a:ln>
                <a:solidFill>
                  <a:srgbClr val="000000"/>
                </a:solidFill>
                <a:latin typeface="华文新魏"/>
              </a:rPr>
              <a:t>苏州园林</a:t>
            </a:r>
            <a:endParaRPr b="1" lang="en-US" sz="2400" spc="1" strike="noStrike">
              <a:ln w="38160">
                <a:solidFill>
                  <a:srgbClr val="3333ff"/>
                </a:solidFill>
                <a:miter/>
              </a:ln>
              <a:solidFill>
                <a:srgbClr val="000000"/>
              </a:solidFill>
              <a:latin typeface="华文新魏"/>
              <a:ea typeface="华文新魏"/>
            </a:endParaRPr>
          </a:p>
        </p:txBody>
      </p:sp>
      <p:sp>
        <p:nvSpPr>
          <p:cNvPr id="249" name=""/>
          <p:cNvSpPr/>
          <p:nvPr/>
        </p:nvSpPr>
        <p:spPr>
          <a:xfrm>
            <a:off x="2627280" y="2492280"/>
            <a:ext cx="25192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叶 圣 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2819520" y="2666880"/>
            <a:ext cx="4038480" cy="58140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讲究花草树木的映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3352680" cy="19717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4800600" y="4495680"/>
            <a:ext cx="3162240" cy="179244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914400" y="4425840"/>
            <a:ext cx="3086280" cy="1974960"/>
          </a:xfrm>
          <a:prstGeom prst="rect">
            <a:avLst/>
          </a:prstGeom>
          <a:ln w="0">
            <a:noFill/>
          </a:ln>
        </p:spPr>
      </p:pic>
      <p:grpSp>
        <p:nvGrpSpPr>
          <p:cNvPr id="304" name=""/>
          <p:cNvGrpSpPr/>
          <p:nvPr/>
        </p:nvGrpSpPr>
        <p:grpSpPr>
          <a:xfrm>
            <a:off x="1066680" y="3048120"/>
            <a:ext cx="6937200" cy="1311120"/>
            <a:chOff x="1066680" y="3048120"/>
            <a:chExt cx="6937200" cy="1311120"/>
          </a:xfrm>
        </p:grpSpPr>
        <p:sp>
          <p:nvSpPr>
            <p:cNvPr id="305" name=""/>
            <p:cNvSpPr/>
            <p:nvPr/>
          </p:nvSpPr>
          <p:spPr>
            <a:xfrm>
              <a:off x="1066680" y="3048120"/>
              <a:ext cx="6937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066680" y="3048120"/>
              <a:ext cx="6937200" cy="13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zh-CN" sz="8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7" name="" descr=""/>
          <p:cNvPicPr/>
          <p:nvPr/>
        </p:nvPicPr>
        <p:blipFill>
          <a:blip r:embed="rId4"/>
          <a:stretch/>
        </p:blipFill>
        <p:spPr>
          <a:xfrm>
            <a:off x="4952880" y="380880"/>
            <a:ext cx="2857680" cy="19051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362320" y="335268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zh-CN" sz="2800" spc="-1" strike="noStrike">
                <a:solidFill>
                  <a:srgbClr val="009900"/>
                </a:solidFill>
                <a:latin typeface="Times New Roman"/>
                <a:ea typeface="方正隶书简体"/>
              </a:rPr>
              <a:t>落叶树和常绿树相间，花时不同的多种花树相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3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75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009920" y="320760"/>
            <a:ext cx="1521000" cy="57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00"/>
                </a:solidFill>
                <a:latin typeface="Arial Black"/>
                <a:ea typeface="方正隶书简体"/>
              </a:rPr>
              <a:t>讲究近景和远景的层次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4114800" cy="28033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228600" y="3809880"/>
            <a:ext cx="3809880" cy="27432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4191120" y="380988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00"/>
                </a:solidFill>
                <a:latin typeface="Times New Roman"/>
                <a:ea typeface="方正隶书简体"/>
              </a:rPr>
              <a:t>墙壁上有砖砌的各式镂空图案，廊子大多是两边无所依傍的，实际是</a:t>
            </a:r>
            <a:r>
              <a:rPr b="0" lang="zh-CN" sz="2400" spc="-1" strike="noStrike" u="sng">
                <a:solidFill>
                  <a:srgbClr val="009900"/>
                </a:solidFill>
                <a:uFillTx/>
                <a:latin typeface="Times New Roman"/>
                <a:ea typeface="方正隶书简体"/>
              </a:rPr>
              <a:t>隔而不隔界而未界，</a:t>
            </a:r>
            <a:r>
              <a:rPr b="0" lang="zh-CN" sz="2400" spc="-1" strike="noStrike">
                <a:solidFill>
                  <a:srgbClr val="009900"/>
                </a:solidFill>
                <a:latin typeface="Times New Roman"/>
                <a:ea typeface="方正隶书简体"/>
              </a:rPr>
              <a:t>因而更增加了景致的深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st.jpg (14773 bytes)"/>
          <p:cNvPicPr/>
          <p:nvPr/>
        </p:nvPicPr>
        <p:blipFill>
          <a:blip r:embed="rId1"/>
          <a:stretch/>
        </p:blipFill>
        <p:spPr>
          <a:xfrm>
            <a:off x="250920" y="3429000"/>
            <a:ext cx="2857320" cy="286704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250920" y="260280"/>
            <a:ext cx="813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、从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3-9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节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个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"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讲究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"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个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"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注意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"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我们可以看出课文的主体部分采用哪种结构形式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348000" y="2708280"/>
            <a:ext cx="47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Times New Roman"/>
              </a:rPr>
              <a:t>总说</a:t>
            </a: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--</a:t>
            </a:r>
            <a:r>
              <a:rPr b="1" lang="zh-CN" sz="6000" spc="-1" strike="noStrike">
                <a:solidFill>
                  <a:srgbClr val="006600"/>
                </a:solidFill>
                <a:latin typeface="Times New Roman"/>
              </a:rPr>
              <a:t>分说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3635280" y="3933720"/>
            <a:ext cx="3348000" cy="2511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77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6" dur="770" fill="hold"/>
                                        <p:tgtEl>
                                          <p:spTgt spid="3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8" dur="77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547640" y="3213000"/>
            <a:ext cx="183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0"/>
            <a:ext cx="417672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隶书"/>
              </a:rPr>
              <a:t>拓展练习：</a:t>
            </a:r>
            <a:endParaRPr b="1" i="1" lang="en-US" sz="4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隶书"/>
              <a:ea typeface="隶书"/>
            </a:endParaRPr>
          </a:p>
        </p:txBody>
      </p:sp>
      <p:sp>
        <p:nvSpPr>
          <p:cNvPr id="319" name=""/>
          <p:cNvSpPr/>
          <p:nvPr/>
        </p:nvSpPr>
        <p:spPr>
          <a:xfrm>
            <a:off x="324000" y="1628640"/>
            <a:ext cx="82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3333ff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倘若要我说说总的印象，我觉得苏州园林是我国各地园林的</a:t>
            </a:r>
            <a:r>
              <a:rPr b="1" lang="zh-CN" sz="4000" spc="-1" strike="noStrike" u="sng">
                <a:solidFill>
                  <a:srgbClr val="3333ff"/>
                </a:solidFill>
                <a:uFillTx/>
                <a:latin typeface="Times New Roman"/>
              </a:rPr>
              <a:t>标本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。（“标本”在这里是什么意思？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68360" y="350028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明确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这里是典范和样本的意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50920" y="4437000"/>
            <a:ext cx="86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、假山的堆叠，可以说是一项艺术而不仅是技术。（“艺术”和“技术”有什么区别？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77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770" fill="hold"/>
                                        <p:tgtEl>
                                          <p:spTgt spid="3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1" dur="77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3" dur="77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24000" y="333360"/>
            <a:ext cx="882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明确：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“艺术”是强调个人独创的活动，其成果给人以审美愉悦，并无法复制；“技术”意味着有固定的程序的手法，其成果是具有实际效用的东西，一般可以大量复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350028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、下面句子使用了什么说明方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4292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cc9900"/>
                </a:solidFill>
                <a:latin typeface="Times New Roman"/>
              </a:rPr>
              <a:t>、我国的石拱桥几乎到处都有</a:t>
            </a:r>
            <a:r>
              <a:rPr b="1" lang="en-US" sz="3200" spc="-1" strike="noStrike">
                <a:solidFill>
                  <a:srgbClr val="cc9900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cc9900"/>
                </a:solidFill>
                <a:latin typeface="Times New Roman"/>
              </a:rPr>
              <a:t>其中最著名的当推河北赵县的赵州桥，还有北京丰台区的卢沟桥。                                                         （      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020000" y="52293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举例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2">
            <a:lum bright="4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、苏州园林与北京园林不同，极少使用彩绘。                                                （    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877080" y="76500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比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1700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、桥洞不是普通的半圆形，而是像一张弓。                                               （     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04000" y="220500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打比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328464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、赵州桥全长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50.82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米，两端宽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9.6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米，中部略窄，宽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9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米。                         （     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04000" y="3789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列数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486900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、游览者看“鱼戏莲叶间”又是入画的一景。                                                （    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948360" y="537372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引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250920" y="0"/>
            <a:ext cx="259236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精彩回顾</a:t>
            </a:r>
            <a:endParaRPr b="1" i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36" name=""/>
          <p:cNvSpPr/>
          <p:nvPr/>
        </p:nvSpPr>
        <p:spPr>
          <a:xfrm>
            <a:off x="327600" y="1341360"/>
            <a:ext cx="667800" cy="49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眼前总是一幅完美的图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971640" y="1413000"/>
            <a:ext cx="217440" cy="4464000"/>
          </a:xfrm>
          <a:custGeom>
            <a:avLst/>
            <a:gdLst>
              <a:gd name="textAreaLeft" fmla="*/ 138960 w 217440"/>
              <a:gd name="textAreaRight" fmla="*/ 217800 w 217440"/>
              <a:gd name="textAreaTop" fmla="*/ 116280 h 4464000"/>
              <a:gd name="textAreaBottom" fmla="*/ 4347720 h 44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58920" y="126828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讲究亭台轩榭的布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258920" y="191628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讲究假山池沼的配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258920" y="256536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讲究花草树木的映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258920" y="328464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讲究近景远景的层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716360" y="1413000"/>
            <a:ext cx="432000" cy="2305080"/>
          </a:xfrm>
          <a:custGeom>
            <a:avLst/>
            <a:gdLst>
              <a:gd name="textAreaLeft" fmla="*/ 276120 w 432000"/>
              <a:gd name="textAreaRight" fmla="*/ 432360 w 432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117400" y="2133720"/>
            <a:ext cx="606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局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258920" y="39178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角落的图画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58920" y="471024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门窗的图案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58920" y="543096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色彩的的谐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3564000" y="4076640"/>
            <a:ext cx="792000" cy="1800360"/>
          </a:xfrm>
          <a:custGeom>
            <a:avLst/>
            <a:gdLst>
              <a:gd name="textAreaLeft" fmla="*/ 506520 w 792000"/>
              <a:gd name="textAreaRight" fmla="*/ 792720 w 79200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970080" y="4365720"/>
            <a:ext cx="103356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细微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5580000" y="2565360"/>
            <a:ext cx="432000" cy="2448000"/>
          </a:xfrm>
          <a:custGeom>
            <a:avLst/>
            <a:gdLst>
              <a:gd name="textAreaLeft" fmla="*/ 276120 w 432000"/>
              <a:gd name="textAreaRight" fmla="*/ 432360 w 43200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47760" y="2421000"/>
            <a:ext cx="9118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愿游览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在图画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5280" y="60930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总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84360" y="6093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77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2" dur="770" fill="hold"/>
                                        <p:tgtEl>
                                          <p:spTgt spid="3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4" dur="77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6" dur="77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240" y="4753080"/>
            <a:ext cx="74674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55" name=""/>
          <p:cNvSpPr/>
          <p:nvPr/>
        </p:nvSpPr>
        <p:spPr>
          <a:xfrm>
            <a:off x="-432360" y="981000"/>
            <a:ext cx="1826280" cy="5481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桂林山水甲天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550920" y="981000"/>
            <a:ext cx="1826280" cy="5486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苏州园林冠江南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78120" y="0"/>
            <a:ext cx="310500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山河绣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77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5" dur="770" fill="hold"/>
                                        <p:tgtEl>
                                          <p:spTgt spid="3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7" dur="77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9" dur="77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4932360" y="4005360"/>
            <a:ext cx="3268800" cy="21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28440">
                  <a:solidFill>
                    <a:srgbClr val="0000ff"/>
                  </a:solidFill>
                  <a:prstDash val="lgDash"/>
                  <a:miter/>
                </a:ln>
                <a:solidFill>
                  <a:srgbClr val="0000ff"/>
                </a:solidFill>
                <a:latin typeface="宋体"/>
              </a:rPr>
              <a:t>再见</a:t>
            </a:r>
            <a:r>
              <a:rPr b="0" lang="en-US" sz="2400" spc="1" strike="noStrike">
                <a:ln w="28440">
                  <a:solidFill>
                    <a:srgbClr val="0000ff"/>
                  </a:solidFill>
                  <a:prstDash val="lgDash"/>
                  <a:miter/>
                </a:ln>
                <a:solidFill>
                  <a:srgbClr val="0000ff"/>
                </a:solidFill>
                <a:latin typeface="宋体"/>
              </a:rPr>
              <a:t>!</a:t>
            </a:r>
            <a:endParaRPr b="0" lang="en-US" sz="2400" spc="1" strike="noStrike">
              <a:ln w="28440">
                <a:solidFill>
                  <a:srgbClr val="0000ff"/>
                </a:solidFill>
                <a:prstDash val="lgDash"/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360" name=""/>
          <p:cNvSpPr/>
          <p:nvPr/>
        </p:nvSpPr>
        <p:spPr>
          <a:xfrm>
            <a:off x="468360" y="620640"/>
            <a:ext cx="691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68360" y="404640"/>
            <a:ext cx="835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134028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800" spc="-1" strike="noStrike">
                <a:solidFill>
                  <a:srgbClr val="009900"/>
                </a:solidFill>
                <a:latin typeface="Arial Black"/>
                <a:ea typeface="方正隶变简体"/>
              </a:rPr>
              <a:t>苏 州 园 林</a:t>
            </a:r>
            <a:endParaRPr b="0" lang="en-US" sz="88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251" name="" descr="tu.jpg (17257 bytes)"/>
          <p:cNvPicPr/>
          <p:nvPr/>
        </p:nvPicPr>
        <p:blipFill>
          <a:blip r:embed="rId1"/>
          <a:stretch/>
        </p:blipFill>
        <p:spPr>
          <a:xfrm>
            <a:off x="0" y="2708280"/>
            <a:ext cx="6443640" cy="274464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211640" y="4508640"/>
            <a:ext cx="251928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隶书"/>
              </a:rPr>
              <a:t>叶 圣 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24000" y="0"/>
            <a:ext cx="309564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巩固记忆：</a:t>
            </a:r>
            <a:endParaRPr b="1" lang="en-US" sz="4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54" name=""/>
          <p:cNvSpPr/>
          <p:nvPr/>
        </p:nvSpPr>
        <p:spPr>
          <a:xfrm>
            <a:off x="250920" y="836640"/>
            <a:ext cx="84978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、给下面词语注音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f5f5f"/>
                </a:solidFill>
                <a:latin typeface="Times New Roman"/>
              </a:rPr>
              <a:t>轩（      ）榭（      ）嶙（    ）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f5f5f"/>
                </a:solidFill>
                <a:latin typeface="Times New Roman"/>
              </a:rPr>
              <a:t>峋（    ）丘壑（    ）镂（    ）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58920" y="17002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uā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35280" y="170028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i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869440" y="1779480"/>
            <a:ext cx="68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187280" y="264312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ú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263700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67280" y="2708280"/>
            <a:ext cx="8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u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0920" y="3429000"/>
            <a:ext cx="75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3333ff"/>
                </a:solidFill>
                <a:latin typeface="Times New Roman"/>
              </a:rPr>
              <a:t>、找出文中的对偶句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4221000"/>
            <a:ext cx="80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生平多阅历，胸中有丘壑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493704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尽量工细而决不庸俗，即使简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朴而别具匠心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24000" y="0"/>
            <a:ext cx="28098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重点赏析：</a:t>
            </a:r>
            <a:endParaRPr b="0" i="1" lang="en-US" sz="4400" spc="-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65" name=""/>
          <p:cNvSpPr/>
          <p:nvPr/>
        </p:nvSpPr>
        <p:spPr>
          <a:xfrm>
            <a:off x="324000" y="134136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5f5f5f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5f5f5f"/>
                </a:solidFill>
                <a:latin typeface="Times New Roman"/>
              </a:rPr>
              <a:t>(1)</a:t>
            </a:r>
            <a:r>
              <a:rPr b="1" lang="zh-CN" sz="4000" spc="-1" strike="noStrike">
                <a:solidFill>
                  <a:srgbClr val="5f5f5f"/>
                </a:solidFill>
                <a:latin typeface="Times New Roman"/>
              </a:rPr>
              <a:t>集体朗读第二节，找出苏州园林的总体特征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9640" y="256536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眼前总是一幅完美的图画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3141720"/>
            <a:ext cx="82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(2)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为了说明这个特点从哪几个方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面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说明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9640" y="436572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讲究亭台轩榭的布局、                           讲究假山池沼的配合、                          讲究花草树木映衬近景远景的映衬、   讲究近景远景的层次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50920" y="3664080"/>
            <a:ext cx="446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  <a:ea typeface="方正隶书简体"/>
              </a:rPr>
              <a:t>(“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方正隶书简体"/>
              </a:rPr>
              <a:t>四个讲究”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  <a:ea typeface="方正隶书简体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7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770" fill="hold"/>
                                        <p:tgtEl>
                                          <p:spTgt spid="2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50920" y="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这样力求完美，目的是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4000" y="90792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愿游览者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如在图画中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162864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*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速读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3-6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节，看看依次写了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2349360"/>
            <a:ext cx="8748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依次照应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节中的四个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zh-CN" sz="4000" spc="-1" strike="noStrike" u="sng">
                <a:solidFill>
                  <a:srgbClr val="ffcc00"/>
                </a:solidFill>
                <a:uFillTx/>
                <a:latin typeface="Times New Roman"/>
                <a:hlinkClick r:id="rId2" action="ppaction://hlinksldjump"/>
              </a:rPr>
              <a:t>讲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213000"/>
            <a:ext cx="8675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600"/>
                </a:solidFill>
                <a:latin typeface="Times New Roman"/>
              </a:rPr>
              <a:t>*</a:t>
            </a:r>
            <a:r>
              <a:rPr b="1" lang="zh-CN" sz="3600" spc="-1" strike="noStrike">
                <a:solidFill>
                  <a:srgbClr val="00c6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c600"/>
                </a:solidFill>
                <a:latin typeface="Times New Roman"/>
              </a:rPr>
              <a:t>仅从大处讲究能称得上是</a:t>
            </a:r>
            <a:r>
              <a:rPr b="1" lang="en-US" sz="3600" spc="-1" strike="noStrike">
                <a:solidFill>
                  <a:srgbClr val="00c600"/>
                </a:solidFill>
                <a:latin typeface="Times New Roman"/>
              </a:rPr>
              <a:t>"</a:t>
            </a:r>
            <a:r>
              <a:rPr b="1" lang="zh-CN" sz="3600" spc="-1" strike="noStrike">
                <a:solidFill>
                  <a:srgbClr val="00c600"/>
                </a:solidFill>
                <a:latin typeface="Times New Roman"/>
              </a:rPr>
              <a:t>完美</a:t>
            </a:r>
            <a:r>
              <a:rPr b="1" lang="en-US" sz="3600" spc="-1" strike="noStrike">
                <a:solidFill>
                  <a:srgbClr val="00c600"/>
                </a:solidFill>
                <a:latin typeface="Times New Roman"/>
              </a:rPr>
              <a:t>"</a:t>
            </a:r>
            <a:r>
              <a:rPr b="1" lang="zh-CN" sz="3600" spc="-1" strike="noStrike">
                <a:solidFill>
                  <a:srgbClr val="00c600"/>
                </a:solidFill>
                <a:latin typeface="Times New Roman"/>
              </a:rPr>
              <a:t>的图画吗？不能，还要从小处注意处处体现画的完美。速读</a:t>
            </a:r>
            <a:r>
              <a:rPr b="1" lang="en-US" sz="3600" spc="-1" strike="noStrike">
                <a:solidFill>
                  <a:srgbClr val="00c600"/>
                </a:solidFill>
                <a:latin typeface="Times New Roman"/>
              </a:rPr>
              <a:t>7-9</a:t>
            </a:r>
            <a:r>
              <a:rPr b="1" lang="zh-CN" sz="3600" spc="-1" strike="noStrike">
                <a:solidFill>
                  <a:srgbClr val="00c600"/>
                </a:solidFill>
                <a:latin typeface="Times New Roman"/>
              </a:rPr>
              <a:t>节看看要注意什么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50846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节：图画美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节：图案美 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节：色彩美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7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770" fill="hold"/>
                                        <p:tgtEl>
                                          <p:spTgt spid="2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250920" y="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这样力求完美，目的是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24000" y="90792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愿游览者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如在图画中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62864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*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速读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3-6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节，看看依次写了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95280" y="234936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依次照应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节中的四个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讲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3213000"/>
            <a:ext cx="8675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600"/>
                </a:solidFill>
                <a:latin typeface="Times New Roman"/>
              </a:rPr>
              <a:t>*</a:t>
            </a:r>
            <a:r>
              <a:rPr b="1" lang="zh-CN" sz="3600" spc="-1" strike="noStrike">
                <a:solidFill>
                  <a:srgbClr val="00c6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c600"/>
                </a:solidFill>
                <a:latin typeface="Times New Roman"/>
              </a:rPr>
              <a:t>仅从大处讲究能称得上是</a:t>
            </a:r>
            <a:r>
              <a:rPr b="1" lang="en-US" sz="3600" spc="-1" strike="noStrike">
                <a:solidFill>
                  <a:srgbClr val="00c600"/>
                </a:solidFill>
                <a:latin typeface="Times New Roman"/>
              </a:rPr>
              <a:t>"</a:t>
            </a:r>
            <a:r>
              <a:rPr b="1" lang="zh-CN" sz="3600" spc="-1" strike="noStrike">
                <a:solidFill>
                  <a:srgbClr val="00c600"/>
                </a:solidFill>
                <a:latin typeface="Times New Roman"/>
              </a:rPr>
              <a:t>完美</a:t>
            </a:r>
            <a:r>
              <a:rPr b="1" lang="en-US" sz="3600" spc="-1" strike="noStrike">
                <a:solidFill>
                  <a:srgbClr val="00c600"/>
                </a:solidFill>
                <a:latin typeface="Times New Roman"/>
              </a:rPr>
              <a:t>"</a:t>
            </a:r>
            <a:r>
              <a:rPr b="1" lang="zh-CN" sz="3600" spc="-1" strike="noStrike">
                <a:solidFill>
                  <a:srgbClr val="00c600"/>
                </a:solidFill>
                <a:latin typeface="Times New Roman"/>
              </a:rPr>
              <a:t>的图画吗？不能，还要从小处注意处处体现画的完美。速读</a:t>
            </a:r>
            <a:r>
              <a:rPr b="1" lang="en-US" sz="3600" spc="-1" strike="noStrike">
                <a:solidFill>
                  <a:srgbClr val="00c600"/>
                </a:solidFill>
                <a:latin typeface="Times New Roman"/>
              </a:rPr>
              <a:t>7-9</a:t>
            </a:r>
            <a:r>
              <a:rPr b="1" lang="zh-CN" sz="3600" spc="-1" strike="noStrike">
                <a:solidFill>
                  <a:srgbClr val="00c600"/>
                </a:solidFill>
                <a:latin typeface="Times New Roman"/>
              </a:rPr>
              <a:t>节看看要注意什么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50846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节：图画美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节：图案美 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节：色彩美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77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770" fill="hold"/>
                                        <p:tgtEl>
                                          <p:spTgt spid="2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457200"/>
            <a:ext cx="4572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宋体"/>
              </a:rPr>
              <a:t>讲究亭台轩榭的布局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宋体"/>
              <a:ea typeface="宋体"/>
            </a:endParaRPr>
          </a:p>
        </p:txBody>
      </p:sp>
      <p:pic>
        <p:nvPicPr>
          <p:cNvPr id="284" name="" descr="tu.jpg (17257 bytes)"/>
          <p:cNvPicPr/>
          <p:nvPr/>
        </p:nvPicPr>
        <p:blipFill>
          <a:blip r:embed="rId1"/>
          <a:stretch/>
        </p:blipFill>
        <p:spPr>
          <a:xfrm>
            <a:off x="838080" y="1676520"/>
            <a:ext cx="3210120" cy="25146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14316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st.jpg (14773 bytes)"/>
          <p:cNvPicPr/>
          <p:nvPr/>
        </p:nvPicPr>
        <p:blipFill>
          <a:blip r:embed="rId2"/>
          <a:stretch/>
        </p:blipFill>
        <p:spPr>
          <a:xfrm>
            <a:off x="4724280" y="3990960"/>
            <a:ext cx="2857680" cy="286704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拙 政 园 小 飞 虹"/>
          <p:cNvPicPr/>
          <p:nvPr/>
        </p:nvPicPr>
        <p:blipFill>
          <a:blip r:embed="rId3"/>
          <a:stretch/>
        </p:blipFill>
        <p:spPr>
          <a:xfrm>
            <a:off x="4724280" y="1295280"/>
            <a:ext cx="2895840" cy="19065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143000" y="47242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隶书简体"/>
              </a:rPr>
              <a:t>苏州园林绝不讲究对称，好像故意避免似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方正隶书简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>
            <a:hlinkClick r:id="rId4" action="ppaction://hlinksldjump"/>
          </p:cNvPr>
          <p:cNvSpPr/>
          <p:nvPr/>
        </p:nvSpPr>
        <p:spPr>
          <a:xfrm>
            <a:off x="8077320" y="63244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75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0" y="533520"/>
            <a:ext cx="9296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d4736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讲究假山池沼的配合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d4736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457200" y="4038480"/>
            <a:ext cx="3505320" cy="257508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391464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狮 子 林"/>
          <p:cNvPicPr/>
          <p:nvPr/>
        </p:nvPicPr>
        <p:blipFill>
          <a:blip r:embed="rId2"/>
          <a:stretch/>
        </p:blipFill>
        <p:spPr>
          <a:xfrm>
            <a:off x="2438280" y="1828800"/>
            <a:ext cx="2895840" cy="2160720"/>
          </a:xfrm>
          <a:prstGeom prst="rect">
            <a:avLst/>
          </a:prstGeom>
          <a:ln w="0">
            <a:noFill/>
          </a:ln>
        </p:spPr>
      </p:pic>
      <p:grpSp>
        <p:nvGrpSpPr>
          <p:cNvPr id="294" name=""/>
          <p:cNvGrpSpPr/>
          <p:nvPr/>
        </p:nvGrpSpPr>
        <p:grpSpPr>
          <a:xfrm>
            <a:off x="1255680" y="2766960"/>
            <a:ext cx="6937200" cy="1311120"/>
            <a:chOff x="1255680" y="2766960"/>
            <a:chExt cx="6937200" cy="1311120"/>
          </a:xfrm>
        </p:grpSpPr>
        <p:sp>
          <p:nvSpPr>
            <p:cNvPr id="295" name=""/>
            <p:cNvSpPr/>
            <p:nvPr/>
          </p:nvSpPr>
          <p:spPr>
            <a:xfrm>
              <a:off x="1255680" y="2766960"/>
              <a:ext cx="6937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255680" y="2766960"/>
              <a:ext cx="6937200" cy="13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zh-CN" sz="8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7" name="" descr="耦 园 假 山"/>
          <p:cNvPicPr/>
          <p:nvPr/>
        </p:nvPicPr>
        <p:blipFill>
          <a:blip r:embed="rId3"/>
          <a:stretch/>
        </p:blipFill>
        <p:spPr>
          <a:xfrm>
            <a:off x="6019920" y="4267080"/>
            <a:ext cx="2743200" cy="2208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3962520" y="44197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333300"/>
                </a:solidFill>
                <a:latin typeface="Times New Roman"/>
                <a:ea typeface="方正隶书简体"/>
              </a:rPr>
              <a:t>假山的堆叠，是一项艺术而不仅是技术</a:t>
            </a:r>
            <a:r>
              <a:rPr b="0" lang="zh-CN" sz="2400" spc="-1" strike="noStrike">
                <a:solidFill>
                  <a:srgbClr val="3333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562720" y="1905120"/>
            <a:ext cx="251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333300"/>
                </a:solidFill>
                <a:latin typeface="Times New Roman"/>
                <a:ea typeface="方正隶书简体"/>
              </a:rPr>
              <a:t>池沼或河道的边沿很少砌齐整的石岸，总是高低屈曲任其自然</a:t>
            </a:r>
            <a:r>
              <a:rPr b="0" lang="zh-CN" sz="2400" spc="-1" strike="noStrike">
                <a:solidFill>
                  <a:srgbClr val="3333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75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3T01:39:22Z</dcterms:created>
  <dc:creator>回澜阁教育www.HuiLanGe.com</dc:creator>
  <dc:description>回澜阁教育www.HuiLanGe.com</dc:description>
  <cp:keywords>回澜阁教育www.HuiLanGe.com</cp:keywords>
  <dc:language>en-US</dc:language>
  <cp:lastModifiedBy>user</cp:lastModifiedBy>
  <cp:lastPrinted>1899-12-30T00:00:00Z</cp:lastPrinted>
  <dcterms:modified xsi:type="dcterms:W3CDTF">2010-01-25T01:21:41Z</dcterms:modified>
  <cp:revision>46</cp:revision>
  <dc:subject>回澜阁教育www.HuiLanGe.com</dc:subject>
  <dc:title>回澜阁教育www.HuiLanGe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