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11.png" ContentType="image/png"/>
  <Override PartName="/ppt/media/image3.png" ContentType="image/png"/>
  <Override PartName="/ppt/media/tada.wav" ContentType="audio/x-wav"/>
  <Override PartName="/ppt/media/image4.gif" ContentType="image/gif"/>
  <Override PartName="/ppt/media/image7.wmf" ContentType="image/x-wmf"/>
  <Override PartName="/ppt/media/image5.jpeg" ContentType="image/jpeg"/>
  <Override PartName="/ppt/media/image6.gif" ContentType="image/gif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5D0-1517-49D3-95BF-752A144A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B5D-4C56-40D5-9B09-B3F33C9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15018-4B3C-4EBF-A21C-E536542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1E059-3576-4A6E-A9BB-B8BAA7B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514C5-954D-47C3-93AC-3A2E620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2B9D5-9C35-4576-A0FE-5A2FD7D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5A68-B38A-46E5-9972-B4FA06CE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9A80A-E122-4C49-9825-69122ED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0D60F-D041-434A-A69C-4D5DD1F8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9116-C91F-46DA-B659-DA604003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BCF1B-559D-483A-9F04-97F5E298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CA85-1426-4F39-95D5-ECAFB1AD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40C-2DBE-4CFD-A383-4E60BF7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10000-5A6E-430B-95D2-9202108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3EE1E-ABA5-4ADD-BC84-9D3E7B6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AED04-D3BE-4B2B-A1A4-977BF33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6AA9-889C-414B-BB9B-272C5E25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03356-AEF1-4B1D-B0F0-4F30F241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FC29-2051-4FE8-91A7-857E3D7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77CB-1EB9-45DC-B0FE-0CC0BD9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F784-DD55-4DE1-A526-6BF8C38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75BD7-72EA-4CC1-8B9D-B29AB34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69B09-B1B4-4AE8-985A-069375D4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437-927C-4418-8560-9BF64BA1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9A3E4-6054-4F0F-B014-13DB5481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523B-840F-481C-B722-34073BFB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399EF-986A-4978-AF0F-3D438A4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DCF70-237B-4464-A453-4CA7B49E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C9A6-5347-4491-8299-2D6EF4A8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B6A3B-52A4-490D-952A-F3A39A9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1CAA4-F1FF-410C-ACF0-94E5080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E8FB-7E51-4098-A888-828AB52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B76F3-88F4-4694-B413-E3E70FBF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0E581-656A-40E1-8F40-E699C12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F202-5377-4141-A06C-5B5C4B90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5A598-4779-416F-AFB9-840B9FE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87BB2-283E-4BCB-B798-B6E60282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DC16F-23D2-4CB4-ABF8-D20BEA8C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8B9AE-173B-46B2-B262-133F7600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E86AE-29A0-4C2F-A50D-CCFFAA94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9FEB7-7D60-4FD5-8EA1-B4C81DA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AB45F-716A-499C-92A3-E169C448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ED9B8-601A-4D23-9123-636814EC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9404A-0F2D-4468-A433-EE330E2C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635A5-0FD3-41BF-AAB3-50E637D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B237-04D4-4E2D-9C45-9728B12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EF605-699D-426C-B788-1532D93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8215C-0FDC-4A0C-AEEF-09223FD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E07FA-A0D7-4702-AB93-2D3BF18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D438-D70C-48F0-A165-1A8DEBAC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35D09-7C87-4A6C-A3A8-18D820F9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65A-E52F-46B6-9B25-653D52D7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8B7-B3E2-46AA-9234-CC4EC63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86D-7F0C-435A-8830-006A98E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0EF-CBDC-4440-93D5-ACEBBEBD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60DC-A51F-48A3-B0B4-72D1268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25E-3188-44AD-824E-073A19AD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B4C-88CC-47F0-93D8-8D92A7F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5CBE-0533-4FF4-BDC9-E50D01E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C668-68D4-4615-B55A-DC6B33E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DAB-490B-4B98-BD21-F900C839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A2E-8B58-4243-B641-B21889CD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FDF69-B298-4536-98E4-3F76881D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0F48-A0BC-4EB1-BA89-2EE941C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E088-CE71-453B-A2D3-95F92CD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C906-EC3D-449E-8E25-1CA03AC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0B43-B086-453D-887C-E91FF1C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7D9-4892-4E35-B8AE-BA6D9E8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A4B7-3694-47E2-9987-A2CEB86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89FD-2CDF-4316-BBDF-44A0022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FE50-AB49-4E13-9E6E-B54C42C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B308-7D72-44BD-950E-273878F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725B-EF5E-43C6-8522-8CE3C9F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0D7F-B925-4478-9DE8-9B0F6575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F289-A31D-469A-A23F-BF72F39C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DD27-2BDE-4D24-A339-C2B0D760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0C3E-1A65-4BC4-837A-72E7C14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5CAB-A617-4135-B29B-129F198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16A-D755-4153-8619-2E6D2D4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496E-4040-42C4-B548-938EC575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E88A-0BE9-4834-8F12-CA5423BE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8B99-75A8-4D3E-95EB-17C1F5E9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52C5-89EA-41D4-AD07-B7C72AD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90F6-A890-4947-91C7-34D807B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BFF7-971F-4010-8C67-54B20A7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75A1-8485-4DA4-8BA6-2912E1B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CA66-15B9-420A-9627-B9D28E44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7DE4-6D77-42CB-89A8-2712E329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2D84-D310-46AE-8811-C32CCD3C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98-8144-4815-AB59-4A8F0791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17E7-50B3-41E7-8920-5467DE8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D8E0-63C3-4BFB-80C2-F1DB64DA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4CC2-2F7B-4A84-9E4D-630825F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5689-EE44-4695-81D5-FC17035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CAF4-C089-40E1-AC9C-C944086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539C-DC99-4CA7-A444-1E7698C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39CB-8511-4EA9-8FEB-0F2A12A4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FB250-A575-469B-B310-50AF67E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E889-1D86-4586-83DF-9812A472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1F10-69AD-4DB3-B58F-BD27B6F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501-0BCB-40E8-A5A8-D975A65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61A3-9AA8-427F-8218-552ABAFE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738CE-62AF-45FF-AACB-36A4456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A20F-ACD6-439D-98DD-F3F130A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B04F-6213-4645-BF0F-8497C2EC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AD1E-A4B1-49A8-A192-A879AD5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A7178-869C-4029-AB60-5C42DB9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7CB1-8EA4-49BD-8560-C7BF74E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D8BAB-9B10-479D-A57A-068C86E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0542-1A03-48E8-8937-0FEF1B7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65FD-44D0-4360-B64A-FA5CB16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20F-C851-4469-8FCA-7C9AD6D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7583-7644-471B-942B-92811E5F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7A2E-B503-4F02-817D-D633AC5A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24A5-C709-4A96-9478-7F510EF3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E741-D826-45AD-B369-1265A446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33B34-4E18-46F2-AB7D-ED6FC61C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F44A6-F28B-4653-95C9-C26866C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8426-BF4B-49E2-81FE-24DABE6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00B9-1348-41A5-B472-4617EE6E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95F12-5B21-4CA5-BA04-3357B4C0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1C03-69CC-45E5-A559-0FAF25F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467-9A95-4CDD-AE24-316C74B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8F30D-9C8A-4EE7-A625-03E27E9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7706-641F-477B-A0A2-67EACB4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C225E-30D0-4A2F-A14E-15865B7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6F7E-F7E5-4C8F-9157-88E15C52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FDAC-516F-4415-9899-AE5C3F1C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64FC-9A63-4384-B34A-15BA7999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B47D-890A-4B69-8002-7C693CC8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0800-57C8-4E98-8E8A-6A583E3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16A3-62D0-4522-AE4D-60DDED1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9B4C-DAC4-4A23-8E7B-55CA30DD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7AA-AAA5-447A-8C15-7D1BCFA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D7FDE-C66D-4FA9-B666-51EC4B9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00BD-0E0E-42E0-B7B3-E4DE3C4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A01B6-9BE3-4BE5-A290-73D3F49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3452D-6A29-41E8-BDA3-F1C86FC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4DDD-2523-4C26-8BB6-6E1C5EE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64AB-74A8-4B49-8CBD-689FAFB4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1F398-198E-45C6-832D-0D147EB5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C2F7A-18E5-42C7-AD22-27127612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F5469-81C9-44A2-8BCB-A50DBBA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8CD58-1C84-4901-A3AD-455B679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E9E-328F-4B53-A1CA-A6526C68E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68B-C0D5-4BE0-BFF3-3B28F119C6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9B9-68B8-4123-A255-D9158F6D9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8B3-F876-4C58-9413-7D964AD5C1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819-ED77-4CE2-A923-967E8EA359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765-29EE-4012-8B79-94F8F58D82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46BE-E60E-45E1-B9AC-59B3586E95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290-BB94-4705-9D36-D4CCAC404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3E0-354E-41AD-8C74-6FD799F6D1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34D-5F68-4A00-8DE3-453F192FB1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224-5108-4C00-A28E-98A614676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06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56E5-8691-41C0-B9CB-B4FAD253B1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tada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166918"/>
          <p:cNvSpPr/>
          <p:nvPr/>
        </p:nvSpPr>
        <p:spPr>
          <a:xfrm>
            <a:off x="324000" y="2924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第二节    科学探究：物质的比热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66920"/>
          <p:cNvSpPr/>
          <p:nvPr/>
        </p:nvSpPr>
        <p:spPr>
          <a:xfrm>
            <a:off x="3283920" y="708120"/>
            <a:ext cx="31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第十二章    内能与热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质量的同种物质，升高相同的温度，吸收的热量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质量的不同种物质，升高相同的温度，吸收的热量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92515"/>
          <p:cNvGrpSpPr/>
          <p:nvPr/>
        </p:nvGrpSpPr>
        <p:grpSpPr>
          <a:xfrm>
            <a:off x="971640" y="333360"/>
            <a:ext cx="4419000" cy="581400"/>
            <a:chOff x="971640" y="333360"/>
            <a:chExt cx="4419000" cy="581400"/>
          </a:xfrm>
        </p:grpSpPr>
        <p:sp>
          <p:nvSpPr>
            <p:cNvPr id="542" name="文本框 192516"/>
            <p:cNvSpPr/>
            <p:nvPr/>
          </p:nvSpPr>
          <p:spPr>
            <a:xfrm>
              <a:off x="1504800" y="333360"/>
              <a:ext cx="38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析得出结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图片 192517" descr="115"/>
            <p:cNvPicPr/>
            <p:nvPr/>
          </p:nvPicPr>
          <p:blipFill>
            <a:blip r:embed="rId1"/>
            <a:stretch/>
          </p:blipFill>
          <p:spPr>
            <a:xfrm>
              <a:off x="971640" y="409320"/>
              <a:ext cx="46008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文本框 192518"/>
          <p:cNvSpPr/>
          <p:nvPr/>
        </p:nvSpPr>
        <p:spPr>
          <a:xfrm>
            <a:off x="4859280" y="2421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相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92519"/>
          <p:cNvSpPr/>
          <p:nvPr/>
        </p:nvSpPr>
        <p:spPr>
          <a:xfrm>
            <a:off x="4716360" y="40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不相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文本框 197633"/>
          <p:cNvSpPr/>
          <p:nvPr/>
        </p:nvSpPr>
        <p:spPr>
          <a:xfrm>
            <a:off x="685800" y="441360"/>
            <a:ext cx="2438280" cy="703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_x000c_"/>
                <a:ea typeface="宋体"/>
              </a:rPr>
              <a:t>探究活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197634"/>
          <p:cNvGrpSpPr/>
          <p:nvPr/>
        </p:nvGrpSpPr>
        <p:grpSpPr>
          <a:xfrm>
            <a:off x="2743200" y="1219320"/>
            <a:ext cx="4038480" cy="581400"/>
            <a:chOff x="2743200" y="1219320"/>
            <a:chExt cx="4038480" cy="581400"/>
          </a:xfrm>
        </p:grpSpPr>
        <p:sp>
          <p:nvSpPr>
            <p:cNvPr id="548" name="文本框 197635"/>
            <p:cNvSpPr/>
            <p:nvPr/>
          </p:nvSpPr>
          <p:spPr>
            <a:xfrm>
              <a:off x="3276720" y="121932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实验后的思考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图片 197636" descr="115"/>
            <p:cNvPicPr/>
            <p:nvPr/>
          </p:nvPicPr>
          <p:blipFill>
            <a:blip r:embed="rId1"/>
            <a:stretch/>
          </p:blipFill>
          <p:spPr>
            <a:xfrm>
              <a:off x="2743200" y="1295280"/>
              <a:ext cx="460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文本框 197638"/>
          <p:cNvSpPr/>
          <p:nvPr/>
        </p:nvSpPr>
        <p:spPr>
          <a:xfrm>
            <a:off x="1332000" y="22050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水和煤油谁的吸热能力强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97639"/>
          <p:cNvSpPr/>
          <p:nvPr/>
        </p:nvSpPr>
        <p:spPr>
          <a:xfrm>
            <a:off x="1371600" y="3141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如何科学地比较不同物质的这种特性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97640"/>
          <p:cNvSpPr/>
          <p:nvPr/>
        </p:nvSpPr>
        <p:spPr>
          <a:xfrm>
            <a:off x="1403280" y="486900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d0fb1"/>
                </a:solidFill>
                <a:latin typeface="华文行楷"/>
                <a:ea typeface="华文行楷"/>
              </a:rPr>
              <a:t>实验后的思考</a:t>
            </a:r>
            <a:r>
              <a:rPr b="1" lang="en-US" sz="3200" spc="-1" strike="noStrike">
                <a:solidFill>
                  <a:srgbClr val="bd0fb1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bd0fb1"/>
                </a:solidFill>
                <a:latin typeface="华文行楷"/>
                <a:ea typeface="华文行楷"/>
              </a:rPr>
              <a:t>往往比实验本身更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d0fb1"/>
                </a:solidFill>
                <a:latin typeface="华文行楷"/>
                <a:ea typeface="华文行楷"/>
              </a:rPr>
              <a:t>                          </a:t>
            </a:r>
            <a:r>
              <a:rPr b="1" lang="en-US" sz="3200" spc="-1" strike="noStrike">
                <a:solidFill>
                  <a:srgbClr val="bd0fb1"/>
                </a:solidFill>
                <a:latin typeface="_x000b__x000c_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bd0fb1"/>
                </a:solidFill>
                <a:latin typeface="华文行楷"/>
                <a:ea typeface="华文行楷"/>
              </a:rPr>
              <a:t>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96609"/>
          <p:cNvSpPr/>
          <p:nvPr/>
        </p:nvSpPr>
        <p:spPr>
          <a:xfrm>
            <a:off x="685800" y="441360"/>
            <a:ext cx="2438280" cy="703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_x000c_"/>
                <a:ea typeface="宋体"/>
              </a:rPr>
              <a:t>探究活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196610"/>
          <p:cNvGrpSpPr/>
          <p:nvPr/>
        </p:nvGrpSpPr>
        <p:grpSpPr>
          <a:xfrm>
            <a:off x="3132000" y="836640"/>
            <a:ext cx="4038480" cy="581400"/>
            <a:chOff x="3132000" y="836640"/>
            <a:chExt cx="4038480" cy="581400"/>
          </a:xfrm>
        </p:grpSpPr>
        <p:sp>
          <p:nvSpPr>
            <p:cNvPr id="555" name="文本框 196611"/>
            <p:cNvSpPr/>
            <p:nvPr/>
          </p:nvSpPr>
          <p:spPr>
            <a:xfrm>
              <a:off x="3665520" y="83664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00"/>
                  </a:solidFill>
                  <a:latin typeface="宋体"/>
                  <a:ea typeface="宋体"/>
                </a:rPr>
                <a:t>比热容的概念</a:t>
              </a:r>
              <a:r>
                <a:rPr b="1" lang="zh-CN" sz="3200" spc="-1" strike="noStrike">
                  <a:solidFill>
                    <a:srgbClr val="413696"/>
                  </a:solidFill>
                  <a:latin typeface="宋体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413696"/>
                  </a:solidFill>
                  <a:latin typeface="Tahoma"/>
                  <a:ea typeface="宋体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图片 196612" descr="115"/>
            <p:cNvPicPr/>
            <p:nvPr/>
          </p:nvPicPr>
          <p:blipFill>
            <a:blip r:embed="rId1"/>
            <a:stretch/>
          </p:blipFill>
          <p:spPr>
            <a:xfrm>
              <a:off x="3132000" y="912600"/>
              <a:ext cx="46044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7" name="图片 196613" descr="2"/>
          <p:cNvPicPr/>
          <p:nvPr/>
        </p:nvPicPr>
        <p:blipFill>
          <a:blip r:embed="rId2"/>
          <a:stretch/>
        </p:blipFill>
        <p:spPr>
          <a:xfrm>
            <a:off x="755640" y="2565360"/>
            <a:ext cx="1789200" cy="1825560"/>
          </a:xfrm>
          <a:prstGeom prst="rect">
            <a:avLst/>
          </a:prstGeom>
          <a:ln w="0">
            <a:noFill/>
          </a:ln>
        </p:spPr>
      </p:pic>
      <p:grpSp>
        <p:nvGrpSpPr>
          <p:cNvPr id="558" name="组合 196614"/>
          <p:cNvGrpSpPr/>
          <p:nvPr/>
        </p:nvGrpSpPr>
        <p:grpSpPr>
          <a:xfrm>
            <a:off x="2771640" y="1628640"/>
            <a:ext cx="5562720" cy="1523880"/>
            <a:chOff x="2771640" y="1628640"/>
            <a:chExt cx="5562720" cy="1523880"/>
          </a:xfrm>
        </p:grpSpPr>
        <p:sp>
          <p:nvSpPr>
            <p:cNvPr id="559" name="矩形标注 196615"/>
            <p:cNvSpPr/>
            <p:nvPr/>
          </p:nvSpPr>
          <p:spPr>
            <a:xfrm>
              <a:off x="2771640" y="1628640"/>
              <a:ext cx="5334120" cy="1523880"/>
            </a:xfrm>
            <a:prstGeom prst="wedgeRectCallout">
              <a:avLst>
                <a:gd name="adj1" fmla="val -56430"/>
                <a:gd name="adj2" fmla="val 8083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文本框 196616"/>
            <p:cNvSpPr/>
            <p:nvPr/>
          </p:nvSpPr>
          <p:spPr>
            <a:xfrm>
              <a:off x="2847960" y="1704960"/>
              <a:ext cx="54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其实很简单，就是采用比较单位质量、升高</a:t>
              </a:r>
              <a:r>
                <a:rPr b="1" lang="en-US" sz="2800" spc="-1" strike="noStrike">
                  <a:solidFill>
                    <a:srgbClr val="ffff00"/>
                  </a:solidFill>
                  <a:latin typeface="宋体"/>
                </a:rPr>
                <a:t>1℃</a:t>
              </a: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的</a:t>
              </a:r>
              <a:r>
                <a:rPr b="1" lang="zh-CN" sz="2800" spc="-1" strike="noStrike">
                  <a:solidFill>
                    <a:srgbClr val="ffff00"/>
                  </a:solidFill>
                  <a:latin typeface="宋体"/>
                  <a:ea typeface="宋体"/>
                </a:rPr>
                <a:t>水和煤油</a:t>
              </a:r>
              <a:r>
                <a:rPr b="1" lang="zh-CN" sz="28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 吸热的多少来比较它们的吸热能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文本框 196617"/>
          <p:cNvSpPr/>
          <p:nvPr/>
        </p:nvSpPr>
        <p:spPr>
          <a:xfrm>
            <a:off x="2771640" y="3500280"/>
            <a:ext cx="590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比热容</a:t>
            </a:r>
            <a:r>
              <a:rPr b="1" lang="en-US" sz="3200" spc="-1" strike="noStrike">
                <a:solidFill>
                  <a:srgbClr val="009999"/>
                </a:solidFill>
                <a:latin typeface="宋体"/>
              </a:rPr>
              <a:t>(C)──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单位质量的某种物质温度升高</a:t>
            </a:r>
            <a:r>
              <a:rPr b="1" lang="en-US" sz="3200" spc="-1" strike="noStrike">
                <a:solidFill>
                  <a:srgbClr val="009999"/>
                </a:solidFill>
                <a:latin typeface="宋体"/>
              </a:rPr>
              <a:t>1℃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收的热量，叫做这一物质的比热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比热容的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单位 ：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J/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kg·℃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198657"/>
          <p:cNvSpPr/>
          <p:nvPr/>
        </p:nvSpPr>
        <p:spPr>
          <a:xfrm>
            <a:off x="0" y="8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98659"/>
          <p:cNvSpPr/>
          <p:nvPr/>
        </p:nvSpPr>
        <p:spPr>
          <a:xfrm>
            <a:off x="1676520" y="7002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几种物质的比热容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单位：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J/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kg·℃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116000" y="1413000"/>
          <a:ext cx="7391520" cy="373068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水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蓖麻油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铁、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酒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砂石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铜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煤油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铝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水银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干泥土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4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铅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×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椭圆形标注 198683"/>
          <p:cNvSpPr/>
          <p:nvPr/>
        </p:nvSpPr>
        <p:spPr>
          <a:xfrm rot="10800000">
            <a:off x="-360" y="5445000"/>
            <a:ext cx="3025800" cy="648000"/>
          </a:xfrm>
          <a:prstGeom prst="wedgeEllipseCallout">
            <a:avLst>
              <a:gd name="adj1" fmla="val -47430"/>
              <a:gd name="adj2" fmla="val 141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98684"/>
          <p:cNvSpPr/>
          <p:nvPr/>
        </p:nvSpPr>
        <p:spPr>
          <a:xfrm>
            <a:off x="395280" y="551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的比热容与物质的种类有关，不同的物质的比热容是不同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99683"/>
          <p:cNvSpPr/>
          <p:nvPr/>
        </p:nvSpPr>
        <p:spPr>
          <a:xfrm>
            <a:off x="684360" y="177336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的比热容最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99684"/>
          <p:cNvSpPr/>
          <p:nvPr/>
        </p:nvSpPr>
        <p:spPr>
          <a:xfrm>
            <a:off x="611280" y="30686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物质的比热容不仅与物质和种类有关，同时还与物质的状态有关，如水的比热容与冰的比热容就不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99685"/>
          <p:cNvSpPr/>
          <p:nvPr/>
        </p:nvSpPr>
        <p:spPr>
          <a:xfrm>
            <a:off x="755640" y="45086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172035"/>
          <p:cNvSpPr/>
          <p:nvPr/>
        </p:nvSpPr>
        <p:spPr>
          <a:xfrm>
            <a:off x="380880" y="533520"/>
            <a:ext cx="8382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水的比热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它的物理意义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72036"/>
          <p:cNvSpPr/>
          <p:nvPr/>
        </p:nvSpPr>
        <p:spPr>
          <a:xfrm>
            <a:off x="3657600" y="4572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2×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J/(kg · 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72037"/>
          <p:cNvSpPr/>
          <p:nvPr/>
        </p:nvSpPr>
        <p:spPr>
          <a:xfrm>
            <a:off x="250920" y="23493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千克的水温度每升高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降低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 1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℃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吸收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或放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热量是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.2×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172038"/>
          <p:cNvSpPr/>
          <p:nvPr/>
        </p:nvSpPr>
        <p:spPr>
          <a:xfrm>
            <a:off x="324000" y="5546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克的水要温度升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要吸收多少热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72039"/>
          <p:cNvSpPr/>
          <p:nvPr/>
        </p:nvSpPr>
        <p:spPr>
          <a:xfrm>
            <a:off x="684360" y="35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比热容是物质的一种特性，就像密度是物质的特性一样，同种物质的比热容是一定，不随物体吸收或放出的热量多少、质量、升高或降低的温度而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文本框 200705"/>
          <p:cNvSpPr/>
          <p:nvPr/>
        </p:nvSpPr>
        <p:spPr>
          <a:xfrm>
            <a:off x="1676520" y="685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d0fb1"/>
                </a:solidFill>
                <a:latin typeface="Times New Roman"/>
                <a:ea typeface="华文彩云"/>
              </a:rPr>
              <a:t>比一比，看谁最聪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00706"/>
          <p:cNvSpPr/>
          <p:nvPr/>
        </p:nvSpPr>
        <p:spPr>
          <a:xfrm>
            <a:off x="2133720" y="1797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人们选择用水给发动机冷却，用水取暖，这是为什么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200707"/>
          <p:cNvSpPr/>
          <p:nvPr/>
        </p:nvSpPr>
        <p:spPr>
          <a:xfrm>
            <a:off x="1828800" y="2819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00708"/>
          <p:cNvSpPr/>
          <p:nvPr/>
        </p:nvSpPr>
        <p:spPr>
          <a:xfrm>
            <a:off x="2133720" y="3048120"/>
            <a:ext cx="57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沙漠工带昼夜温差很大，而 沿海地区昼夜温差不大，这是什么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200709" descr="GLASS15"/>
          <p:cNvPicPr/>
          <p:nvPr/>
        </p:nvPicPr>
        <p:blipFill>
          <a:blip r:embed="rId1"/>
          <a:stretch/>
        </p:blipFill>
        <p:spPr>
          <a:xfrm>
            <a:off x="5791320" y="457200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200710" descr="308"/>
          <p:cNvPicPr/>
          <p:nvPr/>
        </p:nvPicPr>
        <p:blipFill>
          <a:blip r:embed="rId2"/>
          <a:stretch/>
        </p:blipFill>
        <p:spPr>
          <a:xfrm>
            <a:off x="762120" y="3809880"/>
            <a:ext cx="1269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水的比热容大，在质量一定的条件下水升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或降低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定温度吸热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或放热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很多，用水用冷却剂或取暖效果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95587"/>
          <p:cNvSpPr/>
          <p:nvPr/>
        </p:nvSpPr>
        <p:spPr>
          <a:xfrm>
            <a:off x="611280" y="3763080"/>
            <a:ext cx="8137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宋体"/>
              </a:rPr>
              <a:t>从比热容表可以看出，各种物质，水的比热容最大。这就意味着，在同样受热或冷却的情况下，水的温度变化要小些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宋体"/>
              </a:rPr>
              <a:t>由于海水的比热容大，砂石比热容小，海水与砂石比较，吸收或放出同样的热量，升高或降低的温度较小，白天在受太阳照射条件相同时，海水的温度变化要小些，沿海地区比内陆地区温升慢，夜晚放热，沿海地区温度降低也少。所以一天之中，沿海地区温度变化小，内陆地区温度变化大。同理，在一年之中夏季内陆比沿海炎热，冬季内陆比沿海寒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文本框 203777"/>
          <p:cNvSpPr/>
          <p:nvPr/>
        </p:nvSpPr>
        <p:spPr>
          <a:xfrm>
            <a:off x="4788000" y="0"/>
            <a:ext cx="4114800" cy="24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新疆有句谚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早穿皮袄午穿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围着火炉吃西瓜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宋体"/>
              </a:rPr>
              <a:t>你现在能说出它的道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203778" descr="沙漠1"/>
          <p:cNvPicPr/>
          <p:nvPr/>
        </p:nvPicPr>
        <p:blipFill>
          <a:blip r:embed="rId1"/>
          <a:stretch/>
        </p:blipFill>
        <p:spPr>
          <a:xfrm>
            <a:off x="228600" y="152280"/>
            <a:ext cx="4191120" cy="6248520"/>
          </a:xfrm>
          <a:prstGeom prst="rect">
            <a:avLst/>
          </a:prstGeom>
          <a:ln w="0">
            <a:noFill/>
          </a:ln>
        </p:spPr>
      </p:pic>
      <p:sp>
        <p:nvSpPr>
          <p:cNvPr id="587" name="文本框 203780"/>
          <p:cNvSpPr/>
          <p:nvPr/>
        </p:nvSpPr>
        <p:spPr>
          <a:xfrm>
            <a:off x="4572000" y="2495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对沙漠气候的生动描述。白天，当太阳照射到沙漠时，由于砂石的比热容较小，砂石吸收热量后，其温度会迅速升高；而到傍晚，砂石 要放出热量，由于砂石的比热容较小，砂石的温度会马上下降，温度很低，所以沙漠气候温差变化很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量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知道某物体的质量为ｍ，比热容为ｃ和温度的变化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△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根据物质比热容的定义可计算出该物体吸收或放出的热量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Ｑ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ｃ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04805"/>
          <p:cNvSpPr/>
          <p:nvPr/>
        </p:nvSpPr>
        <p:spPr>
          <a:xfrm>
            <a:off x="4859280" y="2205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204806"/>
          <p:cNvSpPr/>
          <p:nvPr/>
        </p:nvSpPr>
        <p:spPr>
          <a:xfrm>
            <a:off x="611280" y="3860640"/>
            <a:ext cx="8064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Ｑ：物体温度变化时吸收或放出的热量；单位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ｃ：物质比热容      单位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/(kg.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：物体的质量      单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温度的变化值，温度升高时为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温度降低时为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04808"/>
          <p:cNvSpPr/>
          <p:nvPr/>
        </p:nvSpPr>
        <p:spPr>
          <a:xfrm>
            <a:off x="3203640" y="3429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04809"/>
          <p:cNvSpPr/>
          <p:nvPr/>
        </p:nvSpPr>
        <p:spPr>
          <a:xfrm>
            <a:off x="900000" y="573408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777240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疆地区有句谚语叫做“早穿皮袄午穿纱，围着火炉吃西瓜”，你知道其中的道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83299"/>
          <p:cNvSpPr txBox="1"/>
          <p:nvPr/>
        </p:nvSpPr>
        <p:spPr>
          <a:xfrm>
            <a:off x="3348000" y="98100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你知道吗？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平衡关系式：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4400" spc="-1" strike="noStrike" baseline="-25000">
                <a:solidFill>
                  <a:srgbClr val="000000"/>
                </a:solidFill>
                <a:latin typeface="Arial"/>
              </a:rPr>
              <a:t>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zh-CN" sz="4400" spc="-1" strike="noStrike" baseline="-25000">
                <a:solidFill>
                  <a:srgbClr val="000000"/>
                </a:solidFill>
                <a:latin typeface="Arial"/>
              </a:rPr>
              <a:t>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温度不同的物体放在一起时，高温物体将放出热量，温度降低；低温物体吸收热量，温度升高；最后两物体温度相同，称为达到热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加热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至少需供给多少热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4.2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/(kg · ℃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=2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2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末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00 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根据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ｍ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4.2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/(kg · ℃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k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-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6.72 ×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量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钢锭，温度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降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放出多少热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0.46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/(kg · ℃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=100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末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30 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根据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ｃｍ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0.46×10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/(kg · ℃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0k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00-3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5.84 ×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79204"/>
          <p:cNvSpPr/>
          <p:nvPr/>
        </p:nvSpPr>
        <p:spPr>
          <a:xfrm>
            <a:off x="468360" y="836640"/>
            <a:ext cx="822960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水的比热容是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.2×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J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／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kg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·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℃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，将质量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kg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的水从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0℃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加热到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70℃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需要吸收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J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热量．如果将水倒掉一半，它的比热容将为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J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／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kg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℃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en-US" sz="37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79205"/>
          <p:cNvSpPr/>
          <p:nvPr/>
        </p:nvSpPr>
        <p:spPr>
          <a:xfrm>
            <a:off x="0" y="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79206"/>
          <p:cNvSpPr/>
          <p:nvPr/>
        </p:nvSpPr>
        <p:spPr>
          <a:xfrm>
            <a:off x="250920" y="400536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水的比热容是煤油比热容的两倍，若水和煤油的质量之比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，吸收的热量之比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，则水和煤油升高的温度之比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   B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   C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  D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79207"/>
          <p:cNvSpPr/>
          <p:nvPr/>
        </p:nvSpPr>
        <p:spPr>
          <a:xfrm>
            <a:off x="1476360" y="20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.4×1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79209"/>
          <p:cNvSpPr/>
          <p:nvPr/>
        </p:nvSpPr>
        <p:spPr>
          <a:xfrm>
            <a:off x="3635280" y="24271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.2×1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79211"/>
          <p:cNvSpPr/>
          <p:nvPr/>
        </p:nvSpPr>
        <p:spPr>
          <a:xfrm>
            <a:off x="826920" y="58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状态一定的某物质的比热容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它吸收的热量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它的质量成反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它的温度变化成反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是物质的一种属性，只与物质本身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75108"/>
          <p:cNvSpPr/>
          <p:nvPr/>
        </p:nvSpPr>
        <p:spPr>
          <a:xfrm>
            <a:off x="380880" y="1890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例题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同学将一杯质量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ｇ、温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冷水和一杯质量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ｇ、温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5 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热水兑在一起，混合后的水温度最高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75109"/>
          <p:cNvSpPr/>
          <p:nvPr/>
        </p:nvSpPr>
        <p:spPr>
          <a:xfrm>
            <a:off x="250920" y="2276640"/>
            <a:ext cx="91440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答：设混合合后的水温为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ｇ水温度从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升至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吸收热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ｔ－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ｇ水温度从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85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至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放出热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若没有热量损失，混合后的温度最高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ｔ－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ｍ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ｔ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1.7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69987"/>
          <p:cNvSpPr/>
          <p:nvPr/>
        </p:nvSpPr>
        <p:spPr>
          <a:xfrm>
            <a:off x="250920" y="0"/>
            <a:ext cx="347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请回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69988"/>
          <p:cNvSpPr/>
          <p:nvPr/>
        </p:nvSpPr>
        <p:spPr>
          <a:xfrm>
            <a:off x="684360" y="2060640"/>
            <a:ext cx="815328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烧开一壶水与烧开半壶水需要的热量一样多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把一壶水烧开与烧成温水需要的热量一样多吗？</a:t>
            </a:r>
            <a:r>
              <a:rPr b="1" lang="zh-CN" sz="41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169989"/>
          <p:cNvSpPr/>
          <p:nvPr/>
        </p:nvSpPr>
        <p:spPr>
          <a:xfrm>
            <a:off x="1042920" y="57913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在温度升高时吸收的热量，跟水的质量有关，和升高的温度有关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169990" descr=""/>
          <p:cNvPicPr/>
          <p:nvPr/>
        </p:nvPicPr>
        <p:blipFill>
          <a:blip r:embed="rId1"/>
          <a:stretch/>
        </p:blipFill>
        <p:spPr>
          <a:xfrm>
            <a:off x="6659640" y="0"/>
            <a:ext cx="2009520" cy="193356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69992"/>
          <p:cNvSpPr/>
          <p:nvPr/>
        </p:nvSpPr>
        <p:spPr>
          <a:xfrm>
            <a:off x="1476360" y="50846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把一壶水烧开比烧成温水需要的热量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69993"/>
          <p:cNvSpPr/>
          <p:nvPr/>
        </p:nvSpPr>
        <p:spPr>
          <a:xfrm>
            <a:off x="1763640" y="3500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烧开一壶水比烧开半壶水需要的热量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189441" descr="13"/>
          <p:cNvPicPr/>
          <p:nvPr/>
        </p:nvPicPr>
        <p:blipFill>
          <a:blip r:embed="rId1"/>
          <a:stretch/>
        </p:blipFill>
        <p:spPr>
          <a:xfrm>
            <a:off x="771480" y="1752480"/>
            <a:ext cx="905040" cy="1752840"/>
          </a:xfrm>
          <a:prstGeom prst="rect">
            <a:avLst/>
          </a:prstGeom>
          <a:ln w="0">
            <a:noFill/>
          </a:ln>
        </p:spPr>
      </p:pic>
      <p:sp>
        <p:nvSpPr>
          <p:cNvPr id="503" name="矩形 189442"/>
          <p:cNvSpPr txBox="1"/>
          <p:nvPr/>
        </p:nvSpPr>
        <p:spPr>
          <a:xfrm>
            <a:off x="914400" y="160020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猜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4" name="图片 189443" descr="0106"/>
          <p:cNvPicPr/>
          <p:nvPr/>
        </p:nvPicPr>
        <p:blipFill>
          <a:blip r:embed="rId2"/>
          <a:srcRect l="0" t="0" r="-154" b="-154"/>
          <a:stretch/>
        </p:blipFill>
        <p:spPr>
          <a:xfrm>
            <a:off x="1219320" y="24382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505" name="矩形 189444"/>
          <p:cNvSpPr txBox="1"/>
          <p:nvPr/>
        </p:nvSpPr>
        <p:spPr>
          <a:xfrm>
            <a:off x="1981080" y="4114800"/>
            <a:ext cx="152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猜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06" name="组合 189445"/>
          <p:cNvGrpSpPr/>
          <p:nvPr/>
        </p:nvGrpSpPr>
        <p:grpSpPr>
          <a:xfrm>
            <a:off x="2666880" y="685800"/>
            <a:ext cx="6248520" cy="2286000"/>
            <a:chOff x="2666880" y="685800"/>
            <a:chExt cx="6248520" cy="2286000"/>
          </a:xfrm>
        </p:grpSpPr>
        <p:sp>
          <p:nvSpPr>
            <p:cNvPr id="507" name="文本框 189446"/>
            <p:cNvSpPr/>
            <p:nvPr/>
          </p:nvSpPr>
          <p:spPr>
            <a:xfrm>
              <a:off x="2895480" y="685800"/>
              <a:ext cx="601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物质吸收（或放出）热量的多少，除了与物质的质量和温度变化有关外，还可能与什么有关？</a:t>
              </a:r>
              <a:r>
                <a:rPr b="1" lang="zh-CN" sz="3600" spc="-1" strike="noStrike">
                  <a:solidFill>
                    <a:srgbClr val="413696"/>
                  </a:solidFill>
                  <a:latin typeface="隶书"/>
                  <a:ea typeface="隶书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标注 189447"/>
            <p:cNvSpPr/>
            <p:nvPr/>
          </p:nvSpPr>
          <p:spPr>
            <a:xfrm>
              <a:off x="2666880" y="762120"/>
              <a:ext cx="5943600" cy="2209680"/>
            </a:xfrm>
            <a:prstGeom prst="wedgeRectCallout">
              <a:avLst>
                <a:gd name="adj1" fmla="val -45995"/>
                <a:gd name="adj2" fmla="val 6515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189448"/>
          <p:cNvGrpSpPr/>
          <p:nvPr/>
        </p:nvGrpSpPr>
        <p:grpSpPr>
          <a:xfrm>
            <a:off x="3886200" y="3505320"/>
            <a:ext cx="4495680" cy="1981080"/>
            <a:chOff x="3886200" y="3505320"/>
            <a:chExt cx="4495680" cy="1981080"/>
          </a:xfrm>
        </p:grpSpPr>
        <p:sp>
          <p:nvSpPr>
            <p:cNvPr id="510" name="云形标注 189449"/>
            <p:cNvSpPr/>
            <p:nvPr/>
          </p:nvSpPr>
          <p:spPr>
            <a:xfrm>
              <a:off x="3886200" y="3505320"/>
              <a:ext cx="4495680" cy="1981080"/>
            </a:xfrm>
            <a:prstGeom prst="cloudCallout">
              <a:avLst>
                <a:gd name="adj1" fmla="val -61972"/>
                <a:gd name="adj2" fmla="val 32453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189450"/>
            <p:cNvSpPr/>
            <p:nvPr/>
          </p:nvSpPr>
          <p:spPr>
            <a:xfrm>
              <a:off x="4419720" y="388620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_x000b__x000c_"/>
                  <a:ea typeface="隶书"/>
                </a:rPr>
                <a:t>可能与物质的种类有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图片 189451" descr="0106"/>
          <p:cNvPicPr/>
          <p:nvPr/>
        </p:nvPicPr>
        <p:blipFill>
          <a:blip r:embed="rId3"/>
          <a:srcRect l="0" t="0" r="-154" b="-154"/>
          <a:stretch/>
        </p:blipFill>
        <p:spPr>
          <a:xfrm>
            <a:off x="1752480" y="4800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188419"/>
          <p:cNvSpPr/>
          <p:nvPr/>
        </p:nvSpPr>
        <p:spPr>
          <a:xfrm>
            <a:off x="179280" y="333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如何通过实验来研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88421"/>
          <p:cNvGrpSpPr/>
          <p:nvPr/>
        </p:nvGrpSpPr>
        <p:grpSpPr>
          <a:xfrm>
            <a:off x="539640" y="1197000"/>
            <a:ext cx="4038480" cy="581400"/>
            <a:chOff x="539640" y="1197000"/>
            <a:chExt cx="4038480" cy="581400"/>
          </a:xfrm>
        </p:grpSpPr>
        <p:sp>
          <p:nvSpPr>
            <p:cNvPr id="515" name="文本框 188422"/>
            <p:cNvSpPr/>
            <p:nvPr/>
          </p:nvSpPr>
          <p:spPr>
            <a:xfrm>
              <a:off x="1073160" y="119700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根据猜想设计实验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图片 188423" descr="115"/>
            <p:cNvPicPr/>
            <p:nvPr/>
          </p:nvPicPr>
          <p:blipFill>
            <a:blip r:embed="rId1"/>
            <a:stretch/>
          </p:blipFill>
          <p:spPr>
            <a:xfrm>
              <a:off x="539640" y="1272960"/>
              <a:ext cx="46044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7" name="图片 188427" descr=""/>
          <p:cNvPicPr/>
          <p:nvPr/>
        </p:nvPicPr>
        <p:blipFill>
          <a:blip r:embed="rId2"/>
          <a:stretch/>
        </p:blipFill>
        <p:spPr>
          <a:xfrm>
            <a:off x="539640" y="1911240"/>
            <a:ext cx="7128000" cy="4946760"/>
          </a:xfrm>
          <a:prstGeom prst="rect">
            <a:avLst/>
          </a:prstGeom>
          <a:ln w="0">
            <a:noFill/>
          </a:ln>
        </p:spPr>
      </p:pic>
      <p:grpSp>
        <p:nvGrpSpPr>
          <p:cNvPr id="518" name="组合 188424"/>
          <p:cNvGrpSpPr/>
          <p:nvPr/>
        </p:nvGrpSpPr>
        <p:grpSpPr>
          <a:xfrm>
            <a:off x="5292720" y="1557360"/>
            <a:ext cx="4038120" cy="685800"/>
            <a:chOff x="5292720" y="1557360"/>
            <a:chExt cx="4038120" cy="685800"/>
          </a:xfrm>
        </p:grpSpPr>
        <p:sp>
          <p:nvSpPr>
            <p:cNvPr id="519" name="圆角矩形标注 188425"/>
            <p:cNvSpPr/>
            <p:nvPr/>
          </p:nvSpPr>
          <p:spPr>
            <a:xfrm>
              <a:off x="5292720" y="1557360"/>
              <a:ext cx="3869640" cy="685800"/>
            </a:xfrm>
            <a:prstGeom prst="wedgeRoundRectCallout">
              <a:avLst>
                <a:gd name="adj1" fmla="val -49050"/>
                <a:gd name="adj2" fmla="val 69907"/>
                <a:gd name="adj3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88426"/>
            <p:cNvSpPr/>
            <p:nvPr/>
          </p:nvSpPr>
          <p:spPr>
            <a:xfrm>
              <a:off x="5292720" y="1633680"/>
              <a:ext cx="403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让我们认识电加热器</a:t>
              </a:r>
              <a:r>
                <a:rPr b="1" lang="zh-CN" sz="3200" spc="-1" strike="noStrike">
                  <a:solidFill>
                    <a:srgbClr val="bd0fb1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91489"/>
          <p:cNvSpPr/>
          <p:nvPr/>
        </p:nvSpPr>
        <p:spPr>
          <a:xfrm>
            <a:off x="685800" y="441360"/>
            <a:ext cx="2438280" cy="703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_x000c_"/>
                <a:ea typeface="宋体"/>
              </a:rPr>
              <a:t>探究活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91490"/>
          <p:cNvSpPr/>
          <p:nvPr/>
        </p:nvSpPr>
        <p:spPr>
          <a:xfrm>
            <a:off x="2666880" y="2133720"/>
            <a:ext cx="60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案一：取等质量的水和煤油，加热相同的时间（吸收相等的热量）后，比较温度的变化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191491"/>
          <p:cNvSpPr/>
          <p:nvPr/>
        </p:nvSpPr>
        <p:spPr>
          <a:xfrm>
            <a:off x="2666880" y="4113360"/>
            <a:ext cx="60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案二：取等质量的水和煤油，使其升高相同的温度，比较加热的时间（吸收热量的多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191492"/>
          <p:cNvGrpSpPr/>
          <p:nvPr/>
        </p:nvGrpSpPr>
        <p:grpSpPr>
          <a:xfrm>
            <a:off x="2743200" y="1219320"/>
            <a:ext cx="4038480" cy="581400"/>
            <a:chOff x="2743200" y="1219320"/>
            <a:chExt cx="4038480" cy="581400"/>
          </a:xfrm>
        </p:grpSpPr>
        <p:sp>
          <p:nvSpPr>
            <p:cNvPr id="525" name="文本框 191493"/>
            <p:cNvSpPr/>
            <p:nvPr/>
          </p:nvSpPr>
          <p:spPr>
            <a:xfrm>
              <a:off x="3276720" y="121932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根据猜想设计实验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191494" descr="115"/>
            <p:cNvPicPr/>
            <p:nvPr/>
          </p:nvPicPr>
          <p:blipFill>
            <a:blip r:embed="rId1"/>
            <a:stretch/>
          </p:blipFill>
          <p:spPr>
            <a:xfrm>
              <a:off x="2743200" y="1295280"/>
              <a:ext cx="46044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91495" descr="gif011"/>
          <p:cNvPicPr/>
          <p:nvPr/>
        </p:nvPicPr>
        <p:blipFill>
          <a:blip r:embed="rId2"/>
          <a:stretch/>
        </p:blipFill>
        <p:spPr>
          <a:xfrm>
            <a:off x="755640" y="227664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528" name="云形标注 191496"/>
          <p:cNvSpPr/>
          <p:nvPr/>
        </p:nvSpPr>
        <p:spPr>
          <a:xfrm>
            <a:off x="7416720" y="620640"/>
            <a:ext cx="1727280" cy="1656000"/>
          </a:xfrm>
          <a:prstGeom prst="cloudCallout">
            <a:avLst>
              <a:gd name="adj1" fmla="val -164703"/>
              <a:gd name="adj2" fmla="val 4923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我们就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不同物质吸收热量的能力，所要控制的因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质量相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升高的温度相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加热的热源要相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90467"/>
          <p:cNvSpPr/>
          <p:nvPr/>
        </p:nvSpPr>
        <p:spPr>
          <a:xfrm>
            <a:off x="684360" y="515772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如果加热方法完全相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就可以认为相同时间里物质吸收的热量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90468"/>
          <p:cNvSpPr/>
          <p:nvPr/>
        </p:nvSpPr>
        <p:spPr>
          <a:xfrm>
            <a:off x="32450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宋体"/>
              </a:rPr>
              <a:t>信息快递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49510"/>
          <p:cNvGrpSpPr/>
          <p:nvPr/>
        </p:nvGrpSpPr>
        <p:grpSpPr>
          <a:xfrm>
            <a:off x="2484360" y="0"/>
            <a:ext cx="4419720" cy="581400"/>
            <a:chOff x="2484360" y="0"/>
            <a:chExt cx="4419720" cy="581400"/>
          </a:xfrm>
        </p:grpSpPr>
        <p:sp>
          <p:nvSpPr>
            <p:cNvPr id="534" name="文本框 149511"/>
            <p:cNvSpPr/>
            <p:nvPr/>
          </p:nvSpPr>
          <p:spPr>
            <a:xfrm>
              <a:off x="3017880" y="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cc00"/>
                  </a:solidFill>
                  <a:latin typeface="宋体"/>
                  <a:ea typeface="宋体"/>
                </a:rPr>
                <a:t>进行实验，收集信息</a:t>
              </a:r>
              <a:r>
                <a:rPr b="1" lang="zh-CN" sz="3200" spc="-1" strike="noStrike">
                  <a:solidFill>
                    <a:srgbClr val="99cc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图片 149512" descr="115"/>
            <p:cNvPicPr/>
            <p:nvPr/>
          </p:nvPicPr>
          <p:blipFill>
            <a:blip r:embed="rId1"/>
            <a:stretch/>
          </p:blipFill>
          <p:spPr>
            <a:xfrm>
              <a:off x="2484360" y="76320"/>
              <a:ext cx="460440" cy="46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6" name="ShockwaveFlash1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8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知道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等质量的水和煤油吸收相等的热量后，升高的温度是不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93539"/>
          <p:cNvSpPr/>
          <p:nvPr/>
        </p:nvSpPr>
        <p:spPr>
          <a:xfrm>
            <a:off x="684360" y="3500280"/>
            <a:ext cx="77724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等质量的水和煤油升高相同的温度。吸收的热量是不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8:00:1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29T03:22:55Z</dcterms:modified>
  <cp:revision>3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