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projctor.wav" ContentType="audio/x-wav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12.jpeg" ContentType="image/jpeg"/>
  <Override PartName="/ppt/media/camera.wav" ContentType="audio/x-wav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2629-7A8A-4CBE-AA37-8764390E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5AF3-2495-47F9-80AC-F0CF35A0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A0DB3-29C8-4D87-8B8F-5927DA65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A2433-61DF-4BBB-BB91-63911903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0FB37-9022-4AB6-8AB1-C8CBBBFB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8B861-CB9C-40B8-B23A-7F771918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66153-A702-482C-BB1F-2E7857FC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852E5-E171-49C1-9D19-69354046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1339A-3F81-49B9-A662-18D6CC86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EF786-05AF-4EA2-A4F9-2AB34786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1B027-D82F-468E-9D2D-54FA704E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FC51F-537D-46E9-8B74-954F2AF3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D250-3F66-4DF4-8B59-03DBA8DC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68940-02E6-41AD-96D1-FE6A8BD4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AC36F-5C0D-4654-A320-650F2C54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A90C7-ABAD-40A3-A2FB-0124FCE8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34EF9-5FFE-4E86-B3EE-42D92F9C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7D5DE-5A9E-478E-B0A4-B794583F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681D4-C028-43A0-880B-D82222F6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7B673-29F7-4FB2-8225-0596EB5B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55824-6B9D-4F5C-A445-D57954F2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FAB3C-9F6B-4434-A134-82E38C95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33D6C-DB97-4932-A56B-1C7176F7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666-E374-42FD-A9A2-D0F03221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69539-DDB2-4BB4-8644-CE4E93DB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D635F-580A-4B09-8499-F108BE1E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40EA6-653B-4C72-A1EF-B0A841E6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C894B-7929-46CC-9C9B-B61FFB63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7300C-C3EE-4887-9365-D58CEA92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FCB9B-F209-4619-8F2C-00A70270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1F8EE-B8F3-4A73-9639-D4C3DA16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F028E-AEF5-40EB-A536-DE0DDAA6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B80C0-1C8B-47E3-8197-F893B7BB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2754D-5867-4391-9EFB-2DF8E2B7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725F-059B-4B36-9D8F-17FBCBBF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F4C25-791F-40DD-AE43-661A3723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A48A9-EBA4-4D7C-A202-810E0053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70CE7-C04F-4EEE-9FDD-5600801F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A7D9F-0C69-4F0C-B8BC-1D972887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59756-2B3D-4D31-824C-02671AA8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5C068-C92A-4265-B009-54391496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BA101-F425-4E7E-B5F0-E3325B21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DFFC7-4635-4B30-99C6-E289C77A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E8199-C6DC-4F0C-8FD6-D7D0C9AF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9A787-1F2D-431C-9E23-FDC69737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185B-828A-4AC8-AFF9-53A532F7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85407-328D-4FD3-9361-0FFF1463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2C75F-6BDF-443A-944C-8D07838E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BB6C0-A554-4276-A6BC-AAE2C9AF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C2213-4A5A-4726-B933-31BA8EA9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AAFFE-378F-436C-96FA-7A31583D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61B3-4235-4DB7-A0F1-13309FA5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7598-BA12-4E60-AB53-6CF1DD6F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6134-E7F0-46CF-85C3-5B83BBD6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6DD1-E909-4597-9F29-492D824A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A642-FB4A-4FB5-ABD7-728362B8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B53-6C60-4498-B53C-E00C7FDE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A128-FF6A-49B4-B69F-E4D8B3D2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380A-EC10-4B39-BE4E-0D2E51DE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C44C-BAF6-4F85-B771-9551638E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CE6E-E7A4-4B14-B4A5-950B67C9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3C32-3E84-4D32-905C-FD8069DE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8A1B2-55C0-4108-9169-F34D08AC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FA07C-53C7-437B-8AB3-C48FD5A9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EB4CB-586A-46C4-8CA3-8BCA07AD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C22BD-8711-470C-900A-D7C08AB8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CD2E2-D849-47C3-9902-D6D3C09B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5AF-2D31-4218-A636-E134E571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ADC2C-98AC-43B1-BBB3-05D7A7D8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9776B-D102-4DCE-BEAC-2BF4E9EC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33ABD-6374-43BB-8068-919B94BF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3783A-06E7-4904-A44D-E547E507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55891-245E-4DF1-A040-D60AD566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8281E-F19C-46CD-A9DD-0186A3D3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371AE-4FA7-4972-B0B2-B8870752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DD770-7267-46B3-A2EF-52025FD8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81ECE-7232-4CA6-86B0-925D6B61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F322F-77CD-46AE-B1FF-4B6D218D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293D-08EF-41E7-A319-2FD8BC22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E43A2-4C65-4DB1-B042-267D5A91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5F64A-3681-4AA6-92F6-6A1FB1BF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08C8D-AF88-48CE-9FF3-2D581A64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09D07-9AB6-459F-AD25-57579C64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DD172-9D79-4250-B6FD-2442764A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960EE-972D-4BB3-92DD-528042CF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CB0A4-0535-4E8E-ABBD-F6C6B5B4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C31CA-3B95-4E85-9CD0-A595B58F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A9FD4-E096-437D-8C73-F08A9C9A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E8394-C0B3-4C82-927D-233692A4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4EFC-2675-4C9C-8113-C3D3D6BD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2A85F-7C5E-474E-8EC0-725576F4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177A7-93A7-4CAD-9C09-C5A86907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9D5ED-248B-475C-90B3-35293AD5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0248B-838B-414E-86C3-FB9C4D23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3324A-7518-4920-9D36-5D6CA8A7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8DFB3-54CC-4D64-957B-15B2E0FD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DA8CD-3AE6-4AC3-A450-67A130F1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BBB6C-DF6F-4F4E-A524-083313F4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2FF5C-4B69-4331-8F00-F0C0D385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F9087-C7D6-4CCB-93CC-E4D3057B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B76A-871A-4C94-90B8-A3FC4DA4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D6343-0105-4463-B9ED-29764DC9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A5F53-A072-4ADB-B31B-D96DAD7E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915FD-77A8-442A-B5AB-42564973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3DD82-1796-4B5A-88DF-95E98DA3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7662E-ED20-41ED-B0AC-FAFCAD17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34B91-D77C-4597-B794-46E28716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AE8BB-7777-4CDD-9897-3A622017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ABD9D-5DA7-41F6-B66C-CA1050B4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3FBDC-7FE9-4842-BE2D-54D243F8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03672-AEF8-479A-8982-00BB7916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523C-B83F-4D00-B9C8-5D7E7911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FEDFF-D343-40F2-9D78-8457D224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B99D9-A031-4B4B-808A-29A3FAF1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1D321-DE56-4335-9F1B-2BE48E58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B9938-799B-4E1E-8E92-026ED974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F96CA-FD47-4D55-A376-23D1340C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DEAEC-60B6-4813-99B1-F32AD871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788B7-75F1-420A-B7F2-943CB65F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8E88B-BD7B-42C6-9259-D9D8854F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6EBEC-0827-4F76-BAEE-78B99B27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03F82-1E0B-4A3F-A456-099B7E2A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E4B6-6870-451E-924B-378CD433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8ED54-620D-4371-825D-787D94B2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DF551-05BD-4F5B-804E-62123A63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12512-1BC2-424A-9417-7FE36C7C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E5BF4-E60D-44A6-9E96-33BA8A8C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B3808-3EEF-4BBE-A255-63568095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5624F-4D86-4D87-8697-1F86CCAF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B021B-2CB0-47F8-BD34-830D3CE9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B2519-2F87-47DF-A94E-77192253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C0F0D-54A9-4F67-94C7-8382CB39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E40F7-4682-47E1-900D-C61F47A3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028-35F9-4099-8F21-4C85B668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70D17-641B-47EE-8AD3-0D7A969D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29C55-5240-48C9-A8C2-BB0E10C3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9CE06-9F9C-4FC9-98A7-0142979B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1999A-0346-4950-9F36-D102556F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11EF5-0545-43EB-8E85-DCACF906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5C130-CC7B-4BB2-BEAD-3004D0B3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A2577-D426-4F9D-A097-35C3FCDB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52C0A-59CF-4BC9-97EE-5E98E702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BDBF9-8A82-466B-99DF-DE2DB76A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8B151-29E5-4968-B765-C9EBFA60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5CEA-BE50-4C3A-BFF6-7D66BC37F4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7C50-8C3D-48F6-BFD2-F7F7E02A86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9FE2-4A03-42FC-85C8-8809CE06F0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8714-E89A-4B6D-978E-EFB30D10C8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BC7E-5E44-42D9-BD31-DF05BB0F11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0CC4-DE08-4EA6-8DD8-EFF4B74ECA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8C50-CF18-464B-A444-149E056C2C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700E-B210-4839-96F6-340818D603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78D4-FE64-4EB7-B50C-22BC2463E8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9D0B-E445-41C9-8AF9-AECB5D1FFA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B4E1-E539-4726-A74B-3BAC39F6A6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68D0-601F-41F0-AD74-C492C12258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&#33576;&#23041;&#26684;&#31616;&#20171;.doc" TargetMode="External"/><Relationship Id="rId2" Type="http://schemas.openxmlformats.org/officeDocument/2006/relationships/hyperlink" Target="&#33576;&#23041;&#26684;&#31616;&#20171;.doc" TargetMode="External"/><Relationship Id="rId3" Type="http://schemas.openxmlformats.org/officeDocument/2006/relationships/hyperlink" Target="&#33576;&#23041;&#26684;&#31616;&#20171;.doc" TargetMode="External"/><Relationship Id="rId4" Type="http://schemas.openxmlformats.org/officeDocument/2006/relationships/image" Target="../media/image31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5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5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5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5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5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5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&#31070;&#31192;&#30340;&#21335;&#26497;&#8212;&#8212;&#31185;&#23398;&#35843;&#26597;.mht" TargetMode="External"/><Relationship Id="rId4" Type="http://schemas.openxmlformats.org/officeDocument/2006/relationships/hyperlink" Target="&#26031;&#31185;&#29305;&#26085;&#35760;.mht" TargetMode="External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137221"/>
          <p:cNvSpPr/>
          <p:nvPr/>
        </p:nvSpPr>
        <p:spPr>
          <a:xfrm>
            <a:off x="687240" y="341784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50021"/>
                </a:solidFill>
                <a:latin typeface="Arial"/>
                <a:ea typeface="方正琥珀简体"/>
              </a:rPr>
              <a:t>伟大的悲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动作按钮: 自定义 137222"/>
          <p:cNvSpPr/>
          <p:nvPr/>
        </p:nvSpPr>
        <p:spPr>
          <a:xfrm>
            <a:off x="6459480" y="6322320"/>
            <a:ext cx="914400" cy="423000"/>
          </a:xfrm>
          <a:custGeom>
            <a:avLst/>
            <a:gdLst>
              <a:gd name="textAreaLeft" fmla="*/ 27360 w 914400"/>
              <a:gd name="textAreaRight" fmla="*/ 887040 w 9144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6671" h="21600">
                <a:moveTo>
                  <a:pt x="0" y="0"/>
                </a:moveTo>
                <a:lnTo>
                  <a:pt x="46671" y="0"/>
                </a:lnTo>
                <a:lnTo>
                  <a:pt x="46671" y="21600"/>
                </a:lnTo>
                <a:lnTo>
                  <a:pt x="0" y="21600"/>
                </a:lnTo>
                <a:close/>
              </a:path>
              <a:path fill="lightenLess" w="46671" h="21600">
                <a:moveTo>
                  <a:pt x="0" y="0"/>
                </a:moveTo>
                <a:lnTo>
                  <a:pt x="46671" y="0"/>
                </a:lnTo>
                <a:lnTo>
                  <a:pt x="45271" y="1400"/>
                </a:lnTo>
                <a:lnTo>
                  <a:pt x="1400" y="1400"/>
                </a:lnTo>
                <a:close/>
              </a:path>
              <a:path fill="darken" w="46671" h="21600">
                <a:moveTo>
                  <a:pt x="46671" y="0"/>
                </a:moveTo>
                <a:lnTo>
                  <a:pt x="46671" y="21600"/>
                </a:lnTo>
                <a:lnTo>
                  <a:pt x="45271" y="20200"/>
                </a:lnTo>
                <a:lnTo>
                  <a:pt x="45271" y="1400"/>
                </a:lnTo>
                <a:close/>
              </a:path>
              <a:path fill="darkenLess" w="46671" h="21600">
                <a:moveTo>
                  <a:pt x="46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71" y="20200"/>
                </a:lnTo>
                <a:close/>
              </a:path>
              <a:path fill="lighten" w="46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华文细黑"/>
                <a:ea typeface="华文细黑"/>
              </a:rPr>
              <a:t>归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动作按钮: 自定义 137223"/>
          <p:cNvSpPr/>
          <p:nvPr/>
        </p:nvSpPr>
        <p:spPr>
          <a:xfrm>
            <a:off x="3040200" y="6322320"/>
            <a:ext cx="876240" cy="423000"/>
          </a:xfrm>
          <a:custGeom>
            <a:avLst/>
            <a:gdLst>
              <a:gd name="textAreaLeft" fmla="*/ 27360 w 876240"/>
              <a:gd name="textAreaRight" fmla="*/ 848880 w 8762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4724" h="21600">
                <a:moveTo>
                  <a:pt x="0" y="0"/>
                </a:moveTo>
                <a:lnTo>
                  <a:pt x="44724" y="0"/>
                </a:lnTo>
                <a:lnTo>
                  <a:pt x="44724" y="21600"/>
                </a:lnTo>
                <a:lnTo>
                  <a:pt x="0" y="21600"/>
                </a:lnTo>
                <a:close/>
              </a:path>
              <a:path fill="lightenLess" w="44724" h="21600">
                <a:moveTo>
                  <a:pt x="0" y="0"/>
                </a:moveTo>
                <a:lnTo>
                  <a:pt x="44724" y="0"/>
                </a:lnTo>
                <a:lnTo>
                  <a:pt x="43325" y="1400"/>
                </a:lnTo>
                <a:lnTo>
                  <a:pt x="1400" y="1400"/>
                </a:lnTo>
                <a:close/>
              </a:path>
              <a:path fill="darken" w="44724" h="21600">
                <a:moveTo>
                  <a:pt x="44724" y="0"/>
                </a:moveTo>
                <a:lnTo>
                  <a:pt x="44724" y="21600"/>
                </a:lnTo>
                <a:lnTo>
                  <a:pt x="43325" y="20200"/>
                </a:lnTo>
                <a:lnTo>
                  <a:pt x="43325" y="1400"/>
                </a:lnTo>
                <a:close/>
              </a:path>
              <a:path fill="darkenLess" w="44724" h="21600">
                <a:moveTo>
                  <a:pt x="4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25" y="20200"/>
                </a:lnTo>
                <a:close/>
              </a:path>
              <a:path fill="lighten" w="4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华文细黑"/>
                <a:ea typeface="华文细黑"/>
              </a:rPr>
              <a:t>阅读</a:t>
            </a:r>
            <a:r>
              <a:rPr b="1" lang="zh-CN" sz="1800" spc="-1" strike="noStrike">
                <a:solidFill>
                  <a:srgbClr val="6600cc"/>
                </a:solidFill>
                <a:latin typeface="华文细黑"/>
                <a:ea typeface="华文细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动作按钮: 自定义 137224"/>
          <p:cNvSpPr/>
          <p:nvPr/>
        </p:nvSpPr>
        <p:spPr>
          <a:xfrm>
            <a:off x="1870200" y="6164640"/>
            <a:ext cx="903240" cy="737640"/>
          </a:xfrm>
          <a:custGeom>
            <a:avLst/>
            <a:gdLst>
              <a:gd name="textAreaLeft" fmla="*/ 47520 w 903240"/>
              <a:gd name="textAreaRight" fmla="*/ 855720 w 903240"/>
              <a:gd name="textAreaTop" fmla="*/ 47520 h 737640"/>
              <a:gd name="textAreaBottom" fmla="*/ 690120 h 737640"/>
            </a:gdLst>
            <a:ahLst/>
            <a:rect l="textAreaLeft" t="textAreaTop" r="textAreaRight" b="textAreaBottom"/>
            <a:pathLst>
              <a:path w="26447" h="21600">
                <a:moveTo>
                  <a:pt x="0" y="0"/>
                </a:moveTo>
                <a:lnTo>
                  <a:pt x="26447" y="0"/>
                </a:lnTo>
                <a:lnTo>
                  <a:pt x="26447" y="21600"/>
                </a:lnTo>
                <a:lnTo>
                  <a:pt x="0" y="21600"/>
                </a:lnTo>
                <a:close/>
              </a:path>
              <a:path fill="lightenLess" w="26447" h="21600">
                <a:moveTo>
                  <a:pt x="0" y="0"/>
                </a:moveTo>
                <a:lnTo>
                  <a:pt x="26447" y="0"/>
                </a:lnTo>
                <a:lnTo>
                  <a:pt x="25047" y="1400"/>
                </a:lnTo>
                <a:lnTo>
                  <a:pt x="1400" y="1400"/>
                </a:lnTo>
                <a:close/>
              </a:path>
              <a:path fill="darken" w="26447" h="21600">
                <a:moveTo>
                  <a:pt x="26447" y="0"/>
                </a:moveTo>
                <a:lnTo>
                  <a:pt x="26447" y="21600"/>
                </a:lnTo>
                <a:lnTo>
                  <a:pt x="25047" y="20200"/>
                </a:lnTo>
                <a:lnTo>
                  <a:pt x="25047" y="1400"/>
                </a:lnTo>
                <a:close/>
              </a:path>
              <a:path fill="darkenLess" w="26447" h="21600">
                <a:moveTo>
                  <a:pt x="26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47" y="20200"/>
                </a:lnTo>
                <a:close/>
              </a:path>
              <a:path fill="lighten" w="26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华文细黑"/>
                <a:ea typeface="华文细黑"/>
              </a:rPr>
              <a:t>感知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动作按钮: 自定义 137225"/>
          <p:cNvSpPr/>
          <p:nvPr/>
        </p:nvSpPr>
        <p:spPr>
          <a:xfrm>
            <a:off x="7639200" y="6322320"/>
            <a:ext cx="869760" cy="423000"/>
          </a:xfrm>
          <a:custGeom>
            <a:avLst/>
            <a:gdLst>
              <a:gd name="textAreaLeft" fmla="*/ 27360 w 869760"/>
              <a:gd name="textAreaRight" fmla="*/ 842400 w 8697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4394" h="21600">
                <a:moveTo>
                  <a:pt x="0" y="0"/>
                </a:moveTo>
                <a:lnTo>
                  <a:pt x="44394" y="0"/>
                </a:lnTo>
                <a:lnTo>
                  <a:pt x="44394" y="21600"/>
                </a:lnTo>
                <a:lnTo>
                  <a:pt x="0" y="21600"/>
                </a:lnTo>
                <a:close/>
              </a:path>
              <a:path fill="lightenLess" w="44394" h="21600">
                <a:moveTo>
                  <a:pt x="0" y="0"/>
                </a:moveTo>
                <a:lnTo>
                  <a:pt x="44394" y="0"/>
                </a:lnTo>
                <a:lnTo>
                  <a:pt x="42994" y="1400"/>
                </a:lnTo>
                <a:lnTo>
                  <a:pt x="1400" y="1400"/>
                </a:lnTo>
                <a:close/>
              </a:path>
              <a:path fill="darken" w="44394" h="21600">
                <a:moveTo>
                  <a:pt x="44394" y="0"/>
                </a:moveTo>
                <a:lnTo>
                  <a:pt x="44394" y="21600"/>
                </a:lnTo>
                <a:lnTo>
                  <a:pt x="42994" y="20200"/>
                </a:lnTo>
                <a:lnTo>
                  <a:pt x="42994" y="1400"/>
                </a:lnTo>
                <a:close/>
              </a:path>
              <a:path fill="darkenLess" w="44394" h="21600">
                <a:moveTo>
                  <a:pt x="44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94" y="20200"/>
                </a:lnTo>
                <a:close/>
              </a:path>
              <a:path fill="lighten" w="44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华文细黑"/>
                <a:ea typeface="华文细黑"/>
              </a:rPr>
              <a:t>扩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动作按钮: 自定义 137226"/>
          <p:cNvSpPr/>
          <p:nvPr/>
        </p:nvSpPr>
        <p:spPr>
          <a:xfrm>
            <a:off x="4181400" y="6164640"/>
            <a:ext cx="870120" cy="737640"/>
          </a:xfrm>
          <a:custGeom>
            <a:avLst/>
            <a:gdLst>
              <a:gd name="textAreaLeft" fmla="*/ 47520 w 870120"/>
              <a:gd name="textAreaRight" fmla="*/ 822600 w 870120"/>
              <a:gd name="textAreaTop" fmla="*/ 47520 h 737640"/>
              <a:gd name="textAreaBottom" fmla="*/ 690120 h 737640"/>
            </a:gdLst>
            <a:ahLst/>
            <a:rect l="textAreaLeft" t="textAreaTop" r="textAreaRight" b="textAreaBottom"/>
            <a:pathLst>
              <a:path w="25477" h="21600">
                <a:moveTo>
                  <a:pt x="0" y="0"/>
                </a:moveTo>
                <a:lnTo>
                  <a:pt x="25477" y="0"/>
                </a:lnTo>
                <a:lnTo>
                  <a:pt x="25477" y="21600"/>
                </a:lnTo>
                <a:lnTo>
                  <a:pt x="0" y="21600"/>
                </a:lnTo>
                <a:close/>
              </a:path>
              <a:path fill="lightenLess" w="25477" h="21600">
                <a:moveTo>
                  <a:pt x="0" y="0"/>
                </a:moveTo>
                <a:lnTo>
                  <a:pt x="25477" y="0"/>
                </a:lnTo>
                <a:lnTo>
                  <a:pt x="24078" y="1400"/>
                </a:lnTo>
                <a:lnTo>
                  <a:pt x="1400" y="1400"/>
                </a:lnTo>
                <a:close/>
              </a:path>
              <a:path fill="darken" w="25477" h="21600">
                <a:moveTo>
                  <a:pt x="25477" y="0"/>
                </a:moveTo>
                <a:lnTo>
                  <a:pt x="25477" y="21600"/>
                </a:lnTo>
                <a:lnTo>
                  <a:pt x="24078" y="20200"/>
                </a:lnTo>
                <a:lnTo>
                  <a:pt x="24078" y="1400"/>
                </a:lnTo>
                <a:close/>
              </a:path>
              <a:path fill="darkenLess" w="25477" h="21600">
                <a:moveTo>
                  <a:pt x="25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78" y="20200"/>
                </a:lnTo>
                <a:close/>
              </a:path>
              <a:path fill="lighten" w="25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华文细黑"/>
                <a:ea typeface="华文细黑"/>
              </a:rPr>
              <a:t>阅读</a:t>
            </a:r>
            <a:r>
              <a:rPr b="1" lang="zh-CN" sz="1800" spc="-1" strike="noStrike">
                <a:solidFill>
                  <a:srgbClr val="6600cc"/>
                </a:solidFill>
                <a:latin typeface="华文细黑"/>
                <a:ea typeface="华文细黑"/>
              </a:rPr>
              <a:t>2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动作按钮: 自定义 137227"/>
          <p:cNvSpPr/>
          <p:nvPr/>
        </p:nvSpPr>
        <p:spPr>
          <a:xfrm>
            <a:off x="685800" y="6322320"/>
            <a:ext cx="914400" cy="423000"/>
          </a:xfrm>
          <a:custGeom>
            <a:avLst/>
            <a:gdLst>
              <a:gd name="textAreaLeft" fmla="*/ 27360 w 914400"/>
              <a:gd name="textAreaRight" fmla="*/ 887040 w 9144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6671" h="21600">
                <a:moveTo>
                  <a:pt x="0" y="0"/>
                </a:moveTo>
                <a:lnTo>
                  <a:pt x="46671" y="0"/>
                </a:lnTo>
                <a:lnTo>
                  <a:pt x="46671" y="21600"/>
                </a:lnTo>
                <a:lnTo>
                  <a:pt x="0" y="21600"/>
                </a:lnTo>
                <a:close/>
              </a:path>
              <a:path fill="lightenLess" w="46671" h="21600">
                <a:moveTo>
                  <a:pt x="0" y="0"/>
                </a:moveTo>
                <a:lnTo>
                  <a:pt x="46671" y="0"/>
                </a:lnTo>
                <a:lnTo>
                  <a:pt x="45271" y="1400"/>
                </a:lnTo>
                <a:lnTo>
                  <a:pt x="1400" y="1400"/>
                </a:lnTo>
                <a:close/>
              </a:path>
              <a:path fill="darken" w="46671" h="21600">
                <a:moveTo>
                  <a:pt x="46671" y="0"/>
                </a:moveTo>
                <a:lnTo>
                  <a:pt x="46671" y="21600"/>
                </a:lnTo>
                <a:lnTo>
                  <a:pt x="45271" y="20200"/>
                </a:lnTo>
                <a:lnTo>
                  <a:pt x="45271" y="1400"/>
                </a:lnTo>
                <a:close/>
              </a:path>
              <a:path fill="darkenLess" w="46671" h="21600">
                <a:moveTo>
                  <a:pt x="46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71" y="20200"/>
                </a:lnTo>
                <a:close/>
              </a:path>
              <a:path fill="lighten" w="46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华文细黑"/>
                <a:ea typeface="华文细黑"/>
              </a:rPr>
              <a:t>作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动作按钮: 自定义 137228"/>
          <p:cNvSpPr/>
          <p:nvPr/>
        </p:nvSpPr>
        <p:spPr>
          <a:xfrm>
            <a:off x="5299200" y="6322320"/>
            <a:ext cx="949320" cy="423000"/>
          </a:xfrm>
          <a:custGeom>
            <a:avLst/>
            <a:gdLst>
              <a:gd name="textAreaLeft" fmla="*/ 27360 w 949320"/>
              <a:gd name="textAreaRight" fmla="*/ 921960 w 94932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8453" h="21600">
                <a:moveTo>
                  <a:pt x="0" y="0"/>
                </a:moveTo>
                <a:lnTo>
                  <a:pt x="48453" y="0"/>
                </a:lnTo>
                <a:lnTo>
                  <a:pt x="48453" y="21600"/>
                </a:lnTo>
                <a:lnTo>
                  <a:pt x="0" y="21600"/>
                </a:lnTo>
                <a:close/>
              </a:path>
              <a:path fill="lightenLess" w="48453" h="21600">
                <a:moveTo>
                  <a:pt x="0" y="0"/>
                </a:moveTo>
                <a:lnTo>
                  <a:pt x="48453" y="0"/>
                </a:lnTo>
                <a:lnTo>
                  <a:pt x="47053" y="1400"/>
                </a:lnTo>
                <a:lnTo>
                  <a:pt x="1400" y="1400"/>
                </a:lnTo>
                <a:close/>
              </a:path>
              <a:path fill="darken" w="48453" h="21600">
                <a:moveTo>
                  <a:pt x="48453" y="0"/>
                </a:moveTo>
                <a:lnTo>
                  <a:pt x="48453" y="21600"/>
                </a:lnTo>
                <a:lnTo>
                  <a:pt x="47053" y="20200"/>
                </a:lnTo>
                <a:lnTo>
                  <a:pt x="47053" y="1400"/>
                </a:lnTo>
                <a:close/>
              </a:path>
              <a:path fill="darkenLess" w="48453" h="21600">
                <a:moveTo>
                  <a:pt x="48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53" y="20200"/>
                </a:lnTo>
                <a:close/>
              </a:path>
              <a:path fill="lighten" w="48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华文细黑"/>
                <a:ea typeface="华文细黑"/>
              </a:rPr>
              <a:t>阅读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图片 48134" descr="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Arial"/>
              <a:ea typeface="楷体_GB2312"/>
            </a:endParaRPr>
          </a:p>
        </p:txBody>
      </p:sp>
      <p:sp>
        <p:nvSpPr>
          <p:cNvPr id="552" name="右箭头 48131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左箭头 48132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上箭头 48133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  <p:sndAc>
      <p:stSnd>
        <p:snd r:embed="rId2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图片 49158" descr="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Arial"/>
              <a:ea typeface="楷体_GB2312"/>
            </a:endParaRPr>
          </a:p>
        </p:txBody>
      </p:sp>
      <p:sp>
        <p:nvSpPr>
          <p:cNvPr id="558" name="右箭头 4915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左箭头 4915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上箭头 4915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  <p:sndAc>
      <p:stSnd>
        <p:snd r:embed="rId2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50182" descr="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Arial"/>
              <a:ea typeface="楷体_GB2312"/>
            </a:endParaRPr>
          </a:p>
        </p:txBody>
      </p:sp>
      <p:sp>
        <p:nvSpPr>
          <p:cNvPr id="564" name="右箭头 50179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左箭头 50180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上箭头 50181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  <p:sndAc>
      <p:stSnd>
        <p:snd r:embed="rId2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图片 51206" descr="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Arial"/>
              <a:ea typeface="楷体_GB2312"/>
            </a:endParaRPr>
          </a:p>
        </p:txBody>
      </p:sp>
      <p:sp>
        <p:nvSpPr>
          <p:cNvPr id="570" name="右箭头 5120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左箭头 5120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上箭头 5120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  <p:sndAc>
      <p:stSnd>
        <p:snd r:embed="rId2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图片 52230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Arial"/>
              <a:ea typeface="楷体_GB2312"/>
            </a:endParaRPr>
          </a:p>
        </p:txBody>
      </p:sp>
      <p:sp>
        <p:nvSpPr>
          <p:cNvPr id="576" name="右箭头 52227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左箭头 52228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上箭头 52229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  <p:sndAc>
      <p:stSnd>
        <p:snd r:embed="rId2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图片 53254" descr="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Arial"/>
              <a:ea typeface="楷体_GB2312"/>
            </a:endParaRPr>
          </a:p>
        </p:txBody>
      </p:sp>
      <p:sp>
        <p:nvSpPr>
          <p:cNvPr id="582" name="右箭头 53251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左箭头 53252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上箭头 53253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  <p:sndAc>
      <p:stSnd>
        <p:snd r:embed="rId2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图片 54278" descr="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Arial"/>
              <a:ea typeface="楷体_GB2312"/>
            </a:endParaRPr>
          </a:p>
        </p:txBody>
      </p:sp>
      <p:sp>
        <p:nvSpPr>
          <p:cNvPr id="588" name="右箭头 5427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左箭头 5427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上箭头 5427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  <p:sndAc>
      <p:stSnd>
        <p:snd r:embed="rId2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图片 86022" descr="0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Arial"/>
              <a:ea typeface="楷体_GB2312"/>
            </a:endParaRPr>
          </a:p>
        </p:txBody>
      </p:sp>
      <p:sp>
        <p:nvSpPr>
          <p:cNvPr id="594" name="右箭头 86019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左箭头 86020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上箭头 86021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  <p:sndAc>
      <p:stSnd>
        <p:snd r:embed="rId2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图片 55302" descr="0211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Arial"/>
              <a:ea typeface="楷体_GB2312"/>
            </a:endParaRPr>
          </a:p>
        </p:txBody>
      </p:sp>
      <p:sp>
        <p:nvSpPr>
          <p:cNvPr id="600" name="右箭头 55299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左箭头 55300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上箭头 55301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  <p:sndAc>
      <p:stSnd>
        <p:snd r:embed="rId2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56326" descr="02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Arial"/>
              <a:ea typeface="楷体_GB2312"/>
            </a:endParaRPr>
          </a:p>
        </p:txBody>
      </p:sp>
      <p:sp>
        <p:nvSpPr>
          <p:cNvPr id="606" name="右箭头 5632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左箭头 5632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上箭头 5632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  <p:sndAc>
      <p:stSnd>
        <p:snd r:embed="rId2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图片 6159" descr="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7240" y="256500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a50021"/>
                </a:solidFill>
                <a:latin typeface="Arial"/>
                <a:ea typeface="方正琥珀简体"/>
              </a:rPr>
              <a:t>伟大的悲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西风音乐1.wav" descr=""/>
          <p:cNvPicPr/>
          <p:nvPr/>
        </p:nvPicPr>
        <p:blipFill>
          <a:blip r:embed="rId2"/>
          <a:stretch/>
        </p:blipFill>
        <p:spPr>
          <a:xfrm>
            <a:off x="4267080" y="48006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503" name="右箭头 6162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左箭头 6163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上箭头 6164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  <p:sndAc>
      <p:stSnd>
        <p:snd r:embed="rId3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图片 83974" descr="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Arial"/>
              <a:ea typeface="楷体_GB2312"/>
            </a:endParaRPr>
          </a:p>
        </p:txBody>
      </p:sp>
      <p:sp>
        <p:nvSpPr>
          <p:cNvPr id="612" name="右箭头 83971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左箭头 83972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上箭头 83973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  <p:sndAc>
      <p:stSnd>
        <p:snd r:embed="rId2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图片 84998" descr="0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Arial"/>
              <a:ea typeface="楷体_GB2312"/>
            </a:endParaRPr>
          </a:p>
        </p:txBody>
      </p:sp>
      <p:sp>
        <p:nvSpPr>
          <p:cNvPr id="618" name="右箭头 8499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左箭头 8499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上箭头 8499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  <p:sndAc>
      <p:stSnd>
        <p:snd r:embed="rId2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图片 87046" descr="029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Arial"/>
              <a:ea typeface="楷体_GB2312"/>
            </a:endParaRPr>
          </a:p>
        </p:txBody>
      </p:sp>
      <p:sp>
        <p:nvSpPr>
          <p:cNvPr id="624" name="右箭头 8704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左箭头 8704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上箭头 8704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  <p:sndAc>
      <p:stSnd>
        <p:snd r:embed="rId2" name="projcto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Arial"/>
              <a:ea typeface="楷体_GB2312"/>
            </a:endParaRPr>
          </a:p>
        </p:txBody>
      </p:sp>
      <p:sp>
        <p:nvSpPr>
          <p:cNvPr id="629" name="右箭头 88067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左箭头 88068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上箭头 88069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图片 88070" descr="1_NSFN_513mtnpeaksice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43178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  <p:sndAc>
      <p:stSnd>
        <p:snd r:embed="rId2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Arial"/>
              <a:ea typeface="楷体_GB2312"/>
            </a:endParaRPr>
          </a:p>
        </p:txBody>
      </p:sp>
      <p:sp>
        <p:nvSpPr>
          <p:cNvPr id="635" name="右箭头 89091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左箭头 89092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上箭头 89093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图片 89094" descr="1_philips_3mountains"/>
          <p:cNvPicPr/>
          <p:nvPr/>
        </p:nvPicPr>
        <p:blipFill>
          <a:blip r:embed="rId1"/>
          <a:stretch/>
        </p:blipFill>
        <p:spPr>
          <a:xfrm>
            <a:off x="685800" y="801720"/>
            <a:ext cx="7772400" cy="52531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  <p:sndAc>
      <p:stSnd>
        <p:snd r:embed="rId2" name="projcto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Arial"/>
              <a:ea typeface="楷体_GB2312"/>
            </a:endParaRPr>
          </a:p>
        </p:txBody>
      </p:sp>
      <p:sp>
        <p:nvSpPr>
          <p:cNvPr id="641" name="右箭头 9011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左箭头 9011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上箭头 9011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图片 90118" descr="1_tam"/>
          <p:cNvPicPr/>
          <p:nvPr/>
        </p:nvPicPr>
        <p:blipFill>
          <a:blip r:embed="rId1"/>
          <a:stretch/>
        </p:blipFill>
        <p:spPr>
          <a:xfrm>
            <a:off x="685800" y="920880"/>
            <a:ext cx="7772400" cy="50162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  <p:sndAc>
      <p:stSnd>
        <p:snd r:embed="rId2" name="projcto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9114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Arial"/>
              <a:ea typeface="楷体_GB2312"/>
            </a:endParaRPr>
          </a:p>
        </p:txBody>
      </p:sp>
      <p:sp>
        <p:nvSpPr>
          <p:cNvPr id="648" name="右箭头 91139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左箭头 91140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上箭头 91141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  <p:sndAc>
      <p:stSnd>
        <p:snd r:embed="rId2" name="projcto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图片 99334" descr="tab20002b_pi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Arial"/>
              <a:ea typeface="楷体_GB2312"/>
            </a:endParaRPr>
          </a:p>
        </p:txBody>
      </p:sp>
      <p:sp>
        <p:nvSpPr>
          <p:cNvPr id="654" name="右箭头 99331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左箭头 99332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上箭头 99333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  <p:sndAc>
      <p:stSnd>
        <p:snd r:embed="rId2" name="projcto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图片 131082" descr="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50021"/>
                </a:solidFill>
                <a:latin typeface="Arial"/>
                <a:ea typeface="方正琥珀简体"/>
              </a:rPr>
              <a:t>伟大的悲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右箭头 13108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左箭头 13108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上箭头 13108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4360" y="5084280"/>
            <a:ext cx="76327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——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请学习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《伟大的悲剧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94920" y="10933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气候恶劣的南极，吸引了一批批勇敢的探险家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9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年底，两批探险家在南极展开了一场富于戏剧性又令人心酸的角逐，他们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挪威    阿蒙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英国    斯科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角逐的内容是：谁第一个到达南极点。这既关乎个人成就，又关乎国家荣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角逐胜败如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右箭头 10035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左箭头 10035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上箭头 10035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100358"/>
          <p:cNvSpPr txBox="1"/>
          <p:nvPr/>
        </p:nvSpPr>
        <p:spPr>
          <a:xfrm>
            <a:off x="1908000" y="2282760"/>
            <a:ext cx="496908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悲剧，为什么是伟大的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12492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720" y="2742840"/>
            <a:ext cx="71625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Arial"/>
                <a:ea typeface="华文新魏"/>
              </a:rPr>
              <a:t>南极图片欣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bbe0e3"/>
              </a:solidFill>
              <a:latin typeface="方正琥珀简体"/>
              <a:ea typeface="方正琥珀简体"/>
            </a:endParaRPr>
          </a:p>
        </p:txBody>
      </p:sp>
      <p:pic>
        <p:nvPicPr>
          <p:cNvPr id="509" name="图片 124939" descr="021-1"/>
          <p:cNvPicPr/>
          <p:nvPr/>
        </p:nvPicPr>
        <p:blipFill>
          <a:blip r:embed="rId2"/>
          <a:stretch/>
        </p:blipFill>
        <p:spPr>
          <a:xfrm>
            <a:off x="6705720" y="380880"/>
            <a:ext cx="1868400" cy="1332000"/>
          </a:xfrm>
          <a:prstGeom prst="rect">
            <a:avLst/>
          </a:prstGeom>
          <a:ln w="0">
            <a:noFill/>
          </a:ln>
        </p:spPr>
      </p:pic>
      <p:sp>
        <p:nvSpPr>
          <p:cNvPr id="510" name="右箭头 124940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左箭头 124941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上箭头 124942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  <p:sndAc>
      <p:stSnd>
        <p:snd r:embed="rId3" name="projctor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50021"/>
                </a:solidFill>
                <a:latin typeface="方正琥珀简体"/>
                <a:ea typeface="方正琥珀简体"/>
              </a:rPr>
              <a:t>作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45180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  <a:ea typeface="楷体_GB2312"/>
              </a:rPr>
              <a:t>斯蒂芬</a:t>
            </a:r>
            <a:r>
              <a:rPr b="0" lang="zh-CN" sz="4400" spc="-1" strike="noStrike">
                <a:solidFill>
                  <a:srgbClr val="ff6600"/>
                </a:solidFill>
                <a:latin typeface="Arial"/>
                <a:ea typeface="楷体_GB2312"/>
              </a:rPr>
              <a:t>·</a:t>
            </a:r>
            <a:r>
              <a:rPr b="0" lang="zh-CN" sz="4400" spc="-1" strike="noStrike">
                <a:solidFill>
                  <a:srgbClr val="ff6600"/>
                </a:solidFill>
                <a:latin typeface="Arial"/>
                <a:ea typeface="楷体_GB2312"/>
              </a:rPr>
              <a:t>茨威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（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1881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～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1942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奥地利著名小说家、传记作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/>
              </a:rPr>
              <a:t>斯蒂芬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·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/>
              </a:rPr>
              <a:t>茨威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（点击进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右箭头 3891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左箭头 3891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上箭头 3891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图片 38921" descr="茨威格2"/>
          <p:cNvPicPr/>
          <p:nvPr/>
        </p:nvPicPr>
        <p:blipFill>
          <a:blip r:embed="rId4"/>
          <a:stretch/>
        </p:blipFill>
        <p:spPr>
          <a:xfrm>
            <a:off x="5256360" y="1066680"/>
            <a:ext cx="312552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projcto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2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  <a:ea typeface="方正琥珀简体"/>
              </a:rPr>
              <a:t>茨威格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方正琥珀简体"/>
              </a:rPr>
              <a:t>写作的依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7040" y="2480760"/>
            <a:ext cx="7929720" cy="29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这篇传记是作者根据斯科特遗留下来的一些底片、电影胶卷、书信和遗书，发挥他天才的文学想像而写成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右箭头 10240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左箭头 10240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上箭头 10240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440" y="1052640"/>
            <a:ext cx="3381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预习课文 </a:t>
            </a:r>
            <a:br>
              <a:rPr sz="4400"/>
            </a:br>
            <a:r>
              <a:rPr b="0" lang="zh-CN" sz="44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 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右箭头 68610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左箭头 68611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上箭头 68612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图片 68613" descr="pic_17061"/>
          <p:cNvPicPr/>
          <p:nvPr/>
        </p:nvPicPr>
        <p:blipFill>
          <a:blip r:embed="rId1"/>
          <a:stretch/>
        </p:blipFill>
        <p:spPr>
          <a:xfrm>
            <a:off x="4951440" y="609480"/>
            <a:ext cx="3506760" cy="5639040"/>
          </a:xfrm>
          <a:prstGeom prst="rect">
            <a:avLst/>
          </a:prstGeom>
          <a:ln w="0">
            <a:noFill/>
          </a:ln>
        </p:spPr>
      </p:pic>
      <p:pic>
        <p:nvPicPr>
          <p:cNvPr id="684" name="图片 68614" descr="021-1"/>
          <p:cNvPicPr/>
          <p:nvPr/>
        </p:nvPicPr>
        <p:blipFill>
          <a:blip r:embed="rId2"/>
          <a:stretch/>
        </p:blipFill>
        <p:spPr>
          <a:xfrm>
            <a:off x="1143000" y="3809880"/>
            <a:ext cx="2819520" cy="200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文共写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人物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们的姓名和身份分别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6840" y="1684440"/>
            <a:ext cx="597060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罗伯特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·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福尔肯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·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斯科特——英国海军上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鲍尔斯—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威尔逊——博士，负责科学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埃文斯——英国海军军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劳伦斯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·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奥茨——英国皇家禁卫军的骑兵上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右箭头 6656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左箭头 6656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上箭头 6656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66566" descr="pic_17061"/>
          <p:cNvPicPr/>
          <p:nvPr/>
        </p:nvPicPr>
        <p:blipFill>
          <a:blip r:embed="rId1"/>
          <a:stretch/>
        </p:blipFill>
        <p:spPr>
          <a:xfrm>
            <a:off x="6300720" y="1557360"/>
            <a:ext cx="270216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8040" y="434520"/>
            <a:ext cx="7958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理清故事情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课文写的事件发生在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           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年，斯科特探险队一行五人精疲力尽却又满怀希望奔向南极点，却悲哀地发现已经有人捷足先登，只好垂头丧气地踏上归途，最后一个个悲壮地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右箭头 103427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左箭头 103428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上箭头 103429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103430"/>
          <p:cNvSpPr/>
          <p:nvPr/>
        </p:nvSpPr>
        <p:spPr>
          <a:xfrm>
            <a:off x="5867280" y="157464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宋体"/>
              </a:rPr>
              <a:t>19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85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者借此表达什么思想感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2176560"/>
            <a:ext cx="8229600" cy="38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——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颂扬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人类勇于探索的精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为事业而献身的精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强烈的集体主义精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右箭头 104451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左箭头 104452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上箭头 104453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3886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阅  读</a:t>
            </a:r>
            <a:br>
              <a:rPr sz="4400"/>
            </a:br>
            <a:r>
              <a:rPr b="0" lang="zh-CN" sz="44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开头３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右箭头 6963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左箭头 6963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上箭头 6963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图片 69637" descr="pic_17061"/>
          <p:cNvPicPr/>
          <p:nvPr/>
        </p:nvPicPr>
        <p:blipFill>
          <a:blip r:embed="rId1"/>
          <a:stretch/>
        </p:blipFill>
        <p:spPr>
          <a:xfrm>
            <a:off x="4951440" y="609480"/>
            <a:ext cx="3506760" cy="5639040"/>
          </a:xfrm>
          <a:prstGeom prst="rect">
            <a:avLst/>
          </a:prstGeom>
          <a:ln w="0">
            <a:noFill/>
          </a:ln>
        </p:spPr>
      </p:pic>
      <p:pic>
        <p:nvPicPr>
          <p:cNvPr id="707" name="图片 69638" descr="021-1"/>
          <p:cNvPicPr/>
          <p:nvPr/>
        </p:nvPicPr>
        <p:blipFill>
          <a:blip r:embed="rId2"/>
          <a:stretch/>
        </p:blipFill>
        <p:spPr>
          <a:xfrm>
            <a:off x="1143000" y="3809880"/>
            <a:ext cx="2819520" cy="200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520" y="556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方正琥珀简体"/>
              </a:rPr>
              <a:t>朗读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加红色的词语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60080" y="1599840"/>
            <a:ext cx="815004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　　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1912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年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月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16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日这一天，斯科特一行清晨启程，出发得比平时更早，为的是能早一点看到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无比美丽的秘密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。焦急的心情把他们早早地从自己的睡袋中了出来。到中午，这五个坚持不懈的人已走了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14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公里。他们热情高涨地行走在荒无人迹的白色雪原上，因为现在再也不可能达不到目的地了，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为人类所作的决定性的业绩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几乎已经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右箭头 101379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左箭头 101380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上箭头 101381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圆角矩形标注 101383"/>
          <p:cNvSpPr/>
          <p:nvPr/>
        </p:nvSpPr>
        <p:spPr>
          <a:xfrm>
            <a:off x="7488360" y="620640"/>
            <a:ext cx="1655640" cy="693720"/>
          </a:xfrm>
          <a:prstGeom prst="wedgeRoundRectCallout">
            <a:avLst>
              <a:gd name="adj1" fmla="val -118648"/>
              <a:gd name="adj2" fmla="val 258236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南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圆角矩形标注 101384"/>
          <p:cNvSpPr/>
          <p:nvPr/>
        </p:nvSpPr>
        <p:spPr>
          <a:xfrm>
            <a:off x="6724800" y="5734080"/>
            <a:ext cx="2023920" cy="936720"/>
          </a:xfrm>
          <a:prstGeom prst="wedgeRoundRectCallout">
            <a:avLst>
              <a:gd name="adj1" fmla="val -95490"/>
              <a:gd name="adj2" fmla="val -57458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第一个到达南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方正琥珀简体"/>
              </a:rPr>
              <a:t>朗读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注意加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红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66360" y="1742760"/>
            <a:ext cx="792972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可是突然之间，伙伴之一的鲍尔斯变得不安起来。他的眼睛紧紧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盯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着无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垠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雪地上的一个小小的黑点。他不敢把自己的猜想说出来：可能已经有人在这里树立了一个路标。但现在其他的人也都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可怕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地想到了这一点。他们的心在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战栗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右箭头 113667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左箭头 113668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上箭头 113669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圆角矩形标注 113670"/>
          <p:cNvSpPr/>
          <p:nvPr/>
        </p:nvSpPr>
        <p:spPr>
          <a:xfrm>
            <a:off x="6372360" y="836640"/>
            <a:ext cx="1368360" cy="720720"/>
          </a:xfrm>
          <a:prstGeom prst="wedgeRoundRectCallout">
            <a:avLst>
              <a:gd name="adj1" fmla="val 62412"/>
              <a:gd name="adj2" fmla="val 173347"/>
              <a:gd name="adj3" fmla="val 16667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宋体"/>
              </a:rPr>
              <a:t>y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7240" y="162828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方正琥珀简体"/>
              </a:rPr>
              <a:t>表情朗读第２自然段</a:t>
            </a:r>
            <a:br>
              <a:rPr sz="44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读出斯科特角逐失败后的极度沮丧、悲哀的心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右箭头 11776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左箭头 11776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上箭头 11776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图片 125953" descr="6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9576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cc3300"/>
              </a:solidFill>
              <a:latin typeface="方正琥珀简体"/>
              <a:ea typeface="方正琥珀简体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4279680"/>
            <a:ext cx="822960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7200" spc="-1" strike="noStrike">
              <a:solidFill>
                <a:srgbClr val="ff3300"/>
              </a:solidFill>
              <a:latin typeface="Arial"/>
              <a:ea typeface="方正隶二简体"/>
            </a:endParaRPr>
          </a:p>
        </p:txBody>
      </p:sp>
      <p:sp>
        <p:nvSpPr>
          <p:cNvPr id="516" name="右箭头 125956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左箭头 125957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上箭头 125958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  <p:sndAc>
      <p:stSnd>
        <p:snd r:embed="rId2" name="projcto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Arial"/>
              </a:rPr>
              <a:t>对人类来说，第一个到达者拥有一切，第二个到达者什么也不是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作者在这里要表达的是什么意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同意这种说法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3362400"/>
            <a:ext cx="82296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表达了斯科特角逐失败后极度沮丧、悲哀的心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作者为斯科特这个失败者作传，本身就说明作者不同意这个观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右箭头 106499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左箭头 106500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上箭头 106501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752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Arial"/>
              </a:rPr>
              <a:t>挪威国旗耀武扬威、洋洋得意地在这被人类冲破的堡垒上猎猎作响。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旗怎么会“耀武扬威”“洋洋得意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里表现出斯科特内心什么样的复杂感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3670200"/>
            <a:ext cx="82296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这是拟人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在痛苦万分的斯科特眼中，飘扬的挪威国旗就是他的对手、胜利者阿蒙森在耀武扬威、洋洋得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右箭头 10752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左箭头 10752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上箭头 10752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4560" y="31860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Arial"/>
              </a:rPr>
              <a:t>它的占领者还在这里留下一封信……他请他把那封信带给挪威的哈康国王。斯科特接受了这项任务，他要忠实地去完成这一最冷酷无情的职责：在世界面前为另一个人完成的业绩作证，而这一事业正是他自己所热烈追求的。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斯科特为什么要接受这项为他人业绩作证的任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他不接受不行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560" y="4149720"/>
            <a:ext cx="844380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因为他讲求绅士风度，主张诚信，能勇敢地承认自己的失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正因为这一行为，他的人格才显得无比高尚，也赢得了人们的尊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右箭头 108547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左箭头 108548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上箭头 108549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方正琥珀简体"/>
              </a:rPr>
              <a:t>朗读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注意加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红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　　他们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怏怏不乐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地在阿蒙森的胜利旗帜旁边插上英国国旗——一面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姗姗来迟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的“联合王国的国旗”，然后离开了这块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“辜负了他们雄心壮志”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的地方。在他们身后刮来凛冽的寒风。斯科特怀着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不祥的预感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在日记中写道：“回去的路使我感到非常可怕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右箭头 118787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左箭头 118788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上箭头 118789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圆角矩形标注 118790"/>
          <p:cNvSpPr/>
          <p:nvPr/>
        </p:nvSpPr>
        <p:spPr>
          <a:xfrm>
            <a:off x="3635280" y="5084640"/>
            <a:ext cx="1540080" cy="981360"/>
          </a:xfrm>
          <a:prstGeom prst="wedgeRoundRectCallout">
            <a:avLst>
              <a:gd name="adj1" fmla="val -92166"/>
              <a:gd name="adj2" fmla="val -181069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为什么加引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圆角矩形标注 118791"/>
          <p:cNvSpPr/>
          <p:nvPr/>
        </p:nvSpPr>
        <p:spPr>
          <a:xfrm>
            <a:off x="324000" y="620640"/>
            <a:ext cx="1209600" cy="722520"/>
          </a:xfrm>
          <a:prstGeom prst="wedgeRoundRectCallout">
            <a:avLst>
              <a:gd name="adj1" fmla="val 121652"/>
              <a:gd name="adj2" fmla="val 127143"/>
              <a:gd name="adj3" fmla="val 16667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yā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圆角矩形标注 118792"/>
          <p:cNvSpPr/>
          <p:nvPr/>
        </p:nvSpPr>
        <p:spPr>
          <a:xfrm>
            <a:off x="7143840" y="5300640"/>
            <a:ext cx="1100160" cy="800280"/>
          </a:xfrm>
          <a:prstGeom prst="wedgeRoundRectCallout">
            <a:avLst>
              <a:gd name="adj1" fmla="val 1805"/>
              <a:gd name="adj2" fmla="val -174800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3886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阅  读</a:t>
            </a:r>
            <a:br>
              <a:rPr sz="4400"/>
            </a:br>
            <a:r>
              <a:rPr b="0" lang="zh-CN" sz="44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4-13</a:t>
            </a:r>
            <a:r>
              <a:rPr b="0" lang="zh-CN" sz="44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右箭头 70658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左箭头 70659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上箭头 70660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图片 70661" descr="pic_17061"/>
          <p:cNvPicPr/>
          <p:nvPr/>
        </p:nvPicPr>
        <p:blipFill>
          <a:blip r:embed="rId1"/>
          <a:stretch/>
        </p:blipFill>
        <p:spPr>
          <a:xfrm>
            <a:off x="4951440" y="609480"/>
            <a:ext cx="3506760" cy="563904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70662" descr="021-1"/>
          <p:cNvPicPr/>
          <p:nvPr/>
        </p:nvPicPr>
        <p:blipFill>
          <a:blip r:embed="rId2"/>
          <a:stretch/>
        </p:blipFill>
        <p:spPr>
          <a:xfrm>
            <a:off x="1042920" y="3357720"/>
            <a:ext cx="2819520" cy="2009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58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方正琥珀简体"/>
              </a:rPr>
              <a:t>注音，释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以免错过事先设置的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贮藏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点——在那里储存着他们的食物、衣服和凝聚着热量的几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加仑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煤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但是漫天大雪封住了他们的眼睛，使他们每走一步都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忧心忡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与其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说盼望着回家，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毋宁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说更害怕回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刺骨的寒冷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吞噬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着他们已经疲惫不堪的躯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右箭头 65539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左箭头 65540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上箭头 65541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方正琥珀简体"/>
              </a:rPr>
              <a:t>注音，释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从他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语无伦次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的话里，他们终于明白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于是病人只好用冻伤了的双腿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踉踉跄跄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地又走了若干公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现在只有三个疲惫、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羸弱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的人吃力地拖着自己的脚步……迈着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蹒跚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的步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他们的燃料已经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告罄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右箭头 132099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左箭头 132100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上箭头 132101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方正琥珀简体"/>
              </a:rPr>
              <a:t>注音，释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他们知道再也不会有任何奇迹能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拯救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他们了，于是决定不再迈步向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厄运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走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但是在这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白雪皑皑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的荒漠上，只有心中的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海市蜃楼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，它召来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在它们上面补写了可怕的“我的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遗孀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右箭头 13312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左箭头 13312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上箭头 13312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6600cc"/>
                </a:solidFill>
                <a:latin typeface="Arial"/>
              </a:rPr>
              <a:t>回来的路程危险增加了十倍”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请用课文内容证明这句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19120" y="211608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必须顺着自己原来的足迹走去，……绝对不能偏离自己原来的脚印，以免错过事先设置的贮藏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他们的脚早已冻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奥茨已经在用冻掉了脚趾的脚板行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他们的燃料已经告罄，而温度计却指在零下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40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摄氏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右箭头 121859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左箭头 121860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上箭头 121861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121862"/>
          <p:cNvSpPr txBox="1"/>
          <p:nvPr/>
        </p:nvSpPr>
        <p:spPr>
          <a:xfrm>
            <a:off x="5867280" y="2708280"/>
            <a:ext cx="167652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作用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Arial"/>
              </a:rPr>
              <a:t>一天，伙伴们可怕地发觉，他们中间最身强力壮的埃文斯突然精神失常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埃文斯为什么突然精神失常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2522160"/>
            <a:ext cx="822960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由于巨大的痛苦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痛苦”指的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恶劣气候的摧残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角逐失败的痛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右箭头 12083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左箭头 12083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上箭头 12083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126977" descr="菲尔德斯半岛西海岸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Arial"/>
              <a:ea typeface="楷体_GB2312"/>
            </a:endParaRPr>
          </a:p>
        </p:txBody>
      </p:sp>
      <p:sp>
        <p:nvSpPr>
          <p:cNvPr id="522" name="右箭头 126980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左箭头 126981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上箭头 126982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  <p:sndAc>
      <p:stSnd>
        <p:snd r:embed="rId2" name="projctor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42720" y="691920"/>
            <a:ext cx="8458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Arial"/>
              </a:rPr>
              <a:t>奥茨突然站起身来，对朋友们说：“我要到外边去走走，可能要多呆一些时候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奥茨要去干什么？他为什么要这样做？请从文中找出根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34196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他“像一个英雄似的向死神走去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奥茨不仅感觉到，而且心里也明白，这样下去，他会给朋友们带来厄运，于是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右箭头 12288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左箭头 12288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上箭头 12288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Arial"/>
              </a:rPr>
              <a:t>　　现在只有三个疲惫、羸弱的人吃力地拖着自己的脚步，穿过那茫茫无际、像铁一般坚硬的冰雪荒原。</a:t>
            </a:r>
            <a:br>
              <a:rPr sz="3200"/>
            </a:br>
            <a:r>
              <a:rPr b="0" lang="zh-CN" sz="3200" spc="-1" strike="noStrike">
                <a:solidFill>
                  <a:srgbClr val="6600cc"/>
                </a:solidFill>
                <a:latin typeface="Arial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三个人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344240" y="3192120"/>
            <a:ext cx="3227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斯科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鲍尔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威尔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右箭头 67587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左箭头 67588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上箭头 67589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图片 67590" descr="pic_17062"/>
          <p:cNvPicPr/>
          <p:nvPr/>
        </p:nvPicPr>
        <p:blipFill>
          <a:blip r:embed="rId1"/>
          <a:srcRect l="0" t="0" r="0" b="-40"/>
          <a:stretch/>
        </p:blipFill>
        <p:spPr>
          <a:xfrm>
            <a:off x="5486400" y="1905120"/>
            <a:ext cx="26766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Arial"/>
              </a:rPr>
              <a:t>但是在这白雪皑皑的荒漠上，只有心中的海市蜃楼，它召来那些由于爱情、忠诚和友谊曾经同他有过联系的各种人的形象，他给所有这些人留下了话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联系上下文看，“内心中的海市蜃楼”是什么意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为什么要这样比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7240" y="357300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指斯科特临死前回忆的美好的往事和他对祖国、亲人和朋友的怀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海市蜃楼是美好的，却是根本无法实现的。这样比喻更加突出了悲剧效果给人心灵的冲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右箭头 109571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左箭头 109572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上箭头 109573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928800"/>
            <a:ext cx="7773840" cy="29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6600cc"/>
                </a:solidFill>
                <a:latin typeface="Arial"/>
              </a:rPr>
              <a:t>月</a:t>
            </a:r>
            <a:r>
              <a:rPr b="0" lang="zh-CN" sz="3600" spc="-1" strike="noStrike">
                <a:solidFill>
                  <a:srgbClr val="6600cc"/>
                </a:solidFill>
                <a:latin typeface="Arial"/>
              </a:rPr>
              <a:t>29</a:t>
            </a:r>
            <a:r>
              <a:rPr b="0" lang="zh-CN" sz="3600" spc="-1" strike="noStrike">
                <a:solidFill>
                  <a:srgbClr val="6600cc"/>
                </a:solidFill>
                <a:latin typeface="Arial"/>
              </a:rPr>
              <a:t>日，他们知道再也不会有任何奇迹能拯救他们了，于是决定不再迈步向厄运走去，而是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骄傲地</a:t>
            </a:r>
            <a:r>
              <a:rPr b="0" lang="zh-CN" sz="3600" spc="-1" strike="noStrike">
                <a:solidFill>
                  <a:srgbClr val="6600cc"/>
                </a:solidFill>
                <a:latin typeface="Arial"/>
              </a:rPr>
              <a:t>在帐篷里等待死神的来临……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为什么是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“骄傲地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地等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410364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  <a:ea typeface="楷体_GB2312"/>
              </a:rPr>
              <a:t>请说出你的理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  <a:ea typeface="楷体_GB2312"/>
              </a:rPr>
              <a:t>此题没有“标准答案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右箭头 123907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左箭头 123908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上箭头 123909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3886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阅  读</a:t>
            </a:r>
            <a:br>
              <a:rPr sz="4400"/>
            </a:br>
            <a:r>
              <a:rPr b="0" lang="zh-CN" sz="44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结尾两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右箭头 71682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左箭头 71683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上箭头 71684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图片 71685" descr="pic_17061"/>
          <p:cNvPicPr/>
          <p:nvPr/>
        </p:nvPicPr>
        <p:blipFill>
          <a:blip r:embed="rId1"/>
          <a:stretch/>
        </p:blipFill>
        <p:spPr>
          <a:xfrm>
            <a:off x="4951440" y="609480"/>
            <a:ext cx="3506760" cy="563904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71686" descr="021-1"/>
          <p:cNvPicPr/>
          <p:nvPr/>
        </p:nvPicPr>
        <p:blipFill>
          <a:blip r:embed="rId2"/>
          <a:stretch/>
        </p:blipFill>
        <p:spPr>
          <a:xfrm>
            <a:off x="1143000" y="3809880"/>
            <a:ext cx="2819520" cy="200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125712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在英国国家主教堂里，国王跪下来悼念这几位英雄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写 “国王跪下来悼念这几位英雄”是什么意图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3839760"/>
            <a:ext cx="822960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从侧面烘托这几位英雄的崇高精神感人之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右箭头 11571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左箭头 11571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上箭头 11571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3520" y="620280"/>
            <a:ext cx="80769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Arial"/>
              </a:rPr>
              <a:t>一个人虽然在同不可战胜的厄运的搏斗中毁灭了自己，但他的心灵却因此变得无比高尚。所有这些在一切时代都是最伟大的悲剧。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话表达的是什么意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全文中起什么作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33160" y="3733560"/>
            <a:ext cx="81565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斯科特虽然失败了，但他的心灵经受了考验，变得无比高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一切高尚的毁灭当然是伟大的悲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这句话是主旨句，起点题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右箭头 11059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左箭头 11059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上箭头 11059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3886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归纳 复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右箭头 72706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左箭头 72707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上箭头 72708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72709" descr="pic_17061"/>
          <p:cNvPicPr/>
          <p:nvPr/>
        </p:nvPicPr>
        <p:blipFill>
          <a:blip r:embed="rId1"/>
          <a:stretch/>
        </p:blipFill>
        <p:spPr>
          <a:xfrm>
            <a:off x="4951440" y="609480"/>
            <a:ext cx="3506760" cy="5639040"/>
          </a:xfrm>
          <a:prstGeom prst="rect">
            <a:avLst/>
          </a:prstGeom>
          <a:ln w="0">
            <a:noFill/>
          </a:ln>
        </p:spPr>
      </p:pic>
      <p:pic>
        <p:nvPicPr>
          <p:cNvPr id="822" name="图片 72710" descr="021-1"/>
          <p:cNvPicPr/>
          <p:nvPr/>
        </p:nvPicPr>
        <p:blipFill>
          <a:blip r:embed="rId2"/>
          <a:stretch/>
        </p:blipFill>
        <p:spPr>
          <a:xfrm>
            <a:off x="1143000" y="3809880"/>
            <a:ext cx="2819520" cy="200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19120" y="9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斯科特和他的探险队员们表现出人类怎样的优秀品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19120" y="224964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诚信，有令人敬佩的绅士风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坚毅，执著，为事业而献身的英雄气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强烈的集体主义精神。为了保护同伴勇于献出自己的生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无私的爱。在生命的最后一息心中惦记的始终是别人：朋友、同伴、妻小，还有他的祖国和人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右箭头 11264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左箭头 11264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上箭头 11264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87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读一读，写一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957240" y="1196640"/>
            <a:ext cx="743112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拽　无垠　癫狂　凛冽　吞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销蚀　羸弱　步履　告罄　遗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坚持不懈　千辛万苦　风餐露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夜不成眠　精疲力竭　闷闷不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毛骨悚然　耀武扬威　洋洋得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怏怏不乐　姗姗来迟　忧心忡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疲惫不堪　畏缩不前　鲁莽大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念念有词　语无伦次　精打细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与其……毋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右箭头 114691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左箭头 114692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上箭头 114693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8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8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图片 128001" descr="日落西海岸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96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Arial"/>
              <a:ea typeface="楷体_GB2312"/>
            </a:endParaRPr>
          </a:p>
        </p:txBody>
      </p:sp>
      <p:sp>
        <p:nvSpPr>
          <p:cNvPr id="528" name="右箭头 12800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左箭头 12800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上箭头 12800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  <p:sndAc>
      <p:stSnd>
        <p:snd r:embed="rId2" name="projctor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147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茨威格为何不给胜利者阿蒙森作传，却充满激情地为失败者斯科特书写这悲壮的一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32194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作为一位伟大的作家，茨威格想到的绝不仅是事业的成功者，而是事件背后给人精神上的震撼和启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右箭头 111619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左箭头 111620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上箭头 111621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9700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说一说：课文中哪些细节最让你激动难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08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历尽艰险到达极点，等待他们的却是占领者阿蒙森留下的国旗和信件，并要斯科特这个失败者为他的业绩作证，而斯科特居然接受了这项任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威尔逊博士在离死神只有寸步之遥的时候，仍坚持科学观察，并拖着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16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公斤的岩石样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奥茨要求给他十片吗啡，以图尽快结束自己，其他队员坚决拒绝了他的要求；第二天，他独自走向了帐篷外的茫茫风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斯科特极其冷静地将日记记录到他生命的最后一息，直到他的手指完全冻僵，笔从手中滑下来为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右箭头 10547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左箭头 10547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上箭头 10547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500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500"/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440" y="185400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扩展 迁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Arial"/>
              <a:ea typeface="楷体_GB2312"/>
            </a:endParaRPr>
          </a:p>
        </p:txBody>
      </p:sp>
      <p:sp>
        <p:nvSpPr>
          <p:cNvPr id="845" name="右箭头 45060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左箭头 45061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上箭头 45062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图片 45063" descr="pic_17061"/>
          <p:cNvPicPr/>
          <p:nvPr/>
        </p:nvPicPr>
        <p:blipFill>
          <a:blip r:embed="rId1"/>
          <a:stretch/>
        </p:blipFill>
        <p:spPr>
          <a:xfrm>
            <a:off x="4951440" y="609480"/>
            <a:ext cx="3506760" cy="563904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45064" descr="021-1"/>
          <p:cNvPicPr/>
          <p:nvPr/>
        </p:nvPicPr>
        <p:blipFill>
          <a:blip r:embed="rId2"/>
          <a:stretch/>
        </p:blipFill>
        <p:spPr>
          <a:xfrm>
            <a:off x="1143000" y="3809880"/>
            <a:ext cx="2819520" cy="200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图片 78861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78862" descr="021-1"/>
          <p:cNvPicPr/>
          <p:nvPr/>
        </p:nvPicPr>
        <p:blipFill>
          <a:blip r:embed="rId2"/>
          <a:stretch/>
        </p:blipFill>
        <p:spPr>
          <a:xfrm>
            <a:off x="6705720" y="380880"/>
            <a:ext cx="1868400" cy="1332000"/>
          </a:xfrm>
          <a:prstGeom prst="rect">
            <a:avLst/>
          </a:prstGeom>
          <a:ln w="0">
            <a:noFill/>
          </a:ln>
        </p:spPr>
      </p:pic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be0e3"/>
                </a:solidFill>
                <a:latin typeface="Arial"/>
                <a:ea typeface="方正琥珀简体"/>
              </a:rPr>
              <a:t>网上阅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31921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/>
              </a:rPr>
              <a:t>神秘的南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/>
              </a:rPr>
              <a:t>斯格特日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右箭头 78851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左箭头 78852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上箭头 78853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5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129025" descr="冰雪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Arial"/>
              <a:ea typeface="楷体_GB2312"/>
            </a:endParaRPr>
          </a:p>
        </p:txBody>
      </p:sp>
      <p:sp>
        <p:nvSpPr>
          <p:cNvPr id="534" name="右箭头 129028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左箭头 129029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上箭头 129030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  <p:sndAc>
      <p:stSnd>
        <p:snd r:embed="rId2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图片 130049" descr="风雪山海关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95360" y="2642400"/>
            <a:ext cx="815328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9600" spc="-1" strike="noStrike">
              <a:solidFill>
                <a:srgbClr val="ff3300"/>
              </a:solidFill>
              <a:latin typeface="Arial"/>
              <a:ea typeface="华文彩云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5036760"/>
            <a:ext cx="82296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方正琥珀简体"/>
              <a:ea typeface="方正琥珀简体"/>
            </a:endParaRPr>
          </a:p>
        </p:txBody>
      </p:sp>
      <p:sp>
        <p:nvSpPr>
          <p:cNvPr id="540" name="右箭头 130052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左箭头 130053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上箭头 130054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  <p:sndAc>
      <p:stSnd>
        <p:snd r:embed="rId2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47110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Arial"/>
              <a:ea typeface="楷体_GB2312"/>
            </a:endParaRPr>
          </a:p>
        </p:txBody>
      </p:sp>
      <p:sp>
        <p:nvSpPr>
          <p:cNvPr id="546" name="右箭头 47107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左箭头 47108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上箭头 47109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  <p:sndAc>
      <p:stSnd>
        <p:snd r:embed="rId2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31T01:48:17Z</dcterms:created>
  <dc:creator>ppt课件网（www.pptkj.net）</dc:creator>
  <dc:description>ppt课件网（www.pptkj.net）</dc:description>
  <cp:keywords>ppt课件网（www.pptkj.net）</cp:keywords>
  <dc:language>en-US</dc:language>
  <cp:lastModifiedBy>Administrator</cp:lastModifiedBy>
  <dcterms:modified xsi:type="dcterms:W3CDTF">2019-12-31T01:48:41Z</dcterms:modified>
  <cp:revision>3</cp:revision>
  <dc:subject>ppt课件网（www.pptkj.net）</dc:subject>
  <dc:title>ppt课件网（www.pptkj.net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05</vt:lpwstr>
  </property>
</Properties>
</file>