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11D-AEB6-4F5D-AEEE-81700ED3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951-071B-4F63-9022-E7D09C5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D5C2-31B9-4CED-AB1A-004B0E6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4198-884B-4ACB-B143-327B1DE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9A7AC-1E8F-4FDB-86A4-8A1CE03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5B8A5-C888-4D8D-AB69-4238697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AFB2-CC97-4E28-8FB4-0D8E7D1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949B5-98BA-4F93-956F-5FD0E0D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1C7D9-CBAA-4F69-8A88-9483DE4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611E-BBDE-4A5C-BECD-3A40B896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EAA3-06D6-4194-909F-C8930A3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F805-BDAA-44B8-B2CF-BA28E0BC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23E-4FC9-425D-A576-60F9DCEB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EFE5-B12C-41A8-A4C9-28265CFE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9E23-AF39-44B5-A839-DAABC9D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51E11-ECE7-44CA-8223-D583D6A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04B84-020E-4D4D-B4E4-49F93A28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8EBC1-5901-413E-9800-EE74C8E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9E682-AB85-4620-BE1B-21E10D2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CB46C-C3B0-454C-8FF4-6291FD7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6F044-0E94-4874-BD73-051319F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9F4B5-3857-4C7A-976E-3A4FCD3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CE53-3ADC-446E-87D1-3932380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632-F58A-4535-9255-0B67A9C0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F0293-8D49-4FD1-B839-18C90368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41CB7-00FE-464D-BE71-F0A6BE8E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8EF8-2763-4E35-80A6-0DA8637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1131B-65BB-4F01-9104-4275B59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C2BF-28DC-492D-94D0-F39A0BE5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67D4D-494D-404C-9FF2-0FA38B9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1BC1-9764-44C5-980B-4BE8825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1C26B-3C17-4032-B2DD-B963AEE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2DAD-C2FE-454F-9160-39C1AF2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ACB38-FB8E-4D84-B8C8-697B9D9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9EA-50FF-4256-A947-D5263ED8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C5E0C-D66E-4668-8992-D9F1166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21F50-E3C2-4E83-945B-0AFFC2C8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BFA6-CE81-4D61-BFC0-89136E05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ABDDC-8EDA-4D91-8EA0-8ECCA543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8D696-49C1-40A6-BA3D-6135583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B4CFD-D703-4705-A479-E2C4522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AF1CB-E90B-431C-B920-D9BADA3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FF2F7-6D13-43AE-9075-AAB1472B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D374E-A729-4525-BA99-3E1EC75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9756F-294F-4B0F-BB39-242CE6F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4587-4295-4757-8955-A39A560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907BB-BB68-4E79-8FAD-A90D26E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21A64-0E64-4511-B858-77CC54B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61290-894B-4A5B-BD65-9BE6E9D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977A-4CB3-4A7E-A592-995871AE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47D3B-A612-4206-9CB2-E700E2B0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9C2-FD50-43E8-AA30-42B2871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A5E9-134C-4F8D-9F47-5814F1F4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279-68F9-4284-AE18-15BA6E0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0D0A-3AD3-48DE-98AD-555647C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78D7-DF81-4314-A809-3DC1372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59D-145B-48B0-B996-5D4AE455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9D1B-BDB0-4A5F-9D72-C8130C3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B0B-0BD5-4A1A-9B04-1321BA3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343A-C336-4C80-8E86-3BEC38E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7D2-3B3B-432C-91D7-97BEA49F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3143-9DAE-4BF4-AD36-11918CB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0BA7-A4B0-4B87-AAD2-81CA2F0C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8620-F2FA-4017-97E8-503BD92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3793-4BFF-49E1-B2AA-79041D7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E8F0-5606-4BDD-BDF7-52F9899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6233-B3DD-42E9-9EB0-DCC86F8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57D-0E72-4678-9744-3866518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CE11-BF80-4A36-8582-8AAD061B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9927-2278-499A-90EE-B22E417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212A-FE61-41A5-A95B-91A7AB8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0903-DC5E-4455-AA68-D41C79F3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AB0F-DF26-4552-ABBF-912DC22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A197-E548-4607-8AC3-4F23817E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7EF3-0EE1-45BA-A236-4DF21301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11DE-86BB-4CC3-AB0A-A6B3778E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584A-3B55-4070-8590-117C543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12923-D2E5-4983-BAF3-A0FA8CC5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016-DFBD-45EF-ACE3-55E460B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4C02-F7AD-4EB6-8762-632EEC1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BF1B-C42E-47FD-ACBA-766C94A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6116-EBAD-4DFC-8B81-D69D0085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BA8B-E710-49E0-9C7A-BE7E31B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3D08-7BF2-4C52-B75A-38F6896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FF8C-F769-4987-82DC-AD67B38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F046-8B9C-4487-9881-DC0EDD7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E146-9CB2-44CC-A699-581E620C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691E-6E22-48D1-8F81-440C8175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B4CD-1F51-4030-9F2D-E877D3DC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225-3490-41B2-BCAA-5E341EE6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7A61-8739-4538-9796-CEC0F03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DEE2-FBB7-48DA-AF09-CF8117EC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9EDC-E822-4D6F-AD72-36D9E50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15E5-DC64-4DDE-8643-7F5C3D34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B167-0FA0-4880-B67B-51768EB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4A04-8D33-41E5-866E-7BB0C07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17AD-54EE-402F-A907-D3315E5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2788-8432-4136-9956-D61F184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439E-230A-4DE0-A53A-0C4B4DDE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B718-3CE8-4E7E-8B3A-EAFBE4F3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DBE-78D2-43B2-83B2-882CA58B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9ABA-4FDD-4343-A7BD-BD9C55CE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B282-1D18-4B4A-A3C1-90151204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1466-677C-433D-8444-2750877F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157C-15FF-4ED1-B441-BF5C765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EDFE-C070-47E1-911C-3FDA027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BC5F-EB3E-482C-B05B-AB67B8C7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709D-96D3-4E91-BEB1-9FF193F3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B966-6962-40B7-BA82-415F1F1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49B3-F38A-4507-8A14-A16E326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426B-BEC8-40C2-8A22-8CA6B7A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697-B936-432A-B8D1-82F8B1A7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1B66-96EB-4288-95BA-5368C08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16AA-29BD-4B43-A7B8-8809D6FE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0FB5-117C-45C9-A030-258DCB60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3202-16A0-4B16-9A4E-4B8BBC87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3AA0E-9E77-4E72-82A1-6F5293FB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5EC8-F0C7-490C-8A97-8394BCD4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B8D4-78A3-4A4C-8738-DBACC8F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7875-7B68-44AC-BB79-082485A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3FFA-AE6C-43DF-8F27-47725E1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E33C3-0F84-4EE9-AEC1-294BB4E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B37-0024-4E3C-A2B2-074182C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59F6-942B-4721-BF67-D581935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27F65-6C14-4929-AB69-425A6FF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93869-07E8-4C79-8CD1-924C72D0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1019-AC72-47FE-BE57-E40D8F42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7814-2B26-4058-9F2C-37A61197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DD03-551B-474F-ABA9-3D8D0FC8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349F1-F702-4714-9EC7-5FFA4DB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FFAF-D8B1-4696-A2D2-C496884A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D6F8-DEBB-476A-874C-59D05D39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12498-54DE-4D29-B459-EF97524A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831-4215-4C2E-9029-0DC5EBB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3FF79-CAB6-44A1-9EAF-14D85AC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6522-EAB9-4819-9BED-4D54B6DD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10B5B-3BFC-4459-AD7E-C9C2A6D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E89BC-31D1-49F4-BD85-E2DC1B0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1425-24F8-4C87-B601-2999617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A7BF-6539-4DD6-B9C4-B3FCAB97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F0B76-187C-4B31-89DA-F6CBD365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71FFC-E5B1-4342-9094-F0B657D6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A1ADF-D1A4-4BC2-B45E-BD7FDEC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6FBA-B9F6-4CC2-94F8-2E1922C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21AD-E409-4AE3-946F-3915CA4B6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3760-EDF0-4C91-9EB0-FB888B24B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CB3-93D3-4D27-996D-CA529E923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BF8B-852A-41E5-9595-9EC0EF5A2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A43B-3047-414A-B598-7CCA3CF66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B9E-E3A5-41A5-9CFA-7F8B65F57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9E9-BA05-4D06-942F-BBF31532E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0EE-23B8-4407-87D8-EB400A610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D6A-C4D4-4260-A82C-A6E7BE4CF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D41A-54F9-4BAA-87D3-F56F4EF22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63D-43BB-4498-9BFD-7923B5B14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C7E-AD06-4E8B-9C32-9CC2EF8CC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166913"/>
          <p:cNvSpPr/>
          <p:nvPr/>
        </p:nvSpPr>
        <p:spPr>
          <a:xfrm>
            <a:off x="395280" y="0"/>
            <a:ext cx="64803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ahoma"/>
                <a:ea typeface="隶书"/>
              </a:rPr>
              <a:t>广而告之：（电视广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66914"/>
          <p:cNvSpPr/>
          <p:nvPr/>
        </p:nvSpPr>
        <p:spPr>
          <a:xfrm>
            <a:off x="431640" y="7650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广告一：补铁、补血，效果好！补血口服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66915"/>
          <p:cNvSpPr/>
          <p:nvPr/>
        </p:nvSpPr>
        <p:spPr>
          <a:xfrm>
            <a:off x="395280" y="1913040"/>
            <a:ext cx="799308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广告二：健康的体魄，来源于“碘碘”滴滴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66916"/>
          <p:cNvSpPr/>
          <p:nvPr/>
        </p:nvSpPr>
        <p:spPr>
          <a:xfrm>
            <a:off x="468360" y="3065400"/>
            <a:ext cx="900108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广告三：万丈高楼平地起，层层都是“钙”起来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66917"/>
          <p:cNvSpPr/>
          <p:nvPr/>
        </p:nvSpPr>
        <p:spPr>
          <a:xfrm>
            <a:off x="466560" y="4365720"/>
            <a:ext cx="8498160" cy="132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广告四：聪明伶俐，坚持补锌；有锌万事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用心的妈妈会用“锌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76129"/>
          <p:cNvSpPr/>
          <p:nvPr/>
        </p:nvSpPr>
        <p:spPr>
          <a:xfrm>
            <a:off x="1835280" y="1197000"/>
            <a:ext cx="266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76130"/>
          <p:cNvSpPr/>
          <p:nvPr/>
        </p:nvSpPr>
        <p:spPr>
          <a:xfrm>
            <a:off x="971640" y="17208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十年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西兰有一个牧场的大片牧草长势很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的甚至发黄枯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使使用了大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也无济于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偶然发现牧场内的一小片牧草长得十分茂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一片”绿洲”的附近有一座钼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矿工每天上下班总是抄近路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们的鞋子个踩过的地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牧草绿油油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经过科学家的化验和分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公顷牧草只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克钼就足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76131"/>
          <p:cNvSpPr txBox="1"/>
          <p:nvPr/>
        </p:nvSpPr>
        <p:spPr>
          <a:xfrm>
            <a:off x="539640" y="333360"/>
            <a:ext cx="22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资料分析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8" name="文本框 176132"/>
          <p:cNvSpPr/>
          <p:nvPr/>
        </p:nvSpPr>
        <p:spPr>
          <a:xfrm>
            <a:off x="1044720" y="530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通过分析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你能得出什么结论呢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176133" descr="PE02097_"/>
          <p:cNvPicPr/>
          <p:nvPr/>
        </p:nvPicPr>
        <p:blipFill>
          <a:blip r:embed="rId1"/>
          <a:stretch/>
        </p:blipFill>
        <p:spPr>
          <a:xfrm>
            <a:off x="6443640" y="260280"/>
            <a:ext cx="226692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177153"/>
          <p:cNvSpPr/>
          <p:nvPr/>
        </p:nvSpPr>
        <p:spPr>
          <a:xfrm>
            <a:off x="53964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识记：几种微量元素在生物体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68360" y="1916280"/>
          <a:ext cx="8423280" cy="4771800"/>
        </p:xfrm>
        <a:graphic>
          <a:graphicData uri="http://schemas.openxmlformats.org/drawingml/2006/table">
            <a:tbl>
              <a:tblPr/>
              <a:tblGrid>
                <a:gridCol w="1662120"/>
                <a:gridCol w="3889440"/>
                <a:gridCol w="287172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微量元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在生物体中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缺乏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促进花粉的萌发和花粉管的伸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花而不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Z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植物体不能合成生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使人发育受影响，性器官的发育不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合成甲状腺激素的原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甲状腺肿大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代谢率降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合成血红蛋白的原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抗氧化作用（防止氧化作用对细胞和组织的损伤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隶书"/>
                          <a:ea typeface="华文隶书"/>
                        </a:rPr>
                        <a:t>克山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强壮牙和骨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华文隶书"/>
                          <a:ea typeface="华文隶书"/>
                        </a:rPr>
                        <a:t>蛀牙（龋齿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2" name="矩形 177188"/>
          <p:cNvSpPr/>
          <p:nvPr/>
        </p:nvSpPr>
        <p:spPr>
          <a:xfrm>
            <a:off x="539640" y="26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微量元素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钼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是生物体不可缺少的必需元素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在生物体中含量很少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但其作用是其它元素不可替代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78177"/>
          <p:cNvSpPr/>
          <p:nvPr/>
        </p:nvSpPr>
        <p:spPr>
          <a:xfrm>
            <a:off x="1835280" y="134136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78178"/>
          <p:cNvSpPr txBox="1"/>
          <p:nvPr/>
        </p:nvSpPr>
        <p:spPr>
          <a:xfrm>
            <a:off x="324000" y="4508640"/>
            <a:ext cx="122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仿宋_GB2312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仿宋_GB2312"/>
              <a:ea typeface="仿宋_GB2312"/>
            </a:endParaRPr>
          </a:p>
        </p:txBody>
      </p:sp>
      <p:sp>
        <p:nvSpPr>
          <p:cNvPr id="555" name="文本框 178179"/>
          <p:cNvSpPr/>
          <p:nvPr/>
        </p:nvSpPr>
        <p:spPr>
          <a:xfrm>
            <a:off x="1692360" y="443700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组成细胞的各种元素又是以什么形式存在的呢</a:t>
            </a: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178180"/>
          <p:cNvGrpSpPr/>
          <p:nvPr/>
        </p:nvGrpSpPr>
        <p:grpSpPr>
          <a:xfrm>
            <a:off x="1692360" y="5805360"/>
            <a:ext cx="2665440" cy="730440"/>
            <a:chOff x="1692360" y="5805360"/>
            <a:chExt cx="2665440" cy="730440"/>
          </a:xfrm>
        </p:grpSpPr>
        <p:grpSp>
          <p:nvGrpSpPr>
            <p:cNvPr id="557" name="组合 178181"/>
            <p:cNvGrpSpPr/>
            <p:nvPr/>
          </p:nvGrpSpPr>
          <p:grpSpPr>
            <a:xfrm>
              <a:off x="1925640" y="5805360"/>
              <a:ext cx="2432160" cy="730440"/>
              <a:chOff x="1925640" y="5805360"/>
              <a:chExt cx="2432160" cy="730440"/>
            </a:xfrm>
          </p:grpSpPr>
          <p:sp>
            <p:nvSpPr>
              <p:cNvPr id="558" name="文本框 178182"/>
              <p:cNvSpPr/>
              <p:nvPr/>
            </p:nvSpPr>
            <p:spPr>
              <a:xfrm>
                <a:off x="2197080" y="5832360"/>
                <a:ext cx="2160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Arial"/>
                    <a:ea typeface="华文新魏"/>
                  </a:rPr>
                  <a:t>化合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矩形 178183"/>
              <p:cNvSpPr/>
              <p:nvPr/>
            </p:nvSpPr>
            <p:spPr>
              <a:xfrm>
                <a:off x="1925640" y="580536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直接连接符 178184"/>
            <p:cNvSpPr/>
            <p:nvPr/>
          </p:nvSpPr>
          <p:spPr>
            <a:xfrm>
              <a:off x="1692360" y="61736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文本框 178185"/>
          <p:cNvSpPr/>
          <p:nvPr/>
        </p:nvSpPr>
        <p:spPr>
          <a:xfrm>
            <a:off x="611280" y="1052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华文隶书"/>
              </a:rPr>
              <a:t>（三）、组成生物体的元素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78186"/>
          <p:cNvSpPr/>
          <p:nvPr/>
        </p:nvSpPr>
        <p:spPr>
          <a:xfrm>
            <a:off x="611280" y="1916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华文隶书"/>
              </a:rPr>
              <a:t>细胞结构的重要组成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78187"/>
          <p:cNvSpPr/>
          <p:nvPr/>
        </p:nvSpPr>
        <p:spPr>
          <a:xfrm>
            <a:off x="611280" y="2708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华文隶书"/>
              </a:rPr>
              <a:t>与蛋白质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78188"/>
          <p:cNvSpPr/>
          <p:nvPr/>
        </p:nvSpPr>
        <p:spPr>
          <a:xfrm>
            <a:off x="611280" y="351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调节机体生命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78189"/>
          <p:cNvSpPr/>
          <p:nvPr/>
        </p:nvSpPr>
        <p:spPr>
          <a:xfrm>
            <a:off x="684360" y="40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文本框 179201"/>
          <p:cNvSpPr/>
          <p:nvPr/>
        </p:nvSpPr>
        <p:spPr>
          <a:xfrm>
            <a:off x="684360" y="242100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构成细胞的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左大括号 179202"/>
          <p:cNvSpPr/>
          <p:nvPr/>
        </p:nvSpPr>
        <p:spPr>
          <a:xfrm>
            <a:off x="1979640" y="1700280"/>
            <a:ext cx="504720" cy="2881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79203"/>
          <p:cNvSpPr/>
          <p:nvPr/>
        </p:nvSpPr>
        <p:spPr>
          <a:xfrm>
            <a:off x="2484360" y="1484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机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79204"/>
          <p:cNvSpPr/>
          <p:nvPr/>
        </p:nvSpPr>
        <p:spPr>
          <a:xfrm>
            <a:off x="2411280" y="4076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有机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左大括号 179205"/>
          <p:cNvSpPr/>
          <p:nvPr/>
        </p:nvSpPr>
        <p:spPr>
          <a:xfrm>
            <a:off x="4788000" y="1268280"/>
            <a:ext cx="215640" cy="1152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大括号 179206"/>
          <p:cNvSpPr/>
          <p:nvPr/>
        </p:nvSpPr>
        <p:spPr>
          <a:xfrm>
            <a:off x="4788000" y="3357720"/>
            <a:ext cx="144360" cy="215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79207"/>
          <p:cNvSpPr/>
          <p:nvPr/>
        </p:nvSpPr>
        <p:spPr>
          <a:xfrm>
            <a:off x="5003640" y="98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79208"/>
          <p:cNvSpPr/>
          <p:nvPr/>
        </p:nvSpPr>
        <p:spPr>
          <a:xfrm>
            <a:off x="493236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机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179209"/>
          <p:cNvSpPr/>
          <p:nvPr/>
        </p:nvSpPr>
        <p:spPr>
          <a:xfrm>
            <a:off x="4932360" y="450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糖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79210"/>
          <p:cNvSpPr/>
          <p:nvPr/>
        </p:nvSpPr>
        <p:spPr>
          <a:xfrm>
            <a:off x="4932360" y="31417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脂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79211"/>
          <p:cNvSpPr/>
          <p:nvPr/>
        </p:nvSpPr>
        <p:spPr>
          <a:xfrm>
            <a:off x="493236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79212"/>
          <p:cNvSpPr/>
          <p:nvPr/>
        </p:nvSpPr>
        <p:spPr>
          <a:xfrm>
            <a:off x="4932360" y="51544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核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79213"/>
          <p:cNvSpPr/>
          <p:nvPr/>
        </p:nvSpPr>
        <p:spPr>
          <a:xfrm>
            <a:off x="395280" y="549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组成生物体的化合物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"/>
                            </p:stCondLst>
                            <p:childTnLst>
                              <p:par>
                                <p:cTn id="3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75"/>
                            </p:stCondLst>
                            <p:childTnLst>
                              <p:par>
                                <p:cTn id="3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构成生物体各种化合物的含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180226" descr=""/>
          <p:cNvPicPr/>
          <p:nvPr/>
        </p:nvPicPr>
        <p:blipFill>
          <a:blip r:embed="rId1"/>
          <a:stretch/>
        </p:blipFill>
        <p:spPr>
          <a:xfrm>
            <a:off x="1908000" y="1409760"/>
            <a:ext cx="4753080" cy="337824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80227"/>
          <p:cNvSpPr/>
          <p:nvPr/>
        </p:nvSpPr>
        <p:spPr>
          <a:xfrm>
            <a:off x="971640" y="4865760"/>
            <a:ext cx="770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活细胞中，水是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含量最多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物质，约占细胞总质量的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％～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％，无机盐约占细胞总量的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5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81249" descr="老年人"/>
          <p:cNvPicPr/>
          <p:nvPr/>
        </p:nvPicPr>
        <p:blipFill>
          <a:blip r:embed="rId1"/>
          <a:stretch/>
        </p:blipFill>
        <p:spPr>
          <a:xfrm>
            <a:off x="5722920" y="0"/>
            <a:ext cx="3421080" cy="51134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81250" descr="水母"/>
          <p:cNvPicPr/>
          <p:nvPr/>
        </p:nvPicPr>
        <p:blipFill>
          <a:blip r:embed="rId2"/>
          <a:stretch/>
        </p:blipFill>
        <p:spPr>
          <a:xfrm>
            <a:off x="0" y="0"/>
            <a:ext cx="2827440" cy="36720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81251" descr="幼儿"/>
          <p:cNvPicPr/>
          <p:nvPr/>
        </p:nvPicPr>
        <p:blipFill>
          <a:blip r:embed="rId3"/>
          <a:stretch/>
        </p:blipFill>
        <p:spPr>
          <a:xfrm>
            <a:off x="2484360" y="2610000"/>
            <a:ext cx="3662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三、细胞中的无机化合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489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细胞中的无机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82275"/>
          <p:cNvSpPr/>
          <p:nvPr/>
        </p:nvSpPr>
        <p:spPr>
          <a:xfrm>
            <a:off x="6156360" y="13413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宋体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82276"/>
          <p:cNvSpPr/>
          <p:nvPr/>
        </p:nvSpPr>
        <p:spPr>
          <a:xfrm>
            <a:off x="6156360" y="35942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无机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182277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1800360" cy="273672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82278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46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83297"/>
          <p:cNvSpPr/>
          <p:nvPr/>
        </p:nvSpPr>
        <p:spPr>
          <a:xfrm>
            <a:off x="1692360" y="2276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83298"/>
          <p:cNvSpPr/>
          <p:nvPr/>
        </p:nvSpPr>
        <p:spPr>
          <a:xfrm>
            <a:off x="3059280" y="3645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结合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83299"/>
          <p:cNvSpPr/>
          <p:nvPr/>
        </p:nvSpPr>
        <p:spPr>
          <a:xfrm>
            <a:off x="2077200" y="452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这两种形式的水各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83300"/>
          <p:cNvSpPr/>
          <p:nvPr/>
        </p:nvSpPr>
        <p:spPr>
          <a:xfrm>
            <a:off x="1258920" y="549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83301"/>
          <p:cNvSpPr/>
          <p:nvPr/>
        </p:nvSpPr>
        <p:spPr>
          <a:xfrm>
            <a:off x="2120040" y="385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一）、水的存在形式和功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左大括号 183302"/>
          <p:cNvSpPr/>
          <p:nvPr/>
        </p:nvSpPr>
        <p:spPr>
          <a:xfrm>
            <a:off x="2556000" y="1341360"/>
            <a:ext cx="503280" cy="2737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183303"/>
          <p:cNvSpPr/>
          <p:nvPr/>
        </p:nvSpPr>
        <p:spPr>
          <a:xfrm>
            <a:off x="3059280" y="98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自由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252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自由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84322"/>
          <p:cNvSpPr/>
          <p:nvPr/>
        </p:nvSpPr>
        <p:spPr>
          <a:xfrm>
            <a:off x="468360" y="981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概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是指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游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的方式存在的，可以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流动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84323"/>
          <p:cNvSpPr/>
          <p:nvPr/>
        </p:nvSpPr>
        <p:spPr>
          <a:xfrm>
            <a:off x="46836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84324"/>
          <p:cNvSpPr/>
          <p:nvPr/>
        </p:nvSpPr>
        <p:spPr>
          <a:xfrm>
            <a:off x="539640" y="24890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a.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细胞内的良好溶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84325"/>
          <p:cNvSpPr/>
          <p:nvPr/>
        </p:nvSpPr>
        <p:spPr>
          <a:xfrm>
            <a:off x="539640" y="3154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b.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细胞内各种生物化学反应的介质，直接参与细胞内的各种化学反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84326"/>
          <p:cNvSpPr/>
          <p:nvPr/>
        </p:nvSpPr>
        <p:spPr>
          <a:xfrm>
            <a:off x="539640" y="42894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c.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参与细胞中的各种代谢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84327"/>
          <p:cNvSpPr/>
          <p:nvPr/>
        </p:nvSpPr>
        <p:spPr>
          <a:xfrm>
            <a:off x="539640" y="50101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d.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运输营养物质和代谢废物的排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184328"/>
          <p:cNvSpPr/>
          <p:nvPr/>
        </p:nvSpPr>
        <p:spPr>
          <a:xfrm>
            <a:off x="539640" y="55864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e.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调节生物体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85345" descr="心脏"/>
          <p:cNvPicPr/>
          <p:nvPr/>
        </p:nvPicPr>
        <p:blipFill>
          <a:blip r:embed="rId1"/>
          <a:stretch/>
        </p:blipFill>
        <p:spPr>
          <a:xfrm>
            <a:off x="4392720" y="609480"/>
            <a:ext cx="2693880" cy="31244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85346" descr="骨骼肌2"/>
          <p:cNvPicPr/>
          <p:nvPr/>
        </p:nvPicPr>
        <p:blipFill>
          <a:blip r:embed="rId2"/>
          <a:srcRect l="0" t="0" r="-111" b="0"/>
          <a:stretch/>
        </p:blipFill>
        <p:spPr>
          <a:xfrm>
            <a:off x="2362320" y="581040"/>
            <a:ext cx="2133360" cy="31352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85347" descr="血液"/>
          <p:cNvPicPr/>
          <p:nvPr/>
        </p:nvPicPr>
        <p:blipFill>
          <a:blip r:embed="rId3"/>
          <a:srcRect l="0" t="0" r="-107" b="22"/>
          <a:stretch/>
        </p:blipFill>
        <p:spPr>
          <a:xfrm>
            <a:off x="6934320" y="609480"/>
            <a:ext cx="2209680" cy="312444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85348" descr="牙齿1"/>
          <p:cNvPicPr/>
          <p:nvPr/>
        </p:nvPicPr>
        <p:blipFill>
          <a:blip r:embed="rId4"/>
          <a:srcRect l="0" t="0" r="-157" b="119"/>
          <a:stretch/>
        </p:blipFill>
        <p:spPr>
          <a:xfrm>
            <a:off x="76320" y="584280"/>
            <a:ext cx="2209680" cy="3132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185349"/>
          <p:cNvSpPr/>
          <p:nvPr/>
        </p:nvSpPr>
        <p:spPr>
          <a:xfrm>
            <a:off x="395280" y="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人体组织器官含水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85350"/>
          <p:cNvSpPr/>
          <p:nvPr/>
        </p:nvSpPr>
        <p:spPr>
          <a:xfrm>
            <a:off x="304920" y="3716280"/>
            <a:ext cx="8839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 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牙齿                  骨骼肌                      心脏                    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   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10%                           76%                               79%                           8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85351"/>
          <p:cNvSpPr/>
          <p:nvPr/>
        </p:nvSpPr>
        <p:spPr>
          <a:xfrm>
            <a:off x="4417920" y="5229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代谢旺盛的细胞中，自由水的含量一般较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本节重点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组成细胞的主要元素是什么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有什么特点和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在细胞中以什么形式存在？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无机盐在细胞中以什么形式存在？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节  细胞中的原子和分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28191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结合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86370"/>
          <p:cNvSpPr/>
          <p:nvPr/>
        </p:nvSpPr>
        <p:spPr>
          <a:xfrm>
            <a:off x="576360" y="155736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定义：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在细胞中不能自由流动的水。大约占细胞内全部水分的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4.5%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86371"/>
          <p:cNvSpPr/>
          <p:nvPr/>
        </p:nvSpPr>
        <p:spPr>
          <a:xfrm>
            <a:off x="612720" y="292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功能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是组成细胞结构的重要成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86372"/>
          <p:cNvSpPr/>
          <p:nvPr/>
        </p:nvSpPr>
        <p:spPr>
          <a:xfrm>
            <a:off x="539640" y="371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隶书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休眠的种子、越冬的植物、生活在干旱盐渍条件下的植物，体内结合水的含量相对增多可以使植物的抗逆性增强，以适应不良的环境条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6013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水对于生物体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02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一切细胞都是生活在水环境中的。细胞中大量的水分，对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维持细胞形态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保证代谢的正常进行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具有重要的作用。各种生命体的一切生命活动都离不开水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没有水就没有生命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187395" descr="MCj03345720000[1]"/>
          <p:cNvPicPr/>
          <p:nvPr/>
        </p:nvPicPr>
        <p:blipFill>
          <a:blip r:embed="rId1"/>
          <a:stretch/>
        </p:blipFill>
        <p:spPr>
          <a:xfrm>
            <a:off x="8048520" y="4984920"/>
            <a:ext cx="10954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文本框 188417"/>
          <p:cNvSpPr/>
          <p:nvPr/>
        </p:nvSpPr>
        <p:spPr>
          <a:xfrm>
            <a:off x="179280" y="2205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秋天，庄稼收获后，秸秆被烧，剩余的灰烬和动物的尸体焚烧后的灰烬都是无机盐，无机盐在细胞中是如何存在的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88418"/>
          <p:cNvSpPr/>
          <p:nvPr/>
        </p:nvSpPr>
        <p:spPr>
          <a:xfrm>
            <a:off x="539640" y="76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议一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18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二）、细胞中的无机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89442"/>
          <p:cNvSpPr/>
          <p:nvPr/>
        </p:nvSpPr>
        <p:spPr>
          <a:xfrm>
            <a:off x="611280" y="69228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存在形式和含量：在细胞中常以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离子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存在，含量 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89443"/>
          <p:cNvSpPr/>
          <p:nvPr/>
        </p:nvSpPr>
        <p:spPr>
          <a:xfrm>
            <a:off x="611280" y="1773360"/>
            <a:ext cx="8785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a. 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阳离子：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K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C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Mg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Fe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Fe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89444"/>
          <p:cNvSpPr/>
          <p:nvPr/>
        </p:nvSpPr>
        <p:spPr>
          <a:xfrm>
            <a:off x="611280" y="249228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b. 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阴离子：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华文隶书"/>
                <a:ea typeface="华文隶书"/>
              </a:rPr>
              <a:t>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2-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P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华文隶书"/>
                <a:ea typeface="华文隶书"/>
              </a:rPr>
              <a:t>4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3-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H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华文隶书"/>
                <a:ea typeface="华文隶书"/>
              </a:rPr>
              <a:t>3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隶书"/>
                <a:ea typeface="华文隶书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9445"/>
          <p:cNvSpPr/>
          <p:nvPr/>
        </p:nvSpPr>
        <p:spPr>
          <a:xfrm>
            <a:off x="611280" y="2924280"/>
            <a:ext cx="259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、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89446"/>
          <p:cNvSpPr/>
          <p:nvPr/>
        </p:nvSpPr>
        <p:spPr>
          <a:xfrm>
            <a:off x="539640" y="3573360"/>
            <a:ext cx="889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a. 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是细胞的结构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有些无机盐是细胞内某些复杂化合物的重要组成部分如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M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隶书"/>
                <a:ea typeface="华文隶书"/>
              </a:rPr>
              <a:t>2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华文隶书"/>
                <a:ea typeface="华文隶书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叶绿素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分子必需的成分；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隶书"/>
                <a:ea typeface="华文隶书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血红蛋白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的主要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89447"/>
          <p:cNvSpPr/>
          <p:nvPr/>
        </p:nvSpPr>
        <p:spPr>
          <a:xfrm>
            <a:off x="61128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b. 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维持细胞和生物体的生命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189448"/>
          <p:cNvSpPr/>
          <p:nvPr/>
        </p:nvSpPr>
        <p:spPr>
          <a:xfrm>
            <a:off x="0" y="5877000"/>
            <a:ext cx="61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c. 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维持细胞的渗透压和酸碱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细胞中部分无机盐的生理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文本占位符 190466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84360" y="1557360"/>
            <a:ext cx="800244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191489"/>
          <p:cNvSpPr/>
          <p:nvPr/>
        </p:nvSpPr>
        <p:spPr>
          <a:xfrm>
            <a:off x="539640" y="476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镁离子是叶绿素分子必需的成分；叶绿素是绿色植物进行光合作用的色素，它能吸收光能用于光合作用。绝大多数植物叶片的颜色是绿色的，这是叶绿素显现的颜色。没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g 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就不能合成叶绿素，植物的叶片就会发黄，影响到光合作用的正常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亚铁离子是血红蛋白的主要成分；血红蛋白是一种红色含铁的蛋白质，是红细胞的主要成分，功能是运输氧气和一部分二氧化碳。血红蛋白中的铁是二价铁离子，对人来说，小肠也只吸收二价铁离子，对三价铁离子是不吸收的。没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e 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就不能合成血红蛋白，人就会患缺铁性贫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92513"/>
          <p:cNvSpPr/>
          <p:nvPr/>
        </p:nvSpPr>
        <p:spPr>
          <a:xfrm>
            <a:off x="900000" y="620640"/>
            <a:ext cx="76327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哺乳动物血液中必须含有一定量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如果某个动物血液中钙盐的含量过低就会出现抽搐。 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多时，又会出现肌肉乏力现象等。生物体内的无机盐离子必须保持一定的比例，这对维持细胞的渗透压和酸碱平衡是非常重要的，是生物体进行正常生命活动的必要条件。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CO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于维持血液正常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值具有重要的作用。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酶最多，有七十多种酶的活性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关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维生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必要成分，参与核酸的合成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文本框 168961"/>
          <p:cNvSpPr/>
          <p:nvPr/>
        </p:nvSpPr>
        <p:spPr>
          <a:xfrm>
            <a:off x="971640" y="547992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讨论</a:t>
            </a: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:</a:t>
            </a:r>
            <a:r>
              <a:rPr b="1" lang="zh-CN" sz="3200" spc="-1" strike="noStrike">
                <a:solidFill>
                  <a:srgbClr val="000066"/>
                </a:solidFill>
                <a:latin typeface="华文隶书"/>
                <a:ea typeface="华文隶书"/>
              </a:rPr>
              <a:t>比较组成地壳和组成细胞的部分元素的含量，你能提出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68962"/>
          <p:cNvSpPr txBox="1"/>
          <p:nvPr/>
        </p:nvSpPr>
        <p:spPr>
          <a:xfrm>
            <a:off x="611280" y="189000"/>
            <a:ext cx="31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66"/>
                  </a:solidFill>
                  <a:round/>
                </a:ln>
                <a:solidFill>
                  <a:srgbClr val="000066">
                    <a:alpha val="94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问题探讨</a:t>
            </a:r>
            <a:endParaRPr b="1" lang="en-US" sz="1800" spc="1" strike="noStrike">
              <a:ln w="9360">
                <a:solidFill>
                  <a:srgbClr val="000066"/>
                </a:solidFill>
                <a:round/>
              </a:ln>
              <a:solidFill>
                <a:srgbClr val="000066">
                  <a:alpha val="94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51480" y="2203560"/>
          <a:ext cx="3421080" cy="3227400"/>
        </p:xfrm>
        <a:graphic>
          <a:graphicData uri="http://schemas.openxmlformats.org/drawingml/2006/table">
            <a:tbl>
              <a:tblPr/>
              <a:tblGrid>
                <a:gridCol w="1141560"/>
                <a:gridCol w="1137960"/>
                <a:gridCol w="11415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元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地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细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极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2" name="内容占位符 168993" descr="细胞"/>
          <p:cNvPicPr/>
          <p:nvPr/>
        </p:nvPicPr>
        <p:blipFill>
          <a:blip r:embed="rId1"/>
          <a:stretch/>
        </p:blipFill>
        <p:spPr>
          <a:xfrm>
            <a:off x="739800" y="119700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503" name="文本框 168994"/>
          <p:cNvSpPr/>
          <p:nvPr/>
        </p:nvSpPr>
        <p:spPr>
          <a:xfrm>
            <a:off x="3851280" y="5842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组成地壳和组成细胞的部分元素含量</a:t>
            </a: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％</a:t>
            </a: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内容占位符 168995" descr="地球"/>
          <p:cNvPicPr/>
          <p:nvPr/>
        </p:nvPicPr>
        <p:blipFill>
          <a:blip r:embed="rId2"/>
          <a:stretch/>
        </p:blipFill>
        <p:spPr>
          <a:xfrm>
            <a:off x="1281240" y="3513240"/>
            <a:ext cx="2135160" cy="20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椭圆 169985"/>
          <p:cNvSpPr/>
          <p:nvPr/>
        </p:nvSpPr>
        <p:spPr>
          <a:xfrm>
            <a:off x="684360" y="476280"/>
            <a:ext cx="1584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69986"/>
          <p:cNvSpPr txBox="1"/>
          <p:nvPr/>
        </p:nvSpPr>
        <p:spPr>
          <a:xfrm>
            <a:off x="1187280" y="260280"/>
            <a:ext cx="619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atin typeface="仿宋_GB2312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  <p:sp>
        <p:nvSpPr>
          <p:cNvPr id="507" name="文本框 169987"/>
          <p:cNvSpPr/>
          <p:nvPr/>
        </p:nvSpPr>
        <p:spPr>
          <a:xfrm>
            <a:off x="900000" y="1268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组成生物体的所有元素中，有没有哪一些元素是生物体所特有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169988"/>
          <p:cNvSpPr/>
          <p:nvPr/>
        </p:nvSpPr>
        <p:spPr>
          <a:xfrm>
            <a:off x="7093080" y="1773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69989"/>
          <p:cNvSpPr/>
          <p:nvPr/>
        </p:nvSpPr>
        <p:spPr>
          <a:xfrm>
            <a:off x="971640" y="2421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这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69990"/>
          <p:cNvSpPr/>
          <p:nvPr/>
        </p:nvSpPr>
        <p:spPr>
          <a:xfrm>
            <a:off x="971640" y="2997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物界和非生物界具有统一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69991"/>
          <p:cNvSpPr/>
          <p:nvPr/>
        </p:nvSpPr>
        <p:spPr>
          <a:xfrm>
            <a:off x="971640" y="36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生物体中的元素含量和无机环境中的含量有区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169992"/>
          <p:cNvSpPr/>
          <p:nvPr/>
        </p:nvSpPr>
        <p:spPr>
          <a:xfrm>
            <a:off x="4498920" y="414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，相差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69993"/>
          <p:cNvSpPr/>
          <p:nvPr/>
        </p:nvSpPr>
        <p:spPr>
          <a:xfrm>
            <a:off x="1042920" y="4797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100"/>
                </a:solidFill>
                <a:latin typeface="Times New Roman"/>
                <a:ea typeface="楷体_GB2312"/>
              </a:rPr>
              <a:t>这又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69994"/>
          <p:cNvSpPr/>
          <p:nvPr/>
        </p:nvSpPr>
        <p:spPr>
          <a:xfrm>
            <a:off x="1187280" y="54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物界和非生物界还具有差异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171009"/>
          <p:cNvSpPr txBox="1"/>
          <p:nvPr/>
        </p:nvSpPr>
        <p:spPr>
          <a:xfrm>
            <a:off x="179280" y="189000"/>
            <a:ext cx="187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论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6" name="任意多边形 171010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75564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71011"/>
          <p:cNvSpPr/>
          <p:nvPr/>
        </p:nvSpPr>
        <p:spPr>
          <a:xfrm>
            <a:off x="684360" y="429264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说明：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生命和非生命的无机环境既有统一性又有差异性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生命起源于非生命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71012"/>
          <p:cNvSpPr/>
          <p:nvPr/>
        </p:nvSpPr>
        <p:spPr>
          <a:xfrm>
            <a:off x="792000" y="1628640"/>
            <a:ext cx="7740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统一性：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组成细胞的化学元素在无机环境中都能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71013"/>
          <p:cNvSpPr/>
          <p:nvPr/>
        </p:nvSpPr>
        <p:spPr>
          <a:xfrm>
            <a:off x="684360" y="292428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差异性：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细胞与无机环境中的各种化学元素的相对含量差别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71014"/>
          <p:cNvSpPr/>
          <p:nvPr/>
        </p:nvSpPr>
        <p:spPr>
          <a:xfrm>
            <a:off x="468360" y="1082520"/>
            <a:ext cx="82803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一、生物界与非生物界的关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72033"/>
          <p:cNvSpPr/>
          <p:nvPr/>
        </p:nvSpPr>
        <p:spPr>
          <a:xfrm>
            <a:off x="395280" y="5199120"/>
            <a:ext cx="39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组成人体细胞的主要元素（占细胞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鲜</a:t>
            </a: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重的百分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72034"/>
          <p:cNvSpPr/>
          <p:nvPr/>
        </p:nvSpPr>
        <p:spPr>
          <a:xfrm>
            <a:off x="4788000" y="5292720"/>
            <a:ext cx="3816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组成人体细胞的主要元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占细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的百分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7203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105080" cy="32576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72036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2360" cy="3211560"/>
          </a:xfrm>
          <a:prstGeom prst="rect">
            <a:avLst/>
          </a:prstGeom>
          <a:ln w="0">
            <a:noFill/>
          </a:ln>
        </p:spPr>
      </p:pic>
      <p:sp>
        <p:nvSpPr>
          <p:cNvPr id="525" name="文本框 172037"/>
          <p:cNvSpPr/>
          <p:nvPr/>
        </p:nvSpPr>
        <p:spPr>
          <a:xfrm>
            <a:off x="900000" y="4906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隶书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根据你现有的知识，来推测一下，组成人体细胞的主要元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72038"/>
          <p:cNvSpPr txBox="1"/>
          <p:nvPr/>
        </p:nvSpPr>
        <p:spPr>
          <a:xfrm>
            <a:off x="900000" y="40464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latin typeface="仿宋_GB2312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文本框 173057"/>
          <p:cNvSpPr/>
          <p:nvPr/>
        </p:nvSpPr>
        <p:spPr>
          <a:xfrm>
            <a:off x="539640" y="260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在人体细胞中，干重时含量最多的元素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；鲜重时含量最多的元素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73058"/>
          <p:cNvSpPr/>
          <p:nvPr/>
        </p:nvSpPr>
        <p:spPr>
          <a:xfrm>
            <a:off x="900000" y="62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73059"/>
          <p:cNvSpPr/>
          <p:nvPr/>
        </p:nvSpPr>
        <p:spPr>
          <a:xfrm>
            <a:off x="5867280" y="4762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73060"/>
          <p:cNvSpPr txBox="1"/>
          <p:nvPr/>
        </p:nvSpPr>
        <p:spPr>
          <a:xfrm>
            <a:off x="250920" y="5516640"/>
            <a:ext cx="93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仿宋_GB2312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仿宋_GB2312"/>
              <a:ea typeface="仿宋_GB2312"/>
            </a:endParaRPr>
          </a:p>
        </p:txBody>
      </p:sp>
      <p:sp>
        <p:nvSpPr>
          <p:cNvPr id="531" name="文本框 173061"/>
          <p:cNvSpPr/>
          <p:nvPr/>
        </p:nvSpPr>
        <p:spPr>
          <a:xfrm>
            <a:off x="1258920" y="5589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这些元素在不同生物体的含量又怎样呢</a:t>
            </a: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73062"/>
          <p:cNvSpPr/>
          <p:nvPr/>
        </p:nvSpPr>
        <p:spPr>
          <a:xfrm>
            <a:off x="2348640" y="134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隶书"/>
              </a:rPr>
              <a:t>二、组成细胞的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73063"/>
          <p:cNvSpPr/>
          <p:nvPr/>
        </p:nvSpPr>
        <p:spPr>
          <a:xfrm>
            <a:off x="539640" y="1844640"/>
            <a:ext cx="727416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（一）、组成细胞元素的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基本元素： 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H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O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N</a:t>
            </a:r>
            <a:r>
              <a:rPr b="0" lang="en-US" sz="1600" spc="-1" strike="noStrike">
                <a:solidFill>
                  <a:srgbClr val="000066"/>
                </a:solidFill>
                <a:latin typeface="华文隶书"/>
                <a:ea typeface="华文隶书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主要元素：</a:t>
            </a:r>
            <a:r>
              <a:rPr b="0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H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O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N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P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华文隶书"/>
                <a:ea typeface="华文隶书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大量元素：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H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O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N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P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Ca</a:t>
            </a:r>
            <a:r>
              <a:rPr b="1" lang="zh-CN" sz="3200" spc="-1" strike="noStrike">
                <a:solidFill>
                  <a:srgbClr val="000066"/>
                </a:solidFill>
                <a:latin typeface="华文隶书"/>
                <a:ea typeface="华文隶书"/>
              </a:rPr>
              <a:t>（占全部元素的</a:t>
            </a:r>
            <a:r>
              <a:rPr b="1" lang="en-US" sz="3200" spc="-1" strike="noStrike">
                <a:solidFill>
                  <a:srgbClr val="000066"/>
                </a:solidFill>
                <a:latin typeface="华文隶书"/>
                <a:ea typeface="华文隶书"/>
              </a:rPr>
              <a:t>98</a:t>
            </a:r>
            <a:r>
              <a:rPr b="1" lang="zh-CN" sz="3200" spc="-1" strike="noStrike">
                <a:solidFill>
                  <a:srgbClr val="000066"/>
                </a:solidFill>
                <a:latin typeface="华文隶书"/>
                <a:ea typeface="华文隶书"/>
              </a:rPr>
              <a:t>％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微量元素：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Fe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Mn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Zn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Cu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华文隶书"/>
                <a:ea typeface="华文隶书"/>
              </a:rPr>
              <a:t>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"/>
                            </p:stCondLst>
                            <p:childTnLst>
                              <p:par>
                                <p:cTn id="1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539640" y="1192320"/>
          <a:ext cx="3960720" cy="469728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36836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元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4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.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文本框 174127"/>
          <p:cNvSpPr/>
          <p:nvPr/>
        </p:nvSpPr>
        <p:spPr>
          <a:xfrm>
            <a:off x="395280" y="225360"/>
            <a:ext cx="7632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玉米与人体内的化学元素组成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74128"/>
          <p:cNvSpPr/>
          <p:nvPr/>
        </p:nvSpPr>
        <p:spPr>
          <a:xfrm>
            <a:off x="4500720" y="1119240"/>
            <a:ext cx="4176720" cy="1008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思考：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运用自己认为的科学方法解读表格数据，能得出哪些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74129"/>
          <p:cNvSpPr/>
          <p:nvPr/>
        </p:nvSpPr>
        <p:spPr>
          <a:xfrm>
            <a:off x="4535640" y="2606760"/>
            <a:ext cx="4608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不同生物体内化学元素的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种类基本相同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74130"/>
          <p:cNvSpPr/>
          <p:nvPr/>
        </p:nvSpPr>
        <p:spPr>
          <a:xfrm>
            <a:off x="4572000" y="361476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不同生物体内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种化学元素的含量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74131"/>
          <p:cNvSpPr/>
          <p:nvPr/>
        </p:nvSpPr>
        <p:spPr>
          <a:xfrm>
            <a:off x="4572000" y="4618080"/>
            <a:ext cx="432108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同一生物体内不同化学元素的含量不同，其中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H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四种元素所占比例较大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230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6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（二）、组成细胞元素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75107"/>
          <p:cNvSpPr/>
          <p:nvPr/>
        </p:nvSpPr>
        <p:spPr>
          <a:xfrm>
            <a:off x="826920" y="2492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同生物体内化学元素的种类基本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75108"/>
          <p:cNvSpPr/>
          <p:nvPr/>
        </p:nvSpPr>
        <p:spPr>
          <a:xfrm>
            <a:off x="826920" y="342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同生物体内每种化学元素的含量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75109"/>
          <p:cNvSpPr/>
          <p:nvPr/>
        </p:nvSpPr>
        <p:spPr>
          <a:xfrm>
            <a:off x="826920" y="443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同一生物体内不同化学元素的含量不同，其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四种元素所占比例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8:14:38Z</dcterms:modified>
  <cp:revision>23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