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gif" ContentType="image/gif"/>
  <Override PartName="/ppt/media/image25.png" ContentType="image/png"/>
  <Override PartName="/ppt/media/image22.gif" ContentType="image/gif"/>
  <Override PartName="/ppt/media/image17.jpeg" ContentType="image/jpeg"/>
  <Override PartName="/ppt/media/image14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2CE-5064-44BF-BFEF-723F963B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303-593D-461E-BB78-090D7FF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2AD-0012-46B7-B38C-7F763AFE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8CB-41DA-41B5-A6EF-1548D059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48A-31A4-46FB-AA3F-41623D3B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EFB-33EC-474D-B068-079C5611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A19-CF55-4F82-9A86-5C4E050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8EA-9AC3-4846-B73C-A43138B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7BF-A2FE-45AF-BAB0-72377AF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418-1C2C-491E-89B8-C153054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984-1E20-4E1B-A84B-E3C6601C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8E2-09AB-4F8A-A7F4-69B3B52B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932A-9DDC-455D-B743-E6F109F39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52873100&amp;tn=baiduimagedetail&amp;word=&#26611;&#23447;&#20803;&amp;in=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755601&amp;tn=baiduimagedetail&amp;word=&#26611;&#23447;&#20803;&amp;in=3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612311154564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590920" y="5943600"/>
            <a:ext cx="65530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伐竹取道，下见小潭，水尤清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14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352680" y="5911920"/>
            <a:ext cx="56390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鱼可百许头，皆若空游无所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光下澈，影布石上，佁然不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04920" y="228600"/>
            <a:ext cx="64767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树翠蔓，蒙络摇缀，参差披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60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8600" y="5562720"/>
            <a:ext cx="44956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俶尔远逝，往来翕忽，似与游者相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600200" y="5334120"/>
            <a:ext cx="7315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8893080" cy="18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600200" y="541008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潭西南而望，斗折蛇行，明灭可见。其岸势犬牙差互，不可知其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305---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209680" y="1447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tp1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5257800" y="4816440"/>
            <a:ext cx="38862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游者：吴武陵，龚古，余弟宗玄。隶而从者，崔氏二小生：曰恕己，曰奉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23357B"/>
          <p:cNvPicPr/>
          <p:nvPr/>
        </p:nvPicPr>
        <p:blipFill>
          <a:blip r:embed="rId1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716967D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16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014"/>
          <p:cNvPicPr/>
          <p:nvPr/>
        </p:nvPicPr>
        <p:blipFill>
          <a:blip r:embed="rId3"/>
          <a:stretch/>
        </p:blipFill>
        <p:spPr>
          <a:xfrm>
            <a:off x="0" y="3141720"/>
            <a:ext cx="4500720" cy="371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约塞米蒂山谷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62784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79280" y="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注意下列黄色字的读音和字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26828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uáng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     ）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1280" y="119700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16720" y="1197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i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451640" y="1125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50920" y="595008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0" y="213372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石底以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651640" y="2060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坻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651640" y="2924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0" y="292428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青 树 翠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蔓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0" y="378936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蒙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络 摇 缀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219640" y="3789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参差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披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0" y="458136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然不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700360" y="443700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5219640" y="4508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俶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尔远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0" y="55166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往来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翕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忽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2484360" y="537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5148360" y="5373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犬牙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差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843280" y="2060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u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7236000" y="191628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3203640" y="292428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7236000" y="285264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2843280" y="378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ě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7380360" y="37162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ē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 c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7596360" y="4437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7451640" y="5300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24000" y="69228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liáo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无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124000" y="6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012000" y="620640"/>
            <a:ext cx="39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神寒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372360" y="620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79280" y="184464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幽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su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70400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70836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u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95280" y="29242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古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500720" y="285264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光下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846920" y="2781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468360" y="393372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472428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411280" y="4292640"/>
            <a:ext cx="432000" cy="1873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763640" y="4869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4284720" y="4076640"/>
            <a:ext cx="431640" cy="2232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564000" y="47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6227640" y="4005360"/>
            <a:ext cx="432000" cy="23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508720" y="4797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971640" y="1844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763640" y="2852640"/>
            <a:ext cx="144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Arial"/>
              </a:rPr>
              <a:t>ō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227640" y="278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/>
          <p:cNvSpPr/>
          <p:nvPr/>
        </p:nvSpPr>
        <p:spPr>
          <a:xfrm>
            <a:off x="8172360" y="4221000"/>
            <a:ext cx="432000" cy="1873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52472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u=2994650899,177883970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539640" y="549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仿宋"/>
                <a:ea typeface="仿宋"/>
              </a:rPr>
              <a:t>《江雪》是唐代散文家柳宗元写的一首绝句，在这首诗里寄托了诗人高洁孤傲执著不屈的崇高人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11280" y="213372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"/>
                <a:ea typeface="仿宋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仿宋"/>
                <a:ea typeface="仿宋"/>
              </a:rPr>
              <a:t>柳宗元曾经被贬到湖南的永州做司马。在此期间，他写下了一组著名的山水游记，合称《永州八记》。今天我们一起来学习他的《永州八记》之一的《小石潭记》。这篇文章同样体现了他独立的人格以及不被理解的愤懑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0" y="33336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24000" y="189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50920" y="9079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50920" y="170028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24000" y="24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3528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自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83528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百战不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63640" y="170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不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763640" y="2421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死腹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971640" y="1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900000" y="9079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900000" y="1628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900000" y="2421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4427640" y="33336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5508720" y="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219640" y="6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chu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364000" y="134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435640" y="2276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292720" y="148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77080" y="2349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呼天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抢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471636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732720" y="1484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了一口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4716360" y="1484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7020000" y="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踉踉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4859280" y="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7093080" y="6922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怆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涕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643280" y="6922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9"/>
          <p:cNvSpPr/>
          <p:nvPr/>
        </p:nvSpPr>
        <p:spPr>
          <a:xfrm>
            <a:off x="0" y="386064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395280" y="35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24000" y="443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324000" y="537372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3203640" y="3500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3276720" y="443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5"/>
          <p:cNvSpPr/>
          <p:nvPr/>
        </p:nvSpPr>
        <p:spPr>
          <a:xfrm>
            <a:off x="3059280" y="5445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6"/>
          <p:cNvSpPr/>
          <p:nvPr/>
        </p:nvSpPr>
        <p:spPr>
          <a:xfrm>
            <a:off x="2916360" y="386064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6443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6443640" y="4292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6516720" y="522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6084720" y="3860640"/>
            <a:ext cx="432000" cy="20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092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生大声读课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注意语调的把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95280" y="1268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提示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4000" y="191628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第一二段写作者兴致勃勃畅游小石潭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全石带来的好奇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清澈的水流和飘忽不定的游鱼所带来的快乐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欢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24000" y="458136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四五段写小石潭周围幽深冷寂的氛围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该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伤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低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505320" y="1219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-174600" y="1484280"/>
            <a:ext cx="84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疏通文句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落实字词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2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95280" y="292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95280" y="37782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6836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6836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403280" y="342900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整体把握课文的内容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小丘西行百二十步，隔        ，    水声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0" y="321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佩环，心        。   竹    道，    见小潭，水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篁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076720" y="10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竹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443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012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听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851280" y="522936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砍倒竹子，开辟出一条道路（走过去），下面看见一个小潭，潭水特别清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250920" y="148428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从小土丘向西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百二十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284720" y="198900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隔着竹林，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了水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0" y="48690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好像身上带的玉佩、玉环相碰发出的清脆声音，（我的）心情高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532720" y="404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093080" y="907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动用法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…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鸣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1619280" y="3141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900000" y="4149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代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指水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6"/>
          <p:cNvSpPr/>
          <p:nvPr/>
        </p:nvSpPr>
        <p:spPr>
          <a:xfrm>
            <a:off x="0" y="3645000"/>
            <a:ext cx="1297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"/>
          <p:cNvSpPr/>
          <p:nvPr/>
        </p:nvSpPr>
        <p:spPr>
          <a:xfrm flipH="1">
            <a:off x="1258560" y="3789360"/>
            <a:ext cx="576360" cy="14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 flipH="1">
            <a:off x="2268000" y="3789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284328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284328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370836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378000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738036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7020000" y="3789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特别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88508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清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8101080" y="400536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清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4932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4932360" y="386064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在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岩。青树翠蔓，        摇     ，                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83664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石       底，   岸，  石底        ，为    ，为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0" y="7650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116000" y="765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268360" y="765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348000" y="76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71636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148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6300720" y="83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7524720" y="83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8459640" y="836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0" y="306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50920" y="2133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整块石头作为潭底，靠近岸边，有一圈从潭底周围突出水面的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372360" y="21337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为坻、屿、  嵁、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0" y="5300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各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124000" y="5516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青葱的树，翠绿的茎蔓，遮盖交结，摇动下垂，参差不齐，随风飘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40672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550872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6372360" y="306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7308720" y="3068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披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0" y="26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完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140328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75564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介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219564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277164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翻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419640" y="18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连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相当于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4932360" y="1413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露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5867280" y="14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水中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709308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小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8172360" y="1341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0" y="378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不平的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7"/>
          <p:cNvSpPr/>
          <p:nvPr/>
        </p:nvSpPr>
        <p:spPr>
          <a:xfrm>
            <a:off x="2627280" y="3860640"/>
            <a:ext cx="1152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覆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8"/>
          <p:cNvSpPr/>
          <p:nvPr/>
        </p:nvSpPr>
        <p:spPr>
          <a:xfrm flipH="1">
            <a:off x="3492360" y="3573360"/>
            <a:ext cx="64800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9"/>
          <p:cNvSpPr/>
          <p:nvPr/>
        </p:nvSpPr>
        <p:spPr>
          <a:xfrm>
            <a:off x="5148360" y="4437000"/>
            <a:ext cx="1224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0"/>
          <p:cNvSpPr/>
          <p:nvPr/>
        </p:nvSpPr>
        <p:spPr>
          <a:xfrm flipH="1">
            <a:off x="5796000" y="3645000"/>
            <a:ext cx="712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1"/>
          <p:cNvSpPr/>
          <p:nvPr/>
        </p:nvSpPr>
        <p:spPr>
          <a:xfrm>
            <a:off x="3780000" y="4149720"/>
            <a:ext cx="122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2"/>
          <p:cNvSpPr/>
          <p:nvPr/>
        </p:nvSpPr>
        <p:spPr>
          <a:xfrm flipH="1">
            <a:off x="4500720" y="3573360"/>
            <a:ext cx="358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3"/>
          <p:cNvSpPr/>
          <p:nvPr/>
        </p:nvSpPr>
        <p:spPr>
          <a:xfrm>
            <a:off x="6516720" y="4005360"/>
            <a:ext cx="863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4"/>
          <p:cNvSpPr/>
          <p:nvPr/>
        </p:nvSpPr>
        <p:spPr>
          <a:xfrm>
            <a:off x="6877080" y="357336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5"/>
          <p:cNvSpPr/>
          <p:nvPr/>
        </p:nvSpPr>
        <p:spPr>
          <a:xfrm>
            <a:off x="7380360" y="3789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随风飘荡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0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-210240" y="2637000"/>
            <a:ext cx="1399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发现小石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1116000" y="1989000"/>
            <a:ext cx="720720" cy="381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835280" y="1700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124000" y="234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835280" y="2492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124000" y="31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83528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2195640" y="407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835280" y="429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2195640" y="49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183528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2556000" y="2276640"/>
            <a:ext cx="71280" cy="28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627280" y="508464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6000" y="2276640"/>
            <a:ext cx="122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2627280" y="350028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3851280" y="191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70836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3708360" y="45813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3"/>
          <p:cNvSpPr/>
          <p:nvPr/>
        </p:nvSpPr>
        <p:spPr>
          <a:xfrm>
            <a:off x="4500720" y="5084640"/>
            <a:ext cx="64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5219640" y="1916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5219640" y="299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5219640" y="45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5940360" y="2421000"/>
            <a:ext cx="1295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5940360" y="342900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 flipV="1">
            <a:off x="5940360" y="3644640"/>
            <a:ext cx="1152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7164360" y="2852640"/>
            <a:ext cx="1584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2124000" y="404640"/>
            <a:ext cx="7020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2"/>
          <p:cNvSpPr/>
          <p:nvPr/>
        </p:nvSpPr>
        <p:spPr>
          <a:xfrm>
            <a:off x="212400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移步换景      定点特写    景中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2843280" y="587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闻声          见形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4140360" y="6308640"/>
            <a:ext cx="1726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50920" y="3860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潭中鱼   百    头，皆        游无所     。日光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   石上，       不动；        远逝，往来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79280" y="508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游者相     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0" y="184464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潭中的鱼大约有一百来条，好像都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空中游动，周围什么也没有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08472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阳光直照到水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9528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的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2700360" y="414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呆呆地一动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472000" y="40766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又忽然向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游去，往来很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0" y="6165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像和游人一同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187280" y="47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1979640" y="40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3708360" y="47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796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7524720" y="40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179280" y="9079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副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1619280" y="907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左右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光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3564000" y="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334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3419640" y="141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在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5580000" y="98100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依靠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6732720" y="9079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101080" y="907920"/>
            <a:ext cx="129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直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53964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17928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散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050920" y="28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1619280" y="3500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呆呆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42116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421164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7093080" y="285264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翕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5724360" y="3500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轻快敏捷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3"/>
          <p:cNvSpPr/>
          <p:nvPr/>
        </p:nvSpPr>
        <p:spPr>
          <a:xfrm>
            <a:off x="32400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映在石头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79280" y="50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0" y="55897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6"/>
          <p:cNvSpPr/>
          <p:nvPr/>
        </p:nvSpPr>
        <p:spPr>
          <a:xfrm>
            <a:off x="226836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1258920" y="5589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逗乐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9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中景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二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2124000" y="191628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248436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484360" y="35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游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 flipV="1">
            <a:off x="2843280" y="227664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2775600" y="2637000"/>
            <a:ext cx="7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50072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清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3708360" y="191628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5580000" y="191628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6443640" y="1557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500720" y="3573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动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516720" y="4005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6588000" y="3284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7596360" y="3645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8388360" y="1989000"/>
            <a:ext cx="216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9"/>
          <p:cNvSpPr/>
          <p:nvPr/>
        </p:nvSpPr>
        <p:spPr>
          <a:xfrm flipV="1">
            <a:off x="8532720" y="3141360"/>
            <a:ext cx="142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0"/>
          <p:cNvSpPr/>
          <p:nvPr/>
        </p:nvSpPr>
        <p:spPr>
          <a:xfrm>
            <a:off x="8028000" y="2492280"/>
            <a:ext cx="1116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2124000" y="5013360"/>
            <a:ext cx="460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由景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0" y="213372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潭西南    望 ，               ，明灭可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0" y="443700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岸势            互，不可知         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0" y="609300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溪岸的形状像犬牙那样交错不齐，不知道它的源头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向小石潭的西南方看去，溪流象北斗七星那样曲折，又象蛇爬行那样弯曲，忽明忽暗，忽隐忽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324000" y="40464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写小潭源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2843280" y="476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059280" y="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溪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13200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岸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4643280" y="1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曲折蜿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4643280" y="76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参差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411280" y="206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3780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478800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90000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2987640" y="1557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北斗星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7"/>
          <p:cNvSpPr/>
          <p:nvPr/>
        </p:nvSpPr>
        <p:spPr>
          <a:xfrm>
            <a:off x="550872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428472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5292720" y="21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5867280" y="314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像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428472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曲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2"/>
          <p:cNvSpPr/>
          <p:nvPr/>
        </p:nvSpPr>
        <p:spPr>
          <a:xfrm>
            <a:off x="6443640" y="549360"/>
            <a:ext cx="576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3"/>
          <p:cNvSpPr/>
          <p:nvPr/>
        </p:nvSpPr>
        <p:spPr>
          <a:xfrm flipV="1">
            <a:off x="6443640" y="836640"/>
            <a:ext cx="57636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7164360" y="40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0" y="443700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0" y="5084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147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犬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1692360" y="5589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像犬牙那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0"/>
          <p:cNvSpPr/>
          <p:nvPr/>
        </p:nvSpPr>
        <p:spPr>
          <a:xfrm>
            <a:off x="241128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1"/>
          <p:cNvSpPr/>
          <p:nvPr/>
        </p:nvSpPr>
        <p:spPr>
          <a:xfrm>
            <a:off x="2987640" y="5013360"/>
            <a:ext cx="11527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140360" y="5084640"/>
            <a:ext cx="194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3"/>
          <p:cNvSpPr/>
          <p:nvPr/>
        </p:nvSpPr>
        <p:spPr>
          <a:xfrm>
            <a:off x="8172360" y="278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4"/>
          <p:cNvSpPr/>
          <p:nvPr/>
        </p:nvSpPr>
        <p:spPr>
          <a:xfrm>
            <a:off x="529272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5"/>
          <p:cNvSpPr/>
          <p:nvPr/>
        </p:nvSpPr>
        <p:spPr>
          <a:xfrm>
            <a:off x="6443640" y="530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它的源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0" y="1125360"/>
            <a:ext cx="241128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2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5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坐潭上，四面竹树         ，        无人，           骨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0" y="2492280"/>
            <a:ext cx="88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       境    清，不    久    ，    记            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399564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3564000" y="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环绕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14836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寂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78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寂静空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7020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凄神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630072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使…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877080" y="105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心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7667640" y="981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…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250920" y="2492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悄怆幽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0" y="3213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忧伤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0" y="364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幽静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340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212400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7"/>
          <p:cNvSpPr/>
          <p:nvPr/>
        </p:nvSpPr>
        <p:spPr>
          <a:xfrm>
            <a:off x="2484360" y="2492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8"/>
          <p:cNvSpPr/>
          <p:nvPr/>
        </p:nvSpPr>
        <p:spPr>
          <a:xfrm>
            <a:off x="2411280" y="357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9"/>
          <p:cNvSpPr/>
          <p:nvPr/>
        </p:nvSpPr>
        <p:spPr>
          <a:xfrm>
            <a:off x="3203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0"/>
          <p:cNvSpPr/>
          <p:nvPr/>
        </p:nvSpPr>
        <p:spPr>
          <a:xfrm>
            <a:off x="3419640" y="32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过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536400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392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464328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停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615636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6"/>
          <p:cNvSpPr/>
          <p:nvPr/>
        </p:nvSpPr>
        <p:spPr>
          <a:xfrm>
            <a:off x="6372360" y="306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7"/>
          <p:cNvSpPr/>
          <p:nvPr/>
        </p:nvSpPr>
        <p:spPr>
          <a:xfrm>
            <a:off x="558000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是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8"/>
          <p:cNvSpPr/>
          <p:nvPr/>
        </p:nvSpPr>
        <p:spPr>
          <a:xfrm>
            <a:off x="694836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之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5148360" y="3645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代词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指小石潭的情景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709308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8207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0" y="429264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真是太寂静幽深了。由于这地方过于冷清，不能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间地停留，于是就把当时的情景记下来便离去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我坐在潭边，四周有竹子和树林围绕着，静悄悄的没有人迹，使人感到心境凄凉，寒气彻骨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39528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写潭中气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5"/>
          <p:cNvSpPr/>
          <p:nvPr/>
        </p:nvSpPr>
        <p:spPr>
          <a:xfrm>
            <a:off x="2843280" y="577836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6"/>
          <p:cNvSpPr/>
          <p:nvPr/>
        </p:nvSpPr>
        <p:spPr>
          <a:xfrm>
            <a:off x="3419640" y="5589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气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7"/>
          <p:cNvSpPr/>
          <p:nvPr/>
        </p:nvSpPr>
        <p:spPr>
          <a:xfrm>
            <a:off x="3419640" y="6278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8"/>
          <p:cNvSpPr/>
          <p:nvPr/>
        </p:nvSpPr>
        <p:spPr>
          <a:xfrm>
            <a:off x="471636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9"/>
          <p:cNvSpPr/>
          <p:nvPr/>
        </p:nvSpPr>
        <p:spPr>
          <a:xfrm>
            <a:off x="4788000" y="62784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0"/>
          <p:cNvSpPr/>
          <p:nvPr/>
        </p:nvSpPr>
        <p:spPr>
          <a:xfrm>
            <a:off x="5292720" y="5950080"/>
            <a:ext cx="57456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1"/>
          <p:cNvSpPr/>
          <p:nvPr/>
        </p:nvSpPr>
        <p:spPr>
          <a:xfrm flipV="1">
            <a:off x="5292720" y="6308280"/>
            <a:ext cx="5745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2"/>
          <p:cNvSpPr/>
          <p:nvPr/>
        </p:nvSpPr>
        <p:spPr>
          <a:xfrm>
            <a:off x="6012000" y="5877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3"/>
          <p:cNvSpPr/>
          <p:nvPr/>
        </p:nvSpPr>
        <p:spPr>
          <a:xfrm>
            <a:off x="6732720" y="5734080"/>
            <a:ext cx="2411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情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0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305---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38080" y="1371600"/>
            <a:ext cx="914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008840" y="685800"/>
            <a:ext cx="458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535560" y="4665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仿宋"/>
                <a:ea typeface="仿宋"/>
              </a:rPr>
              <a:t>小石潭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087680" y="4724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楷体"/>
                <a:ea typeface="楷体"/>
              </a:rPr>
              <a:t>柳宗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25092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者：吴武陵，龚古，  弟宗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者，崔氏二        ：   恕己，曰奉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68360" y="242100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同游的人有吴武陵、龚古、我的弟弟宗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25092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跟着来的有姓崔的两个少年，一个叫恕己，一个叫奉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85928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514836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395280" y="3500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5435640" y="126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5508720" y="184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"/>
          <p:cNvSpPr/>
          <p:nvPr/>
        </p:nvSpPr>
        <p:spPr>
          <a:xfrm>
            <a:off x="370836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6112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147636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154764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游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8"/>
          <p:cNvSpPr/>
          <p:nvPr/>
        </p:nvSpPr>
        <p:spPr>
          <a:xfrm>
            <a:off x="826920" y="3500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97164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395280" y="2602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最后一段：记录同游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0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0" dur="2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news_20031019142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1143000" y="15238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全文共五段，可分为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一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方位和概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二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2~3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中的游鱼和潭中的水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三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气氛和作者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四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介绍与自己同游小石潭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4"/>
          <p:cNvGrpSpPr/>
          <p:nvPr/>
        </p:nvGrpSpPr>
        <p:grpSpPr>
          <a:xfrm>
            <a:off x="685800" y="4495680"/>
            <a:ext cx="7620120" cy="1752480"/>
            <a:chOff x="685800" y="4495680"/>
            <a:chExt cx="7620120" cy="1752480"/>
          </a:xfrm>
        </p:grpSpPr>
        <p:sp>
          <p:nvSpPr>
            <p:cNvPr id="469" name="Text Box 5"/>
            <p:cNvSpPr/>
            <p:nvPr/>
          </p:nvSpPr>
          <p:spPr>
            <a:xfrm>
              <a:off x="685800" y="4495680"/>
              <a:ext cx="76201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本文是按照游览顺序安排的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发现小潭（因闻水声，既觅小潭）              潭中景物（水、石、树、鱼）               潭中气氛（气氛、感受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                </a:t>
              </a: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同游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6"/>
            <p:cNvGrpSpPr/>
            <p:nvPr/>
          </p:nvGrpSpPr>
          <p:grpSpPr>
            <a:xfrm>
              <a:off x="838080" y="5257800"/>
              <a:ext cx="5410080" cy="990360"/>
              <a:chOff x="838080" y="5257800"/>
              <a:chExt cx="5410080" cy="990360"/>
            </a:xfrm>
          </p:grpSpPr>
          <p:sp>
            <p:nvSpPr>
              <p:cNvPr id="471" name="Line 7"/>
              <p:cNvSpPr/>
              <p:nvPr/>
            </p:nvSpPr>
            <p:spPr>
              <a:xfrm>
                <a:off x="5333760" y="525780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8"/>
              <p:cNvSpPr/>
              <p:nvPr/>
            </p:nvSpPr>
            <p:spPr>
              <a:xfrm>
                <a:off x="3581280" y="563832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"/>
              <p:cNvSpPr/>
              <p:nvPr/>
            </p:nvSpPr>
            <p:spPr>
              <a:xfrm>
                <a:off x="838080" y="624816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WordArt 10"/>
          <p:cNvSpPr txBox="1"/>
          <p:nvPr/>
        </p:nvSpPr>
        <p:spPr>
          <a:xfrm>
            <a:off x="2438280" y="2286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文章结构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5" name="Picture 11" descr="47"/>
          <p:cNvPicPr/>
          <p:nvPr/>
        </p:nvPicPr>
        <p:blipFill>
          <a:blip r:embed="rId4"/>
          <a:stretch/>
        </p:blipFill>
        <p:spPr>
          <a:xfrm>
            <a:off x="7467480" y="38088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独立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0" y="112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是按照什么顺序写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395280" y="1700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课文的写作顺序是（游览顺序）：发现小石潭──潭中景物──小潭源流──潭中气氛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0" y="34909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住了小石潭的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539640" y="4149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小石潭的特点：幽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0" y="4859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小石潭的整体感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826920" y="537372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作者对小石潭的整体感受：幽深冷寂，孤凄悲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685800" y="152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发现小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20040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362320" y="228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4038480" y="228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487692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57150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2971800" y="685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动词准确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6248520" y="228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685800" y="1752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1"/>
          <p:cNvSpPr/>
          <p:nvPr/>
        </p:nvSpPr>
        <p:spPr>
          <a:xfrm>
            <a:off x="2340000" y="141300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2411280" y="126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290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清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42670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2514600" y="205740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游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42670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7"/>
          <p:cNvSpPr/>
          <p:nvPr/>
        </p:nvSpPr>
        <p:spPr>
          <a:xfrm>
            <a:off x="5867280" y="1295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5943600" y="1676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写镜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609480" y="358128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小潭源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0"/>
          <p:cNvSpPr/>
          <p:nvPr/>
        </p:nvSpPr>
        <p:spPr>
          <a:xfrm>
            <a:off x="2340000" y="3357720"/>
            <a:ext cx="264960" cy="1290600"/>
          </a:xfrm>
          <a:custGeom>
            <a:avLst/>
            <a:gdLst>
              <a:gd name="textAreaLeft" fmla="*/ 169200 w 264960"/>
              <a:gd name="textAreaRight" fmla="*/ 265320 w 264960"/>
              <a:gd name="textAreaTop" fmla="*/ 33480 h 1290600"/>
              <a:gd name="textAreaBottom" fmla="*/ 1257120 h 12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2743200" y="3200400"/>
            <a:ext cx="13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溪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388620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2627280" y="4221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岸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3851280" y="414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5"/>
          <p:cNvSpPr/>
          <p:nvPr/>
        </p:nvSpPr>
        <p:spPr>
          <a:xfrm>
            <a:off x="5562720" y="3200400"/>
            <a:ext cx="75960" cy="1371600"/>
          </a:xfrm>
          <a:custGeom>
            <a:avLst/>
            <a:gdLst>
              <a:gd name="textAreaLeft" fmla="*/ 0 w 75960"/>
              <a:gd name="textAreaRight" fmla="*/ 2736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6"/>
          <p:cNvSpPr/>
          <p:nvPr/>
        </p:nvSpPr>
        <p:spPr>
          <a:xfrm>
            <a:off x="56386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7"/>
          <p:cNvSpPr/>
          <p:nvPr/>
        </p:nvSpPr>
        <p:spPr>
          <a:xfrm>
            <a:off x="609480" y="51055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8"/>
          <p:cNvSpPr/>
          <p:nvPr/>
        </p:nvSpPr>
        <p:spPr>
          <a:xfrm>
            <a:off x="24382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9"/>
          <p:cNvSpPr/>
          <p:nvPr/>
        </p:nvSpPr>
        <p:spPr>
          <a:xfrm>
            <a:off x="5486400" y="5105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0"/>
          <p:cNvSpPr/>
          <p:nvPr/>
        </p:nvSpPr>
        <p:spPr>
          <a:xfrm>
            <a:off x="533520" y="6019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1"/>
          <p:cNvSpPr/>
          <p:nvPr/>
        </p:nvSpPr>
        <p:spPr>
          <a:xfrm>
            <a:off x="7924680" y="304920"/>
            <a:ext cx="304920" cy="5790960"/>
          </a:xfrm>
          <a:custGeom>
            <a:avLst/>
            <a:gdLst>
              <a:gd name="textAreaLeft" fmla="*/ 0 w 304920"/>
              <a:gd name="textAreaRight" fmla="*/ 110160 w 30492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2"/>
          <p:cNvSpPr/>
          <p:nvPr/>
        </p:nvSpPr>
        <p:spPr>
          <a:xfrm>
            <a:off x="7883280" y="533520"/>
            <a:ext cx="103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抒发在寂寞处境中的悲凉凄苦的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3"/>
          <p:cNvSpPr/>
          <p:nvPr/>
        </p:nvSpPr>
        <p:spPr>
          <a:xfrm>
            <a:off x="1447920" y="7621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4"/>
          <p:cNvSpPr/>
          <p:nvPr/>
        </p:nvSpPr>
        <p:spPr>
          <a:xfrm>
            <a:off x="1447920" y="22860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5"/>
          <p:cNvSpPr/>
          <p:nvPr/>
        </p:nvSpPr>
        <p:spPr>
          <a:xfrm>
            <a:off x="1447920" y="41148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6"/>
          <p:cNvSpPr/>
          <p:nvPr/>
        </p:nvSpPr>
        <p:spPr>
          <a:xfrm>
            <a:off x="1447920" y="55627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24000" y="26028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问题研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179280" y="155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．第四段写作者在潭上所见到的景物和自己的感受，描写了小石潭中怎样的气氛？反映了作者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611280" y="306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描写了小石潭幽深冷寂的景色和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0" y="37893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极力描写小石潭的幽静，甚至浸透到人的心灵里去，把景物跟心情结合起来，写出一种境界。在这种境界里，透露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者贬居生活孤凄悲凉的心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这是作者被排挤、受迫害的身世遭遇的反映，我们可以从中体会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封建社会中不得志文人的痛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文章前面写“心乐之”，后面又写“悄怆幽邃”，一乐一忧似难相容，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324000" y="2205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乐是忧的另一种表现形式。柳宗元参与改革，失败被贬，心中愤懑难平，因而凄苦是他感情的主调，而寄情山水正是为了摆脱这种抑郁的心情；但这种欢乐毕竟是暂时的，一经凄清环境的触发，忧伤悲凉的心情又会流露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潭中气氛：幽深冷寂（孤凄悲凉心境的反映）──寓情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308520" y="251460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石潭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914400" y="762120"/>
            <a:ext cx="152280" cy="5257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990720" y="588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小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400800" y="838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移步换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90720" y="209088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2700360" y="206064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2819520" y="18702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水：清澈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771640" y="2421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游鱼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990720" y="3429000"/>
            <a:ext cx="21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266688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3048120" y="3048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溪身：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3048120" y="3809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岸势：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6019920" y="34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1042920" y="501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5715000" y="50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寓情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1042920" y="58053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2286000" y="457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隔、闻、伐、取、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3059280" y="4508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氛：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21"/>
          <p:cNvGrpSpPr/>
          <p:nvPr/>
        </p:nvGrpSpPr>
        <p:grpSpPr>
          <a:xfrm>
            <a:off x="4267080" y="533520"/>
            <a:ext cx="287280" cy="936360"/>
            <a:chOff x="4267080" y="533520"/>
            <a:chExt cx="287280" cy="936360"/>
          </a:xfrm>
        </p:grpSpPr>
        <p:sp>
          <p:nvSpPr>
            <p:cNvPr id="544" name="AutoShape 22"/>
            <p:cNvSpPr/>
            <p:nvPr/>
          </p:nvSpPr>
          <p:spPr>
            <a:xfrm>
              <a:off x="4267080" y="533520"/>
              <a:ext cx="216000" cy="93636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38880 h 936360"/>
                <a:gd name="textAreaBottom" fmla="*/ 89748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3"/>
            <p:cNvSpPr/>
            <p:nvPr/>
          </p:nvSpPr>
          <p:spPr>
            <a:xfrm>
              <a:off x="4267080" y="1036440"/>
              <a:ext cx="287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24"/>
          <p:cNvSpPr/>
          <p:nvPr/>
        </p:nvSpPr>
        <p:spPr>
          <a:xfrm>
            <a:off x="4800600" y="30492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——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5"/>
          <p:cNvSpPr/>
          <p:nvPr/>
        </p:nvSpPr>
        <p:spPr>
          <a:xfrm>
            <a:off x="4800600" y="76212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——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6"/>
          <p:cNvSpPr/>
          <p:nvPr/>
        </p:nvSpPr>
        <p:spPr>
          <a:xfrm>
            <a:off x="4800600" y="121932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——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7"/>
          <p:cNvSpPr/>
          <p:nvPr/>
        </p:nvSpPr>
        <p:spPr>
          <a:xfrm>
            <a:off x="6248520" y="60948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8"/>
          <p:cNvSpPr/>
          <p:nvPr/>
        </p:nvSpPr>
        <p:spPr>
          <a:xfrm>
            <a:off x="2843280" y="486900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9"/>
          <p:cNvSpPr/>
          <p:nvPr/>
        </p:nvSpPr>
        <p:spPr>
          <a:xfrm>
            <a:off x="3132000" y="53006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受：凄苦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0"/>
          <p:cNvSpPr/>
          <p:nvPr/>
        </p:nvSpPr>
        <p:spPr>
          <a:xfrm>
            <a:off x="5181480" y="1828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1"/>
          <p:cNvSpPr/>
          <p:nvPr/>
        </p:nvSpPr>
        <p:spPr>
          <a:xfrm>
            <a:off x="81532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2"/>
          <p:cNvSpPr/>
          <p:nvPr/>
        </p:nvSpPr>
        <p:spPr>
          <a:xfrm>
            <a:off x="75438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南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3"/>
          <p:cNvSpPr/>
          <p:nvPr/>
        </p:nvSpPr>
        <p:spPr>
          <a:xfrm>
            <a:off x="777240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坐潭上、记之而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8458200" y="144792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8458200" y="38862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6"/>
          <p:cNvSpPr/>
          <p:nvPr/>
        </p:nvSpPr>
        <p:spPr>
          <a:xfrm>
            <a:off x="7288560" y="1981080"/>
            <a:ext cx="1155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迷你简启体"/>
              </a:rPr>
              <a:t>移  步  换 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324000" y="501336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中描写游鱼动态的句子是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250920" y="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课堂反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50920" y="125892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原文填空。（如能默写，就更棒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0" y="2338560"/>
            <a:ext cx="89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高度概括小石潭的氛围，同时抒发作者政治受挫遭贬后忧伤心情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50920" y="386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描写游鱼静态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可      大约：潭中鱼可百许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可以，能够：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从      由，自：从小丘西行百二十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跟随：隶而从者，崔氏二小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清       清澈：下见小潭，水尤清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冷清：以其境过清，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差       长短不一，形容词：参差披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交错，动词：其岸势犬牙互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以       因为：以其境过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表示“以”前面的成分常是后面动词的状语，可以不译：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卷石底以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乐       以……为乐：心乐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逗乐，嬉戏：似与游乐者相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4cruderabbit32"/>
          <p:cNvPicPr/>
          <p:nvPr/>
        </p:nvPicPr>
        <p:blipFill>
          <a:blip r:embed="rId2"/>
          <a:stretch/>
        </p:blipFill>
        <p:spPr>
          <a:xfrm>
            <a:off x="7467480" y="30492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3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3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8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3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8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3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8" dur="5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3" dur="500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8" dur="500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3" dur="500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8" dur="500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3" dur="500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-20880"/>
            <a:ext cx="77724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小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百二十步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小潭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下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无所依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空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澈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斗，像北斗星那样；蛇，像蛇那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岸势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犬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互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犬牙一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容词作动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到快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（形容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使动用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凄，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凄凉；寒，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寒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思考"/>
          <p:cNvPicPr/>
          <p:nvPr/>
        </p:nvPicPr>
        <p:blipFill>
          <a:blip r:embed="rId1"/>
          <a:stretch/>
        </p:blipFill>
        <p:spPr>
          <a:xfrm>
            <a:off x="0" y="11736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539640" y="404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zh-CN" sz="7200" spc="-1" strike="noStrike">
                <a:solidFill>
                  <a:srgbClr val="99cc00"/>
                </a:solidFill>
                <a:latin typeface="仿宋"/>
                <a:ea typeface="仿宋"/>
              </a:rPr>
              <a:t>目标与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26920" y="278136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文章大意并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11280" y="33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２．体会文章的写景抒情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5640" y="4076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３．理解作者的思想感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0" y="12952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记之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3200400" y="1295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离开；今，前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335268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年轻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，戏曲艺术中的一种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380880" y="304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0" dur="indefinite" restart="never" nodeType="tmRoot">
          <p:childTnLst>
            <p:seq>
              <p:cTn id="2301" dur="indefinite" nodeType="mainSeq">
                <p:childTnLst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"/>
                <a:ea typeface="仿宋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仿宋"/>
                <a:ea typeface="仿宋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仿宋"/>
                <a:ea typeface="仿宋"/>
              </a:rPr>
              <a:t>小石潭记》是《永州八记》中的一篇。</a:t>
            </a:r>
            <a:r>
              <a:rPr b="1" lang="zh-CN" sz="4000" spc="-1" strike="noStrike">
                <a:solidFill>
                  <a:srgbClr val="ffff00"/>
                </a:solidFill>
                <a:latin typeface="仿宋"/>
                <a:ea typeface="仿宋"/>
              </a:rPr>
              <a:t>这篇散文生动地描写出了小石潭环境景物的幽美和静穆，抒发了作者贬官失意后的孤凄之情。</a:t>
            </a:r>
            <a:r>
              <a:rPr b="1" lang="zh-CN" sz="4000" spc="-1" strike="noStrike">
                <a:solidFill>
                  <a:srgbClr val="ffffff"/>
                </a:solidFill>
                <a:latin typeface="仿宋"/>
                <a:ea typeface="仿宋"/>
              </a:rPr>
              <a:t>语言简练、生动，景物刻画细腻、逼真，全篇充满了诗情画意，表现了作者杰出的写作技巧。因之，成为被历代所传诵的散文名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WordArt 3"/>
          <p:cNvGrpSpPr/>
          <p:nvPr/>
        </p:nvGrpSpPr>
        <p:grpSpPr>
          <a:xfrm>
            <a:off x="244440" y="182520"/>
            <a:ext cx="3687840" cy="1165320"/>
            <a:chOff x="244440" y="182520"/>
            <a:chExt cx="3687840" cy="1165320"/>
          </a:xfrm>
        </p:grpSpPr>
        <p:pic>
          <p:nvPicPr>
            <p:cNvPr id="576" name="WordArt 3" descr=""/>
            <p:cNvPicPr/>
            <p:nvPr/>
          </p:nvPicPr>
          <p:blipFill>
            <a:blip r:embed="rId1"/>
            <a:stretch/>
          </p:blipFill>
          <p:spPr>
            <a:xfrm>
              <a:off x="244440" y="182520"/>
              <a:ext cx="36878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50920" y="189000"/>
              <a:ext cx="3673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f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2883600" y="240192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再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=2620439948,4209566932&amp;gp=3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708360" y="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柳宗元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代文学家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宋八大家之一。字子厚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祖籍河东（今山西永济）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世称柳河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因官终柳州刺史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又称柳柳州。与韩愈共同倡导唐代古文运动 ，并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韩柳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他参加过永贞革新，失败后被贬为永州司马，从此柳宗元在荒远偏僻的永州苦呆了整整十年，后又被改贬到更为荒凉的柳州，四年后，病魔无情地夺去了他年仅四十七岁的生命。文稿由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刘禹锡编为《柳河东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u=1830735060,3515612415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43280" y="4046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柳宗元是一个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遍悟文体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的文学家 ，众体兼长，作品丰富，以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散文成就最大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有《柳河东集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山水游记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柳宗元散文创作中最富艺术独创性的一部分，有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《永州八记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等留存，其中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最负盛名的是《小石潭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=1830735060,3515612415&amp;gp=1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030560" y="5400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柳宗元被贬为永州司马后，时艰不可济，唐祚难振兴，谤毁兼至，贫病交加，老母病故，居处遭火，他满怀忧惧之情，多藉山水以排遣。所幸永州的大自然待他不薄，奇形异态的潭水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小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石渠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山涧纷至沓来，美不胜收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永州八记》就写于此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山水游记在中国文学史上具有独特的地位。 为人称道的《永州八记》是他被贬谪到永州以后写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《始得西山宴游记》《钴潭记》《钴潭西小丘记》《至小丘西小石潭记》《袁家渴记》《石渠记》《石涧记》《小石城山记》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些作品，画廊式地展现了湘桂之交一幅幅山水胜景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继承了郦道元《水经注》的传统而有所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水经注》是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地理书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对景物多客观描写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少主观感情的流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山水游记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则把自己的身世遭遇、思想感情融合于自然风景的描绘中，投入作者本人的身影，借被遗弃于荒远地区的美好风物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寄寓自己的不幸遭遇，倾注怨愤抑郁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白百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580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716360" y="1484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716436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292428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64328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94836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332000" y="4508640"/>
            <a:ext cx="16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348000" y="4508640"/>
            <a:ext cx="18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6012000" y="4508640"/>
            <a:ext cx="128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7524720" y="4365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155736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记：古代的一种文体，以叙事为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1547640" y="242100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记游，可抒情，可议论，可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179280" y="33336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了解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971640" y="371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4572000" y="371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111600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716360" y="4581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醉翁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3:52:49Z</dcterms:created>
  <dc:creator>备课大师网</dc:creator>
  <dc:description/>
  <cp:keywords/>
  <dc:language>en-US</dc:language>
  <cp:lastModifiedBy>Administrator</cp:lastModifiedBy>
  <dcterms:modified xsi:type="dcterms:W3CDTF">2004-01-04T10:26:42Z</dcterms:modified>
  <cp:revision>2</cp:revision>
  <dc:subject/>
  <dc:title>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