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gif" ContentType="image/gif"/>
  <Override PartName="/ppt/media/image28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cashreg.wav" ContentType="audio/x-wav"/>
  <Override PartName="/ppt/media/image16.jpeg" ContentType="image/jpeg"/>
  <Override PartName="/ppt/media/image14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26.png" ContentType="image/png"/>
  <Override PartName="/ppt/media/image33.jpeg" ContentType="image/jpeg"/>
  <Override PartName="/ppt/media/image10.png" ContentType="image/png"/>
  <Override PartName="/ppt/media/image34.png" ContentType="image/png"/>
  <Override PartName="/ppt/media/image38.jpeg" ContentType="image/jpeg"/>
  <Override PartName="/ppt/media/image45.png" ContentType="image/png"/>
  <Override PartName="/ppt/media/image44.jpeg" ContentType="image/jpeg"/>
  <Override PartName="/ppt/media/image41.png" ContentType="image/png"/>
  <Override PartName="/ppt/media/image30.png" ContentType="image/png"/>
  <Override PartName="/ppt/media/image37.jpeg" ContentType="image/jpeg"/>
  <Override PartName="/ppt/media/image42.png" ContentType="image/png"/>
  <Override PartName="/ppt/media/image35.png" ContentType="image/png"/>
  <Override PartName="/ppt/media/image29.jpeg" ContentType="image/jpeg"/>
  <Override PartName="/ppt/media/image7.gif" ContentType="image/gif"/>
  <Override PartName="/ppt/media/image5.jpeg" ContentType="image/jpeg"/>
  <Override PartName="/ppt/media/camera.wav" ContentType="audio/x-wav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png" ContentType="image/png"/>
  <Override PartName="/ppt/media/image43.gif" ContentType="image/gif"/>
  <Override PartName="/ppt/media/image6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12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BBF1-4A05-4792-BFB1-B48BF8984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41F1-B99D-49E0-9CB4-F31A91116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3EC-0D5B-4E0F-84FF-AC17563A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6FD-3972-4501-819D-2618682E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2C8-5CA6-41EA-AAB5-F2FE6C3E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AE0-357A-4B5C-8E09-A4F3A564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7E3D-307A-47C3-BFAE-7CA8AEA2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F6E7-BA1E-4F67-A856-2CE4E709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2902-DB9D-4C41-8298-17C40AC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47F9-89A9-4D63-955D-90C467BA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4D45-FAF2-4DE5-856A-04624FE4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57DA-BED7-478F-9847-44BA1703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0B4C-5A99-4334-80B2-0DE0A56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E0A-CCF3-4A09-A4E0-1FC63E9C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162C-7527-4792-BE8D-5AAC8BC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0B93-E96D-4D3D-BF9B-3035ACAE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A6D3-1AD5-4EE6-97BE-57F42AEC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5BE8-77F0-4A04-8E42-3A4DC7AA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234D-E326-4DF4-A6B5-60AF0340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021E-9949-4E0F-BB49-D6F57D00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41A9-4FEB-4FFF-B89F-2FCC32F9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0FB9-0054-4F99-A245-9DC46B72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3B54-9B84-45DF-A987-48EAB15E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5C30-6624-4095-A0C4-FA639E89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351-A4B8-4589-9D32-83DBD3C1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EB60-1877-4182-8DE0-FA027047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2008-9F23-4CD9-8578-2ABF21B3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54FE-46A5-4F61-94A2-5891ED21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C9553-92C3-4359-AF1E-6B9919A2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90AB-FBCC-4C80-989A-63F38796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E99A-9C4B-4E5A-84F1-8BE146E3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A24DF-42FB-4CA0-AAAD-0064B452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E70F7-0474-4B17-AFF3-AB15CD37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CCC1-351B-420D-AE55-C31C1BAA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33B6-9992-487F-B288-5ACE507E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21D-BAEC-4114-A727-C0EBCC59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69B9-A0D9-4CC3-9587-3E77E715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59D2-73B4-4261-B883-004C6530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92B6-045B-46B6-AD08-05F301C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580B-917B-4D2F-A5B6-4BEEEF8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26FD-82BA-4DF1-9805-3B446D38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6DD20-5272-45CA-862F-95D433A2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BDCE-1A2A-452C-B2A0-623F5964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D5D6-CAED-4073-9AE4-387FF7FD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5EDA-3DEF-4CA0-A062-CD7BC9AE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CC946-0C0F-47E7-AC36-A17C719A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771-05E4-4CBC-8114-CCBC40AE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2BFFD-E0FB-4948-92AD-C87557AE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D2131-812C-4E16-B0F7-72F52B54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E8447-BE25-4A17-B8F0-77A22237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58547-1C13-4F8A-9E4D-1425F63A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0C328-D41B-401D-90F8-D9F4D8A7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56CE5-F61E-4DE0-B1F9-4F7B0EF3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D863-36F5-4649-822F-56054DF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7BE3C-3DEC-4388-8CD9-DDBC0206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2DD6E-DEB8-4C0D-8924-6BC01231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0AC15-CDBD-4893-85CE-F57A1BE7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2EF-2AB7-4A8F-B07E-7596A29A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071C5-14E1-4CAC-8FB2-38E4DB06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96E56-DA6E-4410-BC28-5592A8DC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C7DE2-38D5-4B87-91A5-92C7C1BC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3A5FF-ABAF-4F8F-B00F-89853536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0BA38-307B-4A85-AD3C-CBEB31C1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CC61D-ED7C-46B9-873C-B83C7C83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C7B2C-413C-4E3C-B3D2-03D5C82F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03908-6C39-4345-8B5D-E4500D6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5BC68-7BA6-4C3D-8D4A-B668EAC2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A55C5-5D09-434A-BF65-6AAEAFAC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DF5-AFFB-49D6-A9E5-BD3C723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EA24-FB01-4234-ABDE-CD527364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63561-A325-4034-9D84-7F11FBC5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E0603-3142-4BF2-88D7-62B96D83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9A18C-3675-481A-B4BD-1D1DCD38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7E369-AB95-4D52-AF25-A46E864B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10696-839F-49EF-96ED-593F9EEF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1FCB6-5F57-410F-8927-509F2CDB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4AAB9-D0EE-417B-9A88-E83C0533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4FC1-CEA0-4E8F-8D1A-76A33CD3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4852C-D66B-4EC0-9FC0-7757F599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1CE-A91A-48CD-97DB-5F1DB54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6AA8C-ADEF-4E58-B836-4BA819DF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899FB-FDA3-4FD8-B149-5516C5A2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1E310-6610-4435-BBA8-E2F237AE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F58BA-B301-48D0-8D59-635A696E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65ACD-78D2-4711-B0C9-006EDF90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052-76BD-4994-9747-161EAE8A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75E-28E8-4D8F-B4AF-652FB65ACC2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矩形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直接连接符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71BF-972D-4121-A605-D0098C44B16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92BE-E838-40AA-96BF-E7B8B7B8161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D11F-7921-477F-AFFA-FEB5E4CA634E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30EF-4195-4885-B7BD-AD0BF990527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7819-352A-480A-BFD6-0ED74A4FA8E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4E84-1EA7-4E86-92B9-9A214C98357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渔夫的故事   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6" name="WordArt 3" descr=""/>
          <p:cNvPicPr/>
          <p:nvPr/>
        </p:nvPicPr>
        <p:blipFill>
          <a:blip r:embed="rId2"/>
          <a:stretch/>
        </p:blipFill>
        <p:spPr>
          <a:xfrm>
            <a:off x="749160" y="1974960"/>
            <a:ext cx="70358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2"/>
          <p:cNvSpPr txBox="1"/>
          <p:nvPr/>
        </p:nvSpPr>
        <p:spPr>
          <a:xfrm>
            <a:off x="1600200" y="2819520"/>
            <a:ext cx="5029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给各段写小标题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1752480" y="6858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欣赏了课文，我们来比比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未标题-2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429120" y="1371600"/>
            <a:ext cx="2009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渔 夫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捞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未标题-3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"/>
          <p:cNvSpPr/>
          <p:nvPr/>
        </p:nvSpPr>
        <p:spPr>
          <a:xfrm>
            <a:off x="1375560" y="1447920"/>
            <a:ext cx="1094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放出魔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未标题-5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581760" y="1371600"/>
            <a:ext cx="2009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逞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未标题-4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200520" y="1066680"/>
            <a:ext cx="2009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战胜魔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80880" y="4952880"/>
            <a:ext cx="7391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未标题-2"/>
          <p:cNvPicPr/>
          <p:nvPr/>
        </p:nvPicPr>
        <p:blipFill>
          <a:blip r:embed="rId1"/>
          <a:stretch/>
        </p:blipFill>
        <p:spPr>
          <a:xfrm>
            <a:off x="0" y="0"/>
            <a:ext cx="4648320" cy="2438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未标题-3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438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未标题-5"/>
          <p:cNvPicPr/>
          <p:nvPr/>
        </p:nvPicPr>
        <p:blipFill>
          <a:blip r:embed="rId3"/>
          <a:stretch/>
        </p:blipFill>
        <p:spPr>
          <a:xfrm>
            <a:off x="0" y="2438280"/>
            <a:ext cx="4648320" cy="1981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未标题-4"/>
          <p:cNvPicPr/>
          <p:nvPr/>
        </p:nvPicPr>
        <p:blipFill>
          <a:blip r:embed="rId4"/>
          <a:stretch/>
        </p:blipFill>
        <p:spPr>
          <a:xfrm>
            <a:off x="4648320" y="2438280"/>
            <a:ext cx="4495680" cy="19814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0" y="4114800"/>
            <a:ext cx="91440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渔夫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瓶→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放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魔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→魔鬼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逞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战胜魔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1676520" y="41148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c66bb"/>
                </a:solidFill>
                <a:latin typeface="Times New Roman"/>
              </a:rPr>
              <a:t>完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3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3" descr=""/>
          <p:cNvPicPr/>
          <p:nvPr/>
        </p:nvPicPr>
        <p:blipFill>
          <a:blip r:embed="rId2"/>
          <a:stretch/>
        </p:blipFill>
        <p:spPr>
          <a:xfrm>
            <a:off x="-201600" y="-311040"/>
            <a:ext cx="9028080" cy="15364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-152280" y="761760"/>
            <a:ext cx="952488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rebuchet MS"/>
              </a:rPr>
              <a:t>   </a:t>
            </a:r>
            <a:r>
              <a:rPr b="1" lang="zh-CN" sz="2600" spc="-1" strike="noStrike">
                <a:solidFill>
                  <a:srgbClr val="ff3300"/>
                </a:solidFill>
                <a:latin typeface="Trebuchet MS"/>
                <a:ea typeface="黑体"/>
              </a:rPr>
              <a:t>故事发生：</a:t>
            </a:r>
            <a:r>
              <a:rPr b="1" lang="zh-CN" sz="2600" spc="-1" strike="noStrike">
                <a:solidFill>
                  <a:srgbClr val="6600ff"/>
                </a:solidFill>
                <a:latin typeface="Trebuchet MS"/>
              </a:rPr>
              <a:t>渔夫捕鱼时捞着个（        ），他打（       ），没想到从里面来个（          ）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ff"/>
                </a:solidFill>
                <a:latin typeface="Trebuchet MS"/>
              </a:rPr>
              <a:t>   </a:t>
            </a:r>
            <a:r>
              <a:rPr b="1" lang="zh-CN" sz="2600" spc="-1" strike="noStrike">
                <a:solidFill>
                  <a:srgbClr val="ff3300"/>
                </a:solidFill>
                <a:latin typeface="Trebuchet MS"/>
                <a:ea typeface="黑体"/>
              </a:rPr>
              <a:t>故事发展：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ff"/>
                </a:solidFill>
                <a:latin typeface="Trebuchet MS"/>
              </a:rPr>
              <a:t>          </a:t>
            </a:r>
            <a:r>
              <a:rPr b="1" lang="zh-CN" sz="2600" spc="-1" strike="noStrike">
                <a:solidFill>
                  <a:srgbClr val="6600ff"/>
                </a:solidFill>
                <a:latin typeface="Trebuchet MS"/>
              </a:rPr>
              <a:t>（        ）好心救了（       ），可（       ）居然要杀死（      ），真是（      ）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ff"/>
                </a:solidFill>
                <a:latin typeface="Trebuchet MS"/>
              </a:rPr>
              <a:t>   </a:t>
            </a:r>
            <a:r>
              <a:rPr b="1" lang="zh-CN" sz="2600" spc="-1" strike="noStrike">
                <a:solidFill>
                  <a:srgbClr val="ff3300"/>
                </a:solidFill>
                <a:latin typeface="Trebuchet MS"/>
                <a:ea typeface="黑体"/>
              </a:rPr>
              <a:t>高潮结局：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ff"/>
                </a:solidFill>
                <a:latin typeface="Trebuchet MS"/>
              </a:rPr>
              <a:t>            </a:t>
            </a:r>
            <a:r>
              <a:rPr b="1" lang="zh-CN" sz="2600" spc="-1" strike="noStrike">
                <a:solidFill>
                  <a:srgbClr val="6600ff"/>
                </a:solidFill>
                <a:latin typeface="Trebuchet MS"/>
              </a:rPr>
              <a:t>渔夫（       ）下来，相信自己的（      ）一定能压制妖气，于是想了个妙计，（      ）自己乖乖地回到瓶中，战胜了（       ）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6" descr="2009114073612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矩形 4"/>
          <p:cNvSpPr/>
          <p:nvPr/>
        </p:nvSpPr>
        <p:spPr>
          <a:xfrm>
            <a:off x="250920" y="47628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591f4d"/>
                </a:solidFill>
                <a:latin typeface="楷体"/>
                <a:ea typeface="楷体"/>
              </a:rPr>
              <a:t>渔夫经过四次撒网、捞到铜瓶，撬开锡封、放出魔鬼，那么出现在大家面前的魔鬼又是怎样的形象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7"/>
          <p:cNvSpPr/>
          <p:nvPr/>
        </p:nvSpPr>
        <p:spPr>
          <a:xfrm>
            <a:off x="500040" y="282888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32523"/>
                </a:solidFill>
                <a:latin typeface="楷体"/>
                <a:ea typeface="楷体"/>
              </a:rPr>
              <a:t>头像（　   ）         手像（　　 ）           腿像（　　 ）         口像（　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32523"/>
                </a:solidFill>
                <a:latin typeface="楷体"/>
                <a:ea typeface="楷体"/>
              </a:rPr>
              <a:t>牙齿像（　   ）       鼻孔（　　 ）          眼睛像（　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2071800" y="2857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堡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9"/>
          <p:cNvSpPr/>
          <p:nvPr/>
        </p:nvSpPr>
        <p:spPr>
          <a:xfrm>
            <a:off x="7143840" y="29289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铁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0"/>
          <p:cNvSpPr/>
          <p:nvPr/>
        </p:nvSpPr>
        <p:spPr>
          <a:xfrm>
            <a:off x="2071800" y="3500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桅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7162920" y="35053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山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2362320" y="39625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白石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7143840" y="407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4"/>
          <p:cNvSpPr/>
          <p:nvPr/>
        </p:nvSpPr>
        <p:spPr>
          <a:xfrm>
            <a:off x="2428920" y="45720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灯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5181480" y="46080"/>
            <a:ext cx="3956040" cy="676764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3"/>
          <p:cNvSpPr/>
          <p:nvPr/>
        </p:nvSpPr>
        <p:spPr>
          <a:xfrm>
            <a:off x="228600" y="228600"/>
            <a:ext cx="480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魔鬼头像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堡垒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像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铁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腿像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桅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像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山洞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牙齿像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白石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鼻孔像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喇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眼睛像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灯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样子非常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凶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228600" y="331308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这句话是魔鬼的（   ）描写，运用了（          ）和（    ）的修辞手法，表现了魔鬼的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6918480" y="37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09480" y="38862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外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533520" y="4419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喻、夸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685800" y="49528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3505320" y="556272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凶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2"/>
          <a:stretch/>
        </p:blipFill>
        <p:spPr>
          <a:xfrm>
            <a:off x="255600" y="317520"/>
            <a:ext cx="8113680" cy="11509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rebuchet MS"/>
              </a:rPr>
              <a:t>凶恶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rebuchet MS"/>
              </a:rPr>
              <a:t>说谎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rebuchet MS"/>
              </a:rPr>
              <a:t>狡猾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rebuchet MS"/>
              </a:rPr>
              <a:t>本性邪恶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rebuchet MS"/>
              </a:rPr>
              <a:t>恩将仇报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3" name="Picture 4" descr="未标题-5"/>
          <p:cNvPicPr/>
          <p:nvPr/>
        </p:nvPicPr>
        <p:blipFill>
          <a:blip r:embed="rId3"/>
          <a:stretch/>
        </p:blipFill>
        <p:spPr>
          <a:xfrm>
            <a:off x="4572000" y="148428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567080" y="1341360"/>
            <a:ext cx="9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芝麻开门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552400" y="2565360"/>
            <a:ext cx="9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人，有什么事，请吩咐吧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4338000" y="3789360"/>
            <a:ext cx="9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个无恶不作的凶神，曾经跟所罗门作对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4749480" y="1341360"/>
            <a:ext cx="29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阿里巴巴和四十大盗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6592320" y="2565360"/>
            <a:ext cx="22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阿拉丁的神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6296040" y="443700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渔夫的故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u=2329199540,2212461872&amp;fm=0&amp;gp=0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夫一看见这个可怕的魔鬼，呆呆地不知如何应付。可是凶恶之极的魔鬼要恩将仇报。他告诉渔夫，是所罗门把他封在胆瓶里。他说要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前来救他，就一定会报答这个人，可是过了四百年都没有人来救他，于是魔鬼就起誓谁要是第四个世纪来救他，就会杀死救他的那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对着恩将仇报的魔鬼，渔夫想：要用自己的智慧压制魔鬼的妖气，于是告诉魔鬼他绝对不相信胆瓶能装下魔鬼那么庞大的身体。魔鬼信以为真，化作青烟钻进瓶胆。渔夫立即封上瓶口，把胆瓶扔回了大海。渔夫最终用智慧战胜了魔鬼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51920" y="-360"/>
            <a:ext cx="8534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zh-CN" sz="4800" spc="-1" strike="noStrike">
                <a:solidFill>
                  <a:srgbClr val="000000"/>
                </a:solidFill>
                <a:latin typeface="Trebuchet MS"/>
              </a:rPr>
              <a:t>文章的作者为什么要用这么大的篇幅描写魔鬼和渔夫的对话呢？这里面有什么奥秘呢？这节课，我们就来</a:t>
            </a:r>
            <a:r>
              <a:rPr b="0" lang="zh-CN" sz="4800" spc="-1" strike="noStrike">
                <a:solidFill>
                  <a:srgbClr val="ff3300"/>
                </a:solidFill>
                <a:latin typeface="Trebuchet MS"/>
              </a:rPr>
              <a:t>研究研究渔夫和魔鬼的两次对话。</a:t>
            </a:r>
            <a:r>
              <a:rPr b="0" lang="zh-CN" sz="26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20091022231639222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746280" y="2612880"/>
            <a:ext cx="748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我把你从海里捞上来，又把你从胆瓶里放出来，救了你的命，你为什么要杀我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641760" y="936720"/>
            <a:ext cx="359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品读感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6"/>
          <p:cNvSpPr/>
          <p:nvPr/>
        </p:nvSpPr>
        <p:spPr>
          <a:xfrm>
            <a:off x="533520" y="19051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不明白渔夫把魔鬼从海里捞上来，为什么魔鬼要把他杀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457200" y="415116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读读文章的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-1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然段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找出其中的答案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u=2994787043,756470132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4"/>
          <p:cNvSpPr/>
          <p:nvPr/>
        </p:nvSpPr>
        <p:spPr>
          <a:xfrm>
            <a:off x="838080" y="7840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渔夫可真够倒霉的，如果他是前四百年把胆瓶捞上来，那渔夫可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他可以拥有享受终身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可以拥有世界上所有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可以轻易实现自己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他怎么这样倒霉，四百年后才把它捞上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2971800" y="20574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大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3429000" y="266688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荣华富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114800" y="32767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宝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3581280" y="388620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个愿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9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540864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5"/>
          <p:cNvSpPr/>
          <p:nvPr/>
        </p:nvSpPr>
        <p:spPr>
          <a:xfrm>
            <a:off x="212760" y="5584680"/>
            <a:ext cx="82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你们相信魔鬼的话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137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4"/>
          <p:cNvSpPr/>
          <p:nvPr/>
        </p:nvSpPr>
        <p:spPr>
          <a:xfrm>
            <a:off x="0" y="312408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是个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无恶不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的凶神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4" name="Picture 3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4"/>
          <p:cNvSpPr/>
          <p:nvPr/>
        </p:nvSpPr>
        <p:spPr>
          <a:xfrm>
            <a:off x="212760" y="39625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会儿，他听见魔鬼叫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罗门啊，别杀我，以后我不敢再违背您的命令了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152280" y="51418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听所罗门死了，魔鬼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立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凶恶地说：“渔夫啊，准备死吧！你选择怎样死吧，我立刻就要把你杀掉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从“立刻”一词可以看出魔鬼凶恶狡猾的本性，因为对所罗门有所惧，所以一出来是卑躬屈膝的软弱模样，一旦听说所罗门已经死了，就原形毕露，凶恶无比，恩将仇报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20091022231639222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3"/>
          <p:cNvSpPr/>
          <p:nvPr/>
        </p:nvSpPr>
        <p:spPr>
          <a:xfrm>
            <a:off x="380880" y="25909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不是住在这个胆瓶里吗？照道理说，这个胆瓶既容不下你一只手，更容不下你一条腿，怎么容得下你这样庞大的整个身体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3641760" y="936720"/>
            <a:ext cx="359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品读感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365040" y="51055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渔夫难道不相信魔鬼会钻进胆瓶里吗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4" descr="2008921111158137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2"/>
          <p:cNvSpPr/>
          <p:nvPr/>
        </p:nvSpPr>
        <p:spPr>
          <a:xfrm>
            <a:off x="304920" y="304380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楷体"/>
                <a:ea typeface="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一千零一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又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天方夜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被誉为世界民间文学创作中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最壮丽的一座纪念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”，是古代阿拉伯著名的民间故事，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26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个小故事组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13"/>
          <p:cNvPicPr/>
          <p:nvPr/>
        </p:nvPicPr>
        <p:blipFill>
          <a:blip r:embed="rId2"/>
          <a:stretch/>
        </p:blipFill>
        <p:spPr>
          <a:xfrm>
            <a:off x="4343400" y="304920"/>
            <a:ext cx="46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2"/>
          <a:stretch/>
        </p:blipFill>
        <p:spPr>
          <a:xfrm>
            <a:off x="49320" y="268200"/>
            <a:ext cx="87040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rebuchet MS"/>
              </a:rPr>
              <a:t>临危不惧，相信自己的智慧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rebuchet MS"/>
              </a:rPr>
              <a:t>骗魔鬼钻进胆瓶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rebuchet MS"/>
              </a:rPr>
              <a:t>立刻封住瓶口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rebuchet MS"/>
              </a:rPr>
              <a:t>投进海里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rebuchet MS"/>
              </a:rPr>
              <a:t>告诉人们，不要再上当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20091022231639222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380880" y="2590920"/>
            <a:ext cx="861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课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──2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然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渔夫在说这些话的时候，心里到底在想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3641760" y="936720"/>
            <a:ext cx="359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品读感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6"/>
          <p:cNvSpPr/>
          <p:nvPr/>
        </p:nvSpPr>
        <p:spPr>
          <a:xfrm>
            <a:off x="517680" y="264960"/>
            <a:ext cx="809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时候渔夫想到： “他是个魔鬼，我是个堂堂的人。我的智慧一定能压制他的妖气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1050840" y="23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57200" y="28954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句话主要是写渔夫的（       ），渔夫下定决心要运用（      ）战胜魔鬼，可见渔夫非常的（          ）于是想出了让魔鬼重新回到瓶子里从而制伏他的主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914400" y="35812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理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1219320" y="41911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智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981080" y="487692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聪明和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65040" y="533520"/>
            <a:ext cx="83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你不是住在这个胆瓶里吗？照道理说，这个胆瓶既容不下你一只手，更容不下你一条腿，怎么容得下你这样庞大的整个身体呢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28600" y="32227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渔夫不是不相信魔鬼可以可以缩进胆瓶，他真正的目的是想（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还想借此机会（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334120" y="388620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解救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3429000" y="434340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惩罚魔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3"/>
          <p:cNvSpPr/>
          <p:nvPr/>
        </p:nvSpPr>
        <p:spPr>
          <a:xfrm>
            <a:off x="45720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‘‘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我没有亲眼所见，绝不相信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304920" y="1317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改变句子意思，把这个句子改成一个反问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33520" y="28414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我没有亲眼所见，怎么能相信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7"/>
          <p:cNvSpPr/>
          <p:nvPr/>
        </p:nvSpPr>
        <p:spPr>
          <a:xfrm>
            <a:off x="289080" y="250920"/>
            <a:ext cx="80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渔夫见青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进了胆瓶，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立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拾起盖印的锡封，把瓶口封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0" y="201780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从这句话中的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立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，你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会到渔夫（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2438280" y="3276720"/>
            <a:ext cx="283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机智与勇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夫一看见这个可怕的魔鬼，呆呆地不知如何应付。可是凶恶之极的魔鬼要恩将仇报。他告诉渔夫，是所罗门把他封在胆瓶里。他说要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前来救他，就一定会报答这个人，可是过了四百年都没有人来救他，于是魔鬼就起誓谁要是第四个世纪来救他，就会杀死救他的那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对着恩将仇报的魔鬼，渔夫想：要用自己的智慧压制魔鬼的妖气，于是告诉魔鬼他绝对不相信胆瓶能装下魔鬼那么庞大的身体。魔鬼信以为真，化作青烟钻进瓶胆。渔夫立即封上瓶口，把胆瓶扔回了大海。渔夫最终用智慧战胜了魔鬼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0" y="5562720"/>
            <a:ext cx="98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刚才编的故事，我这样编，行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？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  <p:pic>
        <p:nvPicPr>
          <p:cNvPr id="457" name="Rectangle 3" descr=""/>
          <p:cNvPicPr/>
          <p:nvPr/>
        </p:nvPicPr>
        <p:blipFill>
          <a:blip r:embed="rId2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66bb"/>
                </a:solidFill>
                <a:latin typeface="Trebuchet MS"/>
              </a:rPr>
              <a:t>外貌描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66bb"/>
                </a:solidFill>
                <a:latin typeface="Trebuchet MS"/>
              </a:rPr>
              <a:t>神态描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66bb"/>
                </a:solidFill>
                <a:latin typeface="Trebuchet MS"/>
              </a:rPr>
              <a:t>动作描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66bb"/>
                </a:solidFill>
                <a:latin typeface="Trebuchet MS"/>
              </a:rPr>
              <a:t>语言描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66bb"/>
                </a:solidFill>
                <a:latin typeface="Trebuchet MS"/>
              </a:rPr>
              <a:t>心理描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613640" cy="15969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252360" y="148608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74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魔鬼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夫说道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罗门已经死了一千八百年了，你是怎么钻到这个瓶子里的呢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174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时候渔夫想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个魔鬼，我是个堂堂的人。我的智慧一定能压制他的妖气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74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我非常生气，我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今以后，谁要是来解救我，我一定要杀死他，不过准许他选择怎样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174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时候，魔鬼摇身一变，变成一团青烟，逐渐缩成一缕，慢慢地钻进胆瓶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74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6084720" y="1990800"/>
            <a:ext cx="2953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语言描写   诚实善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5797440" y="3070080"/>
            <a:ext cx="3168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心理描写  勇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5581800" y="4581360"/>
            <a:ext cx="324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语言描写  凶残虚伪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5437080" y="5734080"/>
            <a:ext cx="324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动作描写    愚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1" descr="2009114073612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矩形 2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渔夫与魔鬼的斗争，最后以渔夫的胜利告终，寄寓着劳动人民美好的理想和愿望，那么这个美好的理想和愿望具体指什么呢？（这则民间故事说明一个什么道理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3"/>
          <p:cNvSpPr/>
          <p:nvPr/>
        </p:nvSpPr>
        <p:spPr>
          <a:xfrm>
            <a:off x="285840" y="3048120"/>
            <a:ext cx="85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正义的力量一定能战胜邪恶的势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对付像魔鬼那样的凶恶敌人，不能抱有幻想，施加仁慈，而要敢于斗争，依靠自己的智慧和力量去战胜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WordArt 2"/>
          <p:cNvSpPr txBox="1"/>
          <p:nvPr/>
        </p:nvSpPr>
        <p:spPr>
          <a:xfrm>
            <a:off x="838080" y="68580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宋体"/>
              </a:rPr>
              <a:t>要求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990720" y="213372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c66bb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ac66bb"/>
                </a:solidFill>
                <a:latin typeface="Arial"/>
              </a:rPr>
              <a:t>分段朗读课文，读准字词，读通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c66bb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ac66bb"/>
                </a:solidFill>
                <a:latin typeface="Arial"/>
              </a:rPr>
              <a:t>想一想，故事讲了一件什么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914400" y="2286000"/>
            <a:ext cx="5791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3" descr="未标题-1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4"/>
          <p:cNvSpPr/>
          <p:nvPr/>
        </p:nvSpPr>
        <p:spPr>
          <a:xfrm>
            <a:off x="625320" y="380880"/>
            <a:ext cx="8229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形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渔夫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【                                                            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魔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1082520" y="2286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1463760" y="11430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诚实、善良、机智、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0" y="3110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146376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凶残、愚蠢、狡猾、虚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2971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66bb"/>
                </a:solidFill>
                <a:latin typeface="Times New Roman"/>
              </a:rPr>
              <a:t>鲜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0" dur="3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rebuchet MS"/>
              </a:rPr>
              <a:t>渔夫回到家，妻子见他空手归来，开始责怪他。</a:t>
            </a:r>
            <a:r>
              <a:rPr b="0" lang="zh-CN" sz="4400" spc="-1" strike="noStrike">
                <a:solidFill>
                  <a:srgbClr val="cc0099"/>
                </a:solidFill>
                <a:latin typeface="Trebuchet MS"/>
              </a:rPr>
              <a:t>渔夫对妻子说：“</a:t>
            </a:r>
            <a:r>
              <a:rPr b="0" lang="en-US" sz="4400" spc="-1" strike="noStrike">
                <a:solidFill>
                  <a:srgbClr val="cc0099"/>
                </a:solidFill>
                <a:latin typeface="Trebuchet MS"/>
                <a:ea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rebuchet MS"/>
                <a:ea typeface="Arial"/>
              </a:rPr>
              <a:t>傍晚，渔夫把村子里的人召集起来，</a:t>
            </a:r>
            <a:r>
              <a:rPr b="0" lang="zh-CN" sz="4400" spc="-1" strike="noStrike">
                <a:solidFill>
                  <a:srgbClr val="cc0099"/>
                </a:solidFill>
                <a:latin typeface="Trebuchet MS"/>
                <a:ea typeface="Arial"/>
              </a:rPr>
              <a:t>渔夫对他们说：“</a:t>
            </a:r>
            <a:r>
              <a:rPr b="0" lang="en-US" sz="4400" spc="-1" strike="noStrike">
                <a:solidFill>
                  <a:srgbClr val="cc0099"/>
                </a:solidFill>
                <a:latin typeface="Trebuchet MS"/>
                <a:ea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u=1636303840,2658967791&amp;fm=52&amp;gp=0[1]"/>
          <p:cNvPicPr/>
          <p:nvPr/>
        </p:nvPicPr>
        <p:blipFill>
          <a:blip r:embed="rId2"/>
          <a:stretch/>
        </p:blipFill>
        <p:spPr>
          <a:xfrm>
            <a:off x="1428840" y="1484280"/>
            <a:ext cx="3071880" cy="2376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u=4064079271,2970652155&amp;fm=52&amp;gp=0[1]"/>
          <p:cNvPicPr/>
          <p:nvPr/>
        </p:nvPicPr>
        <p:blipFill>
          <a:blip r:embed="rId3"/>
          <a:stretch/>
        </p:blipFill>
        <p:spPr>
          <a:xfrm>
            <a:off x="5292720" y="1413000"/>
            <a:ext cx="3311640" cy="2376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u=1523667700,1775911491&amp;fm=52&amp;gp=0[1]"/>
          <p:cNvPicPr/>
          <p:nvPr/>
        </p:nvPicPr>
        <p:blipFill>
          <a:blip r:embed="rId4"/>
          <a:stretch/>
        </p:blipFill>
        <p:spPr>
          <a:xfrm>
            <a:off x="539640" y="4365720"/>
            <a:ext cx="3095640" cy="2369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u=858241302,537207667&amp;fm=52&amp;gp=0[1]"/>
          <p:cNvPicPr/>
          <p:nvPr/>
        </p:nvPicPr>
        <p:blipFill>
          <a:blip r:embed="rId5"/>
          <a:stretch/>
        </p:blipFill>
        <p:spPr>
          <a:xfrm>
            <a:off x="5619600" y="4327560"/>
            <a:ext cx="2095560" cy="14097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7"/>
          <p:cNvSpPr/>
          <p:nvPr/>
        </p:nvSpPr>
        <p:spPr>
          <a:xfrm>
            <a:off x="324000" y="1628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8248320" y="1413000"/>
            <a:ext cx="729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钱交出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-75960" y="1268280"/>
            <a:ext cx="12776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手机交出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3722400" y="4437000"/>
            <a:ext cx="729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抢下一家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2"/>
          <a:stretch/>
        </p:blipFill>
        <p:spPr>
          <a:xfrm>
            <a:off x="-6480" y="268200"/>
            <a:ext cx="8528040" cy="11588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心中有勇气，魔鬼也畏惧！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心中有智慧，魔鬼没办法！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心中有杀气，魔鬼随风去！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心中有杀气，魔鬼变空气！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我就是充满</a:t>
            </a:r>
            <a:r>
              <a:rPr b="1" lang="zh-CN" sz="4800" spc="-1" strike="noStrike">
                <a:solidFill>
                  <a:srgbClr val="0000ff"/>
                </a:solidFill>
                <a:latin typeface="Trebuchet MS"/>
              </a:rPr>
              <a:t>正气、勇气、智慧和杀气</a:t>
            </a: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的</a:t>
            </a:r>
            <a:r>
              <a:rPr b="1" lang="zh-CN" sz="4800" spc="-1" strike="noStrike">
                <a:solidFill>
                  <a:srgbClr val="0000ff"/>
                </a:solidFill>
                <a:latin typeface="Trebuchet MS"/>
              </a:rPr>
              <a:t>渔夫</a:t>
            </a: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3462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位书生东郭先生，读死书、死读书，十分迂腐。一天，东郭先生赶着一头毛驴，背着一口袋书，到到一个叫“中山国”的地方去谋求官职。 突然，一只带伤的狼窜到他的面前，哀求说：“先生，我现在正被一位猎人追赶，猎人用箭射中了我，差点要了我的命。求求您把我藏在您的口袋里，将来我会好好报答您的。” 东郭先生当然知道狼是害人的，但他看到这只受伤的狼很可怜，考虑了一下说：“我这样做会得罪猎人的。不过，既然你求我，我就一定想办法救你。”说着，东郭先生让狼蜷曲了四肢，然后用绳子把狼捆住，尽可能让它的身体变得小些，以便装进放书的口袋中去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WordArt 3" descr=""/>
          <p:cNvPicPr/>
          <p:nvPr/>
        </p:nvPicPr>
        <p:blipFill>
          <a:blip r:embed="rId1"/>
          <a:stretch/>
        </p:blipFill>
        <p:spPr>
          <a:xfrm>
            <a:off x="1816200" y="139680"/>
            <a:ext cx="54324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Trebuchet MS"/>
              </a:rPr>
              <a:t>不一会儿，猎人追了上来，发现狼不见了，就问东郭先生：“你看见一只狼没有？它往哪里跑了？” 东郭先生说：“我没有看见狼，这里岔路多，狼也许从别的路上逃走了。” 猎人相信了东郭先生的话，朝别的方向追去了。 狼在书袋里听得猎人的骑马声远去之后，就央求东郭先生说：“求求先生，把我放出去，让我逃生吧。” 仁慈的东郭先生，经不起狼的花言巧语，把狼放了出来。不料，狼却嗥叫着对东郭先生说：“先生既然做好事救了我的命，现在我饿极了，你就再做一次好事，让我吃掉你吧。”说着，狼就张牙舞爪地扑向东郭先生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东郭先生徒手同狼博斗，嘴里不断对狼喊着“忘恩负义”。 正在这时，有一位农民扛着锄头路过，东郭先生急忙拉住他，向他讲述自己如何救了狼，狼忘恩负义要伤害自己的事，请农民评理。可是狼却一口否定东郭先生救过它的命。老农想了想说：“你们的话，我都不相信，这只口袋这么小，怎么可能装下一只大狼呢。请再装一下，让我亲眼看一看。” 狼同意了，它又躺在地上，蜷作一团，让东郭先生重新用绳子捆起来，装进了口袋里。老农立即把口袋扎紧，对东郭先生说：“这种伤害人的野兽是不会改变本性的，你对狼讲仁慈，简直太糊涂了。”说罢，抡起锄头，把狼打死了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东郭先生</a:t>
            </a:r>
            <a:r>
              <a:rPr b="1" lang="zh-CN" sz="2800" spc="-1" strike="noStrike">
                <a:solidFill>
                  <a:srgbClr val="ff3300"/>
                </a:solidFill>
                <a:latin typeface="Trebuchet MS"/>
              </a:rPr>
              <a:t>恍然大悟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，非常感谢农民及时救了他的命。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838080" y="283356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练笔：文章的结尾渔夫到底把胆瓶扔没扔到海里呢？展开你的想象，把这个故事接着写下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课后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千零一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的其它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746280" y="936720"/>
            <a:ext cx="413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WordArt 3" descr=""/>
          <p:cNvPicPr/>
          <p:nvPr/>
        </p:nvPicPr>
        <p:blipFill>
          <a:blip r:embed="rId2"/>
          <a:stretch/>
        </p:blipFill>
        <p:spPr>
          <a:xfrm>
            <a:off x="1054080" y="1719360"/>
            <a:ext cx="7029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33cc"/>
                </a:solidFill>
                <a:latin typeface="Trebuchet MS"/>
              </a:rPr>
              <a:t>j</a:t>
            </a:r>
            <a:r>
              <a:rPr b="1" lang="en-US" sz="4800" spc="-1" strike="noStrike">
                <a:solidFill>
                  <a:srgbClr val="ff33cc"/>
                </a:solidFill>
                <a:latin typeface="Trebuchet MS"/>
                <a:ea typeface="Arial"/>
              </a:rPr>
              <a:t>ǔ  </a:t>
            </a:r>
            <a:r>
              <a:rPr b="1" lang="en-US" sz="4000" spc="-1" strike="noStrike">
                <a:solidFill>
                  <a:srgbClr val="ff33cc"/>
                </a:solidFill>
                <a:latin typeface="Trebuchet MS"/>
                <a:ea typeface="Arial"/>
              </a:rPr>
              <a:t>     </a:t>
            </a:r>
            <a:r>
              <a:rPr b="1" lang="en-US" sz="4800" spc="-1" strike="noStrike">
                <a:solidFill>
                  <a:srgbClr val="ff33cc"/>
                </a:solidFill>
                <a:latin typeface="Trebuchet MS"/>
                <a:ea typeface="Arial"/>
              </a:rPr>
              <a:t>l</a:t>
            </a:r>
            <a:r>
              <a:rPr b="1" lang="en-US" sz="4800" spc="-1" strike="noStrike">
                <a:solidFill>
                  <a:srgbClr val="ff33cc"/>
                </a:solidFill>
                <a:latin typeface="Trebuchet MS"/>
              </a:rPr>
              <a:t>ā</a:t>
            </a:r>
            <a:r>
              <a:rPr b="1" lang="en-US" sz="4800" spc="-1" strike="noStrike">
                <a:solidFill>
                  <a:srgbClr val="ff33cc"/>
                </a:solidFill>
                <a:latin typeface="Trebuchet MS"/>
                <a:ea typeface="Arial"/>
              </a:rPr>
              <a:t>o  </a:t>
            </a:r>
            <a:r>
              <a:rPr b="1" lang="en-US" sz="4000" spc="-1" strike="noStrike">
                <a:solidFill>
                  <a:srgbClr val="ff33cc"/>
                </a:solidFill>
                <a:latin typeface="Trebuchet MS"/>
                <a:ea typeface="Arial"/>
              </a:rPr>
              <a:t>             </a:t>
            </a:r>
            <a:r>
              <a:rPr b="1" lang="en-US" sz="4400" spc="-1" strike="noStrike">
                <a:solidFill>
                  <a:srgbClr val="ff33cc"/>
                </a:solidFill>
                <a:latin typeface="Trebuchet MS"/>
                <a:ea typeface="Arial"/>
              </a:rPr>
              <a:t>x</a:t>
            </a:r>
            <a:r>
              <a:rPr b="1" lang="en-US" sz="4400" spc="-1" strike="noStrike">
                <a:solidFill>
                  <a:srgbClr val="ff33cc"/>
                </a:solidFill>
                <a:latin typeface="Trebuchet MS"/>
              </a:rPr>
              <a:t>ī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rebuchet MS"/>
              </a:rPr>
              <a:t>规</a:t>
            </a:r>
            <a:r>
              <a:rPr b="1" lang="zh-CN" sz="5400" spc="-1" strike="noStrike">
                <a:solidFill>
                  <a:srgbClr val="ff33cc"/>
                </a:solidFill>
                <a:latin typeface="Trebuchet MS"/>
              </a:rPr>
              <a:t>矩      捞</a:t>
            </a:r>
            <a:r>
              <a:rPr b="1" lang="zh-CN" sz="5400" spc="-1" strike="noStrike">
                <a:solidFill>
                  <a:srgbClr val="000000"/>
                </a:solidFill>
                <a:latin typeface="Trebuchet MS"/>
              </a:rPr>
              <a:t>东西     </a:t>
            </a:r>
            <a:r>
              <a:rPr b="1" lang="zh-CN" sz="5400" spc="-1" strike="noStrike">
                <a:solidFill>
                  <a:srgbClr val="ff33cc"/>
                </a:solidFill>
                <a:latin typeface="Trebuchet MS"/>
              </a:rPr>
              <a:t>锡</a:t>
            </a:r>
            <a:r>
              <a:rPr b="1" lang="zh-CN" sz="5400" spc="-1" strike="noStrike">
                <a:solidFill>
                  <a:srgbClr val="000000"/>
                </a:solidFill>
                <a:latin typeface="Trebuchet MS"/>
              </a:rPr>
              <a:t>箔纸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4800" spc="-1" strike="noStrike">
                <a:solidFill>
                  <a:srgbClr val="ff33cc"/>
                </a:solidFill>
                <a:latin typeface="Trebuchet MS"/>
              </a:rPr>
              <a:t>bì  </a:t>
            </a:r>
            <a:r>
              <a:rPr b="1" lang="en-US" sz="2600" spc="-1" strike="noStrike">
                <a:solidFill>
                  <a:srgbClr val="ff33cc"/>
                </a:solidFill>
                <a:latin typeface="Trebuchet MS"/>
              </a:rPr>
              <a:t>            </a:t>
            </a:r>
            <a:r>
              <a:rPr b="1" lang="en-US" sz="4800" spc="-1" strike="noStrike">
                <a:solidFill>
                  <a:srgbClr val="ff33cc"/>
                </a:solidFill>
                <a:latin typeface="Trebuchet MS"/>
              </a:rPr>
              <a:t>chā </a:t>
            </a:r>
            <a:r>
              <a:rPr b="1" lang="en-US" sz="2600" spc="-1" strike="noStrike">
                <a:solidFill>
                  <a:srgbClr val="ff33cc"/>
                </a:solidFill>
                <a:latin typeface="Trebuchet MS"/>
              </a:rPr>
              <a:t>                 </a:t>
            </a:r>
            <a:r>
              <a:rPr b="1" lang="en-US" sz="4800" spc="-1" strike="noStrike">
                <a:solidFill>
                  <a:srgbClr val="ff33cc"/>
                </a:solidFill>
                <a:latin typeface="Trebuchet MS"/>
              </a:rPr>
              <a:t>méi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rebuchet MS"/>
              </a:rPr>
              <a:t>金</a:t>
            </a:r>
            <a:r>
              <a:rPr b="1" lang="zh-CN" sz="5400" spc="-1" strike="noStrike">
                <a:solidFill>
                  <a:srgbClr val="ff33cc"/>
                </a:solidFill>
                <a:latin typeface="Trebuchet MS"/>
              </a:rPr>
              <a:t>币</a:t>
            </a:r>
            <a:r>
              <a:rPr b="1" lang="zh-CN" sz="5400" spc="-1" strike="noStrike">
                <a:solidFill>
                  <a:srgbClr val="000000"/>
                </a:solidFill>
                <a:latin typeface="Trebuchet MS"/>
              </a:rPr>
              <a:t>      铁</a:t>
            </a:r>
            <a:r>
              <a:rPr b="1" lang="zh-CN" sz="5400" spc="-1" strike="noStrike">
                <a:solidFill>
                  <a:srgbClr val="ff33cc"/>
                </a:solidFill>
                <a:latin typeface="Trebuchet MS"/>
              </a:rPr>
              <a:t>叉</a:t>
            </a:r>
            <a:r>
              <a:rPr b="1" lang="zh-CN" sz="5400" spc="-1" strike="noStrike">
                <a:solidFill>
                  <a:srgbClr val="cc0099"/>
                </a:solidFill>
                <a:latin typeface="Trebuchet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rebuchet MS"/>
              </a:rPr>
              <a:t>       倒</a:t>
            </a:r>
            <a:r>
              <a:rPr b="1" lang="zh-CN" sz="5400" spc="-1" strike="noStrike">
                <a:solidFill>
                  <a:srgbClr val="ff33cc"/>
                </a:solidFill>
                <a:latin typeface="Trebuchet MS"/>
              </a:rPr>
              <a:t>霉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4800" spc="-1" strike="noStrike">
                <a:solidFill>
                  <a:srgbClr val="ff33cc"/>
                </a:solidFill>
                <a:latin typeface="Trebuchet MS"/>
              </a:rPr>
              <a:t>chóu </a:t>
            </a:r>
            <a:r>
              <a:rPr b="1" lang="en-US" sz="2600" spc="-1" strike="noStrike">
                <a:solidFill>
                  <a:srgbClr val="ff33cc"/>
                </a:solidFill>
                <a:latin typeface="Trebuchet MS"/>
              </a:rPr>
              <a:t>          </a:t>
            </a:r>
            <a:r>
              <a:rPr b="1" lang="en-US" sz="4800" spc="-1" strike="noStrike">
                <a:solidFill>
                  <a:srgbClr val="ff33cc"/>
                </a:solidFill>
                <a:latin typeface="Trebuchet MS"/>
              </a:rPr>
              <a:t>shì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rebuchet MS"/>
              </a:rPr>
              <a:t>报</a:t>
            </a:r>
            <a:r>
              <a:rPr b="1" lang="zh-CN" sz="5400" spc="-1" strike="noStrike">
                <a:solidFill>
                  <a:srgbClr val="ff33cc"/>
                </a:solidFill>
                <a:latin typeface="Trebuchet MS"/>
              </a:rPr>
              <a:t>仇</a:t>
            </a:r>
            <a:r>
              <a:rPr b="1" lang="zh-CN" sz="5400" spc="-1" strike="noStrike">
                <a:solidFill>
                  <a:srgbClr val="000000"/>
                </a:solidFill>
                <a:latin typeface="Trebuchet MS"/>
              </a:rPr>
              <a:t>      起</a:t>
            </a:r>
            <a:r>
              <a:rPr b="1" lang="zh-CN" sz="5400" spc="-1" strike="noStrike">
                <a:solidFill>
                  <a:srgbClr val="ff33cc"/>
                </a:solidFill>
                <a:latin typeface="Trebuchet MS"/>
              </a:rPr>
              <a:t>誓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95280" y="76464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胆瓶      堡垒      违背 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解救      倒霉      简短     口吻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下流无耻          笑逐颜开 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自言自语          披头散发 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无恶不作          荣华富贵 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rebuchet MS"/>
              </a:rPr>
              <a:t>恩将仇报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3" descr=""/>
          <p:cNvPicPr/>
          <p:nvPr/>
        </p:nvPicPr>
        <p:blipFill>
          <a:blip r:embed="rId2"/>
          <a:stretch/>
        </p:blipFill>
        <p:spPr>
          <a:xfrm>
            <a:off x="749160" y="182520"/>
            <a:ext cx="5267520" cy="12254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09120" y="609120"/>
            <a:ext cx="80010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黑体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  <a:ea typeface="黑体"/>
              </a:rPr>
              <a:t>读课文，补充下列词语，并把它们填到合适的句子里去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rebuchet MS"/>
              </a:rPr>
              <a:t>自言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    ）（    ）      </a:t>
            </a:r>
            <a:r>
              <a:rPr b="1" lang="zh-CN" sz="2600" spc="-1" strike="noStrike">
                <a:solidFill>
                  <a:srgbClr val="000000"/>
                </a:solidFill>
                <a:latin typeface="Trebuchet MS"/>
              </a:rPr>
              <a:t>无（   ）不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    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rebuchet MS"/>
              </a:rPr>
              <a:t>荣华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    ）（    ）     </a:t>
            </a:r>
            <a:r>
              <a:rPr b="1" lang="zh-CN" sz="2600" spc="-1" strike="noStrike">
                <a:solidFill>
                  <a:srgbClr val="000000"/>
                </a:solidFill>
                <a:latin typeface="Trebuchet MS"/>
              </a:rPr>
              <a:t>（    ）将（    ）报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Trebuchet MS"/>
              </a:rPr>
              <a:t>好心救了你，你却要杀了我，是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rebuchet MS"/>
              </a:rPr>
              <a:t>             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、只要你愿意帮我，我让你享尽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rebuchet MS"/>
              </a:rPr>
              <a:t>                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、渔夫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rebuchet MS"/>
              </a:rPr>
              <a:t>             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地说：“他是个 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rebuchet MS"/>
              </a:rPr>
              <a:t>               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的</a:t>
            </a:r>
            <a:r>
              <a:rPr b="1" lang="zh-CN" sz="2600" spc="-1" strike="noStrike">
                <a:solidFill>
                  <a:srgbClr val="000000"/>
                </a:solidFill>
                <a:latin typeface="Trebuchet MS"/>
              </a:rPr>
              <a:t>魔鬼，我要想办法战胜他！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9879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20724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5526360" y="2214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6967440" y="2214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911600" y="2971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3283200" y="2968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5112000" y="2971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6864840" y="2968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6896160" y="36576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恩将仇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6667560" y="44956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荣华富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1905120" y="53341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自言自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6248520" y="52578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无恶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WW_020"/>
          <p:cNvPicPr/>
          <p:nvPr/>
        </p:nvPicPr>
        <p:blipFill>
          <a:blip r:embed="rId1"/>
          <a:stretch/>
        </p:blipFill>
        <p:spPr>
          <a:xfrm>
            <a:off x="228600" y="228600"/>
            <a:ext cx="1006560" cy="105084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228600" y="228600"/>
            <a:ext cx="837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速读课文，看看课文到底讲了一个什么故事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80880" y="18511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主要讲了一个贫穷的（           ），到海边去捕鱼，无意间把所罗门封锁（                  ）捞了上来，他救了（           ）一命，而魔鬼却想要（        ），最后（       ）以他的（           ）战胜了魔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295280" y="25146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渔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4191120" y="30481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魔鬼的胆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581280" y="3733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魔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2209680" y="43434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杀死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6019920" y="4343400"/>
            <a:ext cx="12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渔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1600200" y="49528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智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5"/>
          <p:cNvSpPr/>
          <p:nvPr/>
        </p:nvSpPr>
        <p:spPr>
          <a:xfrm>
            <a:off x="533520" y="83808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课文的开头，到哪儿讲的是渔夫捞胆瓶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2819520" y="1523880"/>
            <a:ext cx="40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-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然段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838080" y="22096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些段落讲的是渔夫把魔鬼放了出来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2971800" y="2895480"/>
            <a:ext cx="43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-4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然段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914400" y="3429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些段落讲的是魔鬼要杀掉渔夫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3352680" y="3962520"/>
            <a:ext cx="35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-15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然段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1219320" y="464832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后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到课文结束，讲得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3581280" y="51814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渔夫用自己的智慧战胜了魔鬼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5-26T14:21:50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