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gif" ContentType="image/gif"/>
  <Override PartName="/ppt/media/image11.jpeg" ContentType="image/jpeg"/>
  <Override PartName="/ppt/media/image9.jpeg" ContentType="image/jpeg"/>
  <Override PartName="/ppt/media/image7.png" ContentType="image/png"/>
  <Override PartName="/ppt/media/image6.wmf" ContentType="image/x-wmf"/>
  <Override PartName="/ppt/media/image19.jpeg" ContentType="image/jpeg"/>
  <Override PartName="/ppt/media/image5.jpeg" ContentType="image/jpeg"/>
  <Override PartName="/ppt/media/image13.jpeg" ContentType="image/jpeg"/>
  <Override PartName="/ppt/media/glass.wav" ContentType="audio/x-wav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751A-8BF9-4F4D-8F41-BD214607F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C8A8-2242-47EB-B542-02580B8A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8A46-91A2-4292-B980-00531A44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D9AE-95E6-4E87-B78D-F26185ABF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4CF4-0E90-4DC1-8AAE-1A437E25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F6F2-41BF-4488-999B-638026E9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E925-3450-4300-9A68-27AF2A46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76F8-33ED-4F0A-AEA5-6FB63FB4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C7F6-9267-4986-829A-21940201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231F-6F17-488E-8E82-7D9F898C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2842-4094-4B7A-AD41-572E065B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63EA-A421-45F7-B077-9FD08F7F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2E98-7BCA-4534-BB0B-B8B4D1EC90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hyperlink" Target="http://baike.baidu.com/view/23793.htm" TargetMode="External"/><Relationship Id="rId6" Type="http://schemas.openxmlformats.org/officeDocument/2006/relationships/audio" Target="../media/glass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泰坦尼克号-萨克斯音乐.MP3" descr=""/>
          <p:cNvPicPr/>
          <p:nvPr/>
        </p:nvPicPr>
        <p:blipFill>
          <a:blip r:embed="rId1"/>
          <a:stretch/>
        </p:blipFill>
        <p:spPr>
          <a:xfrm>
            <a:off x="9220320" y="670572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42" name="矩形 166915"/>
          <p:cNvSpPr txBox="1"/>
          <p:nvPr/>
        </p:nvSpPr>
        <p:spPr>
          <a:xfrm>
            <a:off x="1403280" y="1628640"/>
            <a:ext cx="691200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洋流对地理环境的影响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图片 177153" descr="20043271650453_l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  <p:pic>
        <p:nvPicPr>
          <p:cNvPr id="205" name="324393-01.01.mp3" descr=""/>
          <p:cNvPicPr/>
          <p:nvPr/>
        </p:nvPicPr>
        <p:blipFill>
          <a:blip r:embed="rId2"/>
          <a:stretch/>
        </p:blipFill>
        <p:spPr>
          <a:xfrm>
            <a:off x="788508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40164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图片 178177" descr="81863"/>
          <p:cNvPicPr/>
          <p:nvPr/>
        </p:nvPicPr>
        <p:blipFill>
          <a:blip r:embed="rId1"/>
          <a:stretch/>
        </p:blipFill>
        <p:spPr>
          <a:xfrm>
            <a:off x="0" y="839880"/>
            <a:ext cx="9144000" cy="601812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178178"/>
          <p:cNvSpPr/>
          <p:nvPr/>
        </p:nvSpPr>
        <p:spPr>
          <a:xfrm>
            <a:off x="971640" y="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沉没原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178179"/>
          <p:cNvSpPr/>
          <p:nvPr/>
        </p:nvSpPr>
        <p:spPr>
          <a:xfrm>
            <a:off x="8151840" y="6026040"/>
            <a:ext cx="527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178180"/>
          <p:cNvSpPr/>
          <p:nvPr/>
        </p:nvSpPr>
        <p:spPr>
          <a:xfrm>
            <a:off x="3708360" y="0"/>
            <a:ext cx="280836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遭遇冰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组合 178181"/>
          <p:cNvGrpSpPr/>
          <p:nvPr/>
        </p:nvGrpSpPr>
        <p:grpSpPr>
          <a:xfrm>
            <a:off x="0" y="0"/>
            <a:ext cx="9144000" cy="6813720"/>
            <a:chOff x="0" y="0"/>
            <a:chExt cx="9144000" cy="6813720"/>
          </a:xfrm>
        </p:grpSpPr>
        <p:pic>
          <p:nvPicPr>
            <p:cNvPr id="211" name="图片 178182" descr="14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0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直接连接符 178183"/>
            <p:cNvSpPr/>
            <p:nvPr/>
          </p:nvSpPr>
          <p:spPr>
            <a:xfrm>
              <a:off x="0" y="1773360"/>
              <a:ext cx="914400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任意多边形 178184"/>
            <p:cNvSpPr/>
            <p:nvPr/>
          </p:nvSpPr>
          <p:spPr>
            <a:xfrm>
              <a:off x="3730680" y="44280"/>
              <a:ext cx="1128600" cy="6769440"/>
            </a:xfrm>
            <a:custGeom>
              <a:avLst/>
              <a:gdLst/>
              <a:ahLst/>
              <a:rect l="l" t="t" r="r" b="b"/>
              <a:pathLst>
                <a:path w="711" h="4264">
                  <a:moveTo>
                    <a:pt x="711" y="0"/>
                  </a:moveTo>
                  <a:cubicBezTo>
                    <a:pt x="575" y="219"/>
                    <a:pt x="440" y="439"/>
                    <a:pt x="349" y="635"/>
                  </a:cubicBezTo>
                  <a:cubicBezTo>
                    <a:pt x="258" y="831"/>
                    <a:pt x="220" y="952"/>
                    <a:pt x="167" y="1179"/>
                  </a:cubicBezTo>
                  <a:cubicBezTo>
                    <a:pt x="114" y="1406"/>
                    <a:pt x="54" y="1815"/>
                    <a:pt x="31" y="1996"/>
                  </a:cubicBezTo>
                  <a:cubicBezTo>
                    <a:pt x="8" y="2177"/>
                    <a:pt x="24" y="2079"/>
                    <a:pt x="31" y="2268"/>
                  </a:cubicBezTo>
                  <a:cubicBezTo>
                    <a:pt x="38" y="2457"/>
                    <a:pt x="0" y="2797"/>
                    <a:pt x="76" y="3130"/>
                  </a:cubicBezTo>
                  <a:cubicBezTo>
                    <a:pt x="152" y="3463"/>
                    <a:pt x="318" y="3863"/>
                    <a:pt x="485" y="4264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矩形标注 178185"/>
            <p:cNvSpPr/>
            <p:nvPr/>
          </p:nvSpPr>
          <p:spPr>
            <a:xfrm>
              <a:off x="4067280" y="2276640"/>
              <a:ext cx="1512720" cy="934920"/>
            </a:xfrm>
            <a:prstGeom prst="wedgeRectCallout">
              <a:avLst>
                <a:gd name="adj1" fmla="val -52833"/>
                <a:gd name="adj2" fmla="val -100592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泰坦尼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沉没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矩形标注 178186"/>
            <p:cNvSpPr/>
            <p:nvPr/>
          </p:nvSpPr>
          <p:spPr>
            <a:xfrm>
              <a:off x="1835280" y="2276640"/>
              <a:ext cx="1368360" cy="431640"/>
            </a:xfrm>
            <a:prstGeom prst="wedgeRectCallout">
              <a:avLst>
                <a:gd name="adj1" fmla="val 40138"/>
                <a:gd name="adj2" fmla="val -158824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41.5°N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矩形标注 178187"/>
            <p:cNvSpPr/>
            <p:nvPr/>
          </p:nvSpPr>
          <p:spPr>
            <a:xfrm>
              <a:off x="3924360" y="4365720"/>
              <a:ext cx="1441440" cy="503280"/>
            </a:xfrm>
            <a:prstGeom prst="wedgeRectCallout">
              <a:avLst>
                <a:gd name="adj1" fmla="val -60680"/>
                <a:gd name="adj2" fmla="val -234541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49.9 °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文本框 178188"/>
          <p:cNvSpPr/>
          <p:nvPr/>
        </p:nvSpPr>
        <p:spPr>
          <a:xfrm>
            <a:off x="468360" y="5124600"/>
            <a:ext cx="8280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思考：在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1.5°N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，北半球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月份容易出现冰山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撞击”泰坦尼克号“的冰山从何而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图片 178189" descr="18"/>
          <p:cNvPicPr/>
          <p:nvPr/>
        </p:nvPicPr>
        <p:blipFill>
          <a:blip r:embed="rId3"/>
          <a:stretch/>
        </p:blipFill>
        <p:spPr>
          <a:xfrm>
            <a:off x="5508000" y="836640"/>
            <a:ext cx="863640" cy="72864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178190" descr="15"/>
          <p:cNvPicPr/>
          <p:nvPr/>
        </p:nvPicPr>
        <p:blipFill>
          <a:blip r:embed="rId4"/>
          <a:stretch/>
        </p:blipFill>
        <p:spPr>
          <a:xfrm>
            <a:off x="3780000" y="0"/>
            <a:ext cx="576000" cy="888840"/>
          </a:xfrm>
          <a:prstGeom prst="rect">
            <a:avLst/>
          </a:prstGeom>
          <a:ln w="0">
            <a:noFill/>
          </a:ln>
        </p:spPr>
      </p:pic>
      <p:sp>
        <p:nvSpPr>
          <p:cNvPr id="220" name="任意多边形 178191"/>
          <p:cNvSpPr/>
          <p:nvPr/>
        </p:nvSpPr>
        <p:spPr>
          <a:xfrm>
            <a:off x="3851280" y="476280"/>
            <a:ext cx="252360" cy="1728720"/>
          </a:xfrm>
          <a:custGeom>
            <a:avLst/>
            <a:gdLst/>
            <a:ahLst/>
            <a:rect l="l" t="t" r="r" b="b"/>
            <a:pathLst>
              <a:path w="159" h="1089">
                <a:moveTo>
                  <a:pt x="90" y="0"/>
                </a:moveTo>
                <a:cubicBezTo>
                  <a:pt x="86" y="140"/>
                  <a:pt x="82" y="280"/>
                  <a:pt x="90" y="363"/>
                </a:cubicBezTo>
                <a:cubicBezTo>
                  <a:pt x="98" y="446"/>
                  <a:pt x="128" y="439"/>
                  <a:pt x="136" y="499"/>
                </a:cubicBezTo>
                <a:cubicBezTo>
                  <a:pt x="144" y="559"/>
                  <a:pt x="159" y="628"/>
                  <a:pt x="136" y="726"/>
                </a:cubicBezTo>
                <a:cubicBezTo>
                  <a:pt x="113" y="824"/>
                  <a:pt x="23" y="1028"/>
                  <a:pt x="0" y="1089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任意多边形 178192"/>
          <p:cNvSpPr/>
          <p:nvPr/>
        </p:nvSpPr>
        <p:spPr>
          <a:xfrm>
            <a:off x="3851280" y="1268280"/>
            <a:ext cx="2089080" cy="792360"/>
          </a:xfrm>
          <a:custGeom>
            <a:avLst/>
            <a:gdLst/>
            <a:ahLst/>
            <a:rect l="l" t="t" r="r" b="b"/>
            <a:pathLst>
              <a:path w="1769" h="544">
                <a:moveTo>
                  <a:pt x="1769" y="45"/>
                </a:moveTo>
                <a:cubicBezTo>
                  <a:pt x="1587" y="22"/>
                  <a:pt x="1406" y="0"/>
                  <a:pt x="1270" y="0"/>
                </a:cubicBezTo>
                <a:cubicBezTo>
                  <a:pt x="1134" y="0"/>
                  <a:pt x="1036" y="15"/>
                  <a:pt x="953" y="45"/>
                </a:cubicBezTo>
                <a:cubicBezTo>
                  <a:pt x="870" y="75"/>
                  <a:pt x="862" y="143"/>
                  <a:pt x="771" y="181"/>
                </a:cubicBezTo>
                <a:cubicBezTo>
                  <a:pt x="680" y="219"/>
                  <a:pt x="537" y="212"/>
                  <a:pt x="409" y="272"/>
                </a:cubicBezTo>
                <a:cubicBezTo>
                  <a:pt x="281" y="332"/>
                  <a:pt x="140" y="438"/>
                  <a:pt x="0" y="544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爆炸形 2 178193"/>
          <p:cNvSpPr/>
          <p:nvPr/>
        </p:nvSpPr>
        <p:spPr>
          <a:xfrm>
            <a:off x="3708360" y="1411200"/>
            <a:ext cx="720720" cy="865440"/>
          </a:xfrm>
          <a:prstGeom prst="irregularSeal2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右弧形箭头 178194"/>
          <p:cNvSpPr/>
          <p:nvPr/>
        </p:nvSpPr>
        <p:spPr>
          <a:xfrm>
            <a:off x="5148360" y="1484280"/>
            <a:ext cx="431640" cy="1871640"/>
          </a:xfrm>
          <a:custGeom>
            <a:avLst/>
            <a:gdLst>
              <a:gd name="textAreaLeft" fmla="*/ 57600 w 431640"/>
              <a:gd name="textAreaRight" fmla="*/ 374040 w 431640"/>
              <a:gd name="textAreaTop" fmla="*/ 327600 h 1871640"/>
              <a:gd name="textAreaBottom" fmla="*/ 135720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3175"/>
                <a:lnTo>
                  <a:pt x="7198" y="21168"/>
                </a:lnTo>
                <a:lnTo>
                  <a:pt x="0" y="17280"/>
                </a:lnTo>
                <a:lnTo>
                  <a:pt x="7198" y="12528"/>
                </a:lnTo>
                <a:lnTo>
                  <a:pt x="7198" y="14688"/>
                </a:lnTo>
                <a:arcTo wR="21600" hR="7560" stAng="2683175" swAng="-2325740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右弧形箭头 178195"/>
          <p:cNvSpPr/>
          <p:nvPr/>
        </p:nvSpPr>
        <p:spPr>
          <a:xfrm flipH="1" flipV="1">
            <a:off x="2842560" y="1699560"/>
            <a:ext cx="576360" cy="158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3175"/>
                <a:lnTo>
                  <a:pt x="7198" y="21168"/>
                </a:lnTo>
                <a:lnTo>
                  <a:pt x="0" y="17280"/>
                </a:lnTo>
                <a:lnTo>
                  <a:pt x="7198" y="12528"/>
                </a:lnTo>
                <a:lnTo>
                  <a:pt x="7198" y="14688"/>
                </a:lnTo>
                <a:arcTo wR="21600" hR="7560" stAng="2683175" swAng="-2325740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下弧形箭头 178196"/>
          <p:cNvSpPr/>
          <p:nvPr/>
        </p:nvSpPr>
        <p:spPr>
          <a:xfrm flipH="1">
            <a:off x="3347280" y="3284640"/>
            <a:ext cx="1871640" cy="360360"/>
          </a:xfrm>
          <a:custGeom>
            <a:avLst/>
            <a:gdLst>
              <a:gd name="textAreaLeft" fmla="*/ 327240 w 1871640"/>
              <a:gd name="textAreaRight" fmla="*/ 1356840 w 187164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3175"/>
                <a:lnTo>
                  <a:pt x="21168" y="7198"/>
                </a:lnTo>
                <a:lnTo>
                  <a:pt x="17280" y="0"/>
                </a:lnTo>
                <a:lnTo>
                  <a:pt x="12528" y="7198"/>
                </a:lnTo>
                <a:lnTo>
                  <a:pt x="14688" y="7198"/>
                </a:lnTo>
                <a:arcTo wR="7560" hR="21600" stAng="2716825" swAng="2325740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178197"/>
          <p:cNvSpPr/>
          <p:nvPr/>
        </p:nvSpPr>
        <p:spPr>
          <a:xfrm>
            <a:off x="5310000" y="1700280"/>
            <a:ext cx="729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加那利寒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178198"/>
          <p:cNvSpPr/>
          <p:nvPr/>
        </p:nvSpPr>
        <p:spPr>
          <a:xfrm>
            <a:off x="4140360" y="3716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北赤道暖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178199"/>
          <p:cNvSpPr/>
          <p:nvPr/>
        </p:nvSpPr>
        <p:spPr>
          <a:xfrm>
            <a:off x="2069640" y="1989000"/>
            <a:ext cx="72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墨西哥湾暖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178200"/>
          <p:cNvSpPr/>
          <p:nvPr/>
        </p:nvSpPr>
        <p:spPr>
          <a:xfrm>
            <a:off x="0" y="1916280"/>
            <a:ext cx="2556000" cy="25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日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，泰坦尼克号在北大西洋撞上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冰山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大约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1°43'55.66"N 49°56'45.02"W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附近），两小时四十分钟后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日凌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沉没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图片 179201" descr="1492 哥路线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231" name="椭圆 179202"/>
          <p:cNvSpPr/>
          <p:nvPr/>
        </p:nvSpPr>
        <p:spPr>
          <a:xfrm>
            <a:off x="2700360" y="2492280"/>
            <a:ext cx="1429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179203"/>
          <p:cNvSpPr/>
          <p:nvPr/>
        </p:nvSpPr>
        <p:spPr>
          <a:xfrm>
            <a:off x="4859280" y="2205000"/>
            <a:ext cx="1429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179204"/>
          <p:cNvSpPr/>
          <p:nvPr/>
        </p:nvSpPr>
        <p:spPr>
          <a:xfrm>
            <a:off x="1908000" y="1916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圣约翰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179205"/>
          <p:cNvSpPr/>
          <p:nvPr/>
        </p:nvSpPr>
        <p:spPr>
          <a:xfrm>
            <a:off x="4427640" y="17002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柏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形标注 179206"/>
          <p:cNvSpPr/>
          <p:nvPr/>
        </p:nvSpPr>
        <p:spPr>
          <a:xfrm>
            <a:off x="5435640" y="692280"/>
            <a:ext cx="2448000" cy="720720"/>
          </a:xfrm>
          <a:prstGeom prst="wedgeEllipseCallout">
            <a:avLst>
              <a:gd name="adj1" fmla="val -63361"/>
              <a:gd name="adj2" fmla="val 19405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英吉利海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179207"/>
          <p:cNvSpPr/>
          <p:nvPr/>
        </p:nvSpPr>
        <p:spPr>
          <a:xfrm>
            <a:off x="324000" y="26028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结合“世界洋流分布”，完成下列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179208"/>
          <p:cNvSpPr/>
          <p:nvPr/>
        </p:nvSpPr>
        <p:spPr>
          <a:xfrm>
            <a:off x="179280" y="481644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97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月，一艘叫“阿摩科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卡迪兹”号油轮在英吉利海峡附近失事，使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95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亿升原油泻入海中。你认为洋流会给这次海上石油污染带来什么影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179209"/>
          <p:cNvSpPr/>
          <p:nvPr/>
        </p:nvSpPr>
        <p:spPr>
          <a:xfrm>
            <a:off x="395280" y="2708280"/>
            <a:ext cx="77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对海洋污染的影响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加快净化速度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扩大污染范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矩形 180225"/>
          <p:cNvSpPr/>
          <p:nvPr/>
        </p:nvSpPr>
        <p:spPr>
          <a:xfrm>
            <a:off x="0" y="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课堂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下列各海区的大洋环流中呈现顺时针方向的是（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北半球以副极地为中心的大洋环流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北半球以副热带为中心的大洋环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南半球以副热带为中心的大洋环流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北印度洋冬季洋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墨西哥湾暖流与拉布拉多寒流交汇处的渔场是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纽芬兰渔场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北海道渔场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北海渔场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秘鲁渔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有可能将日本附近受污染的海水带到加拿大海岸的洋流是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北太平洋暖流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北赤道暖流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千岛寒流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北大西洋暖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寒流流动的方向大致是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由南向北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由北向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由高纬向低纬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由低纬向高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180226"/>
          <p:cNvSpPr/>
          <p:nvPr/>
        </p:nvSpPr>
        <p:spPr>
          <a:xfrm>
            <a:off x="8229600" y="457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180227"/>
          <p:cNvSpPr/>
          <p:nvPr/>
        </p:nvSpPr>
        <p:spPr>
          <a:xfrm>
            <a:off x="822960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180228"/>
          <p:cNvSpPr/>
          <p:nvPr/>
        </p:nvSpPr>
        <p:spPr>
          <a:xfrm>
            <a:off x="10666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180229"/>
          <p:cNvSpPr/>
          <p:nvPr/>
        </p:nvSpPr>
        <p:spPr>
          <a:xfrm>
            <a:off x="4356000" y="50846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61927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洋流对地理环境的影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11280" y="1341360"/>
            <a:ext cx="8278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一、对气候的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暖流：增温增湿寒流：降温减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二、对海洋生物和渔场的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寒暖流交汇：北海道渔场、北海渔场、纽芬兰渔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升流：秘鲁渔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三、对海洋航行的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利：顺流速度快，节约燃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弊：逆流速度慢、海雾、冰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四、对海洋污染物的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利：加快净化速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弊：扩大污染范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67937" descr="1492 哥路线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44" name="椭圆 167938"/>
          <p:cNvSpPr/>
          <p:nvPr/>
        </p:nvSpPr>
        <p:spPr>
          <a:xfrm>
            <a:off x="2700360" y="2276640"/>
            <a:ext cx="142920" cy="142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167939"/>
          <p:cNvSpPr/>
          <p:nvPr/>
        </p:nvSpPr>
        <p:spPr>
          <a:xfrm>
            <a:off x="4889520" y="2017800"/>
            <a:ext cx="1429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67940"/>
          <p:cNvSpPr/>
          <p:nvPr/>
        </p:nvSpPr>
        <p:spPr>
          <a:xfrm>
            <a:off x="2124000" y="1773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圣约翰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67941"/>
          <p:cNvSpPr/>
          <p:nvPr/>
        </p:nvSpPr>
        <p:spPr>
          <a:xfrm>
            <a:off x="5076720" y="16286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柏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167942"/>
          <p:cNvSpPr/>
          <p:nvPr/>
        </p:nvSpPr>
        <p:spPr>
          <a:xfrm>
            <a:off x="179280" y="4815000"/>
            <a:ext cx="9468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 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爱尔兰都柏林和纽芬兰圣约翰斯两地纬度相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不大，但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月份都柏林的平均气温为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8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℃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圣约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斯的平均气温通常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℃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以下。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右箭头 167943"/>
          <p:cNvSpPr/>
          <p:nvPr/>
        </p:nvSpPr>
        <p:spPr>
          <a:xfrm rot="3610200">
            <a:off x="1616400" y="1625040"/>
            <a:ext cx="2016000" cy="144360"/>
          </a:xfrm>
          <a:prstGeom prst="rightArrow">
            <a:avLst>
              <a:gd name="adj1" fmla="val 50000"/>
              <a:gd name="adj2" fmla="val 3489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上箭头 167944"/>
          <p:cNvSpPr/>
          <p:nvPr/>
        </p:nvSpPr>
        <p:spPr>
          <a:xfrm flipH="1" rot="2500200">
            <a:off x="4715640" y="619560"/>
            <a:ext cx="217440" cy="2737440"/>
          </a:xfrm>
          <a:prstGeom prst="upArrow">
            <a:avLst>
              <a:gd name="adj1" fmla="val 50000"/>
              <a:gd name="adj2" fmla="val 31461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167945"/>
          <p:cNvSpPr/>
          <p:nvPr/>
        </p:nvSpPr>
        <p:spPr>
          <a:xfrm>
            <a:off x="2270160" y="0"/>
            <a:ext cx="490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结合“世界洋流分布”，完成下列问题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68961" descr="Australia dese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文本框 168962"/>
          <p:cNvSpPr/>
          <p:nvPr/>
        </p:nvSpPr>
        <p:spPr>
          <a:xfrm>
            <a:off x="6554880" y="61722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澳大利亚西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168963" descr=""/>
          <p:cNvPicPr/>
          <p:nvPr/>
        </p:nvPicPr>
        <p:blipFill>
          <a:blip r:embed="rId2"/>
          <a:stretch/>
        </p:blipFill>
        <p:spPr>
          <a:xfrm>
            <a:off x="2556000" y="3429000"/>
            <a:ext cx="3800520" cy="2476440"/>
          </a:xfrm>
          <a:prstGeom prst="rect">
            <a:avLst/>
          </a:prstGeom>
          <a:ln w="0">
            <a:noFill/>
          </a:ln>
        </p:spPr>
      </p:pic>
      <p:sp>
        <p:nvSpPr>
          <p:cNvPr id="55" name="文本框 168964"/>
          <p:cNvSpPr/>
          <p:nvPr/>
        </p:nvSpPr>
        <p:spPr>
          <a:xfrm>
            <a:off x="395280" y="3429000"/>
            <a:ext cx="22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行楷"/>
                <a:ea typeface="华文行楷"/>
              </a:rPr>
              <a:t>为什么西部是沙漠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68965"/>
          <p:cNvSpPr/>
          <p:nvPr/>
        </p:nvSpPr>
        <p:spPr>
          <a:xfrm>
            <a:off x="6334200" y="3500280"/>
            <a:ext cx="205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华文行楷"/>
                <a:ea typeface="华文行楷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华文行楷"/>
                <a:ea typeface="华文行楷"/>
              </a:rPr>
              <a:t>而东部降水较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68966"/>
          <p:cNvSpPr/>
          <p:nvPr/>
        </p:nvSpPr>
        <p:spPr>
          <a:xfrm>
            <a:off x="5904000" y="184464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Verdana"/>
                <a:ea typeface="华文新魏"/>
              </a:rPr>
              <a:t>海滨的沙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68967"/>
          <p:cNvSpPr txBox="1"/>
          <p:nvPr/>
        </p:nvSpPr>
        <p:spPr>
          <a:xfrm>
            <a:off x="5292720" y="189000"/>
            <a:ext cx="3600360" cy="155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奇怪的现象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9" name="文本框 168968"/>
          <p:cNvSpPr/>
          <p:nvPr/>
        </p:nvSpPr>
        <p:spPr>
          <a:xfrm>
            <a:off x="6443640" y="357336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ff"/>
                </a:solidFill>
                <a:latin typeface="方正宋黑简体"/>
                <a:ea typeface="方正宋黑简体"/>
              </a:rPr>
              <a:t>    </a:t>
            </a:r>
            <a:r>
              <a:rPr b="1" lang="zh-CN" sz="2800" spc="-1" strike="noStrike">
                <a:solidFill>
                  <a:srgbClr val="8080ff"/>
                </a:solidFill>
                <a:latin typeface="方正宋黑简体"/>
                <a:ea typeface="方正宋黑简体"/>
              </a:rPr>
              <a:t>暖流使水温升高，空气湿度增大，降水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68969"/>
          <p:cNvSpPr/>
          <p:nvPr/>
        </p:nvSpPr>
        <p:spPr>
          <a:xfrm>
            <a:off x="179280" y="35002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ff"/>
                </a:solidFill>
                <a:latin typeface="方正宋黑简体"/>
                <a:ea typeface="方正宋黑简体"/>
              </a:rPr>
              <a:t>   </a:t>
            </a:r>
            <a:r>
              <a:rPr b="1" lang="zh-CN" sz="2800" spc="-1" strike="noStrike">
                <a:solidFill>
                  <a:srgbClr val="8080ff"/>
                </a:solidFill>
                <a:latin typeface="方正宋黑简体"/>
                <a:ea typeface="方正宋黑简体"/>
              </a:rPr>
              <a:t>寒流使水温降低，空气湿度降低，降水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右弧形箭头 168970"/>
          <p:cNvSpPr/>
          <p:nvPr/>
        </p:nvSpPr>
        <p:spPr>
          <a:xfrm flipV="1">
            <a:off x="3203640" y="3623400"/>
            <a:ext cx="228600" cy="1676520"/>
          </a:xfrm>
          <a:custGeom>
            <a:avLst/>
            <a:gdLst>
              <a:gd name="textAreaLeft" fmla="*/ 30600 w 228600"/>
              <a:gd name="textAreaRight" fmla="*/ 198000 w 228600"/>
              <a:gd name="textAreaTop" fmla="*/ 345600 h 1676520"/>
              <a:gd name="textAreaBottom" fmla="*/ 116280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13" stAng="-5400000" swAng="5400000"/>
                <a:lnTo>
                  <a:pt x="21600" y="10527"/>
                </a:lnTo>
                <a:arcTo wR="21600" hR="8913" stAng="0" swAng="2965112"/>
                <a:lnTo>
                  <a:pt x="7198" y="21091"/>
                </a:lnTo>
                <a:lnTo>
                  <a:pt x="0" y="18633"/>
                </a:lnTo>
                <a:lnTo>
                  <a:pt x="7198" y="15157"/>
                </a:lnTo>
                <a:lnTo>
                  <a:pt x="7198" y="17317"/>
                </a:lnTo>
                <a:arcTo wR="21600" hR="8913" stAng="2965112" swAng="-2836204"/>
                <a:lnTo>
                  <a:pt x="21511" y="9720"/>
                </a:lnTo>
                <a:arcTo wR="21600" hR="8913" stAng="-128907" swAng="-5271093"/>
                <a:close/>
              </a:path>
              <a:path fill="darkenLess" w="21600" h="21600">
                <a:moveTo>
                  <a:pt x="0" y="0"/>
                </a:moveTo>
                <a:arcTo wR="21600" hR="8913" stAng="-5400000" swAng="5400000"/>
                <a:lnTo>
                  <a:pt x="21600" y="10527"/>
                </a:lnTo>
                <a:arcTo wR="21600" hR="8913" stAng="0" swAng="-128907"/>
                <a:lnTo>
                  <a:pt x="21511" y="9720"/>
                </a:lnTo>
                <a:arcTo wR="21600" hR="8913" stAng="-128907" swAng="-5271093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弧形箭头 168971"/>
          <p:cNvSpPr/>
          <p:nvPr/>
        </p:nvSpPr>
        <p:spPr>
          <a:xfrm flipH="1">
            <a:off x="5292000" y="3616200"/>
            <a:ext cx="228600" cy="1828800"/>
          </a:xfrm>
          <a:custGeom>
            <a:avLst/>
            <a:gdLst>
              <a:gd name="textAreaLeft" fmla="*/ 30600 w 228600"/>
              <a:gd name="textAreaRight" fmla="*/ 198000 w 228600"/>
              <a:gd name="textAreaTop" fmla="*/ 377280 h 1828800"/>
              <a:gd name="textAreaBottom" fmla="*/ 126864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13" stAng="-5400000" swAng="5400000"/>
                <a:lnTo>
                  <a:pt x="21600" y="10527"/>
                </a:lnTo>
                <a:arcTo wR="21600" hR="8913" stAng="0" swAng="2965112"/>
                <a:lnTo>
                  <a:pt x="7198" y="21091"/>
                </a:lnTo>
                <a:lnTo>
                  <a:pt x="0" y="18633"/>
                </a:lnTo>
                <a:lnTo>
                  <a:pt x="7198" y="15157"/>
                </a:lnTo>
                <a:lnTo>
                  <a:pt x="7198" y="17317"/>
                </a:lnTo>
                <a:arcTo wR="21600" hR="8913" stAng="2965112" swAng="-2836204"/>
                <a:lnTo>
                  <a:pt x="21511" y="9720"/>
                </a:lnTo>
                <a:arcTo wR="21600" hR="8913" stAng="-128907" swAng="-5271093"/>
                <a:close/>
              </a:path>
              <a:path fill="darkenLess" w="21600" h="21600">
                <a:moveTo>
                  <a:pt x="0" y="0"/>
                </a:moveTo>
                <a:arcTo wR="21600" hR="8913" stAng="-5400000" swAng="5400000"/>
                <a:lnTo>
                  <a:pt x="21600" y="10527"/>
                </a:lnTo>
                <a:arcTo wR="21600" hR="8913" stAng="0" swAng="-128907"/>
                <a:lnTo>
                  <a:pt x="21511" y="9720"/>
                </a:lnTo>
                <a:arcTo wR="21600" hR="8913" stAng="-128907" swAng="-5271093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168972"/>
          <p:cNvSpPr/>
          <p:nvPr/>
        </p:nvSpPr>
        <p:spPr>
          <a:xfrm>
            <a:off x="5581800" y="3357720"/>
            <a:ext cx="5029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方正美黑简体"/>
                <a:ea typeface="方正美黑简体"/>
              </a:rPr>
              <a:t>东澳大利亚暖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168973"/>
          <p:cNvSpPr/>
          <p:nvPr/>
        </p:nvSpPr>
        <p:spPr>
          <a:xfrm>
            <a:off x="2771640" y="3440160"/>
            <a:ext cx="5050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8080ff"/>
                </a:solidFill>
                <a:latin typeface="方正美黑简体"/>
                <a:ea typeface="方正美黑简体"/>
              </a:rPr>
              <a:t>西澳大利亚寒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71009" descr="worldmap4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11668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71010" descr="shark"/>
          <p:cNvPicPr/>
          <p:nvPr/>
        </p:nvPicPr>
        <p:blipFill>
          <a:blip r:embed="rId2"/>
          <a:stretch/>
        </p:blipFill>
        <p:spPr>
          <a:xfrm>
            <a:off x="7162920" y="3809880"/>
            <a:ext cx="685800" cy="241560"/>
          </a:xfrm>
          <a:prstGeom prst="rect">
            <a:avLst/>
          </a:prstGeom>
          <a:ln w="0">
            <a:noFill/>
          </a:ln>
        </p:spPr>
      </p:pic>
      <p:pic>
        <p:nvPicPr>
          <p:cNvPr id="67" name="图片 171011" descr="shark"/>
          <p:cNvPicPr/>
          <p:nvPr/>
        </p:nvPicPr>
        <p:blipFill>
          <a:blip r:embed="rId3"/>
          <a:stretch/>
        </p:blipFill>
        <p:spPr>
          <a:xfrm>
            <a:off x="4495680" y="1752480"/>
            <a:ext cx="685800" cy="24156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71012" descr="shark"/>
          <p:cNvPicPr/>
          <p:nvPr/>
        </p:nvPicPr>
        <p:blipFill>
          <a:blip r:embed="rId4"/>
          <a:stretch/>
        </p:blipFill>
        <p:spPr>
          <a:xfrm>
            <a:off x="8001000" y="1447920"/>
            <a:ext cx="685800" cy="24120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71013" descr="shark"/>
          <p:cNvPicPr/>
          <p:nvPr/>
        </p:nvPicPr>
        <p:blipFill>
          <a:blip r:embed="rId5"/>
          <a:stretch/>
        </p:blipFill>
        <p:spPr>
          <a:xfrm>
            <a:off x="395280" y="1413000"/>
            <a:ext cx="685800" cy="241200"/>
          </a:xfrm>
          <a:prstGeom prst="rect">
            <a:avLst/>
          </a:prstGeom>
          <a:ln w="0">
            <a:noFill/>
          </a:ln>
        </p:spPr>
      </p:pic>
      <p:sp>
        <p:nvSpPr>
          <p:cNvPr id="70" name="文本框 171014"/>
          <p:cNvSpPr/>
          <p:nvPr/>
        </p:nvSpPr>
        <p:spPr>
          <a:xfrm>
            <a:off x="3674520" y="1396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世界四大渔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171015"/>
          <p:cNvSpPr/>
          <p:nvPr/>
        </p:nvSpPr>
        <p:spPr>
          <a:xfrm>
            <a:off x="5832720" y="3606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秘鲁渔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171016"/>
          <p:cNvSpPr/>
          <p:nvPr/>
        </p:nvSpPr>
        <p:spPr>
          <a:xfrm>
            <a:off x="4913280" y="2006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北海道渔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171017"/>
          <p:cNvSpPr/>
          <p:nvPr/>
        </p:nvSpPr>
        <p:spPr>
          <a:xfrm>
            <a:off x="-73440" y="645480"/>
            <a:ext cx="606960" cy="20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北海渔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171018"/>
          <p:cNvSpPr/>
          <p:nvPr/>
        </p:nvSpPr>
        <p:spPr>
          <a:xfrm>
            <a:off x="8537040" y="445320"/>
            <a:ext cx="60696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纽芬兰渔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171019"/>
          <p:cNvGrpSpPr/>
          <p:nvPr/>
        </p:nvGrpSpPr>
        <p:grpSpPr>
          <a:xfrm>
            <a:off x="0" y="3346560"/>
            <a:ext cx="4723920" cy="3511440"/>
            <a:chOff x="0" y="3346560"/>
            <a:chExt cx="4723920" cy="3511440"/>
          </a:xfrm>
        </p:grpSpPr>
        <p:pic>
          <p:nvPicPr>
            <p:cNvPr id="76" name="图片 171020" descr="洋流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0" y="3346560"/>
              <a:ext cx="4723920" cy="35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椭圆 171021"/>
            <p:cNvSpPr/>
            <p:nvPr/>
          </p:nvSpPr>
          <p:spPr>
            <a:xfrm>
              <a:off x="3886200" y="5217840"/>
              <a:ext cx="217800" cy="215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椭圆 171022"/>
            <p:cNvSpPr/>
            <p:nvPr/>
          </p:nvSpPr>
          <p:spPr>
            <a:xfrm>
              <a:off x="762480" y="3778200"/>
              <a:ext cx="217800" cy="215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椭圆 171023"/>
            <p:cNvSpPr/>
            <p:nvPr/>
          </p:nvSpPr>
          <p:spPr>
            <a:xfrm>
              <a:off x="2361240" y="4281480"/>
              <a:ext cx="217800" cy="21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椭圆 171024"/>
            <p:cNvSpPr/>
            <p:nvPr/>
          </p:nvSpPr>
          <p:spPr>
            <a:xfrm>
              <a:off x="3742200" y="4065480"/>
              <a:ext cx="217800" cy="215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椭圆 171025"/>
          <p:cNvSpPr/>
          <p:nvPr/>
        </p:nvSpPr>
        <p:spPr>
          <a:xfrm>
            <a:off x="8763120" y="6400800"/>
            <a:ext cx="38088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72033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72034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72035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72036"/>
          <p:cNvSpPr/>
          <p:nvPr/>
        </p:nvSpPr>
        <p:spPr>
          <a:xfrm>
            <a:off x="6372360" y="3190320"/>
            <a:ext cx="254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二战时，地中海海域是德、意军队的控制区，而进出地中海的咽喉要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直布罗陀海峡却在英军控制之中。为了控制德军潜艇出入地中海，英军用雷达、声纳设备监控直不罗陀海峡，控制德军潜艇出入地中海，但监测站并未发现德国潜艇，而</a:t>
            </a:r>
            <a:r>
              <a:rPr b="1" lang="zh-CN" sz="1800" spc="-1" strike="noStrike">
                <a:solidFill>
                  <a:srgbClr val="8080ff"/>
                </a:solidFill>
                <a:latin typeface="Arial"/>
                <a:ea typeface="黑体"/>
              </a:rPr>
              <a:t>德军潜艇却自由出入地中海和大西洋之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，英国舰艇在地中海时遭德国潜艇的攻击。英军迷惑不解。</a:t>
            </a:r>
            <a:r>
              <a:rPr b="1" lang="zh-CN" sz="1800" spc="-1" strike="noStrike">
                <a:solidFill>
                  <a:srgbClr val="8080ff"/>
                </a:solidFill>
                <a:latin typeface="Arial"/>
                <a:ea typeface="黑体"/>
              </a:rPr>
              <a:t>德国到底用了什么绝招呢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72037"/>
          <p:cNvSpPr/>
          <p:nvPr/>
        </p:nvSpPr>
        <p:spPr>
          <a:xfrm>
            <a:off x="2334240" y="189000"/>
            <a:ext cx="390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德    军    潜    艇    的    绝    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组合 172038"/>
          <p:cNvGrpSpPr/>
          <p:nvPr/>
        </p:nvGrpSpPr>
        <p:grpSpPr>
          <a:xfrm>
            <a:off x="0" y="765000"/>
            <a:ext cx="6300720" cy="5759280"/>
            <a:chOff x="0" y="765000"/>
            <a:chExt cx="6300720" cy="5759280"/>
          </a:xfrm>
        </p:grpSpPr>
        <p:pic>
          <p:nvPicPr>
            <p:cNvPr id="88" name="图片 172039" descr="bas306_01b_pic"/>
            <p:cNvPicPr/>
            <p:nvPr/>
          </p:nvPicPr>
          <p:blipFill>
            <a:blip r:embed="rId1"/>
            <a:stretch/>
          </p:blipFill>
          <p:spPr>
            <a:xfrm>
              <a:off x="0" y="765000"/>
              <a:ext cx="6300720" cy="57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文本框 172040"/>
            <p:cNvSpPr/>
            <p:nvPr/>
          </p:nvSpPr>
          <p:spPr>
            <a:xfrm>
              <a:off x="2804040" y="1439640"/>
              <a:ext cx="217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8080ff"/>
                  </a:solidFill>
                  <a:latin typeface="黑体"/>
                  <a:ea typeface="黑体"/>
                </a:rPr>
                <a:t>欧          洲</a:t>
              </a:r>
              <a:r>
                <a:rPr b="1" lang="zh-CN" sz="1800" spc="-1" strike="noStrike">
                  <a:solidFill>
                    <a:srgbClr val="ff9933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文本框 172041"/>
            <p:cNvSpPr/>
            <p:nvPr/>
          </p:nvSpPr>
          <p:spPr>
            <a:xfrm>
              <a:off x="3321000" y="4789080"/>
              <a:ext cx="176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8080ff"/>
                  </a:solidFill>
                  <a:latin typeface="黑体"/>
                  <a:ea typeface="黑体"/>
                </a:rPr>
                <a:t>   </a:t>
              </a:r>
              <a:r>
                <a:rPr b="1" lang="zh-CN" sz="4000" spc="-1" strike="noStrike">
                  <a:solidFill>
                    <a:srgbClr val="8080ff"/>
                  </a:solidFill>
                  <a:latin typeface="黑体"/>
                  <a:ea typeface="黑体"/>
                </a:rPr>
                <a:t>非   洲</a:t>
              </a:r>
              <a:r>
                <a:rPr b="1" lang="zh-CN" sz="1800" spc="-1" strike="noStrike">
                  <a:solidFill>
                    <a:srgbClr val="ff9933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文本框 172042"/>
            <p:cNvSpPr/>
            <p:nvPr/>
          </p:nvSpPr>
          <p:spPr>
            <a:xfrm>
              <a:off x="641880" y="2925360"/>
              <a:ext cx="1154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9933"/>
                  </a:solidFill>
                  <a:latin typeface="黑体"/>
                  <a:ea typeface="黑体"/>
                </a:rPr>
                <a:t>大西洋</a:t>
              </a:r>
              <a:r>
                <a:rPr b="1" lang="zh-CN" sz="1800" spc="-1" strike="noStrike">
                  <a:solidFill>
                    <a:srgbClr val="ff9933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文本框 172043"/>
            <p:cNvSpPr/>
            <p:nvPr/>
          </p:nvSpPr>
          <p:spPr>
            <a:xfrm>
              <a:off x="4764600" y="3070080"/>
              <a:ext cx="1154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9933"/>
                  </a:solidFill>
                  <a:latin typeface="黑体"/>
                  <a:ea typeface="黑体"/>
                </a:rPr>
                <a:t>地中海</a:t>
              </a:r>
              <a:r>
                <a:rPr b="1" lang="zh-CN" sz="1800" spc="-1" strike="noStrike">
                  <a:solidFill>
                    <a:srgbClr val="ff9933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椭圆形标注 172044"/>
            <p:cNvSpPr/>
            <p:nvPr/>
          </p:nvSpPr>
          <p:spPr>
            <a:xfrm>
              <a:off x="3635280" y="2493720"/>
              <a:ext cx="914400" cy="647640"/>
            </a:xfrm>
            <a:prstGeom prst="wedgeEllipseCallout">
              <a:avLst>
                <a:gd name="adj1" fmla="val -80731"/>
                <a:gd name="adj2" fmla="val 128921"/>
              </a:avLst>
            </a:prstGeom>
            <a:solidFill>
              <a:srgbClr val="8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文本框 172045"/>
            <p:cNvSpPr/>
            <p:nvPr/>
          </p:nvSpPr>
          <p:spPr>
            <a:xfrm>
              <a:off x="3876480" y="2638080"/>
              <a:ext cx="5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英 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圆角矩形标注 172046"/>
            <p:cNvSpPr/>
            <p:nvPr/>
          </p:nvSpPr>
          <p:spPr>
            <a:xfrm rot="10800000">
              <a:off x="1331640" y="5373000"/>
              <a:ext cx="4608360" cy="934920"/>
            </a:xfrm>
            <a:prstGeom prst="wedgeRoundRectCallout">
              <a:avLst>
                <a:gd name="adj1" fmla="val 4319"/>
                <a:gd name="adj2" fmla="val 236583"/>
                <a:gd name="adj3" fmla="val 16667"/>
              </a:avLst>
            </a:prstGeom>
            <a:solidFill>
              <a:srgbClr val="8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文本框 172047"/>
            <p:cNvSpPr/>
            <p:nvPr/>
          </p:nvSpPr>
          <p:spPr>
            <a:xfrm>
              <a:off x="2413080" y="5373360"/>
              <a:ext cx="2314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德军潜艇为何自由出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直布罗陀海峡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文本框 172048"/>
            <p:cNvSpPr/>
            <p:nvPr/>
          </p:nvSpPr>
          <p:spPr>
            <a:xfrm>
              <a:off x="4540320" y="371772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德意控制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73058"/>
          <p:cNvSpPr/>
          <p:nvPr/>
        </p:nvSpPr>
        <p:spPr>
          <a:xfrm>
            <a:off x="826920" y="1760040"/>
            <a:ext cx="3240360" cy="32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796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潜艇可以沿红线路径浮航至直布罗陀外海，调整好方向，然后潜入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米的水下（不能低于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米，否则潜艇将会受到补偿流的影响被反推会大西洋），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关闭发动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利用洋流（蓝色路径）将潜艇推入地中海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图片 173059" descr="c8ea15cef73d7426b700c86a"/>
          <p:cNvPicPr/>
          <p:nvPr/>
        </p:nvPicPr>
        <p:blipFill>
          <a:blip r:embed="rId1"/>
          <a:stretch/>
        </p:blipFill>
        <p:spPr>
          <a:xfrm>
            <a:off x="4356000" y="404640"/>
            <a:ext cx="4248360" cy="604872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173060" descr="q5"/>
          <p:cNvPicPr/>
          <p:nvPr/>
        </p:nvPicPr>
        <p:blipFill>
          <a:blip r:embed="rId2"/>
          <a:stretch/>
        </p:blipFill>
        <p:spPr>
          <a:xfrm>
            <a:off x="250920" y="189000"/>
            <a:ext cx="75564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74081" descr="1492 哥路线"/>
          <p:cNvPicPr/>
          <p:nvPr/>
        </p:nvPicPr>
        <p:blipFill>
          <a:blip r:embed="rId1"/>
          <a:stretch/>
        </p:blipFill>
        <p:spPr>
          <a:xfrm>
            <a:off x="0" y="665280"/>
            <a:ext cx="9144000" cy="6192720"/>
          </a:xfrm>
          <a:prstGeom prst="rect">
            <a:avLst/>
          </a:prstGeom>
          <a:ln w="0">
            <a:noFill/>
          </a:ln>
        </p:spPr>
      </p:pic>
      <p:sp>
        <p:nvSpPr>
          <p:cNvPr id="103" name="文本框 174082"/>
          <p:cNvSpPr/>
          <p:nvPr/>
        </p:nvSpPr>
        <p:spPr>
          <a:xfrm>
            <a:off x="3205080" y="2787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74083"/>
          <p:cNvSpPr/>
          <p:nvPr/>
        </p:nvSpPr>
        <p:spPr>
          <a:xfrm>
            <a:off x="3278160" y="37893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任意多边形 174084"/>
          <p:cNvSpPr/>
          <p:nvPr/>
        </p:nvSpPr>
        <p:spPr>
          <a:xfrm>
            <a:off x="1692360" y="2492280"/>
            <a:ext cx="3095640" cy="540000"/>
          </a:xfrm>
          <a:custGeom>
            <a:avLst/>
            <a:gdLst/>
            <a:ahLst/>
            <a:rect l="l" t="t" r="r" b="b"/>
            <a:pathLst>
              <a:path w="1950" h="340">
                <a:moveTo>
                  <a:pt x="1950" y="242"/>
                </a:moveTo>
                <a:cubicBezTo>
                  <a:pt x="1863" y="170"/>
                  <a:pt x="1776" y="99"/>
                  <a:pt x="1678" y="61"/>
                </a:cubicBezTo>
                <a:cubicBezTo>
                  <a:pt x="1580" y="23"/>
                  <a:pt x="1489" y="0"/>
                  <a:pt x="1361" y="15"/>
                </a:cubicBezTo>
                <a:cubicBezTo>
                  <a:pt x="1233" y="30"/>
                  <a:pt x="1073" y="107"/>
                  <a:pt x="907" y="152"/>
                </a:cubicBezTo>
                <a:cubicBezTo>
                  <a:pt x="741" y="197"/>
                  <a:pt x="491" y="258"/>
                  <a:pt x="363" y="288"/>
                </a:cubicBezTo>
                <a:cubicBezTo>
                  <a:pt x="235" y="318"/>
                  <a:pt x="197" y="326"/>
                  <a:pt x="136" y="333"/>
                </a:cubicBezTo>
                <a:cubicBezTo>
                  <a:pt x="75" y="340"/>
                  <a:pt x="23" y="333"/>
                  <a:pt x="0" y="333"/>
                </a:cubicBezTo>
              </a:path>
            </a:pathLst>
          </a:custGeom>
          <a:noFill/>
          <a:ln w="54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任意多边形 174085"/>
          <p:cNvSpPr/>
          <p:nvPr/>
        </p:nvSpPr>
        <p:spPr>
          <a:xfrm>
            <a:off x="1619280" y="2924280"/>
            <a:ext cx="3095640" cy="1596960"/>
          </a:xfrm>
          <a:custGeom>
            <a:avLst/>
            <a:gdLst/>
            <a:ahLst/>
            <a:rect l="l" t="t" r="r" b="b"/>
            <a:pathLst>
              <a:path w="1950" h="1006">
                <a:moveTo>
                  <a:pt x="1950" y="0"/>
                </a:moveTo>
                <a:cubicBezTo>
                  <a:pt x="1908" y="98"/>
                  <a:pt x="1867" y="197"/>
                  <a:pt x="1814" y="272"/>
                </a:cubicBezTo>
                <a:cubicBezTo>
                  <a:pt x="1761" y="347"/>
                  <a:pt x="1678" y="378"/>
                  <a:pt x="1633" y="453"/>
                </a:cubicBezTo>
                <a:cubicBezTo>
                  <a:pt x="1588" y="528"/>
                  <a:pt x="1595" y="650"/>
                  <a:pt x="1542" y="725"/>
                </a:cubicBezTo>
                <a:cubicBezTo>
                  <a:pt x="1489" y="800"/>
                  <a:pt x="1406" y="861"/>
                  <a:pt x="1315" y="907"/>
                </a:cubicBezTo>
                <a:cubicBezTo>
                  <a:pt x="1224" y="953"/>
                  <a:pt x="1089" y="990"/>
                  <a:pt x="998" y="998"/>
                </a:cubicBezTo>
                <a:cubicBezTo>
                  <a:pt x="907" y="1006"/>
                  <a:pt x="862" y="998"/>
                  <a:pt x="771" y="952"/>
                </a:cubicBezTo>
                <a:cubicBezTo>
                  <a:pt x="680" y="906"/>
                  <a:pt x="545" y="785"/>
                  <a:pt x="454" y="725"/>
                </a:cubicBezTo>
                <a:cubicBezTo>
                  <a:pt x="363" y="665"/>
                  <a:pt x="295" y="642"/>
                  <a:pt x="227" y="589"/>
                </a:cubicBezTo>
                <a:cubicBezTo>
                  <a:pt x="159" y="536"/>
                  <a:pt x="83" y="491"/>
                  <a:pt x="45" y="408"/>
                </a:cubicBezTo>
                <a:cubicBezTo>
                  <a:pt x="7" y="325"/>
                  <a:pt x="3" y="207"/>
                  <a:pt x="0" y="9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椭圆 174086"/>
          <p:cNvSpPr/>
          <p:nvPr/>
        </p:nvSpPr>
        <p:spPr>
          <a:xfrm>
            <a:off x="2627280" y="2276640"/>
            <a:ext cx="142920" cy="142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椭圆 174087"/>
          <p:cNvSpPr/>
          <p:nvPr/>
        </p:nvSpPr>
        <p:spPr>
          <a:xfrm>
            <a:off x="4859280" y="2060640"/>
            <a:ext cx="1429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74088"/>
          <p:cNvSpPr/>
          <p:nvPr/>
        </p:nvSpPr>
        <p:spPr>
          <a:xfrm>
            <a:off x="1692360" y="17002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圣约翰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74089"/>
          <p:cNvSpPr/>
          <p:nvPr/>
        </p:nvSpPr>
        <p:spPr>
          <a:xfrm>
            <a:off x="4716360" y="1557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柏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图片 174090" descr="哥伦布"/>
          <p:cNvPicPr/>
          <p:nvPr/>
        </p:nvPicPr>
        <p:blipFill>
          <a:blip r:embed="rId2"/>
          <a:stretch/>
        </p:blipFill>
        <p:spPr>
          <a:xfrm>
            <a:off x="6618240" y="3809880"/>
            <a:ext cx="2525760" cy="3048120"/>
          </a:xfrm>
          <a:prstGeom prst="rect">
            <a:avLst/>
          </a:prstGeom>
          <a:ln w="0">
            <a:noFill/>
          </a:ln>
        </p:spPr>
      </p:pic>
      <p:sp>
        <p:nvSpPr>
          <p:cNvPr id="112" name="文本框 174091"/>
          <p:cNvSpPr/>
          <p:nvPr/>
        </p:nvSpPr>
        <p:spPr>
          <a:xfrm>
            <a:off x="179280" y="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结合“世界洋流分布”，完成下列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组合 174092"/>
          <p:cNvGrpSpPr/>
          <p:nvPr/>
        </p:nvGrpSpPr>
        <p:grpSpPr>
          <a:xfrm>
            <a:off x="2050920" y="1989000"/>
            <a:ext cx="2361960" cy="1104840"/>
            <a:chOff x="2050920" y="1989000"/>
            <a:chExt cx="2361960" cy="1104840"/>
          </a:xfrm>
        </p:grpSpPr>
        <p:sp>
          <p:nvSpPr>
            <p:cNvPr id="114" name="直接连接符 174093"/>
            <p:cNvSpPr/>
            <p:nvPr/>
          </p:nvSpPr>
          <p:spPr>
            <a:xfrm flipV="1">
              <a:off x="2266920" y="2636640"/>
              <a:ext cx="1752480" cy="45720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174094"/>
            <p:cNvSpPr txBox="1"/>
            <p:nvPr/>
          </p:nvSpPr>
          <p:spPr>
            <a:xfrm>
              <a:off x="2050920" y="1989000"/>
              <a:ext cx="2361960" cy="102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38160">
                    <a:solidFill>
                      <a:srgbClr val="ff0000"/>
                    </a:solidFill>
                    <a:round/>
                  </a:ln>
                  <a:solidFill>
                    <a:srgbClr val="3366ff"/>
                  </a:solidFill>
                  <a:latin typeface="宋体"/>
                </a:rPr>
                <a:t>北大西洋暖流</a:t>
              </a:r>
              <a:endParaRPr b="0" lang="en-US" sz="1800" spc="1" strike="noStrike">
                <a:ln w="38160">
                  <a:solidFill>
                    <a:srgbClr val="ff0000"/>
                  </a:solidFill>
                  <a:round/>
                </a:ln>
                <a:solidFill>
                  <a:srgbClr val="3366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16" name="组合 174095"/>
          <p:cNvGrpSpPr/>
          <p:nvPr/>
        </p:nvGrpSpPr>
        <p:grpSpPr>
          <a:xfrm>
            <a:off x="3492360" y="2924280"/>
            <a:ext cx="3205080" cy="901440"/>
            <a:chOff x="3492360" y="2924280"/>
            <a:chExt cx="3205080" cy="901440"/>
          </a:xfrm>
        </p:grpSpPr>
        <p:sp>
          <p:nvSpPr>
            <p:cNvPr id="117" name="任意多边形 174096"/>
            <p:cNvSpPr/>
            <p:nvPr/>
          </p:nvSpPr>
          <p:spPr>
            <a:xfrm>
              <a:off x="3492360" y="2924280"/>
              <a:ext cx="946080" cy="838080"/>
            </a:xfrm>
            <a:custGeom>
              <a:avLst/>
              <a:gdLst/>
              <a:ahLst/>
              <a:rect l="l" t="t" r="r" b="b"/>
              <a:pathLst>
                <a:path w="21599" h="21728">
                  <a:moveTo>
                    <a:pt x="16303" y="18389"/>
                  </a:moveTo>
                  <a:cubicBezTo>
                    <a:pt x="18649" y="16685"/>
                    <a:pt x="20174" y="13920"/>
                    <a:pt x="20174" y="10799"/>
                  </a:cubicBezTo>
                  <a:cubicBezTo>
                    <a:pt x="20174" y="7660"/>
                    <a:pt x="18631" y="4881"/>
                    <a:pt x="16263" y="3180"/>
                  </a:cubicBezTo>
                  <a:lnTo>
                    <a:pt x="17093" y="2023"/>
                  </a:lnTo>
                  <a:cubicBezTo>
                    <a:pt x="19822" y="3983"/>
                    <a:pt x="21599" y="7184"/>
                    <a:pt x="21599" y="10800"/>
                  </a:cubicBezTo>
                  <a:cubicBezTo>
                    <a:pt x="21599" y="14396"/>
                    <a:pt x="19842" y="17581"/>
                    <a:pt x="17140" y="19544"/>
                  </a:cubicBezTo>
                  <a:lnTo>
                    <a:pt x="18725" y="21728"/>
                  </a:lnTo>
                  <a:lnTo>
                    <a:pt x="13959" y="20969"/>
                  </a:lnTo>
                  <a:lnTo>
                    <a:pt x="14718" y="16203"/>
                  </a:lnTo>
                  <a:lnTo>
                    <a:pt x="16303" y="18389"/>
                  </a:lnTo>
                  <a:close/>
                </a:path>
              </a:pathLst>
            </a:custGeom>
            <a:solidFill>
              <a:srgbClr val="8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文本框 174097"/>
            <p:cNvSpPr/>
            <p:nvPr/>
          </p:nvSpPr>
          <p:spPr>
            <a:xfrm>
              <a:off x="4559040" y="3305160"/>
              <a:ext cx="2138400" cy="5205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加那利寒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174098"/>
          <p:cNvGrpSpPr/>
          <p:nvPr/>
        </p:nvGrpSpPr>
        <p:grpSpPr>
          <a:xfrm>
            <a:off x="2050920" y="4149360"/>
            <a:ext cx="2362320" cy="766800"/>
            <a:chOff x="2050920" y="4149360"/>
            <a:chExt cx="2362320" cy="766800"/>
          </a:xfrm>
        </p:grpSpPr>
        <p:sp>
          <p:nvSpPr>
            <p:cNvPr id="120" name="文本框 174099"/>
            <p:cNvSpPr/>
            <p:nvPr/>
          </p:nvSpPr>
          <p:spPr>
            <a:xfrm>
              <a:off x="2050920" y="4365360"/>
              <a:ext cx="2362320" cy="5508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cc1800"/>
                  </a:solidFill>
                  <a:latin typeface="宋体"/>
                </a:rPr>
                <a:t>北赤道暖流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直接连接符 174100"/>
            <p:cNvSpPr/>
            <p:nvPr/>
          </p:nvSpPr>
          <p:spPr>
            <a:xfrm flipH="1" flipV="1">
              <a:off x="2266560" y="4149360"/>
              <a:ext cx="1584360" cy="21564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文本框 174101"/>
          <p:cNvSpPr/>
          <p:nvPr/>
        </p:nvSpPr>
        <p:spPr>
          <a:xfrm>
            <a:off x="2058120" y="2852640"/>
            <a:ext cx="108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黑体"/>
                <a:ea typeface="黑体"/>
              </a:rPr>
              <a:t>37</a:t>
            </a:r>
            <a:r>
              <a:rPr b="1" lang="zh-CN" sz="3600" spc="-1" strike="noStrike">
                <a:solidFill>
                  <a:srgbClr val="ff6600"/>
                </a:solidFill>
                <a:latin typeface="黑体"/>
                <a:ea typeface="黑体"/>
              </a:rPr>
              <a:t>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174102"/>
          <p:cNvSpPr/>
          <p:nvPr/>
        </p:nvSpPr>
        <p:spPr>
          <a:xfrm>
            <a:off x="2340000" y="3573360"/>
            <a:ext cx="11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黑体"/>
                <a:ea typeface="黑体"/>
              </a:rPr>
              <a:t>20</a:t>
            </a:r>
            <a:r>
              <a:rPr b="1" lang="zh-CN" sz="3600" spc="-1" strike="noStrike">
                <a:solidFill>
                  <a:srgbClr val="ff6600"/>
                </a:solidFill>
                <a:latin typeface="黑体"/>
                <a:ea typeface="黑体"/>
              </a:rPr>
              <a:t>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云形标注 174103"/>
          <p:cNvSpPr/>
          <p:nvPr/>
        </p:nvSpPr>
        <p:spPr>
          <a:xfrm>
            <a:off x="4284720" y="907920"/>
            <a:ext cx="4608360" cy="1656000"/>
          </a:xfrm>
          <a:prstGeom prst="cloudCallout">
            <a:avLst>
              <a:gd name="adj1" fmla="val -32912"/>
              <a:gd name="adj2" fmla="val 999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为什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次所需的时间不一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74104"/>
          <p:cNvSpPr/>
          <p:nvPr/>
        </p:nvSpPr>
        <p:spPr>
          <a:xfrm>
            <a:off x="8476200" y="356580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哥伦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0" y="4365360"/>
            <a:ext cx="914400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郑和从永乐三年六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40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始到宣德八年闰八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43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七次下南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但每次都冬季出发   夏季返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75106" descr="tu11"/>
          <p:cNvPicPr/>
          <p:nvPr/>
        </p:nvPicPr>
        <p:blipFill>
          <a:blip r:embed="rId1"/>
          <a:stretch/>
        </p:blipFill>
        <p:spPr>
          <a:xfrm>
            <a:off x="2340000" y="620640"/>
            <a:ext cx="6804000" cy="3600360"/>
          </a:xfrm>
          <a:prstGeom prst="rect">
            <a:avLst/>
          </a:prstGeom>
          <a:ln w="0">
            <a:noFill/>
          </a:ln>
        </p:spPr>
      </p:pic>
      <p:sp>
        <p:nvSpPr>
          <p:cNvPr id="128" name="矩形 175107"/>
          <p:cNvSpPr/>
          <p:nvPr/>
        </p:nvSpPr>
        <p:spPr>
          <a:xfrm>
            <a:off x="0" y="0"/>
            <a:ext cx="914400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75108"/>
          <p:cNvSpPr/>
          <p:nvPr/>
        </p:nvSpPr>
        <p:spPr>
          <a:xfrm>
            <a:off x="1979640" y="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郑     和    七    下    西    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175109"/>
          <p:cNvGrpSpPr/>
          <p:nvPr/>
        </p:nvGrpSpPr>
        <p:grpSpPr>
          <a:xfrm>
            <a:off x="0" y="620640"/>
            <a:ext cx="2340000" cy="3339000"/>
            <a:chOff x="0" y="620640"/>
            <a:chExt cx="2340000" cy="3339000"/>
          </a:xfrm>
        </p:grpSpPr>
        <p:sp>
          <p:nvSpPr>
            <p:cNvPr id="131" name="矩形 175110"/>
            <p:cNvSpPr/>
            <p:nvPr/>
          </p:nvSpPr>
          <p:spPr>
            <a:xfrm>
              <a:off x="191880" y="3317040"/>
              <a:ext cx="196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ff"/>
                  </a:solidFill>
                  <a:latin typeface="黑体"/>
                  <a:ea typeface="黑体"/>
                </a:rPr>
                <a:t>郑和</a:t>
              </a:r>
              <a:r>
                <a:rPr b="1" lang="en-US" sz="1800" spc="-1" strike="noStrike">
                  <a:solidFill>
                    <a:srgbClr val="8080ff"/>
                  </a:solidFill>
                  <a:latin typeface="黑体"/>
                  <a:ea typeface="黑体"/>
                </a:rPr>
                <a:t>(1371</a:t>
              </a:r>
              <a:r>
                <a:rPr b="1" lang="zh-CN" sz="1800" spc="-1" strike="noStrike">
                  <a:solidFill>
                    <a:srgbClr val="8080ff"/>
                  </a:solidFill>
                  <a:latin typeface="黑体"/>
                  <a:ea typeface="黑体"/>
                </a:rPr>
                <a:t>－</a:t>
              </a:r>
              <a:r>
                <a:rPr b="1" lang="en-US" sz="1800" spc="-1" strike="noStrike">
                  <a:solidFill>
                    <a:srgbClr val="8080ff"/>
                  </a:solidFill>
                  <a:latin typeface="黑体"/>
                  <a:ea typeface="黑体"/>
                </a:rPr>
                <a:t>143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ff"/>
                  </a:solidFill>
                  <a:latin typeface="黑体"/>
                  <a:ea typeface="黑体"/>
                </a:rPr>
                <a:t>明代杰出航海家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图片 175111" descr="stu101_01_pic"/>
            <p:cNvPicPr/>
            <p:nvPr/>
          </p:nvPicPr>
          <p:blipFill>
            <a:blip r:embed="rId2"/>
            <a:stretch/>
          </p:blipFill>
          <p:spPr>
            <a:xfrm>
              <a:off x="0" y="620640"/>
              <a:ext cx="2340000" cy="271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直接连接符 175112"/>
          <p:cNvSpPr/>
          <p:nvPr/>
        </p:nvSpPr>
        <p:spPr>
          <a:xfrm>
            <a:off x="6732720" y="5373720"/>
            <a:ext cx="2160360" cy="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175113"/>
          <p:cNvSpPr/>
          <p:nvPr/>
        </p:nvSpPr>
        <p:spPr>
          <a:xfrm>
            <a:off x="0" y="6021360"/>
            <a:ext cx="1908000" cy="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75114"/>
          <p:cNvSpPr/>
          <p:nvPr/>
        </p:nvSpPr>
        <p:spPr>
          <a:xfrm>
            <a:off x="2195640" y="5877000"/>
            <a:ext cx="468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75115"/>
          <p:cNvSpPr/>
          <p:nvPr/>
        </p:nvSpPr>
        <p:spPr>
          <a:xfrm>
            <a:off x="2411280" y="5516640"/>
            <a:ext cx="33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为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176129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76130"/>
          <p:cNvSpPr/>
          <p:nvPr/>
        </p:nvSpPr>
        <p:spPr>
          <a:xfrm>
            <a:off x="0" y="260280"/>
            <a:ext cx="914400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76131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组合 176132"/>
          <p:cNvGrpSpPr/>
          <p:nvPr/>
        </p:nvGrpSpPr>
        <p:grpSpPr>
          <a:xfrm>
            <a:off x="996840" y="274680"/>
            <a:ext cx="6576840" cy="520560"/>
            <a:chOff x="996840" y="274680"/>
            <a:chExt cx="6576840" cy="520560"/>
          </a:xfrm>
        </p:grpSpPr>
        <p:sp>
          <p:nvSpPr>
            <p:cNvPr id="141" name="矩形 176133"/>
            <p:cNvSpPr/>
            <p:nvPr/>
          </p:nvSpPr>
          <p:spPr>
            <a:xfrm>
              <a:off x="3125880" y="274680"/>
              <a:ext cx="444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郑和下西洋为何选择冬季出发，夏季返航呢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文本框 176134"/>
            <p:cNvSpPr/>
            <p:nvPr/>
          </p:nvSpPr>
          <p:spPr>
            <a:xfrm>
              <a:off x="996840" y="27468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图片 176135" descr="未命名1"/>
          <p:cNvPicPr/>
          <p:nvPr/>
        </p:nvPicPr>
        <p:blipFill>
          <a:blip r:embed="rId1"/>
          <a:stretch/>
        </p:blipFill>
        <p:spPr>
          <a:xfrm>
            <a:off x="6012000" y="1197000"/>
            <a:ext cx="2916000" cy="191124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176136" descr="未命名2"/>
          <p:cNvPicPr/>
          <p:nvPr/>
        </p:nvPicPr>
        <p:blipFill>
          <a:blip r:embed="rId2"/>
          <a:stretch/>
        </p:blipFill>
        <p:spPr>
          <a:xfrm>
            <a:off x="6012000" y="3933720"/>
            <a:ext cx="2987640" cy="1957320"/>
          </a:xfrm>
          <a:prstGeom prst="rect">
            <a:avLst/>
          </a:prstGeom>
          <a:ln w="0">
            <a:noFill/>
          </a:ln>
        </p:spPr>
      </p:pic>
      <p:grpSp>
        <p:nvGrpSpPr>
          <p:cNvPr id="145" name="组合 176137"/>
          <p:cNvGrpSpPr/>
          <p:nvPr/>
        </p:nvGrpSpPr>
        <p:grpSpPr>
          <a:xfrm>
            <a:off x="250920" y="3789360"/>
            <a:ext cx="5616360" cy="2657520"/>
            <a:chOff x="250920" y="3789360"/>
            <a:chExt cx="5616360" cy="2657520"/>
          </a:xfrm>
        </p:grpSpPr>
        <p:grpSp>
          <p:nvGrpSpPr>
            <p:cNvPr id="146" name="组合 176138"/>
            <p:cNvGrpSpPr/>
            <p:nvPr/>
          </p:nvGrpSpPr>
          <p:grpSpPr>
            <a:xfrm>
              <a:off x="250920" y="3789360"/>
              <a:ext cx="5616360" cy="2520720"/>
              <a:chOff x="250920" y="3789360"/>
              <a:chExt cx="5616360" cy="2520720"/>
            </a:xfrm>
          </p:grpSpPr>
          <p:grpSp>
            <p:nvGrpSpPr>
              <p:cNvPr id="147" name="组合 176139"/>
              <p:cNvGrpSpPr/>
              <p:nvPr/>
            </p:nvGrpSpPr>
            <p:grpSpPr>
              <a:xfrm>
                <a:off x="250920" y="3789360"/>
                <a:ext cx="5616360" cy="2520720"/>
                <a:chOff x="250920" y="3789360"/>
                <a:chExt cx="5616360" cy="2520720"/>
              </a:xfrm>
            </p:grpSpPr>
            <p:pic>
              <p:nvPicPr>
                <p:cNvPr id="148" name="图片 176140" descr="郑和航海路线图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50920" y="3789360"/>
                  <a:ext cx="5590800" cy="24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" name="矩形 176141"/>
                <p:cNvSpPr/>
                <p:nvPr/>
              </p:nvSpPr>
              <p:spPr>
                <a:xfrm>
                  <a:off x="250920" y="3789360"/>
                  <a:ext cx="5616360" cy="2520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直接连接符 176142"/>
              <p:cNvSpPr/>
              <p:nvPr/>
            </p:nvSpPr>
            <p:spPr>
              <a:xfrm>
                <a:off x="250920" y="5805360"/>
                <a:ext cx="561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文本框 176143"/>
            <p:cNvSpPr/>
            <p:nvPr/>
          </p:nvSpPr>
          <p:spPr>
            <a:xfrm>
              <a:off x="2433600" y="6078600"/>
              <a:ext cx="633240" cy="368280"/>
            </a:xfrm>
            <a:prstGeom prst="rect">
              <a:avLst/>
            </a:prstGeom>
            <a:solidFill>
              <a:srgbClr val="cd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夏   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176144"/>
          <p:cNvGrpSpPr/>
          <p:nvPr/>
        </p:nvGrpSpPr>
        <p:grpSpPr>
          <a:xfrm>
            <a:off x="395280" y="1052640"/>
            <a:ext cx="5616360" cy="2651040"/>
            <a:chOff x="395280" y="1052640"/>
            <a:chExt cx="5616360" cy="2651040"/>
          </a:xfrm>
        </p:grpSpPr>
        <p:grpSp>
          <p:nvGrpSpPr>
            <p:cNvPr id="153" name="组合 176145"/>
            <p:cNvGrpSpPr/>
            <p:nvPr/>
          </p:nvGrpSpPr>
          <p:grpSpPr>
            <a:xfrm>
              <a:off x="395280" y="1052640"/>
              <a:ext cx="5616360" cy="2520720"/>
              <a:chOff x="395280" y="1052640"/>
              <a:chExt cx="5616360" cy="2520720"/>
            </a:xfrm>
          </p:grpSpPr>
          <p:grpSp>
            <p:nvGrpSpPr>
              <p:cNvPr id="154" name="组合 176146"/>
              <p:cNvGrpSpPr/>
              <p:nvPr/>
            </p:nvGrpSpPr>
            <p:grpSpPr>
              <a:xfrm>
                <a:off x="395280" y="1052640"/>
                <a:ext cx="5616360" cy="2520720"/>
                <a:chOff x="395280" y="1052640"/>
                <a:chExt cx="5616360" cy="2520720"/>
              </a:xfrm>
            </p:grpSpPr>
            <p:pic>
              <p:nvPicPr>
                <p:cNvPr id="155" name="图片 176147" descr="郑和航海路线图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95280" y="1052640"/>
                  <a:ext cx="5590800" cy="24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" name="矩形 176148"/>
                <p:cNvSpPr/>
                <p:nvPr/>
              </p:nvSpPr>
              <p:spPr>
                <a:xfrm>
                  <a:off x="395280" y="1052640"/>
                  <a:ext cx="5616360" cy="2520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直接连接符 176149"/>
              <p:cNvSpPr/>
              <p:nvPr/>
            </p:nvSpPr>
            <p:spPr>
              <a:xfrm>
                <a:off x="395280" y="3068640"/>
                <a:ext cx="561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矩形 176150"/>
            <p:cNvSpPr/>
            <p:nvPr/>
          </p:nvSpPr>
          <p:spPr>
            <a:xfrm>
              <a:off x="2527920" y="3335400"/>
              <a:ext cx="752400" cy="368280"/>
            </a:xfrm>
            <a:prstGeom prst="rect">
              <a:avLst/>
            </a:prstGeom>
            <a:solidFill>
              <a:srgbClr val="cd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冬     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176151"/>
          <p:cNvGrpSpPr/>
          <p:nvPr/>
        </p:nvGrpSpPr>
        <p:grpSpPr>
          <a:xfrm>
            <a:off x="1042920" y="1244520"/>
            <a:ext cx="4478400" cy="1897200"/>
            <a:chOff x="1042920" y="1244520"/>
            <a:chExt cx="4478400" cy="1897200"/>
          </a:xfrm>
        </p:grpSpPr>
        <p:sp>
          <p:nvSpPr>
            <p:cNvPr id="160" name="任意多边形 176152"/>
            <p:cNvSpPr/>
            <p:nvPr/>
          </p:nvSpPr>
          <p:spPr>
            <a:xfrm>
              <a:off x="1619280" y="1484280"/>
              <a:ext cx="1152360" cy="936720"/>
            </a:xfrm>
            <a:custGeom>
              <a:avLst/>
              <a:gdLst/>
              <a:ahLst/>
              <a:rect l="l" t="t" r="r" b="b"/>
              <a:pathLst>
                <a:path w="726" h="590">
                  <a:moveTo>
                    <a:pt x="0" y="0"/>
                  </a:moveTo>
                  <a:cubicBezTo>
                    <a:pt x="302" y="246"/>
                    <a:pt x="605" y="492"/>
                    <a:pt x="726" y="59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任意多边形 176153"/>
            <p:cNvSpPr/>
            <p:nvPr/>
          </p:nvSpPr>
          <p:spPr>
            <a:xfrm>
              <a:off x="1042920" y="2660760"/>
              <a:ext cx="2376720" cy="372960"/>
            </a:xfrm>
            <a:custGeom>
              <a:avLst/>
              <a:gdLst/>
              <a:ahLst/>
              <a:rect l="l" t="t" r="r" b="b"/>
              <a:pathLst>
                <a:path w="1497" h="235">
                  <a:moveTo>
                    <a:pt x="0" y="121"/>
                  </a:moveTo>
                  <a:cubicBezTo>
                    <a:pt x="7" y="139"/>
                    <a:pt x="15" y="158"/>
                    <a:pt x="91" y="166"/>
                  </a:cubicBezTo>
                  <a:cubicBezTo>
                    <a:pt x="167" y="174"/>
                    <a:pt x="333" y="158"/>
                    <a:pt x="454" y="166"/>
                  </a:cubicBezTo>
                  <a:cubicBezTo>
                    <a:pt x="575" y="174"/>
                    <a:pt x="696" y="235"/>
                    <a:pt x="817" y="212"/>
                  </a:cubicBezTo>
                  <a:cubicBezTo>
                    <a:pt x="938" y="189"/>
                    <a:pt x="1097" y="60"/>
                    <a:pt x="1180" y="30"/>
                  </a:cubicBezTo>
                  <a:cubicBezTo>
                    <a:pt x="1263" y="0"/>
                    <a:pt x="1263" y="30"/>
                    <a:pt x="1316" y="30"/>
                  </a:cubicBezTo>
                  <a:cubicBezTo>
                    <a:pt x="1369" y="30"/>
                    <a:pt x="1467" y="30"/>
                    <a:pt x="1497" y="3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任意多边形 176154"/>
            <p:cNvSpPr/>
            <p:nvPr/>
          </p:nvSpPr>
          <p:spPr>
            <a:xfrm>
              <a:off x="2700360" y="2421000"/>
              <a:ext cx="216000" cy="287280"/>
            </a:xfrm>
            <a:custGeom>
              <a:avLst/>
              <a:gdLst/>
              <a:ahLst/>
              <a:rect l="l" t="t" r="r" b="b"/>
              <a:pathLst>
                <a:path w="136" h="181">
                  <a:moveTo>
                    <a:pt x="45" y="0"/>
                  </a:moveTo>
                  <a:cubicBezTo>
                    <a:pt x="22" y="15"/>
                    <a:pt x="0" y="30"/>
                    <a:pt x="0" y="45"/>
                  </a:cubicBezTo>
                  <a:cubicBezTo>
                    <a:pt x="0" y="60"/>
                    <a:pt x="30" y="76"/>
                    <a:pt x="45" y="91"/>
                  </a:cubicBezTo>
                  <a:cubicBezTo>
                    <a:pt x="60" y="106"/>
                    <a:pt x="75" y="121"/>
                    <a:pt x="90" y="136"/>
                  </a:cubicBezTo>
                  <a:cubicBezTo>
                    <a:pt x="105" y="151"/>
                    <a:pt x="121" y="174"/>
                    <a:pt x="136" y="18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任意多边形 176155"/>
            <p:cNvSpPr/>
            <p:nvPr/>
          </p:nvSpPr>
          <p:spPr>
            <a:xfrm>
              <a:off x="3419640" y="2695680"/>
              <a:ext cx="1223640" cy="446040"/>
            </a:xfrm>
            <a:custGeom>
              <a:avLst/>
              <a:gdLst/>
              <a:ahLst/>
              <a:rect l="l" t="t" r="r" b="b"/>
              <a:pathLst>
                <a:path w="771" h="281">
                  <a:moveTo>
                    <a:pt x="0" y="8"/>
                  </a:moveTo>
                  <a:cubicBezTo>
                    <a:pt x="68" y="8"/>
                    <a:pt x="137" y="8"/>
                    <a:pt x="182" y="8"/>
                  </a:cubicBezTo>
                  <a:cubicBezTo>
                    <a:pt x="227" y="8"/>
                    <a:pt x="242" y="8"/>
                    <a:pt x="272" y="8"/>
                  </a:cubicBezTo>
                  <a:cubicBezTo>
                    <a:pt x="302" y="8"/>
                    <a:pt x="333" y="0"/>
                    <a:pt x="363" y="8"/>
                  </a:cubicBezTo>
                  <a:cubicBezTo>
                    <a:pt x="393" y="16"/>
                    <a:pt x="424" y="31"/>
                    <a:pt x="454" y="54"/>
                  </a:cubicBezTo>
                  <a:cubicBezTo>
                    <a:pt x="484" y="77"/>
                    <a:pt x="522" y="121"/>
                    <a:pt x="545" y="144"/>
                  </a:cubicBezTo>
                  <a:cubicBezTo>
                    <a:pt x="568" y="167"/>
                    <a:pt x="567" y="182"/>
                    <a:pt x="590" y="190"/>
                  </a:cubicBezTo>
                  <a:cubicBezTo>
                    <a:pt x="613" y="198"/>
                    <a:pt x="651" y="175"/>
                    <a:pt x="681" y="190"/>
                  </a:cubicBezTo>
                  <a:cubicBezTo>
                    <a:pt x="711" y="205"/>
                    <a:pt x="756" y="266"/>
                    <a:pt x="771" y="28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任意多边形 176156"/>
            <p:cNvSpPr/>
            <p:nvPr/>
          </p:nvSpPr>
          <p:spPr>
            <a:xfrm>
              <a:off x="4560840" y="1244520"/>
              <a:ext cx="960480" cy="1897200"/>
            </a:xfrm>
            <a:custGeom>
              <a:avLst/>
              <a:gdLst/>
              <a:ahLst/>
              <a:rect l="l" t="t" r="r" b="b"/>
              <a:pathLst>
                <a:path w="605" h="1195">
                  <a:moveTo>
                    <a:pt x="52" y="1195"/>
                  </a:moveTo>
                  <a:cubicBezTo>
                    <a:pt x="55" y="1187"/>
                    <a:pt x="59" y="1179"/>
                    <a:pt x="52" y="1149"/>
                  </a:cubicBezTo>
                  <a:cubicBezTo>
                    <a:pt x="45" y="1119"/>
                    <a:pt x="14" y="1058"/>
                    <a:pt x="7" y="1013"/>
                  </a:cubicBezTo>
                  <a:cubicBezTo>
                    <a:pt x="0" y="968"/>
                    <a:pt x="0" y="915"/>
                    <a:pt x="7" y="877"/>
                  </a:cubicBezTo>
                  <a:cubicBezTo>
                    <a:pt x="14" y="839"/>
                    <a:pt x="37" y="816"/>
                    <a:pt x="52" y="786"/>
                  </a:cubicBezTo>
                  <a:cubicBezTo>
                    <a:pt x="67" y="756"/>
                    <a:pt x="83" y="734"/>
                    <a:pt x="98" y="696"/>
                  </a:cubicBezTo>
                  <a:cubicBezTo>
                    <a:pt x="113" y="658"/>
                    <a:pt x="105" y="606"/>
                    <a:pt x="143" y="560"/>
                  </a:cubicBezTo>
                  <a:cubicBezTo>
                    <a:pt x="181" y="514"/>
                    <a:pt x="272" y="468"/>
                    <a:pt x="325" y="423"/>
                  </a:cubicBezTo>
                  <a:cubicBezTo>
                    <a:pt x="378" y="378"/>
                    <a:pt x="423" y="325"/>
                    <a:pt x="461" y="287"/>
                  </a:cubicBezTo>
                  <a:cubicBezTo>
                    <a:pt x="499" y="249"/>
                    <a:pt x="528" y="227"/>
                    <a:pt x="551" y="197"/>
                  </a:cubicBezTo>
                  <a:cubicBezTo>
                    <a:pt x="574" y="167"/>
                    <a:pt x="589" y="136"/>
                    <a:pt x="597" y="106"/>
                  </a:cubicBezTo>
                  <a:cubicBezTo>
                    <a:pt x="605" y="76"/>
                    <a:pt x="605" y="30"/>
                    <a:pt x="597" y="15"/>
                  </a:cubicBezTo>
                  <a:cubicBezTo>
                    <a:pt x="589" y="0"/>
                    <a:pt x="566" y="15"/>
                    <a:pt x="551" y="1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176157"/>
          <p:cNvGrpSpPr/>
          <p:nvPr/>
        </p:nvGrpSpPr>
        <p:grpSpPr>
          <a:xfrm>
            <a:off x="1042920" y="3979800"/>
            <a:ext cx="4478400" cy="1897200"/>
            <a:chOff x="1042920" y="3979800"/>
            <a:chExt cx="4478400" cy="1897200"/>
          </a:xfrm>
        </p:grpSpPr>
        <p:sp>
          <p:nvSpPr>
            <p:cNvPr id="166" name="任意多边形 176158"/>
            <p:cNvSpPr/>
            <p:nvPr/>
          </p:nvSpPr>
          <p:spPr>
            <a:xfrm>
              <a:off x="1619280" y="4219560"/>
              <a:ext cx="1152360" cy="936720"/>
            </a:xfrm>
            <a:custGeom>
              <a:avLst/>
              <a:gdLst/>
              <a:ahLst/>
              <a:rect l="l" t="t" r="r" b="b"/>
              <a:pathLst>
                <a:path w="726" h="590">
                  <a:moveTo>
                    <a:pt x="0" y="0"/>
                  </a:moveTo>
                  <a:cubicBezTo>
                    <a:pt x="302" y="246"/>
                    <a:pt x="605" y="492"/>
                    <a:pt x="726" y="59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任意多边形 176159"/>
            <p:cNvSpPr/>
            <p:nvPr/>
          </p:nvSpPr>
          <p:spPr>
            <a:xfrm>
              <a:off x="1042920" y="5396040"/>
              <a:ext cx="2376720" cy="372960"/>
            </a:xfrm>
            <a:custGeom>
              <a:avLst/>
              <a:gdLst/>
              <a:ahLst/>
              <a:rect l="l" t="t" r="r" b="b"/>
              <a:pathLst>
                <a:path w="1497" h="235">
                  <a:moveTo>
                    <a:pt x="0" y="121"/>
                  </a:moveTo>
                  <a:cubicBezTo>
                    <a:pt x="7" y="139"/>
                    <a:pt x="15" y="158"/>
                    <a:pt x="91" y="166"/>
                  </a:cubicBezTo>
                  <a:cubicBezTo>
                    <a:pt x="167" y="174"/>
                    <a:pt x="333" y="158"/>
                    <a:pt x="454" y="166"/>
                  </a:cubicBezTo>
                  <a:cubicBezTo>
                    <a:pt x="575" y="174"/>
                    <a:pt x="696" y="235"/>
                    <a:pt x="817" y="212"/>
                  </a:cubicBezTo>
                  <a:cubicBezTo>
                    <a:pt x="938" y="189"/>
                    <a:pt x="1097" y="60"/>
                    <a:pt x="1180" y="30"/>
                  </a:cubicBezTo>
                  <a:cubicBezTo>
                    <a:pt x="1263" y="0"/>
                    <a:pt x="1263" y="30"/>
                    <a:pt x="1316" y="30"/>
                  </a:cubicBezTo>
                  <a:cubicBezTo>
                    <a:pt x="1369" y="30"/>
                    <a:pt x="1467" y="30"/>
                    <a:pt x="1497" y="3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任意多边形 176160"/>
            <p:cNvSpPr/>
            <p:nvPr/>
          </p:nvSpPr>
          <p:spPr>
            <a:xfrm>
              <a:off x="2700360" y="5156280"/>
              <a:ext cx="216000" cy="287280"/>
            </a:xfrm>
            <a:custGeom>
              <a:avLst/>
              <a:gdLst/>
              <a:ahLst/>
              <a:rect l="l" t="t" r="r" b="b"/>
              <a:pathLst>
                <a:path w="136" h="181">
                  <a:moveTo>
                    <a:pt x="45" y="0"/>
                  </a:moveTo>
                  <a:cubicBezTo>
                    <a:pt x="22" y="15"/>
                    <a:pt x="0" y="30"/>
                    <a:pt x="0" y="45"/>
                  </a:cubicBezTo>
                  <a:cubicBezTo>
                    <a:pt x="0" y="60"/>
                    <a:pt x="30" y="76"/>
                    <a:pt x="45" y="91"/>
                  </a:cubicBezTo>
                  <a:cubicBezTo>
                    <a:pt x="60" y="106"/>
                    <a:pt x="75" y="121"/>
                    <a:pt x="90" y="136"/>
                  </a:cubicBezTo>
                  <a:cubicBezTo>
                    <a:pt x="105" y="151"/>
                    <a:pt x="121" y="174"/>
                    <a:pt x="136" y="18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任意多边形 176161"/>
            <p:cNvSpPr/>
            <p:nvPr/>
          </p:nvSpPr>
          <p:spPr>
            <a:xfrm>
              <a:off x="3419640" y="5430960"/>
              <a:ext cx="1223640" cy="446040"/>
            </a:xfrm>
            <a:custGeom>
              <a:avLst/>
              <a:gdLst/>
              <a:ahLst/>
              <a:rect l="l" t="t" r="r" b="b"/>
              <a:pathLst>
                <a:path w="771" h="281">
                  <a:moveTo>
                    <a:pt x="0" y="8"/>
                  </a:moveTo>
                  <a:cubicBezTo>
                    <a:pt x="68" y="8"/>
                    <a:pt x="137" y="8"/>
                    <a:pt x="182" y="8"/>
                  </a:cubicBezTo>
                  <a:cubicBezTo>
                    <a:pt x="227" y="8"/>
                    <a:pt x="242" y="8"/>
                    <a:pt x="272" y="8"/>
                  </a:cubicBezTo>
                  <a:cubicBezTo>
                    <a:pt x="302" y="8"/>
                    <a:pt x="333" y="0"/>
                    <a:pt x="363" y="8"/>
                  </a:cubicBezTo>
                  <a:cubicBezTo>
                    <a:pt x="393" y="16"/>
                    <a:pt x="424" y="31"/>
                    <a:pt x="454" y="54"/>
                  </a:cubicBezTo>
                  <a:cubicBezTo>
                    <a:pt x="484" y="77"/>
                    <a:pt x="522" y="121"/>
                    <a:pt x="545" y="144"/>
                  </a:cubicBezTo>
                  <a:cubicBezTo>
                    <a:pt x="568" y="167"/>
                    <a:pt x="567" y="182"/>
                    <a:pt x="590" y="190"/>
                  </a:cubicBezTo>
                  <a:cubicBezTo>
                    <a:pt x="613" y="198"/>
                    <a:pt x="651" y="175"/>
                    <a:pt x="681" y="190"/>
                  </a:cubicBezTo>
                  <a:cubicBezTo>
                    <a:pt x="711" y="205"/>
                    <a:pt x="756" y="266"/>
                    <a:pt x="771" y="28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任意多边形 176162"/>
            <p:cNvSpPr/>
            <p:nvPr/>
          </p:nvSpPr>
          <p:spPr>
            <a:xfrm>
              <a:off x="4560840" y="3979800"/>
              <a:ext cx="960480" cy="1897200"/>
            </a:xfrm>
            <a:custGeom>
              <a:avLst/>
              <a:gdLst/>
              <a:ahLst/>
              <a:rect l="l" t="t" r="r" b="b"/>
              <a:pathLst>
                <a:path w="605" h="1195">
                  <a:moveTo>
                    <a:pt x="52" y="1195"/>
                  </a:moveTo>
                  <a:cubicBezTo>
                    <a:pt x="55" y="1187"/>
                    <a:pt x="59" y="1179"/>
                    <a:pt x="52" y="1149"/>
                  </a:cubicBezTo>
                  <a:cubicBezTo>
                    <a:pt x="45" y="1119"/>
                    <a:pt x="14" y="1058"/>
                    <a:pt x="7" y="1013"/>
                  </a:cubicBezTo>
                  <a:cubicBezTo>
                    <a:pt x="0" y="968"/>
                    <a:pt x="0" y="915"/>
                    <a:pt x="7" y="877"/>
                  </a:cubicBezTo>
                  <a:cubicBezTo>
                    <a:pt x="14" y="839"/>
                    <a:pt x="37" y="816"/>
                    <a:pt x="52" y="786"/>
                  </a:cubicBezTo>
                  <a:cubicBezTo>
                    <a:pt x="67" y="756"/>
                    <a:pt x="83" y="734"/>
                    <a:pt x="98" y="696"/>
                  </a:cubicBezTo>
                  <a:cubicBezTo>
                    <a:pt x="113" y="658"/>
                    <a:pt x="105" y="606"/>
                    <a:pt x="143" y="560"/>
                  </a:cubicBezTo>
                  <a:cubicBezTo>
                    <a:pt x="181" y="514"/>
                    <a:pt x="272" y="468"/>
                    <a:pt x="325" y="423"/>
                  </a:cubicBezTo>
                  <a:cubicBezTo>
                    <a:pt x="378" y="378"/>
                    <a:pt x="423" y="325"/>
                    <a:pt x="461" y="287"/>
                  </a:cubicBezTo>
                  <a:cubicBezTo>
                    <a:pt x="499" y="249"/>
                    <a:pt x="528" y="227"/>
                    <a:pt x="551" y="197"/>
                  </a:cubicBezTo>
                  <a:cubicBezTo>
                    <a:pt x="574" y="167"/>
                    <a:pt x="589" y="136"/>
                    <a:pt x="597" y="106"/>
                  </a:cubicBezTo>
                  <a:cubicBezTo>
                    <a:pt x="605" y="76"/>
                    <a:pt x="605" y="30"/>
                    <a:pt x="597" y="15"/>
                  </a:cubicBezTo>
                  <a:cubicBezTo>
                    <a:pt x="589" y="0"/>
                    <a:pt x="566" y="15"/>
                    <a:pt x="551" y="1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组合 176163"/>
          <p:cNvGrpSpPr/>
          <p:nvPr/>
        </p:nvGrpSpPr>
        <p:grpSpPr>
          <a:xfrm>
            <a:off x="1476360" y="1125360"/>
            <a:ext cx="4032360" cy="1656000"/>
            <a:chOff x="1476360" y="1125360"/>
            <a:chExt cx="4032360" cy="1656000"/>
          </a:xfrm>
        </p:grpSpPr>
        <p:sp>
          <p:nvSpPr>
            <p:cNvPr id="172" name="直接连接符 176164"/>
            <p:cNvSpPr/>
            <p:nvPr/>
          </p:nvSpPr>
          <p:spPr>
            <a:xfrm flipH="1">
              <a:off x="2268360" y="1341360"/>
              <a:ext cx="331920" cy="576360"/>
            </a:xfrm>
            <a:prstGeom prst="line">
              <a:avLst/>
            </a:prstGeom>
            <a:ln w="57240">
              <a:solidFill>
                <a:srgbClr val="808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直接连接符 176165"/>
            <p:cNvSpPr/>
            <p:nvPr/>
          </p:nvSpPr>
          <p:spPr>
            <a:xfrm flipH="1">
              <a:off x="2368440" y="2133720"/>
              <a:ext cx="331920" cy="576000"/>
            </a:xfrm>
            <a:prstGeom prst="line">
              <a:avLst/>
            </a:prstGeom>
            <a:ln w="57240">
              <a:solidFill>
                <a:srgbClr val="808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直接连接符 176166"/>
            <p:cNvSpPr/>
            <p:nvPr/>
          </p:nvSpPr>
          <p:spPr>
            <a:xfrm flipH="1">
              <a:off x="4859280" y="1916280"/>
              <a:ext cx="331920" cy="576000"/>
            </a:xfrm>
            <a:prstGeom prst="line">
              <a:avLst/>
            </a:prstGeom>
            <a:ln w="57240">
              <a:solidFill>
                <a:srgbClr val="808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直接连接符 176167"/>
            <p:cNvSpPr/>
            <p:nvPr/>
          </p:nvSpPr>
          <p:spPr>
            <a:xfrm flipH="1">
              <a:off x="2987640" y="1773360"/>
              <a:ext cx="331920" cy="576000"/>
            </a:xfrm>
            <a:prstGeom prst="line">
              <a:avLst/>
            </a:prstGeom>
            <a:ln w="57240">
              <a:solidFill>
                <a:srgbClr val="808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直接连接符 176168"/>
            <p:cNvSpPr/>
            <p:nvPr/>
          </p:nvSpPr>
          <p:spPr>
            <a:xfrm flipH="1">
              <a:off x="3708360" y="2060640"/>
              <a:ext cx="331920" cy="576360"/>
            </a:xfrm>
            <a:prstGeom prst="line">
              <a:avLst/>
            </a:prstGeom>
            <a:ln w="57240">
              <a:solidFill>
                <a:srgbClr val="808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直接连接符 176169"/>
            <p:cNvSpPr/>
            <p:nvPr/>
          </p:nvSpPr>
          <p:spPr>
            <a:xfrm flipH="1">
              <a:off x="1476360" y="2205000"/>
              <a:ext cx="331920" cy="576360"/>
            </a:xfrm>
            <a:prstGeom prst="line">
              <a:avLst/>
            </a:prstGeom>
            <a:ln w="57240">
              <a:solidFill>
                <a:srgbClr val="808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直接连接符 176170"/>
            <p:cNvSpPr/>
            <p:nvPr/>
          </p:nvSpPr>
          <p:spPr>
            <a:xfrm>
              <a:off x="5076720" y="1125360"/>
              <a:ext cx="432000" cy="432000"/>
            </a:xfrm>
            <a:prstGeom prst="line">
              <a:avLst/>
            </a:prstGeom>
            <a:ln w="57240">
              <a:solidFill>
                <a:srgbClr val="808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组合 176171"/>
          <p:cNvGrpSpPr/>
          <p:nvPr/>
        </p:nvGrpSpPr>
        <p:grpSpPr>
          <a:xfrm>
            <a:off x="1258920" y="4149720"/>
            <a:ext cx="4608360" cy="1727280"/>
            <a:chOff x="1258920" y="4149720"/>
            <a:chExt cx="4608360" cy="1727280"/>
          </a:xfrm>
        </p:grpSpPr>
        <p:sp>
          <p:nvSpPr>
            <p:cNvPr id="180" name="直接连接符 176172"/>
            <p:cNvSpPr/>
            <p:nvPr/>
          </p:nvSpPr>
          <p:spPr>
            <a:xfrm flipH="1">
              <a:off x="2050920" y="4437000"/>
              <a:ext cx="331920" cy="576360"/>
            </a:xfrm>
            <a:prstGeom prst="line">
              <a:avLst/>
            </a:prstGeom>
            <a:ln w="57240">
              <a:solidFill>
                <a:srgbClr val="6600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直接连接符 176173"/>
            <p:cNvSpPr/>
            <p:nvPr/>
          </p:nvSpPr>
          <p:spPr>
            <a:xfrm flipH="1">
              <a:off x="2151000" y="5229360"/>
              <a:ext cx="331920" cy="576000"/>
            </a:xfrm>
            <a:prstGeom prst="line">
              <a:avLst/>
            </a:prstGeom>
            <a:ln w="57240">
              <a:solidFill>
                <a:srgbClr val="6600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直接连接符 176174"/>
            <p:cNvSpPr/>
            <p:nvPr/>
          </p:nvSpPr>
          <p:spPr>
            <a:xfrm flipH="1">
              <a:off x="4641840" y="5011560"/>
              <a:ext cx="331920" cy="576360"/>
            </a:xfrm>
            <a:prstGeom prst="line">
              <a:avLst/>
            </a:prstGeom>
            <a:ln w="57240">
              <a:solidFill>
                <a:srgbClr val="6600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直接连接符 176175"/>
            <p:cNvSpPr/>
            <p:nvPr/>
          </p:nvSpPr>
          <p:spPr>
            <a:xfrm flipH="1">
              <a:off x="2770200" y="4869000"/>
              <a:ext cx="331920" cy="576000"/>
            </a:xfrm>
            <a:prstGeom prst="line">
              <a:avLst/>
            </a:prstGeom>
            <a:ln w="57240">
              <a:solidFill>
                <a:srgbClr val="6600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直接连接符 176176"/>
            <p:cNvSpPr/>
            <p:nvPr/>
          </p:nvSpPr>
          <p:spPr>
            <a:xfrm flipH="1">
              <a:off x="3490920" y="5156280"/>
              <a:ext cx="331920" cy="576360"/>
            </a:xfrm>
            <a:prstGeom prst="line">
              <a:avLst/>
            </a:prstGeom>
            <a:ln w="57240">
              <a:solidFill>
                <a:srgbClr val="6600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直接连接符 176177"/>
            <p:cNvSpPr/>
            <p:nvPr/>
          </p:nvSpPr>
          <p:spPr>
            <a:xfrm flipH="1">
              <a:off x="1258920" y="5300640"/>
              <a:ext cx="331920" cy="576360"/>
            </a:xfrm>
            <a:prstGeom prst="line">
              <a:avLst/>
            </a:prstGeom>
            <a:ln w="57240">
              <a:solidFill>
                <a:srgbClr val="6600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直接连接符 176178"/>
            <p:cNvSpPr/>
            <p:nvPr/>
          </p:nvSpPr>
          <p:spPr>
            <a:xfrm>
              <a:off x="5435640" y="4149720"/>
              <a:ext cx="431640" cy="431640"/>
            </a:xfrm>
            <a:prstGeom prst="line">
              <a:avLst/>
            </a:prstGeom>
            <a:ln w="57240">
              <a:solidFill>
                <a:srgbClr val="6600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文本框 176179"/>
          <p:cNvSpPr/>
          <p:nvPr/>
        </p:nvSpPr>
        <p:spPr>
          <a:xfrm>
            <a:off x="5148360" y="4508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东南季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76180"/>
          <p:cNvSpPr/>
          <p:nvPr/>
        </p:nvSpPr>
        <p:spPr>
          <a:xfrm>
            <a:off x="2911320" y="126828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东北季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76181"/>
          <p:cNvSpPr/>
          <p:nvPr/>
        </p:nvSpPr>
        <p:spPr>
          <a:xfrm>
            <a:off x="4711680" y="907920"/>
            <a:ext cx="115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西北季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76182"/>
          <p:cNvSpPr/>
          <p:nvPr/>
        </p:nvSpPr>
        <p:spPr>
          <a:xfrm>
            <a:off x="2119320" y="573408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西南季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任意多边形 176183"/>
          <p:cNvSpPr/>
          <p:nvPr/>
        </p:nvSpPr>
        <p:spPr>
          <a:xfrm>
            <a:off x="5219640" y="1700280"/>
            <a:ext cx="576360" cy="1031760"/>
          </a:xfrm>
          <a:custGeom>
            <a:avLst/>
            <a:gdLst/>
            <a:ahLst/>
            <a:rect l="l" t="t" r="r" b="b"/>
            <a:pathLst>
              <a:path w="363" h="650">
                <a:moveTo>
                  <a:pt x="363" y="635"/>
                </a:moveTo>
                <a:cubicBezTo>
                  <a:pt x="340" y="642"/>
                  <a:pt x="317" y="650"/>
                  <a:pt x="272" y="635"/>
                </a:cubicBezTo>
                <a:cubicBezTo>
                  <a:pt x="227" y="620"/>
                  <a:pt x="129" y="583"/>
                  <a:pt x="91" y="545"/>
                </a:cubicBezTo>
                <a:cubicBezTo>
                  <a:pt x="53" y="507"/>
                  <a:pt x="61" y="462"/>
                  <a:pt x="46" y="409"/>
                </a:cubicBezTo>
                <a:cubicBezTo>
                  <a:pt x="31" y="356"/>
                  <a:pt x="0" y="280"/>
                  <a:pt x="0" y="227"/>
                </a:cubicBezTo>
                <a:cubicBezTo>
                  <a:pt x="0" y="174"/>
                  <a:pt x="23" y="129"/>
                  <a:pt x="46" y="91"/>
                </a:cubicBezTo>
                <a:cubicBezTo>
                  <a:pt x="69" y="53"/>
                  <a:pt x="121" y="23"/>
                  <a:pt x="136" y="0"/>
                </a:cubicBezTo>
              </a:path>
            </a:pathLst>
          </a:custGeom>
          <a:noFill/>
          <a:ln w="7632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任意多边形 176184"/>
          <p:cNvSpPr/>
          <p:nvPr/>
        </p:nvSpPr>
        <p:spPr>
          <a:xfrm>
            <a:off x="5148360" y="4508640"/>
            <a:ext cx="576000" cy="1031760"/>
          </a:xfrm>
          <a:custGeom>
            <a:avLst/>
            <a:gdLst/>
            <a:ahLst/>
            <a:rect l="l" t="t" r="r" b="b"/>
            <a:pathLst>
              <a:path w="363" h="650">
                <a:moveTo>
                  <a:pt x="363" y="635"/>
                </a:moveTo>
                <a:cubicBezTo>
                  <a:pt x="340" y="642"/>
                  <a:pt x="317" y="650"/>
                  <a:pt x="272" y="635"/>
                </a:cubicBezTo>
                <a:cubicBezTo>
                  <a:pt x="227" y="620"/>
                  <a:pt x="129" y="583"/>
                  <a:pt x="91" y="545"/>
                </a:cubicBezTo>
                <a:cubicBezTo>
                  <a:pt x="53" y="507"/>
                  <a:pt x="61" y="462"/>
                  <a:pt x="46" y="409"/>
                </a:cubicBezTo>
                <a:cubicBezTo>
                  <a:pt x="31" y="356"/>
                  <a:pt x="0" y="280"/>
                  <a:pt x="0" y="227"/>
                </a:cubicBezTo>
                <a:cubicBezTo>
                  <a:pt x="0" y="174"/>
                  <a:pt x="23" y="129"/>
                  <a:pt x="46" y="91"/>
                </a:cubicBezTo>
                <a:cubicBezTo>
                  <a:pt x="69" y="53"/>
                  <a:pt x="121" y="23"/>
                  <a:pt x="136" y="0"/>
                </a:cubicBezTo>
              </a:path>
            </a:pathLst>
          </a:custGeom>
          <a:noFill/>
          <a:ln w="7632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76185"/>
          <p:cNvSpPr/>
          <p:nvPr/>
        </p:nvSpPr>
        <p:spPr>
          <a:xfrm>
            <a:off x="5425920" y="1628640"/>
            <a:ext cx="31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76186"/>
          <p:cNvSpPr/>
          <p:nvPr/>
        </p:nvSpPr>
        <p:spPr>
          <a:xfrm>
            <a:off x="5281560" y="4821120"/>
            <a:ext cx="31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33"/>
                </a:solidFill>
                <a:latin typeface="Arial"/>
                <a:ea typeface="黑体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33"/>
                </a:solidFill>
                <a:latin typeface="Arial"/>
                <a:ea typeface="黑体"/>
              </a:rPr>
              <a:t>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33"/>
                </a:solidFill>
                <a:latin typeface="Arial"/>
                <a:ea typeface="黑体"/>
              </a:rPr>
              <a:t>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33"/>
                </a:solidFill>
                <a:latin typeface="Arial"/>
                <a:ea typeface="黑体"/>
              </a:rPr>
              <a:t>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176187"/>
          <p:cNvGrpSpPr/>
          <p:nvPr/>
        </p:nvGrpSpPr>
        <p:grpSpPr>
          <a:xfrm>
            <a:off x="1187280" y="1965240"/>
            <a:ext cx="2664000" cy="1032120"/>
            <a:chOff x="1187280" y="1965240"/>
            <a:chExt cx="2664000" cy="1032120"/>
          </a:xfrm>
        </p:grpSpPr>
        <p:sp>
          <p:nvSpPr>
            <p:cNvPr id="196" name="任意多边形 176188"/>
            <p:cNvSpPr/>
            <p:nvPr/>
          </p:nvSpPr>
          <p:spPr>
            <a:xfrm>
              <a:off x="1187280" y="2276640"/>
              <a:ext cx="2664000" cy="720720"/>
            </a:xfrm>
            <a:custGeom>
              <a:avLst/>
              <a:gdLst/>
              <a:ahLst/>
              <a:rect l="l" t="t" r="r" b="b"/>
              <a:pathLst>
                <a:path w="1678" h="454">
                  <a:moveTo>
                    <a:pt x="1678" y="363"/>
                  </a:moveTo>
                  <a:cubicBezTo>
                    <a:pt x="1550" y="344"/>
                    <a:pt x="1422" y="325"/>
                    <a:pt x="1316" y="318"/>
                  </a:cubicBezTo>
                  <a:cubicBezTo>
                    <a:pt x="1210" y="311"/>
                    <a:pt x="1103" y="326"/>
                    <a:pt x="1043" y="318"/>
                  </a:cubicBezTo>
                  <a:cubicBezTo>
                    <a:pt x="983" y="310"/>
                    <a:pt x="998" y="302"/>
                    <a:pt x="953" y="272"/>
                  </a:cubicBezTo>
                  <a:cubicBezTo>
                    <a:pt x="908" y="242"/>
                    <a:pt x="816" y="166"/>
                    <a:pt x="771" y="136"/>
                  </a:cubicBezTo>
                  <a:cubicBezTo>
                    <a:pt x="726" y="106"/>
                    <a:pt x="711" y="114"/>
                    <a:pt x="681" y="91"/>
                  </a:cubicBezTo>
                  <a:cubicBezTo>
                    <a:pt x="651" y="68"/>
                    <a:pt x="635" y="0"/>
                    <a:pt x="590" y="0"/>
                  </a:cubicBezTo>
                  <a:cubicBezTo>
                    <a:pt x="545" y="0"/>
                    <a:pt x="461" y="61"/>
                    <a:pt x="408" y="91"/>
                  </a:cubicBezTo>
                  <a:cubicBezTo>
                    <a:pt x="355" y="121"/>
                    <a:pt x="317" y="152"/>
                    <a:pt x="272" y="182"/>
                  </a:cubicBezTo>
                  <a:cubicBezTo>
                    <a:pt x="227" y="212"/>
                    <a:pt x="174" y="249"/>
                    <a:pt x="136" y="272"/>
                  </a:cubicBezTo>
                  <a:cubicBezTo>
                    <a:pt x="98" y="295"/>
                    <a:pt x="68" y="288"/>
                    <a:pt x="45" y="318"/>
                  </a:cubicBezTo>
                  <a:cubicBezTo>
                    <a:pt x="22" y="348"/>
                    <a:pt x="7" y="431"/>
                    <a:pt x="0" y="454"/>
                  </a:cubicBezTo>
                </a:path>
              </a:pathLst>
            </a:custGeom>
            <a:noFill/>
            <a:ln w="7632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任意多边形 176189"/>
            <p:cNvSpPr/>
            <p:nvPr/>
          </p:nvSpPr>
          <p:spPr>
            <a:xfrm>
              <a:off x="1476360" y="2841480"/>
              <a:ext cx="2303640" cy="155880"/>
            </a:xfrm>
            <a:custGeom>
              <a:avLst/>
              <a:gdLst/>
              <a:ahLst/>
              <a:rect l="l" t="t" r="r" b="b"/>
              <a:pathLst>
                <a:path w="1451" h="98">
                  <a:moveTo>
                    <a:pt x="1451" y="52"/>
                  </a:moveTo>
                  <a:cubicBezTo>
                    <a:pt x="1216" y="55"/>
                    <a:pt x="982" y="59"/>
                    <a:pt x="816" y="52"/>
                  </a:cubicBezTo>
                  <a:cubicBezTo>
                    <a:pt x="650" y="45"/>
                    <a:pt x="559" y="14"/>
                    <a:pt x="453" y="7"/>
                  </a:cubicBezTo>
                  <a:cubicBezTo>
                    <a:pt x="347" y="0"/>
                    <a:pt x="249" y="0"/>
                    <a:pt x="181" y="7"/>
                  </a:cubicBezTo>
                  <a:cubicBezTo>
                    <a:pt x="113" y="14"/>
                    <a:pt x="75" y="37"/>
                    <a:pt x="45" y="52"/>
                  </a:cubicBezTo>
                  <a:cubicBezTo>
                    <a:pt x="15" y="67"/>
                    <a:pt x="7" y="82"/>
                    <a:pt x="0" y="98"/>
                  </a:cubicBezTo>
                </a:path>
              </a:pathLst>
            </a:custGeom>
            <a:noFill/>
            <a:ln w="7632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任意多边形 176190"/>
            <p:cNvSpPr/>
            <p:nvPr/>
          </p:nvSpPr>
          <p:spPr>
            <a:xfrm>
              <a:off x="1476360" y="1965240"/>
              <a:ext cx="1008000" cy="455760"/>
            </a:xfrm>
            <a:custGeom>
              <a:avLst/>
              <a:gdLst/>
              <a:ahLst/>
              <a:rect l="l" t="t" r="r" b="b"/>
              <a:pathLst>
                <a:path w="635" h="287">
                  <a:moveTo>
                    <a:pt x="635" y="151"/>
                  </a:moveTo>
                  <a:cubicBezTo>
                    <a:pt x="570" y="90"/>
                    <a:pt x="506" y="30"/>
                    <a:pt x="453" y="15"/>
                  </a:cubicBezTo>
                  <a:cubicBezTo>
                    <a:pt x="400" y="0"/>
                    <a:pt x="362" y="45"/>
                    <a:pt x="317" y="60"/>
                  </a:cubicBezTo>
                  <a:cubicBezTo>
                    <a:pt x="272" y="75"/>
                    <a:pt x="219" y="91"/>
                    <a:pt x="181" y="106"/>
                  </a:cubicBezTo>
                  <a:cubicBezTo>
                    <a:pt x="143" y="121"/>
                    <a:pt x="113" y="128"/>
                    <a:pt x="90" y="151"/>
                  </a:cubicBezTo>
                  <a:cubicBezTo>
                    <a:pt x="67" y="174"/>
                    <a:pt x="60" y="219"/>
                    <a:pt x="45" y="242"/>
                  </a:cubicBezTo>
                  <a:cubicBezTo>
                    <a:pt x="30" y="265"/>
                    <a:pt x="15" y="276"/>
                    <a:pt x="0" y="287"/>
                  </a:cubicBezTo>
                </a:path>
              </a:pathLst>
            </a:custGeom>
            <a:noFill/>
            <a:ln w="5724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组合 176191"/>
          <p:cNvGrpSpPr/>
          <p:nvPr/>
        </p:nvGrpSpPr>
        <p:grpSpPr>
          <a:xfrm>
            <a:off x="1187280" y="4702320"/>
            <a:ext cx="2664000" cy="1031400"/>
            <a:chOff x="1187280" y="4702320"/>
            <a:chExt cx="2664000" cy="1031400"/>
          </a:xfrm>
        </p:grpSpPr>
        <p:sp>
          <p:nvSpPr>
            <p:cNvPr id="200" name="任意多边形 176192"/>
            <p:cNvSpPr/>
            <p:nvPr/>
          </p:nvSpPr>
          <p:spPr>
            <a:xfrm>
              <a:off x="1187280" y="5013360"/>
              <a:ext cx="2664000" cy="720360"/>
            </a:xfrm>
            <a:custGeom>
              <a:avLst/>
              <a:gdLst/>
              <a:ahLst/>
              <a:rect l="l" t="t" r="r" b="b"/>
              <a:pathLst>
                <a:path w="1678" h="454">
                  <a:moveTo>
                    <a:pt x="1678" y="363"/>
                  </a:moveTo>
                  <a:cubicBezTo>
                    <a:pt x="1550" y="344"/>
                    <a:pt x="1422" y="325"/>
                    <a:pt x="1316" y="318"/>
                  </a:cubicBezTo>
                  <a:cubicBezTo>
                    <a:pt x="1210" y="311"/>
                    <a:pt x="1103" y="326"/>
                    <a:pt x="1043" y="318"/>
                  </a:cubicBezTo>
                  <a:cubicBezTo>
                    <a:pt x="983" y="310"/>
                    <a:pt x="998" y="302"/>
                    <a:pt x="953" y="272"/>
                  </a:cubicBezTo>
                  <a:cubicBezTo>
                    <a:pt x="908" y="242"/>
                    <a:pt x="816" y="166"/>
                    <a:pt x="771" y="136"/>
                  </a:cubicBezTo>
                  <a:cubicBezTo>
                    <a:pt x="726" y="106"/>
                    <a:pt x="711" y="114"/>
                    <a:pt x="681" y="91"/>
                  </a:cubicBezTo>
                  <a:cubicBezTo>
                    <a:pt x="651" y="68"/>
                    <a:pt x="635" y="0"/>
                    <a:pt x="590" y="0"/>
                  </a:cubicBezTo>
                  <a:cubicBezTo>
                    <a:pt x="545" y="0"/>
                    <a:pt x="461" y="61"/>
                    <a:pt x="408" y="91"/>
                  </a:cubicBezTo>
                  <a:cubicBezTo>
                    <a:pt x="355" y="121"/>
                    <a:pt x="317" y="152"/>
                    <a:pt x="272" y="182"/>
                  </a:cubicBezTo>
                  <a:cubicBezTo>
                    <a:pt x="227" y="212"/>
                    <a:pt x="174" y="249"/>
                    <a:pt x="136" y="272"/>
                  </a:cubicBezTo>
                  <a:cubicBezTo>
                    <a:pt x="98" y="295"/>
                    <a:pt x="68" y="288"/>
                    <a:pt x="45" y="318"/>
                  </a:cubicBezTo>
                  <a:cubicBezTo>
                    <a:pt x="22" y="348"/>
                    <a:pt x="7" y="431"/>
                    <a:pt x="0" y="454"/>
                  </a:cubicBezTo>
                </a:path>
              </a:pathLst>
            </a:custGeom>
            <a:noFill/>
            <a:ln w="76320">
              <a:solidFill>
                <a:srgbClr val="ff66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任意多边形 176193"/>
            <p:cNvSpPr/>
            <p:nvPr/>
          </p:nvSpPr>
          <p:spPr>
            <a:xfrm>
              <a:off x="1476360" y="5578200"/>
              <a:ext cx="2303640" cy="155520"/>
            </a:xfrm>
            <a:custGeom>
              <a:avLst/>
              <a:gdLst/>
              <a:ahLst/>
              <a:rect l="l" t="t" r="r" b="b"/>
              <a:pathLst>
                <a:path w="1451" h="98">
                  <a:moveTo>
                    <a:pt x="1451" y="52"/>
                  </a:moveTo>
                  <a:cubicBezTo>
                    <a:pt x="1216" y="55"/>
                    <a:pt x="982" y="59"/>
                    <a:pt x="816" y="52"/>
                  </a:cubicBezTo>
                  <a:cubicBezTo>
                    <a:pt x="650" y="45"/>
                    <a:pt x="559" y="14"/>
                    <a:pt x="453" y="7"/>
                  </a:cubicBezTo>
                  <a:cubicBezTo>
                    <a:pt x="347" y="0"/>
                    <a:pt x="249" y="0"/>
                    <a:pt x="181" y="7"/>
                  </a:cubicBezTo>
                  <a:cubicBezTo>
                    <a:pt x="113" y="14"/>
                    <a:pt x="75" y="37"/>
                    <a:pt x="45" y="52"/>
                  </a:cubicBezTo>
                  <a:cubicBezTo>
                    <a:pt x="15" y="67"/>
                    <a:pt x="7" y="82"/>
                    <a:pt x="0" y="98"/>
                  </a:cubicBezTo>
                </a:path>
              </a:pathLst>
            </a:custGeom>
            <a:noFill/>
            <a:ln w="76320">
              <a:solidFill>
                <a:srgbClr val="ff66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任意多边形 176194"/>
            <p:cNvSpPr/>
            <p:nvPr/>
          </p:nvSpPr>
          <p:spPr>
            <a:xfrm>
              <a:off x="1476360" y="4702320"/>
              <a:ext cx="1008000" cy="455400"/>
            </a:xfrm>
            <a:custGeom>
              <a:avLst/>
              <a:gdLst/>
              <a:ahLst/>
              <a:rect l="l" t="t" r="r" b="b"/>
              <a:pathLst>
                <a:path w="635" h="287">
                  <a:moveTo>
                    <a:pt x="635" y="151"/>
                  </a:moveTo>
                  <a:cubicBezTo>
                    <a:pt x="570" y="90"/>
                    <a:pt x="506" y="30"/>
                    <a:pt x="453" y="15"/>
                  </a:cubicBezTo>
                  <a:cubicBezTo>
                    <a:pt x="400" y="0"/>
                    <a:pt x="362" y="45"/>
                    <a:pt x="317" y="60"/>
                  </a:cubicBezTo>
                  <a:cubicBezTo>
                    <a:pt x="272" y="75"/>
                    <a:pt x="219" y="91"/>
                    <a:pt x="181" y="106"/>
                  </a:cubicBezTo>
                  <a:cubicBezTo>
                    <a:pt x="143" y="121"/>
                    <a:pt x="113" y="128"/>
                    <a:pt x="90" y="151"/>
                  </a:cubicBezTo>
                  <a:cubicBezTo>
                    <a:pt x="67" y="174"/>
                    <a:pt x="60" y="219"/>
                    <a:pt x="45" y="242"/>
                  </a:cubicBezTo>
                  <a:cubicBezTo>
                    <a:pt x="30" y="265"/>
                    <a:pt x="15" y="276"/>
                    <a:pt x="0" y="287"/>
                  </a:cubicBezTo>
                </a:path>
              </a:pathLst>
            </a:custGeom>
            <a:noFill/>
            <a:ln w="57240">
              <a:solidFill>
                <a:srgbClr val="ff66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任意多边形 176195"/>
          <p:cNvSpPr/>
          <p:nvPr/>
        </p:nvSpPr>
        <p:spPr>
          <a:xfrm>
            <a:off x="4572000" y="1557360"/>
            <a:ext cx="792000" cy="1150920"/>
          </a:xfrm>
          <a:custGeom>
            <a:avLst/>
            <a:gdLst/>
            <a:ahLst/>
            <a:rect l="l" t="t" r="r" b="b"/>
            <a:pathLst>
              <a:path w="499" h="725">
                <a:moveTo>
                  <a:pt x="499" y="0"/>
                </a:moveTo>
                <a:cubicBezTo>
                  <a:pt x="453" y="41"/>
                  <a:pt x="408" y="83"/>
                  <a:pt x="363" y="136"/>
                </a:cubicBezTo>
                <a:cubicBezTo>
                  <a:pt x="318" y="189"/>
                  <a:pt x="265" y="249"/>
                  <a:pt x="227" y="317"/>
                </a:cubicBezTo>
                <a:cubicBezTo>
                  <a:pt x="189" y="385"/>
                  <a:pt x="174" y="476"/>
                  <a:pt x="136" y="544"/>
                </a:cubicBezTo>
                <a:cubicBezTo>
                  <a:pt x="98" y="612"/>
                  <a:pt x="23" y="695"/>
                  <a:pt x="0" y="725"/>
                </a:cubicBezTo>
              </a:path>
            </a:pathLst>
          </a:custGeom>
          <a:noFill/>
          <a:ln w="5724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7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4T22:26:30Z</dcterms:created>
  <dc:creator>ppt课件网（www.pptkj.net）</dc:creator>
  <dc:description>ppt课件网（www.pptkj.net）</dc:description>
  <cp:keywords>ppt课件网（www.pptkj.net）</cp:keywords>
  <dc:language>en-US</dc:language>
  <cp:lastModifiedBy>Administrator</cp:lastModifiedBy>
  <dcterms:modified xsi:type="dcterms:W3CDTF">2019-12-31T05:43:41Z</dcterms:modified>
  <cp:revision>24</cp:revision>
  <dc:subject>ppt课件网（www.pptkj.net）</dc:subject>
  <dc:title>ppt课件网（www.pptkj.net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05</vt:lpwstr>
  </property>
</Properties>
</file>