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8.wmf" ContentType="image/x-wmf"/>
  <Override PartName="/ppt/media/image12.gif" ContentType="image/gif"/>
  <Override PartName="/ppt/media/image3.jpeg" ContentType="image/jpeg"/>
  <Override PartName="/ppt/media/image15.png" ContentType="image/png"/>
  <Override PartName="/ppt/media/image19.png" ContentType="image/png"/>
  <Override PartName="/ppt/media/image18.png" ContentType="image/png"/>
  <Override PartName="/ppt/media/push.wav" ContentType="audio/x-wav"/>
  <Override PartName="/ppt/media/image17.wmf" ContentType="image/x-wmf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9.wmf" ContentType="image/x-wmf"/>
  <Override PartName="/ppt/media/image11.gif" ContentType="image/gif"/>
  <Override PartName="/ppt/media/image1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61B-F14D-44B3-AEAC-BD9A16EF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DC8-C818-4DD1-81DA-D5B804D2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4FA-4B07-4777-967C-0701DF2F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221-0196-49B7-9794-97F4A79A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AD69-EF41-47CD-86F5-50850616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40CD-8E14-412F-B642-D9176CD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1F6E-E64B-4680-8366-337B55E2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E24B-E9E9-497F-81A7-FC062A40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337F-1391-4B30-B100-BA7D72D2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B175-0190-441A-BF5C-1BDB44F1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C261-38F7-4E10-AAB6-683DF63D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EFE-7362-4A01-860A-8A23F1FA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E9BB-C0E0-4B43-9015-5090C08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27B1-090D-4602-887E-2AA09DBC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742A-8B51-4415-9032-128B370A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0761-D6EC-4979-9F5C-893E5F8B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664-86B7-46FC-BFDD-77F66761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0F44-6EBB-4BC3-B549-6C7638D1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F937-1A80-4A78-86BE-3A00C67B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ED98-6FA7-4A17-935C-9CF3E798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E002-F2B1-42D3-A0B6-A62DC734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B8B3-BDF9-40B9-8EEE-F766CA96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82F-1695-4428-AFB0-C5163660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55D89-30F1-4A3B-AC61-F8FF9133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4544-96FD-4C5F-A2BE-6AD572A5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8988A-6587-4101-90DB-AFD0EAF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D0DB-5012-4EC8-A6A3-71937C0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301B-31B4-43A1-ADA2-5AB7A20C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4074-0AD9-4785-9CA4-86F83B9D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4D78-2A2B-449F-B1F4-C2D07759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CB0-7112-4317-BD17-4896ADDB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AA3-400A-4739-A5DC-1D6C0BFF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EA9-947B-4869-997E-64C30B78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9AB-810A-483E-B832-6D81E560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492-0AC8-42B0-A255-704B90FC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A2D-224B-4498-96BD-726F9335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DDAF-60FD-49C2-9E3C-956506ACE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4562-1376-480B-8CF6-AB8751CC8C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AD36-BDB4-4483-AB6C-92628DAD94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7.wmf"/><Relationship Id="rId8" Type="http://schemas.openxmlformats.org/officeDocument/2006/relationships/audio" Target="../media/push.wav"/><Relationship Id="rId9" Type="http://schemas.openxmlformats.org/officeDocument/2006/relationships/audio" Target="../media/push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87880" y="3068640"/>
            <a:ext cx="60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1.1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从自然数到有理数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1987560" y="500040"/>
            <a:ext cx="5105520" cy="1200240"/>
            <a:chOff x="1987560" y="500040"/>
            <a:chExt cx="5105520" cy="1200240"/>
          </a:xfrm>
        </p:grpSpPr>
        <p:sp>
          <p:nvSpPr>
            <p:cNvPr id="125" name="Text Box 4"/>
            <p:cNvSpPr/>
            <p:nvPr/>
          </p:nvSpPr>
          <p:spPr>
            <a:xfrm>
              <a:off x="2825640" y="122076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99"/>
                  </a:solidFill>
                  <a:latin typeface="Times New Roman"/>
                </a:rPr>
                <a:t>义务教育课程标准实验教科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3664080" y="728640"/>
              <a:ext cx="31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99"/>
                  </a:solidFill>
                  <a:latin typeface="Times New Roman"/>
                </a:rPr>
                <a:t>浙教版七年级 （上册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WordArt 6"/>
            <p:cNvSpPr txBox="1"/>
            <p:nvPr/>
          </p:nvSpPr>
          <p:spPr>
            <a:xfrm>
              <a:off x="2044800" y="538200"/>
              <a:ext cx="838080" cy="108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1" strike="noStrike">
                  <a:ln cap="sq"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数</a:t>
              </a:r>
              <a:endParaRPr b="0" lang="en-US" sz="5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28" name="WordArt 7"/>
            <p:cNvSpPr txBox="1"/>
            <p:nvPr/>
          </p:nvSpPr>
          <p:spPr>
            <a:xfrm>
              <a:off x="2978280" y="500040"/>
              <a:ext cx="5331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cap="sq"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学</a:t>
              </a:r>
              <a:endPara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1987560" y="500040"/>
              <a:ext cx="914400" cy="1200240"/>
            </a:xfrm>
            <a:prstGeom prst="rect">
              <a:avLst/>
            </a:prstGeom>
            <a:noFill/>
            <a:ln cap="sq"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2901960" y="1109520"/>
              <a:ext cx="4038480" cy="590760"/>
            </a:xfrm>
            <a:prstGeom prst="rect">
              <a:avLst/>
            </a:prstGeom>
            <a:noFill/>
            <a:ln cap="sq"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763640" y="1773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：是否所有的分数都可以化为小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482920" y="2421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有的分数都可以化为小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411280" y="981000"/>
                <a:ext cx="586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5"/>
              <p:cNvSpPr txBox="1"/>
              <p:nvPr/>
            </p:nvSpPr>
            <p:spPr>
              <a:xfrm>
                <a:off x="5514840" y="3716280"/>
                <a:ext cx="3495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9"/>
              <p:cNvSpPr txBox="1"/>
              <p:nvPr/>
            </p:nvSpPr>
            <p:spPr>
              <a:xfrm>
                <a:off x="3435480" y="3716280"/>
                <a:ext cx="6919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Line 6"/>
          <p:cNvSpPr/>
          <p:nvPr/>
        </p:nvSpPr>
        <p:spPr>
          <a:xfrm>
            <a:off x="5435640" y="3573360"/>
            <a:ext cx="79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5967360" y="852480"/>
                <a:ext cx="6685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Text Box 8"/>
          <p:cNvSpPr/>
          <p:nvPr/>
        </p:nvSpPr>
        <p:spPr>
          <a:xfrm>
            <a:off x="1763640" y="260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否把下列分数化成小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835280" y="3141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否把下列小数化成分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266920" y="39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4498920" y="3933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2"/>
              <p:cNvSpPr txBox="1"/>
              <p:nvPr/>
            </p:nvSpPr>
            <p:spPr>
              <a:xfrm>
                <a:off x="7093080" y="4062240"/>
                <a:ext cx="357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Text Box 13"/>
          <p:cNvSpPr/>
          <p:nvPr/>
        </p:nvSpPr>
        <p:spPr>
          <a:xfrm>
            <a:off x="7381800" y="39895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1763640" y="4653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：是否所有的分数都可以化为小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338560" y="544500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是所有的小数都可以化为分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3059280" y="11095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659640" y="112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6948360" y="1052640"/>
            <a:ext cx="34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788000" y="3789360"/>
            <a:ext cx="4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2266920" y="6093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些小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化为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计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6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×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5×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6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行程"/>
          <p:cNvPicPr/>
          <p:nvPr/>
        </p:nvPicPr>
        <p:blipFill>
          <a:blip r:embed="rId1"/>
          <a:stretch/>
        </p:blipFill>
        <p:spPr>
          <a:xfrm>
            <a:off x="5751360" y="-270000"/>
            <a:ext cx="3810240" cy="666612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3"/>
          <p:cNvGrpSpPr/>
          <p:nvPr/>
        </p:nvGrpSpPr>
        <p:grpSpPr>
          <a:xfrm>
            <a:off x="6888600" y="4271400"/>
            <a:ext cx="1806120" cy="1861920"/>
            <a:chOff x="6888600" y="4271400"/>
            <a:chExt cx="1806120" cy="1861920"/>
          </a:xfrm>
        </p:grpSpPr>
        <p:sp>
          <p:nvSpPr>
            <p:cNvPr id="240" name="Line 13"/>
            <p:cNvSpPr/>
            <p:nvPr/>
          </p:nvSpPr>
          <p:spPr>
            <a:xfrm>
              <a:off x="8255160" y="539604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5"/>
            <p:cNvGrpSpPr/>
            <p:nvPr/>
          </p:nvGrpSpPr>
          <p:grpSpPr>
            <a:xfrm>
              <a:off x="6888600" y="4271400"/>
              <a:ext cx="1806120" cy="1861920"/>
              <a:chOff x="6888600" y="4271400"/>
              <a:chExt cx="1806120" cy="1861920"/>
            </a:xfrm>
          </p:grpSpPr>
          <p:sp>
            <p:nvSpPr>
              <p:cNvPr id="242" name="Line 15"/>
              <p:cNvSpPr/>
              <p:nvPr/>
            </p:nvSpPr>
            <p:spPr>
              <a:xfrm flipH="1">
                <a:off x="7151400" y="4330440"/>
                <a:ext cx="289080" cy="28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6"/>
              <p:cNvSpPr/>
              <p:nvPr/>
            </p:nvSpPr>
            <p:spPr>
              <a:xfrm flipH="1">
                <a:off x="8406000" y="5562360"/>
                <a:ext cx="288720" cy="28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7"/>
              <p:cNvSpPr/>
              <p:nvPr/>
            </p:nvSpPr>
            <p:spPr>
              <a:xfrm flipH="1" flipV="1">
                <a:off x="7296120" y="4474440"/>
                <a:ext cx="21600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8"/>
              <p:cNvSpPr/>
              <p:nvPr/>
            </p:nvSpPr>
            <p:spPr>
              <a:xfrm rot="2826600">
                <a:off x="6774120" y="4919400"/>
                <a:ext cx="2016000" cy="56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400</a:t>
                </a: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千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车速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100</a:t>
                </a: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千米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/</a:t>
                </a: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10"/>
          <p:cNvGrpSpPr/>
          <p:nvPr/>
        </p:nvGrpSpPr>
        <p:grpSpPr>
          <a:xfrm>
            <a:off x="184320" y="1190520"/>
            <a:ext cx="3419280" cy="2014560"/>
            <a:chOff x="184320" y="1190520"/>
            <a:chExt cx="3419280" cy="2014560"/>
          </a:xfrm>
        </p:grpSpPr>
        <p:grpSp>
          <p:nvGrpSpPr>
            <p:cNvPr id="247" name="Group 11"/>
            <p:cNvGrpSpPr/>
            <p:nvPr/>
          </p:nvGrpSpPr>
          <p:grpSpPr>
            <a:xfrm>
              <a:off x="579600" y="1334880"/>
              <a:ext cx="3024000" cy="1870200"/>
              <a:chOff x="579600" y="1334880"/>
              <a:chExt cx="3024000" cy="1870200"/>
            </a:xfrm>
          </p:grpSpPr>
          <p:pic>
            <p:nvPicPr>
              <p:cNvPr id="248" name="Picture 3" descr="小女孩"/>
              <p:cNvPicPr/>
              <p:nvPr/>
            </p:nvPicPr>
            <p:blipFill>
              <a:blip r:embed="rId2"/>
              <a:stretch/>
            </p:blipFill>
            <p:spPr>
              <a:xfrm>
                <a:off x="579600" y="1334880"/>
                <a:ext cx="812520" cy="187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AutoShape 4"/>
              <p:cNvSpPr/>
              <p:nvPr/>
            </p:nvSpPr>
            <p:spPr>
              <a:xfrm>
                <a:off x="1660680" y="1695240"/>
                <a:ext cx="1942920" cy="1366920"/>
              </a:xfrm>
              <a:prstGeom prst="wedgeRoundRectCallout">
                <a:avLst>
                  <a:gd name="adj1" fmla="val -63972"/>
                  <a:gd name="adj2" fmla="val -42333"/>
                  <a:gd name="adj3" fmla="val 1666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3300"/>
                    </a:solidFill>
                    <a:latin typeface="Arial"/>
                    <a:ea typeface="华文中宋"/>
                  </a:rPr>
                  <a:t>大家好，我是小慧，我要去北京参加夏令营了，我的行程如下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20"/>
            <p:cNvSpPr/>
            <p:nvPr/>
          </p:nvSpPr>
          <p:spPr>
            <a:xfrm>
              <a:off x="184320" y="1190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华文中宋"/>
                  <a:ea typeface="华文中宋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5"/>
          <p:cNvGrpSpPr/>
          <p:nvPr/>
        </p:nvGrpSpPr>
        <p:grpSpPr>
          <a:xfrm>
            <a:off x="4120920" y="1414440"/>
            <a:ext cx="2395800" cy="2014560"/>
            <a:chOff x="4120920" y="1414440"/>
            <a:chExt cx="2395800" cy="2014560"/>
          </a:xfrm>
        </p:grpSpPr>
        <p:sp>
          <p:nvSpPr>
            <p:cNvPr id="252" name="AutoShape 19"/>
            <p:cNvSpPr/>
            <p:nvPr/>
          </p:nvSpPr>
          <p:spPr>
            <a:xfrm>
              <a:off x="4427280" y="1917720"/>
              <a:ext cx="2089440" cy="1511280"/>
            </a:xfrm>
            <a:prstGeom prst="wedgeRoundRectCallout">
              <a:avLst>
                <a:gd name="adj1" fmla="val 26898"/>
                <a:gd name="adj2" fmla="val 44643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华文中宋"/>
                </a:rPr>
                <a:t>先从温州出发，坐大巴到杭州，然后乘坐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华文中宋"/>
                </a:rPr>
                <a:t>T32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华文中宋"/>
                </a:rPr>
                <a:t>次火车到北京。路程和时间请看图示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4120920" y="14144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华文中宋"/>
                  <a:ea typeface="华文中宋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8"/>
          <p:cNvGrpSpPr/>
          <p:nvPr/>
        </p:nvGrpSpPr>
        <p:grpSpPr>
          <a:xfrm>
            <a:off x="344520" y="3502080"/>
            <a:ext cx="3276720" cy="3168720"/>
            <a:chOff x="344520" y="3502080"/>
            <a:chExt cx="3276720" cy="3168720"/>
          </a:xfrm>
        </p:grpSpPr>
        <p:pic>
          <p:nvPicPr>
            <p:cNvPr id="255" name="Picture 5" descr="小汽车"/>
            <p:cNvPicPr/>
            <p:nvPr/>
          </p:nvPicPr>
          <p:blipFill>
            <a:blip r:embed="rId3"/>
            <a:stretch/>
          </p:blipFill>
          <p:spPr>
            <a:xfrm>
              <a:off x="344520" y="5465880"/>
              <a:ext cx="3204000" cy="10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" descr="小女孩"/>
            <p:cNvPicPr/>
            <p:nvPr/>
          </p:nvPicPr>
          <p:blipFill>
            <a:blip r:embed="rId4"/>
            <a:stretch/>
          </p:blipFill>
          <p:spPr>
            <a:xfrm>
              <a:off x="739800" y="4746600"/>
              <a:ext cx="836640" cy="19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7"/>
            <p:cNvSpPr/>
            <p:nvPr/>
          </p:nvSpPr>
          <p:spPr>
            <a:xfrm>
              <a:off x="1531800" y="3502080"/>
              <a:ext cx="2089440" cy="1511280"/>
            </a:xfrm>
            <a:prstGeom prst="wedgeRoundRectCallout">
              <a:avLst>
                <a:gd name="adj1" fmla="val -49087"/>
                <a:gd name="adj2" fmla="val 61555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华文中宋"/>
                </a:rPr>
                <a:t>到了杭州并不能马上上火车，市内交通和检票进站要花去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华文中宋"/>
                </a:rPr>
                <a:t>40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华文中宋"/>
                </a:rPr>
                <a:t>-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华文中宋"/>
                </a:rPr>
                <a:t>50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华文中宋"/>
                </a:rPr>
                <a:t>分钟时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2"/>
            <p:cNvSpPr/>
            <p:nvPr/>
          </p:nvSpPr>
          <p:spPr>
            <a:xfrm>
              <a:off x="369720" y="36446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华文中宋"/>
                  <a:ea typeface="华文中宋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3"/>
          <p:cNvGrpSpPr/>
          <p:nvPr/>
        </p:nvGrpSpPr>
        <p:grpSpPr>
          <a:xfrm>
            <a:off x="4132080" y="3429000"/>
            <a:ext cx="2854440" cy="3166920"/>
            <a:chOff x="4132080" y="3429000"/>
            <a:chExt cx="2854440" cy="3166920"/>
          </a:xfrm>
        </p:grpSpPr>
        <p:pic>
          <p:nvPicPr>
            <p:cNvPr id="260" name="Picture 8" descr="小女孩"/>
            <p:cNvPicPr/>
            <p:nvPr/>
          </p:nvPicPr>
          <p:blipFill>
            <a:blip r:embed="rId5"/>
            <a:stretch/>
          </p:blipFill>
          <p:spPr>
            <a:xfrm>
              <a:off x="4394160" y="4870440"/>
              <a:ext cx="7506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WordArt 9"/>
            <p:cNvSpPr txBox="1"/>
            <p:nvPr/>
          </p:nvSpPr>
          <p:spPr>
            <a:xfrm rot="2575800">
              <a:off x="4609800" y="4579920"/>
              <a:ext cx="865080" cy="34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4457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楷体_GB2312"/>
                </a:rPr>
                <a:t>??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>
              <a:off x="5402160" y="5443560"/>
              <a:ext cx="1584360" cy="936360"/>
            </a:xfrm>
            <a:prstGeom prst="wedgeRoundRectCallout">
              <a:avLst>
                <a:gd name="adj1" fmla="val -67134"/>
                <a:gd name="adj2" fmla="val -38814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华文中宋"/>
                </a:rPr>
                <a:t>我最迟什么时候从温州出发呢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华文中宋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4132080" y="3429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华文中宋"/>
                  <a:ea typeface="华文中宋"/>
                </a:rPr>
                <a:t>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4" name="Object 24"/>
          <p:cNvGraphicFramePr/>
          <p:nvPr/>
        </p:nvGraphicFramePr>
        <p:xfrm>
          <a:off x="7308720" y="1701720"/>
          <a:ext cx="1176480" cy="174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1701720"/>
                    <a:ext cx="11764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Box 6"/>
          <p:cNvSpPr/>
          <p:nvPr/>
        </p:nvSpPr>
        <p:spPr>
          <a:xfrm>
            <a:off x="0" y="-20520"/>
            <a:ext cx="9144000" cy="550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宋体"/>
                <a:ea typeface="华文宋体"/>
              </a:rPr>
              <a:t>讨论下列问题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7453440" y="1844640"/>
            <a:ext cx="960480" cy="3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8: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行程"/>
          <p:cNvPicPr/>
          <p:nvPr/>
        </p:nvPicPr>
        <p:blipFill>
          <a:blip r:embed="rId1"/>
          <a:stretch/>
        </p:blipFill>
        <p:spPr>
          <a:xfrm>
            <a:off x="5364000" y="-890640"/>
            <a:ext cx="4073760" cy="712800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3"/>
          <p:cNvGrpSpPr/>
          <p:nvPr/>
        </p:nvGrpSpPr>
        <p:grpSpPr>
          <a:xfrm>
            <a:off x="6130800" y="4035240"/>
            <a:ext cx="1881720" cy="1964160"/>
            <a:chOff x="6130800" y="4035240"/>
            <a:chExt cx="1881720" cy="1964160"/>
          </a:xfrm>
        </p:grpSpPr>
        <p:sp>
          <p:nvSpPr>
            <p:cNvPr id="270" name="Line 4"/>
            <p:cNvSpPr/>
            <p:nvPr/>
          </p:nvSpPr>
          <p:spPr>
            <a:xfrm>
              <a:off x="7444440" y="5176080"/>
              <a:ext cx="28836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5"/>
            <p:cNvGrpSpPr/>
            <p:nvPr/>
          </p:nvGrpSpPr>
          <p:grpSpPr>
            <a:xfrm>
              <a:off x="6130800" y="4035240"/>
              <a:ext cx="1881720" cy="1964160"/>
              <a:chOff x="6130800" y="4035240"/>
              <a:chExt cx="1881720" cy="1964160"/>
            </a:xfrm>
          </p:grpSpPr>
          <p:sp>
            <p:nvSpPr>
              <p:cNvPr id="272" name="Line 6"/>
              <p:cNvSpPr/>
              <p:nvPr/>
            </p:nvSpPr>
            <p:spPr>
              <a:xfrm flipH="1">
                <a:off x="6443640" y="4099680"/>
                <a:ext cx="288720" cy="30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7"/>
              <p:cNvSpPr/>
              <p:nvPr/>
            </p:nvSpPr>
            <p:spPr>
              <a:xfrm flipH="1">
                <a:off x="7665840" y="5330160"/>
                <a:ext cx="288360" cy="30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8"/>
              <p:cNvSpPr/>
              <p:nvPr/>
            </p:nvSpPr>
            <p:spPr>
              <a:xfrm flipH="1" flipV="1">
                <a:off x="6579360" y="4330440"/>
                <a:ext cx="215640" cy="23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 rot="2826600">
                <a:off x="5994000" y="4734000"/>
                <a:ext cx="2155320" cy="56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400</a:t>
                </a: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千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车速</a:t>
                </a: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100</a:t>
                </a: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千米</a:t>
                </a: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/</a:t>
                </a:r>
                <a:r>
                  <a:rPr b="1" lang="zh-CN" sz="18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10"/>
          <p:cNvSpPr/>
          <p:nvPr/>
        </p:nvSpPr>
        <p:spPr>
          <a:xfrm>
            <a:off x="468360" y="907920"/>
            <a:ext cx="44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你能帮小慧列出版式？如果用自然数怎样列式？用分数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4356000" y="2133720"/>
            <a:ext cx="2089080" cy="1511280"/>
          </a:xfrm>
          <a:prstGeom prst="wedgeRoundRectCallout">
            <a:avLst>
              <a:gd name="adj1" fmla="val 85259"/>
              <a:gd name="adj2" fmla="val 6481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到了杭州并不能马上上火车，市内交通和检票进站要花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40-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分钟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250920" y="2205000"/>
            <a:ext cx="525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自然数列算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0÷100=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24000" y="443700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分数列算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4"/>
              <p:cNvSpPr txBox="1"/>
              <p:nvPr/>
            </p:nvSpPr>
            <p:spPr>
              <a:xfrm>
                <a:off x="3419640" y="4221000"/>
                <a:ext cx="23763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时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5"/>
              <p:cNvSpPr txBox="1"/>
              <p:nvPr/>
            </p:nvSpPr>
            <p:spPr>
              <a:xfrm>
                <a:off x="1044720" y="5518080"/>
                <a:ext cx="5070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时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2" name="Object 24"/>
          <p:cNvGraphicFramePr/>
          <p:nvPr/>
        </p:nvGraphicFramePr>
        <p:xfrm>
          <a:off x="7308720" y="1701720"/>
          <a:ext cx="117648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1701720"/>
                    <a:ext cx="11764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17"/>
          <p:cNvSpPr/>
          <p:nvPr/>
        </p:nvSpPr>
        <p:spPr>
          <a:xfrm>
            <a:off x="7453440" y="1844640"/>
            <a:ext cx="960480" cy="3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: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95280" y="2349360"/>
          <a:ext cx="8136000" cy="1648080"/>
        </p:xfrm>
        <a:graphic>
          <a:graphicData uri="http://schemas.openxmlformats.org/drawingml/2006/table">
            <a:tbl>
              <a:tblPr/>
              <a:tblGrid>
                <a:gridCol w="792000"/>
                <a:gridCol w="1735200"/>
                <a:gridCol w="1693800"/>
                <a:gridCol w="1467000"/>
                <a:gridCol w="24480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车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发—到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时—到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运行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考票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2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北京—温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:16—05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时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硬卧上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，硬卧中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，硬卧下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北京南—温州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:50—20: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时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等软座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7"/>
          <p:cNvSpPr/>
          <p:nvPr/>
        </p:nvSpPr>
        <p:spPr>
          <a:xfrm>
            <a:off x="900000" y="1319040"/>
            <a:ext cx="79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夏令营结束后，小慧想买一张从北京直达温州的火车票，车次和票价如下表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304920" y="430704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小慧原打算买一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K10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次硬卧下的车票，这样她还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6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元，后来小慧想改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36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次列车的二等软座票，小慧的钱够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0" y="-20520"/>
            <a:ext cx="9144000" cy="550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宋体"/>
                <a:ea typeface="华文宋体"/>
              </a:rPr>
              <a:t>讨论下列问题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468360" y="47628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一种商品有两种不同规格的包装，其质量和价格如图所示。请问哪一种包装每克的价格更低？你会选择哪一种规格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11280" y="3141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如图所示的正方形的边长为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用分数表示下列各图形的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395280" y="4221000"/>
            <a:ext cx="1512720" cy="1512720"/>
            <a:chOff x="395280" y="4221000"/>
            <a:chExt cx="1512720" cy="1512720"/>
          </a:xfrm>
        </p:grpSpPr>
        <p:sp>
          <p:nvSpPr>
            <p:cNvPr id="292" name="Rectangle 5"/>
            <p:cNvSpPr/>
            <p:nvPr/>
          </p:nvSpPr>
          <p:spPr>
            <a:xfrm>
              <a:off x="395280" y="4221000"/>
              <a:ext cx="504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900000" y="4221000"/>
              <a:ext cx="50508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1403280" y="4221000"/>
              <a:ext cx="504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1403280" y="4724280"/>
              <a:ext cx="504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403280" y="5229000"/>
              <a:ext cx="504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900000" y="5229000"/>
              <a:ext cx="50508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900000" y="4724280"/>
              <a:ext cx="50508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395280" y="4724280"/>
              <a:ext cx="504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395280" y="5229000"/>
              <a:ext cx="504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Picture 14" descr="两瓶酒"/>
          <p:cNvPicPr/>
          <p:nvPr/>
        </p:nvPicPr>
        <p:blipFill>
          <a:blip r:embed="rId1"/>
          <a:stretch/>
        </p:blipFill>
        <p:spPr>
          <a:xfrm>
            <a:off x="6084720" y="-241200"/>
            <a:ext cx="2495880" cy="368460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15"/>
          <p:cNvGrpSpPr/>
          <p:nvPr/>
        </p:nvGrpSpPr>
        <p:grpSpPr>
          <a:xfrm>
            <a:off x="2556000" y="3933720"/>
            <a:ext cx="1512720" cy="2115360"/>
            <a:chOff x="2556000" y="3933720"/>
            <a:chExt cx="1512720" cy="2115360"/>
          </a:xfrm>
        </p:grpSpPr>
        <p:grpSp>
          <p:nvGrpSpPr>
            <p:cNvPr id="303" name="Group 16"/>
            <p:cNvGrpSpPr/>
            <p:nvPr/>
          </p:nvGrpSpPr>
          <p:grpSpPr>
            <a:xfrm>
              <a:off x="2556000" y="3933720"/>
              <a:ext cx="1512720" cy="1008000"/>
              <a:chOff x="2556000" y="3933720"/>
              <a:chExt cx="1512720" cy="1008000"/>
            </a:xfrm>
          </p:grpSpPr>
          <p:sp>
            <p:nvSpPr>
              <p:cNvPr id="304" name="Rectangle 17"/>
              <p:cNvSpPr/>
              <p:nvPr/>
            </p:nvSpPr>
            <p:spPr>
              <a:xfrm>
                <a:off x="2556000" y="3933720"/>
                <a:ext cx="50472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18"/>
              <p:cNvSpPr/>
              <p:nvPr/>
            </p:nvSpPr>
            <p:spPr>
              <a:xfrm>
                <a:off x="3060720" y="3933720"/>
                <a:ext cx="505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19"/>
              <p:cNvSpPr/>
              <p:nvPr/>
            </p:nvSpPr>
            <p:spPr>
              <a:xfrm>
                <a:off x="3564000" y="3933720"/>
                <a:ext cx="50472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20"/>
              <p:cNvSpPr/>
              <p:nvPr/>
            </p:nvSpPr>
            <p:spPr>
              <a:xfrm>
                <a:off x="2556000" y="4437000"/>
                <a:ext cx="50472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21"/>
            <p:cNvSpPr/>
            <p:nvPr/>
          </p:nvSpPr>
          <p:spPr>
            <a:xfrm>
              <a:off x="2882880" y="558936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（</a:t>
              </a:r>
              <a:r>
                <a:rPr b="1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1</a:t>
              </a:r>
              <a:r>
                <a:rPr b="1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2"/>
          <p:cNvGrpSpPr/>
          <p:nvPr/>
        </p:nvGrpSpPr>
        <p:grpSpPr>
          <a:xfrm>
            <a:off x="4716360" y="4149720"/>
            <a:ext cx="1009800" cy="2115360"/>
            <a:chOff x="4716360" y="4149720"/>
            <a:chExt cx="1009800" cy="2115360"/>
          </a:xfrm>
        </p:grpSpPr>
        <p:grpSp>
          <p:nvGrpSpPr>
            <p:cNvPr id="310" name="Group 23"/>
            <p:cNvGrpSpPr/>
            <p:nvPr/>
          </p:nvGrpSpPr>
          <p:grpSpPr>
            <a:xfrm>
              <a:off x="4716360" y="4149720"/>
              <a:ext cx="1009800" cy="1008000"/>
              <a:chOff x="4716360" y="4149720"/>
              <a:chExt cx="1009800" cy="1008000"/>
            </a:xfrm>
          </p:grpSpPr>
          <p:sp>
            <p:nvSpPr>
              <p:cNvPr id="311" name="Rectangle 24"/>
              <p:cNvSpPr/>
              <p:nvPr/>
            </p:nvSpPr>
            <p:spPr>
              <a:xfrm>
                <a:off x="4716360" y="4149720"/>
                <a:ext cx="50472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5"/>
              <p:cNvSpPr/>
              <p:nvPr/>
            </p:nvSpPr>
            <p:spPr>
              <a:xfrm>
                <a:off x="5221080" y="4149720"/>
                <a:ext cx="505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6"/>
              <p:cNvSpPr/>
              <p:nvPr/>
            </p:nvSpPr>
            <p:spPr>
              <a:xfrm>
                <a:off x="5221080" y="4653000"/>
                <a:ext cx="505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 Box 27"/>
            <p:cNvSpPr/>
            <p:nvPr/>
          </p:nvSpPr>
          <p:spPr>
            <a:xfrm>
              <a:off x="4829040" y="580536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（</a:t>
              </a:r>
              <a:r>
                <a:rPr b="1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8"/>
          <p:cNvGrpSpPr/>
          <p:nvPr/>
        </p:nvGrpSpPr>
        <p:grpSpPr>
          <a:xfrm>
            <a:off x="7020000" y="3860640"/>
            <a:ext cx="1512720" cy="2117160"/>
            <a:chOff x="7020000" y="3860640"/>
            <a:chExt cx="1512720" cy="2117160"/>
          </a:xfrm>
        </p:grpSpPr>
        <p:grpSp>
          <p:nvGrpSpPr>
            <p:cNvPr id="316" name="Group 29"/>
            <p:cNvGrpSpPr/>
            <p:nvPr/>
          </p:nvGrpSpPr>
          <p:grpSpPr>
            <a:xfrm>
              <a:off x="7020000" y="3860640"/>
              <a:ext cx="1512720" cy="1512720"/>
              <a:chOff x="7020000" y="3860640"/>
              <a:chExt cx="1512720" cy="1512720"/>
            </a:xfrm>
          </p:grpSpPr>
          <p:sp>
            <p:nvSpPr>
              <p:cNvPr id="317" name="Rectangle 30"/>
              <p:cNvSpPr/>
              <p:nvPr/>
            </p:nvSpPr>
            <p:spPr>
              <a:xfrm>
                <a:off x="7524720" y="3860640"/>
                <a:ext cx="505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31"/>
              <p:cNvSpPr/>
              <p:nvPr/>
            </p:nvSpPr>
            <p:spPr>
              <a:xfrm>
                <a:off x="8028000" y="4363920"/>
                <a:ext cx="50472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32"/>
              <p:cNvSpPr/>
              <p:nvPr/>
            </p:nvSpPr>
            <p:spPr>
              <a:xfrm>
                <a:off x="7524720" y="4868640"/>
                <a:ext cx="505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33"/>
              <p:cNvSpPr/>
              <p:nvPr/>
            </p:nvSpPr>
            <p:spPr>
              <a:xfrm>
                <a:off x="7524720" y="4363920"/>
                <a:ext cx="505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34"/>
              <p:cNvSpPr/>
              <p:nvPr/>
            </p:nvSpPr>
            <p:spPr>
              <a:xfrm>
                <a:off x="7020000" y="4363920"/>
                <a:ext cx="50472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35"/>
              <p:cNvSpPr/>
              <p:nvPr/>
            </p:nvSpPr>
            <p:spPr>
              <a:xfrm>
                <a:off x="7020000" y="4868640"/>
                <a:ext cx="50472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 Box 36"/>
            <p:cNvSpPr/>
            <p:nvPr/>
          </p:nvSpPr>
          <p:spPr>
            <a:xfrm>
              <a:off x="7275600" y="551808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（</a:t>
              </a:r>
              <a:r>
                <a:rPr b="1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3</a:t>
              </a:r>
              <a:r>
                <a:rPr b="1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37"/>
          <p:cNvSpPr/>
          <p:nvPr/>
        </p:nvSpPr>
        <p:spPr>
          <a:xfrm>
            <a:off x="755640" y="170028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20g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包装的商品每克的价格较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38"/>
              <p:cNvSpPr txBox="1"/>
              <p:nvPr/>
            </p:nvSpPr>
            <p:spPr>
              <a:xfrm>
                <a:off x="2484360" y="5300640"/>
                <a:ext cx="557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9"/>
              <p:cNvSpPr txBox="1"/>
              <p:nvPr/>
            </p:nvSpPr>
            <p:spPr>
              <a:xfrm>
                <a:off x="4284720" y="5013360"/>
                <a:ext cx="54936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0"/>
              <p:cNvSpPr txBox="1"/>
              <p:nvPr/>
            </p:nvSpPr>
            <p:spPr>
              <a:xfrm>
                <a:off x="6443640" y="5084640"/>
                <a:ext cx="50184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41"/>
          <p:cNvSpPr/>
          <p:nvPr/>
        </p:nvSpPr>
        <p:spPr>
          <a:xfrm>
            <a:off x="6516720" y="1844640"/>
            <a:ext cx="719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85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179280" y="26028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司推销某种产品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付给推销员每月的工资有两种方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案一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论推销多少都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的底薪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推销一件产品加付推销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案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付底薪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推销一件产品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付给推销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小王一个月推销产品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件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小王会选择哪一种工资方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11280" y="37893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方案一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×200=90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方案二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×200=100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755640" y="57340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选择方案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2122200" y="3352320"/>
            <a:ext cx="5345280" cy="2639160"/>
            <a:chOff x="2122200" y="3352320"/>
            <a:chExt cx="5345280" cy="2639160"/>
          </a:xfrm>
        </p:grpSpPr>
        <p:grpSp>
          <p:nvGrpSpPr>
            <p:cNvPr id="333" name="Group 3"/>
            <p:cNvGrpSpPr/>
            <p:nvPr/>
          </p:nvGrpSpPr>
          <p:grpSpPr>
            <a:xfrm>
              <a:off x="2122200" y="3352320"/>
              <a:ext cx="5344920" cy="2057760"/>
              <a:chOff x="2122200" y="3352320"/>
              <a:chExt cx="5344920" cy="2057760"/>
            </a:xfrm>
          </p:grpSpPr>
          <p:grpSp>
            <p:nvGrpSpPr>
              <p:cNvPr id="334" name="Group 4"/>
              <p:cNvGrpSpPr/>
              <p:nvPr/>
            </p:nvGrpSpPr>
            <p:grpSpPr>
              <a:xfrm>
                <a:off x="3276360" y="3352680"/>
                <a:ext cx="4190760" cy="2057400"/>
                <a:chOff x="3276360" y="3352680"/>
                <a:chExt cx="4190760" cy="2057400"/>
              </a:xfrm>
            </p:grpSpPr>
            <p:sp>
              <p:nvSpPr>
                <p:cNvPr id="335" name="Line 5"/>
                <p:cNvSpPr/>
                <p:nvPr/>
              </p:nvSpPr>
              <p:spPr>
                <a:xfrm>
                  <a:off x="3276360" y="3352680"/>
                  <a:ext cx="0" cy="205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6"/>
                <p:cNvSpPr/>
                <p:nvPr/>
              </p:nvSpPr>
              <p:spPr>
                <a:xfrm>
                  <a:off x="3276360" y="5410080"/>
                  <a:ext cx="4190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7"/>
                <p:cNvSpPr/>
                <p:nvPr/>
              </p:nvSpPr>
              <p:spPr>
                <a:xfrm>
                  <a:off x="3276360" y="3352680"/>
                  <a:ext cx="990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8"/>
                <p:cNvSpPr/>
                <p:nvPr/>
              </p:nvSpPr>
              <p:spPr>
                <a:xfrm>
                  <a:off x="4266720" y="3352680"/>
                  <a:ext cx="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9"/>
                <p:cNvSpPr/>
                <p:nvPr/>
              </p:nvSpPr>
              <p:spPr>
                <a:xfrm>
                  <a:off x="4266720" y="3886200"/>
                  <a:ext cx="990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0"/>
                <p:cNvSpPr/>
                <p:nvPr/>
              </p:nvSpPr>
              <p:spPr>
                <a:xfrm>
                  <a:off x="5257080" y="388620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1"/>
                <p:cNvSpPr/>
                <p:nvPr/>
              </p:nvSpPr>
              <p:spPr>
                <a:xfrm>
                  <a:off x="5257080" y="4419360"/>
                  <a:ext cx="91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2"/>
                <p:cNvSpPr/>
                <p:nvPr/>
              </p:nvSpPr>
              <p:spPr>
                <a:xfrm>
                  <a:off x="6171480" y="44193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3"/>
                <p:cNvSpPr/>
                <p:nvPr/>
              </p:nvSpPr>
              <p:spPr>
                <a:xfrm>
                  <a:off x="6171480" y="4876560"/>
                  <a:ext cx="129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4"/>
                <p:cNvSpPr/>
                <p:nvPr/>
              </p:nvSpPr>
              <p:spPr>
                <a:xfrm>
                  <a:off x="7467120" y="4876560"/>
                  <a:ext cx="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Line 15"/>
              <p:cNvSpPr/>
              <p:nvPr/>
            </p:nvSpPr>
            <p:spPr>
              <a:xfrm flipH="1">
                <a:off x="2666880" y="335268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6"/>
              <p:cNvSpPr/>
              <p:nvPr/>
            </p:nvSpPr>
            <p:spPr>
              <a:xfrm flipH="1">
                <a:off x="2666880" y="541008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7"/>
              <p:cNvSpPr/>
              <p:nvPr/>
            </p:nvSpPr>
            <p:spPr>
              <a:xfrm flipV="1">
                <a:off x="2742840" y="3352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18"/>
              <p:cNvSpPr/>
              <p:nvPr/>
            </p:nvSpPr>
            <p:spPr>
              <a:xfrm>
                <a:off x="2819160" y="4952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9"/>
              <p:cNvSpPr/>
              <p:nvPr/>
            </p:nvSpPr>
            <p:spPr>
              <a:xfrm>
                <a:off x="2122200" y="4064040"/>
                <a:ext cx="1162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Comic Sans MS"/>
                  </a:rPr>
                  <a:t>0.8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Line 20"/>
            <p:cNvSpPr/>
            <p:nvPr/>
          </p:nvSpPr>
          <p:spPr>
            <a:xfrm>
              <a:off x="3276360" y="5410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1"/>
            <p:cNvSpPr/>
            <p:nvPr/>
          </p:nvSpPr>
          <p:spPr>
            <a:xfrm>
              <a:off x="7467480" y="5410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5790960" y="56721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 flipH="1">
              <a:off x="3276360" y="5638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24"/>
            <p:cNvSpPr/>
            <p:nvPr/>
          </p:nvSpPr>
          <p:spPr>
            <a:xfrm>
              <a:off x="4500000" y="5410080"/>
              <a:ext cx="116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1.8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25"/>
          <p:cNvSpPr/>
          <p:nvPr/>
        </p:nvSpPr>
        <p:spPr>
          <a:xfrm>
            <a:off x="0" y="21337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如图一个台阶要铺地毯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则至少要买地毯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__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4284720" y="33577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7"/>
          <p:cNvSpPr/>
          <p:nvPr/>
        </p:nvSpPr>
        <p:spPr>
          <a:xfrm>
            <a:off x="5292720" y="393372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8"/>
          <p:cNvSpPr/>
          <p:nvPr/>
        </p:nvSpPr>
        <p:spPr>
          <a:xfrm>
            <a:off x="6172200" y="4419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7467480" y="48769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0"/>
          <p:cNvGrpSpPr/>
          <p:nvPr/>
        </p:nvGrpSpPr>
        <p:grpSpPr>
          <a:xfrm>
            <a:off x="3276720" y="3357720"/>
            <a:ext cx="4190400" cy="1523880"/>
            <a:chOff x="3276720" y="3357720"/>
            <a:chExt cx="4190400" cy="1523880"/>
          </a:xfrm>
        </p:grpSpPr>
        <p:sp>
          <p:nvSpPr>
            <p:cNvPr id="361" name="Line 31"/>
            <p:cNvSpPr/>
            <p:nvPr/>
          </p:nvSpPr>
          <p:spPr>
            <a:xfrm>
              <a:off x="3276720" y="3357720"/>
              <a:ext cx="99036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2"/>
            <p:cNvSpPr/>
            <p:nvPr/>
          </p:nvSpPr>
          <p:spPr>
            <a:xfrm>
              <a:off x="4267080" y="3891240"/>
              <a:ext cx="9900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3"/>
            <p:cNvSpPr/>
            <p:nvPr/>
          </p:nvSpPr>
          <p:spPr>
            <a:xfrm>
              <a:off x="5257440" y="4424400"/>
              <a:ext cx="91404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34"/>
            <p:cNvSpPr/>
            <p:nvPr/>
          </p:nvSpPr>
          <p:spPr>
            <a:xfrm>
              <a:off x="6171840" y="4881600"/>
              <a:ext cx="12952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WordArt 35" descr=""/>
          <p:cNvPicPr/>
          <p:nvPr/>
        </p:nvPicPr>
        <p:blipFill>
          <a:blip r:embed="rId1"/>
          <a:stretch/>
        </p:blipFill>
        <p:spPr>
          <a:xfrm>
            <a:off x="396720" y="85680"/>
            <a:ext cx="277344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50289E-006 L -0.10834 1.50289E-006 E">
                                      <p:cBhvr>
                                        <p:cTn id="431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50867E-006 L -0.21719 -0.00555 E">
                                      <p:cBhvr>
                                        <p:cTn id="435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21965E-006 L -0.31667 -4.21965E-006 E">
                                      <p:cBhvr>
                                        <p:cTn id="43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4798E-006 L -0.45834 -0.00555 E">
                                      <p:cBhvr>
                                        <p:cTn id="443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2"/>
          <p:cNvSpPr txBox="1"/>
          <p:nvPr/>
        </p:nvSpPr>
        <p:spPr>
          <a:xfrm>
            <a:off x="324000" y="0"/>
            <a:ext cx="26668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合作学习：</a:t>
            </a:r>
            <a:endParaRPr b="1" lang="en-US" sz="40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8" name="Text Box 4"/>
          <p:cNvSpPr/>
          <p:nvPr/>
        </p:nvSpPr>
        <p:spPr>
          <a:xfrm>
            <a:off x="324000" y="981000"/>
            <a:ext cx="85201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某市民政局举行一次福利彩票销售活动，销售总额度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元。其中发行成本占总额度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4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元作为社会福利资金，其余作为中奖者奖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你能算出奖金总额是多少吗？你是怎样算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为了使福利资金提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而发行的成本保持不变，有人提出把奖金总额减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你认为这个方案可行吗？你是怎样获得结论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611280" y="2852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解：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4000–4000×15%–1400=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395280" y="4437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解：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2000×6%–1400×10% =120-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468360" y="5013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华文中宋"/>
                <a:ea typeface="华文中宋"/>
              </a:rPr>
              <a:t>如（</a:t>
            </a:r>
            <a:r>
              <a:rPr b="1" lang="zh-CN" sz="2400" spc="-1" strike="noStrike">
                <a:solidFill>
                  <a:srgbClr val="9900cc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）算式中的被减数小于减数，这样的计算能否计算？能否用小学里学过的自然数和分数来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反馈所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谈谈这节课你的收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天我学到了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的感想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对某个问题还有些困惑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2700360" y="0"/>
            <a:ext cx="4176720" cy="990720"/>
          </a:xfrm>
          <a:prstGeom prst="cloudCallout">
            <a:avLst>
              <a:gd name="adj1" fmla="val -26018"/>
              <a:gd name="adj2" fmla="val 5561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132000" y="115920"/>
            <a:ext cx="33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数的起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3560" y="9907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3" descr="MCj02821780000[1]"/>
          <p:cNvPicPr/>
          <p:nvPr/>
        </p:nvPicPr>
        <p:blipFill>
          <a:blip r:embed="rId1"/>
          <a:stretch/>
        </p:blipFill>
        <p:spPr>
          <a:xfrm>
            <a:off x="0" y="852480"/>
            <a:ext cx="763560" cy="851040"/>
          </a:xfrm>
          <a:prstGeom prst="rect">
            <a:avLst/>
          </a:prstGeom>
          <a:ln w="0">
            <a:noFill/>
          </a:ln>
        </p:spPr>
      </p:pic>
      <p:sp>
        <p:nvSpPr>
          <p:cNvPr id="135" name="矩形 11"/>
          <p:cNvSpPr/>
          <p:nvPr/>
        </p:nvSpPr>
        <p:spPr>
          <a:xfrm>
            <a:off x="873000" y="923760"/>
            <a:ext cx="675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小学我们学过哪些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1042920" y="1989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复习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039680" y="5010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019160" y="33148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左大括号 7"/>
          <p:cNvSpPr/>
          <p:nvPr/>
        </p:nvSpPr>
        <p:spPr>
          <a:xfrm>
            <a:off x="2085840" y="3097080"/>
            <a:ext cx="289080" cy="117648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1176480"/>
              <a:gd name="textAreaBottom" fmla="*/ 116928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1"/>
                  <a:pt x="10800" y="442"/>
                </a:cubicBezTo>
                <a:lnTo>
                  <a:pt x="10800" y="10358"/>
                </a:lnTo>
                <a:cubicBezTo>
                  <a:pt x="10800" y="10579"/>
                  <a:pt x="5400" y="10800"/>
                  <a:pt x="0" y="10800"/>
                </a:cubicBezTo>
                <a:cubicBezTo>
                  <a:pt x="5400" y="10800"/>
                  <a:pt x="10800" y="11021"/>
                  <a:pt x="10800" y="11242"/>
                </a:cubicBezTo>
                <a:lnTo>
                  <a:pt x="10800" y="21158"/>
                </a:lnTo>
                <a:cubicBezTo>
                  <a:pt x="10800" y="213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340000" y="28368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有限小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2374920" y="39117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无限小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左大括号 17"/>
          <p:cNvSpPr/>
          <p:nvPr/>
        </p:nvSpPr>
        <p:spPr>
          <a:xfrm>
            <a:off x="4186080" y="3824280"/>
            <a:ext cx="289080" cy="890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890640"/>
              <a:gd name="textAreaBottom" fmla="*/ 883440 h 89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2"/>
                  <a:pt x="10800" y="584"/>
                </a:cubicBezTo>
                <a:lnTo>
                  <a:pt x="10800" y="10216"/>
                </a:lnTo>
                <a:cubicBezTo>
                  <a:pt x="10800" y="10508"/>
                  <a:pt x="5400" y="10800"/>
                  <a:pt x="0" y="10800"/>
                </a:cubicBezTo>
                <a:cubicBezTo>
                  <a:pt x="5400" y="10800"/>
                  <a:pt x="10800" y="11092"/>
                  <a:pt x="10800" y="11384"/>
                </a:cubicBezTo>
                <a:lnTo>
                  <a:pt x="10800" y="21016"/>
                </a:lnTo>
                <a:cubicBezTo>
                  <a:pt x="10800" y="2130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4475160" y="368460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无限循环小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4475160" y="4362480"/>
            <a:ext cx="39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无限不循环小数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π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57200" y="2590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的长城始建于公元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纪，前后修造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余年，明长城从山海关到嘉峪关，实际长度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1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米（合一万零二百六十里），故被称为万里长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"/>
          <p:cNvSpPr txBox="1"/>
          <p:nvPr/>
        </p:nvSpPr>
        <p:spPr>
          <a:xfrm>
            <a:off x="304920" y="137160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请阅读下面这段报道：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58920" y="49417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在这段报道中看到了哪些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03280" y="551664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它们都属于哪一类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9640" y="476280"/>
            <a:ext cx="76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在小学里，你学过哪几类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258920" y="404640"/>
            <a:ext cx="626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杭州湾跨海大桥1"/>
          <p:cNvPicPr/>
          <p:nvPr/>
        </p:nvPicPr>
        <p:blipFill>
          <a:blip r:embed="rId1"/>
          <a:stretch/>
        </p:blipFill>
        <p:spPr>
          <a:xfrm>
            <a:off x="5292720" y="620640"/>
            <a:ext cx="3456000" cy="2808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539640" y="765000"/>
            <a:ext cx="468000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请阅读下面一段报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世界上最长的跨海大桥——杭州湾跨海大桥于</a:t>
            </a:r>
            <a:r>
              <a:rPr b="1" lang="zh-CN" sz="2400" spc="-1" strike="noStrike">
                <a:solidFill>
                  <a:srgbClr val="c81704"/>
                </a:solidFill>
                <a:latin typeface="华文中宋"/>
                <a:ea typeface="华文中宋"/>
              </a:rPr>
              <a:t>2003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c81704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c81704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日奠基，于</a:t>
            </a:r>
            <a:r>
              <a:rPr b="1" lang="zh-CN" sz="2400" spc="-1" strike="noStrike">
                <a:solidFill>
                  <a:srgbClr val="c81704"/>
                </a:solidFill>
                <a:latin typeface="华文中宋"/>
                <a:ea typeface="华文中宋"/>
              </a:rPr>
              <a:t>2008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c81704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c81704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日全线通车。这座设计日通车量为</a:t>
            </a:r>
            <a:r>
              <a:rPr b="1" lang="zh-CN" sz="2400" spc="-1" strike="noStrike">
                <a:solidFill>
                  <a:srgbClr val="c81704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万辆，全长</a:t>
            </a:r>
            <a:r>
              <a:rPr b="1" lang="zh-CN" sz="2400" spc="-1" strike="noStrike">
                <a:solidFill>
                  <a:srgbClr val="c81704"/>
                </a:solidFill>
                <a:latin typeface="华文中宋"/>
                <a:ea typeface="华文中宋"/>
              </a:rPr>
              <a:t>36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千米的</a:t>
            </a:r>
            <a:r>
              <a:rPr b="1" lang="zh-CN" sz="2400" spc="-1" strike="noStrike">
                <a:solidFill>
                  <a:srgbClr val="c81704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车道公路斜拉桥，是中国大陆的第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座跨海大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1600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84360" y="4221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华文中宋"/>
                <a:ea typeface="华文中宋"/>
              </a:rPr>
              <a:t>自然数有些是用来计数和测量的，而有些数用来标号或排序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39640" y="508464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排序或标号：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2003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年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月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日，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2008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年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月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日 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11280" y="5661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计数或测量：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万辆，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车道，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36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403280" y="765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数：一般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数的方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到的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405080" y="4865760"/>
            <a:ext cx="65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测量：一般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借助工具得到的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403280" y="1700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序：为了表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某一种顺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数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年份、月份、名次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405080" y="2921040"/>
            <a:ext cx="71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号：人为的编号，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门牌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座位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车牌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邮政编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城市的公共汽车路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172200"/>
              <a:ext cx="91440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4"/>
            <p:cNvSpPr/>
            <p:nvPr/>
          </p:nvSpPr>
          <p:spPr>
            <a:xfrm>
              <a:off x="6339240" y="64771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 u="sng">
                  <a:solidFill>
                    <a:srgbClr val="ff3300"/>
                  </a:solidFill>
                  <a:uFillTx/>
                  <a:latin typeface="宋体"/>
                  <a:ea typeface="楷体_GB2312"/>
                </a:rPr>
                <a:t>新世纪实验学校数学教学课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6"/>
            <p:cNvSpPr/>
            <p:nvPr/>
          </p:nvSpPr>
          <p:spPr>
            <a:xfrm>
              <a:off x="792720" y="6188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自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951560" y="6188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合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3107160" y="6188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黑体"/>
                  <a:ea typeface="华文细黑"/>
                </a:rPr>
                <a:t>探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4266000" y="6188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华文细黑"/>
                  <a:ea typeface="华文细黑"/>
                </a:rPr>
                <a:t>互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0"/>
            <p:cNvGrpSpPr/>
            <p:nvPr/>
          </p:nvGrpSpPr>
          <p:grpSpPr>
            <a:xfrm>
              <a:off x="6159600" y="4689360"/>
              <a:ext cx="2733480" cy="1711440"/>
              <a:chOff x="6159600" y="4689360"/>
              <a:chExt cx="2733480" cy="1711440"/>
            </a:xfrm>
          </p:grpSpPr>
          <p:pic>
            <p:nvPicPr>
              <p:cNvPr id="171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6159600" y="4689360"/>
                <a:ext cx="2733480" cy="171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9600" y="4689360"/>
                <a:ext cx="2733480" cy="171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3" name="Text Box 13"/>
          <p:cNvSpPr/>
          <p:nvPr/>
        </p:nvSpPr>
        <p:spPr>
          <a:xfrm>
            <a:off x="2498760" y="1743120"/>
            <a:ext cx="632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列句子中用到的数，哪些属于计数和测量？哪些属于标号和排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979640" y="2654280"/>
            <a:ext cx="70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全国共有高等学校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1979640" y="3263760"/>
            <a:ext cx="70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小明哥哥乘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425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次列车从北京到天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2865240" y="3819600"/>
            <a:ext cx="552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香港特别行政区的中国银行大夏高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68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地上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层，至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993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为止，是世界第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高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17"/>
          <p:cNvSpPr txBox="1"/>
          <p:nvPr/>
        </p:nvSpPr>
        <p:spPr>
          <a:xfrm>
            <a:off x="324000" y="1773360"/>
            <a:ext cx="208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一做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3132000" y="2997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300720" y="2997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1258920" y="2205000"/>
            <a:ext cx="865080" cy="503280"/>
          </a:xfrm>
          <a:prstGeom prst="wedgeRoundRectCallout">
            <a:avLst>
              <a:gd name="adj1" fmla="val 178990"/>
              <a:gd name="adj2" fmla="val 7870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排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>
            <a:off x="7885080" y="2133720"/>
            <a:ext cx="1008000" cy="503280"/>
          </a:xfrm>
          <a:prstGeom prst="wedgeRoundRectCallout">
            <a:avLst>
              <a:gd name="adj1" fmla="val -75356"/>
              <a:gd name="adj2" fmla="val 8943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计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2"/>
          <p:cNvSpPr/>
          <p:nvPr/>
        </p:nvSpPr>
        <p:spPr>
          <a:xfrm>
            <a:off x="4716360" y="2781360"/>
            <a:ext cx="1008000" cy="503280"/>
          </a:xfrm>
          <a:prstGeom prst="wedgeRoundRectCallout">
            <a:avLst>
              <a:gd name="adj1" fmla="val -46379"/>
              <a:gd name="adj2" fmla="val 7870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标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3"/>
          <p:cNvSpPr/>
          <p:nvPr/>
        </p:nvSpPr>
        <p:spPr>
          <a:xfrm>
            <a:off x="2556000" y="5013360"/>
            <a:ext cx="1008000" cy="431640"/>
          </a:xfrm>
          <a:prstGeom prst="wedgeRoundRectCallout">
            <a:avLst>
              <a:gd name="adj1" fmla="val -9055"/>
              <a:gd name="adj2" fmla="val -13529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计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4"/>
          <p:cNvSpPr/>
          <p:nvPr/>
        </p:nvSpPr>
        <p:spPr>
          <a:xfrm>
            <a:off x="8172360" y="3284640"/>
            <a:ext cx="1008000" cy="503280"/>
          </a:xfrm>
          <a:prstGeom prst="wedgeRoundRectCallout">
            <a:avLst>
              <a:gd name="adj1" fmla="val -53620"/>
              <a:gd name="adj2" fmla="val 9290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测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5"/>
          <p:cNvSpPr/>
          <p:nvPr/>
        </p:nvSpPr>
        <p:spPr>
          <a:xfrm>
            <a:off x="4211640" y="4869000"/>
            <a:ext cx="1008000" cy="503280"/>
          </a:xfrm>
          <a:prstGeom prst="wedgeRoundRectCallout">
            <a:avLst>
              <a:gd name="adj1" fmla="val -16773"/>
              <a:gd name="adj2" fmla="val -9763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排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6659640" y="4870440"/>
            <a:ext cx="1008000" cy="503280"/>
          </a:xfrm>
          <a:prstGeom prst="wedgeRoundRectCallout">
            <a:avLst>
              <a:gd name="adj1" fmla="val 68740"/>
              <a:gd name="adj2" fmla="val -872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排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27"/>
          <p:cNvSpPr txBox="1"/>
          <p:nvPr/>
        </p:nvSpPr>
        <p:spPr>
          <a:xfrm>
            <a:off x="612720" y="836640"/>
            <a:ext cx="820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自然数的作用：计数和测量，标号或排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表情"/>
          <p:cNvPicPr/>
          <p:nvPr/>
        </p:nvPicPr>
        <p:blipFill>
          <a:blip r:embed="rId1"/>
          <a:stretch/>
        </p:blipFill>
        <p:spPr>
          <a:xfrm>
            <a:off x="7404120" y="23508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3"/>
          <p:cNvGrpSpPr/>
          <p:nvPr/>
        </p:nvGrpSpPr>
        <p:grpSpPr>
          <a:xfrm>
            <a:off x="3580920" y="2819520"/>
            <a:ext cx="1330560" cy="2209680"/>
            <a:chOff x="3580920" y="2819520"/>
            <a:chExt cx="1330560" cy="2209680"/>
          </a:xfrm>
        </p:grpSpPr>
        <p:sp>
          <p:nvSpPr>
            <p:cNvPr id="190" name="Line 4"/>
            <p:cNvSpPr/>
            <p:nvPr/>
          </p:nvSpPr>
          <p:spPr>
            <a:xfrm flipH="1">
              <a:off x="4073400" y="2819520"/>
              <a:ext cx="838080" cy="13716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 flipH="1">
              <a:off x="3580920" y="4648320"/>
              <a:ext cx="228600" cy="38088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Line 6"/>
          <p:cNvSpPr/>
          <p:nvPr/>
        </p:nvSpPr>
        <p:spPr>
          <a:xfrm>
            <a:off x="4952880" y="2819520"/>
            <a:ext cx="1295640" cy="24382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4273560" y="2779560"/>
            <a:ext cx="1401840" cy="539640"/>
            <a:chOff x="4273560" y="2779560"/>
            <a:chExt cx="1401840" cy="539640"/>
          </a:xfrm>
        </p:grpSpPr>
        <p:sp>
          <p:nvSpPr>
            <p:cNvPr id="194" name="Arc 8"/>
            <p:cNvSpPr/>
            <p:nvPr/>
          </p:nvSpPr>
          <p:spPr>
            <a:xfrm flipH="1">
              <a:off x="4645080" y="2862000"/>
              <a:ext cx="76320" cy="304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9"/>
            <p:cNvSpPr/>
            <p:nvPr/>
          </p:nvSpPr>
          <p:spPr>
            <a:xfrm>
              <a:off x="5175360" y="2854080"/>
              <a:ext cx="75960" cy="304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4273560" y="277956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529416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2"/>
          <p:cNvGrpSpPr/>
          <p:nvPr/>
        </p:nvGrpSpPr>
        <p:grpSpPr>
          <a:xfrm>
            <a:off x="3225960" y="2347920"/>
            <a:ext cx="3429000" cy="534960"/>
            <a:chOff x="3225960" y="2347920"/>
            <a:chExt cx="3429000" cy="534960"/>
          </a:xfrm>
        </p:grpSpPr>
        <p:sp>
          <p:nvSpPr>
            <p:cNvPr id="199" name="Line 13"/>
            <p:cNvSpPr/>
            <p:nvPr/>
          </p:nvSpPr>
          <p:spPr>
            <a:xfrm>
              <a:off x="3429000" y="2819520"/>
              <a:ext cx="312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4"/>
            <p:cNvSpPr/>
            <p:nvPr/>
          </p:nvSpPr>
          <p:spPr>
            <a:xfrm>
              <a:off x="3225960" y="23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"/>
            <p:cNvSpPr/>
            <p:nvPr/>
          </p:nvSpPr>
          <p:spPr>
            <a:xfrm>
              <a:off x="6197760" y="2362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4753080" y="2306520"/>
            <a:ext cx="629640" cy="3049560"/>
            <a:chOff x="4753080" y="2306520"/>
            <a:chExt cx="629640" cy="3049560"/>
          </a:xfrm>
        </p:grpSpPr>
        <p:sp>
          <p:nvSpPr>
            <p:cNvPr id="203" name="Line 17"/>
            <p:cNvSpPr/>
            <p:nvPr/>
          </p:nvSpPr>
          <p:spPr>
            <a:xfrm>
              <a:off x="4932000" y="2778120"/>
              <a:ext cx="0" cy="2361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4753080" y="230652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4925880" y="483552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WordArt 20"/>
          <p:cNvSpPr txBox="1"/>
          <p:nvPr/>
        </p:nvSpPr>
        <p:spPr>
          <a:xfrm>
            <a:off x="468360" y="260280"/>
            <a:ext cx="281952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一做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179280" y="1984320"/>
            <a:ext cx="882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语句中用到的数，哪些属于计数和测量？哪些属于标号和排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世界水稻平均亩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七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共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学生，其中男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明爸爸乘火车从杭州到北京，共用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2"/>
          <p:cNvSpPr txBox="1"/>
          <p:nvPr/>
        </p:nvSpPr>
        <p:spPr>
          <a:xfrm>
            <a:off x="395280" y="1484280"/>
            <a:ext cx="2819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考一考：</a:t>
            </a:r>
            <a:endParaRPr b="1" lang="en-US" sz="4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GTH_004"/>
          <p:cNvPicPr/>
          <p:nvPr/>
        </p:nvPicPr>
        <p:blipFill>
          <a:blip r:embed="rId1"/>
          <a:stretch/>
        </p:blipFill>
        <p:spPr>
          <a:xfrm>
            <a:off x="6732720" y="5229360"/>
            <a:ext cx="2124000" cy="1369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468360" y="4046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有了自然数后，在现实生活中是不是够用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5280" y="23493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解答下列问题时，你会选用哪里一类数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11280" y="3500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华和她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朋友一起过生日，要平均分享一块生日蛋糕，每人可得多少蛋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11280" y="4653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明的身高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，如果改用米作单位，应怎样表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95280" y="57913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分数可以看作两个整数相除。分数与小数可以互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1:11:14Z</dcterms:created>
  <dc:creator/>
  <dc:description/>
  <cp:keywords/>
  <dc:language>en-US</dc:language>
  <cp:lastModifiedBy/>
  <dcterms:modified xsi:type="dcterms:W3CDTF">2017-09-04T23:38:28Z</dcterms:modified>
  <cp:revision>1</cp:revision>
  <dc:subject/>
  <dc:title/>
</cp:coreProperties>
</file>