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  <p:custShowLst>
    <p:custShow name="自定义放映1" id="0">
      <p:sldLst>
        <p:sld r:id="rId13"/>
      </p:sldLst>
    </p:custShow>
    <p:custShow name="自定义放映2" id="1">
      <p:sldLst>
        <p:sld r:id="rId6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86582-89FC-4A80-9011-8170826C7F15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资料来源：回澜阁教育 免费下载 天天更新 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www.HuiLanGe.co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CED5-7D1E-4505-8060-EB76BD315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6F8E-EB00-4CA5-ADB9-2796B2DBB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C711-7947-4D9E-A287-8D82F999D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5C7C-A47C-4E8E-9E47-BE7E481AF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BA60-1D92-4FC0-8888-34BA79169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8D1A-94D8-447D-80E6-9CF5001DA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C63A-621A-4213-AA8A-286E8BD7C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CD30-5E70-4280-8DA5-47D2EC723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8E31-3A34-46A8-854E-EC57DC2AC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7FEC-1E53-47AE-B7F3-2E45AE501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025F-9A7B-410C-B3C5-56538EEC3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4184-DAA1-498A-B04F-73AEE166E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EB678-CB84-4089-9567-9647CBAC85F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0"/>
            <a:ext cx="701028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228600" y="609480"/>
            <a:ext cx="83808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solidFill>
                  <a:srgbClr val="000000"/>
                </a:solidFill>
                <a:latin typeface="华文行楷"/>
              </a:rPr>
              <a:t>观</a:t>
            </a:r>
            <a:endParaRPr b="1" lang="en-US" sz="2400" spc="1" strike="noStrike">
              <a:ln w="0">
                <a:noFill/>
              </a:ln>
              <a:solidFill>
                <a:srgbClr val="000000"/>
              </a:solidFill>
              <a:latin typeface="华文行楷"/>
              <a:ea typeface="华文行楷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solidFill>
                  <a:srgbClr val="000000"/>
                </a:solidFill>
                <a:latin typeface="华文行楷"/>
              </a:rPr>
              <a:t>舞</a:t>
            </a:r>
            <a:endParaRPr b="1" lang="en-US" sz="2400" spc="1" strike="noStrike">
              <a:ln w="0">
                <a:noFill/>
              </a:ln>
              <a:solidFill>
                <a:srgbClr val="000000"/>
              </a:solidFill>
              <a:latin typeface="华文行楷"/>
              <a:ea typeface="华文行楷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solidFill>
                  <a:srgbClr val="000000"/>
                </a:solidFill>
                <a:latin typeface="华文行楷"/>
              </a:rPr>
              <a:t>记</a:t>
            </a:r>
            <a:endParaRPr b="1" lang="en-US" sz="2400" spc="1" strike="noStrike">
              <a:ln w="0">
                <a:noFill/>
              </a:ln>
              <a:solidFill>
                <a:srgbClr val="000000"/>
              </a:solidFill>
              <a:latin typeface="华文行楷"/>
              <a:ea typeface="华文行楷"/>
            </a:endParaRPr>
          </a:p>
        </p:txBody>
      </p:sp>
      <p:sp>
        <p:nvSpPr>
          <p:cNvPr id="50" name=""/>
          <p:cNvSpPr/>
          <p:nvPr/>
        </p:nvSpPr>
        <p:spPr>
          <a:xfrm>
            <a:off x="-376920" y="4724280"/>
            <a:ext cx="1399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冰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838080" y="762120"/>
            <a:ext cx="28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提示与要求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219320" y="4495680"/>
            <a:ext cx="693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华文行楷"/>
                <a:ea typeface="华文行楷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各人根据自己的能力和喜好选择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中的一种方式表达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116000" y="1557360"/>
            <a:ext cx="6934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、可以模仿课文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2—5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段的假设句，也可模仿第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段的比喻句，写几句排比的话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143000" y="2819520"/>
            <a:ext cx="7086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、结合课文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12—18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段描述，综合运用精致的形容词、动词，生动的修辞，巧妙的方法，丰富的想象写一小段文字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500"/>
                            </p:stCondLst>
                            <p:childTnLst>
                              <p:par>
                                <p:cTn id="10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57200" y="503280"/>
            <a:ext cx="8077320" cy="565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6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118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1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181160" y="1085760"/>
            <a:ext cx="68580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yī yā     mù    pín cù     càn        sǒu     chē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咿呀   静穆     颦  蹙    粲然   斗薮     嗔视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chì zhà                      xiè                         yán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叱  咤风云         浑身解数         尽态极妍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           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yīng     xuàn     xiù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珠缨        炫转     星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43200" y="22096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447920" y="22096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752480" y="22096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1280" y="22096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22096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800600" y="22096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172200" y="21906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972480" y="21906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504800" y="34480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057400" y="34480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648320" y="35053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201080" y="348624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86200" y="48006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200400" y="48006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915080" y="48006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143000" y="1066680"/>
            <a:ext cx="5410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初读课文，发现“美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467000" y="201924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听读课文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11—18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段，找出卡拉玛姐妹舞蹈中美的细节、美的画面，用波浪线标出来，并将发现的成果结合文章语句表达出来。（提示：可以从服饰、动作、舞姿、神态、外貌等方面去寻找。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86600" y="5181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50778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762120" y="259092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语言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057400" y="289548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057400" y="21337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表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124080" y="25909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舞蹈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343400" y="1143000"/>
            <a:ext cx="380880" cy="3657600"/>
          </a:xfrm>
          <a:custGeom>
            <a:avLst/>
            <a:gdLst>
              <a:gd name="textAreaLeft" fmla="*/ 243360 w 380880"/>
              <a:gd name="textAreaRight" fmla="*/ 381240 w 380880"/>
              <a:gd name="textAreaTop" fmla="*/ 95040 h 3657600"/>
              <a:gd name="textAreaBottom" fmla="*/ 3562560 h 3657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648320" y="9907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神态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648320" y="190512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舞姿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648320" y="274320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服饰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648320" y="365760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外貌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648320" y="4572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动作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943600" y="1143000"/>
            <a:ext cx="304920" cy="3657600"/>
          </a:xfrm>
          <a:custGeom>
            <a:avLst/>
            <a:gdLst>
              <a:gd name="textAreaLeft" fmla="*/ 0 w 304920"/>
              <a:gd name="textAreaRight" fmla="*/ 110160 w 304920"/>
              <a:gd name="textAreaTop" fmla="*/ 95040 h 3657600"/>
              <a:gd name="textAreaBottom" fmla="*/ 3562560 h 3657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6400800" y="2438280"/>
            <a:ext cx="1847880" cy="9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华文行楷"/>
              </a:rPr>
              <a:t>飞动之美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467000" y="201924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听读课文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11—18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段，找出卡拉玛姐妹舞蹈中美的细节、美的画面，用波浪线标出来，并将发现的成果结合文章语句表达出来。（提示：可以从服饰、动作、舞姿、神态、外貌等方面去寻找。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1066680"/>
            <a:ext cx="5410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初读课文，发现“美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914400" y="1144440"/>
            <a:ext cx="822960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赏读课文，读出“美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找出你喜欢的句子，在小组内有感情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读，可以单独读、组合读、接龙读，边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边在脑子想象舞蹈的情景画面，使自己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浸其中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66680" y="1116000"/>
            <a:ext cx="6096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</a:rPr>
              <a:t>研读课文，感悟“美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057400" y="1905120"/>
            <a:ext cx="426708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①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最贴切的词语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②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最妙的修辞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③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最美的句式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④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最细致的观察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32448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262120" y="838080"/>
            <a:ext cx="27547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</a:rPr>
              <a:t>拓展延伸，描绘美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457200" y="249120"/>
            <a:ext cx="8077320" cy="599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6" dur="1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88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1" dur="1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1T06:46:24Z</dcterms:created>
  <dc:creator>回澜阁教育www.HuiLanGe.com</dc:creator>
  <dc:description>回澜阁教育www.HuiLanGe.com</dc:description>
  <cp:keywords>回澜阁教育www.HuiLanGe.com</cp:keywords>
  <dc:language>en-US</dc:language>
  <cp:lastModifiedBy>MS USER</cp:lastModifiedBy>
  <dcterms:modified xsi:type="dcterms:W3CDTF">2009-06-22T01:03:51Z</dcterms:modified>
  <cp:revision>111</cp:revision>
  <dc:subject>回澜阁教育www.HuiLanGe.com</dc:subject>
  <dc:title>回澜阁教育www.HuiLanGe.com</dc:title>
</cp:coreProperties>
</file>