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6.jpeg" ContentType="image/jpeg"/>
  <Override PartName="/ppt/media/image3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5.jpeg" ContentType="image/jpeg"/>
  <Override PartName="/ppt/media/image9.jpeg" ContentType="image/jpeg"/>
  <Override PartName="/ppt/media/image11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27.jpeg" ContentType="image/jpeg"/>
  <Override PartName="/ppt/media/image28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19.gif" ContentType="image/gif"/>
  <Override PartName="/ppt/media/image14.jpeg" ContentType="image/jpeg"/>
  <Override PartName="/ppt/media/image16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6.gif" ContentType="image/gif"/>
  <Override PartName="/ppt/media/image20.jpeg" ContentType="image/jpeg"/>
  <Override PartName="/ppt/media/chimes.wav" ContentType="audio/x-wav"/>
  <Override PartName="/ppt/media/image21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CF25-CA7C-4581-B27C-178071C912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资料来源：回澜阁教育 免费下载 天天更新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HuiLanGe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AA9-E3B0-4EC6-ADBD-4E444E0B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3FD-0927-4AA5-81FA-E86052ED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9F2-F19C-4160-8956-436A8827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F94-0ECA-49CA-8FDF-06AED728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4ED-FFB6-4174-9866-5CD27E32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3CE-76B4-4B76-B93A-43471783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EF8-4F97-40F6-AAEC-F16966D8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72C-1A23-4BF5-88F1-CB4DF4D6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909-3878-4B6A-9D4C-F99D9556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074-A665-4B4B-AC8C-96874904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A82-4D41-41BE-8DDF-92868398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0C3-D4C4-46E3-935D-C815E56D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9DBC-D536-438F-A737-4F794B30E2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audio" Target="file:///tmp/home/.config/libreoffice/4/user/gallery/chimes.wav" TargetMode="External"/><Relationship Id="rId6" Type="http://schemas.microsoft.com/office/2007/relationships/media" Target="file:///tmp/home/.config/libreoffice/4/user/gallery/chimes.wav" TargetMode="External"/><Relationship Id="rId7" Type="http://schemas.openxmlformats.org/officeDocument/2006/relationships/image" Target="../media/image4.png"/><Relationship Id="rId8" Type="http://schemas.openxmlformats.org/officeDocument/2006/relationships/audio" Target="file:///tmp/home/.config/libreoffice/4/user/gallery/chimes.wav" TargetMode="External"/><Relationship Id="rId9" Type="http://schemas.microsoft.com/office/2007/relationships/media" Target="file:///tmp/home/.config/libreoffice/4/user/gallery/chimes.wav" TargetMode="Externa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&#21360;&#24230;&#33310;&#12290;.MPG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905120" y="2590920"/>
            <a:ext cx="4876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99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请欣赏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19320" y="5257800"/>
            <a:ext cx="66294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978680" y="5565600"/>
            <a:ext cx="1165320" cy="1292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1048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468360" y="531972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11280" y="907920"/>
            <a:ext cx="463068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印度传统舞蹈有四大流派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而“婆罗多舞”是最古老的古典舞蹈。舞者衣裙华丽，姿态优美，头戴半圆形花环，耳环和鼻饰闪烁，光彩照人，演员的手、眼、身、脚、步严密配合，面部表情喜怒哀乐瞬息万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99cc00"/>
                </a:solidFill>
                <a:latin typeface="Arial"/>
                <a:ea typeface="隶书"/>
              </a:rPr>
              <a:t>印度舞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572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5720" y="457200"/>
            <a:ext cx="109476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隶书"/>
              </a:rPr>
              <a:t>观 舞 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冰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2057400" cy="692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29200" y="1371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900—199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22860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代著名女作家，儿童文学家。原名谢婉莹，福建长乐人。散文集《寄小读者》，诗集《春水》、《繁星》，儿童文学集《小桔灯》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3600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219320" y="99072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考考你的识字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438280"/>
            <a:ext cx="701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颦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 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叱咤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凤            尽态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斗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薮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浑身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解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裙            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38640" y="2438280"/>
            <a:ext cx="15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pín   c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1000" y="23623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2971800"/>
            <a:ext cx="10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c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640" y="2895480"/>
            <a:ext cx="1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chì  zh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350532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c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342900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y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9360" y="411480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m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13160" y="40384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s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51960" y="46483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ti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11360" y="4648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x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52320" y="51814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zh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53080" y="380880"/>
            <a:ext cx="2286000" cy="2203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86960" y="518148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ó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09480" y="190512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细读课文，找出文中描写印度舞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特点的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533520" y="3276720"/>
            <a:ext cx="83106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说说作者是从哪些方面表现卡拉玛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姐妹舞蹈的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“美”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21195000">
            <a:off x="765000" y="88920"/>
            <a:ext cx="4111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看谁找得快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600" spc="-1" strike="noStrike">
                <a:solidFill>
                  <a:srgbClr val="3333ff"/>
                </a:solidFill>
                <a:latin typeface="隶书"/>
                <a:ea typeface="隶书"/>
              </a:rPr>
              <a:t>   </a:t>
            </a:r>
            <a:r>
              <a:rPr b="1" lang="zh-CN" sz="7600" spc="-1" strike="noStrike">
                <a:solidFill>
                  <a:srgbClr val="003300"/>
                </a:solidFill>
                <a:latin typeface="隶书"/>
                <a:ea typeface="隶书"/>
              </a:rPr>
              <a:t>妙 词 佳 句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781280"/>
            <a:ext cx="76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真是光艳地一闪！她亮出她的秀丽的面庞和那能说出千万种话的一对长眉，一双眼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17640" y="2513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细碎的舞步，繁响的铃声，轻云般慢移，疾风般旋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853080"/>
            <a:ext cx="84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忽而双眉颦蹙，表现出无限的哀愁；忽而笑颊粲然，表现出无边的喜乐；忽而侧身垂睫表现出低回婉转的娇羞；忽而张目嗔视，表现出叱咤风云的盛怒；忽而轻柔地点额抚臂，画眼描眉，表演着细腻妥贴的梳妆；忽而挺身屹立，按箭引弓，使人几乎听得见铮铮的弦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438880"/>
            <a:ext cx="59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莲花的花开瓣颤，小鹿的疾走惊跃，孔雀的高视阔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0600" y="7160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496800"/>
            <a:ext cx="57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舞蹈“飞动的美”从那些方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表现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32120" y="1413000"/>
            <a:ext cx="22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她们以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身体、神态、服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现舞蹈的“飞动的‘美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61040" y="2133720"/>
            <a:ext cx="3578040" cy="3123360"/>
            <a:chOff x="4361040" y="2133720"/>
            <a:chExt cx="3578040" cy="3123360"/>
          </a:xfrm>
        </p:grpSpPr>
        <p:sp>
          <p:nvSpPr>
            <p:cNvPr id="104" name=""/>
            <p:cNvSpPr/>
            <p:nvPr/>
          </p:nvSpPr>
          <p:spPr>
            <a:xfrm>
              <a:off x="4434120" y="2133720"/>
              <a:ext cx="79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光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61040" y="3286080"/>
              <a:ext cx="137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曼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34120" y="4797360"/>
              <a:ext cx="79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神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80920" y="2494080"/>
              <a:ext cx="255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秀丽的面庞；能说万千种话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对长眉，一双眼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21640" y="3645000"/>
              <a:ext cx="164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眉、妙目、手指、腰肢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髻花、褶裙、细步从“轻云般慢移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到“旋风般疾转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427640" y="530532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神采飞扬的舞姿传神地表现 “离合悲欢”。让人为之喜为之悲，她忽而双眉颦蹙…使人几乎听得见铮铮的弦响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7487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2004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拉玛在表演舞蹈时是全身心的投入，除身体在飞动外，心灵也进入了舞蹈的境界，达到忘我的境地。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真正的舞蹈，是</a:t>
            </a:r>
            <a:r>
              <a:rPr b="1" i="1" lang="zh-CN" sz="3200" spc="-1" strike="noStrike" u="sng">
                <a:solidFill>
                  <a:srgbClr val="009999"/>
                </a:solidFill>
                <a:uFillTx/>
                <a:latin typeface="宋体"/>
              </a:rPr>
              <a:t>心灵之舞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，而不是技巧之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609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在舞蹈的狂欢中，</a:t>
            </a:r>
            <a:r>
              <a:rPr b="1" lang="zh-CN" sz="3600" spc="-1" strike="noStrike">
                <a:solidFill>
                  <a:srgbClr val="009999"/>
                </a:solidFill>
                <a:latin typeface="Tahoma"/>
                <a:ea typeface="隶书"/>
              </a:rPr>
              <a:t> 她忘怀了观众，也忘怀了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  <p:sndAc>
      <p:stSnd>
        <p:snd r:embed="rId2" name="whoosh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686800" y="6172200"/>
            <a:ext cx="457200" cy="6858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32392">
                <a:moveTo>
                  <a:pt x="0" y="0"/>
                </a:moveTo>
                <a:lnTo>
                  <a:pt x="21600" y="0"/>
                </a:lnTo>
                <a:lnTo>
                  <a:pt x="21600" y="32392"/>
                </a:lnTo>
                <a:lnTo>
                  <a:pt x="0" y="32392"/>
                </a:lnTo>
                <a:close/>
              </a:path>
              <a:path fill="lightenLess" w="21600" h="323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2">
                <a:moveTo>
                  <a:pt x="21600" y="0"/>
                </a:moveTo>
                <a:lnTo>
                  <a:pt x="21600" y="32392"/>
                </a:lnTo>
                <a:lnTo>
                  <a:pt x="20200" y="30992"/>
                </a:lnTo>
                <a:lnTo>
                  <a:pt x="20200" y="1400"/>
                </a:lnTo>
                <a:close/>
              </a:path>
              <a:path fill="darkenLess" w="21600" h="32392">
                <a:moveTo>
                  <a:pt x="21600" y="32392"/>
                </a:moveTo>
                <a:lnTo>
                  <a:pt x="0" y="32392"/>
                </a:lnTo>
                <a:lnTo>
                  <a:pt x="1400" y="30992"/>
                </a:lnTo>
                <a:lnTo>
                  <a:pt x="20200" y="30992"/>
                </a:lnTo>
                <a:close/>
              </a:path>
              <a:path fill="lighten" w="21600" h="32392">
                <a:moveTo>
                  <a:pt x="0" y="3239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2"/>
                </a:lnTo>
                <a:close/>
              </a:path>
              <a:path fill="darken" w="21600" h="32392">
                <a:moveTo>
                  <a:pt x="7301" y="16196"/>
                </a:moveTo>
                <a:lnTo>
                  <a:pt x="17806" y="9189"/>
                </a:lnTo>
                <a:lnTo>
                  <a:pt x="17806" y="23202"/>
                </a:lnTo>
                <a:close/>
              </a:path>
              <a:path fill="darken" w="21600" h="32392">
                <a:moveTo>
                  <a:pt x="3794" y="9189"/>
                </a:moveTo>
                <a:lnTo>
                  <a:pt x="5456" y="9189"/>
                </a:lnTo>
                <a:lnTo>
                  <a:pt x="5456" y="23202"/>
                </a:lnTo>
                <a:lnTo>
                  <a:pt x="3794" y="232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一看　写一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91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行楷"/>
              </a:rPr>
              <a:t>欣赏舞蹈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《雀之灵》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行楷"/>
              </a:rPr>
              <a:t>，要求学习冰心用优美的词语来表现自己所看到的和所想到的，哪怕是一个词、一句话、一段文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12000" y="4941720"/>
            <a:ext cx="194472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316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80000" y="5084640"/>
            <a:ext cx="2978280" cy="1509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6920" y="2349360"/>
            <a:ext cx="705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2276640"/>
            <a:ext cx="7200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f1bb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f1bb3"/>
                </a:solidFill>
                <a:latin typeface="Times New Roman"/>
                <a:ea typeface="华文行楷"/>
              </a:rPr>
              <a:t>抄写本文优美的句子，加以积累．（句子自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f1bb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f1bb3"/>
                </a:solidFill>
                <a:latin typeface="Times New Roman"/>
                <a:ea typeface="华文行楷"/>
              </a:rPr>
              <a:t>有感情地朗读课文，再次体会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f1bb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 rot="222600">
            <a:off x="1676520" y="2133720"/>
            <a:ext cx="57909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愿你每天过得精彩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20:47Z</dcterms:created>
  <dc:creator>回澜阁教育www.HuiLanGe.com</dc:creator>
  <dc:description>回澜阁教育www.HuiLanGe.com</dc:description>
  <cp:keywords>回澜阁教育www.HuiLanGe.com</cp:keywords>
  <dc:language>en-US</dc:language>
  <cp:lastModifiedBy>MS USER</cp:lastModifiedBy>
  <dcterms:modified xsi:type="dcterms:W3CDTF">2009-06-22T01:03:35Z</dcterms:modified>
  <cp:revision>4</cp:revision>
  <dc:subject>回澜阁教育www.HuiLanGe.com</dc:subject>
  <dc:title>回澜阁教育www.HuiLanGe.com</dc:title>
</cp:coreProperties>
</file>