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type.wav" ContentType="audio/x-wav"/>
  <Override PartName="/ppt/media/image8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67E-B9B0-4936-A0AF-3DC5E6B8C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CC9F-BB1B-4F0A-BBA3-43D855B3EEC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97F-CCBE-492F-AFD0-17D46DFFA5B6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B854-5F8A-4CFB-AEF8-141AD2686223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944-BA99-49AF-A716-AD4E7EC6A0A3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0AB7-B85E-4F4A-9DD7-7BB065AB7E59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01B7-4905-496F-9376-A6CB326C3754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85D1-CF6F-481A-B63F-08D03C32DFC8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00C-B3F1-409C-8B74-2F839A43CECA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F69-B6FF-478B-8C7B-81C5E374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8EE-AFA9-426F-9D62-6C5C238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6F4-2067-4314-8500-5E765400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0F5-638B-4A64-BDDC-62776ACB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86CA-2A76-4334-9693-BF777C68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5F5B-A2D1-4DFE-AB99-B7C1982C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6B33-F8D9-4E8A-AB6A-9683133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3A9-49BD-4AD2-9201-0049493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C300-44AD-4213-8946-DB41DEE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87CB-3CF7-4FC5-99E2-1D47238A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3429-C939-4387-8901-805CE241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620-1535-466A-BC5D-ECEB3FD4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9B10-B11A-4EB8-9C54-8B12F492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2C67-ED15-4215-A5D0-28878CC2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AE5C-8888-405E-AAC4-63663CF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FE39-987A-4D9D-819E-8AABB42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EDC2-1AAB-4037-AFF7-F46886C5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3F4-B01C-4FEB-8B74-6CF280EB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6BCA-0CC1-4071-B9BF-4A433DC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8BD-4192-4BAF-ACC2-5492045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4A5-2D76-49DE-A7CE-6766660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FC9-F753-459C-B01F-DB824984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25-0DCB-44C4-A1D4-ACE87CD7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A08-C11D-4F6A-AF75-6D885B14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15E4-FD4E-45FD-8ABE-66BDF8B30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EE9-3298-4EE6-819F-DAEE60AAE29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 rot="5400000">
            <a:off x="-1008360" y="2673360"/>
            <a:ext cx="604836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鱼我所欲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135960" y="2852640"/>
            <a:ext cx="109476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孟子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Picture 6" descr="0019"/>
          <p:cNvPicPr/>
          <p:nvPr/>
        </p:nvPicPr>
        <p:blipFill>
          <a:blip r:embed="rId2"/>
          <a:stretch/>
        </p:blipFill>
        <p:spPr>
          <a:xfrm>
            <a:off x="5148360" y="0"/>
            <a:ext cx="35272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89308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鱼，我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欲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，熊掌，亦我所欲也，二者不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得兼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，舍鱼而取熊掌者也。生，亦我所欲也，义，亦我所欲也，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想要得到的。  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②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得兼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动词，同时得到 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兼”是副词状语置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52280" y="3809880"/>
            <a:ext cx="8839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译文： 鱼，是我想要得到的，熊掌，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想要得到的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如果）两种东西不能同时得到，（那么），（我要）舍弃鱼而选取熊掌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生命是我所想要的东西，大义也是我所想要的东西，如果这两者不能同时都得到，那么我就只好牺牲生命而选取大义了。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826920" y="148104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文章开头写“鱼”和“熊掌”有什么作用？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9480" y="3033720"/>
            <a:ext cx="792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鱼和熊掌两样东西的价值不同，鱼低贱而熊掌珍贵。二者不能同时得到，必然舍弃鱼而选取熊掌；同理，生命和正义的价值也不同．</a:t>
            </a:r>
            <a:r>
              <a:rPr b="1" lang="zh-CN" sz="2800" spc="-1" strike="noStrike" u="sng">
                <a:solidFill>
                  <a:srgbClr val="3366ff"/>
                </a:solidFill>
                <a:uFillTx/>
                <a:latin typeface="华文中宋"/>
                <a:ea typeface="华文中宋"/>
              </a:rPr>
              <a:t>正义要比生命重要得多，二者不能同时得到的情况下，必须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舍弃生命选取正义</a:t>
            </a:r>
            <a:r>
              <a:rPr b="1" lang="zh-CN" sz="2800" spc="-1" strike="noStrike" u="sng">
                <a:solidFill>
                  <a:srgbClr val="3366ff"/>
                </a:solidFill>
                <a:uFillTx/>
                <a:latin typeface="华文中宋"/>
                <a:ea typeface="华文中宋"/>
              </a:rPr>
              <a:t>。这里运用了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华文中宋"/>
                <a:ea typeface="华文中宋"/>
              </a:rPr>
              <a:t>比喻论证，提出了“舍生取义”的中心论点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9640" y="333360"/>
            <a:ext cx="19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960200" y="227664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所欲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627280" y="980280"/>
            <a:ext cx="375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鱼、熊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411360" y="37155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生、义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2916360" y="191628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24000" y="191772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提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论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148360" y="981000"/>
            <a:ext cx="3671640" cy="81144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舍鱼取熊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5219640" y="3645000"/>
            <a:ext cx="3384720" cy="7920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d82a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舍生取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1042920" y="4940640"/>
            <a:ext cx="101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由浅入深，自然明晓 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WordArt 15"/>
          <p:cNvSpPr txBox="1"/>
          <p:nvPr/>
        </p:nvSpPr>
        <p:spPr>
          <a:xfrm>
            <a:off x="3419640" y="1773360"/>
            <a:ext cx="1871640" cy="174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设喻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引出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生亦我所欲，所欲有甚于生者，故不为苟得也。死亦我所恶，所恶有甚于死者，故患有所不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－读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i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动词，做，干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苟得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黑体"/>
              </a:rPr>
              <a:t>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苟且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恶－读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ù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动词，厌恶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反。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患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名词，祸患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灾难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避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躲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5266440" y="765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2440" y="134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1332000" y="1557360"/>
            <a:ext cx="792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5410800" y="134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889720" y="198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906080" y="198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  </a:t>
            </a:r>
            <a:br>
              <a:rPr sz="4400"/>
            </a:br>
            <a:r>
              <a:rPr b="1" lang="zh-CN" sz="3600" spc="-1" strike="noStrike">
                <a:solidFill>
                  <a:srgbClr val="160979"/>
                </a:solidFill>
                <a:latin typeface="Arial"/>
              </a:rPr>
              <a:t>生，亦我所欲也，所欲有甚于生者，故不为苟得也。死亦我所恶，所恶有甚于死者，故患有所不辟也。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60240" y="3124080"/>
            <a:ext cx="8255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译文：生命是我所想要的东西，但我所想要的还有比生命更重要的东西，所以我不做苟且偷生的事；死亡是我所厌恶的，但我所厌恶的还有比死亡的更厉害的，所以有祸患我也不躲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1835280" y="1557360"/>
            <a:ext cx="209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64000" y="1557360"/>
            <a:ext cx="568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甚于生（义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708360" y="2492280"/>
            <a:ext cx="38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故不苟得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1835280" y="4006800"/>
            <a:ext cx="209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492360" y="4005360"/>
            <a:ext cx="65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甚于死（不义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780000" y="494172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故不避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755640" y="1628640"/>
            <a:ext cx="732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辨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分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 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0" y="45813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正面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 rot="5400000">
            <a:off x="5724360" y="278100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舍生取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762120" y="10360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欲有甚于生者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欲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可以指哪些事情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38080" y="213732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这里的“所欲”应指正义的事业。如为人民大众作有利之事，为国家建设做事，为了别人安危挺身而出等。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38080" y="3807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恶有甚于死者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所恶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可以指哪些事情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8360" y="4846680"/>
            <a:ext cx="842472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660033"/>
                </a:solidFill>
                <a:latin typeface="黑体"/>
                <a:ea typeface="黑体"/>
              </a:rPr>
              <a:t>这里的“所恶”应指不正义的事情。不合法不道德的事情，如叛变国家，贪污受贿，滥用职权，杀人放火等危害国家危害人民的事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04920" y="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920" y="3805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如使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之所欲莫甚于生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凡可以得生者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何不用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使人之所恶莫甚于死者，则凡可以辟患者何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也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如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假如，假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则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那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何不用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什么手段不可用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动词，做，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79280" y="4221000"/>
            <a:ext cx="876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译文：如果人们所想要的东西没有比生命更重要的，那么凡是能够用来求得生存的手段，（有）什么不可以采用呢？如果人们所厌恶的事情没有比死亡更厉害的，那么凡是能够用来躲避祸患的手段，（有）什么不可以用呢？ 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751680" y="1052640"/>
            <a:ext cx="59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假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设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4653000"/>
            <a:ext cx="277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反面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1619280" y="765000"/>
            <a:ext cx="14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3132000" y="765000"/>
            <a:ext cx="386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莫甚于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最喜生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2627280" y="2060640"/>
            <a:ext cx="532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何不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（不择手段求生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692360" y="3716280"/>
            <a:ext cx="149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所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03640" y="3716280"/>
            <a:ext cx="340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莫甚于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（最恶死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2987640" y="4869000"/>
            <a:ext cx="468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何不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（不择手段躲祸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WordArt 16"/>
          <p:cNvSpPr txBox="1"/>
          <p:nvPr/>
        </p:nvSpPr>
        <p:spPr>
          <a:xfrm rot="5400000">
            <a:off x="5650920" y="2781360"/>
            <a:ext cx="460836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ffa800"/>
                    </a:gs>
                  </a:gsLst>
                  <a:lin ang="189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舍义取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189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4560" y="313920"/>
            <a:ext cx="8893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由是则生而有不用也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由是则可以避患而有不为也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是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所欲有甚于生者，所恶有甚于死者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50920" y="1916280"/>
            <a:ext cx="85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译文：由于这个原因，可以获得生存手段却有人不用，由于这个原因，可以躲避祸患的手段却有人不采用，因为这个缘故，他们所喜爱的有比生命更重要的（那就是“义”）；他们所厌恶的，有比死亡更严重的（那就是“不义”）。</a:t>
            </a:r>
            <a:r>
              <a:rPr b="1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260280"/>
            <a:ext cx="46483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孟子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名轲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字子舆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战国时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邹人。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儒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家继孔子之后又一位重要的代表人物，后称为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亚圣”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孟子生于战国诸侯混战最激烈的时期，他继承和发扬了孔子的思想，他提出</a:t>
            </a:r>
            <a:r>
              <a:rPr b="1" lang="zh-CN" sz="2800" spc="-1" strike="noStrike">
                <a:solidFill>
                  <a:srgbClr val="d82a26"/>
                </a:solidFill>
                <a:latin typeface="华文中宋"/>
                <a:ea typeface="华文中宋"/>
              </a:rPr>
              <a:t>“民贵君轻”、反对掠夺性战争等主张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为此，他到各国去游说诸侯，反对“霸道”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提倡以“仁”“义”为中心的“仁政”、“王道”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Picture 3" descr="孟子"/>
          <p:cNvPicPr/>
          <p:nvPr/>
        </p:nvPicPr>
        <p:blipFill>
          <a:blip r:embed="rId2"/>
          <a:srcRect l="11979" t="0" r="4934" b="6400"/>
          <a:stretch/>
        </p:blipFill>
        <p:spPr>
          <a:xfrm>
            <a:off x="5715000" y="1066680"/>
            <a:ext cx="3154320" cy="548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5562720" y="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作者简介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133200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由是则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783800" y="3933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由是避患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067280" y="836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不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366800" y="393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不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6215760" y="836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有甚于生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60480" y="3933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有甚于死者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1052640"/>
            <a:ext cx="9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果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分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析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WordArt 15"/>
          <p:cNvSpPr txBox="1"/>
          <p:nvPr/>
        </p:nvSpPr>
        <p:spPr>
          <a:xfrm>
            <a:off x="1403280" y="4869000"/>
            <a:ext cx="6696000" cy="13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舍生取义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65" name="Group 23"/>
          <p:cNvGrpSpPr/>
          <p:nvPr/>
        </p:nvGrpSpPr>
        <p:grpSpPr>
          <a:xfrm>
            <a:off x="6536880" y="1557360"/>
            <a:ext cx="1521720" cy="2445840"/>
            <a:chOff x="6536880" y="1557360"/>
            <a:chExt cx="1521720" cy="2445840"/>
          </a:xfrm>
        </p:grpSpPr>
        <p:sp>
          <p:nvSpPr>
            <p:cNvPr id="166" name="Rectangle 10"/>
            <p:cNvSpPr/>
            <p:nvPr/>
          </p:nvSpPr>
          <p:spPr>
            <a:xfrm>
              <a:off x="6536880" y="234936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  <a:ea typeface="隶书"/>
                </a:rPr>
                <a:t>（原因）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AutoShape 17"/>
            <p:cNvSpPr/>
            <p:nvPr/>
          </p:nvSpPr>
          <p:spPr>
            <a:xfrm>
              <a:off x="7093080" y="1557360"/>
              <a:ext cx="503280" cy="934920"/>
            </a:xfrm>
            <a:prstGeom prst="upArrow">
              <a:avLst>
                <a:gd name="adj1" fmla="val 50000"/>
                <a:gd name="adj2" fmla="val 46441"/>
              </a:avLst>
            </a:prstGeom>
            <a:solidFill>
              <a:srgbClr val="00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AutoShape 18"/>
            <p:cNvSpPr/>
            <p:nvPr/>
          </p:nvSpPr>
          <p:spPr>
            <a:xfrm rot="10800000">
              <a:off x="7093080" y="3068280"/>
              <a:ext cx="503280" cy="934920"/>
            </a:xfrm>
            <a:prstGeom prst="upArrow">
              <a:avLst>
                <a:gd name="adj1" fmla="val 50000"/>
                <a:gd name="adj2" fmla="val 46441"/>
              </a:avLst>
            </a:prstGeom>
            <a:solidFill>
              <a:srgbClr val="00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9" name="Group 22"/>
          <p:cNvGrpSpPr/>
          <p:nvPr/>
        </p:nvGrpSpPr>
        <p:grpSpPr>
          <a:xfrm>
            <a:off x="4015800" y="1557360"/>
            <a:ext cx="1521720" cy="2445840"/>
            <a:chOff x="4015800" y="1557360"/>
            <a:chExt cx="1521720" cy="2445840"/>
          </a:xfrm>
        </p:grpSpPr>
        <p:sp>
          <p:nvSpPr>
            <p:cNvPr id="170" name="Rectangle 11"/>
            <p:cNvSpPr/>
            <p:nvPr/>
          </p:nvSpPr>
          <p:spPr>
            <a:xfrm>
              <a:off x="4015800" y="2349360"/>
              <a:ext cx="1521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Arial"/>
                  <a:ea typeface="隶书"/>
                </a:rPr>
                <a:t>（结果）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AutoShape 20"/>
            <p:cNvSpPr/>
            <p:nvPr/>
          </p:nvSpPr>
          <p:spPr>
            <a:xfrm>
              <a:off x="4572000" y="1557360"/>
              <a:ext cx="503280" cy="934920"/>
            </a:xfrm>
            <a:prstGeom prst="upArrow">
              <a:avLst>
                <a:gd name="adj1" fmla="val 50000"/>
                <a:gd name="adj2" fmla="val 46441"/>
              </a:avLst>
            </a:prstGeom>
            <a:solidFill>
              <a:srgbClr val="00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AutoShape 21"/>
            <p:cNvSpPr/>
            <p:nvPr/>
          </p:nvSpPr>
          <p:spPr>
            <a:xfrm rot="10800000">
              <a:off x="4572000" y="3068280"/>
              <a:ext cx="503280" cy="934920"/>
            </a:xfrm>
            <a:prstGeom prst="upArrow">
              <a:avLst>
                <a:gd name="adj1" fmla="val 50000"/>
                <a:gd name="adj2" fmla="val 46441"/>
              </a:avLst>
            </a:prstGeom>
            <a:solidFill>
              <a:srgbClr val="00000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94760" y="1455840"/>
            <a:ext cx="8525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非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贤者有是心也，人皆有之，贤者能勿丧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译文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黑体"/>
                <a:ea typeface="黑体"/>
              </a:rPr>
              <a:t>不只是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贤德的人有这种思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辨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’’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并保持它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人人都有这种思想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孟子认为人生下来本性是善良的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，只是贤德的人能不丧失它罢了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3521160"/>
            <a:ext cx="8915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838080" y="9806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非独贤者有是心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心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指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80880" y="18648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指善心，本性，天性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57200" y="2958840"/>
            <a:ext cx="79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为什么说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非独贤者有是心，人皆有之，贤者能勿丧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479556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孟子主张人性是善的。“人之初，性本善”。但是只有有道德的人才能保持高尚的操守而不丧失善心（天性、天良）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1053720" y="2132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升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主题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6027480" y="1698480"/>
            <a:ext cx="851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递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论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说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048840" y="9079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非独贤者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3327120" y="25653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人皆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3223440" y="4437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贤者勿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3780000" y="1628640"/>
            <a:ext cx="431640" cy="1081080"/>
          </a:xfrm>
          <a:prstGeom prst="downArrow">
            <a:avLst>
              <a:gd name="adj1" fmla="val 50000"/>
              <a:gd name="adj2" fmla="val 62615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AutoShape 11"/>
          <p:cNvSpPr/>
          <p:nvPr/>
        </p:nvSpPr>
        <p:spPr>
          <a:xfrm>
            <a:off x="3780000" y="3429000"/>
            <a:ext cx="431640" cy="1081080"/>
          </a:xfrm>
          <a:prstGeom prst="downArrow">
            <a:avLst>
              <a:gd name="adj1" fmla="val 50000"/>
              <a:gd name="adj2" fmla="val 62615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分析第一部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250920" y="836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舍鱼而取熊掌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781680" y="907920"/>
            <a:ext cx="2230560" cy="642600"/>
          </a:xfrm>
          <a:prstGeom prst="rect">
            <a:avLst/>
          </a:prstGeom>
          <a:noFill/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比喻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995640" y="907920"/>
            <a:ext cx="2664000" cy="642600"/>
          </a:xfrm>
          <a:prstGeom prst="rect">
            <a:avLst/>
          </a:prstGeom>
          <a:noFill/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舍生而取义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696080" y="1844640"/>
            <a:ext cx="1260720" cy="1191240"/>
          </a:xfrm>
          <a:prstGeom prst="rect">
            <a:avLst/>
          </a:prstGeom>
          <a:noFill/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正面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7772400" y="3573360"/>
            <a:ext cx="1224000" cy="1191240"/>
          </a:xfrm>
          <a:prstGeom prst="rect">
            <a:avLst/>
          </a:prstGeom>
          <a:noFill/>
          <a:ln cap="sq"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Times New Roman"/>
              </a:rPr>
              <a:t>反面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17212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不为苟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533160" y="1628280"/>
            <a:ext cx="35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甚于生者”       “义”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411280" y="184464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533160" y="2421000"/>
            <a:ext cx="35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甚于死者”       “不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AutoShape 12"/>
          <p:cNvSpPr/>
          <p:nvPr/>
        </p:nvSpPr>
        <p:spPr>
          <a:xfrm>
            <a:off x="2484360" y="2565360"/>
            <a:ext cx="503280" cy="358920"/>
          </a:xfrm>
          <a:prstGeom prst="rightArrow">
            <a:avLst>
              <a:gd name="adj1" fmla="val 50000"/>
              <a:gd name="adj2" fmla="val 35055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492360" y="3213000"/>
            <a:ext cx="41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凡可以得生者何不用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3419640" y="4437000"/>
            <a:ext cx="41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凡可以避患者何不为也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79280" y="328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所欲莫甚于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0" y="450864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所恶莫甚于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4643280" y="189000"/>
            <a:ext cx="1152720" cy="6426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5596920" y="2349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患有所不避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7644240" y="176040"/>
            <a:ext cx="729360" cy="64260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论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179280" y="5667480"/>
            <a:ext cx="3600720" cy="1191240"/>
          </a:xfrm>
          <a:prstGeom prst="rect">
            <a:avLst/>
          </a:prstGeom>
          <a:noFill/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非独贤者有是心也，人皆有之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21"/>
          <p:cNvSpPr/>
          <p:nvPr/>
        </p:nvSpPr>
        <p:spPr>
          <a:xfrm>
            <a:off x="4140360" y="5778360"/>
            <a:ext cx="2376360" cy="581400"/>
          </a:xfrm>
          <a:prstGeom prst="rect">
            <a:avLst/>
          </a:prstGeom>
          <a:noFill/>
          <a:ln cap="sq" w="1260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人人都有向善之心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22"/>
          <p:cNvSpPr/>
          <p:nvPr/>
        </p:nvSpPr>
        <p:spPr>
          <a:xfrm>
            <a:off x="613584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6860880" y="6021360"/>
            <a:ext cx="19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82a2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d82a26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d82a26"/>
                </a:solidFill>
                <a:latin typeface="Times New Roman"/>
              </a:rPr>
              <a:t>性善论</a:t>
            </a:r>
            <a:r>
              <a:rPr b="1" lang="zh-CN" sz="3600" spc="-1" strike="noStrike">
                <a:solidFill>
                  <a:srgbClr val="d82a26"/>
                </a:solidFill>
                <a:latin typeface="宋体"/>
              </a:rPr>
              <a:t>”</a:t>
            </a:r>
            <a:r>
              <a:rPr b="1" lang="en-US" sz="3600" spc="-1" strike="noStrike">
                <a:solidFill>
                  <a:srgbClr val="d82a2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Line 24"/>
          <p:cNvSpPr/>
          <p:nvPr/>
        </p:nvSpPr>
        <p:spPr>
          <a:xfrm>
            <a:off x="179280" y="1628640"/>
            <a:ext cx="9144000" cy="0"/>
          </a:xfrm>
          <a:prstGeom prst="line">
            <a:avLst/>
          </a:prstGeom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Line 25"/>
          <p:cNvSpPr/>
          <p:nvPr/>
        </p:nvSpPr>
        <p:spPr>
          <a:xfrm>
            <a:off x="0" y="5589720"/>
            <a:ext cx="9144000" cy="0"/>
          </a:xfrm>
          <a:prstGeom prst="line">
            <a:avLst/>
          </a:prstGeom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10526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第一部分（从开头至“贤者能勿丧耳”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论点，并说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美德就是人所固有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79280" y="2602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课文分析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547640" y="371628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187280" y="1989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舍生取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400800" y="2133720"/>
            <a:ext cx="17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义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3818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一箪食，一豆羹，得之则生，弗得则死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呼尔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与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之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行道之人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弗受；蹴尔而与之，乞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不屑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也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呼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盛气凌人得叫。尔，助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与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给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行道之人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路上饥饿的人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不屑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因轻视而不肯接受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4343400"/>
            <a:ext cx="84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82a26"/>
                </a:solidFill>
                <a:latin typeface="Times New Roman"/>
                <a:ea typeface="黑体"/>
              </a:rPr>
              <a:t>译文：一篮饭，一碗汤，得到它就能活下去，失去它就会饿死。可是吆喝着给人（吃），过路的饥民也不肯接受；用脚踢着（或踩过）给别人吃，乞丐也不屑于接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0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755640" y="2276640"/>
            <a:ext cx="208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箪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豆羹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5312160" y="1627920"/>
            <a:ext cx="149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呼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蹴尔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364000" y="2996640"/>
            <a:ext cx="129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不屑接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7096680" y="1341720"/>
            <a:ext cx="127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羞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之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舍生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取义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3" name="Picture 8" descr="2"/>
          <p:cNvPicPr/>
          <p:nvPr/>
        </p:nvPicPr>
        <p:blipFill>
          <a:blip r:embed="rId2"/>
          <a:stretch/>
        </p:blipFill>
        <p:spPr>
          <a:xfrm>
            <a:off x="395280" y="549360"/>
            <a:ext cx="2376360" cy="1608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0" descr="34"/>
          <p:cNvPicPr/>
          <p:nvPr/>
        </p:nvPicPr>
        <p:blipFill>
          <a:blip r:embed="rId3"/>
          <a:stretch/>
        </p:blipFill>
        <p:spPr>
          <a:xfrm>
            <a:off x="468360" y="3645000"/>
            <a:ext cx="2232000" cy="1558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1"/>
          <p:cNvSpPr/>
          <p:nvPr/>
        </p:nvSpPr>
        <p:spPr>
          <a:xfrm>
            <a:off x="2978640" y="184464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2978640" y="3213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WordArt 13"/>
          <p:cNvSpPr txBox="1"/>
          <p:nvPr/>
        </p:nvSpPr>
        <p:spPr>
          <a:xfrm>
            <a:off x="2843280" y="4508640"/>
            <a:ext cx="54738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正面举例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0"/>
            <a:ext cx="8820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万钟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则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礼义而受之，万钟于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何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焉！为宫室之美，妻妾之奉，所识穷乏者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得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</a:t>
            </a:r>
            <a:r>
              <a:rPr b="1" lang="zh-CN" sz="3200" spc="-1" strike="noStrike">
                <a:solidFill>
                  <a:srgbClr val="160979"/>
                </a:solidFill>
                <a:latin typeface="Arial"/>
              </a:rPr>
              <a:t>欤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万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高位厚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辨，辨别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何加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有什么好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得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通“德”，感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欤，语气助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179280" y="41497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译文：（可是有的人）不管是否符合礼和义就接受了 “万钟”的优厚俸禄。这样，优厚的俸禄对我有什么好处呢？是为了住宅的华丽、妻妾的侍奉和所熟识的走投无路的贫困者感激我的恩德吗？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注：“于我何加焉”即“何加于我焉”。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6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6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6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5866560" y="836640"/>
            <a:ext cx="231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宫室之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妻妾之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所识穷乏者得我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879480" y="1557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接受万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254400" y="1557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辨礼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1258920" y="3068640"/>
            <a:ext cx="5545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见利忘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反面举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a77"/>
                </a:solidFill>
                <a:latin typeface="Arial"/>
                <a:ea typeface="华文行楷"/>
              </a:rPr>
              <a:t>主要思想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施仁政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民贵君轻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-267480"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  <a:ea typeface="华文行楷"/>
              </a:rPr>
              <a:t>人性本善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 marL="2674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6" name="Picture 12" descr="孟子"/>
          <p:cNvPicPr/>
          <p:nvPr/>
        </p:nvPicPr>
        <p:blipFill>
          <a:blip r:embed="rId2"/>
          <a:srcRect l="11979" t="0" r="4934" b="6400"/>
          <a:stretch/>
        </p:blipFill>
        <p:spPr>
          <a:xfrm>
            <a:off x="5562720" y="685800"/>
            <a:ext cx="3429000" cy="54864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79360" y="0"/>
            <a:ext cx="8864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向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身死而不受，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宫室之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之；向为身死而不受，今为妻妾之奉为之；向为身死而不受，今为所识穷乏者得我而为之：是亦不可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已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乎？此之谓失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本心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先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了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介词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wè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做，动词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wéi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已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停止，放弃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本心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天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349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前（有人）为了“礼义”宁愿死也不肯接受（施舍），现在却为了宫室的华美而接受了； ；先前（有人）为了“礼义”宁愿死也不肯接受（施舍），现在（有人）为了妻妾的侍奉却接受了；先前（有人）为了“礼义”宁愿死也不肯接受（施舍），现在（有人）为了所熟识的走投无路的贫困者感激我的恩德而接受了。这种做法不是可以让它停止了吗？（如果这样做了）这就叫做丧失了人的本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3"/>
          <p:cNvSpPr/>
          <p:nvPr/>
        </p:nvSpPr>
        <p:spPr>
          <a:xfrm>
            <a:off x="606276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接受万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5960520" y="1125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不受食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443640" y="1844640"/>
            <a:ext cx="504720" cy="2521080"/>
          </a:xfrm>
          <a:prstGeom prst="upDownArrow">
            <a:avLst>
              <a:gd name="adj1" fmla="val 50000"/>
              <a:gd name="adj2" fmla="val 99438"/>
            </a:avLst>
          </a:prstGeom>
          <a:solidFill>
            <a:srgbClr val="00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5435640" y="1844640"/>
            <a:ext cx="2448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排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对比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1095480" y="3716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丧失本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354168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身外之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3368160" y="1125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关乎生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991440" y="1628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保有本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WordArt 15"/>
          <p:cNvSpPr txBox="1"/>
          <p:nvPr/>
        </p:nvSpPr>
        <p:spPr>
          <a:xfrm>
            <a:off x="539640" y="4724280"/>
            <a:ext cx="302436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停止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5" name="WordArt 16"/>
          <p:cNvSpPr txBox="1"/>
          <p:nvPr/>
        </p:nvSpPr>
        <p:spPr>
          <a:xfrm>
            <a:off x="755640" y="380880"/>
            <a:ext cx="41752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舍生取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77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3" dur="770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7" dur="77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77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4" dur="770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6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8" dur="77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1143000" y="5295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1.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文中说得了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万钟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是为了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762120" y="12474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为了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宫室之美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，为了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妻妾之奉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，为了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所识穷乏者得我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295280" y="246960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2.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作者认为这种作法如何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611280" y="341100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作者认为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此之谓失其本心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应当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可以止</a:t>
            </a:r>
            <a:r>
              <a:rPr b="1" lang="zh-CN" sz="3600" spc="-1" strike="noStrike">
                <a:solidFill>
                  <a:srgbClr val="660033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660033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22440" y="41907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3.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作者列举了两种不同的人生观，赞扬了什么样的人，斥责了什么样的人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50920" y="5836680"/>
            <a:ext cx="86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赞扬了那些重义轻生、舍生取义的人，斥责了那些苟且偷生、见利忘义的人。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04920" y="-228600"/>
            <a:ext cx="19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方正舒体"/>
              </a:rPr>
              <a:t>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1752480" y="1141200"/>
            <a:ext cx="18288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义存于心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914400" y="1828800"/>
            <a:ext cx="12776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举 例 论 证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905120" y="4570200"/>
            <a:ext cx="1828800" cy="5814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见利忘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429000" y="1216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（正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440160" y="464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反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429000" y="1676520"/>
            <a:ext cx="152280" cy="2666880"/>
          </a:xfrm>
          <a:prstGeom prst="downArrow">
            <a:avLst>
              <a:gd name="adj1" fmla="val 50000"/>
              <a:gd name="adj2" fmla="val 43782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2819520" y="2133720"/>
            <a:ext cx="60696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对 比 论 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4495680" y="1141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嗟来之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1" name="AutoShape 10"/>
          <p:cNvSpPr/>
          <p:nvPr/>
        </p:nvSpPr>
        <p:spPr>
          <a:xfrm>
            <a:off x="4356000" y="12682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4343400" y="4724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Text Box 12"/>
          <p:cNvSpPr/>
          <p:nvPr/>
        </p:nvSpPr>
        <p:spPr>
          <a:xfrm>
            <a:off x="6324480" y="827280"/>
            <a:ext cx="213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行道之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乞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6172200" y="10666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4572000" y="45705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万钟之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AutoShape 15"/>
          <p:cNvSpPr/>
          <p:nvPr/>
        </p:nvSpPr>
        <p:spPr>
          <a:xfrm>
            <a:off x="6172200" y="419112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Text Box 16"/>
          <p:cNvSpPr/>
          <p:nvPr/>
        </p:nvSpPr>
        <p:spPr>
          <a:xfrm>
            <a:off x="6248520" y="4384080"/>
            <a:ext cx="198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宫室之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妻妾之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、所识穷乏        者得我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17"/>
          <p:cNvSpPr/>
          <p:nvPr/>
        </p:nvSpPr>
        <p:spPr>
          <a:xfrm>
            <a:off x="8388360" y="422100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对 比 论 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AutoShape 18"/>
          <p:cNvSpPr/>
          <p:nvPr/>
        </p:nvSpPr>
        <p:spPr>
          <a:xfrm>
            <a:off x="8153280" y="4191120"/>
            <a:ext cx="76320" cy="1523880"/>
          </a:xfrm>
          <a:custGeom>
            <a:avLst/>
            <a:gdLst>
              <a:gd name="textAreaLeft" fmla="*/ 0 w 76320"/>
              <a:gd name="textAreaRight" fmla="*/ 27360 w 763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AutoShape 19"/>
          <p:cNvSpPr/>
          <p:nvPr/>
        </p:nvSpPr>
        <p:spPr>
          <a:xfrm>
            <a:off x="1600200" y="1523880"/>
            <a:ext cx="152280" cy="320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TextBox 2"/>
          <p:cNvSpPr/>
          <p:nvPr/>
        </p:nvSpPr>
        <p:spPr>
          <a:xfrm>
            <a:off x="34920" y="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050"/>
                </a:solidFill>
                <a:latin typeface="Arial"/>
              </a:rPr>
              <a:t>分析第二部分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75960" y="75960"/>
            <a:ext cx="87627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结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段：为人应舍生取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从开头至“舍生而取义者也”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出中心论点（喻证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从“生亦我所欲”至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故所欲有甚于生者，所恶有甚于死者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”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析舍生取义的道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步：辩证分析（正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步：假设分析（反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步：因果分析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层：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本段最后一句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舍生取义是人的本心，贤者勿丧。（递进式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第二段：舍义以利就是丧失本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一层：证明“义”之存在。　（正面举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二层：揭示“见利忘义”。　　　（反面举例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三层：揭示见利忘义就是丧失本心，再次证明本文论点：舍生取义。（对比论证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523880" y="18208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华文行楷"/>
              </a:rPr>
              <a:t>生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华文行楷"/>
              </a:rPr>
              <a:t>有甚于生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华文行楷"/>
              </a:rPr>
              <a:t>不为苟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5800" y="1447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华文行楷"/>
                <a:ea typeface="华文行楷"/>
              </a:rPr>
              <a:t>死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  <a:ea typeface="华文行楷"/>
              </a:rPr>
              <a:t>有甚于死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——</a:t>
            </a:r>
            <a:r>
              <a:rPr b="0" lang="zh-CN" sz="2800" spc="-1" strike="noStrike">
                <a:solidFill>
                  <a:srgbClr val="000066"/>
                </a:solidFill>
                <a:latin typeface="华文行楷"/>
                <a:ea typeface="华文行楷"/>
              </a:rPr>
              <a:t>有所不避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838080" y="24382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所恶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莫甚于死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何不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838080" y="20574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所欲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莫甚于生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何不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5562720" y="106668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6477120" y="914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正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5562720" y="1523880"/>
            <a:ext cx="838080" cy="304920"/>
          </a:xfrm>
          <a:custGeom>
            <a:avLst/>
            <a:gdLst>
              <a:gd name="textAreaLeft" fmla="*/ 130680 w 838080"/>
              <a:gd name="textAreaRight" fmla="*/ 733320 w 8380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6477120" y="14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反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7196040" y="1371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对比论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304920" y="3352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由是避患→不为         →甚于死者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85800" y="2971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由是则生→不用 （结果）→有甚于生者（原因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Line 14"/>
          <p:cNvSpPr/>
          <p:nvPr/>
        </p:nvSpPr>
        <p:spPr>
          <a:xfrm>
            <a:off x="685800" y="1752480"/>
            <a:ext cx="0" cy="259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286" name="AutoShape 15"/>
          <p:cNvCxnSpPr/>
          <p:nvPr/>
        </p:nvCxnSpPr>
        <p:spPr>
          <a:xfrm flipH="1">
            <a:off x="532800" y="3352320"/>
            <a:ext cx="1080" cy="1677240"/>
          </a:xfrm>
          <a:prstGeom prst="straightConnector1">
            <a:avLst/>
          </a:prstGeom>
          <a:ln w="0">
            <a:noFill/>
          </a:ln>
        </p:spPr>
      </p:cxnSp>
      <p:sp>
        <p:nvSpPr>
          <p:cNvPr id="287" name="Line 16"/>
          <p:cNvSpPr/>
          <p:nvPr/>
        </p:nvSpPr>
        <p:spPr>
          <a:xfrm>
            <a:off x="457200" y="3352680"/>
            <a:ext cx="15228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Line 17"/>
          <p:cNvSpPr/>
          <p:nvPr/>
        </p:nvSpPr>
        <p:spPr>
          <a:xfrm>
            <a:off x="1600200" y="5105520"/>
            <a:ext cx="5334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Line 18"/>
          <p:cNvSpPr/>
          <p:nvPr/>
        </p:nvSpPr>
        <p:spPr>
          <a:xfrm>
            <a:off x="2438280" y="5334120"/>
            <a:ext cx="763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 rot="5400000">
            <a:off x="-76320" y="2895480"/>
            <a:ext cx="1905120" cy="1143000"/>
          </a:xfrm>
          <a:custGeom>
            <a:avLst/>
            <a:gdLst>
              <a:gd name="textAreaLeft" fmla="*/ 0 w 1905120"/>
              <a:gd name="textAreaRight" fmla="*/ 1716120 w 1905120"/>
              <a:gd name="textAreaTop" fmla="*/ 106920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18828" y="0"/>
                </a:moveTo>
                <a:lnTo>
                  <a:pt x="16055" y="9642"/>
                </a:lnTo>
                <a:lnTo>
                  <a:pt x="18198" y="9642"/>
                </a:lnTo>
                <a:lnTo>
                  <a:pt x="18198" y="20202"/>
                </a:lnTo>
                <a:lnTo>
                  <a:pt x="0" y="20202"/>
                </a:lnTo>
                <a:lnTo>
                  <a:pt x="0" y="21600"/>
                </a:lnTo>
                <a:lnTo>
                  <a:pt x="19457" y="21600"/>
                </a:lnTo>
                <a:lnTo>
                  <a:pt x="19457" y="9642"/>
                </a:lnTo>
                <a:lnTo>
                  <a:pt x="21600" y="9642"/>
                </a:lnTo>
                <a:lnTo>
                  <a:pt x="18828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Line 20"/>
          <p:cNvSpPr/>
          <p:nvPr/>
        </p:nvSpPr>
        <p:spPr>
          <a:xfrm>
            <a:off x="4952880" y="5334120"/>
            <a:ext cx="0" cy="838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AutoShape 21"/>
          <p:cNvSpPr/>
          <p:nvPr/>
        </p:nvSpPr>
        <p:spPr>
          <a:xfrm rot="10800000">
            <a:off x="456840" y="1371240"/>
            <a:ext cx="304920" cy="2438280"/>
          </a:xfrm>
          <a:custGeom>
            <a:avLst/>
            <a:gdLst>
              <a:gd name="textAreaLeft" fmla="*/ 0 w 304920"/>
              <a:gd name="textAreaRight" fmla="*/ 110160 w 3049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22"/>
          <p:cNvSpPr/>
          <p:nvPr/>
        </p:nvSpPr>
        <p:spPr>
          <a:xfrm>
            <a:off x="1447920" y="38862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非独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皆有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勿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Text Box 23"/>
          <p:cNvSpPr/>
          <p:nvPr/>
        </p:nvSpPr>
        <p:spPr>
          <a:xfrm>
            <a:off x="5334120" y="3886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（人之初，性本善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Text Box 24"/>
          <p:cNvSpPr/>
          <p:nvPr/>
        </p:nvSpPr>
        <p:spPr>
          <a:xfrm>
            <a:off x="4343400" y="3886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层进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25"/>
          <p:cNvSpPr/>
          <p:nvPr/>
        </p:nvSpPr>
        <p:spPr>
          <a:xfrm>
            <a:off x="533520" y="48006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一箪、一豆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行道之人，乞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弗受，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决定生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义存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26"/>
          <p:cNvSpPr/>
          <p:nvPr/>
        </p:nvSpPr>
        <p:spPr>
          <a:xfrm>
            <a:off x="609480" y="5486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万钟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王侯贵族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受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决定宫室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义丧失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AutoShape 27"/>
          <p:cNvSpPr/>
          <p:nvPr/>
        </p:nvSpPr>
        <p:spPr>
          <a:xfrm rot="10800000">
            <a:off x="456840" y="487692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AutoShape 28"/>
          <p:cNvSpPr/>
          <p:nvPr/>
        </p:nvSpPr>
        <p:spPr>
          <a:xfrm>
            <a:off x="8305920" y="2971800"/>
            <a:ext cx="533160" cy="1676520"/>
          </a:xfrm>
          <a:prstGeom prst="wedgeRoundRectCallout">
            <a:avLst>
              <a:gd name="adj1" fmla="val -149703"/>
              <a:gd name="adj2" fmla="val 75379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举例论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AutoShape 29"/>
          <p:cNvSpPr/>
          <p:nvPr/>
        </p:nvSpPr>
        <p:spPr>
          <a:xfrm>
            <a:off x="8077320" y="1600200"/>
            <a:ext cx="838080" cy="8380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Rectangle 30"/>
          <p:cNvSpPr/>
          <p:nvPr/>
        </p:nvSpPr>
        <p:spPr>
          <a:xfrm>
            <a:off x="1831320" y="0"/>
            <a:ext cx="48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文章是怎样围绕论点逐层论述的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Text Box 31"/>
          <p:cNvSpPr/>
          <p:nvPr/>
        </p:nvSpPr>
        <p:spPr>
          <a:xfrm>
            <a:off x="457200" y="5791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进一步论证“义”重于生命，指出不应该为物欲所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AutoShape 32"/>
          <p:cNvSpPr/>
          <p:nvPr/>
        </p:nvSpPr>
        <p:spPr>
          <a:xfrm rot="5400000">
            <a:off x="-304920" y="5562720"/>
            <a:ext cx="1067040" cy="30456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3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3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7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7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864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本文是一篇论述道德标准和政治节操的说理散文。作者以严肃的态度，庄重的言语，阐述生死与“义”的关系，指出“义”的价值高于生命。一个正直的人，有道德修养的人，应当为义而生，为义而死，在必要时要“舍生取义”，而不能“见利忘义”。不辨礼义而贪求富贵的行为是不足取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5" name="Picture 4" descr="手指"/>
          <p:cNvPicPr/>
          <p:nvPr/>
        </p:nvPicPr>
        <p:blipFill>
          <a:blip r:embed="rId2"/>
          <a:stretch/>
        </p:blipFill>
        <p:spPr>
          <a:xfrm>
            <a:off x="7308720" y="558972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533520" y="4712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作者为了阐明自己的观点，用了哪些论证方法？试举例说明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2196720"/>
            <a:ext cx="84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⑴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反对比论证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说明为什么要“舍生”：因为有的东西比生更可贵，有的东西比死更可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⑵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举例论证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义重于生的观点，“一箪食，一豆羹”虽然关乎生死，但是如果“呼尔而与之”“蹴尔而与之”，“乞人”都会不屑一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对“万钟”的态度又用事实从反面论证了义重于生的观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⑶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论证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用“向”与“今”的不同做法进行对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   ⑷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比喻论证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华文中宋"/>
                <a:ea typeface="华文中宋"/>
              </a:rPr>
              <a:t>文章一开始就用鱼和熊掌的比喻论对生与死的选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08" name="Picture 4" descr="手指"/>
          <p:cNvPicPr/>
          <p:nvPr/>
        </p:nvPicPr>
        <p:blipFill>
          <a:blip r:embed="rId2"/>
          <a:stretch/>
        </p:blipFill>
        <p:spPr>
          <a:xfrm>
            <a:off x="6804000" y="5921280"/>
            <a:ext cx="1152720" cy="93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1440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，我所欲也，熊掌，亦我所欲也，二者不可得兼，舍鱼而取熊掌者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，亦我所欲也，义，亦我所欲也，二者不可得兼，舍生而取义者也。生亦我所欲，所欲有甚于生者，故不为苟得也。死亦我所恶，所恶有甚于死者，故患有所不辟也。如使人之所欲莫甚于生，则凡可以得生者，何不用也。使人之所恶莫甚于死者，则凡可以辟患者，何不为也！由是则生而有不用也；由是则可以辟患而有不为也。是故所欲有甚于生者，所恶有甚于死者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独贤者有是心也，人皆有之，贤者能勿丧耳。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228600" y="4929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0" y="373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箪食，一豆羹，得之则生，弗得则死。呼尔而与之，行道之人弗受；蹴尔而与之，乞人不屑也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万钟则不辨礼义而受之，万钟于我何加焉！为宫室之美，妻妾之奉，所识穷乏者得我欤？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</a:rPr>
              <a:t>向为身死而不受，今为宫室之美为之；向为身死而不受，今为妻妾之奉为之；向为身死而不受，今为所识穷乏者得我而为之：是亦不可以已乎？此之谓失其本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79214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写作特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议论严密，层层深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文章围绕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舍生取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中心论点立论，从正面论述生死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关系，指出舍生取义是人的本心；从反面论述见利忘义是丧失人的本心，从而再次重申文章论点。结构严谨，层层深化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3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003040" y="836640"/>
            <a:ext cx="518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性善论”的要点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   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 </a:t>
            </a:r>
            <a:r>
              <a:rPr b="1" lang="en-US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(1)“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善”是人的本性。“人性之善也。犹水之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下也。人无有不善。水无有不下。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    </a:t>
            </a:r>
            <a:r>
              <a:rPr b="1" lang="en-US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(2)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人有四种“本心”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同情心、羞耻心、恭敬心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是非心。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仁义礼智的道德规范即由此产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恻隐之心，人皆有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羞恶之心，人皆有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恭敬之心，人皆有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是非之心，人皆有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恻隐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仁也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：羞恶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义也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恭敬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礼也</a:t>
            </a:r>
            <a:r>
              <a:rPr b="1" lang="zh-CN" sz="28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；是非之心，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智也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136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．善用比喻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开篇以鱼和熊掌设喻，引出中心论点。第二段以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行道之人弗受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乞人不屑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比喻守义不辱，形象生动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善用对比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　第一段正反对比阐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义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重于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生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的道理，从反面假设推理，又从正面事实说明人能不贪生，不避患。第二段举例论证，以正反两个事例进行对比，说明人们对待利欲引诱的不同态度，批判为追逐个人名利而丧失羞恶之心的人，重申中心论点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5" name="Picture 3" descr="手指"/>
          <p:cNvPicPr/>
          <p:nvPr/>
        </p:nvPicPr>
        <p:blipFill>
          <a:blip r:embed="rId2"/>
          <a:stretch/>
        </p:blipFill>
        <p:spPr>
          <a:xfrm>
            <a:off x="7093080" y="5589720"/>
            <a:ext cx="1152360" cy="93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．善用排比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加强了气势，增强感情，显示出说话人的义正严词，理直气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7" name="Picture 3" descr="手指"/>
          <p:cNvPicPr/>
          <p:nvPr/>
        </p:nvPicPr>
        <p:blipFill>
          <a:blip r:embed="rId2"/>
          <a:stretch/>
        </p:blipFill>
        <p:spPr>
          <a:xfrm>
            <a:off x="7093080" y="5589720"/>
            <a:ext cx="1152360" cy="93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4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1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28600" y="25992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词多义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种　　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非独贤者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种作法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亦不可以已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到，拥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例句：二者不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德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感激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句：所识穷乏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助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例句：呼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与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代词，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例句：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销万古愁（李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将进酒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例句： 向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身死而不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例句： 今为宫室之美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　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3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8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3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8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3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8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3" dur="2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8" dur="2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3" dur="2000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8" dur="2000"/>
                                        <p:tgtEl>
                                          <p:spTgt spid="3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596440" cy="54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通假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故患有所不辟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躲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万钟则不辨礼义而受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辩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辨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辨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今为所识穷乏者得我而为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德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恩惠，这里是感激的意思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0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5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0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5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0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5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677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古今异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例句：万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则不辨礼义而受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一种量器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今义：计时的器具或中空的响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例句：非独贤者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古义：代词，这种    今义：判断动词，是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所识穷乏者得我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得：恩惠，这里是感激的意思。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名词作动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 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2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nodeType="clickEffect" fill="hold">
                      <p:stCondLst>
                        <p:cond delay="indefinite"/>
                      </p:stCondLst>
                      <p:childTnLst>
                        <p:par>
                          <p:cTn id="1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2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7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2" dur="20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7" dur="20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2" dur="20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7" dur="20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2" dur="20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7" dur="2000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2" dur="2000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特殊句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判断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鱼，我所欲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判断句标志。  译文：鱼，是我所喜爱的东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．省略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例句：向为身死而不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面省略了介词的宾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礼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面省略了宾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施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全句省略了主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译文：从前我为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礼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宁愿死也不接受施舍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2" name="Picture 3" descr="手指"/>
          <p:cNvPicPr/>
          <p:nvPr/>
        </p:nvPicPr>
        <p:blipFill>
          <a:blip r:embed="rId2"/>
          <a:stretch/>
        </p:blipFill>
        <p:spPr>
          <a:xfrm>
            <a:off x="7020000" y="5692680"/>
            <a:ext cx="1152360" cy="936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9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4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9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4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9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4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4" dur="5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9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40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六、虚词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之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4000" y="837720"/>
            <a:ext cx="8640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助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行道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弗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此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谓失其本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如使人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欲莫甚于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代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呼尔而与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人皆有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今为宫室之美为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995640" y="1263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140360" y="175248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提前，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5580000" y="22860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助词，无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76720" y="3276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2987640" y="3789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羞恶之心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924360" y="434340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不辨礼义而受之这件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04920" y="490392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、于：介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所恶有甚于死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万钟于我何加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4572000" y="54212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比较，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4067280" y="61405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对象，对、对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介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向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身死而不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今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宫室之美而为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动词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今为宫室之美而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故不</a:t>
            </a:r>
            <a:r>
              <a:rPr b="1" lang="zh-CN" sz="3200" spc="-1" strike="noStrike">
                <a:solidFill>
                  <a:srgbClr val="dc59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苟得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886200" y="13716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800600" y="1981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为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4800600" y="3124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做，接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4267080" y="36576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24000" y="4437000"/>
            <a:ext cx="8305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、则：连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万钟则不辨礼义而受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由是则生而有不用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5105520" y="526428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假设，如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5105520" y="59119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示结果，就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-360" y="475920"/>
            <a:ext cx="859140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而：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连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舍鱼而取熊掌者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由是则生而有不用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呼尔而与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万钟则不辨礼义而受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向为身死而不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今为所识穷乏者得我而为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788000" y="1125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并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076720" y="1916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转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4356000" y="2565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示修饰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5292720" y="321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4716360" y="400536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4356000" y="39337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顺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6443640" y="458136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顺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nodeType="clickEffect" fill="hold">
                      <p:stCondLst>
                        <p:cond delay="indefinite"/>
                      </p:stCondLst>
                      <p:childTnLst>
                        <p:par>
                          <p:cTn id="1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孟子的名言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富贵不能淫，贫贱不能移，威武不能屈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、老吾老以及人之老，幼吾幼以及人之幼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生于忧患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死于安乐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、得道多助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失道寡助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、天降大任于是人也，必先苦其心志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劳其筋骨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饿其体肤。</a:t>
            </a:r>
            <a:endParaRPr b="0" lang="en-US" sz="3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23640" y="848880"/>
            <a:ext cx="8667720" cy="55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对比阅读以下几则材料，联系课文说说它们各自表现出了怎样的价值取向。 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一：富贵不能淫，贫贱不能移，威武不能屈，此之谓大丈夫。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孟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二：生命诚可贵，爱情价更高。若为自由故，二者皆可抛。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匈牙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裴多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三：人生自古谁无死，留取丹心照汗青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天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材料四：砍头不要紧，只要主义真。杀了夏明翰，还有后来人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夏明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7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8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7" dur="8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8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8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8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8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8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8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nodeType="clickEffect" fill="hold">
                      <p:stCondLst>
                        <p:cond delay="indefinite"/>
                      </p:stCondLst>
                      <p:childTnLst>
                        <p:par>
                          <p:cTn id="1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8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8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8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8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nodeType="clickEffect" fill="hold">
                      <p:stCondLst>
                        <p:cond delay="indefinite"/>
                      </p:stCondLst>
                      <p:childTnLst>
                        <p:par>
                          <p:cTn id="1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8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8" dur="8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8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8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分析下列各句中的“义”的不同，并说出你读过这些“义”的感受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5995800" cy="27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孟子：义我所欲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三国刘关张：桃园三结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岳飞、文天祥：凛然大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红岩英烈：气贯长虹、义薄云天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4653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忠君报国的“忠义”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生俱来的一种本心“羞恶之心”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党对人民对国家坚贞不渝的信念。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士为知已者死的“仗义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733800" y="1887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(B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2421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(D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732720" y="2924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(A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32720" y="342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(C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3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8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随着时代的发展，“义”的内涵发生了变化。我们现在所说的“义”是指社会公义，“利”指一己之私利，即个人利益要服从于集体利益、国家利益以至民族利益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当今社会，面对越来越多的诱惑，面对人生的各种考验，我们应该作出正确的抉择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它告诫我们不辨礼义而贪求富贵，见利忘义的行为是不可取的。作为新一代的青少年，我们应有高尚的追求与信仰，掌握丰富的科学文化知识，服务社会，造福未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7315200" y="5638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60" name="Picture 4" descr="手指"/>
          <p:cNvPicPr/>
          <p:nvPr/>
        </p:nvPicPr>
        <p:blipFill>
          <a:blip r:embed="rId2"/>
          <a:stretch/>
        </p:blipFill>
        <p:spPr>
          <a:xfrm>
            <a:off x="7381800" y="6073920"/>
            <a:ext cx="1152720" cy="936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0336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给下列加色字注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恶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)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食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豆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      )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2387160" y="1413000"/>
            <a:ext cx="9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ｗ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2705040" y="1989000"/>
            <a:ext cx="142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ｄ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ｎ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2962080" y="2565360"/>
            <a:ext cx="17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ē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ｎ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955520" y="3284640"/>
            <a:ext cx="99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ｃ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ù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2331360" y="3860640"/>
            <a:ext cx="146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ｇ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ǒ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2355480" y="4508640"/>
            <a:ext cx="12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ｘｉ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nodeType="clickEffect" fill="hold">
                      <p:stCondLst>
                        <p:cond delay="indefinite"/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２、指出通假字，并说明其词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向为生死而不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识穷乏者得我与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钟则不辩礼义而受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故患有所不辟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771560" y="603972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辟”通“避”；躲避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1257120" y="1700280"/>
            <a:ext cx="237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向”；从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923120" y="299736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得”通“德”；恩惠，此作感激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1923120" y="3500280"/>
            <a:ext cx="512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与”通“欤”；语气词，无实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1411200" y="47242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辩”通“辨”；辨别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95248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３、解释下列句子中加色的字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者不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得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）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如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人之所欲莫甚于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    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此之谓失其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本心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 　）　　　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贤者能勿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   　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所不辟也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)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呼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与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          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5054400" y="141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同时占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6400800" y="21178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使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假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932360" y="285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天性、本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5659560" y="34290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丧失、丢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6162840" y="41148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祸患、突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4273560" y="4800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助词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380880" y="99072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24000" y="814320"/>
            <a:ext cx="84582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比较下列各组加点的词，看看意思是否相同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所识穷乏者得我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蹴尔而与之，乞人不屑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呼尔而与之，行道之人弗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由是则生而有不用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所欲有甚于生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万钟于我何加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非独贤者有是心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是亦不可以已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4017960" y="152388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通“欤”，语气词，表示反问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181480" y="22654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给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562720" y="2874960"/>
            <a:ext cx="31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表示修饰，连接修饰语和中心语。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4419720" y="36370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但是，表转折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657600" y="4170240"/>
            <a:ext cx="39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比，介词。表示比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3733920" y="485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对，介词。引出动作的对象。）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4114800" y="55418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指示代词。这个，这样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809880" y="6151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这样看来，由此看来。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2575080"/>
            <a:ext cx="91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非独贤者有是心也，人皆有之，贤者能勿丧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万钟于我何加焉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此之谓失其本心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36520" y="57913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就叫做失去了本来的良心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就是忘了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28600" y="46483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优厚的俸禄对我有什么好处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1683360" y="806400"/>
            <a:ext cx="55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是故所欲有甚于生者，所恶有甚于死者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152280" y="144792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由此可见，人们所想要的东西有比生命更重要的，人们所厌恶的东西，有比死更厉害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143000" y="3124080"/>
            <a:ext cx="77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只是有道德的人有这心，人人都有这颗心 ，只是有道德的人能永远不失去它罢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986120" y="18252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彩云"/>
                <a:ea typeface="华文彩云"/>
              </a:rPr>
              <a:t>练习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：翻译下列句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914" dur="indefinite" restart="never" nodeType="tmRoot">
          <p:childTnLst>
            <p:seq>
              <p:cTn id="1915" dur="indefinite" nodeType="mainSeq">
                <p:childTnLst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457200" y="152280"/>
            <a:ext cx="82836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问答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课文中哪句话可以概括全篇的大意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990720" y="4419720"/>
            <a:ext cx="426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80880" y="32004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文中两次提到“心”，在第一节中说：“非独贤者有是心也，人皆有之，贤者能勿丧耳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!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文章最后又说：“此之谓失其本心。”句中“是心”、“本心”各指什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请依据原文回答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0" y="5105520"/>
            <a:ext cx="91440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心”就是能够做到“舍生取义”的心，“是心”就是“这样的思想”。其义与“本心”相同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有四种“本心”：同情心、羞耻心、恭敬心、是非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85800" y="2362320"/>
            <a:ext cx="769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914400" y="1828800"/>
            <a:ext cx="76960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，亦我所欲也，义，亦我所欲也，二者不可得兼，舍生而取义者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937" dur="indefinite" restart="never" nodeType="tmRoot">
          <p:childTnLst>
            <p:seq>
              <p:cTn id="1938" dur="indefinite" nodeType="mainSeq">
                <p:childTnLst>
                  <p:par>
                    <p:cTn id="1939" nodeType="clickEffect" fill="hold">
                      <p:stCondLst>
                        <p:cond delay="indefinite"/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nodeType="clickEffect" fill="hold">
                      <p:stCondLst>
                        <p:cond delay="indefinite"/>
                      </p:stCondLst>
                      <p:childTnLst>
                        <p:par>
                          <p:cTn id="1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本文选自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孟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告子上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黑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告子上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的主要内容是阐明“性善说”，即人性里天生就有向善的种子，这种善的天性，就是人的“本心”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黑体"/>
              </a:rPr>
              <a:t>本文讲的是每个人都有“本心”，无论在什么情况下，人都应该保有自己的“本心”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  <a:ea typeface="华文行楷"/>
              </a:rPr>
              <a:t>课文朗读，要求：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对照朗读和注释扫除语音障碍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有不懂的字、句勾划出来，准备进行质疑；有特别欣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赏的语句也请勾划下来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准备进行交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参考注释理解文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大意 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3" name="Picture 4" descr="一起来吧 拷贝"/>
          <p:cNvPicPr/>
          <p:nvPr/>
        </p:nvPicPr>
        <p:blipFill>
          <a:blip r:embed="rId2"/>
          <a:stretch/>
        </p:blipFill>
        <p:spPr>
          <a:xfrm>
            <a:off x="6227640" y="3141720"/>
            <a:ext cx="2654280" cy="35053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8"/>
          <p:cNvSpPr txBox="1"/>
          <p:nvPr/>
        </p:nvSpPr>
        <p:spPr>
          <a:xfrm>
            <a:off x="395280" y="260280"/>
            <a:ext cx="10126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听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正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苟得也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é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动词，做，干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动词，厌恶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箪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ān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古代盛饭用的圆竹器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羹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gēng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汤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蹴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黑体"/>
              </a:rPr>
              <a:t>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践踏食物的样子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宫室之美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介词，为了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8930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正句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所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有甚于生者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如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之所欲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莫甚于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呼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而与之，行道之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弗受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身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而不受，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宫室之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所识穷乏者得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而为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隶书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万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则不辩礼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而受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是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/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亦不可以已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8:58:54Z</dcterms:created>
  <dc:creator>赵晨芳</dc:creator>
  <dc:description/>
  <dc:language>en-US</dc:language>
  <cp:lastModifiedBy>微软用户</cp:lastModifiedBy>
  <dcterms:modified xsi:type="dcterms:W3CDTF">2013-01-04T08:54:07Z</dcterms:modified>
  <cp:revision>81</cp:revision>
  <dc:subject/>
  <dc:title>第19课 鱼我所欲也</dc:title>
</cp:coreProperties>
</file>