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5.gif" ContentType="image/gif"/>
  <Override PartName="/ppt/media/image13.png" ContentType="image/png"/>
  <Override PartName="/ppt/media/image6.jpeg" ContentType="image/jpeg"/>
  <Override PartName="/ppt/media/applause.wav" ContentType="audio/x-wav"/>
  <Override PartName="/ppt/media/image4.gif" ContentType="image/gif"/>
  <Override PartName="/ppt/media/image1.jpeg" ContentType="image/jpeg"/>
  <Override PartName="/ppt/media/image3.jpeg" ContentType="image/jpeg"/>
  <Override PartName="/ppt/media/laser.wav" ContentType="audio/x-wav"/>
  <Override PartName="/ppt/media/projctor.wav" ContentType="audio/x-wav"/>
  <Override PartName="/ppt/media/msg.wav" ContentType="audio/x-wav"/>
  <Override PartName="/ppt/media/image14.png" ContentType="image/png"/>
  <Override PartName="/ppt/media/camera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type.wav" ContentType="audio/x-wav"/>
  <Override PartName="/ppt/media/chimes.wav" ContentType="audio/x-wav"/>
  <Override PartName="/ppt/media/image1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AAF7-F3C2-4488-B8EC-7130394F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8E2-EE03-4C63-8981-3F81C36C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C4A-4828-41B8-9476-8BD2D03D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199-B76E-4AE8-94C2-DBFA136E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8AB-D4A7-4D15-8006-C03DD0FC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F55-3671-47C0-8B09-1D78995D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675-A595-4358-99AA-31D823B5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E72-1966-464D-B170-A4889A9F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88A-8B9B-4CD1-8FDD-8CF65DD6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EB9-FA44-4948-88DA-5C76C94F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936-9CB1-4A66-B6CF-84EB81C8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959-437B-49D2-B08C-16BC2A4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701A-8305-489C-80AC-D5CFC3F6ED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file:///../../001&#22791;&#20221;&#26448;&#26009;/&#37257;&#32705;&#20141;&#35760;/&#20154;&#25945;&#29256;&#35821;&#25991;&#20843;&#24180;&#32423;&#65288;&#19979;&#65289;&#35838;&#20214;&#30446;&#24405;(&#19979;&#32534;).ppt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audio" Target="../media/msg.wav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projctor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projctor.wav"/><Relationship Id="rId10" Type="http://schemas.openxmlformats.org/officeDocument/2006/relationships/audio" Target="../media/laser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audio" Target="../media/projctor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200712865825"/>
          <p:cNvPicPr/>
          <p:nvPr/>
        </p:nvPicPr>
        <p:blipFill>
          <a:blip r:embed="rId3"/>
          <a:stretch/>
        </p:blipFill>
        <p:spPr>
          <a:xfrm>
            <a:off x="0" y="0"/>
            <a:ext cx="63723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72360" y="5300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欧阳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24680" y="620640"/>
            <a:ext cx="11858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醉翁亭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132000" y="1125000"/>
            <a:ext cx="571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积累文言词汇，熟练背诵全文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、学习本文由景生情、情景交融的写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、理解作者寄情山水的情怀和“与民同乐”的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6160" y="1268280"/>
            <a:ext cx="10033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黑体"/>
                <a:ea typeface="黑体"/>
              </a:rPr>
              <a:t>学 习 目 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262560" y="6581880"/>
            <a:ext cx="2881080" cy="276120"/>
            <a:chOff x="6262560" y="6581880"/>
            <a:chExt cx="2881080" cy="276120"/>
          </a:xfrm>
        </p:grpSpPr>
        <p:pic>
          <p:nvPicPr>
            <p:cNvPr id="113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262560" y="6581880"/>
              <a:ext cx="6800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6994080" y="6581880"/>
              <a:ext cx="68040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732800" y="6581880"/>
              <a:ext cx="68040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63600" y="6581880"/>
              <a:ext cx="68004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ver dir="l"/>
    <p:sndAc>
      <p:stSnd>
        <p:snd r:embed="rId8" name="msg.wav"/>
      </p:stSnd>
    </p:sndAc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484360" y="2565360"/>
            <a:ext cx="428940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疏通文意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9" name="Picture 4" descr="11"/>
          <p:cNvPicPr/>
          <p:nvPr/>
        </p:nvPicPr>
        <p:blipFill>
          <a:blip r:embed="rId3"/>
          <a:stretch/>
        </p:blipFill>
        <p:spPr>
          <a:xfrm>
            <a:off x="6732720" y="4049640"/>
            <a:ext cx="2620800" cy="2808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启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环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滁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皆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山也。其西南诸峰，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林 壑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尤美，望之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蔚然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而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深秀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者，琅琊也。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山 行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六七里，渐闻水声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潺潺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而泻出于两峰之间者，酿泉也。峰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回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路转，有亭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翼然 临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于泉上者，醉翁亭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116000" y="2349360"/>
            <a:ext cx="1752480" cy="459720"/>
          </a:xfrm>
          <a:prstGeom prst="rect">
            <a:avLst/>
          </a:prstGeom>
          <a:solidFill>
            <a:srgbClr val="cc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茂盛的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443640" y="4724280"/>
            <a:ext cx="1017720" cy="459720"/>
          </a:xfrm>
          <a:prstGeom prst="rect">
            <a:avLst/>
          </a:prstGeom>
          <a:solidFill>
            <a:srgbClr val="cc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靠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716360" y="2349360"/>
            <a:ext cx="2971800" cy="459720"/>
          </a:xfrm>
          <a:prstGeom prst="rect">
            <a:avLst/>
          </a:prstGeom>
          <a:solidFill>
            <a:srgbClr val="cc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在山上，名词作状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798440" y="3579840"/>
            <a:ext cx="2923920" cy="459720"/>
          </a:xfrm>
          <a:prstGeom prst="rect">
            <a:avLst/>
          </a:prstGeom>
          <a:solidFill>
            <a:srgbClr val="cc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像鸟张开翅膀的样子，名词作状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15760" y="1143000"/>
            <a:ext cx="546480" cy="459720"/>
          </a:xfrm>
          <a:prstGeom prst="rect">
            <a:avLst/>
          </a:prstGeom>
          <a:solidFill>
            <a:srgbClr val="cc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环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600200" y="1146960"/>
            <a:ext cx="1143000" cy="459720"/>
          </a:xfrm>
          <a:prstGeom prst="rect">
            <a:avLst/>
          </a:prstGeom>
          <a:solidFill>
            <a:srgbClr val="cc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全、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5940360" y="1199520"/>
            <a:ext cx="838440" cy="459720"/>
          </a:xfrm>
          <a:prstGeom prst="rect">
            <a:avLst/>
          </a:prstGeom>
          <a:solidFill>
            <a:srgbClr val="cc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树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6732720" y="191520"/>
            <a:ext cx="838080" cy="459720"/>
          </a:xfrm>
          <a:prstGeom prst="rect">
            <a:avLst/>
          </a:prstGeom>
          <a:solidFill>
            <a:srgbClr val="cc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山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6948360" y="1343880"/>
            <a:ext cx="533520" cy="459720"/>
          </a:xfrm>
          <a:prstGeom prst="rect">
            <a:avLst/>
          </a:prstGeom>
          <a:solidFill>
            <a:srgbClr val="cc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1908000" y="4799880"/>
            <a:ext cx="2362320" cy="459720"/>
          </a:xfrm>
          <a:prstGeom prst="rect">
            <a:avLst/>
          </a:prstGeom>
          <a:solidFill>
            <a:srgbClr val="cc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回环，曲折环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987640" y="1341360"/>
            <a:ext cx="1584360" cy="459720"/>
          </a:xfrm>
          <a:prstGeom prst="rect">
            <a:avLst/>
          </a:prstGeom>
          <a:solidFill>
            <a:srgbClr val="cc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幽深秀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68360" y="3500640"/>
            <a:ext cx="3186000" cy="459720"/>
          </a:xfrm>
          <a:prstGeom prst="rect">
            <a:avLst/>
          </a:prstGeom>
          <a:solidFill>
            <a:srgbClr val="cc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拟声词，形容水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189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内容占位符 2"/>
          <p:cNvSpPr/>
          <p:nvPr/>
        </p:nvSpPr>
        <p:spPr>
          <a:xfrm>
            <a:off x="250920" y="5229360"/>
            <a:ext cx="85406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468360" y="836640"/>
            <a:ext cx="8424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环绕着滁州城的四面都是山。它西南方向的许多山峰，树林和山谷尤其优美，远远望去树木茂盛又幽深又秀丽的，是琅琊山。沿着山路走六七里，渐渐听到水声潺潺，从两座山峰中间倾泻出来的，是酿泉。山势回环，路也跟着拐弯，有个亭子四角翘起，像鸟张开翅膀一样，高踞在泉水之上的，是醉翁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启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作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亭者谁？山之僧智仙也。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之者谁？太守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自谓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也。太守与客来饮于此，饮少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辄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醉，而年又最高，故自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号 曰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醉翁也。醉翁之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意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不在酒，在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乎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山水之间也。山水之乐，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得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之心而</a:t>
            </a:r>
            <a:r>
              <a:rPr b="1" lang="zh-CN" sz="3200" spc="-1" strike="noStrike">
                <a:solidFill>
                  <a:srgbClr val="ff0000"/>
                </a:solidFill>
                <a:latin typeface="迷你简启体"/>
              </a:rPr>
              <a:t>寓</a:t>
            </a:r>
            <a:r>
              <a:rPr b="1" lang="zh-CN" sz="3200" spc="-1" strike="noStrike">
                <a:solidFill>
                  <a:srgbClr val="000000"/>
                </a:solidFill>
                <a:latin typeface="迷你简启体"/>
              </a:rPr>
              <a:t>之酒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09480" y="2286000"/>
            <a:ext cx="3818160" cy="457200"/>
          </a:xfrm>
          <a:prstGeom prst="rect">
            <a:avLst/>
          </a:prstGeom>
          <a:solidFill>
            <a:srgbClr val="cc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自称，用自己的别号来命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724360" y="1125360"/>
            <a:ext cx="2735280" cy="459720"/>
          </a:xfrm>
          <a:prstGeom prst="rect">
            <a:avLst/>
          </a:prstGeom>
          <a:solidFill>
            <a:srgbClr val="cc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名词做动词，命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7304040" y="2276640"/>
            <a:ext cx="363600" cy="459720"/>
          </a:xfrm>
          <a:prstGeom prst="rect">
            <a:avLst/>
          </a:prstGeom>
          <a:solidFill>
            <a:srgbClr val="cc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172880" y="4437000"/>
            <a:ext cx="546480" cy="459720"/>
          </a:xfrm>
          <a:prstGeom prst="rect">
            <a:avLst/>
          </a:prstGeom>
          <a:solidFill>
            <a:srgbClr val="cc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情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55640" y="1128960"/>
            <a:ext cx="838080" cy="459720"/>
          </a:xfrm>
          <a:prstGeom prst="rect">
            <a:avLst/>
          </a:prstGeom>
          <a:solidFill>
            <a:srgbClr val="cc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建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43280" y="3432240"/>
            <a:ext cx="838440" cy="459720"/>
          </a:xfrm>
          <a:prstGeom prst="rect">
            <a:avLst/>
          </a:prstGeom>
          <a:solidFill>
            <a:srgbClr val="cc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取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5651640" y="3360960"/>
            <a:ext cx="838080" cy="459720"/>
          </a:xfrm>
          <a:prstGeom prst="rect">
            <a:avLst/>
          </a:prstGeom>
          <a:solidFill>
            <a:srgbClr val="cc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称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3276720" y="4511880"/>
            <a:ext cx="1447560" cy="459720"/>
          </a:xfrm>
          <a:prstGeom prst="rect">
            <a:avLst/>
          </a:prstGeom>
          <a:solidFill>
            <a:srgbClr val="cc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于，介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619280" y="5592960"/>
            <a:ext cx="838080" cy="459720"/>
          </a:xfrm>
          <a:prstGeom prst="rect">
            <a:avLst/>
          </a:prstGeom>
          <a:solidFill>
            <a:srgbClr val="cc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领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3132000" y="5664600"/>
            <a:ext cx="838440" cy="459720"/>
          </a:xfrm>
          <a:prstGeom prst="rect">
            <a:avLst/>
          </a:prstGeom>
          <a:solidFill>
            <a:srgbClr val="ccff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寄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404640"/>
            <a:ext cx="17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611280" y="5445000"/>
            <a:ext cx="82296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611280" y="907920"/>
            <a:ext cx="83581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造亭子的人是谁？是山中的和尚智仙。给它取名的人是谁？是太守用自己的别号（醉翁）来命名。太守和客人来这里喝酒，喝了少许就醉了，而年龄又最大，所以给自己取了个别号叫“醉翁。醉翁的情趣不在于喝酒，而在于山水之间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欣赏山水的乐趣，领会在心里，寄托在喝酒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"/>
          <p:cNvSpPr/>
          <p:nvPr/>
        </p:nvSpPr>
        <p:spPr>
          <a:xfrm>
            <a:off x="457200" y="303120"/>
            <a:ext cx="838188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启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若 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林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霏 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云归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岩穴 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明变化者，山间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暮也。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芳 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幽香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阴，风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洁，水落而石出者，山间之四时也。朝而往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归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四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景不同，而乐亦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5724360" y="2565360"/>
            <a:ext cx="83844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香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268360" y="2637000"/>
            <a:ext cx="89244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茂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7667640" y="4797360"/>
            <a:ext cx="83808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四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948360" y="404640"/>
            <a:ext cx="91440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昏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539640" y="1486800"/>
            <a:ext cx="101916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像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979640" y="1486800"/>
            <a:ext cx="173664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就，表顺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3132000" y="408240"/>
            <a:ext cx="83844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雾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4211640" y="408240"/>
            <a:ext cx="83808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散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6084720" y="1416240"/>
            <a:ext cx="83844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山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7740720" y="1416240"/>
            <a:ext cx="83808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阴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3851280" y="2567880"/>
            <a:ext cx="91440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早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5940360" y="4799880"/>
            <a:ext cx="83844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傍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6877080" y="2495880"/>
            <a:ext cx="83808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开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403280" y="3719880"/>
            <a:ext cx="114300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美好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3203640" y="3718800"/>
            <a:ext cx="114300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浓郁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8"/>
          <p:cNvSpPr/>
          <p:nvPr/>
        </p:nvSpPr>
        <p:spPr>
          <a:xfrm>
            <a:off x="5003640" y="3719880"/>
            <a:ext cx="83844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高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4427640" y="5880240"/>
            <a:ext cx="91440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穷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9640" y="260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1680" y="5589720"/>
            <a:ext cx="85406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3964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像那太阳出来树林中的雾气消散，烟云聚拢来，山谷就显得昏暗了，黑暗与光明交替变化，就是山间的早晨和晚上。野花开了，有一股清幽的香味，秀丽的树繁茂成阴；秋高气爽凝霜洁白；水面下降隐石出现；这是山里的四季的景色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早晨上山，傍晚返回，四季的景色不同，而乐趣也是无穷无尽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380880" y="471600"/>
            <a:ext cx="822960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至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负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歌于途，行者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树，前者呼，后者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伛偻 提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往来而不绝者，滁人游也。临溪而渔，溪深而鱼肥，酿泉为酒，泉香而酒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山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杂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陈者，太守宴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755040" y="5084640"/>
            <a:ext cx="1826640" cy="459720"/>
          </a:xfrm>
          <a:prstGeom prst="rect">
            <a:avLst/>
          </a:prstGeom>
          <a:solidFill>
            <a:srgbClr val="ccff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在前面，名词作状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853280" y="549360"/>
            <a:ext cx="1278000" cy="459720"/>
          </a:xfrm>
          <a:prstGeom prst="rect">
            <a:avLst/>
          </a:prstGeom>
          <a:solidFill>
            <a:srgbClr val="ccff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背着东西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701960" y="3933720"/>
            <a:ext cx="546480" cy="459720"/>
          </a:xfrm>
          <a:prstGeom prst="rect">
            <a:avLst/>
          </a:prstGeom>
          <a:solidFill>
            <a:srgbClr val="ccff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野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5206680" y="5084640"/>
            <a:ext cx="546480" cy="459720"/>
          </a:xfrm>
          <a:prstGeom prst="rect">
            <a:avLst/>
          </a:prstGeom>
          <a:solidFill>
            <a:srgbClr val="ccff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菜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6400080" y="3933720"/>
            <a:ext cx="1095120" cy="459720"/>
          </a:xfrm>
          <a:prstGeom prst="rect">
            <a:avLst/>
          </a:prstGeom>
          <a:solidFill>
            <a:srgbClr val="ccff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错杂的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219640" y="552600"/>
            <a:ext cx="838440" cy="459720"/>
          </a:xfrm>
          <a:prstGeom prst="rect">
            <a:avLst/>
          </a:prstGeom>
          <a:solidFill>
            <a:srgbClr val="ccff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休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124000" y="2711520"/>
            <a:ext cx="838440" cy="459720"/>
          </a:xfrm>
          <a:prstGeom prst="rect">
            <a:avLst/>
          </a:prstGeom>
          <a:solidFill>
            <a:srgbClr val="ccff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应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3924360" y="2784600"/>
            <a:ext cx="4191120" cy="459720"/>
          </a:xfrm>
          <a:prstGeom prst="rect">
            <a:avLst/>
          </a:prstGeom>
          <a:solidFill>
            <a:srgbClr val="ccff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搀扶，带领，这里指代小孩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2484360" y="1703520"/>
            <a:ext cx="3886200" cy="459720"/>
          </a:xfrm>
          <a:prstGeom prst="rect">
            <a:avLst/>
          </a:prstGeom>
          <a:solidFill>
            <a:srgbClr val="ccff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腰背弯曲，这里指代老年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3703320" y="5013360"/>
            <a:ext cx="363600" cy="459720"/>
          </a:xfrm>
          <a:prstGeom prst="rect">
            <a:avLst/>
          </a:prstGeom>
          <a:solidFill>
            <a:srgbClr val="ccff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11280" y="33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539640" y="949320"/>
            <a:ext cx="810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至于背着东西的人在路上唱歌，走路的人在树下休息，前面的人呼唤，后面的人答应。老老少少的行人，来来往往络绎不绝的，是滁州的人们出游啊。到溪边来钓鱼，溪水深鱼儿肥，用酿泉的水酿酒，泉水清甜而酒水香醇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山中的野味野菜，杂乱地摆放在前面的，这是太守的酒宴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8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424720" cy="571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醉翁亭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坐落于安徽省滁州市西南琅琊山麓，与北京陶然亭、长沙爱晚亭、杭州湖心亭并称为“中国四大名亭”。醉翁亭是安徽省著名古迹之一，宋代大散文家欧阳修写的传世之作《醉翁亭记》写的就是此亭。醉翁亭小巧独特，具有江南亭台特色。它紧靠峻峭的山壁，飞檐凌空挑出。数百年来虽屡次遭劫，又屡次复建，终不为人所忘。解放后，醉翁亭列为省级重点文物保护单位，并多次整修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3529080" cy="1052280"/>
            <a:chOff x="0" y="0"/>
            <a:chExt cx="3529080" cy="1052280"/>
          </a:xfrm>
        </p:grpSpPr>
        <p:sp>
          <p:nvSpPr>
            <p:cNvPr id="48" name="Text Box 6"/>
            <p:cNvSpPr/>
            <p:nvPr/>
          </p:nvSpPr>
          <p:spPr>
            <a:xfrm>
              <a:off x="144360" y="142920"/>
              <a:ext cx="3240360" cy="642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资料链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0"/>
              <a:ext cx="3529080" cy="1052280"/>
              <a:chOff x="0" y="0"/>
              <a:chExt cx="3529080" cy="1052280"/>
            </a:xfrm>
          </p:grpSpPr>
          <p:pic>
            <p:nvPicPr>
              <p:cNvPr id="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36720" cy="10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2360" y="0"/>
                <a:ext cx="936720" cy="105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2"/>
          <p:cNvSpPr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宴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乐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非丝非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射者中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者胜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觥 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错，起坐而喧哗者，众宾欢也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苍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白发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颓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乎其间者，太守醉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4920" y="4653000"/>
            <a:ext cx="1278000" cy="459720"/>
          </a:xfrm>
          <a:prstGeom prst="rect">
            <a:avLst/>
          </a:prstGeom>
          <a:solidFill>
            <a:srgbClr val="cc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醉醺醺的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877080" y="1773360"/>
            <a:ext cx="838080" cy="459720"/>
          </a:xfrm>
          <a:prstGeom prst="rect">
            <a:avLst/>
          </a:prstGeom>
          <a:solidFill>
            <a:srgbClr val="cc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下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203640" y="1776600"/>
            <a:ext cx="1752480" cy="459720"/>
          </a:xfrm>
          <a:prstGeom prst="rect">
            <a:avLst/>
          </a:prstGeom>
          <a:solidFill>
            <a:srgbClr val="cc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不在于音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611280" y="3144960"/>
            <a:ext cx="884160" cy="459720"/>
          </a:xfrm>
          <a:prstGeom prst="rect">
            <a:avLst/>
          </a:prstGeom>
          <a:solidFill>
            <a:srgbClr val="cc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酒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908000" y="3144960"/>
            <a:ext cx="863640" cy="459720"/>
          </a:xfrm>
          <a:prstGeom prst="rect">
            <a:avLst/>
          </a:prstGeom>
          <a:solidFill>
            <a:srgbClr val="cc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酒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6956280" y="3203640"/>
            <a:ext cx="1524240" cy="459720"/>
          </a:xfrm>
          <a:prstGeom prst="rect">
            <a:avLst/>
          </a:prstGeom>
          <a:solidFill>
            <a:srgbClr val="cc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脸色苍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755640" y="1776600"/>
            <a:ext cx="1752480" cy="459720"/>
          </a:xfrm>
          <a:prstGeom prst="rect">
            <a:avLst/>
          </a:prstGeom>
          <a:solidFill>
            <a:srgbClr val="ccff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畅快地喝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3"/>
          <p:cNvSpPr/>
          <p:nvPr/>
        </p:nvSpPr>
        <p:spPr>
          <a:xfrm>
            <a:off x="0" y="4037040"/>
            <a:ext cx="8540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539640" y="148428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酒宴上畅饮的乐趣，不在于音乐，投壶的人投中了，下棋的下赢了，酒杯和酒筹交互错杂，起来坐下，大声喧哗的，是众位宾客欢乐的样子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脸色苍老，头发花白，醉醺醺地坐在众人中间，这是太守喝醉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260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"/>
          <p:cNvSpPr/>
          <p:nvPr/>
        </p:nvSpPr>
        <p:spPr>
          <a:xfrm>
            <a:off x="0" y="304920"/>
            <a:ext cx="868680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已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夕阳在山，人影散乱，太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宾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。树林荫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鸣声上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游人去而禽鸟乐也。然而禽鸟知山林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而不知人之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6443640" y="1773360"/>
            <a:ext cx="762120" cy="38088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回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2771640" y="2060640"/>
            <a:ext cx="83844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遮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95280" y="3071880"/>
            <a:ext cx="83808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跟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492360" y="3144960"/>
            <a:ext cx="236232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意思是鸟到处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4356000" y="4656240"/>
            <a:ext cx="838440" cy="45972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乐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96800" y="1709640"/>
            <a:ext cx="1744920" cy="381240"/>
          </a:xfrm>
          <a:prstGeom prst="rect">
            <a:avLst/>
          </a:prstGeom>
          <a:solidFill>
            <a:srgbClr val="cc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不久，后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11280" y="33336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译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642960" y="927000"/>
            <a:ext cx="81057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不久夕阳落山，人影纵横散乱，是太守回去，宾客跟随。树林枝叶茂密成阴，鸟儿到处鸣叫，是游人离开后禽鸟在欢乐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然而禽鸟只知道山林的乐趣，却不知道人的乐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468360" y="-243000"/>
            <a:ext cx="8229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知从太守游而乐，而不知太守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。醉能同其乐，醒能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文者，太守也。太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谁？庐陵欧阳修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227640" y="189000"/>
            <a:ext cx="1752840" cy="459720"/>
          </a:xfrm>
          <a:prstGeom prst="rect">
            <a:avLst/>
          </a:prstGeom>
          <a:solidFill>
            <a:srgbClr val="ccff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以……为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7812000" y="1125360"/>
            <a:ext cx="838440" cy="459720"/>
          </a:xfrm>
          <a:prstGeom prst="rect">
            <a:avLst/>
          </a:prstGeom>
          <a:solidFill>
            <a:srgbClr val="ccff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乐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788000" y="2568960"/>
            <a:ext cx="838080" cy="459720"/>
          </a:xfrm>
          <a:prstGeom prst="rect">
            <a:avLst/>
          </a:prstGeom>
          <a:solidFill>
            <a:srgbClr val="ccff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记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763640" y="2926800"/>
            <a:ext cx="576360" cy="459720"/>
          </a:xfrm>
          <a:prstGeom prst="rect">
            <a:avLst/>
          </a:prstGeom>
          <a:solidFill>
            <a:srgbClr val="ccff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38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译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41280" y="3298680"/>
            <a:ext cx="854064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"/>
          <p:cNvSpPr/>
          <p:nvPr/>
        </p:nvSpPr>
        <p:spPr>
          <a:xfrm>
            <a:off x="539640" y="4508640"/>
            <a:ext cx="827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人们只知道跟随太守游玩的乐趣，却不知道太守以游人的快乐为快乐。喝醉了能够同大家一起快乐，醒来能够用文章记述这乐事的人，是太守。太守是谁？是庐陵欧阳修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1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2556000" y="2421000"/>
            <a:ext cx="439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研读课文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7" name="Picture 4" descr="11"/>
          <p:cNvPicPr/>
          <p:nvPr/>
        </p:nvPicPr>
        <p:blipFill>
          <a:blip r:embed="rId3"/>
          <a:stretch/>
        </p:blipFill>
        <p:spPr>
          <a:xfrm>
            <a:off x="6732720" y="4049640"/>
            <a:ext cx="2620800" cy="2808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9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1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3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50920" y="18900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第一段：写醉翁亭的自然环境和命名的缘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-315720" y="1487520"/>
            <a:ext cx="1277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醉翁亭的自然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07800" y="5145120"/>
            <a:ext cx="5461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黑体"/>
              </a:rPr>
              <a:t>（写景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990720" y="1487520"/>
            <a:ext cx="304560" cy="4724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447920" y="11826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概述滁州的地理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3048120" y="1639800"/>
            <a:ext cx="75960" cy="533520"/>
          </a:xfrm>
          <a:prstGeom prst="downArrow">
            <a:avLst>
              <a:gd name="adj1" fmla="val 50000"/>
              <a:gd name="adj2" fmla="val 175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447920" y="2097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______</a:t>
            </a:r>
            <a:r>
              <a:rPr b="0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的西南诸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3048120" y="2706840"/>
            <a:ext cx="75960" cy="533160"/>
          </a:xfrm>
          <a:prstGeom prst="downArrow">
            <a:avLst>
              <a:gd name="adj1" fmla="val 50000"/>
              <a:gd name="adj2" fmla="val 175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1600200" y="32400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________</a:t>
            </a:r>
            <a:r>
              <a:rPr b="0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的琅琊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6"/>
          <p:cNvSpPr/>
          <p:nvPr/>
        </p:nvSpPr>
        <p:spPr>
          <a:xfrm>
            <a:off x="3048120" y="3849840"/>
            <a:ext cx="75960" cy="533160"/>
          </a:xfrm>
          <a:prstGeom prst="downArrow">
            <a:avLst>
              <a:gd name="adj1" fmla="val 50000"/>
              <a:gd name="adj2" fmla="val 175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1600200" y="4383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_________</a:t>
            </a:r>
            <a:r>
              <a:rPr b="0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的酿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8"/>
          <p:cNvSpPr/>
          <p:nvPr/>
        </p:nvSpPr>
        <p:spPr>
          <a:xfrm>
            <a:off x="3048120" y="5068800"/>
            <a:ext cx="75960" cy="533520"/>
          </a:xfrm>
          <a:prstGeom prst="downArrow">
            <a:avLst>
              <a:gd name="adj1" fmla="val 50000"/>
              <a:gd name="adj2" fmla="val 175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1600200" y="567864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_______</a:t>
            </a:r>
            <a:r>
              <a:rPr b="0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的醉翁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3"/>
          <p:cNvSpPr/>
          <p:nvPr/>
        </p:nvSpPr>
        <p:spPr>
          <a:xfrm>
            <a:off x="4859280" y="1414440"/>
            <a:ext cx="228600" cy="4876920"/>
          </a:xfrm>
          <a:prstGeom prst="downArrow">
            <a:avLst>
              <a:gd name="adj1" fmla="val 50000"/>
              <a:gd name="adj2" fmla="val 533346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5140080" y="1335240"/>
            <a:ext cx="1033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空间顺序：</a:t>
            </a:r>
            <a:r>
              <a:rPr b="0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由远而近 由面到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248520" y="194472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层层推进写出醉翁亭的目的：</a:t>
            </a:r>
            <a:r>
              <a:rPr b="0" i="1" lang="zh-CN" sz="3200" spc="-1" strike="noStrike">
                <a:solidFill>
                  <a:srgbClr val="008080"/>
                </a:solidFill>
                <a:latin typeface="Arial"/>
                <a:ea typeface="隶书"/>
              </a:rPr>
              <a:t>让读者了解醉翁亭的地理位置，并通过层层烘托，突出醉翁亭之美，起到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引人入胜</a:t>
            </a:r>
            <a:r>
              <a:rPr b="0" i="1" lang="zh-CN" sz="3200" spc="-1" strike="noStrike">
                <a:solidFill>
                  <a:srgbClr val="008080"/>
                </a:solidFill>
                <a:latin typeface="Arial"/>
                <a:ea typeface="隶书"/>
              </a:rPr>
              <a:t>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4"/>
          <p:cNvSpPr/>
          <p:nvPr/>
        </p:nvSpPr>
        <p:spPr>
          <a:xfrm>
            <a:off x="228600" y="10526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醉翁亭名的由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914400" y="15098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（叙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3276720" y="105264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新宋体-18030"/>
              </a:rPr>
              <a:t>太守自谓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5181480" y="1052640"/>
            <a:ext cx="44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（饮少辄醉，年又最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2"/>
          <p:cNvSpPr/>
          <p:nvPr/>
        </p:nvSpPr>
        <p:spPr>
          <a:xfrm>
            <a:off x="4284720" y="168264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971800" y="2119320"/>
            <a:ext cx="57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为下文埋下伏笔，结尾点出：“太守谓谁，庐陵欧阳修也”首尾呼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1523880" y="2195640"/>
            <a:ext cx="228600" cy="2057400"/>
          </a:xfrm>
          <a:prstGeom prst="downArrow">
            <a:avLst>
              <a:gd name="adj1" fmla="val 50000"/>
              <a:gd name="adj2" fmla="val 2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370080" y="234792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33"/>
                </a:solidFill>
                <a:latin typeface="Arial"/>
                <a:ea typeface="仿宋_GB2312"/>
              </a:rPr>
              <a:t>引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304920" y="44053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醉翁寄情山水的乐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1447920" y="493884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（抒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9"/>
          <p:cNvSpPr/>
          <p:nvPr/>
        </p:nvSpPr>
        <p:spPr>
          <a:xfrm>
            <a:off x="3276720" y="4292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山水之乐在于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得之心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3200400" y="5091120"/>
            <a:ext cx="52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巧妙引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乐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”并以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乐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”为线索，贯穿全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1"/>
          <p:cNvSpPr/>
          <p:nvPr/>
        </p:nvSpPr>
        <p:spPr>
          <a:xfrm>
            <a:off x="3048120" y="4253040"/>
            <a:ext cx="75960" cy="1828800"/>
          </a:xfrm>
          <a:custGeom>
            <a:avLst/>
            <a:gdLst>
              <a:gd name="textAreaLeft" fmla="*/ 48600 w 75960"/>
              <a:gd name="textAreaRight" fmla="*/ 76320 w 75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根据第一段，说出醉翁亭在滁洲的具体位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1197000"/>
            <a:ext cx="896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滁州城的西南方有琅琊山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;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沿着山走六七里酿泉之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164160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第一段由面（全景）到点（局部），自远而近，先俯后仰，有听觉，也有视觉，山、泉、亭尽收眼底，写出了醉翁亭的地理位置和优美环境。然后介绍亭的得名，引出太守，伏下一笔，把“庐陵欧阳修也”留作全篇的结句，同时一个“乐”字，也为下文的发挥作好了铺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在作者笔下，醉翁亭的远近左右都是一张山水画。有山，有泉、有林，有亭。蔚然深秀的琅琊山，风光绮丽，苍翠欲滴，以群山为背景，酿泉环绕而过，一座四角翘起的亭子立在上面，这样，山与泉相依，泉与亭相衬，一幅画中，山水亭台，一应俱全，构成诗一般的优美境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9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1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3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539640" y="189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第二段：山间朝暮及四时的不同景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471600" y="1557360"/>
            <a:ext cx="10033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山水之 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124000" y="9334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2124000" y="177336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763640" y="2637000"/>
            <a:ext cx="113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7c80"/>
                </a:solidFill>
                <a:latin typeface="黑体"/>
                <a:ea typeface="黑体"/>
              </a:rPr>
              <a:t>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2050920" y="306864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9900"/>
                </a:solidFill>
                <a:latin typeface="黑体"/>
                <a:ea typeface="黑体"/>
              </a:rPr>
              <a:t>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1979640" y="41497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ff9900"/>
                </a:solidFill>
                <a:latin typeface="黑体"/>
                <a:ea typeface="黑体"/>
              </a:rPr>
              <a:t>秋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1547640" y="5661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606060"/>
                </a:solidFill>
                <a:latin typeface="黑体"/>
                <a:ea typeface="黑体"/>
              </a:rPr>
              <a:t>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0"/>
          <p:cNvSpPr/>
          <p:nvPr/>
        </p:nvSpPr>
        <p:spPr>
          <a:xfrm>
            <a:off x="2987640" y="1365120"/>
            <a:ext cx="129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4191120" y="99360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日出而林霏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>
            <a:off x="2916360" y="2133720"/>
            <a:ext cx="129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2987640" y="3092400"/>
            <a:ext cx="1368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2987640" y="4149720"/>
            <a:ext cx="1360440" cy="3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>
            <a:off x="3059280" y="5181480"/>
            <a:ext cx="13604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V="1">
            <a:off x="3059280" y="6098760"/>
            <a:ext cx="1360440" cy="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4191120" y="1908000"/>
            <a:ext cx="27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云归而岩穴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4356000" y="2852640"/>
            <a:ext cx="26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野芳发而幽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4343400" y="388476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佳木秀而繁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0"/>
          <p:cNvSpPr/>
          <p:nvPr/>
        </p:nvSpPr>
        <p:spPr>
          <a:xfrm>
            <a:off x="4419720" y="4956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风高霜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1"/>
          <p:cNvSpPr/>
          <p:nvPr/>
        </p:nvSpPr>
        <p:spPr>
          <a:xfrm>
            <a:off x="4419720" y="5794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水落而石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22"/>
          <p:cNvSpPr txBox="1"/>
          <p:nvPr/>
        </p:nvSpPr>
        <p:spPr>
          <a:xfrm>
            <a:off x="7308720" y="836640"/>
            <a:ext cx="1440000" cy="107964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写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5" name="WordArt 23"/>
          <p:cNvSpPr txBox="1"/>
          <p:nvPr/>
        </p:nvSpPr>
        <p:spPr>
          <a:xfrm rot="5400000">
            <a:off x="5862600" y="3785400"/>
            <a:ext cx="4689720" cy="93492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分类描状，突出特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/>
          <p:nvPr/>
        </p:nvSpPr>
        <p:spPr>
          <a:xfrm>
            <a:off x="1763640" y="1052640"/>
            <a:ext cx="144360" cy="5472000"/>
          </a:xfrm>
          <a:prstGeom prst="bracePair">
            <a:avLst>
              <a:gd name="adj" fmla="val 8333"/>
            </a:avLst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322880" cy="3214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4321440" cy="317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79280" y="3500280"/>
            <a:ext cx="4318200" cy="3162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643280" y="3500280"/>
            <a:ext cx="4321440" cy="3164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304920" y="336384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山间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594520" y="237348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一日之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2272320" y="4583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四时之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1828800" y="2144880"/>
            <a:ext cx="79200" cy="3352680"/>
          </a:xfrm>
          <a:custGeom>
            <a:avLst/>
            <a:gdLst>
              <a:gd name="textAreaLeft" fmla="*/ 50760 w 79200"/>
              <a:gd name="textAreaRight" fmla="*/ 79560 w 79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33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3809880" y="2068560"/>
            <a:ext cx="114480" cy="1371600"/>
          </a:xfrm>
          <a:custGeom>
            <a:avLst/>
            <a:gdLst>
              <a:gd name="textAreaLeft" fmla="*/ 73080 w 114480"/>
              <a:gd name="textAreaRight" fmla="*/ 114840 w 1144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33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"/>
          <p:cNvSpPr/>
          <p:nvPr/>
        </p:nvSpPr>
        <p:spPr>
          <a:xfrm>
            <a:off x="3809880" y="3668760"/>
            <a:ext cx="114480" cy="2286000"/>
          </a:xfrm>
          <a:custGeom>
            <a:avLst/>
            <a:gdLst>
              <a:gd name="textAreaLeft" fmla="*/ 73080 w 114480"/>
              <a:gd name="textAreaRight" fmla="*/ 114840 w 1144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33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3962520" y="19162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日出而林霏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4038480" y="2754360"/>
            <a:ext cx="27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云归而岩穴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4067280" y="3571920"/>
            <a:ext cx="26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中宋"/>
              </a:rPr>
              <a:t>野花发而幽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3962520" y="412596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中宋"/>
              </a:rPr>
              <a:t>佳木秀而繁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3995640" y="4651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中宋"/>
              </a:rPr>
              <a:t>风高霜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3995640" y="52275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中宋"/>
              </a:rPr>
              <a:t>水落而石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6"/>
          <p:cNvSpPr/>
          <p:nvPr/>
        </p:nvSpPr>
        <p:spPr>
          <a:xfrm>
            <a:off x="6659640" y="1916280"/>
            <a:ext cx="198360" cy="3886200"/>
          </a:xfrm>
          <a:custGeom>
            <a:avLst/>
            <a:gdLst>
              <a:gd name="textAreaLeft" fmla="*/ 0 w 198360"/>
              <a:gd name="textAreaRight" fmla="*/ 71640 w 1983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99cc00"/>
          </a:solidFill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6785640" y="929520"/>
            <a:ext cx="109476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抒情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隶书"/>
              </a:rPr>
              <a:t>：</a:t>
            </a: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隶书"/>
              </a:rPr>
              <a:t>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亦无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380880" y="1128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山间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4"/>
          <p:cNvSpPr/>
          <p:nvPr/>
        </p:nvSpPr>
        <p:spPr>
          <a:xfrm>
            <a:off x="5560200" y="1052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乐亦无穷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5"/>
          <p:cNvSpPr/>
          <p:nvPr/>
        </p:nvSpPr>
        <p:spPr>
          <a:xfrm>
            <a:off x="7885080" y="4762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抒发了作者寄情山水的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左右箭头 27"/>
          <p:cNvSpPr/>
          <p:nvPr/>
        </p:nvSpPr>
        <p:spPr>
          <a:xfrm>
            <a:off x="2195640" y="836640"/>
            <a:ext cx="2952720" cy="1074600"/>
          </a:xfrm>
          <a:prstGeom prst="leftRigh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情景交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826920" y="333360"/>
            <a:ext cx="777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第三段：滁州人宾客太守游山的情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-239400" y="1557360"/>
            <a:ext cx="12776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众人游宴之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1219320" y="1219320"/>
            <a:ext cx="152280" cy="4952880"/>
          </a:xfrm>
          <a:custGeom>
            <a:avLst/>
            <a:gdLst>
              <a:gd name="textAreaLeft" fmla="*/ 97200 w 152280"/>
              <a:gd name="textAreaRight" fmla="*/ 152640 w 152280"/>
              <a:gd name="textAreaTop" fmla="*/ 128880 h 4952880"/>
              <a:gd name="textAreaBottom" fmla="*/ 48240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129528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滁人游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1332000" y="213372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太守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1295280" y="32767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众宾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1371600" y="46483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太守醉</a:t>
            </a:r>
            <a:r>
              <a:rPr b="0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2819520" y="11430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表现滁人富足、和平的生活之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2987640" y="21337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表现太守的野宴之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2819520" y="32767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表现太守与宾客的宴酣之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1403280" y="530064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（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4"/>
          <p:cNvSpPr/>
          <p:nvPr/>
        </p:nvSpPr>
        <p:spPr>
          <a:xfrm>
            <a:off x="2719440" y="421956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5"/>
          <p:cNvSpPr/>
          <p:nvPr/>
        </p:nvSpPr>
        <p:spPr>
          <a:xfrm>
            <a:off x="2871720" y="4145040"/>
            <a:ext cx="63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流露作者“与民同乐”的政治理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3184560" y="47242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显示作者治理滁州政绩显著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（滁人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1"/>
          <p:cNvSpPr/>
          <p:nvPr/>
        </p:nvSpPr>
        <p:spPr>
          <a:xfrm>
            <a:off x="3276720" y="5638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黑体"/>
              </a:rPr>
              <a:t>表现作者寄情山水的乐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5"/>
          <p:cNvSpPr/>
          <p:nvPr/>
        </p:nvSpPr>
        <p:spPr>
          <a:xfrm>
            <a:off x="76320" y="4343400"/>
            <a:ext cx="1255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情景交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与民同乐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900000" y="33336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第四段：日暮醉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1258920" y="1413000"/>
            <a:ext cx="280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太守醉游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自得其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2"/>
          <p:cNvSpPr/>
          <p:nvPr/>
        </p:nvSpPr>
        <p:spPr>
          <a:xfrm>
            <a:off x="3733920" y="1219320"/>
            <a:ext cx="380880" cy="1904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3"/>
          <p:cNvSpPr/>
          <p:nvPr/>
        </p:nvSpPr>
        <p:spPr>
          <a:xfrm>
            <a:off x="4114800" y="1066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禽鸟之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4"/>
          <p:cNvSpPr/>
          <p:nvPr/>
        </p:nvSpPr>
        <p:spPr>
          <a:xfrm>
            <a:off x="4952880" y="1523880"/>
            <a:ext cx="152640" cy="381240"/>
          </a:xfrm>
          <a:prstGeom prst="downArrow">
            <a:avLst>
              <a:gd name="adj1" fmla="val 50000"/>
              <a:gd name="adj2" fmla="val 6244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4191120" y="19051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游人之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6"/>
          <p:cNvSpPr/>
          <p:nvPr/>
        </p:nvSpPr>
        <p:spPr>
          <a:xfrm>
            <a:off x="4952880" y="2438280"/>
            <a:ext cx="152640" cy="381240"/>
          </a:xfrm>
          <a:prstGeom prst="downArrow">
            <a:avLst>
              <a:gd name="adj1" fmla="val 50000"/>
              <a:gd name="adj2" fmla="val 6244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4114800" y="28195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太守之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8"/>
          <p:cNvSpPr/>
          <p:nvPr/>
        </p:nvSpPr>
        <p:spPr>
          <a:xfrm>
            <a:off x="6019920" y="1143000"/>
            <a:ext cx="228600" cy="2286000"/>
          </a:xfrm>
          <a:prstGeom prst="downArrow">
            <a:avLst>
              <a:gd name="adj1" fmla="val 50000"/>
              <a:gd name="adj2" fmla="val 250000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9"/>
          <p:cNvSpPr/>
          <p:nvPr/>
        </p:nvSpPr>
        <p:spPr>
          <a:xfrm>
            <a:off x="5620680" y="1143000"/>
            <a:ext cx="2108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层层递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层层衬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971640" y="2708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情景交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0"/>
          <p:cNvSpPr/>
          <p:nvPr/>
        </p:nvSpPr>
        <p:spPr>
          <a:xfrm>
            <a:off x="7238880" y="3352680"/>
            <a:ext cx="1219320" cy="214812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11120 h 2148120"/>
              <a:gd name="textAreaBottom" fmla="*/ 1569240 h 21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72" stAng="-5400000" swAng="5400000"/>
                <a:lnTo>
                  <a:pt x="21600" y="11643"/>
                </a:lnTo>
                <a:arcTo wR="21600" hR="8272" stAng="0" swAng="2728079"/>
                <a:lnTo>
                  <a:pt x="7615" y="21069"/>
                </a:lnTo>
                <a:lnTo>
                  <a:pt x="0" y="18229"/>
                </a:lnTo>
                <a:lnTo>
                  <a:pt x="7615" y="14326"/>
                </a:lnTo>
                <a:lnTo>
                  <a:pt x="7615" y="16012"/>
                </a:lnTo>
                <a:arcTo wR="21600" hR="8272" stAng="2728079" swAng="-2454652"/>
                <a:lnTo>
                  <a:pt x="21147" y="9957"/>
                </a:lnTo>
                <a:arcTo wR="21600" hR="8272" stAng="-273427" swAng="-5126573"/>
                <a:close/>
              </a:path>
              <a:path fill="darkenLess" w="21600" h="21600">
                <a:moveTo>
                  <a:pt x="0" y="0"/>
                </a:moveTo>
                <a:arcTo wR="21600" hR="8272" stAng="-5400000" swAng="5400000"/>
                <a:lnTo>
                  <a:pt x="21600" y="11643"/>
                </a:lnTo>
                <a:arcTo wR="21600" hR="8272" stAng="0" swAng="-273427"/>
                <a:lnTo>
                  <a:pt x="21147" y="9957"/>
                </a:lnTo>
                <a:arcTo wR="21600" hR="8272" stAng="-273427" swAng="-5126573"/>
                <a:close/>
              </a:path>
            </a:pathLst>
          </a:custGeom>
          <a:solidFill>
            <a:srgbClr val="66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1"/>
          <p:cNvSpPr/>
          <p:nvPr/>
        </p:nvSpPr>
        <p:spPr>
          <a:xfrm>
            <a:off x="1405080" y="4149720"/>
            <a:ext cx="3095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山水之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游人之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宴酣之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禽鸟之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42"/>
          <p:cNvSpPr/>
          <p:nvPr/>
        </p:nvSpPr>
        <p:spPr>
          <a:xfrm>
            <a:off x="3348000" y="4292640"/>
            <a:ext cx="228600" cy="2057400"/>
          </a:xfrm>
          <a:custGeom>
            <a:avLst/>
            <a:gdLst>
              <a:gd name="textAreaLeft" fmla="*/ 0 w 228600"/>
              <a:gd name="textAreaRight" fmla="*/ 8244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3"/>
          <p:cNvSpPr/>
          <p:nvPr/>
        </p:nvSpPr>
        <p:spPr>
          <a:xfrm>
            <a:off x="3924360" y="4941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突出“太守之乐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7"/>
          <p:cNvSpPr/>
          <p:nvPr/>
        </p:nvSpPr>
        <p:spPr>
          <a:xfrm>
            <a:off x="714240" y="3429000"/>
            <a:ext cx="51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总共写了哪些乐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2124000" y="2637000"/>
            <a:ext cx="49150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文探究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42" name="Picture 4" descr="11"/>
          <p:cNvPicPr/>
          <p:nvPr/>
        </p:nvPicPr>
        <p:blipFill>
          <a:blip r:embed="rId3"/>
          <a:stretch/>
        </p:blipFill>
        <p:spPr>
          <a:xfrm>
            <a:off x="6877080" y="4049640"/>
            <a:ext cx="2620800" cy="2808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77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5" dur="770" fill="hold"/>
                                        <p:tgtEl>
                                          <p:spTgt spid="3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7" dur="77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9" dur="77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539640" y="765000"/>
            <a:ext cx="81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太守所乐的事情是什么？（乐其乐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914400" y="2000160"/>
            <a:ext cx="78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乐其乐：与民同乐。 人民安详富足，老人和小孩其乐融融，这跟作者励精图治有关。太守为此而乐，能与民同乐，是他的政治理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2"/>
          <p:cNvSpPr/>
          <p:nvPr/>
        </p:nvSpPr>
        <p:spPr>
          <a:xfrm>
            <a:off x="1917720" y="5335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文章点名主旨的句子是哪句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116000" y="134136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华文中宋"/>
              </a:rPr>
              <a:t>醉能同其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11"/>
          <p:cNvPicPr/>
          <p:nvPr/>
        </p:nvPicPr>
        <p:blipFill>
          <a:blip r:embed="rId3"/>
          <a:stretch/>
        </p:blipFill>
        <p:spPr>
          <a:xfrm>
            <a:off x="6877080" y="4049640"/>
            <a:ext cx="2620800" cy="28083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9"/>
          <p:cNvSpPr/>
          <p:nvPr/>
        </p:nvSpPr>
        <p:spPr>
          <a:xfrm>
            <a:off x="1547640" y="24210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5580000" y="24210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468360" y="3213000"/>
            <a:ext cx="4383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翁之意在山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于山间朝暮四时之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于游人、宾客之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于自己的乐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5364000" y="3213000"/>
            <a:ext cx="2133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山水之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游人之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宴酣之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禽鸟之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太守之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4"/>
          <p:cNvSpPr/>
          <p:nvPr/>
        </p:nvSpPr>
        <p:spPr>
          <a:xfrm>
            <a:off x="324000" y="2602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深入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500040" y="99072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ff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9966ff"/>
                </a:solidFill>
                <a:latin typeface="Arial"/>
                <a:ea typeface="黑体"/>
              </a:rPr>
              <a:t>醉”和“乐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4202640" y="5310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醉是表象，乐是实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324000" y="1752480"/>
            <a:ext cx="86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中作者“醉情山水”能不能看做是作者消沉堕落的表现呢？可以联系作者写文时的处境来考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是。因为本文秒描摹山水，看似作者在政治上受挫折后的沉沦表现，实质上，作者笔下如此美妙的胜景，抒发的自得其乐的陶醉之情，是“醉翁之意不在酒”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胜景、享乐折射出来的是作者治滁的政绩，作者醉情于山水，达到了寄情山水排遣抑郁的目的。作者醉在期中，也乐在其中。“乐”是贯穿全文的线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9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755640" y="333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56322"/>
          <p:cNvSpPr/>
          <p:nvPr/>
        </p:nvSpPr>
        <p:spPr>
          <a:xfrm>
            <a:off x="396720" y="1052640"/>
            <a:ext cx="799164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文通过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秀丽风光的</a:t>
            </a:r>
            <a:r>
              <a:rPr b="1" lang="zh-CN" sz="3600" spc="-1" strike="noStrike">
                <a:solidFill>
                  <a:srgbClr val="0099ff"/>
                </a:solidFill>
                <a:latin typeface="黑体"/>
                <a:ea typeface="黑体"/>
              </a:rPr>
              <a:t>描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对游人之乐，太守之乐的</a:t>
            </a:r>
            <a:r>
              <a:rPr b="1" lang="zh-CN" sz="3600" spc="-1" strike="noStrike">
                <a:solidFill>
                  <a:srgbClr val="0099ff"/>
                </a:solidFill>
                <a:latin typeface="黑体"/>
                <a:ea typeface="黑体"/>
              </a:rPr>
              <a:t>叙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99ff"/>
                </a:solidFill>
                <a:latin typeface="黑体"/>
                <a:ea typeface="黑体"/>
              </a:rPr>
              <a:t>抒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了作者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热爱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情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56323"/>
          <p:cNvSpPr/>
          <p:nvPr/>
        </p:nvSpPr>
        <p:spPr>
          <a:xfrm>
            <a:off x="3564000" y="105264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醉翁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56324"/>
          <p:cNvSpPr/>
          <p:nvPr/>
        </p:nvSpPr>
        <p:spPr>
          <a:xfrm>
            <a:off x="2268360" y="2133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自然风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56325"/>
          <p:cNvSpPr/>
          <p:nvPr/>
        </p:nvSpPr>
        <p:spPr>
          <a:xfrm>
            <a:off x="5940360" y="2133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与民同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56326"/>
          <p:cNvSpPr/>
          <p:nvPr/>
        </p:nvSpPr>
        <p:spPr>
          <a:xfrm>
            <a:off x="324000" y="357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黑体"/>
              </a:rPr>
              <a:t>醉”与“乐”是统一的：“醉”是表象，“乐”是实质，写醉是为了写乐，“乐”是贯穿全文的线索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叙事、写景、抒情自然融合，骈句和散句巧妙运用，读来脍炙人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11280" y="21337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本文描写了醉翁亭的秀美风光，勾勒了一幅太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与民同乐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的图画，抒发了作者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与民同乐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的政治思想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娱情山水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以排遣抑郁的复杂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26920" y="40464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中心思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979640" y="2637000"/>
            <a:ext cx="51134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知识点归纳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71" name="Picture 4" descr="11"/>
          <p:cNvPicPr/>
          <p:nvPr/>
        </p:nvPicPr>
        <p:blipFill>
          <a:blip r:embed="rId3"/>
          <a:stretch/>
        </p:blipFill>
        <p:spPr>
          <a:xfrm>
            <a:off x="6804000" y="4049640"/>
            <a:ext cx="2621160" cy="28083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77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3" dur="770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5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7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92360" y="765000"/>
            <a:ext cx="5435640" cy="1434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欧阳修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09-107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北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文学家，史学家。字永叔，号醉翁，晚年号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六一居士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江西吉水人。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丧父，母郑氏教他识字读书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能作诗赋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中进士，其后任监察御史，因为同情范仲淹遭贬斥。欧阳修是北宋中叶诗文革新运动的倡导人，他批评宋初以来追求靡丽形式的文风，大力提倡古文，主张文章要“明道”、“致用”，并且提拔和奖掖后进，著名的三苏父子、曾巩、王安石等都出自于他的门下。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著有《欧阳文忠公集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他的散文大都内容充实，气势旺盛，具有平实自然、流畅婉转的艺术风格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3492360" cy="5472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-181080" y="0"/>
            <a:ext cx="4032360" cy="981000"/>
            <a:chOff x="-181080" y="0"/>
            <a:chExt cx="4032360" cy="9810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-181080" y="0"/>
              <a:ext cx="40323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718920" y="333360"/>
              <a:ext cx="201636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0">
                    <a:noFill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</a:rPr>
                <a:t>作者简介</a:t>
              </a:r>
              <a:endParaRPr b="1" lang="en-US" sz="2000" spc="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</p:grpSp>
    </p:spTree>
  </p:cSld>
  <p:transition>
    <p:checker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057400" y="11253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文章写作手法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：写景与抒情相结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55640" y="206064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写亭四周的朝暮、四时之景，以“乐亦无穷”表现作者纵情山水之意。写滁州官民同乐的图景，极力写滁州人民在和平生活中怡然自乐和众宾尽欢的情态，并特意塑造了太守酒醉的形象，用这幅生动的风俗人情画从侧面显示出政治清明的景象，也表达了作者“与民同乐”的政治思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004480" y="620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本文写景时，是按照什么顺序写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4360" y="184464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（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l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）写亭的环境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从远到近</a:t>
            </a:r>
            <a:br>
              <a:rPr sz="4000"/>
            </a:b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（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）写山间之朝暮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从早到晚</a:t>
            </a:r>
            <a:br>
              <a:rPr sz="4000"/>
            </a:b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（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）写山间之四时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从春到冬</a:t>
            </a:r>
            <a:br>
              <a:rPr sz="4000"/>
            </a:b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（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4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）写宴饮场面：从外到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3"/>
          <p:cNvSpPr/>
          <p:nvPr/>
        </p:nvSpPr>
        <p:spPr>
          <a:xfrm>
            <a:off x="2176560" y="549360"/>
            <a:ext cx="750888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亭翼然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于泉上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溪而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卷卷有爷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山不在高，有仙则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者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云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岩穴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太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宾客从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山水之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不知太守之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游人去而禽鸟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4"/>
          <p:cNvSpPr/>
          <p:nvPr/>
        </p:nvSpPr>
        <p:spPr>
          <a:xfrm>
            <a:off x="2197080" y="765000"/>
            <a:ext cx="289080" cy="649440"/>
          </a:xfrm>
          <a:custGeom>
            <a:avLst/>
            <a:gdLst>
              <a:gd name="textAreaLeft" fmla="*/ 184680 w 289080"/>
              <a:gd name="textAreaRight" fmla="*/ 289080 w 2890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2268360" y="1628640"/>
            <a:ext cx="144720" cy="1152720"/>
          </a:xfrm>
          <a:custGeom>
            <a:avLst/>
            <a:gdLst>
              <a:gd name="textAreaLeft" fmla="*/ 92520 w 144720"/>
              <a:gd name="textAreaRight" fmla="*/ 145080 w 1447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2268360" y="2997360"/>
            <a:ext cx="73080" cy="792000"/>
          </a:xfrm>
          <a:custGeom>
            <a:avLst/>
            <a:gdLst>
              <a:gd name="textAreaLeft" fmla="*/ 46800 w 73080"/>
              <a:gd name="textAreaRight" fmla="*/ 7344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2197080" y="4005360"/>
            <a:ext cx="216000" cy="122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6157800" y="620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靠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4768920" y="1052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5345280" y="1413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名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5992920" y="19162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出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4697280" y="2492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给……命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5272200" y="2924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聚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5797440" y="3357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回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5272200" y="3860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乐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6"/>
          <p:cNvSpPr/>
          <p:nvPr/>
        </p:nvSpPr>
        <p:spPr>
          <a:xfrm>
            <a:off x="5942160" y="436572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以……为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5942160" y="4869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欢乐，形容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2505240" y="532764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又最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9"/>
          <p:cNvSpPr/>
          <p:nvPr/>
        </p:nvSpPr>
        <p:spPr>
          <a:xfrm>
            <a:off x="2505240" y="59770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知人之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0"/>
          <p:cNvSpPr/>
          <p:nvPr/>
        </p:nvSpPr>
        <p:spPr>
          <a:xfrm>
            <a:off x="4468680" y="5373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而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1"/>
          <p:cNvSpPr/>
          <p:nvPr/>
        </p:nvSpPr>
        <p:spPr>
          <a:xfrm>
            <a:off x="4902120" y="595008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（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2"/>
          <p:cNvSpPr/>
          <p:nvPr/>
        </p:nvSpPr>
        <p:spPr>
          <a:xfrm>
            <a:off x="2381400" y="5616720"/>
            <a:ext cx="72720" cy="792000"/>
          </a:xfrm>
          <a:custGeom>
            <a:avLst/>
            <a:gdLst>
              <a:gd name="textAreaLeft" fmla="*/ 46440 w 72720"/>
              <a:gd name="textAreaRight" fmla="*/ 73080 w 72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1600" y="1484280"/>
            <a:ext cx="8506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Times New Roman"/>
                <a:ea typeface="华文中宋"/>
              </a:rPr>
              <a:t>一词多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32000" y="83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332000" y="1916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03280" y="3213000"/>
            <a:ext cx="64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332000" y="3141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03280" y="422100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03280" y="5734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4"/>
          <p:cNvSpPr/>
          <p:nvPr/>
        </p:nvSpPr>
        <p:spPr>
          <a:xfrm>
            <a:off x="1187280" y="97308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2227320" y="573120"/>
            <a:ext cx="67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望之蔚然而深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2303640" y="1528920"/>
            <a:ext cx="45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佳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繁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5796000" y="549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秀丽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5148360" y="1413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茂盛，繁茂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189080" y="29732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2273400" y="2637000"/>
            <a:ext cx="52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若夫日出而林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9"/>
          <p:cNvSpPr/>
          <p:nvPr/>
        </p:nvSpPr>
        <p:spPr>
          <a:xfrm>
            <a:off x="2197080" y="3551400"/>
            <a:ext cx="53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月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7"/>
          <p:cNvSpPr/>
          <p:nvPr/>
        </p:nvSpPr>
        <p:spPr>
          <a:xfrm>
            <a:off x="5867280" y="24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散了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8"/>
          <p:cNvSpPr/>
          <p:nvPr/>
        </p:nvSpPr>
        <p:spPr>
          <a:xfrm>
            <a:off x="4500720" y="357336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放晴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224000" y="4730760"/>
            <a:ext cx="6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3"/>
          <p:cNvSpPr/>
          <p:nvPr/>
        </p:nvSpPr>
        <p:spPr>
          <a:xfrm>
            <a:off x="2119320" y="4351320"/>
            <a:ext cx="39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太守自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4"/>
          <p:cNvSpPr/>
          <p:nvPr/>
        </p:nvSpPr>
        <p:spPr>
          <a:xfrm>
            <a:off x="2195640" y="53071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太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4572000" y="436572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称谓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4"/>
          <p:cNvSpPr/>
          <p:nvPr/>
        </p:nvSpPr>
        <p:spPr>
          <a:xfrm>
            <a:off x="4140360" y="5373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是，为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87640" y="2716200"/>
            <a:ext cx="73080" cy="1295280"/>
          </a:xfrm>
          <a:custGeom>
            <a:avLst/>
            <a:gdLst>
              <a:gd name="textAreaLeft" fmla="*/ 46800 w 73080"/>
              <a:gd name="textAreaRight" fmla="*/ 73440 w 730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50920" y="692280"/>
            <a:ext cx="73080" cy="1584360"/>
          </a:xfrm>
          <a:custGeom>
            <a:avLst/>
            <a:gdLst>
              <a:gd name="textAreaLeft" fmla="*/ 46800 w 73080"/>
              <a:gd name="textAreaRight" fmla="*/ 73440 w 73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4581360"/>
            <a:ext cx="142920" cy="129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fill="hold">
                      <p:stCondLst>
                        <p:cond delay="0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7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2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7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0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5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-2629080" y="836640"/>
            <a:ext cx="84981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①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行六七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       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有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然临于泉上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之者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④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故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曰醉翁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山水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           ⑥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而不知太守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其乐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35280" y="9079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（名作状语，在山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43280" y="191628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（名作状，像鸟张开翅膀一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59280" y="2924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（名作动，命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140360" y="3860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（名作动，取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87640" y="4797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（形作名，乐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03640" y="587700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（形作意动，以……为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55640" y="189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词类活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736" dur="indefinite" restart="never" nodeType="tmRoot">
          <p:childTnLst>
            <p:seq>
              <p:cTn id="1737" dur="indefinite" nodeType="mainSeq">
                <p:childTnLst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385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3" dur="385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5" dur="385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7" dur="385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385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4" dur="385" fill="hold"/>
                                        <p:tgtEl>
                                          <p:spTgt spid="4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6" dur="385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8" dur="385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385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5" dur="385" fill="hold"/>
                                        <p:tgtEl>
                                          <p:spTgt spid="4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7" dur="385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9" dur="385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385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6" dur="385" fill="hold"/>
                                        <p:tgtEl>
                                          <p:spTgt spid="4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8" dur="385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0" dur="385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6" dur="385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7" dur="385" fill="hold"/>
                                        <p:tgtEl>
                                          <p:spTgt spid="4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9" dur="385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1" dur="385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7" dur="385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8" dur="385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0" dur="385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2" dur="385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3"/>
          <p:cNvSpPr/>
          <p:nvPr/>
        </p:nvSpPr>
        <p:spPr>
          <a:xfrm>
            <a:off x="1150920" y="3430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324000" y="1773360"/>
            <a:ext cx="860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判 断 句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环滁皆山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望之蔚然而深秀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琅琊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有亭翼然临于泉上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醉翁亭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倒 装 句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负者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歌于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行者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休于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斯人，吾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谁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920160" y="476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特殊句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0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1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0" dur="10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404640"/>
            <a:ext cx="41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黑体"/>
                <a:ea typeface="黑体"/>
              </a:rPr>
              <a:t>成语出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0" y="3909960"/>
            <a:ext cx="929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水落石出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水落下去，石头就露出来。比喻真相大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075120" y="5205240"/>
            <a:ext cx="277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觥筹交错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酒杯和酒筹交互错杂。形容许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人聚会喝酒时的热闹场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1548720" y="2614680"/>
            <a:ext cx="623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醉翁之意不在酒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醉翁的兴趣并不在于喝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形容人别有意图，言在此而意在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0" y="139536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0" y="12430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峰回路转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山势回环，路也跟着拐弯。比喻事情经历曲折后，出现新的转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835" dur="indefinite" restart="never" nodeType="tmRoot">
          <p:childTnLst>
            <p:seq>
              <p:cTn id="1836" dur="indefinite" nodeType="mainSeq">
                <p:childTnLst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5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2405160" y="2492280"/>
            <a:ext cx="4333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The end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7" name="Picture 4" descr="11"/>
          <p:cNvPicPr/>
          <p:nvPr/>
        </p:nvPicPr>
        <p:blipFill>
          <a:blip r:embed="rId3"/>
          <a:stretch/>
        </p:blipFill>
        <p:spPr>
          <a:xfrm>
            <a:off x="6523200" y="4049640"/>
            <a:ext cx="2620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77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2" dur="770" fill="hold"/>
                                        <p:tgtEl>
                                          <p:spTgt spid="4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4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6" dur="77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67280" y="5300640"/>
            <a:ext cx="47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欧阳修《六一居士传》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112536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六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居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初谪滁山，自号醉翁。既老而衰且病，将退休于颍水之上，则又更号六一居士。客有问曰：“六一，何谓也？”居士曰：“吾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藏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万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集录三代以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金石遗文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千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琴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而常置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酒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”客曰：“是为五一尔，奈何？”居士曰：“以吾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老于此五物之间，是岂不为六一乎？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6920" y="333360"/>
            <a:ext cx="31687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六一居士的由来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庆历五年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范仲淹遭谗离职，欧阳修上书替他分辨，得罪了当权派，被贬滁州（在今安徽）任知州。被贬后，他心情郁闷，经常去滁州城西南十里的琅琊山游玩，并与山寺中住持智仙和尚结为莫逆之交。庆历六年，智仙建亭于琅琊山酿泉旁，以为游息之所。欧阳修登亭“饮少辄醉”，故给它取名为“醉翁亭”，并写下了《醉翁亭记》这篇流芳千古的美文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0"/>
            <a:ext cx="3529080" cy="1052280"/>
            <a:chOff x="0" y="0"/>
            <a:chExt cx="3529080" cy="1052280"/>
          </a:xfrm>
        </p:grpSpPr>
        <p:sp>
          <p:nvSpPr>
            <p:cNvPr id="70" name="Text Box 6"/>
            <p:cNvSpPr/>
            <p:nvPr/>
          </p:nvSpPr>
          <p:spPr>
            <a:xfrm>
              <a:off x="144360" y="142920"/>
              <a:ext cx="3240360" cy="70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背景资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0"/>
              <a:ext cx="3529080" cy="1052280"/>
              <a:chOff x="0" y="0"/>
              <a:chExt cx="3529080" cy="1052280"/>
            </a:xfrm>
          </p:grpSpPr>
          <p:pic>
            <p:nvPicPr>
              <p:cNvPr id="7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36720" cy="10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2360" y="0"/>
                <a:ext cx="936720" cy="105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checke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836640"/>
            <a:ext cx="8964720" cy="26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即传记，古代文体，以记载人物生平事迹为主，如柳宗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童区寄传》、宋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王冕读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》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陶渊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五柳先生传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古代文体，主要是记载事物，并通过记事、记物，写景、记人来抒发作者的感情或见解，即景抒情，托物言志。如唐柳宗元《小石潭记》、宋苏轼的《记承天寺夜游》、东晋陶渊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桃花源记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宋范仲淹的《岳阳楼记》、宋欧阳修的《醉翁亭记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古代文体，多用来说明某种道理，通常叙述兼有议论。如周敦颐的《爱莲说》、韩愈的《马说》、柳宗元的《捕蛇者说》、袁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黄生借书说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189000"/>
            <a:ext cx="7164360" cy="652680"/>
            <a:chOff x="0" y="189000"/>
            <a:chExt cx="7164360" cy="652680"/>
          </a:xfrm>
        </p:grpSpPr>
        <p:sp>
          <p:nvSpPr>
            <p:cNvPr id="77" name=""/>
            <p:cNvSpPr/>
            <p:nvPr/>
          </p:nvSpPr>
          <p:spPr>
            <a:xfrm>
              <a:off x="612720" y="260280"/>
              <a:ext cx="6551640" cy="5814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拓展：</a:t>
              </a:r>
              <a:r>
                <a:rPr b="1" lang="zh-CN" sz="3200" spc="-1" strike="noStrike">
                  <a:solidFill>
                    <a:srgbClr val="0066ff"/>
                  </a:solidFill>
                  <a:latin typeface="黑体"/>
                  <a:ea typeface="黑体"/>
                </a:rPr>
                <a:t>古代常见三大文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5" descr="beike"/>
            <p:cNvPicPr/>
            <p:nvPr/>
          </p:nvPicPr>
          <p:blipFill>
            <a:blip r:embed="rId3"/>
            <a:stretch/>
          </p:blipFill>
          <p:spPr>
            <a:xfrm>
              <a:off x="0" y="189000"/>
              <a:ext cx="190980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mb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1052640"/>
            <a:ext cx="7993080" cy="441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环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滁（    ）     琅琊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山之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僧（    ）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暝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晦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明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    ）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伛偻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山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肴（    ）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野蔌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觥筹（         ）弈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24000" y="1125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ch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00720" y="11239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láng y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84360" y="1989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sē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198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m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2997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h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43640" y="292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yǔ  l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3860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y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3789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4724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gōng chó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4797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 Black"/>
              </a:rPr>
              <a:t>y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83664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0" y="0"/>
            <a:ext cx="4319640" cy="936720"/>
            <a:chOff x="0" y="0"/>
            <a:chExt cx="4319640" cy="936720"/>
          </a:xfrm>
        </p:grpSpPr>
        <p:sp>
          <p:nvSpPr>
            <p:cNvPr id="93" name="Text Box 6"/>
            <p:cNvSpPr/>
            <p:nvPr/>
          </p:nvSpPr>
          <p:spPr>
            <a:xfrm>
              <a:off x="684360" y="189000"/>
              <a:ext cx="3635280" cy="70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读一读写一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19" descr="图片8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33200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mb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780000" y="620640"/>
            <a:ext cx="5257800" cy="57726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翼然</a:t>
            </a:r>
            <a:r>
              <a:rPr b="1" i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于泉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饮少</a:t>
            </a:r>
            <a:r>
              <a:rPr b="1" i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辄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醉翁之</a:t>
            </a:r>
            <a:r>
              <a:rPr b="1" i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意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不在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树林阴</a:t>
            </a:r>
            <a:r>
              <a:rPr b="1" i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1" i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之者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负者歌</a:t>
            </a:r>
            <a:r>
              <a:rPr b="1" i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7.</a:t>
            </a:r>
            <a:r>
              <a:rPr b="1" i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觥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筹交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8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太守</a:t>
            </a:r>
            <a:r>
              <a:rPr b="1" i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谓</a:t>
            </a:r>
            <a:r>
              <a:rPr b="1" i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08720" y="692280"/>
            <a:ext cx="14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靠近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2360" y="1413000"/>
            <a:ext cx="116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就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2133720"/>
            <a:ext cx="13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情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56360" y="28526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遮盖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7640" y="3645000"/>
            <a:ext cx="13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取名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4365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在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5013360"/>
            <a:ext cx="13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酒杯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32720" y="5805360"/>
            <a:ext cx="108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是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3635280" cy="57610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0" y="0"/>
            <a:ext cx="2881440" cy="703440"/>
            <a:chOff x="0" y="0"/>
            <a:chExt cx="2881440" cy="703440"/>
          </a:xfrm>
        </p:grpSpPr>
        <p:sp>
          <p:nvSpPr>
            <p:cNvPr id="107" name="Text Box 6"/>
            <p:cNvSpPr/>
            <p:nvPr/>
          </p:nvSpPr>
          <p:spPr>
            <a:xfrm>
              <a:off x="289080" y="0"/>
              <a:ext cx="2592360" cy="70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解释词语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9" descr="图片8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36720" cy="53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1:26:34Z</dcterms:created>
  <dc:creator>WangYSH语文工作室</dc:creator>
  <dc:description/>
  <dc:language>en-US</dc:language>
  <cp:lastModifiedBy>User</cp:lastModifiedBy>
  <dcterms:modified xsi:type="dcterms:W3CDTF">2016-04-21T08:22:53Z</dcterms:modified>
  <cp:revision>190</cp:revision>
  <dc:subject/>
  <dc:title>《醉翁亭记》PPT课件</dc:title>
</cp:coreProperties>
</file>