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2D5-B719-44EA-8DEF-7C02D30C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394-6744-4F0A-833E-8B1561DB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59B36-59AD-4BA5-A6DE-5E891A95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103EC-CF50-4D9C-8BA1-232C02AD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93299-58D5-487C-9066-4E042F44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CD907-1A21-4140-9694-559A2620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E7853-D5F5-4848-804C-D36FC7A7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67007-AF16-4DC5-A06C-E21D9589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21FDA-BC4F-4AF4-AE1B-94DFFC32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184CC-6389-4D51-8023-C9FC4CC0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47AA8-432A-43DF-B9E3-EA7C9F63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43FF2-4284-4331-A3D1-60446EF1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7CA-BA84-4BF5-B413-5B44D2E8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CBCFB-75CE-4025-9197-7BC88C19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8BD3C-CA67-4488-B6CA-77601DD8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91683-5376-4F5F-8339-6A63755F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CB7D3-8794-4A88-A809-ED5D216B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23F22-FA9C-4996-91C9-CBA0E408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7E83F-B659-4AE2-ACB3-28E97F53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A0720-EA4E-43C3-B1B5-476DD28F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06862-598C-4E1C-AFF1-30295B4A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E9830-D080-4EF1-9049-5051B2A4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B6579-9ECC-4D6B-80B7-990E98C2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909-265A-4564-B58C-BBD83324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A33B7-D38A-470D-8293-8B800AF2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69B0A-3A5F-48A1-B444-69570702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67C87-BC73-4358-B0DC-6049EFCF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AEFB6-F848-43F0-9B5D-AA5B92EE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998C9-8D3A-46EA-969E-B8DC5D05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D6CE9-4F54-4F05-AAE8-F7DBB658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CE90C-1C19-4B55-97D5-E2071D1C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22640-224E-4D15-9B5B-2DC28FD9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12972-0BA5-4334-9CF5-F30C9817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875BA-3C4F-44DA-879E-639F239A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14F2-1ADC-4183-8B5F-E23402E1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4BBD2-EA53-4282-8DD3-2BBFAE23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4021B-EB66-47F7-B57A-FCB6792A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50DF8-3A40-4B19-8D74-02A2D446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9234-4459-4EAC-AC3A-1BF8A752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9B34-D564-4D12-AD55-101AE9CC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CC8B-4F75-4E41-9F53-AA6BB594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C133-A5EF-4B83-B8E4-EBBC1753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9FAF-FF9B-4EE8-94FC-B901DEF8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CA32-CC6A-439A-9BD2-C464B2C4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175-445B-41F7-87D3-30C57611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6156-9D42-45A0-B728-61F0A190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89B9-616C-441E-A416-02A4918A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9B78-3486-4EB0-99AB-8E617C91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CB96-F914-4E61-A20C-91378E38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C1D9-CCEF-471C-B565-73161096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E5F6-26D4-46BA-AFF6-490C2A10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BB4E-EB52-4F6E-A6B4-24E52438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1B37E-1314-4AA7-9BC2-C1FEE2D4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A64CE-EC4E-4041-A571-F0812824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70C14-6F71-4B77-8238-A23B76F5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43A-CF9E-4564-B54F-7D38681C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D660-A39B-4BD1-A081-B23CAA66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BF3B9-A456-496F-9474-D0ECAB46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B8CB-969B-42B6-A300-E57FD34A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F20B-530B-4E92-87BF-46B0B41F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FFE8-E07C-49E2-89EE-7940D914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97F9-4D70-4C0A-A68E-DE711926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38476-112D-481F-B03D-34B60EE4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2CDA2-75BD-4116-90AB-65B29A1E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FF104-0FFC-40B5-AEEF-B7CE328D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832D9-94A7-4752-B839-F0EBE872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574-4AE0-4BE1-AEC8-E50BC39B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FBEC6-4686-4F0F-85B4-8A2D3E31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2FBE9-F60E-4308-B6A6-A9D2BC20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19FB8-2D57-4F8E-A3D8-01E3D109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7E436-9B16-492C-8F7D-800BAF39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F9417-D38C-450D-A35B-EF9BD94E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B129-0FA0-4EB3-8CCF-C12AAE0F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BD675-DC18-48A4-876F-D5F164B1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0B2D-BFD3-4310-939A-535468D5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49A72-4976-4746-88E6-F102E49C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3E7B9-3E0B-4B07-8EBB-FFF74927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758-27FD-4546-B630-AB7B691B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7F2DB-AF61-4335-9C74-51DA56D4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84E96-3B84-451C-A093-C4FFA4E7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A0733-48A8-46B4-B99A-B76A75B3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CC5B9-8F17-4BA6-8675-403A851D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04E21-9BC7-48B9-B0E4-28255355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B93A8-1C23-4F67-B890-5ABCE9B9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65194-7EBB-42EE-955D-5CE04FF7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A8C9F-1C32-4394-9DCB-5E6768D5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D4BCF-55BF-4DE9-859E-5904919C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656CA-A745-4B8A-9345-2B125DB7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4BA-D547-4B5C-BF36-9D187E40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8EB0D-EC6A-4D60-B762-62A9AA6A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07D6D-EC4F-4A17-AC5A-6317C93B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63BC6-3F25-4C81-ACFD-5046CC3B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FED2B-FE8C-4873-B66D-C92E231F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0FA71-4726-4E13-A3B0-5D672625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368B7-B25E-45C2-886D-DDFC7B35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4C797-1586-4730-89C9-1F428F54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0DF08-F57C-48FE-A505-55A784E9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48192-AB7A-4EFD-86DE-570DB50D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74EFE-5B68-45BC-A1BC-169CC7E8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CBD3-2BEF-4AFF-A1B3-8E512AC6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19DF0-9090-4556-9AB2-3675B12B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497BC-5E66-40C9-A57F-6B70A2CD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77EF9-CC39-4AA0-958A-F2126A47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2BDF2-1038-4D43-A009-C4D26E22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27476-36B2-4008-B880-D17C7D2F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9ADD1-0C43-415D-B119-E4B6BDB1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1EA3A-FF48-4BCC-9B5A-CC11A593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D997D-0180-4BFA-AA1D-798F0BF1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996DA-DFCE-419D-B6EF-F18CF754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D9DD4-E0E7-47EA-8276-16C7818B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157-F3F0-421B-950A-19547335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CFC3B-99E8-473B-8B61-B3CF787B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F3ED7-3EB6-45FA-8794-AC88080E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D2113-18CC-41F5-9A25-E5E17B55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741FF-907F-42ED-89E6-866167A4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52E5A-685F-4B2D-A60D-243D0988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945B3-9F33-44E0-A948-15CE3785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5FA17-85A3-4C80-8683-1F09EA6D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26AF0-98C5-4E73-88D8-4A580B9F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4334C-A86A-49BD-B82C-AB4859BC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7896B-BC23-4F23-9609-0A1F2905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048-7CEC-4D58-88DF-0D5E560E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DF46B-193D-4753-8C95-AEFCD606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78118-B12E-4568-9DF2-133E988D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4C15A-92AA-4964-BF4E-440401FD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C6614-3E3B-464B-A02A-E6B32CB2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216AD-8228-4E47-8660-1ED03060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E2C41-D1C8-4AB8-8BCD-038B9434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44346-E0DC-4537-9D63-AE4A9ADB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F4480-087D-49BC-819C-888B5F0E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0C619-7D88-40A2-A40D-CC2ABAF4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5054B-911E-45EB-8A97-42DB815E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A1A4-9696-4EAF-A0C7-DA143DFDC4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45D4-9674-450E-BC27-23C0CF698C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8242-15C7-4378-AE03-B251064A90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B902-BAA5-4F5B-A0D9-51D2288DFF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9070-A921-420B-9D60-0B419DA85B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A759-2F61-4517-871D-4842440218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C5DE-2085-4BB2-9CDF-CADC557289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DB11-73D3-473C-B4FB-1CF05E0B57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55E0-B8F9-44C2-B90B-FFA9308F6C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2E48-4C85-4381-8E59-E514550956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60EB-E72B-462D-9826-7757A4A313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257,2,&#24187;&#28783;&#29255; 2" TargetMode="External"/><Relationship Id="rId3" Type="http://schemas.openxmlformats.org/officeDocument/2006/relationships/hyperlink" Target="257,2,&#24187;&#28783;&#29255; 2" TargetMode="External"/><Relationship Id="rId4" Type="http://schemas.openxmlformats.org/officeDocument/2006/relationships/hyperlink" Target="257,2,&#24187;&#28783;&#29255; 2" TargetMode="External"/><Relationship Id="rId5" Type="http://schemas.openxmlformats.org/officeDocument/2006/relationships/hyperlink" Target="258,3,&#24187;&#28783;&#29255; 3" TargetMode="External"/><Relationship Id="rId6" Type="http://schemas.openxmlformats.org/officeDocument/2006/relationships/hyperlink" Target="262,7,&#24187;&#28783;&#29255; 7" TargetMode="External"/><Relationship Id="rId7" Type="http://schemas.openxmlformats.org/officeDocument/2006/relationships/hyperlink" Target="262,7,&#24187;&#28783;&#29255; 7" TargetMode="External"/><Relationship Id="rId8" Type="http://schemas.openxmlformats.org/officeDocument/2006/relationships/hyperlink" Target="271,16,&#24187;&#28783;&#29255; 16" TargetMode="External"/><Relationship Id="rId9" Type="http://schemas.openxmlformats.org/officeDocument/2006/relationships/hyperlink" Target="268,13,&#24187;&#28783;&#29255; 13" TargetMode="External"/><Relationship Id="rId10" Type="http://schemas.openxmlformats.org/officeDocument/2006/relationships/hyperlink" Target="275,20,&#24187;&#28783;&#29255; 20" TargetMode="External"/><Relationship Id="rId11" Type="http://schemas.openxmlformats.org/officeDocument/2006/relationships/hyperlink" Target="272,17,&#24187;&#28783;&#29255; 17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"/>
          <p:cNvPicPr/>
          <p:nvPr/>
        </p:nvPicPr>
        <p:blipFill>
          <a:blip r:embed="rId1"/>
          <a:stretch/>
        </p:blipFill>
        <p:spPr>
          <a:xfrm>
            <a:off x="1803240" y="1590840"/>
            <a:ext cx="7080480" cy="2603160"/>
          </a:xfrm>
          <a:prstGeom prst="rect">
            <a:avLst/>
          </a:prstGeom>
          <a:ln w="0">
            <a:noFill/>
          </a:ln>
        </p:spPr>
      </p:pic>
      <p:sp>
        <p:nvSpPr>
          <p:cNvPr id="452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112643"/>
          <p:cNvSpPr/>
          <p:nvPr/>
        </p:nvSpPr>
        <p:spPr>
          <a:xfrm>
            <a:off x="5279040" y="442764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化学方程式及其意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8484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4507200"/>
          </a:xfrm>
          <a:prstGeom prst="rect">
            <a:avLst/>
          </a:prstGeom>
          <a:ln w="0">
            <a:noFill/>
          </a:ln>
        </p:spPr>
      </p:pic>
      <p:sp>
        <p:nvSpPr>
          <p:cNvPr id="478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4565880"/>
          </a:xfrm>
          <a:prstGeom prst="rect">
            <a:avLst/>
          </a:prstGeom>
          <a:ln w="0">
            <a:noFill/>
          </a:ln>
        </p:spPr>
      </p:pic>
      <p:sp>
        <p:nvSpPr>
          <p:cNvPr id="480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图片 1" descr=""/>
          <p:cNvPicPr/>
          <p:nvPr/>
        </p:nvPicPr>
        <p:blipFill>
          <a:blip r:embed="rId1"/>
          <a:srcRect l="0" t="0" r="0" b="11394"/>
          <a:stretch/>
        </p:blipFill>
        <p:spPr>
          <a:xfrm>
            <a:off x="1803240" y="1082520"/>
            <a:ext cx="7080480" cy="4438800"/>
          </a:xfrm>
          <a:prstGeom prst="rect">
            <a:avLst/>
          </a:prstGeom>
          <a:ln w="0">
            <a:noFill/>
          </a:ln>
        </p:spPr>
      </p:pic>
      <p:sp>
        <p:nvSpPr>
          <p:cNvPr id="482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915000"/>
          </a:xfrm>
          <a:prstGeom prst="rect">
            <a:avLst/>
          </a:prstGeom>
          <a:ln w="0">
            <a:noFill/>
          </a:ln>
        </p:spPr>
      </p:pic>
      <p:sp>
        <p:nvSpPr>
          <p:cNvPr id="484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270240"/>
          </a:xfrm>
          <a:prstGeom prst="rect">
            <a:avLst/>
          </a:prstGeom>
          <a:ln w="0">
            <a:noFill/>
          </a:ln>
        </p:spPr>
      </p:pic>
      <p:sp>
        <p:nvSpPr>
          <p:cNvPr id="486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4110120"/>
          </a:xfrm>
          <a:prstGeom prst="rect">
            <a:avLst/>
          </a:prstGeom>
          <a:ln w="0">
            <a:noFill/>
          </a:ln>
        </p:spPr>
      </p:pic>
      <p:sp>
        <p:nvSpPr>
          <p:cNvPr id="488" name="矩形 2"/>
          <p:cNvSpPr/>
          <p:nvPr/>
        </p:nvSpPr>
        <p:spPr>
          <a:xfrm>
            <a:off x="8317080" y="1736640"/>
            <a:ext cx="358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"/>
          <p:cNvSpPr/>
          <p:nvPr/>
        </p:nvSpPr>
        <p:spPr>
          <a:xfrm>
            <a:off x="8318520" y="3392640"/>
            <a:ext cx="36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图片 1" descr=""/>
          <p:cNvPicPr/>
          <p:nvPr/>
        </p:nvPicPr>
        <p:blipFill>
          <a:blip r:embed="rId1"/>
          <a:stretch/>
        </p:blipFill>
        <p:spPr>
          <a:xfrm>
            <a:off x="1803240" y="1590840"/>
            <a:ext cx="7080480" cy="1425240"/>
          </a:xfrm>
          <a:prstGeom prst="rect">
            <a:avLst/>
          </a:prstGeom>
          <a:ln w="0">
            <a:noFill/>
          </a:ln>
        </p:spPr>
      </p:pic>
      <p:sp>
        <p:nvSpPr>
          <p:cNvPr id="492" name="矩形 2"/>
          <p:cNvSpPr/>
          <p:nvPr/>
        </p:nvSpPr>
        <p:spPr>
          <a:xfrm>
            <a:off x="8317080" y="1916280"/>
            <a:ext cx="358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975120"/>
          </a:xfrm>
          <a:prstGeom prst="rect">
            <a:avLst/>
          </a:prstGeom>
          <a:ln w="0">
            <a:noFill/>
          </a:ln>
        </p:spPr>
      </p:pic>
      <p:sp>
        <p:nvSpPr>
          <p:cNvPr id="495" name="矩形 2"/>
          <p:cNvSpPr/>
          <p:nvPr/>
        </p:nvSpPr>
        <p:spPr>
          <a:xfrm>
            <a:off x="8317080" y="1484280"/>
            <a:ext cx="358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4065840"/>
          </a:xfrm>
          <a:prstGeom prst="rect">
            <a:avLst/>
          </a:prstGeom>
          <a:ln w="0">
            <a:noFill/>
          </a:ln>
        </p:spPr>
      </p:pic>
      <p:sp>
        <p:nvSpPr>
          <p:cNvPr id="498" name="矩形 2"/>
          <p:cNvSpPr/>
          <p:nvPr/>
        </p:nvSpPr>
        <p:spPr>
          <a:xfrm>
            <a:off x="6985080" y="1160640"/>
            <a:ext cx="718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3"/>
          <p:cNvSpPr/>
          <p:nvPr/>
        </p:nvSpPr>
        <p:spPr>
          <a:xfrm>
            <a:off x="2124000" y="1555920"/>
            <a:ext cx="71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4"/>
          <p:cNvSpPr/>
          <p:nvPr/>
        </p:nvSpPr>
        <p:spPr>
          <a:xfrm>
            <a:off x="4859280" y="152100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5"/>
          <p:cNvSpPr/>
          <p:nvPr/>
        </p:nvSpPr>
        <p:spPr>
          <a:xfrm>
            <a:off x="6856560" y="1521000"/>
            <a:ext cx="595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6"/>
          <p:cNvSpPr/>
          <p:nvPr/>
        </p:nvSpPr>
        <p:spPr>
          <a:xfrm>
            <a:off x="2124000" y="1909800"/>
            <a:ext cx="595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7"/>
          <p:cNvSpPr/>
          <p:nvPr/>
        </p:nvSpPr>
        <p:spPr>
          <a:xfrm>
            <a:off x="5272200" y="1890720"/>
            <a:ext cx="595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8"/>
          <p:cNvSpPr/>
          <p:nvPr/>
        </p:nvSpPr>
        <p:spPr>
          <a:xfrm>
            <a:off x="3708360" y="2276640"/>
            <a:ext cx="595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9"/>
          <p:cNvSpPr/>
          <p:nvPr/>
        </p:nvSpPr>
        <p:spPr>
          <a:xfrm>
            <a:off x="3995640" y="4465800"/>
            <a:ext cx="4222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0"/>
          <p:cNvSpPr/>
          <p:nvPr/>
        </p:nvSpPr>
        <p:spPr>
          <a:xfrm>
            <a:off x="8209080" y="4464000"/>
            <a:ext cx="4204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1"/>
          <p:cNvSpPr/>
          <p:nvPr/>
        </p:nvSpPr>
        <p:spPr>
          <a:xfrm>
            <a:off x="5148360" y="4797360"/>
            <a:ext cx="576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图片 2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4261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440160"/>
          </a:xfrm>
          <a:prstGeom prst="rect">
            <a:avLst/>
          </a:prstGeom>
          <a:ln w="0">
            <a:noFill/>
          </a:ln>
        </p:spPr>
      </p:pic>
      <p:sp>
        <p:nvSpPr>
          <p:cNvPr id="510" name="矩形 2"/>
          <p:cNvSpPr/>
          <p:nvPr/>
        </p:nvSpPr>
        <p:spPr>
          <a:xfrm>
            <a:off x="8244000" y="2276640"/>
            <a:ext cx="36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760920"/>
          </a:xfrm>
          <a:prstGeom prst="rect">
            <a:avLst/>
          </a:prstGeom>
          <a:ln w="0">
            <a:noFill/>
          </a:ln>
        </p:spPr>
      </p:pic>
      <p:sp>
        <p:nvSpPr>
          <p:cNvPr id="513" name="矩形 2"/>
          <p:cNvSpPr/>
          <p:nvPr/>
        </p:nvSpPr>
        <p:spPr>
          <a:xfrm>
            <a:off x="8317080" y="3176640"/>
            <a:ext cx="358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913200"/>
          </a:xfrm>
          <a:prstGeom prst="rect">
            <a:avLst/>
          </a:prstGeom>
          <a:ln w="0">
            <a:noFill/>
          </a:ln>
        </p:spPr>
      </p:pic>
      <p:sp>
        <p:nvSpPr>
          <p:cNvPr id="516" name="矩形 2"/>
          <p:cNvSpPr/>
          <p:nvPr/>
        </p:nvSpPr>
        <p:spPr>
          <a:xfrm>
            <a:off x="6156360" y="313992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3"/>
          <p:cNvSpPr/>
          <p:nvPr/>
        </p:nvSpPr>
        <p:spPr>
          <a:xfrm>
            <a:off x="3166920" y="3824280"/>
            <a:ext cx="576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4"/>
          <p:cNvSpPr/>
          <p:nvPr/>
        </p:nvSpPr>
        <p:spPr>
          <a:xfrm>
            <a:off x="6516720" y="3500280"/>
            <a:ext cx="576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5"/>
          <p:cNvSpPr/>
          <p:nvPr/>
        </p:nvSpPr>
        <p:spPr>
          <a:xfrm>
            <a:off x="7848720" y="4184640"/>
            <a:ext cx="97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6"/>
          <p:cNvSpPr/>
          <p:nvPr/>
        </p:nvSpPr>
        <p:spPr>
          <a:xfrm>
            <a:off x="2195640" y="4473720"/>
            <a:ext cx="12240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327480"/>
          </a:xfrm>
          <a:prstGeom prst="rect">
            <a:avLst/>
          </a:prstGeom>
          <a:ln w="0">
            <a:noFill/>
          </a:ln>
        </p:spPr>
      </p:pic>
      <p:sp>
        <p:nvSpPr>
          <p:cNvPr id="523" name="矩形 2"/>
          <p:cNvSpPr/>
          <p:nvPr/>
        </p:nvSpPr>
        <p:spPr>
          <a:xfrm>
            <a:off x="4103640" y="198900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3"/>
          <p:cNvSpPr/>
          <p:nvPr/>
        </p:nvSpPr>
        <p:spPr>
          <a:xfrm>
            <a:off x="6192720" y="2708280"/>
            <a:ext cx="358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4"/>
          <p:cNvSpPr/>
          <p:nvPr/>
        </p:nvSpPr>
        <p:spPr>
          <a:xfrm>
            <a:off x="4356000" y="3033720"/>
            <a:ext cx="86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5"/>
          <p:cNvSpPr/>
          <p:nvPr/>
        </p:nvSpPr>
        <p:spPr>
          <a:xfrm>
            <a:off x="5256360" y="3716280"/>
            <a:ext cx="1079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4251600"/>
          </a:xfrm>
          <a:prstGeom prst="rect">
            <a:avLst/>
          </a:prstGeom>
          <a:ln w="0">
            <a:noFill/>
          </a:ln>
        </p:spPr>
      </p:pic>
      <p:sp>
        <p:nvSpPr>
          <p:cNvPr id="457" name="矩形 2"/>
          <p:cNvSpPr/>
          <p:nvPr/>
        </p:nvSpPr>
        <p:spPr>
          <a:xfrm>
            <a:off x="3240000" y="3033720"/>
            <a:ext cx="16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3"/>
          <p:cNvSpPr/>
          <p:nvPr/>
        </p:nvSpPr>
        <p:spPr>
          <a:xfrm>
            <a:off x="6296040" y="3035160"/>
            <a:ext cx="1731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162600"/>
          </a:xfrm>
          <a:prstGeom prst="rect">
            <a:avLst/>
          </a:prstGeom>
          <a:ln w="0">
            <a:noFill/>
          </a:ln>
        </p:spPr>
      </p:pic>
      <p:sp>
        <p:nvSpPr>
          <p:cNvPr id="461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4418280"/>
          </a:xfrm>
          <a:prstGeom prst="rect">
            <a:avLst/>
          </a:prstGeom>
          <a:ln w="0">
            <a:noFill/>
          </a:ln>
        </p:spPr>
      </p:pic>
      <p:sp>
        <p:nvSpPr>
          <p:cNvPr id="463" name="矩形 2"/>
          <p:cNvSpPr/>
          <p:nvPr/>
        </p:nvSpPr>
        <p:spPr>
          <a:xfrm>
            <a:off x="5327640" y="195264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3"/>
          <p:cNvSpPr/>
          <p:nvPr/>
        </p:nvSpPr>
        <p:spPr>
          <a:xfrm>
            <a:off x="2808360" y="3105000"/>
            <a:ext cx="1079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"/>
          <p:cNvSpPr/>
          <p:nvPr/>
        </p:nvSpPr>
        <p:spPr>
          <a:xfrm>
            <a:off x="4896000" y="3068640"/>
            <a:ext cx="10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835440"/>
          </a:xfrm>
          <a:prstGeom prst="rect">
            <a:avLst/>
          </a:prstGeom>
          <a:ln w="0">
            <a:noFill/>
          </a:ln>
        </p:spPr>
      </p:pic>
      <p:sp>
        <p:nvSpPr>
          <p:cNvPr id="468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4714920"/>
          </a:xfrm>
          <a:prstGeom prst="rect">
            <a:avLst/>
          </a:prstGeom>
          <a:ln w="0">
            <a:noFill/>
          </a:ln>
        </p:spPr>
      </p:pic>
      <p:sp>
        <p:nvSpPr>
          <p:cNvPr id="470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图片 1" descr=""/>
          <p:cNvPicPr/>
          <p:nvPr/>
        </p:nvPicPr>
        <p:blipFill>
          <a:blip r:embed="rId1"/>
          <a:stretch/>
        </p:blipFill>
        <p:spPr>
          <a:xfrm>
            <a:off x="1803240" y="1082520"/>
            <a:ext cx="7080480" cy="3918240"/>
          </a:xfrm>
          <a:prstGeom prst="rect">
            <a:avLst/>
          </a:prstGeom>
          <a:ln w="0">
            <a:noFill/>
          </a:ln>
        </p:spPr>
      </p:pic>
      <p:sp>
        <p:nvSpPr>
          <p:cNvPr id="472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图片 1" descr=""/>
          <p:cNvPicPr/>
          <p:nvPr/>
        </p:nvPicPr>
        <p:blipFill>
          <a:blip r:embed="rId1"/>
          <a:srcRect l="0" t="0" r="0" b="11471"/>
          <a:stretch/>
        </p:blipFill>
        <p:spPr>
          <a:xfrm>
            <a:off x="1803240" y="1082520"/>
            <a:ext cx="7080480" cy="4438800"/>
          </a:xfrm>
          <a:prstGeom prst="rect">
            <a:avLst/>
          </a:prstGeom>
          <a:ln w="0">
            <a:noFill/>
          </a:ln>
        </p:spPr>
      </p:pic>
      <p:sp>
        <p:nvSpPr>
          <p:cNvPr id="474" name="TextBox 2"/>
          <p:cNvSpPr/>
          <p:nvPr/>
        </p:nvSpPr>
        <p:spPr>
          <a:xfrm>
            <a:off x="14400" y="1057320"/>
            <a:ext cx="169200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要点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★课时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★要点全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/>
              </a:rPr>
              <a:t>基础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能力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19-12-27T06:03:54Z</dcterms:modified>
  <cp:revision>14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