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whoosh.wav" ContentType="audio/x-wav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10.png" ContentType="image/png"/>
  <Override PartName="/ppt/media/image13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18.jpeg" ContentType="image/jpeg"/>
  <Override PartName="/ppt/media/image22.wmf" ContentType="image/x-wmf"/>
  <Override PartName="/ppt/media/camera.wav" ContentType="audio/x-wav"/>
  <Override PartName="/ppt/media/image2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type.wav" ContentType="audio/x-wav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97CD-84F4-4D18-8470-298E776F5FD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0C5C-C900-4C8A-8D90-C7011196B69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7486-DB6E-49BB-A79A-D5EE985E321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BADA-F76C-4924-9583-F4A9F051B3E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CC27-C337-493E-991E-DA23F25877D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D982-3E6E-4194-B5F2-5FF30F73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8205-BA61-4C83-9B89-8169A8A1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5F341-8D93-42DA-8441-C06CD376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C7485-5E11-44FC-ADBF-63625A32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87272-620A-4326-879D-306AA533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80BEF-FDBA-4FCE-8E23-7467286C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4466C-08CE-47E3-A5C6-542B1683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0A855-0F26-4068-A288-7EE3E04F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294CC-85B7-49F1-B73E-933FE65F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A53FF-397C-4F35-AFB7-78515435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FD2FB-C82A-431D-8239-4C92D57C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18C6E-9C07-4F21-B04A-852088541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64C7-F22C-418F-AFD4-E38608CB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4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147AF-F9D4-4849-B838-ADF86B39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7D54D-1166-4A11-A8F9-E9864065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F5C56-C610-4831-A411-45EA71EF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3C1A9-7FB8-4165-81C1-76EE7898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7C271-91CF-4329-AD0B-79E1CC43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CFB5F-0608-4A84-9C9C-88162741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6BDC6-F9D0-4A7E-8C31-6037D9AD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C524C-3434-4E4D-9D69-00499CCB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AA83B-F75D-4A8C-A8B9-457A9654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412CE-3FAB-4A01-8653-E95E71EA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3138-C25B-4E3C-9765-2A955BD0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278A3-F54C-4585-9324-47C079B0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BEABE-885C-482B-9803-7A5E8B73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B8589-8F56-4DE6-90CD-93CEE4D1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1AD04-0224-4C60-9DB8-0D0B7ED9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11613-9C19-4268-B2EA-3A431622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3CACA-2A09-46B8-8EBC-0D6C2098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181DB-D7D5-411A-A2F6-B48BBD7D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B4CEE-AB18-4770-9865-E31A137B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4BD98-2963-4D76-ADCB-98A550EB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116D8-8106-4396-96EC-D1CD100E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8AE0-4226-4941-A359-CF526CBF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6BE76-1594-441D-8859-5002A272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E02B7-3BE2-493C-B481-CF3295DC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FDE34-A208-4942-BE05-D05B07B2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D591E-D995-462B-973F-1157C116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3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7A161-ACD4-46D4-AF56-BEEBC428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F4BD8-7827-4CC8-BDE6-11030A47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9D8EE-79BD-401F-A31B-924327F6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16674-4E01-4757-B917-39A06FE2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A4B32-FF51-49D2-9ED8-F8D4B047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B9216-EAED-47A1-82D4-E31B7185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51EB-71BB-4304-84C7-37EC204C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8CE28-1F8D-4DA4-83EA-350B5A89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732AF-34D0-4D0A-A80F-B846A8FB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5EF71-905D-4A47-A6A1-CF9E636C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B6FDB-DA29-42A8-90E3-F118996A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02A76-658E-447B-9F26-12832FA1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C032-3CCE-4C9D-8757-E1F33140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F2FA-289E-4389-8439-12D195AB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F2A4-9C3D-4B4E-B77D-B39E2945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6623-083A-469D-A2BE-956BF2CB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E29F-C069-41B2-9880-E3E073F4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98AA-7D4E-4887-82DB-3C9805EB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7E24-5203-4DA7-A014-6296FE71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CE3B-9F1B-495B-9C2C-4BCC0D99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9C3D-4447-47E3-8A46-6C4727DA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BD44-7A0B-4C3D-9EDF-A7445E9D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A1AC-C250-4C1A-A864-E2FF443F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0C980-84DF-4388-A37B-A69085AC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2DE7B-F93B-48F2-ABA6-78DBFDC4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62740-3890-4B3F-A31E-309CC428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DE568-33EA-4000-957A-59E3D095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D4333-D592-4F5B-8909-C830262B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A813-85B0-4F8D-B4A5-424907E5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881FB-B46C-4AAC-810F-E1AC30EE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C13E9-6CA1-457B-A01D-F7240F3D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682A1-EED2-42BF-B878-193B7F35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1192A-B7EC-488B-9AFD-4079C3A2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D271E-BFFA-4801-8C6E-B34E1143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745E1-00BF-4174-974A-172A2CEA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93EE9-2320-41F8-AED7-B3E716BB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8FF73-D7E7-431C-BD7C-180A7B71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3C145-11A6-41BD-8F28-0E5DFF32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16026-D3F7-4423-B133-77210D22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1E4E-7AD5-45D7-8FF0-035F3706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37937-8127-42A2-A881-162609BD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7186C-CB51-424F-A26D-6D4C7A54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56544-C2A5-4CDB-8BF9-0720D1E8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5A722-46AB-4418-8C50-7250073B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27879-BB41-4213-8D31-83BB3823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4B87F-61A3-47D6-B8C5-7A2E43EE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26C7D-AE98-4EDE-9DFC-98C23803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E382A-2339-4079-B77F-3D582A58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EBFCC-22FB-421D-B3B9-EB78A51E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5237A-F8A0-4391-8C32-477DF863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8CA6-F0D3-47DB-AC2C-B3E4E4B1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85936-E61E-4266-9E09-5DE804EB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812F3-671D-4F7A-8612-BD3531AD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B7B32-0F34-4932-AFFB-1122BA47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CCEA1-5051-499B-A7C7-3C8A41CC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802D6-7691-44B6-8B9A-DD744AC1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24A84-C23B-4C1D-93E3-CB2EA7B2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00FD7-2B1F-4DCD-B887-86BA7EFE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718C2-F884-4A50-B027-5AD50947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4FF17-F1FE-462A-82B8-D4C5424C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26D52-6700-44A9-A258-BC11CFF1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A394-B39C-4DE2-9CE8-0EF2542E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BE078-96F2-46CE-B125-18B42F99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1BEE8-273F-4DF0-BAB9-D596ABBC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B1E5D-2629-46C4-9E21-175E33AE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78773-6324-4DFD-841C-F19B9442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73347-8035-498D-9D7E-A3DA3AC7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18847-14EC-415E-B15C-1E609132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B2524-7D7C-4CA6-A91B-431229A8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9D09E-6450-4D88-874E-97A6E7FC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32E79-E286-49D2-948C-5A1FD780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884D6-A35E-4081-B5CC-BD575D70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E690-9C48-47A8-9216-386A50B2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6BBBA-3FB0-454E-AEB3-B8B26071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C8659-5AAF-45C0-A184-3AB95103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C853C-42C4-45E7-827D-8E761455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63F2C-A2A2-4645-BF4B-2C2DBECE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F024B-344D-4DDA-99CB-1C353BFC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C1002-DD85-4A0F-9161-EF92380F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3B10E-1A97-4692-871E-99DE59F5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C0374-EB22-4877-83A6-E02CB548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87656-6DA7-4903-B8BB-E403079F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E7CE2-2DB9-49BC-B6CC-B5D51075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3759-5A21-4ADB-B513-DF327DF9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FF012-F033-4971-8E45-D70C7884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73E15-0A52-4582-8821-409E6121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499A9-C3E5-430D-B502-545FE3EF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DA49C-410C-4245-8F30-A69527D4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F0945-A1BF-4A40-BE5E-7ABB0BF3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71A1E-054D-40A3-97B6-55A0C390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CD435-AF95-4F7F-AE2B-732E4B73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C4346-97B9-4326-B5AC-174B1055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C7004-7E3F-45D9-A8B4-B48D21A5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EEA6C-4F1E-4BEF-9629-7757A181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570A-25BB-4A8B-B10A-76816730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24EDA-D7F0-4441-8976-9C2AACC7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8B78E-143F-488C-B891-4B79142D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E8B1C-64C2-460A-AEB0-EE4ECABF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8C702-3CAB-466B-A2FB-1FC848ED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6E918-A4D8-43C9-9C62-01159264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D6672-2884-470E-B78B-474F79F4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6E747-6549-4CCF-B742-72F65A51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73915-95C8-437E-B391-E0FF52D3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997D4-7660-4BA9-9F67-F0BDCC26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27AC5-3BB6-4C37-A332-1AC85883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05473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矩形 105474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任意多边形 105475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任意多边形 105476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任意多边形 105477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任意多边形 105478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任意多边形 105479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任意多边形 105480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任意多边形 105481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任意多边形 105482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任意多边形 105483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任意多边形 105484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矩形 105485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矩形 105486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任意多边形 105487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任意多边形 105488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任意多边形 105489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任意多边形 105490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任意多边形 105491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任意多边形 105492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任意多边形 105493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任意多边形 105494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任意多边形 105495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任意多边形 105496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矩形 105497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矩形 105498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任意多边形 105499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任意多边形 105500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任意多边形 105501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任意多边形 105502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任意多边形 105503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任意多边形 105504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任意多边形 105505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任意多边形 105506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任意多边形 105507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任意多边形 105508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矩形 105509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矩形 105510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任意多边形 105511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任意多边形 105512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任意多边形 105513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任意多边形 105514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任意多边形 105515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任意多边形 105516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任意多边形 105517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任意多边形 105518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任意多边形 105519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任意多边形 105520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105521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05522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105523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任意多边形 105524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任意多边形 105525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任意多边形 105526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任意多边形 105527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105528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任意多边形 105529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任意多边形 105530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任意多边形 105531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任意多边形 105532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105533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105534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任意多边形 105535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任意多边形 105536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任意多边形 105537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任意多边形 105538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任意多边形 105539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任意多边形 105540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任意多边形 105541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任意多边形 105542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任意多边形 105543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任意多边形 105544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105545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105546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任意多边形 105547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任意多边形 105548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任意多边形 105549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任意多边形 105550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任意多边形 105551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任意多边形 105552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任意多边形 105553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任意多边形 105554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任意多边形 105555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105556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05557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105558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105559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105560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105561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105562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105563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任意多边形 105564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105565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105566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105567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105568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105569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105570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105571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105572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105573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105574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105575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105576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任意多边形 105577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任意多边形 105578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任意多边形 105579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任意多边形 105580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105581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105582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105583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105584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任意多边形 105585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任意多边形 105586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105587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任意多边形 105588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任意多边形 105589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任意多边形 105590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105591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105592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105593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105594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105595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任意多边形 105596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任意多边形 105597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105598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105599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105600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105601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105602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 105603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105604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105605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105606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 105607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105608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 105609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任意多边形 105610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 105611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 105612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任意多边形 105613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105614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任意多边形 105615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任意多边形 105616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105617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任意多边形 105618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105619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任意多边形 105620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任意多边形 105621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任意多边形 105622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任意多边形 105623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任意多边形 105624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任意多边形 105625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任意多边形 105626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任意多边形 105627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任意多边形 105628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任意多边形 105629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任意多边形 105630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任意多边形 105631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任意多边形 105632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105633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任意多边形 105634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105635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任意多边形 105636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任意多边形 105637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任意多边形 105638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任意多边形 105639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105640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105641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105642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105643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105644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任意多边形 105645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任意多边形 105646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105647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任意多边形 105648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105649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105650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任意多边形 105651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任意多边形 105652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105653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105654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105655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105656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105657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105658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105659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任意多边形 105660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105661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任意多边形 105662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105663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105664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105665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任意多边形 105666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任意多边形 105667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105668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任意多边形 105669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105670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105671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任意多边形 105672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105673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105674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105675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任意多边形 105676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105677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任意多边形 105678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105679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105680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105681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105682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任意多边形 105683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任意多边形 105684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105685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任意多边形 105686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任意多边形 105687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任意多边形 105688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105689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任意多边形 105690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 105691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 105692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任意多边形 105693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任意多边形 105694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 105695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 105696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105697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105698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任意多边形 105699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任意多边形 105700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任意多边形 105701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任意多边形 105702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105703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任意多边形 105704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组合 105705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任意多边形 105706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任意多边形 105707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 105708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 105709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任意多边形 105710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任意多边形 105711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任意多边形 105712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任意多边形 105713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任意多边形 105714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任意多边形 105715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任意多边形 105716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任意多边形 105717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任意多边形 105718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8775-D0A9-4B97-B9E1-9CE36FDD36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2" name="组合 105473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2513" name="矩形 105474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任意多边形 105475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任意多边形 105476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任意多边形 105477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任意多边形 105478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任意多边形 105479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任意多边形 105480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任意多边形 105481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任意多边形 105482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任意多边形 105483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任意多边形 105484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矩形 105485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矩形 105486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任意多边形 105487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任意多边形 105488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任意多边形 105489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任意多边形 105490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任意多边形 105491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任意多边形 105492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任意多边形 105493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任意多边形 105494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任意多边形 105495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任意多边形 105496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矩形 105497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矩形 105498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任意多边形 105499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任意多边形 105500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任意多边形 105501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任意多边形 105502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任意多边形 105503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任意多边形 105504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任意多边形 105505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任意多边形 105506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任意多边形 105507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任意多边形 105508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矩形 105509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矩形 105510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任意多边形 105511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任意多边形 105512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任意多边形 105513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任意多边形 105514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任意多边形 105515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任意多边形 105516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任意多边形 105517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任意多边形 105518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任意多边形 105519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任意多边形 105520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矩形 105521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矩形 105522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任意多边形 105523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任意多边形 105524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任意多边形 105525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任意多边形 105526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任意多边形 105527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任意多边形 105528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任意多边形 105529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任意多边形 105530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任意多边形 105531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任意多边形 105532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矩形 105533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矩形 105534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任意多边形 105535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任意多边形 105536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任意多边形 105537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任意多边形 105538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任意多边形 105539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任意多边形 105540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任意多边形 105541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任意多边形 105542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任意多边形 105543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任意多边形 105544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矩形 105545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矩形 105546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任意多边形 105547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任意多边形 105548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任意多边形 105549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任意多边形 105550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任意多边形 105551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任意多边形 105552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任意多边形 105553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任意多边形 105554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任意多边形 105555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任意多边形 105556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矩形 105557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矩形 105558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任意多边形 105559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任意多边形 105560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任意多边形 105561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任意多边形 105562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任意多边形 105563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任意多边形 105564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任意多边形 105565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任意多边形 105566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任意多边形 105567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任意多边形 105568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矩形 105569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矩形 105570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任意多边形 105571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任意多边形 105572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任意多边形 105573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任意多边形 105574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任意多边形 105575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任意多边形 105576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任意多边形 105577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任意多边形 105578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任意多边形 105579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任意多边形 105580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矩形 105581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矩形 105582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任意多边形 105583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任意多边形 105584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任意多边形 105585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任意多边形 105586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任意多边形 105587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任意多边形 105588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任意多边形 105589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任意多边形 105590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任意多边形 105591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任意多边形 105592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矩形 105593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矩形 105594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任意多边形 105595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任意多边形 105596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任意多边形 105597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任意多边形 105598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任意多边形 105599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任意多边形 105600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任意多边形 105601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任意多边形 105602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任意多边形 105603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任意多边形 105604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矩形 105605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矩形 105606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任意多边形 105607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任意多边形 105608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任意多边形 105609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任意多边形 105610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任意多边形 105611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任意多边形 105612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任意多边形 105613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任意多边形 105614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任意多边形 105615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任意多边形 105616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矩形 105617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任意多边形 105618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8" name="组合 105619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2659" name="任意多边形 105620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任意多边形 105621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任意多边形 105622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任意多边形 105623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任意多边形 105624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任意多边形 105625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任意多边形 105626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任意多边形 105627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任意多边形 105628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任意多边形 105629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任意多边形 105630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任意多边形 105631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任意多边形 105632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2" name="组合 105633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673" name="任意多边形 105634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任意多边形 105635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任意多边形 105636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任意多边形 105637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任意多边形 105638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任意多边形 105639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任意多边形 105640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任意多边形 105641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任意多边形 105642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任意多边形 105643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任意多边形 105644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任意多边形 105645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任意多边形 105646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6" name="组合 105647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687" name="任意多边形 105648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任意多边形 105649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任意多边形 105650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任意多边形 105651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任意多边形 105652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任意多边形 105653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任意多边形 105654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任意多边形 105655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任意多边形 105656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任意多边形 105657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任意多边形 105658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任意多边形 105659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任意多边形 105660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0" name="组合 105661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701" name="任意多边形 105662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任意多边形 105663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任意多边形 105664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任意多边形 105665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任意多边形 105666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任意多边形 105667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任意多边形 105668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任意多边形 105669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任意多边形 105670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任意多边形 105671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任意多边形 105672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任意多边形 105673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任意多边形 105674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4" name="组合 105675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715" name="任意多边形 105676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任意多边形 105677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任意多边形 105678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任意多边形 105679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任意多边形 105680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任意多边形 105681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任意多边形 105682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任意多边形 105683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任意多边形 105684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任意多边形 105685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任意多边形 105686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任意多边形 105687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任意多边形 105688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8" name="组合 105689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729" name="任意多边形 105690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任意多边形 105691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任意多边形 105692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任意多边形 105693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任意多边形 105694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任意多边形 105695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任意多边形 105696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任意多边形 105697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任意多边形 105698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任意多边形 105699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任意多边形 105700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任意多边形 105701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任意多边形 105702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2" name="组合 105703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743" name="任意多边形 105704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4" name="组合 105705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745" name="任意多边形 105706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任意多边形 105707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任意多边形 105708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任意多边形 105709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任意多边形 105710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任意多边形 105711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任意多边形 105712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任意多边形 105713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任意多边形 105714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任意多边形 105715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任意多边形 105716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任意多边形 105717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任意多边形 105718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PlaceHolder 3"/>
          <p:cNvSpPr>
            <a:spLocks noGrp="1"/>
          </p:cNvSpPr>
          <p:nvPr>
            <p:ph type="dt" idx="28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PlaceHolder 4"/>
          <p:cNvSpPr>
            <a:spLocks noGrp="1"/>
          </p:cNvSpPr>
          <p:nvPr>
            <p:ph type="ftr" idx="29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PlaceHolder 5"/>
          <p:cNvSpPr>
            <a:spLocks noGrp="1"/>
          </p:cNvSpPr>
          <p:nvPr>
            <p:ph type="sldNum" idx="30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E435-8D5C-440F-A88F-80A872DCC8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9" name="组合 105473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2800" name="矩形 105474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任意多边形 105475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任意多边形 105476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任意多边形 105477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任意多边形 105478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任意多边形 105479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任意多边形 105480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任意多边形 105481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任意多边形 105482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任意多边形 105483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任意多边形 105484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矩形 105485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矩形 105486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任意多边形 105487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任意多边形 105488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任意多边形 105489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任意多边形 105490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任意多边形 105491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任意多边形 105492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任意多边形 105493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任意多边形 105494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任意多边形 105495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任意多边形 105496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矩形 105497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矩形 105498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任意多边形 105499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任意多边形 105500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任意多边形 105501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任意多边形 105502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任意多边形 105503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任意多边形 105504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任意多边形 105505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任意多边形 105506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任意多边形 105507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任意多边形 105508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矩形 105509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矩形 105510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任意多边形 105511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任意多边形 105512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任意多边形 105513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任意多边形 105514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任意多边形 105515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任意多边形 105516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任意多边形 105517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任意多边形 105518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任意多边形 105519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任意多边形 105520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矩形 105521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矩形 105522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任意多边形 105523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任意多边形 105524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任意多边形 105525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任意多边形 105526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任意多边形 105527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任意多边形 105528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任意多边形 105529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任意多边形 105530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任意多边形 105531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任意多边形 105532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矩形 105533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矩形 105534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任意多边形 105535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任意多边形 105536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任意多边形 105537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任意多边形 105538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任意多边形 105539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任意多边形 105540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任意多边形 105541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任意多边形 105542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任意多边形 105543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任意多边形 105544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矩形 105545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矩形 105546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任意多边形 105547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任意多边形 105548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任意多边形 105549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任意多边形 105550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任意多边形 105551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任意多边形 105552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任意多边形 105553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任意多边形 105554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任意多边形 105555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任意多边形 105556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矩形 105557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矩形 105558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任意多边形 105559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任意多边形 105560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任意多边形 105561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任意多边形 105562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任意多边形 105563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任意多边形 105564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任意多边形 105565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任意多边形 105566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任意多边形 105567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任意多边形 105568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矩形 105569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矩形 105570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任意多边形 105571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任意多边形 105572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任意多边形 105573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任意多边形 105574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任意多边形 105575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任意多边形 105576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任意多边形 105577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任意多边形 105578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任意多边形 105579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任意多边形 105580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矩形 105581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矩形 105582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任意多边形 105583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任意多边形 105584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任意多边形 105585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任意多边形 105586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任意多边形 105587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任意多边形 105588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任意多边形 105589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任意多边形 105590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任意多边形 105591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任意多边形 105592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矩形 105593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矩形 105594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任意多边形 105595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任意多边形 105596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任意多边形 105597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任意多边形 105598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任意多边形 105599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任意多边形 105600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任意多边形 105601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任意多边形 105602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任意多边形 105603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任意多边形 105604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矩形 105605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矩形 105606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任意多边形 105607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任意多边形 105608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任意多边形 105609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任意多边形 105610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任意多边形 105611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任意多边形 105612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任意多边形 105613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任意多边形 105614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任意多边形 105615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任意多边形 105616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矩形 105617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任意多边形 105618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5" name="组合 105619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2946" name="任意多边形 105620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任意多边形 105621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任意多边形 105622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任意多边形 105623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任意多边形 105624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任意多边形 105625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任意多边形 105626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任意多边形 105627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任意多边形 105628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任意多边形 105629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任意多边形 105630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任意多边形 105631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任意多边形 105632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9" name="组合 105633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960" name="任意多边形 105634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任意多边形 105635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任意多边形 105636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任意多边形 105637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任意多边形 105638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任意多边形 105639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任意多边形 105640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任意多边形 105641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任意多边形 105642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任意多边形 105643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任意多边形 105644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任意多边形 105645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任意多边形 105646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3" name="组合 105647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974" name="任意多边形 105648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任意多边形 105649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任意多边形 105650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任意多边形 105651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任意多边形 105652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任意多边形 105653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任意多边形 105654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任意多边形 105655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任意多边形 105656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任意多边形 105657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任意多边形 105658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任意多边形 105659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任意多边形 105660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7" name="组合 105661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988" name="任意多边形 105662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任意多边形 105663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任意多边形 105664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任意多边形 105665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任意多边形 105666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任意多边形 105667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任意多边形 105668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任意多边形 105669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任意多边形 105670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任意多边形 105671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任意多边形 105672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任意多边形 105673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任意多边形 105674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1" name="组合 105675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3002" name="任意多边形 105676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任意多边形 105677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任意多边形 105678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任意多边形 105679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任意多边形 105680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任意多边形 105681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任意多边形 105682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任意多边形 105683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任意多边形 105684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任意多边形 105685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任意多边形 105686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任意多边形 105687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任意多边形 105688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5" name="组合 105689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3016" name="任意多边形 105690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任意多边形 105691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任意多边形 105692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任意多边形 105693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任意多边形 105694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任意多边形 105695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任意多边形 105696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任意多边形 105697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任意多边形 105698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任意多边形 105699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任意多边形 105700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任意多边形 105701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任意多边形 105702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9" name="组合 105703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3030" name="任意多边形 105704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1" name="组合 105705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3032" name="任意多边形 105706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任意多边形 105707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任意多边形 105708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任意多边形 105709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任意多边形 105710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任意多边形 105711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任意多边形 105712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任意多边形 105713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任意多边形 105714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任意多边形 105715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任意多边形 105716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任意多边形 105717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任意多边形 105718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CCEE-518B-4210-B192-59A6A9542D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6" name="组合 105473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3087" name="矩形 105474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任意多边形 105475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任意多边形 105476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任意多边形 105477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任意多边形 105478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任意多边形 105479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任意多边形 105480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任意多边形 105481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任意多边形 105482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任意多边形 105483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任意多边形 105484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矩形 105485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矩形 105486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任意多边形 105487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任意多边形 105488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任意多边形 105489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任意多边形 105490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任意多边形 105491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任意多边形 105492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任意多边形 105493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任意多边形 105494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任意多边形 105495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任意多边形 105496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矩形 105497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矩形 105498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任意多边形 105499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任意多边形 105500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任意多边形 105501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任意多边形 105502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任意多边形 105503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任意多边形 105504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任意多边形 105505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任意多边形 105506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任意多边形 105507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任意多边形 105508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矩形 105509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矩形 105510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任意多边形 105511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任意多边形 105512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任意多边形 105513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任意多边形 105514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任意多边形 105515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任意多边形 105516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任意多边形 105517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任意多边形 105518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任意多边形 105519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任意多边形 105520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矩形 105521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矩形 105522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任意多边形 105523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任意多边形 105524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任意多边形 105525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任意多边形 105526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任意多边形 105527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任意多边形 105528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任意多边形 105529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任意多边形 105530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任意多边形 105531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任意多边形 105532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矩形 105533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矩形 105534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任意多边形 105535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任意多边形 105536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任意多边形 105537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任意多边形 105538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任意多边形 105539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任意多边形 105540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任意多边形 105541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任意多边形 105542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任意多边形 105543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任意多边形 105544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矩形 105545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矩形 105546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任意多边形 105547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任意多边形 105548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任意多边形 105549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任意多边形 105550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任意多边形 105551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任意多边形 105552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任意多边形 105553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任意多边形 105554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任意多边形 105555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任意多边形 105556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矩形 105557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矩形 105558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任意多边形 105559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任意多边形 105560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任意多边形 105561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任意多边形 105562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任意多边形 105563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任意多边形 105564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任意多边形 105565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任意多边形 105566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任意多边形 105567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任意多边形 105568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矩形 105569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矩形 105570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任意多边形 105571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任意多边形 105572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任意多边形 105573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任意多边形 105574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任意多边形 105575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任意多边形 105576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任意多边形 105577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任意多边形 105578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任意多边形 105579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任意多边形 105580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矩形 105581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矩形 105582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任意多边形 105583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任意多边形 105584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任意多边形 105585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任意多边形 105586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任意多边形 105587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任意多边形 105588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任意多边形 105589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任意多边形 105590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任意多边形 105591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任意多边形 105592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矩形 105593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矩形 105594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任意多边形 105595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任意多边形 105596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任意多边形 105597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任意多边形 105598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任意多边形 105599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任意多边形 105600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任意多边形 105601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任意多边形 105602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任意多边形 105603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任意多边形 105604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矩形 105605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矩形 105606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任意多边形 105607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任意多边形 105608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任意多边形 105609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任意多边形 105610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任意多边形 105611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任意多边形 105612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任意多边形 105613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任意多边形 105614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任意多边形 105615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任意多边形 105616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矩形 105617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任意多边形 105618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2" name="组合 105619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3233" name="任意多边形 105620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任意多边形 105621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任意多边形 105622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任意多边形 105623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任意多边形 105624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任意多边形 105625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任意多边形 105626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任意多边形 105627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任意多边形 105628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任意多边形 105629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任意多边形 105630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任意多边形 105631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任意多边形 105632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6" name="组合 105633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3247" name="任意多边形 105634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任意多边形 105635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任意多边形 105636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任意多边形 105637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任意多边形 105638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任意多边形 105639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任意多边形 105640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任意多边形 105641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任意多边形 105642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任意多边形 105643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任意多边形 105644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任意多边形 105645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任意多边形 105646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0" name="组合 105647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3261" name="任意多边形 105648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任意多边形 105649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任意多边形 105650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任意多边形 105651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任意多边形 105652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任意多边形 105653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任意多边形 105654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任意多边形 105655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任意多边形 105656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任意多边形 105657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任意多边形 105658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任意多边形 105659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任意多边形 105660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4" name="组合 105661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3275" name="任意多边形 105662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任意多边形 105663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任意多边形 105664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任意多边形 105665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任意多边形 105666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任意多边形 105667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任意多边形 105668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任意多边形 105669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任意多边形 105670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任意多边形 105671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任意多边形 105672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任意多边形 105673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任意多边形 105674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8" name="组合 105675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3289" name="任意多边形 105676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任意多边形 105677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任意多边形 105678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任意多边形 105679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任意多边形 105680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任意多边形 105681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任意多边形 105682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任意多边形 105683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任意多边形 105684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任意多边形 105685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任意多边形 105686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任意多边形 105687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任意多边形 105688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2" name="组合 105689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3303" name="任意多边形 105690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任意多边形 105691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任意多边形 105692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任意多边形 105693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任意多边形 105694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任意多边形 105695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任意多边形 105696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任意多边形 105697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任意多边形 105698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任意多边形 105699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任意多边形 105700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任意多边形 105701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任意多边形 105702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6" name="组合 105703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3317" name="任意多边形 105704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8" name="组合 105705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3319" name="任意多边形 105706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任意多边形 105707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任意多边形 105708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任意多边形 105709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任意多边形 105710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任意多边形 105711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任意多边形 105712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任意多边形 105713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任意多边形 105714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任意多边形 105715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任意多边形 105716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任意多边形 105717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任意多边形 105718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PlaceHolder 3"/>
          <p:cNvSpPr>
            <a:spLocks noGrp="1"/>
          </p:cNvSpPr>
          <p:nvPr>
            <p:ph type="dt" idx="3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PlaceHolder 4"/>
          <p:cNvSpPr>
            <a:spLocks noGrp="1"/>
          </p:cNvSpPr>
          <p:nvPr>
            <p:ph type="ftr" idx="3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PlaceHolder 5"/>
          <p:cNvSpPr>
            <a:spLocks noGrp="1"/>
          </p:cNvSpPr>
          <p:nvPr>
            <p:ph type="sldNum" idx="3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725D-383B-4FEA-A01F-539308F564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任意多边形 106497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组合 106498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任意多边形 106499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任意多边形 106500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任意多边形 106501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任意多边形 106502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任意多边形 106503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任意多边形 106504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任意多边形 106505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任意多边形 106506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任意多边形 106507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任意多边形 106508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任意多边形 106509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任意多边形 106510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任意多边形 106511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组合 106512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矩形 106513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任意多边形 106514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任意多边形 106515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任意多边形 106516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任意多边形 106517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任意多边形 106518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任意多边形 106519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任意多边形 106520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任意多边形 106521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任意多边形 106522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任意多边形 106523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矩形 106524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矩形 106525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任意多边形 106526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任意多边形 106527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任意多边形 106528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任意多边形 106529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任意多边形 106530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任意多边形 106531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任意多边形 106532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106533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任意多边形 106534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任意多边形 106535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矩形 106536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矩形 106537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任意多边形 106538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任意多边形 106539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任意多边形 106540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任意多边形 106541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106542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106543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任意多边形 106544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任意多边形 106545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任意多边形 106546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任意多边形 106547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06548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06549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任意多边形 106550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任意多边形 106551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任意多边形 106552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任意多边形 106553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任意多边形 106554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任意多边形 106555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任意多边形 106556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任意多边形 106557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任意多边形 106558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任意多边形 106559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矩形 106560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106561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任意多边形 106562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任意多边形 106563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任意多边形 106564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任意多边形 106565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任意多边形 106566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任意多边形 106567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任意多边形 106568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任意多边形 106569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任意多边形 106570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任意多边形 106571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106572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106573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任意多边形 106574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任意多边形 106575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任意多边形 106576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任意多边形 106577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 106578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 106579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任意多边形 106580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 106581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 106582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 106583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106584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106585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 106586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任意多边形 106587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任意多边形 106588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任意多边形 106589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任意多边形 106590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任意多边形 106591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任意多边形 106592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任意多边形 106593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任意多边形 106594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任意多边形 106595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矩形 106596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106597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任意多边形 106598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任意多边形 106599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任意多边形 106600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任意多边形 106601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任意多边形 106602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任意多边形 106603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任意多边形 106604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106605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任意多边形 106606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任意多边形 106607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106608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106609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任意多边形 106610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任意多边形 106611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任意多边形 106612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任意多边形 106613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任意多边形 106614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任意多边形 106615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任意多边形 106616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任意多边形 106617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任意多边形 106618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任意多边形 106619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106620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106621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106622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任意多边形 106623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任意多边形 106624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任意多边形 106625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任意多边形 106626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任意多边形 106627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任意多边形 106628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任意多边形 106629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任意多边形 106630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任意多边形 106631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06632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06633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任意多边形 106634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任意多边形 106635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任意多边形 106636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任意多边形 106637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任意多边形 106638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任意多边形 106639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任意多边形 106640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任意多边形 106641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任意多边形 106642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任意多边形 106643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矩形 106644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矩形 106645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任意多边形 106646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任意多边形 106647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任意多边形 106648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任意多边形 106649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任意多边形 106650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任意多边形 106651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任意多边形 106652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任意多边形 106653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任意多边形 106654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任意多边形 106655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矩形 106656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任意多边形 106657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组合 106663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任意多边形 106664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任意多边形 106665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任意多边形 106666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任意多边形 106667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任意多边形 106668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任意多边形 106669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 106670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 106671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任意多边形 106672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任意多边形 106673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 106674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 106675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任意多边形 106676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26E3-A8ED-4374-847D-0905A09C60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组合 105473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504" name="矩形 105474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任意多边形 105475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任意多边形 105476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任意多边形 105477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任意多边形 105478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任意多边形 105479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任意多边形 105480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任意多边形 105481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任意多边形 105482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任意多边形 105483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任意多边形 105484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105485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矩形 105486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任意多边形 105487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任意多边形 105488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任意多边形 105489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任意多边形 105490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任意多边形 105491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任意多边形 105492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任意多边形 105493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任意多边形 105494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任意多边形 105495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任意多边形 105496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矩形 105497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矩形 105498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任意多边形 105499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任意多边形 105500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任意多边形 105501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任意多边形 105502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任意多边形 105503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任意多边形 105504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任意多边形 105505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任意多边形 105506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任意多边形 105507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任意多边形 105508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矩形 105509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105510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任意多边形 105511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 105512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 105513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 105514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 105515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任意多边形 105516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任意多边形 105517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 105518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 105519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任意多边形 105520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105521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矩形 105522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任意多边形 105523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任意多边形 105524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任意多边形 105525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任意多边形 105526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任意多边形 105527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105528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任意多边形 105529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任意多边形 105530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105531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任意多边形 105532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矩形 105533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矩形 105534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任意多边形 105535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任意多边形 105536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任意多边形 105537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任意多边形 105538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任意多边形 105539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任意多边形 105540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任意多边形 105541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任意多边形 105542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任意多边形 105543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任意多边形 105544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105545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矩形 105546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任意多边形 105547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任意多边形 105548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任意多边形 105549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任意多边形 105550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任意多边形 105551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任意多边形 105552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任意多边形 105553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任意多边形 105554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任意多边形 105555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任意多边形 105556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矩形 105557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矩形 105558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任意多边形 105559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任意多边形 105560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任意多边形 105561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任意多边形 105562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任意多边形 105563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任意多边形 105564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任意多边形 105565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任意多边形 105566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任意多边形 105567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任意多边形 105568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矩形 105569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矩形 105570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任意多边形 105571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任意多边形 105572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任意多边形 105573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任意多边形 105574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任意多边形 105575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任意多边形 105576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任意多边形 105577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任意多边形 105578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任意多边形 105579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任意多边形 105580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矩形 105581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105582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 105583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 105584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 105585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 105586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 105587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 105588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 105589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 105590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 105591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 105592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矩形 105593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矩形 105594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 105595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 105596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任意多边形 105597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任意多边形 105598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任意多边形 105599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任意多边形 105600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任意多边形 105601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105602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105603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任意多边形 105604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矩形 105605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矩形 105606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任意多边形 105607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105608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105609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105610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任意多边形 105611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任意多边形 105612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任意多边形 105613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任意多边形 105614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任意多边形 105615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任意多边形 105616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矩形 105617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任意多边形 105618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组合 105619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50" name="任意多边形 105620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任意多边形 105621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任意多边形 105622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任意多边形 105623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任意多边形 105624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任意多边形 105625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任意多边形 105626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任意多边形 105627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任意多边形 105628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任意多边形 105629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任意多边形 105630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任意多边形 105631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任意多边形 105632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105633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64" name="任意多边形 105634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任意多边形 105635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任意多边形 105636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任意多边形 105637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任意多边形 105638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任意多边形 105639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任意多边形 105640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任意多边形 105641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任意多边形 105642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任意多边形 105643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任意多边形 105644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任意多边形 105645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任意多边形 105646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组合 105647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78" name="任意多边形 105648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任意多边形 105649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任意多边形 105650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任意多边形 105651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任意多边形 105652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任意多边形 105653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任意多边形 105654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任意多边形 105655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任意多边形 105656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任意多边形 105657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任意多边形 105658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任意多边形 105659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任意多边形 105660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组合 105661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92" name="任意多边形 105662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任意多边形 105663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任意多边形 105664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任意多边形 105665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任意多边形 105666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任意多边形 105667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任意多边形 105668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任意多边形 105669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任意多边形 105670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任意多边形 105671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任意多边形 105672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 105673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 105674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组合 105675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706" name="任意多边形 105676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任意多边形 105677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任意多边形 105678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105679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 105680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任意多边形 105681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任意多边形 105682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任意多边形 105683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任意多边形 105684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任意多边形 105685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105686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105687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105688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组合 105689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720" name="任意多边形 105690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任意多边形 105691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任意多边形 105692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任意多边形 105693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105694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任意多边形 105695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任意多边形 105696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任意多边形 105697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任意多边形 105698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任意多边形 105699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任意多边形 105700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任意多边形 105701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任意多边形 105702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组合 105703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34" name="任意多边形 105704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5" name="组合 105705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36" name="任意多边形 105706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任意多边形 105707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任意多边形 105708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任意多边形 105709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任意多边形 105710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任意多边形 105711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任意多边形 105712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任意多边形 105713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任意多边形 105714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任意多边形 105715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任意多边形 105716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任意多边形 105717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任意多边形 105718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AC60-2D11-4358-AF2E-1EF2D93CF2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组合 105473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791" name="矩形 105474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任意多边形 105475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任意多边形 105476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任意多边形 105477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任意多边形 105478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任意多边形 105479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任意多边形 105480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任意多边形 105481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任意多边形 105482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任意多边形 105483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任意多边形 105484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矩形 105485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矩形 105486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任意多边形 105487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任意多边形 105488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任意多边形 105489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任意多边形 105490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任意多边形 105491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任意多边形 105492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任意多边形 105493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任意多边形 105494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任意多边形 105495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任意多边形 105496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矩形 105497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矩形 105498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任意多边形 105499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任意多边形 105500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任意多边形 105501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任意多边形 105502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任意多边形 105503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任意多边形 105504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任意多边形 105505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任意多边形 105506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任意多边形 105507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任意多边形 105508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矩形 105509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矩形 105510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任意多边形 105511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任意多边形 105512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任意多边形 105513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任意多边形 105514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105515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105516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105517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任意多边形 105518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任意多边形 105519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任意多边形 105520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矩形 105521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矩形 105522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任意多边形 105523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任意多边形 105524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任意多边形 105525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任意多边形 105526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任意多边形 105527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任意多边形 105528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任意多边形 105529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任意多边形 105530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任意多边形 105531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任意多边形 105532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矩形 105533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矩形 105534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任意多边形 105535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任意多边形 105536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任意多边形 105537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任意多边形 105538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任意多边形 105539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任意多边形 105540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任意多边形 105541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任意多边形 105542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105543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任意多边形 105544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矩形 105545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矩形 105546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105547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105548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105549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105550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任意多边形 105551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任意多边形 105552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任意多边形 105553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任意多边形 105554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任意多边形 105555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任意多边形 105556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矩形 105557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矩形 105558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任意多边形 105559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任意多边形 105560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任意多边形 105561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任意多边形 105562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任意多边形 105563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任意多边形 105564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任意多边形 105565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任意多边形 105566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任意多边形 105567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任意多边形 105568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矩形 105569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矩形 105570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任意多边形 105571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任意多边形 105572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任意多边形 105573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任意多边形 105574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任意多边形 105575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任意多边形 105576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任意多边形 105577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任意多边形 105578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任意多边形 105579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任意多边形 105580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矩形 105581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矩形 105582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任意多边形 105583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任意多边形 105584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任意多边形 105585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任意多边形 105586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任意多边形 105587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任意多边形 105588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任意多边形 105589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任意多边形 105590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任意多边形 105591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任意多边形 105592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矩形 105593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矩形 105594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任意多边形 105595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任意多边形 105596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任意多边形 105597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任意多边形 105598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任意多边形 105599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任意多边形 105600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任意多边形 105601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任意多边形 105602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任意多边形 105603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任意多边形 105604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矩形 105605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矩形 105606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任意多边形 105607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任意多边形 105608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任意多边形 105609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任意多边形 105610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任意多边形 105611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任意多边形 105612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任意多边形 105613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任意多边形 105614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任意多边形 105615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任意多边形 105616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矩形 105617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任意多边形 105618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组合 105619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937" name="任意多边形 105620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任意多边形 105621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任意多边形 105622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任意多边形 105623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任意多边形 105624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任意多边形 105625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任意多边形 105626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任意多边形 105627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任意多边形 105628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任意多边形 105629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任意多边形 105630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105631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105632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组合 105633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951" name="任意多边形 105634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任意多边形 105635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任意多边形 105636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任意多边形 105637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任意多边形 105638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任意多边形 105639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任意多边形 105640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任意多边形 105641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任意多边形 105642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任意多边形 105643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任意多边形 105644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任意多边形 105645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任意多边形 105646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组合 105647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965" name="任意多边形 105648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任意多边形 105649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任意多边形 105650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任意多边形 105651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任意多边形 105652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任意多边形 105653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任意多边形 105654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任意多边形 105655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任意多边形 105656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任意多边形 105657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任意多边形 105658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任意多边形 105659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任意多边形 105660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组合 105661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979" name="任意多边形 105662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任意多边形 105663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任意多边形 105664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任意多边形 105665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任意多边形 105666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任意多边形 105667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任意多边形 105668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任意多边形 105669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任意多边形 105670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任意多边形 105671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任意多边形 105672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任意多边形 105673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任意多边形 105674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组合 105675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993" name="任意多边形 105676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任意多边形 105677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任意多边形 105678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任意多边形 105679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任意多边形 105680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任意多边形 105681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任意多边形 105682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任意多边形 105683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任意多边形 105684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任意多边形 105685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任意多边形 105686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任意多边形 105687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任意多边形 105688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6" name="组合 105689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1007" name="任意多边形 105690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任意多边形 105691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任意多边形 105692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任意多边形 105693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任意多边形 105694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任意多边形 105695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任意多边形 105696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任意多边形 105697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任意多边形 105698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任意多边形 105699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任意多边形 105700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任意多边形 105701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任意多边形 105702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组合 105703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1021" name="任意多边形 105704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组合 105705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1023" name="任意多边形 105706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任意多边形 105707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任意多边形 105708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任意多边形 105709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任意多边形 105710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任意多边形 105711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任意多边形 105712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任意多边形 105713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任意多边形 105714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任意多边形 105715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任意多边形 105716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任意多边形 105717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任意多边形 105718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dt" idx="10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ftr" idx="11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sldNum" idx="12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CBC1-1BDB-406F-87B0-D2B9627F3B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组合 105473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078" name="矩形 105474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任意多边形 105475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任意多边形 105476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任意多边形 105477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任意多边形 105478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任意多边形 105479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任意多边形 105480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任意多边形 105481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任意多边形 105482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任意多边形 105483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任意多边形 105484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矩形 105485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矩形 105486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任意多边形 105487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任意多边形 105488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任意多边形 105489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任意多边形 105490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任意多边形 105491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任意多边形 105492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任意多边形 105493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任意多边形 105494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任意多边形 105495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任意多边形 105496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矩形 105497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矩形 105498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任意多边形 105499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任意多边形 105500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任意多边形 105501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任意多边形 105502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任意多边形 105503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任意多边形 105504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任意多边形 105505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任意多边形 105506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任意多边形 105507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任意多边形 105508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矩形 105509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矩形 105510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任意多边形 105511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任意多边形 105512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任意多边形 105513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任意多边形 105514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任意多边形 105515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任意多边形 105516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任意多边形 105517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任意多边形 105518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任意多边形 105519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任意多边形 105520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矩形 105521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矩形 105522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任意多边形 105523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任意多边形 105524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任意多边形 105525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任意多边形 105526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任意多边形 105527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任意多边形 105528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任意多边形 105529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任意多边形 105530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任意多边形 105531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任意多边形 105532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矩形 105533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矩形 105534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任意多边形 105535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任意多边形 105536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任意多边形 105537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任意多边形 105538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任意多边形 105539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任意多边形 105540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任意多边形 105541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任意多边形 105542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任意多边形 105543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任意多边形 105544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矩形 105545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矩形 105546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任意多边形 105547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任意多边形 105548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任意多边形 105549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任意多边形 105550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任意多边形 105551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任意多边形 105552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任意多边形 105553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任意多边形 105554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任意多边形 105555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任意多边形 105556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矩形 105557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矩形 105558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任意多边形 105559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任意多边形 105560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任意多边形 105561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任意多边形 105562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任意多边形 105563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任意多边形 105564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任意多边形 105565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任意多边形 105566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任意多边形 105567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任意多边形 105568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矩形 105569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矩形 105570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任意多边形 105571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任意多边形 105572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任意多边形 105573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任意多边形 105574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任意多边形 105575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任意多边形 105576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任意多边形 105577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任意多边形 105578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任意多边形 105579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任意多边形 105580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矩形 105581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矩形 105582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任意多边形 105583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任意多边形 105584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任意多边形 105585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任意多边形 105586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任意多边形 105587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任意多边形 105588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任意多边形 105589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任意多边形 105590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任意多边形 105591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任意多边形 105592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矩形 105593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矩形 105594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任意多边形 105595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任意多边形 105596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任意多边形 105597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任意多边形 105598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任意多边形 105599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任意多边形 105600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任意多边形 105601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任意多边形 105602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任意多边形 105603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任意多边形 105604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矩形 105605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矩形 105606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任意多边形 105607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任意多边形 105608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任意多边形 105609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任意多边形 105610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任意多边形 105611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任意多边形 105612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任意多边形 105613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任意多边形 105614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任意多边形 105615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任意多边形 105616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矩形 105617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任意多边形 105618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组合 105619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224" name="任意多边形 105620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任意多边形 105621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任意多边形 105622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任意多边形 105623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任意多边形 105624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任意多边形 105625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任意多边形 105626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任意多边形 105627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任意多边形 105628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任意多边形 105629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任意多边形 105630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任意多边形 105631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任意多边形 105632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7" name="组合 105633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238" name="任意多边形 105634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任意多边形 105635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任意多边形 105636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任意多边形 105637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任意多边形 105638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任意多边形 105639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任意多边形 105640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任意多边形 105641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任意多边形 105642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任意多边形 105643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任意多边形 105644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任意多边形 105645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任意多边形 105646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1" name="组合 105647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252" name="任意多边形 105648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任意多边形 105649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任意多边形 105650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任意多边形 105651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任意多边形 105652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任意多边形 105653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任意多边形 105654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任意多边形 105655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任意多边形 105656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任意多边形 105657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任意多边形 105658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任意多边形 105659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任意多边形 105660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5" name="组合 105661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266" name="任意多边形 105662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任意多边形 105663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任意多边形 105664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任意多边形 105665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任意多边形 105666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任意多边形 105667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任意多边形 105668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任意多边形 105669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任意多边形 105670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任意多边形 105671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任意多边形 105672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任意多边形 105673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任意多边形 105674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组合 105675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1280" name="任意多边形 105676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任意多边形 105677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任意多边形 105678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任意多边形 105679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任意多边形 105680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任意多边形 105681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任意多边形 105682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任意多边形 105683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任意多边形 105684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任意多边形 105685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任意多边形 105686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任意多边形 105687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任意多边形 105688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3" name="组合 105689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1294" name="任意多边形 105690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任意多边形 105691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任意多边形 105692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任意多边形 105693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任意多边形 105694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任意多边形 105695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任意多边形 105696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任意多边形 105697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任意多边形 105698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任意多边形 105699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任意多边形 105700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任意多边形 105701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任意多边形 105702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7" name="组合 105703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1308" name="任意多边形 105704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9" name="组合 105705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1310" name="任意多边形 105706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任意多边形 105707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任意多边形 105708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任意多边形 105709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任意多边形 105710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任意多边形 105711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任意多边形 105712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任意多边形 105713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任意多边形 105714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任意多边形 105715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任意多边形 105716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任意多边形 105717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任意多边形 105718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 type="dt" idx="13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 type="ftr" idx="14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 type="sldNum" idx="15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9B83-B3B4-49FE-8B9E-560E0D446B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4" name="组合 105473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365" name="矩形 105474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任意多边形 105475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任意多边形 105476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任意多边形 105477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任意多边形 105478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任意多边形 105479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任意多边形 105480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任意多边形 105481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任意多边形 105482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任意多边形 105483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任意多边形 105484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矩形 105485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矩形 105486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任意多边形 105487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任意多边形 105488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任意多边形 105489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任意多边形 105490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任意多边形 105491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任意多边形 105492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任意多边形 105493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任意多边形 105494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任意多边形 105495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任意多边形 105496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矩形 105497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矩形 105498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任意多边形 105499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任意多边形 105500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任意多边形 105501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任意多边形 105502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任意多边形 105503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任意多边形 105504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任意多边形 105505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任意多边形 105506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任意多边形 105507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任意多边形 105508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矩形 105509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矩形 105510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任意多边形 105511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任意多边形 105512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任意多边形 105513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任意多边形 105514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任意多边形 105515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任意多边形 105516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任意多边形 105517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任意多边形 105518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任意多边形 105519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任意多边形 105520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矩形 105521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矩形 105522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任意多边形 105523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任意多边形 105524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任意多边形 105525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任意多边形 105526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任意多边形 105527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任意多边形 105528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任意多边形 105529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任意多边形 105530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任意多边形 105531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任意多边形 105532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矩形 105533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矩形 105534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任意多边形 105535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任意多边形 105536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任意多边形 105537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任意多边形 105538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任意多边形 105539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任意多边形 105540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任意多边形 105541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任意多边形 105542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任意多边形 105543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任意多边形 105544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矩形 105545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矩形 105546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任意多边形 105547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任意多边形 105548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任意多边形 105549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任意多边形 105550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任意多边形 105551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任意多边形 105552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任意多边形 105553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任意多边形 105554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任意多边形 105555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任意多边形 105556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矩形 105557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矩形 105558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任意多边形 105559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任意多边形 105560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任意多边形 105561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任意多边形 105562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任意多边形 105563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任意多边形 105564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任意多边形 105565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任意多边形 105566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任意多边形 105567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任意多边形 105568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矩形 105569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矩形 105570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任意多边形 105571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任意多边形 105572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任意多边形 105573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任意多边形 105574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任意多边形 105575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任意多边形 105576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任意多边形 105577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任意多边形 105578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任意多边形 105579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任意多边形 105580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矩形 105581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矩形 105582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任意多边形 105583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任意多边形 105584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任意多边形 105585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任意多边形 105586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任意多边形 105587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任意多边形 105588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任意多边形 105589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任意多边形 105590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任意多边形 105591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任意多边形 105592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矩形 105593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矩形 105594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任意多边形 105595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任意多边形 105596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任意多边形 105597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任意多边形 105598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任意多边形 105599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任意多边形 105600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任意多边形 105601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任意多边形 105602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任意多边形 105603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任意多边形 105604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矩形 105605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矩形 105606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任意多边形 105607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任意多边形 105608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任意多边形 105609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任意多边形 105610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任意多边形 105611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任意多边形 105612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任意多边形 105613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任意多边形 105614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任意多边形 105615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任意多边形 105616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矩形 105617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任意多边形 105618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0" name="组合 105619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511" name="任意多边形 105620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任意多边形 105621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任意多边形 105622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任意多边形 105623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任意多边形 105624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任意多边形 105625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任意多边形 105626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任意多边形 105627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任意多边形 105628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任意多边形 105629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任意多边形 105630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任意多边形 105631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任意多边形 105632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4" name="组合 105633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525" name="任意多边形 105634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任意多边形 105635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任意多边形 105636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任意多边形 105637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任意多边形 105638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任意多边形 105639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任意多边形 105640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任意多边形 105641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任意多边形 105642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任意多边形 105643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任意多边形 105644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任意多边形 105645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任意多边形 105646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8" name="组合 105647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539" name="任意多边形 105648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任意多边形 105649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任意多边形 105650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任意多边形 105651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任意多边形 105652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任意多边形 105653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任意多边形 105654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任意多边形 105655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任意多边形 105656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任意多边形 105657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任意多边形 105658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任意多边形 105659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任意多边形 105660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2" name="组合 105661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553" name="任意多边形 105662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任意多边形 105663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任意多边形 105664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任意多边形 105665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任意多边形 105666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任意多边形 105667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任意多边形 105668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任意多边形 105669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任意多边形 105670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任意多边形 105671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任意多边形 105672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任意多边形 105673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任意多边形 105674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6" name="组合 105675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1567" name="任意多边形 105676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任意多边形 105677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任意多边形 105678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任意多边形 105679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任意多边形 105680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任意多边形 105681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任意多边形 105682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任意多边形 105683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任意多边形 105684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任意多边形 105685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任意多边形 105686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任意多边形 105687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任意多边形 105688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0" name="组合 105689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1581" name="任意多边形 105690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任意多边形 105691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任意多边形 105692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任意多边形 105693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任意多边形 105694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任意多边形 105695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任意多边形 105696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任意多边形 105697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任意多边形 105698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任意多边形 105699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任意多边形 105700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任意多边形 105701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任意多边形 105702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组合 105703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1595" name="任意多边形 105704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6" name="组合 105705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1597" name="任意多边形 105706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任意多边形 105707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任意多边形 105708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任意多边形 105709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任意多边形 105710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任意多边形 105711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任意多边形 105712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任意多边形 105713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任意多边形 105714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任意多边形 105715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任意多边形 105716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任意多边形 105717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任意多边形 105718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 type="dt" idx="16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 type="ftr" idx="17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5"/>
          <p:cNvSpPr>
            <a:spLocks noGrp="1"/>
          </p:cNvSpPr>
          <p:nvPr>
            <p:ph type="sldNum" idx="18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A913-9501-4D04-B54F-663EABA5E2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1" name="组合 105473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652" name="矩形 105474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任意多边形 105475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任意多边形 105476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任意多边形 105477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任意多边形 105478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任意多边形 105479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任意多边形 105480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任意多边形 105481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任意多边形 105482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任意多边形 105483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任意多边形 105484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矩形 105485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矩形 105486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任意多边形 105487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任意多边形 105488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任意多边形 105489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任意多边形 105490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任意多边形 105491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任意多边形 105492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任意多边形 105493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任意多边形 105494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任意多边形 105495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任意多边形 105496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矩形 105497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矩形 105498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任意多边形 105499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任意多边形 105500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任意多边形 105501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任意多边形 105502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任意多边形 105503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任意多边形 105504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任意多边形 105505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任意多边形 105506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任意多边形 105507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任意多边形 105508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矩形 105509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矩形 105510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任意多边形 105511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任意多边形 105512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任意多边形 105513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任意多边形 105514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任意多边形 105515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任意多边形 105516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任意多边形 105517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任意多边形 105518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任意多边形 105519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任意多边形 105520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矩形 105521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矩形 105522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任意多边形 105523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任意多边形 105524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任意多边形 105525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任意多边形 105526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任意多边形 105527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任意多边形 105528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任意多边形 105529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任意多边形 105530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任意多边形 105531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任意多边形 105532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矩形 105533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矩形 105534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任意多边形 105535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任意多边形 105536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任意多边形 105537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任意多边形 105538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任意多边形 105539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任意多边形 105540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任意多边形 105541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任意多边形 105542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任意多边形 105543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任意多边形 105544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矩形 105545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矩形 105546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任意多边形 105547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任意多边形 105548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任意多边形 105549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任意多边形 105550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任意多边形 105551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任意多边形 105552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任意多边形 105553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任意多边形 105554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任意多边形 105555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任意多边形 105556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矩形 105557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矩形 105558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任意多边形 105559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任意多边形 105560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任意多边形 105561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任意多边形 105562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任意多边形 105563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任意多边形 105564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任意多边形 105565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任意多边形 105566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任意多边形 105567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任意多边形 105568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矩形 105569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矩形 105570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任意多边形 105571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任意多边形 105572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任意多边形 105573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任意多边形 105574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任意多边形 105575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任意多边形 105576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任意多边形 105577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任意多边形 105578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任意多边形 105579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任意多边形 105580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矩形 105581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矩形 105582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任意多边形 105583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任意多边形 105584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任意多边形 105585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任意多边形 105586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任意多边形 105587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任意多边形 105588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任意多边形 105589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任意多边形 105590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任意多边形 105591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任意多边形 105592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矩形 105593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矩形 105594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任意多边形 105595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任意多边形 105596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任意多边形 105597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任意多边形 105598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任意多边形 105599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任意多边形 105600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任意多边形 105601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任意多边形 105602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任意多边形 105603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任意多边形 105604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矩形 105605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矩形 105606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任意多边形 105607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任意多边形 105608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任意多边形 105609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任意多边形 105610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任意多边形 105611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任意多边形 105612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任意多边形 105613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任意多边形 105614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任意多边形 105615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任意多边形 105616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矩形 105617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任意多边形 105618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7" name="组合 105619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798" name="任意多边形 105620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任意多边形 105621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任意多边形 105622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任意多边形 105623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任意多边形 105624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任意多边形 105625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任意多边形 105626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任意多边形 105627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任意多边形 105628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任意多边形 105629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任意多边形 105630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任意多边形 105631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任意多边形 105632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1" name="组合 105633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812" name="任意多边形 105634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任意多边形 105635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任意多边形 105636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任意多边形 105637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任意多边形 105638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任意多边形 105639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任意多边形 105640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任意多边形 105641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任意多边形 105642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任意多边形 105643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任意多边形 105644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任意多边形 105645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任意多边形 105646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5" name="组合 105647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826" name="任意多边形 105648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任意多边形 105649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任意多边形 105650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任意多边形 105651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任意多边形 105652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任意多边形 105653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任意多边形 105654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任意多边形 105655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任意多边形 105656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任意多边形 105657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任意多边形 105658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任意多边形 105659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任意多边形 105660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9" name="组合 105661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40" name="任意多边形 105662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任意多边形 105663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任意多边形 105664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任意多边形 105665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任意多边形 105666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任意多边形 105667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任意多边形 105668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任意多边形 105669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任意多边形 105670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任意多边形 105671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任意多边形 105672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任意多边形 105673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任意多边形 105674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3" name="组合 105675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1854" name="任意多边形 105676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任意多边形 105677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任意多边形 105678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任意多边形 105679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任意多边形 105680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任意多边形 105681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任意多边形 105682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任意多边形 105683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任意多边形 105684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任意多边形 105685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任意多边形 105686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任意多边形 105687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任意多边形 105688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7" name="组合 105689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1868" name="任意多边形 105690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任意多边形 105691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任意多边形 105692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任意多边形 105693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任意多边形 105694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任意多边形 105695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任意多边形 105696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任意多边形 105697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任意多边形 105698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任意多边形 105699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任意多边形 105700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任意多边形 105701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任意多边形 105702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1" name="组合 105703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1882" name="任意多边形 105704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3" name="组合 105705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1884" name="任意多边形 105706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任意多边形 105707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任意多边形 105708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任意多边形 105709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任意多边形 105710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任意多边形 105711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任意多边形 105712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任意多边形 105713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任意多边形 105714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任意多边形 105715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任意多边形 105716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任意多边形 105717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任意多边形 105718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 type="dt" idx="19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 type="ftr" idx="20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5"/>
          <p:cNvSpPr>
            <a:spLocks noGrp="1"/>
          </p:cNvSpPr>
          <p:nvPr>
            <p:ph type="sldNum" idx="21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AC68-308C-4A0C-9DC3-F7B1868DB9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8" name="组合 105473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939" name="矩形 105474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任意多边形 105475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任意多边形 105476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任意多边形 105477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任意多边形 105478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任意多边形 105479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任意多边形 105480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任意多边形 105481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任意多边形 105482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任意多边形 105483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任意多边形 105484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矩形 105485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矩形 105486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任意多边形 105487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任意多边形 105488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任意多边形 105489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任意多边形 105490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任意多边形 105491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任意多边形 105492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任意多边形 105493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任意多边形 105494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任意多边形 105495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任意多边形 105496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矩形 105497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矩形 105498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任意多边形 105499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任意多边形 105500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任意多边形 105501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任意多边形 105502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任意多边形 105503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任意多边形 105504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任意多边形 105505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任意多边形 105506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任意多边形 105507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任意多边形 105508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矩形 105509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矩形 105510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任意多边形 105511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任意多边形 105512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任意多边形 105513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任意多边形 105514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任意多边形 105515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任意多边形 105516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任意多边形 105517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任意多边形 105518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任意多边形 105519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任意多边形 105520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矩形 105521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矩形 105522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任意多边形 105523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任意多边形 105524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任意多边形 105525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任意多边形 105526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任意多边形 105527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任意多边形 105528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任意多边形 105529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任意多边形 105530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任意多边形 105531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任意多边形 105532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矩形 105533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矩形 105534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任意多边形 105535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任意多边形 105536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任意多边形 105537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任意多边形 105538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任意多边形 105539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任意多边形 105540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任意多边形 105541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任意多边形 105542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任意多边形 105543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任意多边形 105544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矩形 105545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矩形 105546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任意多边形 105547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任意多边形 105548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任意多边形 105549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任意多边形 105550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任意多边形 105551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任意多边形 105552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任意多边形 105553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任意多边形 105554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任意多边形 105555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任意多边形 105556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矩形 105557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矩形 105558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任意多边形 105559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任意多边形 105560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任意多边形 105561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任意多边形 105562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任意多边形 105563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任意多边形 105564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任意多边形 105565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任意多边形 105566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任意多边形 105567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任意多边形 105568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矩形 105569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矩形 105570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任意多边形 105571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任意多边形 105572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任意多边形 105573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任意多边形 105574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任意多边形 105575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任意多边形 105576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任意多边形 105577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任意多边形 105578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任意多边形 105579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任意多边形 105580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矩形 105581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矩形 105582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任意多边形 105583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任意多边形 105584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任意多边形 105585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任意多边形 105586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任意多边形 105587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任意多边形 105588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任意多边形 105589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任意多边形 105590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任意多边形 105591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任意多边形 105592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矩形 105593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矩形 105594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任意多边形 105595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任意多边形 105596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任意多边形 105597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任意多边形 105598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任意多边形 105599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任意多边形 105600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任意多边形 105601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任意多边形 105602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任意多边形 105603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任意多边形 105604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矩形 105605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矩形 105606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任意多边形 105607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任意多边形 105608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任意多边形 105609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任意多边形 105610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任意多边形 105611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任意多边形 105612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任意多边形 105613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任意多边形 105614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任意多边形 105615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任意多边形 105616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矩形 105617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任意多边形 105618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4" name="组合 105619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2085" name="任意多边形 105620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任意多边形 105621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任意多边形 105622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任意多边形 105623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任意多边形 105624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任意多边形 105625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任意多边形 105626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任意多边形 105627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任意多边形 105628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任意多边形 105629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任意多边形 105630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任意多边形 105631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任意多边形 105632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8" name="组合 105633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99" name="任意多边形 105634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任意多边形 105635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任意多边形 105636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任意多边形 105637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任意多边形 105638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任意多边形 105639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任意多边形 105640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任意多边形 105641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任意多边形 105642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任意多边形 105643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任意多边形 105644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任意多边形 105645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任意多边形 105646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2" name="组合 105647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13" name="任意多边形 105648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任意多边形 105649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任意多边形 105650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任意多边形 105651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任意多边形 105652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任意多边形 105653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任意多边形 105654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任意多边形 105655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任意多边形 105656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任意多边形 105657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任意多边形 105658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任意多边形 105659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任意多边形 105660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6" name="组合 105661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127" name="任意多边形 105662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任意多边形 105663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任意多边形 105664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任意多边形 105665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任意多边形 105666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任意多边形 105667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任意多边形 105668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任意多边形 105669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任意多边形 105670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任意多边形 105671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任意多边形 105672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任意多边形 105673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任意多边形 105674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0" name="组合 105675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141" name="任意多边形 105676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任意多边形 105677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任意多边形 105678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任意多边形 105679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任意多边形 105680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任意多边形 105681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任意多边形 105682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任意多边形 105683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任意多边形 105684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任意多边形 105685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任意多边形 105686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任意多边形 105687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任意多边形 105688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4" name="组合 105689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55" name="任意多边形 105690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任意多边形 105691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任意多边形 105692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任意多边形 105693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任意多边形 105694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任意多边形 105695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任意多边形 105696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任意多边形 105697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任意多边形 105698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任意多边形 105699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任意多边形 105700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任意多边形 105701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任意多边形 105702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8" name="组合 105703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169" name="任意多边形 105704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0" name="组合 105705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171" name="任意多边形 105706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任意多边形 105707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任意多边形 105708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任意多边形 105709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任意多边形 105710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任意多边形 105711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任意多边形 105712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任意多边形 105713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任意多边形 105714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任意多边形 105715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任意多边形 105716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任意多边形 105717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任意多边形 105718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 type="dt" idx="22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PlaceHolder 4"/>
          <p:cNvSpPr>
            <a:spLocks noGrp="1"/>
          </p:cNvSpPr>
          <p:nvPr>
            <p:ph type="ftr" idx="23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5"/>
          <p:cNvSpPr>
            <a:spLocks noGrp="1"/>
          </p:cNvSpPr>
          <p:nvPr>
            <p:ph type="sldNum" idx="24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04A1-07E3-479D-A13D-B82481DBDB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5" name="组合 105473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2226" name="矩形 105474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任意多边形 105475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任意多边形 105476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任意多边形 105477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任意多边形 105478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任意多边形 105479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任意多边形 105480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任意多边形 105481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任意多边形 105482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任意多边形 105483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任意多边形 105484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矩形 105485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矩形 105486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任意多边形 105487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任意多边形 105488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任意多边形 105489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任意多边形 105490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任意多边形 105491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任意多边形 105492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任意多边形 105493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任意多边形 105494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任意多边形 105495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任意多边形 105496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矩形 105497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矩形 105498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任意多边形 105499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任意多边形 105500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任意多边形 105501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任意多边形 105502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任意多边形 105503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任意多边形 105504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任意多边形 105505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任意多边形 105506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任意多边形 105507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任意多边形 105508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矩形 105509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矩形 105510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任意多边形 105511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任意多边形 105512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任意多边形 105513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任意多边形 105514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任意多边形 105515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任意多边形 105516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任意多边形 105517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任意多边形 105518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任意多边形 105519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任意多边形 105520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矩形 105521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矩形 105522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任意多边形 105523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任意多边形 105524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任意多边形 105525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任意多边形 105526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任意多边形 105527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任意多边形 105528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任意多边形 105529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任意多边形 105530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任意多边形 105531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任意多边形 105532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矩形 105533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矩形 105534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任意多边形 105535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任意多边形 105536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任意多边形 105537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任意多边形 105538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任意多边形 105539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任意多边形 105540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任意多边形 105541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任意多边形 105542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任意多边形 105543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任意多边形 105544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矩形 105545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矩形 105546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任意多边形 105547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任意多边形 105548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任意多边形 105549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任意多边形 105550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任意多边形 105551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任意多边形 105552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任意多边形 105553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任意多边形 105554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任意多边形 105555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任意多边形 105556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矩形 105557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矩形 105558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任意多边形 105559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任意多边形 105560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任意多边形 105561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任意多边形 105562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任意多边形 105563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任意多边形 105564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任意多边形 105565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任意多边形 105566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任意多边形 105567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任意多边形 105568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矩形 105569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矩形 105570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任意多边形 105571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任意多边形 105572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任意多边形 105573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任意多边形 105574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任意多边形 105575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任意多边形 105576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任意多边形 105577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任意多边形 105578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任意多边形 105579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任意多边形 105580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矩形 105581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矩形 105582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任意多边形 105583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任意多边形 105584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任意多边形 105585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任意多边形 105586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任意多边形 105587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任意多边形 105588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任意多边形 105589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任意多边形 105590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任意多边形 105591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任意多边形 105592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矩形 105593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矩形 105594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任意多边形 105595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任意多边形 105596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任意多边形 105597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任意多边形 105598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任意多边形 105599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任意多边形 105600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任意多边形 105601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任意多边形 105602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任意多边形 105603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任意多边形 105604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矩形 105605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矩形 105606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任意多边形 105607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任意多边形 105608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任意多边形 105609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任意多边形 105610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任意多边形 105611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任意多边形 105612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任意多边形 105613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任意多边形 105614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任意多边形 105615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任意多边形 105616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矩形 105617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任意多边形 105618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1" name="组合 105619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2372" name="任意多边形 105620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任意多边形 105621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任意多边形 105622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任意多边形 105623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任意多边形 105624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任意多边形 105625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任意多边形 105626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任意多边形 105627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任意多边形 105628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任意多边形 105629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任意多边形 105630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任意多边形 105631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任意多边形 105632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5" name="组合 105633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386" name="任意多边形 105634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任意多边形 105635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任意多边形 105636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任意多边形 105637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任意多边形 105638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任意多边形 105639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任意多边形 105640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任意多边形 105641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任意多边形 105642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任意多边形 105643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任意多边形 105644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任意多边形 105645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任意多边形 105646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9" name="组合 105647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400" name="任意多边形 105648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任意多边形 105649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任意多边形 105650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任意多边形 105651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任意多边形 105652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任意多边形 105653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任意多边形 105654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任意多边形 105655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任意多边形 105656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任意多边形 105657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任意多边形 105658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任意多边形 105659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任意多边形 105660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3" name="组合 105661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414" name="任意多边形 105662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任意多边形 105663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任意多边形 105664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任意多边形 105665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任意多边形 105666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任意多边形 105667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任意多边形 105668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任意多边形 105669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任意多边形 105670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任意多边形 105671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任意多边形 105672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任意多边形 105673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任意多边形 105674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7" name="组合 105675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28" name="任意多边形 105676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任意多边形 105677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任意多边形 105678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任意多边形 105679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任意多边形 105680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任意多边形 105681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任意多边形 105682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任意多边形 105683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任意多边形 105684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任意多边形 105685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任意多边形 105686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任意多边形 105687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任意多边形 105688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1" name="组合 105689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442" name="任意多边形 105690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任意多边形 105691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任意多边形 105692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任意多边形 105693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任意多边形 105694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任意多边形 105695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任意多边形 105696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任意多边形 105697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任意多边形 105698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任意多边形 105699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任意多边形 105700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任意多边形 105701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任意多边形 105702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5" name="组合 105703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456" name="任意多边形 105704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7" name="组合 105705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458" name="任意多边形 105706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任意多边形 105707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任意多边形 105708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任意多边形 105709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任意多边形 105710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任意多边形 105711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任意多边形 105712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任意多边形 105713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任意多边形 105714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任意多边形 105715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任意多边形 105716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任意多边形 105717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任意多边形 105718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PlaceHolder 3"/>
          <p:cNvSpPr>
            <a:spLocks noGrp="1"/>
          </p:cNvSpPr>
          <p:nvPr>
            <p:ph type="dt" idx="25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PlaceHolder 4"/>
          <p:cNvSpPr>
            <a:spLocks noGrp="1"/>
          </p:cNvSpPr>
          <p:nvPr>
            <p:ph type="ftr" idx="26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PlaceHolder 5"/>
          <p:cNvSpPr>
            <a:spLocks noGrp="1"/>
          </p:cNvSpPr>
          <p:nvPr>
            <p:ph type="sldNum" idx="27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BBA3-850E-4F5E-997A-1A24450E89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8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8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8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0" name="矩形 2" descr=""/>
          <p:cNvPicPr/>
          <p:nvPr/>
        </p:nvPicPr>
        <p:blipFill>
          <a:blip r:embed="rId2"/>
          <a:stretch/>
        </p:blipFill>
        <p:spPr>
          <a:xfrm>
            <a:off x="3333600" y="1736640"/>
            <a:ext cx="651672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3382560" y="639360"/>
            <a:ext cx="1739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自 尊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835200" y="1978200"/>
            <a:ext cx="724824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首先是自尊为本，自尊自爱，爱护自己的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次要尊重自己的职业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闻道有先后，术业有专攻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三要尊重自己的公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9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尊重他人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460" name="PlaceHolder 2"/>
          <p:cNvSpPr>
            <a:spLocks noGrp="1"/>
          </p:cNvSpPr>
          <p:nvPr>
            <p:ph/>
          </p:nvPr>
        </p:nvSpPr>
        <p:spPr>
          <a:xfrm>
            <a:off x="1544760" y="2053800"/>
            <a:ext cx="6464160" cy="31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f0531"/>
                </a:solidFill>
                <a:latin typeface="Arial"/>
                <a:ea typeface="MS Mincho"/>
              </a:rPr>
              <a:t>对不同人的尊重体现</a:t>
            </a:r>
            <a:r>
              <a:rPr b="0" lang="zh-CN" sz="2800" spc="-1" strike="noStrike">
                <a:solidFill>
                  <a:srgbClr val="9f0531"/>
                </a:solidFill>
                <a:latin typeface="Arial"/>
              </a:rPr>
              <a:t>的</a:t>
            </a:r>
            <a:r>
              <a:rPr b="0" lang="zh-CN" sz="2800" spc="-1" strike="noStrike">
                <a:solidFill>
                  <a:srgbClr val="9f0531"/>
                </a:solidFill>
                <a:latin typeface="Arial"/>
                <a:ea typeface="MS Mincho"/>
              </a:rPr>
              <a:t>个人修养</a:t>
            </a:r>
            <a:r>
              <a:rPr b="0" lang="zh-CN" sz="2800" spc="-1" strike="noStrike">
                <a:solidFill>
                  <a:srgbClr val="9f0531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尊重上级是一种天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尊重下级是一种美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尊重客户是一种常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尊重同事是一种本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尊重所有人是一种教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1" name="Diagram 2"/>
          <p:cNvGrpSpPr/>
          <p:nvPr/>
        </p:nvGrpSpPr>
        <p:grpSpPr>
          <a:xfrm>
            <a:off x="685800" y="1828800"/>
            <a:ext cx="8076960" cy="4266720"/>
            <a:chOff x="685800" y="1828800"/>
            <a:chExt cx="8076960" cy="4266720"/>
          </a:xfrm>
        </p:grpSpPr>
        <p:sp>
          <p:nvSpPr>
            <p:cNvPr id="3462" name="AutoShape 3"/>
            <p:cNvSpPr/>
            <p:nvPr/>
          </p:nvSpPr>
          <p:spPr>
            <a:xfrm>
              <a:off x="685800" y="1828800"/>
              <a:ext cx="8076960" cy="4266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d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_s4100"/>
            <p:cNvSpPr/>
            <p:nvPr/>
          </p:nvSpPr>
          <p:spPr>
            <a:xfrm flipH="1" flipV="1">
              <a:off x="3972600" y="3295080"/>
              <a:ext cx="378000" cy="33300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_s4101"/>
            <p:cNvSpPr/>
            <p:nvPr/>
          </p:nvSpPr>
          <p:spPr>
            <a:xfrm>
              <a:off x="3119760" y="2432520"/>
              <a:ext cx="959400" cy="10666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从俗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_s4102"/>
            <p:cNvSpPr/>
            <p:nvPr/>
          </p:nvSpPr>
          <p:spPr>
            <a:xfrm flipH="1">
              <a:off x="3787920" y="4078800"/>
              <a:ext cx="469440" cy="1198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_s4103"/>
            <p:cNvSpPr/>
            <p:nvPr/>
          </p:nvSpPr>
          <p:spPr>
            <a:xfrm>
              <a:off x="2842920" y="3784320"/>
              <a:ext cx="959400" cy="10666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适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_s4104"/>
            <p:cNvSpPr/>
            <p:nvPr/>
          </p:nvSpPr>
          <p:spPr>
            <a:xfrm flipH="1">
              <a:off x="4309560" y="4440240"/>
              <a:ext cx="208080" cy="48312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_s4105"/>
            <p:cNvSpPr/>
            <p:nvPr/>
          </p:nvSpPr>
          <p:spPr>
            <a:xfrm>
              <a:off x="3621240" y="4867560"/>
              <a:ext cx="959400" cy="10666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真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_s4106"/>
            <p:cNvSpPr/>
            <p:nvPr/>
          </p:nvSpPr>
          <p:spPr>
            <a:xfrm>
              <a:off x="4932360" y="4440240"/>
              <a:ext cx="209880" cy="48096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_s4107"/>
            <p:cNvSpPr/>
            <p:nvPr/>
          </p:nvSpPr>
          <p:spPr>
            <a:xfrm>
              <a:off x="4869360" y="4867560"/>
              <a:ext cx="959400" cy="10666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平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_s4108"/>
            <p:cNvSpPr/>
            <p:nvPr/>
          </p:nvSpPr>
          <p:spPr>
            <a:xfrm>
              <a:off x="5192280" y="4078800"/>
              <a:ext cx="468000" cy="1180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_s4109"/>
            <p:cNvSpPr/>
            <p:nvPr/>
          </p:nvSpPr>
          <p:spPr>
            <a:xfrm>
              <a:off x="5647320" y="3782520"/>
              <a:ext cx="959400" cy="10666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宽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_s4110"/>
            <p:cNvSpPr/>
            <p:nvPr/>
          </p:nvSpPr>
          <p:spPr>
            <a:xfrm flipV="1">
              <a:off x="5099040" y="3295080"/>
              <a:ext cx="374760" cy="33300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_s4111"/>
            <p:cNvSpPr/>
            <p:nvPr/>
          </p:nvSpPr>
          <p:spPr>
            <a:xfrm>
              <a:off x="5369400" y="2430360"/>
              <a:ext cx="959400" cy="10666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敬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_s4112"/>
            <p:cNvSpPr/>
            <p:nvPr/>
          </p:nvSpPr>
          <p:spPr>
            <a:xfrm flipV="1">
              <a:off x="4724280" y="2895120"/>
              <a:ext cx="0" cy="53316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_s4113"/>
            <p:cNvSpPr/>
            <p:nvPr/>
          </p:nvSpPr>
          <p:spPr>
            <a:xfrm>
              <a:off x="4244400" y="1828800"/>
              <a:ext cx="959400" cy="106668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律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_s4114"/>
            <p:cNvSpPr/>
            <p:nvPr/>
          </p:nvSpPr>
          <p:spPr>
            <a:xfrm>
              <a:off x="4244400" y="3428640"/>
              <a:ext cx="959400" cy="10666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礼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原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8" name="Rectangle 19"/>
          <p:cNvSpPr/>
          <p:nvPr/>
        </p:nvSpPr>
        <p:spPr>
          <a:xfrm>
            <a:off x="4552200" y="9144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Comic Sans MS"/>
              </a:rPr>
              <a:t>礼仪的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AutoShape 20"/>
          <p:cNvSpPr/>
          <p:nvPr/>
        </p:nvSpPr>
        <p:spPr>
          <a:xfrm>
            <a:off x="838080" y="2362320"/>
            <a:ext cx="2590920" cy="3657600"/>
          </a:xfrm>
          <a:prstGeom prst="wedgeRoundRectCallout">
            <a:avLst>
              <a:gd name="adj1" fmla="val 140194"/>
              <a:gd name="adj2" fmla="val 782"/>
              <a:gd name="adj3" fmla="val 16667"/>
            </a:avLst>
          </a:prstGeom>
          <a:solidFill>
            <a:srgbClr val="e1f4ff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100fa"/>
                </a:solidFill>
                <a:latin typeface="宋体"/>
              </a:rPr>
              <a:t>既要严于律己，更要宽以待人。要多容忍他人，多体谅他人，多理解他人，千万不要求全责备，斤斤计较，过分苛求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PlaceHolder 1"/>
          <p:cNvSpPr>
            <a:spLocks noGrp="1"/>
          </p:cNvSpPr>
          <p:nvPr>
            <p:ph type="title"/>
          </p:nvPr>
        </p:nvSpPr>
        <p:spPr>
          <a:xfrm>
            <a:off x="1294920" y="152352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宽容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1" name="Diagram 2"/>
          <p:cNvGrpSpPr/>
          <p:nvPr/>
        </p:nvGrpSpPr>
        <p:grpSpPr>
          <a:xfrm>
            <a:off x="685800" y="1905120"/>
            <a:ext cx="8076960" cy="4190400"/>
            <a:chOff x="685800" y="1905120"/>
            <a:chExt cx="8076960" cy="4190400"/>
          </a:xfrm>
        </p:grpSpPr>
        <p:sp>
          <p:nvSpPr>
            <p:cNvPr id="3482" name="AutoShape 3"/>
            <p:cNvSpPr/>
            <p:nvPr/>
          </p:nvSpPr>
          <p:spPr>
            <a:xfrm>
              <a:off x="685800" y="1905120"/>
              <a:ext cx="8076960" cy="419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d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_s5124"/>
            <p:cNvSpPr/>
            <p:nvPr/>
          </p:nvSpPr>
          <p:spPr>
            <a:xfrm flipH="1" flipV="1">
              <a:off x="3972600" y="3345840"/>
              <a:ext cx="378000" cy="3268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_s5125"/>
            <p:cNvSpPr/>
            <p:nvPr/>
          </p:nvSpPr>
          <p:spPr>
            <a:xfrm>
              <a:off x="3119760" y="2498040"/>
              <a:ext cx="959400" cy="1047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从俗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_s5126"/>
            <p:cNvSpPr/>
            <p:nvPr/>
          </p:nvSpPr>
          <p:spPr>
            <a:xfrm flipH="1">
              <a:off x="3787920" y="4114800"/>
              <a:ext cx="469440" cy="11772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_s5127"/>
            <p:cNvSpPr/>
            <p:nvPr/>
          </p:nvSpPr>
          <p:spPr>
            <a:xfrm>
              <a:off x="2842920" y="3825720"/>
              <a:ext cx="959400" cy="1047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适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_s5128"/>
            <p:cNvSpPr/>
            <p:nvPr/>
          </p:nvSpPr>
          <p:spPr>
            <a:xfrm flipH="1">
              <a:off x="4309560" y="4469760"/>
              <a:ext cx="208080" cy="4744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_s5129"/>
            <p:cNvSpPr/>
            <p:nvPr/>
          </p:nvSpPr>
          <p:spPr>
            <a:xfrm>
              <a:off x="3621240" y="4889520"/>
              <a:ext cx="959400" cy="1047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真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_s5130"/>
            <p:cNvSpPr/>
            <p:nvPr/>
          </p:nvSpPr>
          <p:spPr>
            <a:xfrm>
              <a:off x="4932360" y="4469760"/>
              <a:ext cx="209880" cy="4726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_s5131"/>
            <p:cNvSpPr/>
            <p:nvPr/>
          </p:nvSpPr>
          <p:spPr>
            <a:xfrm>
              <a:off x="4869360" y="4889520"/>
              <a:ext cx="959400" cy="1047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平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_s5132"/>
            <p:cNvSpPr/>
            <p:nvPr/>
          </p:nvSpPr>
          <p:spPr>
            <a:xfrm>
              <a:off x="5192280" y="4114800"/>
              <a:ext cx="468000" cy="1162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_s5133"/>
            <p:cNvSpPr/>
            <p:nvPr/>
          </p:nvSpPr>
          <p:spPr>
            <a:xfrm>
              <a:off x="5647320" y="3823920"/>
              <a:ext cx="959400" cy="1047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宽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_s5134"/>
            <p:cNvSpPr/>
            <p:nvPr/>
          </p:nvSpPr>
          <p:spPr>
            <a:xfrm flipV="1">
              <a:off x="5099040" y="3345840"/>
              <a:ext cx="374760" cy="3268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_s5135"/>
            <p:cNvSpPr/>
            <p:nvPr/>
          </p:nvSpPr>
          <p:spPr>
            <a:xfrm>
              <a:off x="5369400" y="2495880"/>
              <a:ext cx="959400" cy="1047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敬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_s5136"/>
            <p:cNvSpPr/>
            <p:nvPr/>
          </p:nvSpPr>
          <p:spPr>
            <a:xfrm flipV="1">
              <a:off x="4724280" y="2952360"/>
              <a:ext cx="0" cy="52380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_s5137"/>
            <p:cNvSpPr/>
            <p:nvPr/>
          </p:nvSpPr>
          <p:spPr>
            <a:xfrm>
              <a:off x="4244400" y="1905120"/>
              <a:ext cx="959400" cy="10476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律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_s5138"/>
            <p:cNvSpPr/>
            <p:nvPr/>
          </p:nvSpPr>
          <p:spPr>
            <a:xfrm>
              <a:off x="4244400" y="3476520"/>
              <a:ext cx="959400" cy="10476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礼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原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8" name="Rectangle 19"/>
          <p:cNvSpPr/>
          <p:nvPr/>
        </p:nvSpPr>
        <p:spPr>
          <a:xfrm>
            <a:off x="5386680" y="9907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Comic Sans MS"/>
              </a:rPr>
              <a:t>礼仪的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AutoShape 20"/>
          <p:cNvSpPr/>
          <p:nvPr/>
        </p:nvSpPr>
        <p:spPr>
          <a:xfrm>
            <a:off x="-304920" y="1752480"/>
            <a:ext cx="5639040" cy="2819520"/>
          </a:xfrm>
          <a:prstGeom prst="wedgeRoundRectCallout">
            <a:avLst>
              <a:gd name="adj1" fmla="val 47240"/>
              <a:gd name="adj2" fmla="val 76296"/>
              <a:gd name="adj3" fmla="val 16667"/>
            </a:avLst>
          </a:prstGeom>
          <a:solidFill>
            <a:srgbClr val="e1f4ff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对任何交往对象都必须一视同仁，给予同等程度的礼遇。不允许因为交往对象彼此之间在年龄、性别、种族、文化、身份、财富以及关系的亲疏远近等方面有所不同而厚此薄彼，给予不同待遇。但可以根据不同的交往对象，采取不同的具体方法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PlaceHolder 1"/>
          <p:cNvSpPr>
            <a:spLocks noGrp="1"/>
          </p:cNvSpPr>
          <p:nvPr>
            <p:ph type="title"/>
          </p:nvPr>
        </p:nvSpPr>
        <p:spPr>
          <a:xfrm>
            <a:off x="758880" y="609480"/>
            <a:ext cx="1752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平等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1" name="Diagram 2"/>
          <p:cNvGrpSpPr/>
          <p:nvPr/>
        </p:nvGrpSpPr>
        <p:grpSpPr>
          <a:xfrm>
            <a:off x="685800" y="2286000"/>
            <a:ext cx="8076960" cy="3809520"/>
            <a:chOff x="685800" y="2286000"/>
            <a:chExt cx="8076960" cy="3809520"/>
          </a:xfrm>
        </p:grpSpPr>
        <p:sp>
          <p:nvSpPr>
            <p:cNvPr id="3502" name="AutoShape 3"/>
            <p:cNvSpPr/>
            <p:nvPr/>
          </p:nvSpPr>
          <p:spPr>
            <a:xfrm>
              <a:off x="685800" y="2286000"/>
              <a:ext cx="8076960" cy="3809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d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_s6148"/>
            <p:cNvSpPr/>
            <p:nvPr/>
          </p:nvSpPr>
          <p:spPr>
            <a:xfrm flipH="1" flipV="1">
              <a:off x="3972600" y="3595680"/>
              <a:ext cx="378000" cy="29736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_s6149"/>
            <p:cNvSpPr/>
            <p:nvPr/>
          </p:nvSpPr>
          <p:spPr>
            <a:xfrm>
              <a:off x="3119760" y="2824920"/>
              <a:ext cx="959400" cy="9522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从俗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_s6150"/>
            <p:cNvSpPr/>
            <p:nvPr/>
          </p:nvSpPr>
          <p:spPr>
            <a:xfrm flipH="1">
              <a:off x="3787920" y="4295160"/>
              <a:ext cx="469440" cy="10692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_s6151"/>
            <p:cNvSpPr/>
            <p:nvPr/>
          </p:nvSpPr>
          <p:spPr>
            <a:xfrm>
              <a:off x="2842920" y="4032000"/>
              <a:ext cx="959400" cy="9522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适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_s6152"/>
            <p:cNvSpPr/>
            <p:nvPr/>
          </p:nvSpPr>
          <p:spPr>
            <a:xfrm flipH="1">
              <a:off x="4309560" y="4617360"/>
              <a:ext cx="208080" cy="4312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_s6153"/>
            <p:cNvSpPr/>
            <p:nvPr/>
          </p:nvSpPr>
          <p:spPr>
            <a:xfrm>
              <a:off x="3621240" y="4999320"/>
              <a:ext cx="959400" cy="9522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真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_s6154"/>
            <p:cNvSpPr/>
            <p:nvPr/>
          </p:nvSpPr>
          <p:spPr>
            <a:xfrm>
              <a:off x="4932360" y="4617360"/>
              <a:ext cx="209880" cy="4294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_s6155"/>
            <p:cNvSpPr/>
            <p:nvPr/>
          </p:nvSpPr>
          <p:spPr>
            <a:xfrm>
              <a:off x="4869360" y="4999320"/>
              <a:ext cx="959400" cy="9522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平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_s6156"/>
            <p:cNvSpPr/>
            <p:nvPr/>
          </p:nvSpPr>
          <p:spPr>
            <a:xfrm>
              <a:off x="5192280" y="4295160"/>
              <a:ext cx="468000" cy="1054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_s6157"/>
            <p:cNvSpPr/>
            <p:nvPr/>
          </p:nvSpPr>
          <p:spPr>
            <a:xfrm>
              <a:off x="5647320" y="4030200"/>
              <a:ext cx="959400" cy="9522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宽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_s6158"/>
            <p:cNvSpPr/>
            <p:nvPr/>
          </p:nvSpPr>
          <p:spPr>
            <a:xfrm flipV="1">
              <a:off x="5099040" y="3595680"/>
              <a:ext cx="374760" cy="29736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_s6159"/>
            <p:cNvSpPr/>
            <p:nvPr/>
          </p:nvSpPr>
          <p:spPr>
            <a:xfrm>
              <a:off x="5369400" y="2823120"/>
              <a:ext cx="959400" cy="9522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敬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_s6160"/>
            <p:cNvSpPr/>
            <p:nvPr/>
          </p:nvSpPr>
          <p:spPr>
            <a:xfrm flipV="1">
              <a:off x="4724280" y="3238200"/>
              <a:ext cx="0" cy="47592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_s6161"/>
            <p:cNvSpPr/>
            <p:nvPr/>
          </p:nvSpPr>
          <p:spPr>
            <a:xfrm>
              <a:off x="4244400" y="2286000"/>
              <a:ext cx="959400" cy="952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律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_s6162"/>
            <p:cNvSpPr/>
            <p:nvPr/>
          </p:nvSpPr>
          <p:spPr>
            <a:xfrm>
              <a:off x="4244400" y="3714480"/>
              <a:ext cx="959400" cy="9522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礼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原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8" name="Rectangle 19"/>
          <p:cNvSpPr/>
          <p:nvPr/>
        </p:nvSpPr>
        <p:spPr>
          <a:xfrm>
            <a:off x="4780800" y="1143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Comic Sans MS"/>
              </a:rPr>
              <a:t>礼仪的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AutoShape 20"/>
          <p:cNvSpPr/>
          <p:nvPr/>
        </p:nvSpPr>
        <p:spPr>
          <a:xfrm>
            <a:off x="228600" y="1905120"/>
            <a:ext cx="5029200" cy="2590560"/>
          </a:xfrm>
          <a:prstGeom prst="wedgeRoundRectCallout">
            <a:avLst>
              <a:gd name="adj1" fmla="val 29231"/>
              <a:gd name="adj2" fmla="val 79226"/>
              <a:gd name="adj3" fmla="val 16667"/>
            </a:avLst>
          </a:prstGeom>
          <a:solidFill>
            <a:srgbClr val="e1f4ff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4100fa"/>
                </a:solidFill>
                <a:latin typeface="宋体"/>
              </a:rPr>
              <a:t>务必诚实无欺，言行一致，表里如一。只有如此，自己在运用礼仪时所表现出来的对交往对象的尊敬与友好，才会更好地被对方理解并接受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真诚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1" name="Diagram 2"/>
          <p:cNvGrpSpPr/>
          <p:nvPr/>
        </p:nvGrpSpPr>
        <p:grpSpPr>
          <a:xfrm>
            <a:off x="685800" y="2209680"/>
            <a:ext cx="8076960" cy="3809880"/>
            <a:chOff x="685800" y="2209680"/>
            <a:chExt cx="8076960" cy="3809880"/>
          </a:xfrm>
        </p:grpSpPr>
        <p:sp>
          <p:nvSpPr>
            <p:cNvPr id="3522" name="AutoShape 3"/>
            <p:cNvSpPr/>
            <p:nvPr/>
          </p:nvSpPr>
          <p:spPr>
            <a:xfrm>
              <a:off x="685800" y="2209680"/>
              <a:ext cx="8076960" cy="3809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d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_s7172"/>
            <p:cNvSpPr/>
            <p:nvPr/>
          </p:nvSpPr>
          <p:spPr>
            <a:xfrm flipH="1" flipV="1">
              <a:off x="3972600" y="3519360"/>
              <a:ext cx="378000" cy="29736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_s7173"/>
            <p:cNvSpPr/>
            <p:nvPr/>
          </p:nvSpPr>
          <p:spPr>
            <a:xfrm>
              <a:off x="3119760" y="2748960"/>
              <a:ext cx="959400" cy="9522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从俗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_s7174"/>
            <p:cNvSpPr/>
            <p:nvPr/>
          </p:nvSpPr>
          <p:spPr>
            <a:xfrm flipH="1">
              <a:off x="3787920" y="4218840"/>
              <a:ext cx="469440" cy="10692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_s7175"/>
            <p:cNvSpPr/>
            <p:nvPr/>
          </p:nvSpPr>
          <p:spPr>
            <a:xfrm>
              <a:off x="2842920" y="3956040"/>
              <a:ext cx="959400" cy="9522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适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_s7176"/>
            <p:cNvSpPr/>
            <p:nvPr/>
          </p:nvSpPr>
          <p:spPr>
            <a:xfrm flipH="1">
              <a:off x="4309560" y="4541400"/>
              <a:ext cx="208080" cy="43164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_s7177"/>
            <p:cNvSpPr/>
            <p:nvPr/>
          </p:nvSpPr>
          <p:spPr>
            <a:xfrm>
              <a:off x="3621240" y="4923000"/>
              <a:ext cx="959400" cy="9522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真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_s7178"/>
            <p:cNvSpPr/>
            <p:nvPr/>
          </p:nvSpPr>
          <p:spPr>
            <a:xfrm>
              <a:off x="4932360" y="4541400"/>
              <a:ext cx="209880" cy="4294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_s7179"/>
            <p:cNvSpPr/>
            <p:nvPr/>
          </p:nvSpPr>
          <p:spPr>
            <a:xfrm>
              <a:off x="4869360" y="4923000"/>
              <a:ext cx="959400" cy="9522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平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_s7180"/>
            <p:cNvSpPr/>
            <p:nvPr/>
          </p:nvSpPr>
          <p:spPr>
            <a:xfrm>
              <a:off x="5192280" y="4218840"/>
              <a:ext cx="468000" cy="1054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_s7181"/>
            <p:cNvSpPr/>
            <p:nvPr/>
          </p:nvSpPr>
          <p:spPr>
            <a:xfrm>
              <a:off x="5647320" y="3954240"/>
              <a:ext cx="959400" cy="9522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宽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_s7182"/>
            <p:cNvSpPr/>
            <p:nvPr/>
          </p:nvSpPr>
          <p:spPr>
            <a:xfrm flipV="1">
              <a:off x="5099040" y="3519360"/>
              <a:ext cx="374760" cy="29736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_s7183"/>
            <p:cNvSpPr/>
            <p:nvPr/>
          </p:nvSpPr>
          <p:spPr>
            <a:xfrm>
              <a:off x="5369400" y="2746800"/>
              <a:ext cx="959400" cy="9522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敬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_s7184"/>
            <p:cNvSpPr/>
            <p:nvPr/>
          </p:nvSpPr>
          <p:spPr>
            <a:xfrm flipV="1">
              <a:off x="4724280" y="3161880"/>
              <a:ext cx="0" cy="47592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_s7185"/>
            <p:cNvSpPr/>
            <p:nvPr/>
          </p:nvSpPr>
          <p:spPr>
            <a:xfrm>
              <a:off x="4244400" y="2209680"/>
              <a:ext cx="959400" cy="952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律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_s7186"/>
            <p:cNvSpPr/>
            <p:nvPr/>
          </p:nvSpPr>
          <p:spPr>
            <a:xfrm>
              <a:off x="4244400" y="3638160"/>
              <a:ext cx="959400" cy="9522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礼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原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8" name="Rectangle 19"/>
          <p:cNvSpPr/>
          <p:nvPr/>
        </p:nvSpPr>
        <p:spPr>
          <a:xfrm>
            <a:off x="4015080" y="1143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Comic Sans MS"/>
              </a:rPr>
              <a:t>礼仪的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AutoShape 21"/>
          <p:cNvSpPr/>
          <p:nvPr/>
        </p:nvSpPr>
        <p:spPr>
          <a:xfrm>
            <a:off x="457200" y="2438280"/>
            <a:ext cx="1981080" cy="3200400"/>
          </a:xfrm>
          <a:prstGeom prst="wedgeRoundRectCallout">
            <a:avLst>
              <a:gd name="adj1" fmla="val 92870"/>
              <a:gd name="adj2" fmla="val 6995"/>
              <a:gd name="adj3" fmla="val 16667"/>
            </a:avLst>
          </a:prstGeom>
          <a:solidFill>
            <a:srgbClr val="e1f4ff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4100fa"/>
                </a:solidFill>
                <a:latin typeface="宋体"/>
              </a:rPr>
              <a:t>必须注意技巧及其规范，特别要注意做到把握分寸，认真得体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-360" y="1676520"/>
            <a:ext cx="25909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适度</a:t>
            </a: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                                   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1" name="Diagram 2"/>
          <p:cNvGrpSpPr/>
          <p:nvPr/>
        </p:nvGrpSpPr>
        <p:grpSpPr>
          <a:xfrm>
            <a:off x="685800" y="1676520"/>
            <a:ext cx="8229240" cy="4723920"/>
            <a:chOff x="685800" y="1676520"/>
            <a:chExt cx="8229240" cy="4723920"/>
          </a:xfrm>
        </p:grpSpPr>
        <p:sp>
          <p:nvSpPr>
            <p:cNvPr id="3542" name="AutoShape 3"/>
            <p:cNvSpPr/>
            <p:nvPr/>
          </p:nvSpPr>
          <p:spPr>
            <a:xfrm>
              <a:off x="685800" y="1676520"/>
              <a:ext cx="8229240" cy="4723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d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_s8196"/>
            <p:cNvSpPr/>
            <p:nvPr/>
          </p:nvSpPr>
          <p:spPr>
            <a:xfrm flipH="1" flipV="1">
              <a:off x="4034880" y="3300480"/>
              <a:ext cx="385200" cy="36864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_s8197"/>
            <p:cNvSpPr/>
            <p:nvPr/>
          </p:nvSpPr>
          <p:spPr>
            <a:xfrm>
              <a:off x="3165480" y="2345040"/>
              <a:ext cx="977760" cy="11808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从俗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_s8198"/>
            <p:cNvSpPr/>
            <p:nvPr/>
          </p:nvSpPr>
          <p:spPr>
            <a:xfrm flipH="1">
              <a:off x="3846240" y="4167720"/>
              <a:ext cx="478440" cy="13284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_s8199"/>
            <p:cNvSpPr/>
            <p:nvPr/>
          </p:nvSpPr>
          <p:spPr>
            <a:xfrm>
              <a:off x="2883600" y="3841920"/>
              <a:ext cx="977760" cy="11808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适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_s8200"/>
            <p:cNvSpPr/>
            <p:nvPr/>
          </p:nvSpPr>
          <p:spPr>
            <a:xfrm flipH="1">
              <a:off x="4377240" y="4567680"/>
              <a:ext cx="212040" cy="53496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_s8201"/>
            <p:cNvSpPr/>
            <p:nvPr/>
          </p:nvSpPr>
          <p:spPr>
            <a:xfrm>
              <a:off x="3676680" y="5041080"/>
              <a:ext cx="977760" cy="11808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真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_s8202"/>
            <p:cNvSpPr/>
            <p:nvPr/>
          </p:nvSpPr>
          <p:spPr>
            <a:xfrm>
              <a:off x="5012640" y="4567680"/>
              <a:ext cx="213840" cy="53280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_s8203"/>
            <p:cNvSpPr/>
            <p:nvPr/>
          </p:nvSpPr>
          <p:spPr>
            <a:xfrm>
              <a:off x="4948200" y="5041080"/>
              <a:ext cx="977760" cy="11808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平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_s8204"/>
            <p:cNvSpPr/>
            <p:nvPr/>
          </p:nvSpPr>
          <p:spPr>
            <a:xfrm>
              <a:off x="5277240" y="4167720"/>
              <a:ext cx="476640" cy="13104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_s8205"/>
            <p:cNvSpPr/>
            <p:nvPr/>
          </p:nvSpPr>
          <p:spPr>
            <a:xfrm>
              <a:off x="5740920" y="3839400"/>
              <a:ext cx="977760" cy="11808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宽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_s8206"/>
            <p:cNvSpPr/>
            <p:nvPr/>
          </p:nvSpPr>
          <p:spPr>
            <a:xfrm flipV="1">
              <a:off x="5182200" y="3300480"/>
              <a:ext cx="381600" cy="36864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_s8207"/>
            <p:cNvSpPr/>
            <p:nvPr/>
          </p:nvSpPr>
          <p:spPr>
            <a:xfrm>
              <a:off x="5457600" y="2342520"/>
              <a:ext cx="977760" cy="11808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敬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_s8208"/>
            <p:cNvSpPr/>
            <p:nvPr/>
          </p:nvSpPr>
          <p:spPr>
            <a:xfrm flipV="1">
              <a:off x="4800240" y="2857320"/>
              <a:ext cx="0" cy="59040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_s8209"/>
            <p:cNvSpPr/>
            <p:nvPr/>
          </p:nvSpPr>
          <p:spPr>
            <a:xfrm>
              <a:off x="4311360" y="1676520"/>
              <a:ext cx="977760" cy="11808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律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_s8210"/>
            <p:cNvSpPr/>
            <p:nvPr/>
          </p:nvSpPr>
          <p:spPr>
            <a:xfrm>
              <a:off x="4311360" y="3448080"/>
              <a:ext cx="977760" cy="11808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礼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原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8" name="AutoShape 3091"/>
          <p:cNvSpPr/>
          <p:nvPr/>
        </p:nvSpPr>
        <p:spPr>
          <a:xfrm>
            <a:off x="0" y="2743200"/>
            <a:ext cx="3124080" cy="3276720"/>
          </a:xfrm>
          <a:prstGeom prst="wedgeRoundRectCallout">
            <a:avLst>
              <a:gd name="adj1" fmla="val 78504"/>
              <a:gd name="adj2" fmla="val -38564"/>
              <a:gd name="adj3" fmla="val 16667"/>
            </a:avLst>
          </a:prstGeom>
          <a:solidFill>
            <a:srgbClr val="e1f4ff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4100fa"/>
                </a:solidFill>
                <a:latin typeface="宋体"/>
              </a:rPr>
              <a:t>由于国情、民族、文化背景的不同，必须坚持入乡随俗，与绝大多数人的习惯做法保持一致。切勿目中无人、自以为是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1371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从俗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60" name="Rectangle 3093"/>
          <p:cNvSpPr/>
          <p:nvPr/>
        </p:nvSpPr>
        <p:spPr>
          <a:xfrm>
            <a:off x="4015080" y="1143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Comic Sans MS"/>
              </a:rPr>
              <a:t>礼仪的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学习礼仪要达到的目标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e0d0c"/>
                </a:solidFill>
                <a:latin typeface="Arial"/>
              </a:rPr>
              <a:t>懂得人际交往的一般礼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e0d0c"/>
                </a:solidFill>
                <a:latin typeface="Arial"/>
              </a:rPr>
              <a:t>提升职业成熟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e0d0c"/>
                </a:solidFill>
                <a:latin typeface="Arial"/>
              </a:rPr>
              <a:t>掌握职业素养的评价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e0d0c"/>
                </a:solidFill>
                <a:latin typeface="Arial"/>
              </a:rPr>
              <a:t>提高职业修养和礼仪水准，使之固化为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e0d0c"/>
                </a:solidFill>
                <a:latin typeface="Arial"/>
              </a:rPr>
              <a:t>培育高素质职场环境，提升企业与个人附加价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993366"/>
                </a:solidFill>
                <a:uFillTx/>
                <a:latin typeface="Arial"/>
                <a:ea typeface="华文行楷"/>
              </a:rPr>
              <a:t>职业形象塑造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64" name="PlaceHolder 2"/>
          <p:cNvSpPr>
            <a:spLocks noGrp="1"/>
          </p:cNvSpPr>
          <p:nvPr>
            <p:ph/>
          </p:nvPr>
        </p:nvSpPr>
        <p:spPr>
          <a:xfrm>
            <a:off x="835200" y="2356920"/>
            <a:ext cx="264312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66"/>
                </a:solidFill>
                <a:latin typeface="Arial"/>
                <a:ea typeface="华文行楷"/>
              </a:rPr>
              <a:t>   </a:t>
            </a:r>
            <a:r>
              <a:rPr b="1" lang="zh-CN" sz="4400" spc="-1" strike="noStrike">
                <a:solidFill>
                  <a:srgbClr val="993366"/>
                </a:solidFill>
                <a:latin typeface="Arial"/>
                <a:ea typeface="华文行楷"/>
              </a:rPr>
              <a:t>＊仪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66"/>
                </a:solidFill>
                <a:latin typeface="Arial"/>
                <a:ea typeface="华文行楷"/>
              </a:rPr>
              <a:t>   </a:t>
            </a:r>
            <a:r>
              <a:rPr b="1" lang="zh-CN" sz="4400" spc="-1" strike="noStrike">
                <a:solidFill>
                  <a:srgbClr val="993366"/>
                </a:solidFill>
                <a:latin typeface="Arial"/>
                <a:ea typeface="华文行楷"/>
              </a:rPr>
              <a:t>＊仪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66"/>
                </a:solidFill>
                <a:latin typeface="Arial"/>
                <a:ea typeface="华文行楷"/>
              </a:rPr>
              <a:t>   </a:t>
            </a:r>
            <a:r>
              <a:rPr b="1" lang="zh-CN" sz="4400" spc="-1" strike="noStrike">
                <a:solidFill>
                  <a:srgbClr val="993366"/>
                </a:solidFill>
                <a:latin typeface="Arial"/>
                <a:ea typeface="华文行楷"/>
              </a:rPr>
              <a:t>＊仪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5" name="Picture 6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800600" y="2286000"/>
            <a:ext cx="34290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3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3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3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华文行楷"/>
                <a:ea typeface="华文行楷"/>
              </a:rPr>
              <a:t>仪  容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67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华文行楷"/>
              </a:rPr>
              <a:t>＊男士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华文行楷"/>
              </a:rPr>
              <a:t>面部、头发、双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华文行楷"/>
              </a:rPr>
              <a:t>＊女士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华文行楷"/>
              </a:rPr>
              <a:t>面部、头发、双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形象礼仪培训课程内容简介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82" name=""/>
          <p:cNvSpPr txBox="1"/>
          <p:nvPr/>
        </p:nvSpPr>
        <p:spPr>
          <a:xfrm>
            <a:off x="468360" y="23320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的着装打扮（轮廓、面料、颜色、细节），发型，脸部仪容，以及更重要的：这套着装是否最好表现出你的气质，你的个性，你的专业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的礼仪举止。当你起身，微笑，跟对方握手的那一霎那，你是否是一个有内涵、有风度的专业人士已经在对方心中打出了分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的说话谈吐。你的声音、语速和态度，都是对方与你交谈的重要因素，注重沟通的艺术，能让你在与人交往的过程中，永远立于不败之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8" name="Rectangle 2"/>
          <p:cNvSpPr/>
          <p:nvPr/>
        </p:nvSpPr>
        <p:spPr>
          <a:xfrm>
            <a:off x="1371600" y="1523880"/>
            <a:ext cx="7162920" cy="34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66"/>
                </a:solidFill>
                <a:latin typeface="华文行楷"/>
                <a:ea typeface="华文行楷"/>
              </a:rPr>
              <a:t>＊</a:t>
            </a:r>
            <a:r>
              <a:rPr b="1" lang="zh-CN" sz="2800" spc="-1" strike="noStrike">
                <a:solidFill>
                  <a:srgbClr val="993366"/>
                </a:solidFill>
                <a:latin typeface="华文行楷"/>
                <a:ea typeface="华文行楷"/>
              </a:rPr>
              <a:t>着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职业装是职业人首选的装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TPO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原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66"/>
                </a:solidFill>
                <a:latin typeface="华文行楷"/>
                <a:ea typeface="华文行楷"/>
              </a:rPr>
              <a:t>＊首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e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40000"/>
                </a:solidFill>
                <a:latin typeface="华文行楷"/>
                <a:ea typeface="华文行楷"/>
              </a:rPr>
              <a:t>符合身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e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40000"/>
                </a:solidFill>
                <a:latin typeface="华文行楷"/>
                <a:ea typeface="华文行楷"/>
              </a:rPr>
              <a:t>以少为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66"/>
                </a:solidFill>
                <a:latin typeface="华文行楷"/>
                <a:ea typeface="华文行楷"/>
              </a:rPr>
              <a:t>＊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2968200" y="380880"/>
            <a:ext cx="2667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华文中宋"/>
              </a:rPr>
              <a:t>仪表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3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3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3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0" name=""/>
          <p:cNvGraphicFramePr/>
          <p:nvPr/>
        </p:nvGraphicFramePr>
        <p:xfrm>
          <a:off x="0" y="1236600"/>
          <a:ext cx="9067680" cy="4997520"/>
        </p:xfrm>
        <a:graphic>
          <a:graphicData uri="http://schemas.openxmlformats.org/drawingml/2006/table">
            <a:tbl>
              <a:tblPr/>
              <a:tblGrid>
                <a:gridCol w="914400"/>
                <a:gridCol w="3992400"/>
                <a:gridCol w="4160880"/>
              </a:tblGrid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部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男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女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24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整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然大方得体，符合工作需要及安全规则。精神奕奕充满活力，整齐清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头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头发要经常梳洗，保持整齐清洁、自然色泽，勿标新立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发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前发不过眉，侧发不盖耳，后发不触后衣领，无烫发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女员工发长不过肩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如留长发须束起或使用发髻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面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脸、颈及耳朵绝对干净，每日剃刮胡须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脸、颈及耳朵绝对干净，上班要化淡妆，但不得浓妆艳抹和在办公室内化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身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注意个人卫生，身体、面部、手部保持清洁。勤洗澡，无体味。上班前不吃异味食物，保持口腔清洁，上班时不在工作场所内吸烟，不饮酒，以免散发烟味或酒气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1" name="PlaceHolder 1"/>
          <p:cNvSpPr>
            <a:spLocks noGrp="1"/>
          </p:cNvSpPr>
          <p:nvPr>
            <p:ph type="title"/>
          </p:nvPr>
        </p:nvSpPr>
        <p:spPr>
          <a:xfrm>
            <a:off x="2669760" y="410760"/>
            <a:ext cx="442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日常礼仪行为规范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Rectangle 2"/>
          <p:cNvSpPr/>
          <p:nvPr/>
        </p:nvSpPr>
        <p:spPr>
          <a:xfrm>
            <a:off x="154080" y="-7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仪容仪表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Line 3"/>
          <p:cNvSpPr/>
          <p:nvPr/>
        </p:nvSpPr>
        <p:spPr>
          <a:xfrm>
            <a:off x="2857680" y="2287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4" name=""/>
          <p:cNvGraphicFramePr/>
          <p:nvPr/>
        </p:nvGraphicFramePr>
        <p:xfrm>
          <a:off x="0" y="914400"/>
          <a:ext cx="9144000" cy="6167520"/>
        </p:xfrm>
        <a:graphic>
          <a:graphicData uri="http://schemas.openxmlformats.org/drawingml/2006/table">
            <a:tbl>
              <a:tblPr/>
              <a:tblGrid>
                <a:gridCol w="1362240"/>
                <a:gridCol w="3501720"/>
                <a:gridCol w="241560"/>
                <a:gridCol w="4038480"/>
              </a:tblGrid>
              <a:tr h="558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部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cc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男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cc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女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cc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衣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cc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工作时间内着本岗位规定制服，非因工作需要，外出时不得穿着制服。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制服应干净、平整，无明显污迹、破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制服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穿着按照公司规定执行，不可擅自改变制服的穿着形式，私自增减饰物，不敞开外衣、卷起裤脚、衣袖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制服外不得显露个人物品，衣裤口袋平整，勿显鼓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西装制服按规范扣好，衬衣领、袖整洁，钮扣扣好，衬衣袖口可长出西装外套袖口的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0.5-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c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cc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裤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cc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裤子要烫直，折痕清晰，长及鞋面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cc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cc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保持指甲干净，不留长指甲及涂有色指甲油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cc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cc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鞋底、鞋面、鞋侧保持清洁，鞋面要擦亮，以黑色为宜，无破损，勿钉金属掌，禁止着露趾凉鞋上班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cc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cc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男员工应穿黑色或深蓝色、不透明的短中筒袜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cc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女员工着裙装须着肉色袜，袜无破洞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cc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</a:tr>
              <a:tr h="82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工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cc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工作时间须将工作牌统一按规范佩带，一般佩带在左胸显眼处，挂绳式应正面向上挂在胸前，保持清洁端正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cc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5" name="Rectangle 34"/>
          <p:cNvSpPr/>
          <p:nvPr/>
        </p:nvSpPr>
        <p:spPr>
          <a:xfrm>
            <a:off x="0" y="775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日常礼仪行为规范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7" name="Picture 2" descr="未标题-12"/>
          <p:cNvPicPr/>
          <p:nvPr/>
        </p:nvPicPr>
        <p:blipFill>
          <a:blip r:embed="rId1"/>
          <a:stretch/>
        </p:blipFill>
        <p:spPr>
          <a:xfrm>
            <a:off x="914400" y="533520"/>
            <a:ext cx="6029280" cy="6324480"/>
          </a:xfrm>
          <a:prstGeom prst="rect">
            <a:avLst/>
          </a:prstGeom>
          <a:ln w="0">
            <a:noFill/>
          </a:ln>
        </p:spPr>
      </p:pic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2669760" y="258840"/>
            <a:ext cx="2135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男士穿戴图</a:t>
            </a:r>
            <a:endParaRPr b="0" lang="en-US" sz="2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9" name="Picture 2" descr="未标题-13"/>
          <p:cNvPicPr/>
          <p:nvPr/>
        </p:nvPicPr>
        <p:blipFill>
          <a:blip r:embed="rId1"/>
          <a:stretch/>
        </p:blipFill>
        <p:spPr>
          <a:xfrm>
            <a:off x="2286000" y="295200"/>
            <a:ext cx="4282920" cy="6562800"/>
          </a:xfrm>
          <a:prstGeom prst="rect">
            <a:avLst/>
          </a:prstGeom>
          <a:ln w="0">
            <a:noFill/>
          </a:ln>
        </p:spPr>
      </p:pic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1066320" y="1676520"/>
            <a:ext cx="11430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男士穿戴禁忌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1" name="Picture 1026" descr="未标题-14"/>
          <p:cNvPicPr/>
          <p:nvPr/>
        </p:nvPicPr>
        <p:blipFill>
          <a:blip r:embed="rId1"/>
          <a:stretch/>
        </p:blipFill>
        <p:spPr>
          <a:xfrm>
            <a:off x="3048120" y="304920"/>
            <a:ext cx="4432320" cy="6172200"/>
          </a:xfrm>
          <a:prstGeom prst="rect">
            <a:avLst/>
          </a:prstGeom>
          <a:ln w="0">
            <a:noFill/>
          </a:ln>
        </p:spPr>
      </p:pic>
      <p:sp>
        <p:nvSpPr>
          <p:cNvPr id="3582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83844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女士穿戴图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83" name="Text Box 1028"/>
          <p:cNvSpPr/>
          <p:nvPr/>
        </p:nvSpPr>
        <p:spPr>
          <a:xfrm>
            <a:off x="-3110400" y="6350040"/>
            <a:ext cx="64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管理资源吧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www.glzy8.c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，提供海量管理资料免费下载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4" name="Picture 2050" descr="未标题-15"/>
          <p:cNvPicPr/>
          <p:nvPr/>
        </p:nvPicPr>
        <p:blipFill>
          <a:blip r:embed="rId1"/>
          <a:stretch/>
        </p:blipFill>
        <p:spPr>
          <a:xfrm>
            <a:off x="3276720" y="304920"/>
            <a:ext cx="4941720" cy="6248160"/>
          </a:xfrm>
          <a:prstGeom prst="rect">
            <a:avLst/>
          </a:prstGeom>
          <a:ln w="0">
            <a:noFill/>
          </a:ln>
        </p:spPr>
      </p:pic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83808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女士穿戴禁忌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6" name="Text Box 1026"/>
          <p:cNvSpPr/>
          <p:nvPr/>
        </p:nvSpPr>
        <p:spPr>
          <a:xfrm>
            <a:off x="1585800" y="878040"/>
            <a:ext cx="18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Text Box 1027"/>
          <p:cNvSpPr/>
          <p:nvPr/>
        </p:nvSpPr>
        <p:spPr>
          <a:xfrm>
            <a:off x="1281240" y="496800"/>
            <a:ext cx="18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Text Box 1029"/>
          <p:cNvSpPr/>
          <p:nvPr/>
        </p:nvSpPr>
        <p:spPr>
          <a:xfrm>
            <a:off x="1219320" y="190512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66"/>
                </a:solidFill>
                <a:latin typeface="华文行楷"/>
                <a:ea typeface="华文行楷"/>
              </a:rPr>
              <a:t>＊</a:t>
            </a:r>
            <a:r>
              <a:rPr b="1" lang="zh-CN" sz="3600" spc="-1" strike="noStrike">
                <a:solidFill>
                  <a:srgbClr val="993366"/>
                </a:solidFill>
                <a:latin typeface="华文行楷"/>
                <a:ea typeface="华文行楷"/>
              </a:rPr>
              <a:t>微笑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66"/>
                </a:solidFill>
                <a:latin typeface="华文行楷"/>
                <a:ea typeface="华文行楷"/>
              </a:rPr>
              <a:t>＊</a:t>
            </a:r>
            <a:r>
              <a:rPr b="1" lang="zh-CN" sz="3600" spc="-1" strike="noStrike">
                <a:solidFill>
                  <a:srgbClr val="993366"/>
                </a:solidFill>
                <a:latin typeface="华文行楷"/>
                <a:ea typeface="华文行楷"/>
              </a:rPr>
              <a:t>眼神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66"/>
                </a:solidFill>
                <a:latin typeface="华文行楷"/>
                <a:ea typeface="华文行楷"/>
              </a:rPr>
              <a:t>＊</a:t>
            </a:r>
            <a:r>
              <a:rPr b="0" lang="zh-CN" sz="3200" spc="-1" strike="noStrike">
                <a:solidFill>
                  <a:srgbClr val="993366"/>
                </a:solidFill>
                <a:latin typeface="华文行楷"/>
                <a:ea typeface="华文行楷"/>
              </a:rPr>
              <a:t>坐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66"/>
                </a:solidFill>
                <a:latin typeface="华文行楷"/>
                <a:ea typeface="华文行楷"/>
              </a:rPr>
              <a:t>＊</a:t>
            </a:r>
            <a:r>
              <a:rPr b="1" lang="zh-CN" sz="3200" spc="-1" strike="noStrike">
                <a:solidFill>
                  <a:srgbClr val="993366"/>
                </a:solidFill>
                <a:latin typeface="华文行楷"/>
                <a:ea typeface="华文行楷"/>
              </a:rPr>
              <a:t>站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66"/>
                </a:solidFill>
                <a:latin typeface="华文行楷"/>
                <a:ea typeface="华文行楷"/>
              </a:rPr>
              <a:t>＊</a:t>
            </a:r>
            <a:r>
              <a:rPr b="1" lang="zh-CN" sz="3200" spc="-1" strike="noStrike">
                <a:solidFill>
                  <a:srgbClr val="993366"/>
                </a:solidFill>
                <a:latin typeface="华文行楷"/>
                <a:ea typeface="华文行楷"/>
              </a:rPr>
              <a:t>走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66"/>
                </a:solidFill>
                <a:latin typeface="华文行楷"/>
                <a:ea typeface="华文行楷"/>
              </a:rPr>
              <a:t>＊</a:t>
            </a:r>
            <a:r>
              <a:rPr b="1" lang="zh-CN" sz="3200" spc="-1" strike="noStrike">
                <a:solidFill>
                  <a:srgbClr val="993366"/>
                </a:solidFill>
                <a:latin typeface="华文行楷"/>
                <a:ea typeface="华文行楷"/>
              </a:rPr>
              <a:t>蹲姿</a:t>
            </a:r>
            <a:r>
              <a:rPr b="0" lang="zh-CN" sz="3200" spc="-1" strike="noStrike">
                <a:solidFill>
                  <a:srgbClr val="993366"/>
                </a:solidFill>
                <a:latin typeface="华文行楷"/>
                <a:ea typeface="华文行楷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00"/>
                </a:solidFill>
                <a:latin typeface="Arial"/>
                <a:ea typeface="华文中宋"/>
              </a:rPr>
              <a:t>仪 态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3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3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3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0" name=""/>
          <p:cNvGraphicFramePr/>
          <p:nvPr/>
        </p:nvGraphicFramePr>
        <p:xfrm>
          <a:off x="1600200" y="457200"/>
          <a:ext cx="6210360" cy="6070680"/>
        </p:xfrm>
        <a:graphic>
          <a:graphicData uri="http://schemas.openxmlformats.org/drawingml/2006/table">
            <a:tbl>
              <a:tblPr/>
              <a:tblGrid>
                <a:gridCol w="604800"/>
                <a:gridCol w="2844720"/>
                <a:gridCol w="2760840"/>
              </a:tblGrid>
              <a:tr h="1550160">
                <a:tc>
                  <a:txBody>
                    <a:bodyPr lIns="90000" rIns="9000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形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zh-CN" sz="28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败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5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男性“劲”的壮美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女性“静”的优美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1.</a:t>
                      </a: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东倒西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2.</a:t>
                      </a: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耸肩勾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3.</a:t>
                      </a: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双手乱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4.</a:t>
                      </a: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做小动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26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男士的步伐像“进行曲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女士的步伐像“小夜曲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1.</a:t>
                      </a: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身体摇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2.</a:t>
                      </a: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双手乱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3.</a:t>
                      </a: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目光左顾右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4.</a:t>
                      </a: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脚步蹒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5.</a:t>
                      </a: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奔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0">
                <a:tc>
                  <a:txBody>
                    <a:bodyPr lIns="90000" rIns="9000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坐姿要端正、稳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坐如钟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1.</a:t>
                      </a: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懒洋洋地摊在椅子上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2.</a:t>
                      </a: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脚尖朝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3.</a:t>
                      </a: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抖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PlaceHolder 1"/>
          <p:cNvSpPr>
            <a:spLocks noGrp="1"/>
          </p:cNvSpPr>
          <p:nvPr>
            <p:ph type="title"/>
          </p:nvPr>
        </p:nvSpPr>
        <p:spPr>
          <a:xfrm>
            <a:off x="2592000" y="258480"/>
            <a:ext cx="3241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站姿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9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抬头、挺胸、收腹。抬头的同时要收颌，挺胸的同时要夹肩，收腹的同时要提臀，并且要目视前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、男士站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脚：两脚分开，比肩略窄，重心在两脚间；双腿并拢，脚尖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—45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的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V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字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手：双手合放于体前，左手压右手（男左女右）；双手合起放于体后，右手压左手；双手各垂放于体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、女士站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脚：双腿并拢，脚尖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—45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的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V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字型；双腿并拢，脚尖呈“丁”字型（能够隐藏腿的弧度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手：双手合起放于腹前，右手压左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Text Box 5"/>
          <p:cNvSpPr/>
          <p:nvPr/>
        </p:nvSpPr>
        <p:spPr>
          <a:xfrm>
            <a:off x="2195640" y="1844640"/>
            <a:ext cx="4960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做一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知礼、懂礼、行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之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坐姿：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入座时要轻，至少要坐满椅子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2/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，后背轻靠椅背，双膝自然并拢（男士可略分开）。身体稍向前倾，则表示尊重和谦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、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 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男士坐姿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男士可将双腿分开略向前伸，如长时间端坐，可双腿交叉重叠，但要注意将上面的腿向回收，脚尖向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、女士坐姿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女士入座前应用背对着客人的手理裙子，并将裙角向前收拢，两手叠放于左右腿上。如长时间端坐可将两腿交叉重叠，但要注意上面的腿向回收，脚尖向下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5" name="Picture 2" descr="未标题-10"/>
          <p:cNvPicPr/>
          <p:nvPr/>
        </p:nvPicPr>
        <p:blipFill>
          <a:blip r:embed="rId1"/>
          <a:stretch/>
        </p:blipFill>
        <p:spPr>
          <a:xfrm>
            <a:off x="2438280" y="0"/>
            <a:ext cx="4156200" cy="6829560"/>
          </a:xfrm>
          <a:prstGeom prst="rect">
            <a:avLst/>
          </a:prstGeom>
          <a:ln w="0">
            <a:noFill/>
          </a:ln>
        </p:spPr>
      </p:pic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1066320" y="2590920"/>
            <a:ext cx="685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坐姿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PlaceHolder 1"/>
          <p:cNvSpPr>
            <a:spLocks noGrp="1"/>
          </p:cNvSpPr>
          <p:nvPr>
            <p:ph type="title"/>
          </p:nvPr>
        </p:nvSpPr>
        <p:spPr>
          <a:xfrm>
            <a:off x="3349800" y="38052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行姿：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标准的行走姿势，要以端正的站立姿态为基础。其要领是：以大关节带动小关节，排除多余的肌肉紧张，要走得轻巧、自如、稳健、大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手臂伸直放松，手指自然弯屈，摆动时，要以肩关节为轴，上臂带动前臂，向前，手臂要摆直线，肘关节略屈，前臂不要向上甩动，向后摆动时，手臂外开不超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。前后摆动的幅度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30-4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厘米。上体前倾，提髋屈大腿带动小腿向前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脚尖略开，脚跟先接触地面，依靠后腿将身体重心推送到前脚脚掌，使身体前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以上行走动作，符合人体结构的机制，是最省力的。外八字、斜肩、猫腰、大肚的走法都是不美观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蹲姿：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如果你在拾取低处的物件时，应保持大方、端正的蹲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、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 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男士蹲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不让臀部高于自己的头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、女士蹲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优雅的蹲姿的基本要领是：一脚在前，一脚在后，两腿向下蹲，前脚全着地，小腿基本垂直于地面，脚后跟提起，脚掌着地，臀部向下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1" name="Picture 2" descr="未标题-3"/>
          <p:cNvPicPr/>
          <p:nvPr/>
        </p:nvPicPr>
        <p:blipFill>
          <a:blip r:embed="rId1"/>
          <a:stretch/>
        </p:blipFill>
        <p:spPr>
          <a:xfrm>
            <a:off x="1905120" y="447840"/>
            <a:ext cx="3047760" cy="6410160"/>
          </a:xfrm>
          <a:prstGeom prst="rect">
            <a:avLst/>
          </a:prstGeom>
          <a:ln w="0">
            <a:noFill/>
          </a:ln>
        </p:spPr>
      </p:pic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533520" y="1905120"/>
            <a:ext cx="838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蹲姿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3" name="Picture 2" descr="PE01561_"/>
          <p:cNvPicPr/>
          <p:nvPr/>
        </p:nvPicPr>
        <p:blipFill>
          <a:blip r:embed="rId1"/>
          <a:stretch/>
        </p:blipFill>
        <p:spPr>
          <a:xfrm>
            <a:off x="4952880" y="2971800"/>
            <a:ext cx="3973680" cy="2637000"/>
          </a:xfrm>
          <a:prstGeom prst="rect">
            <a:avLst/>
          </a:prstGeom>
          <a:ln w="0">
            <a:noFill/>
          </a:ln>
        </p:spPr>
      </p:pic>
      <p:sp>
        <p:nvSpPr>
          <p:cNvPr id="3604" name="Rectangle 3"/>
          <p:cNvSpPr/>
          <p:nvPr/>
        </p:nvSpPr>
        <p:spPr>
          <a:xfrm>
            <a:off x="457200" y="5335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Rectangle 4"/>
          <p:cNvSpPr/>
          <p:nvPr/>
        </p:nvSpPr>
        <p:spPr>
          <a:xfrm>
            <a:off x="1219320" y="1828800"/>
            <a:ext cx="58672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华文行楷"/>
                <a:ea typeface="华文宋体"/>
              </a:rPr>
              <a:t>＊日常礼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华文行楷"/>
                <a:ea typeface="华文宋体"/>
              </a:rPr>
              <a:t>＊沟通礼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华文行楷"/>
                <a:ea typeface="华文宋体"/>
              </a:rPr>
              <a:t>＊</a:t>
            </a:r>
            <a:r>
              <a:rPr b="1" lang="zh-CN" sz="2800" spc="-1" strike="noStrike">
                <a:solidFill>
                  <a:srgbClr val="993366"/>
                </a:solidFill>
                <a:latin typeface="Arial"/>
                <a:ea typeface="华文宋体"/>
              </a:rPr>
              <a:t>电话礼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华文行楷"/>
                <a:ea typeface="华文宋体"/>
              </a:rPr>
              <a:t>＊握手礼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华文行楷"/>
                <a:ea typeface="华文宋体"/>
              </a:rPr>
              <a:t>＊接待礼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华文行楷"/>
                <a:ea typeface="华文宋体"/>
              </a:rPr>
              <a:t>＊介绍礼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华文行楷"/>
                <a:ea typeface="华文宋体"/>
              </a:rPr>
              <a:t>＊名片礼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PlaceHolder 1"/>
          <p:cNvSpPr>
            <a:spLocks noGrp="1"/>
          </p:cNvSpPr>
          <p:nvPr>
            <p:ph type="title"/>
          </p:nvPr>
        </p:nvSpPr>
        <p:spPr>
          <a:xfrm>
            <a:off x="2354040" y="487440"/>
            <a:ext cx="4113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993366"/>
                </a:solidFill>
                <a:uFillTx/>
                <a:latin typeface="Arial"/>
                <a:ea typeface="华文行楷"/>
              </a:rPr>
              <a:t>职场礼仪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3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75"/>
                                        <p:tgtEl>
                                          <p:spTgt spid="3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3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3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打招呼礼仪—日常礼仪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08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早晨的打招呼是一天工作情绪和干劲的发端。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先发制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地给予对方以明朗的招呼，打招呼是你自己赋予自己的一方精神良药，把自己焕发的精神传达、感染于周围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对能正视对方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坦诚的眼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一副面带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微笑的面容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明朗的声音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向人打招呼，是一个成功的职员应具备的素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2053800" y="45684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点头礼—日常礼仪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/>
          </p:nvPr>
        </p:nvSpPr>
        <p:spPr>
          <a:xfrm>
            <a:off x="911160" y="1674720"/>
            <a:ext cx="77011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微微地点头，以对人表示礼貌。适用于比较随便的场合，如：在路上行走，或是在公共场所与熟人相遇，无须驻足长谈时，可行点头礼。还可以随之说些问候的话。与相识者在同一场合多次见面，只点头致意即可。对一面之交的朋友或不相识者，在社交场合均可点头或微笑致意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Rectangle 4"/>
          <p:cNvSpPr/>
          <p:nvPr/>
        </p:nvSpPr>
        <p:spPr>
          <a:xfrm>
            <a:off x="457200" y="838080"/>
            <a:ext cx="77929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行礼的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Rectangle 5"/>
          <p:cNvSpPr/>
          <p:nvPr/>
        </p:nvSpPr>
        <p:spPr>
          <a:xfrm>
            <a:off x="356220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Rectangle 6"/>
          <p:cNvSpPr/>
          <p:nvPr/>
        </p:nvSpPr>
        <p:spPr>
          <a:xfrm>
            <a:off x="354816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Rectangle 7"/>
          <p:cNvSpPr/>
          <p:nvPr/>
        </p:nvSpPr>
        <p:spPr>
          <a:xfrm>
            <a:off x="352908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5" name="Picture 8" descr="8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04920" y="2514600"/>
            <a:ext cx="1904760" cy="3124080"/>
          </a:xfrm>
          <a:prstGeom prst="rect">
            <a:avLst/>
          </a:prstGeom>
          <a:ln w="0">
            <a:noFill/>
          </a:ln>
        </p:spPr>
      </p:pic>
      <p:pic>
        <p:nvPicPr>
          <p:cNvPr id="3616" name="Picture 9" descr="9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819520" y="2590920"/>
            <a:ext cx="1828800" cy="3276360"/>
          </a:xfrm>
          <a:prstGeom prst="rect">
            <a:avLst/>
          </a:prstGeom>
          <a:ln w="0">
            <a:noFill/>
          </a:ln>
        </p:spPr>
      </p:pic>
      <p:sp>
        <p:nvSpPr>
          <p:cNvPr id="3617" name="AutoShape 10"/>
          <p:cNvSpPr/>
          <p:nvPr/>
        </p:nvSpPr>
        <p:spPr>
          <a:xfrm>
            <a:off x="4419720" y="2819520"/>
            <a:ext cx="1143000" cy="914400"/>
          </a:xfrm>
          <a:prstGeom prst="wedgeEllipseCallout">
            <a:avLst>
              <a:gd name="adj1" fmla="val -74027"/>
              <a:gd name="adj2" fmla="val 354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度行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AutoShape 11"/>
          <p:cNvSpPr/>
          <p:nvPr/>
        </p:nvSpPr>
        <p:spPr>
          <a:xfrm>
            <a:off x="1752480" y="2819520"/>
            <a:ext cx="1143000" cy="914400"/>
          </a:xfrm>
          <a:prstGeom prst="wedgeEllipseCallout">
            <a:avLst>
              <a:gd name="adj1" fmla="val -59861"/>
              <a:gd name="adj2" fmla="val 656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度行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9" name="Picture 12" descr="10"/>
          <p:cNvPicPr/>
          <p:nvPr/>
        </p:nvPicPr>
        <p:blipFill>
          <a:blip r:embed="rId3">
            <a:lum contrast="42000"/>
          </a:blip>
          <a:stretch/>
        </p:blipFill>
        <p:spPr>
          <a:xfrm>
            <a:off x="5562720" y="2743200"/>
            <a:ext cx="1981080" cy="2895480"/>
          </a:xfrm>
          <a:prstGeom prst="rect">
            <a:avLst/>
          </a:prstGeom>
          <a:ln w="0">
            <a:noFill/>
          </a:ln>
        </p:spPr>
      </p:pic>
      <p:sp>
        <p:nvSpPr>
          <p:cNvPr id="3620" name="AutoShape 13"/>
          <p:cNvSpPr/>
          <p:nvPr/>
        </p:nvSpPr>
        <p:spPr>
          <a:xfrm>
            <a:off x="7010280" y="2819520"/>
            <a:ext cx="1143000" cy="914400"/>
          </a:xfrm>
          <a:prstGeom prst="wedgeEllipseCallout">
            <a:avLst>
              <a:gd name="adj1" fmla="val -51388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度行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1" name="Picture 1026" descr="未标题-16"/>
          <p:cNvPicPr/>
          <p:nvPr/>
        </p:nvPicPr>
        <p:blipFill>
          <a:blip r:embed="rId1"/>
          <a:stretch/>
        </p:blipFill>
        <p:spPr>
          <a:xfrm>
            <a:off x="1447920" y="1359000"/>
            <a:ext cx="7315200" cy="4889520"/>
          </a:xfrm>
          <a:prstGeom prst="rect">
            <a:avLst/>
          </a:prstGeom>
          <a:ln w="0">
            <a:noFill/>
          </a:ln>
        </p:spPr>
      </p:pic>
      <p:sp>
        <p:nvSpPr>
          <p:cNvPr id="3622" name="PlaceHolder 1"/>
          <p:cNvSpPr>
            <a:spLocks noGrp="1"/>
          </p:cNvSpPr>
          <p:nvPr>
            <p:ph type="title"/>
          </p:nvPr>
        </p:nvSpPr>
        <p:spPr>
          <a:xfrm>
            <a:off x="3619440" y="258840"/>
            <a:ext cx="3084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鞠躬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什么是礼仪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礼仪是一门综合性较强的行为科学，是指在人际交往中，自始至终地以一定的，约定俗成的程序、方式来表现的律已、敬人的完整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100fa"/>
                </a:solidFill>
                <a:latin typeface="Arial"/>
              </a:rPr>
              <a:t>亚里士多德说：</a:t>
            </a:r>
            <a:r>
              <a:rPr b="1" lang="zh-CN" sz="2400" spc="-1" strike="noStrike">
                <a:solidFill>
                  <a:srgbClr val="4100fa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4100fa"/>
                </a:solidFill>
                <a:latin typeface="Arial"/>
              </a:rPr>
              <a:t>一个人不跟别人打交道，他不是一个神就是一个兽</a:t>
            </a:r>
            <a:r>
              <a:rPr b="1" lang="zh-CN" sz="2400" spc="-1" strike="noStrike">
                <a:solidFill>
                  <a:srgbClr val="4100fa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4100fa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4100fa"/>
                </a:solidFill>
                <a:latin typeface="Arial"/>
              </a:rPr>
              <a:t>-------</a:t>
            </a:r>
            <a:r>
              <a:rPr b="1" lang="zh-CN" sz="2400" spc="-1" strike="noStrike">
                <a:solidFill>
                  <a:srgbClr val="4100fa"/>
                </a:solidFill>
                <a:latin typeface="Arial"/>
              </a:rPr>
              <a:t>强调人与人之间交往和沟通的必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国是“文明古国，礼仪之邦” </a:t>
            </a:r>
            <a:r>
              <a:rPr b="0" lang="zh-CN" sz="2400" spc="-1" strike="noStrike">
                <a:solidFill>
                  <a:srgbClr val="4100fa"/>
                </a:solidFill>
                <a:latin typeface="Arial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孔子曰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非礼勿视，非礼勿听，非礼勿言，非礼勿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400" spc="-1" strike="noStrike">
                <a:solidFill>
                  <a:srgbClr val="4100fa"/>
                </a:solidFill>
                <a:latin typeface="Arial"/>
              </a:rPr>
              <a:t>古人说：</a:t>
            </a:r>
            <a:r>
              <a:rPr b="0" lang="zh-CN" sz="2400" spc="-1" strike="noStrike">
                <a:solidFill>
                  <a:srgbClr val="4100fa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礼出于俗，俗化为礼</a:t>
            </a:r>
            <a:r>
              <a:rPr b="0" lang="zh-CN" sz="2400" spc="-1" strike="noStrike">
                <a:solidFill>
                  <a:srgbClr val="4100fa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4100fa"/>
                </a:solidFill>
                <a:latin typeface="Arial"/>
              </a:rPr>
              <a:t>。早在先秦周公的“制礼作乐”、北京人的“老礼儿”，到五讲四美、各行业的服务规范，都包含了仪容仪表、言行举止、为人处事等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 type="title"/>
          </p:nvPr>
        </p:nvSpPr>
        <p:spPr>
          <a:xfrm>
            <a:off x="1749600" y="457200"/>
            <a:ext cx="5410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握手礼仪—日常礼仪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24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握手次序：女士先伸手，男士才可握手；领导或长辈先伸手，下级或晚辈才可握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握手动作：对方伸手后，我方应迅速迎上去，但避免很多人互相交叉握手，用大约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公斤的力，避免上下过分地摇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握手禁忌：不能用左手，与异性握手不可用双手，不能戴墨镜、不能戴帽子、不能戴手套。不要在与人握手时递给对方冷冰冰的指尖，不在握手时长篇大论，或点头哈腰过分热情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5" name="Picture 2" descr="未标题-26"/>
          <p:cNvPicPr/>
          <p:nvPr/>
        </p:nvPicPr>
        <p:blipFill>
          <a:blip r:embed="rId1"/>
          <a:stretch/>
        </p:blipFill>
        <p:spPr>
          <a:xfrm>
            <a:off x="2438280" y="171360"/>
            <a:ext cx="4641840" cy="6381720"/>
          </a:xfrm>
          <a:prstGeom prst="rect">
            <a:avLst/>
          </a:prstGeom>
          <a:ln w="0">
            <a:noFill/>
          </a:ln>
        </p:spPr>
      </p:pic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1066320" y="1599840"/>
            <a:ext cx="762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握手图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沟通礼仪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28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眼到、口到、意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眼到：要有目光的交流，注视别人目光应友善，采用平视，必要的时候仰视，与人目光交流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3-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秒，其他时间看嘴巴和眼部中间的位置，注视对方的时间是对方与你相处时间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口到：讲普通话，热情正确称呼，表示对交往对象的尊重，体现社会风尚，反映个人修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意到：通过微笑把友善、热情表现出来，不卑不亢，落落大方，不能假笑、冷笑、怪笑、媚笑、窃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沟通礼仪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---</a:t>
            </a:r>
            <a:r>
              <a:rPr b="0" lang="zh-CN" sz="4400" spc="-1" strike="noStrike">
                <a:solidFill>
                  <a:srgbClr val="ff0000"/>
                </a:solidFill>
                <a:latin typeface="宋体"/>
              </a:rPr>
              <a:t>如何说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3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9900"/>
                </a:solidFill>
                <a:latin typeface="宋体"/>
              </a:rPr>
              <a:t> </a:t>
            </a:r>
            <a:r>
              <a:rPr b="1" sz="3600" spc="-1" strike="noStrike">
                <a:solidFill>
                  <a:srgbClr val="ff9900"/>
                </a:solidFill>
                <a:latin typeface="宋体"/>
              </a:rPr>
              <a:t>细语柔声</a:t>
            </a:r>
            <a:r>
              <a:rPr b="1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9900"/>
                </a:solidFill>
                <a:latin typeface="宋体"/>
              </a:rPr>
              <a:t>善于跟交谈对象互动</a:t>
            </a:r>
            <a:r>
              <a:rPr b="1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9900"/>
                </a:solidFill>
                <a:latin typeface="宋体"/>
              </a:rPr>
              <a:t>注意尊重对方</a:t>
            </a:r>
            <a:r>
              <a:rPr b="1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sz="2800" spc="-1" strike="noStrike">
                <a:solidFill>
                  <a:srgbClr val="ff6600"/>
                </a:solidFill>
                <a:latin typeface="宋体"/>
              </a:rPr>
              <a:t>不打断对方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sz="2800" spc="-1" strike="noStrike">
                <a:solidFill>
                  <a:srgbClr val="ff6600"/>
                </a:solidFill>
                <a:latin typeface="宋体"/>
              </a:rPr>
              <a:t>不补充对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sz="2800" spc="-1" strike="noStrike">
                <a:solidFill>
                  <a:srgbClr val="ff6600"/>
                </a:solidFill>
                <a:latin typeface="宋体"/>
              </a:rPr>
              <a:t>不纠正人家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sz="2800" spc="-1" strike="noStrike">
                <a:solidFill>
                  <a:srgbClr val="ff6600"/>
                </a:solidFill>
                <a:latin typeface="宋体"/>
              </a:rPr>
              <a:t>不质疑对方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沟通礼仪—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说什么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32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)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要非议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要涉及公司秘密与商业秘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能随便非议交往对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在背后议论领导、同行和同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谈论格调不高的话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沟通禁忌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问收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不问年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不问婚姻家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不问健康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不问个人经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接电话礼仪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36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重要的第一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声音清晰、亲切、悦耳，使用礼貌用语，“你好，宏兴”，接电话人员应有“我代表公司、代表宏兴形象”的意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允许接电话以“喂，喂”或者一张嘴就不客气的说“你找谁呀”“你是谁呀”“有什么事儿啊”像查户口似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接听电话是个人素质的直接体现，维护企业形象，树立办公新风，让我们从接听电话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7" name="Picture 2" descr="未标题-19"/>
          <p:cNvPicPr/>
          <p:nvPr/>
        </p:nvPicPr>
        <p:blipFill>
          <a:blip r:embed="rId1"/>
          <a:stretch/>
        </p:blipFill>
        <p:spPr>
          <a:xfrm>
            <a:off x="2362320" y="57240"/>
            <a:ext cx="4465440" cy="6648480"/>
          </a:xfrm>
          <a:prstGeom prst="rect">
            <a:avLst/>
          </a:prstGeom>
          <a:ln w="0">
            <a:noFill/>
          </a:ln>
        </p:spPr>
      </p:pic>
      <p:sp>
        <p:nvSpPr>
          <p:cNvPr id="3638" name="PlaceHolder 1"/>
          <p:cNvSpPr>
            <a:spLocks noGrp="1"/>
          </p:cNvSpPr>
          <p:nvPr>
            <p:ph type="title"/>
          </p:nvPr>
        </p:nvSpPr>
        <p:spPr>
          <a:xfrm>
            <a:off x="990720" y="1295280"/>
            <a:ext cx="76176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接电话图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接电话礼仪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40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、微笑接听电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声音可以把你的表情传递给对方，笑是可以通过声音来感觉到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、清晰明朗的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打电话过程中不可以吸烟、吃零食、打哈欠，如果你弯着腰靠在椅子上，前仰后合，对方也能听出你的声音是懒散的，无精打采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通话中不可以与别人闲聊，不要让对方感到他在对方心中无足轻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给予任何人同等的待遇，一视同仁，不卑不亢，这种公平的态度，容易为自己赢得朋友，也有利于公司良好待人接物形象宣传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接电话礼仪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42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迅速准确的接听电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在听到电话响时，如果附近没有人，我们应该以最快的速度拿起话筒。这样的态度是每个人应该拥有的，这样的习惯也是每个办公室工作人员都应该养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电话最好在响三声之内接听，长时间让对方等候是很不礼貌的行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如果电话是在响了五声后才接起，请别忘记先向对方道歉“不好意思，让您久等了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6" name="Oval 1026"/>
          <p:cNvSpPr/>
          <p:nvPr/>
        </p:nvSpPr>
        <p:spPr>
          <a:xfrm>
            <a:off x="4267080" y="2286000"/>
            <a:ext cx="1447920" cy="914400"/>
          </a:xfrm>
          <a:prstGeom prst="ellipse">
            <a:avLst/>
          </a:prstGeom>
          <a:gradFill rotWithShape="0">
            <a:gsLst>
              <a:gs pos="0">
                <a:srgbClr val="e1f4ff"/>
              </a:gs>
              <a:gs pos="100000">
                <a:srgbClr val="ffd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礼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Oval 1027"/>
          <p:cNvSpPr/>
          <p:nvPr/>
        </p:nvSpPr>
        <p:spPr>
          <a:xfrm>
            <a:off x="4191120" y="4572000"/>
            <a:ext cx="1447560" cy="914400"/>
          </a:xfrm>
          <a:prstGeom prst="ellipse">
            <a:avLst/>
          </a:prstGeom>
          <a:gradFill rotWithShape="0">
            <a:gsLst>
              <a:gs pos="0">
                <a:srgbClr val="9f9fbf"/>
              </a:gs>
              <a:gs pos="100000">
                <a:srgbClr val="ffd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仪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Oval 1028"/>
          <p:cNvSpPr/>
          <p:nvPr/>
        </p:nvSpPr>
        <p:spPr>
          <a:xfrm>
            <a:off x="2895480" y="2514600"/>
            <a:ext cx="1447920" cy="9144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d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礼貌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Oval 1029"/>
          <p:cNvSpPr/>
          <p:nvPr/>
        </p:nvSpPr>
        <p:spPr>
          <a:xfrm>
            <a:off x="5562720" y="4267080"/>
            <a:ext cx="1447560" cy="9144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d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仪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Oval 1030"/>
          <p:cNvSpPr/>
          <p:nvPr/>
        </p:nvSpPr>
        <p:spPr>
          <a:xfrm>
            <a:off x="3657600" y="3048120"/>
            <a:ext cx="2755800" cy="1589040"/>
          </a:xfrm>
          <a:prstGeom prst="ellipse">
            <a:avLst/>
          </a:prstGeom>
          <a:gradFill rotWithShape="0">
            <a:gsLst>
              <a:gs pos="0">
                <a:srgbClr val="ffd9ff"/>
              </a:gs>
              <a:gs pos="100000">
                <a:srgbClr val="fffbd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幼圆"/>
              </a:rPr>
              <a:t>礼仪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Text Box 1031"/>
          <p:cNvSpPr/>
          <p:nvPr/>
        </p:nvSpPr>
        <p:spPr>
          <a:xfrm>
            <a:off x="5486400" y="1600200"/>
            <a:ext cx="3657600" cy="459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d9ff"/>
              </a:gs>
            </a:gsLst>
            <a:lin ang="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0000"/>
                </a:solidFill>
                <a:latin typeface="Arial"/>
              </a:rPr>
              <a:t>指人们在社会交往过程中表示出的尊重、祝颂、致意、问候、哀悼等惯用的形式和规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Text Box 1032"/>
          <p:cNvSpPr/>
          <p:nvPr/>
        </p:nvSpPr>
        <p:spPr>
          <a:xfrm>
            <a:off x="6629400" y="4648320"/>
            <a:ext cx="2286000" cy="459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d9ff"/>
              </a:gs>
              <a:gs pos="100000">
                <a:srgbClr val="ffffcc"/>
              </a:gs>
            </a:gsLst>
            <a:lin ang="189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0000"/>
                </a:solidFill>
                <a:latin typeface="Arial"/>
              </a:rPr>
              <a:t>是指人的外表。如容貌、服饰、姿态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Text Box 1033"/>
          <p:cNvSpPr/>
          <p:nvPr/>
        </p:nvSpPr>
        <p:spPr>
          <a:xfrm>
            <a:off x="0" y="1600200"/>
            <a:ext cx="3048120" cy="569160"/>
          </a:xfrm>
          <a:prstGeom prst="rect">
            <a:avLst/>
          </a:prstGeom>
          <a:gradFill rotWithShape="0">
            <a:gsLst>
              <a:gs pos="0">
                <a:srgbClr val="ffd9ff"/>
              </a:gs>
              <a:gs pos="100000">
                <a:srgbClr val="ffffcc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0000"/>
                </a:solidFill>
                <a:latin typeface="Arial"/>
              </a:rPr>
              <a:t>指人们在相互交往过程中应具有的相互表示敬意、友好、得体的气度和风范</a:t>
            </a:r>
            <a:r>
              <a:rPr b="1" lang="zh-CN" sz="26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Text Box 1034"/>
          <p:cNvSpPr/>
          <p:nvPr/>
        </p:nvSpPr>
        <p:spPr>
          <a:xfrm>
            <a:off x="0" y="4648320"/>
            <a:ext cx="4191120" cy="459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d9ff"/>
              </a:gs>
              <a:gs pos="100000">
                <a:srgbClr val="ffffcc"/>
              </a:gs>
            </a:gsLst>
            <a:lin ang="27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0000"/>
                </a:solidFill>
                <a:latin typeface="Arial"/>
              </a:rPr>
              <a:t>是指在特定场合举行的、具有专门程序、规范化的活动。如发奖仪式、签字仪式、开幕式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2828520" y="258480"/>
            <a:ext cx="3321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礼仪的内容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5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25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500"/>
                                        <p:tgtEl>
                                          <p:spTgt spid="3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500"/>
                                        <p:tgtEl>
                                          <p:spTgt spid="3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500"/>
                                        <p:tgtEl>
                                          <p:spTgt spid="3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3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接电话礼仪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44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认真做好电话记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</a:t>
            </a: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上班时间打来的电话都是与工作有关的，所以公司里每一个电话都很重要，即使对方要找的人不在，切忌只说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不在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，应做好电话记录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电话记录牢记</a:t>
            </a: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5</a:t>
            </a:r>
            <a:r>
              <a:rPr b="0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W1H</a:t>
            </a: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原则，</a:t>
            </a:r>
            <a:r>
              <a:rPr b="0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when</a:t>
            </a: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何时</a:t>
            </a: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who</a:t>
            </a: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何人来电，</a:t>
            </a:r>
            <a:r>
              <a:rPr b="0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where</a:t>
            </a: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事件地点，</a:t>
            </a:r>
            <a:r>
              <a:rPr b="0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what</a:t>
            </a: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何事，</a:t>
            </a:r>
            <a:r>
              <a:rPr b="0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why</a:t>
            </a: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为什么，原因，</a:t>
            </a:r>
            <a:r>
              <a:rPr b="0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how</a:t>
            </a: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如何做。电话记录简洁又完备，有赖于</a:t>
            </a: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5</a:t>
            </a:r>
            <a:r>
              <a:rPr b="0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W1H</a:t>
            </a:r>
            <a:r>
              <a:rPr b="0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不要抱怨接到的任何电话，那怕与你无关，做好记录是对同事的尊重，对工作的责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永远不要对打来的电话说：我不知道！这是一种不负责任的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2433240" y="563040"/>
            <a:ext cx="4349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接电话的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顺序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4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拿起电话听筒，并告知自己的姓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您好，宏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确认对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---“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先生，您好！”、“感谢您的关照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听取对方来电用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必要时应进行记录，使用“是”、“好的”、“清楚”、“明白”等用语；谈话时不要离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进行确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确认时间、地点、对象和事由；用“请您再重复一遍”、“那么明天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钟见”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结束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--- 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清楚了”、“请放心……”、“我一定转达”、“谢谢”、“再见”等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放回电话听筒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对方放下电话后再轻轻放回电话机上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2117520" y="563040"/>
            <a:ext cx="5376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打电话的注意事项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4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考虑打电话的时间（对方此时是否有时间或者方便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意确认对方的电话号码、单位、姓名，以避免打错电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准备好所需要用到的资料、文件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讲话的内容要有次序，简洁、明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意通话时间，不宜过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使用礼貌语言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避免私人电话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1749240" y="456840"/>
            <a:ext cx="4724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打电话的顺序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533160" y="21016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  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准备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--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确认拨打电话方的姓名、电话号码、要讲的内容、说话的顺序和所需要的资料、文件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问候、告知自己的姓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您好！我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确认电话对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必须确认电话的对方；如与要找的人接通电话后，应重新问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请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部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先生在吗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您好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先生，我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电话内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今天打电话是想向您咨询一下关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结束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谢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麻烦您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那就拜托您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放回电话听筒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对方放下电话后再轻放回电话机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挂电话礼仪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52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通电话时，如果自己正在开会、会客，不宜长谈，或另有电话打进来，需要中止通话时，应说明原因，告之对方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有空，我马上打电话给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免得让对方认为我方厚此薄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中止电话时应恭候对方先放下电话，不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越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抢先。一般下级要等上级先挂电话，晚辈要等长辈先挂电话，被叫等主叫先挂电话，不可只管自己讲完就挂断电话，那是一种非常没有教养的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遇上不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识相的人打起电话没完没了，不宜说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说完了没有？我还有事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最好委婉、含蓄，不要让对方难堪，应讲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好吧，我不再占用您宝贵的时间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“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真不希望就此道别，不过以后希望有机会与您联络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拨错电话礼仪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要保持风度，切勿发脾气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耍态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、确认对方打错电话，应先自报家门，然后告知电话打错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、如果对方道了歉，不要忘了说：“没关系”应对，不要教训人家，或抱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5" name="PlaceHolder 1"/>
          <p:cNvSpPr>
            <a:spLocks noGrp="1"/>
          </p:cNvSpPr>
          <p:nvPr>
            <p:ph type="title"/>
          </p:nvPr>
        </p:nvSpPr>
        <p:spPr>
          <a:xfrm>
            <a:off x="3273120" y="228240"/>
            <a:ext cx="3048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接待礼仪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5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有迎声，问有答声，去有送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明五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问候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你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请求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感谢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谢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抱歉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不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道别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再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热情三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眼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目中有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口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说话要懂得因人而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意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心意要到：表情要自然、表情要互动、要大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介绍礼仪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互介绍。尊者居后原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仿宋_GB2312"/>
              </a:rPr>
              <a:t>把地位低者介绍给地位高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仿宋_GB2312"/>
              </a:rPr>
              <a:t>把年轻者介绍给长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仿宋_GB2312"/>
              </a:rPr>
              <a:t>把客人介绍给主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仿宋_GB2312"/>
              </a:rPr>
              <a:t>把男士介绍给女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仿宋_GB2312"/>
              </a:rPr>
              <a:t>把迟到者介绍给早到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介绍时动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仿宋_GB2312"/>
              </a:rPr>
              <a:t>手心向上，介绍时一般应站立，特殊情况下年长者和女士可除外，在宴会或会谈桌上可以不起立，微笑点头示意即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9" name="Picture 2" descr="BS01197_"/>
          <p:cNvPicPr/>
          <p:nvPr/>
        </p:nvPicPr>
        <p:blipFill>
          <a:blip r:embed="rId1"/>
          <a:stretch/>
        </p:blipFill>
        <p:spPr>
          <a:xfrm>
            <a:off x="685800" y="2514600"/>
            <a:ext cx="3048120" cy="2817720"/>
          </a:xfrm>
          <a:prstGeom prst="rect">
            <a:avLst/>
          </a:prstGeom>
          <a:ln w="0">
            <a:noFill/>
          </a:ln>
        </p:spPr>
      </p:pic>
      <p:sp>
        <p:nvSpPr>
          <p:cNvPr id="3660" name="Text Box 3"/>
          <p:cNvSpPr/>
          <p:nvPr/>
        </p:nvSpPr>
        <p:spPr>
          <a:xfrm>
            <a:off x="6689880" y="177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1" name="Group 7"/>
          <p:cNvGrpSpPr/>
          <p:nvPr/>
        </p:nvGrpSpPr>
        <p:grpSpPr>
          <a:xfrm>
            <a:off x="4191120" y="1600200"/>
            <a:ext cx="3733560" cy="4925160"/>
            <a:chOff x="4191120" y="1600200"/>
            <a:chExt cx="3733560" cy="4925160"/>
          </a:xfrm>
        </p:grpSpPr>
        <p:sp>
          <p:nvSpPr>
            <p:cNvPr id="3662" name="AutoShape 8"/>
            <p:cNvSpPr/>
            <p:nvPr/>
          </p:nvSpPr>
          <p:spPr>
            <a:xfrm>
              <a:off x="4191120" y="1600200"/>
              <a:ext cx="3733560" cy="487692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33cccc"/>
                </a:gs>
                <a:gs pos="50000">
                  <a:srgbClr val="ffffff"/>
                </a:gs>
                <a:gs pos="100000">
                  <a:srgbClr val="33cccc"/>
                </a:gs>
              </a:gsLst>
              <a:lin ang="2700000"/>
            </a:gradFill>
            <a:ln w="0">
              <a:noFill/>
            </a:ln>
            <a:effectLst>
              <a:outerShdw dist="107932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Text Box 9"/>
            <p:cNvSpPr/>
            <p:nvPr/>
          </p:nvSpPr>
          <p:spPr>
            <a:xfrm>
              <a:off x="4886640" y="1676520"/>
              <a:ext cx="225144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99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同时要看着对方的眼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9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9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有力但不能握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9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9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大约持续三秒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9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9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只晃两三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9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9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开始和结束要干净利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9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不要在介绍过程中一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握着对方的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1958760" y="487440"/>
            <a:ext cx="4190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握手的礼仪标准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8" dur="500"/>
                                        <p:tgtEl>
                                          <p:spTgt spid="3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title"/>
          </p:nvPr>
        </p:nvSpPr>
        <p:spPr>
          <a:xfrm>
            <a:off x="2749680" y="563040"/>
            <a:ext cx="3084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宋体"/>
              </a:rPr>
              <a:t>递物礼仪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6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36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递物与接物是常用的一种动作，应当双手递物，双手接物（五指并拢）表现出恭敬与尊重的态度。注意两臂挟紧，自然地将两手伸出。在接待工作中，所有东两、物品都要轻拿轻放，客人需要的东西要轻轻地用双手送上，不要随便扔过去，接物时应点头示意或道声谢谢。递上剪刀、刀子或尖利的物品，应用手拿着尖头部位递给对方，让对方方便接取。同时，还要注意递笔时，笔尖不可以指向对方。递书、资料、文件、名片等，字体应正对接受者，要让对方马上容易看清楚。这些微小的动作能显示出你的聪明与教养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3124080" y="304560"/>
            <a:ext cx="2895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礼仪的原则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8" name="Diagram 2"/>
          <p:cNvGrpSpPr/>
          <p:nvPr/>
        </p:nvGrpSpPr>
        <p:grpSpPr>
          <a:xfrm>
            <a:off x="539640" y="1628640"/>
            <a:ext cx="8229240" cy="4724280"/>
            <a:chOff x="539640" y="1628640"/>
            <a:chExt cx="8229240" cy="4724280"/>
          </a:xfrm>
        </p:grpSpPr>
        <p:sp>
          <p:nvSpPr>
            <p:cNvPr id="3399" name="AutoShape 3"/>
            <p:cNvSpPr/>
            <p:nvPr/>
          </p:nvSpPr>
          <p:spPr>
            <a:xfrm>
              <a:off x="539640" y="1628640"/>
              <a:ext cx="8229240" cy="4724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d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_s1028"/>
            <p:cNvSpPr/>
            <p:nvPr/>
          </p:nvSpPr>
          <p:spPr>
            <a:xfrm flipH="1" flipV="1">
              <a:off x="3888720" y="3252600"/>
              <a:ext cx="385200" cy="36864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_s1029"/>
            <p:cNvSpPr/>
            <p:nvPr/>
          </p:nvSpPr>
          <p:spPr>
            <a:xfrm>
              <a:off x="3019320" y="2297160"/>
              <a:ext cx="977760" cy="11808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从俗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_s1030"/>
            <p:cNvSpPr/>
            <p:nvPr/>
          </p:nvSpPr>
          <p:spPr>
            <a:xfrm flipH="1">
              <a:off x="3700080" y="4119840"/>
              <a:ext cx="478440" cy="13284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_s1031"/>
            <p:cNvSpPr/>
            <p:nvPr/>
          </p:nvSpPr>
          <p:spPr>
            <a:xfrm>
              <a:off x="2737440" y="3794040"/>
              <a:ext cx="977760" cy="11808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适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_s1032"/>
            <p:cNvSpPr/>
            <p:nvPr/>
          </p:nvSpPr>
          <p:spPr>
            <a:xfrm flipH="1">
              <a:off x="4231080" y="4519800"/>
              <a:ext cx="212040" cy="53496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_s1033"/>
            <p:cNvSpPr/>
            <p:nvPr/>
          </p:nvSpPr>
          <p:spPr>
            <a:xfrm>
              <a:off x="3530520" y="4993200"/>
              <a:ext cx="977760" cy="11808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真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_s1034"/>
            <p:cNvSpPr/>
            <p:nvPr/>
          </p:nvSpPr>
          <p:spPr>
            <a:xfrm>
              <a:off x="4866480" y="4519800"/>
              <a:ext cx="213840" cy="53280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_s1035"/>
            <p:cNvSpPr/>
            <p:nvPr/>
          </p:nvSpPr>
          <p:spPr>
            <a:xfrm>
              <a:off x="4802040" y="4993200"/>
              <a:ext cx="977760" cy="11808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平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_s1036"/>
            <p:cNvSpPr/>
            <p:nvPr/>
          </p:nvSpPr>
          <p:spPr>
            <a:xfrm>
              <a:off x="5131080" y="4119840"/>
              <a:ext cx="476640" cy="13104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_s1037"/>
            <p:cNvSpPr/>
            <p:nvPr/>
          </p:nvSpPr>
          <p:spPr>
            <a:xfrm>
              <a:off x="5594760" y="3791880"/>
              <a:ext cx="977760" cy="11808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宽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_s1038"/>
            <p:cNvSpPr/>
            <p:nvPr/>
          </p:nvSpPr>
          <p:spPr>
            <a:xfrm flipV="1">
              <a:off x="5036040" y="3252600"/>
              <a:ext cx="381600" cy="36864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_s1039"/>
            <p:cNvSpPr/>
            <p:nvPr/>
          </p:nvSpPr>
          <p:spPr>
            <a:xfrm>
              <a:off x="5311440" y="2295000"/>
              <a:ext cx="977760" cy="11808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敬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_s1040"/>
            <p:cNvSpPr/>
            <p:nvPr/>
          </p:nvSpPr>
          <p:spPr>
            <a:xfrm flipV="1">
              <a:off x="4654080" y="2809440"/>
              <a:ext cx="0" cy="59040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_s1041"/>
            <p:cNvSpPr/>
            <p:nvPr/>
          </p:nvSpPr>
          <p:spPr>
            <a:xfrm>
              <a:off x="4165200" y="1628640"/>
              <a:ext cx="977760" cy="11808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律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_s1042"/>
            <p:cNvSpPr/>
            <p:nvPr/>
          </p:nvSpPr>
          <p:spPr>
            <a:xfrm>
              <a:off x="4165200" y="3400200"/>
              <a:ext cx="977760" cy="11808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礼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原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7" name="Picture 2" descr="BS01580_"/>
          <p:cNvPicPr/>
          <p:nvPr/>
        </p:nvPicPr>
        <p:blipFill>
          <a:blip r:embed="rId1"/>
          <a:stretch/>
        </p:blipFill>
        <p:spPr>
          <a:xfrm>
            <a:off x="0" y="4343400"/>
            <a:ext cx="2146320" cy="1982880"/>
          </a:xfrm>
          <a:prstGeom prst="rect">
            <a:avLst/>
          </a:prstGeom>
          <a:ln w="0">
            <a:noFill/>
          </a:ln>
        </p:spPr>
      </p:pic>
      <p:sp>
        <p:nvSpPr>
          <p:cNvPr id="36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华文行楷"/>
                <a:ea typeface="华文行楷"/>
              </a:rPr>
              <a:t>名片的使用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69" name="PlaceHolder 2"/>
          <p:cNvSpPr>
            <a:spLocks noGrp="1"/>
          </p:cNvSpPr>
          <p:nvPr>
            <p:ph/>
          </p:nvPr>
        </p:nvSpPr>
        <p:spPr>
          <a:xfrm>
            <a:off x="2057040" y="21337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华文行楷"/>
                <a:ea typeface="华文行楷"/>
              </a:rPr>
              <a:t>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保持名片的清洁、平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66"/>
                </a:solidFill>
                <a:latin typeface="华文行楷"/>
                <a:ea typeface="华文行楷"/>
              </a:rPr>
              <a:t>＊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下级或访问方先递名片，同时应说些请多关照之类的寒喧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华文行楷"/>
                <a:ea typeface="华文行楷"/>
              </a:rPr>
              <a:t>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起身双手接收名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华文行楷"/>
                <a:ea typeface="华文行楷"/>
              </a:rPr>
              <a:t>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接收的名片不要在上面作标记，不可来回摆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66"/>
                </a:solidFill>
                <a:latin typeface="华文行楷"/>
                <a:ea typeface="华文行楷"/>
              </a:rPr>
              <a:t>＊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妥善保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3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3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名片礼仪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7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11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、准备名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）名片不要和钱包、笔记本等放在一起，原则上应该使用名片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）名片可放在上衣口袋（但不可放在裤兜里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）要保持名片或名片夹的清洁、平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）如果你的职务、地址、电话变了，应及时更换名片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PlaceHolder 1"/>
          <p:cNvSpPr>
            <a:spLocks noGrp="1"/>
          </p:cNvSpPr>
          <p:nvPr>
            <p:ph type="title"/>
          </p:nvPr>
        </p:nvSpPr>
        <p:spPr>
          <a:xfrm>
            <a:off x="3505320" y="609120"/>
            <a:ext cx="30477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仿宋_GB2312"/>
              </a:rPr>
              <a:t>接受名片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73" name="PlaceHolder 2"/>
          <p:cNvSpPr>
            <a:spLocks noGrp="1"/>
          </p:cNvSpPr>
          <p:nvPr>
            <p:ph/>
          </p:nvPr>
        </p:nvSpPr>
        <p:spPr>
          <a:xfrm>
            <a:off x="987120" y="1903320"/>
            <a:ext cx="769932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</a:rPr>
              <a:t>）必须起身接收名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</a:rPr>
              <a:t>）应双手接收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</a:rPr>
              <a:t>）接收的名片不要在上面作标记或写字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</a:rPr>
              <a:t>）接收的名片不可来回摆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</a:rPr>
              <a:t>）接收名片时，要认真地看一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00"/>
              </a:spcBef>
              <a:buClr>
                <a:srgbClr val="0066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不要将对方的名片遗忘在座位上，或存放时不注意落在地上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2815920" y="53352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ff33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换名片礼仪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75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互换名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递名片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仿宋_GB2312"/>
              </a:rPr>
              <a:t>双手拿出自己的名片，将名片的方向调整到最适合对方观看的位置，不必提职务、头衔，只要把名字重复一下，顺序要先职务高后职务低，由近而远，圆桌上按顺时针方向开始，在用敬语：“认识您真高兴”“请多指教”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接名片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仿宋_GB2312"/>
              </a:rPr>
              <a:t>：双手接过对方的名片，要简单地看一下内容，轻声念出对方名字，不要直接把名片放起不看，也不要长时间拿在手里不停摆弄，更不要在离开时把名片漏带，应将名片放在专用的名片夹，或放在其他不易折的地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6" name="PlaceHolder 1"/>
          <p:cNvSpPr>
            <a:spLocks noGrp="1"/>
          </p:cNvSpPr>
          <p:nvPr>
            <p:ph type="title"/>
          </p:nvPr>
        </p:nvSpPr>
        <p:spPr>
          <a:xfrm>
            <a:off x="3223800" y="639360"/>
            <a:ext cx="2768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宋体"/>
              </a:rPr>
              <a:t>传递名片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77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仿宋_GB2312"/>
              </a:rPr>
              <a:t>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</a:rPr>
              <a:t>递名片的次序是由下级或访问方先递名片，如是介绍时，应由先被介绍方递名片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仿宋_GB2312"/>
              </a:rPr>
              <a:t>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</a:rPr>
              <a:t>递名片时，应说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</a:rPr>
              <a:t>请多关照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</a:rPr>
              <a:t>请多指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</a:rPr>
              <a:t>之类的寒喧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仿宋_GB2312"/>
              </a:rPr>
              <a:t>3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</a:rPr>
              <a:t>互换名片时，应用右手拿着自己的名片，用左手接对方的名片后，用双手托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仿宋_GB2312"/>
              </a:rPr>
              <a:t>4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</a:rPr>
              <a:t>互换名片时，也要看一遍对方职务、姓名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仿宋_GB2312"/>
              </a:rPr>
              <a:t>5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</a:rPr>
              <a:t>遇到难认字，应事先询问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仿宋_GB2312"/>
              </a:rPr>
              <a:t>6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</a:rPr>
              <a:t>在会议室如遇到多数人相互交换名片时，可按对方座次排列名片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会谈中，应称呼对方的职务、职称，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先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小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，而尽量不使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字或直呼其名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3425400" y="304920"/>
            <a:ext cx="2971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开门礼仪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79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790884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向外开门时，先敲门，打开门后把住门把手，站在门旁，对客人说“请进”并施礼。进入房间后，用右手将门轻轻关上，请客人入坐。向内开门时，敲门后，自己先进入房间，侧身，把住门把手，对客人说“请进”并施礼。进入房间后，轻轻关上门后，请客人入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title"/>
          </p:nvPr>
        </p:nvSpPr>
        <p:spPr>
          <a:xfrm>
            <a:off x="3066840" y="639360"/>
            <a:ext cx="332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乘车礼仪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81" name="PlaceHolder 2"/>
          <p:cNvSpPr>
            <a:spLocks noGrp="1"/>
          </p:cNvSpPr>
          <p:nvPr>
            <p:ph/>
          </p:nvPr>
        </p:nvSpPr>
        <p:spPr>
          <a:xfrm>
            <a:off x="1062000" y="1674720"/>
            <a:ext cx="77011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乘汽车时，通常是遵循右为上，左为下，后为上，前为下的原则，故一般情况下，司机后排右侧是上宾席。但若主人亲自驾车，则副驾驶位置为上宾席。另外，如果上宾首先上车，那他所坐的位置即是上宾席，不必劳驾移位，除非他坐在了驾驶座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上车时优美的姿势是扶着门，把身体放低，轻轻移进车子。错误的上车姿势是低着头，拱着背，钻进车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下车时优美的姿势是先伸出一只脚站稳后，让身体徐徐升起。错误的姿势是伸出头来，十分艰难地把身体钻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993366"/>
                </a:solidFill>
                <a:uFillTx/>
                <a:latin typeface="Arial"/>
                <a:ea typeface="华文行楷"/>
              </a:rPr>
              <a:t>办公室日常礼仪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83" name="PlaceHolder 2"/>
          <p:cNvSpPr>
            <a:spLocks noGrp="1"/>
          </p:cNvSpPr>
          <p:nvPr>
            <p:ph/>
          </p:nvPr>
        </p:nvSpPr>
        <p:spPr>
          <a:xfrm>
            <a:off x="2873520" y="1977840"/>
            <a:ext cx="520992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真诚相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成为大家的一份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多与同事沟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帮助周围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好的肚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不传闲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4" name="Picture 4" descr="PE01832_"/>
          <p:cNvPicPr/>
          <p:nvPr/>
        </p:nvPicPr>
        <p:blipFill>
          <a:blip r:embed="rId1"/>
          <a:stretch/>
        </p:blipFill>
        <p:spPr>
          <a:xfrm>
            <a:off x="5867280" y="2895480"/>
            <a:ext cx="3276720" cy="3135600"/>
          </a:xfrm>
          <a:prstGeom prst="rect">
            <a:avLst/>
          </a:prstGeom>
          <a:ln w="0">
            <a:noFill/>
          </a:ln>
        </p:spPr>
      </p:pic>
      <p:sp>
        <p:nvSpPr>
          <p:cNvPr id="36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993366"/>
                </a:solidFill>
                <a:uFillTx/>
                <a:latin typeface="Arial"/>
                <a:ea typeface="华文行楷"/>
              </a:rPr>
              <a:t>与 上 司 的 关 系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86" name="PlaceHolder 2"/>
          <p:cNvSpPr>
            <a:spLocks noGrp="1"/>
          </p:cNvSpPr>
          <p:nvPr>
            <p:ph/>
          </p:nvPr>
        </p:nvSpPr>
        <p:spPr>
          <a:xfrm>
            <a:off x="2195280" y="2356920"/>
            <a:ext cx="4452840" cy="36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尊重与体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了解上司的脾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工作第一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体谅上司并协作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大方合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距离就是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学会赞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75"/>
                                        <p:tgtEl>
                                          <p:spTgt spid="3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75"/>
                                        <p:tgtEl>
                                          <p:spTgt spid="3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75"/>
                                        <p:tgtEl>
                                          <p:spTgt spid="3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75"/>
                                        <p:tgtEl>
                                          <p:spTgt spid="3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75"/>
                                        <p:tgtEl>
                                          <p:spTgt spid="3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75"/>
                                        <p:tgtEl>
                                          <p:spTgt spid="3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75"/>
                                        <p:tgtEl>
                                          <p:spTgt spid="3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75"/>
                                        <p:tgtEl>
                                          <p:spTgt spid="3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993366"/>
                </a:solidFill>
                <a:uFillTx/>
                <a:latin typeface="华文行楷"/>
                <a:ea typeface="华文行楷"/>
              </a:rPr>
              <a:t>与 同 事 相 处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88" name="PlaceHolder 2"/>
          <p:cNvSpPr>
            <a:spLocks noGrp="1"/>
          </p:cNvSpPr>
          <p:nvPr>
            <p:ph/>
          </p:nvPr>
        </p:nvSpPr>
        <p:spPr>
          <a:xfrm>
            <a:off x="1740960" y="2660760"/>
            <a:ext cx="498348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平等与相互尊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礼字当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协作精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人情交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视同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9" name="Picture 4" descr="PE01476_"/>
          <p:cNvPicPr/>
          <p:nvPr/>
        </p:nvPicPr>
        <p:blipFill>
          <a:blip r:embed="rId1"/>
          <a:stretch/>
        </p:blipFill>
        <p:spPr>
          <a:xfrm>
            <a:off x="6400800" y="2590920"/>
            <a:ext cx="2549520" cy="285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0" dur="500"/>
                                        <p:tgtEl>
                                          <p:spTgt spid="3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Rectangle 2"/>
          <p:cNvSpPr/>
          <p:nvPr/>
        </p:nvSpPr>
        <p:spPr>
          <a:xfrm>
            <a:off x="3276720" y="457200"/>
            <a:ext cx="449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礼仪的原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6" name="Diagram 2"/>
          <p:cNvGrpSpPr/>
          <p:nvPr/>
        </p:nvGrpSpPr>
        <p:grpSpPr>
          <a:xfrm>
            <a:off x="380880" y="1371600"/>
            <a:ext cx="8076960" cy="4876560"/>
            <a:chOff x="380880" y="1371600"/>
            <a:chExt cx="8076960" cy="4876560"/>
          </a:xfrm>
        </p:grpSpPr>
        <p:sp>
          <p:nvSpPr>
            <p:cNvPr id="3417" name="AutoShape 3"/>
            <p:cNvSpPr/>
            <p:nvPr/>
          </p:nvSpPr>
          <p:spPr>
            <a:xfrm>
              <a:off x="380880" y="1371600"/>
              <a:ext cx="8076960" cy="487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d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_s2052"/>
            <p:cNvSpPr/>
            <p:nvPr/>
          </p:nvSpPr>
          <p:spPr>
            <a:xfrm flipH="1" flipV="1">
              <a:off x="3667680" y="3047760"/>
              <a:ext cx="378000" cy="38052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_s2053"/>
            <p:cNvSpPr/>
            <p:nvPr/>
          </p:nvSpPr>
          <p:spPr>
            <a:xfrm>
              <a:off x="2814840" y="2061720"/>
              <a:ext cx="959400" cy="12189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从俗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_s2054"/>
            <p:cNvSpPr/>
            <p:nvPr/>
          </p:nvSpPr>
          <p:spPr>
            <a:xfrm flipH="1">
              <a:off x="3483000" y="3943440"/>
              <a:ext cx="469440" cy="13716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_s2055"/>
            <p:cNvSpPr/>
            <p:nvPr/>
          </p:nvSpPr>
          <p:spPr>
            <a:xfrm>
              <a:off x="2538000" y="3606840"/>
              <a:ext cx="959400" cy="12189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适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_s2056"/>
            <p:cNvSpPr/>
            <p:nvPr/>
          </p:nvSpPr>
          <p:spPr>
            <a:xfrm flipH="1">
              <a:off x="4004640" y="4356000"/>
              <a:ext cx="208080" cy="55224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_s2057"/>
            <p:cNvSpPr/>
            <p:nvPr/>
          </p:nvSpPr>
          <p:spPr>
            <a:xfrm>
              <a:off x="3316320" y="4844880"/>
              <a:ext cx="959400" cy="12189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真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_s2058"/>
            <p:cNvSpPr/>
            <p:nvPr/>
          </p:nvSpPr>
          <p:spPr>
            <a:xfrm>
              <a:off x="4627440" y="4356000"/>
              <a:ext cx="209880" cy="5500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_s2059"/>
            <p:cNvSpPr/>
            <p:nvPr/>
          </p:nvSpPr>
          <p:spPr>
            <a:xfrm>
              <a:off x="4564440" y="4844880"/>
              <a:ext cx="959400" cy="1218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平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_s2060"/>
            <p:cNvSpPr/>
            <p:nvPr/>
          </p:nvSpPr>
          <p:spPr>
            <a:xfrm>
              <a:off x="4887360" y="3943440"/>
              <a:ext cx="468000" cy="13536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_s2061"/>
            <p:cNvSpPr/>
            <p:nvPr/>
          </p:nvSpPr>
          <p:spPr>
            <a:xfrm>
              <a:off x="5342400" y="3604320"/>
              <a:ext cx="959400" cy="12189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宽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_s2062"/>
            <p:cNvSpPr/>
            <p:nvPr/>
          </p:nvSpPr>
          <p:spPr>
            <a:xfrm flipV="1">
              <a:off x="4794120" y="3047760"/>
              <a:ext cx="374760" cy="38052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_s2063"/>
            <p:cNvSpPr/>
            <p:nvPr/>
          </p:nvSpPr>
          <p:spPr>
            <a:xfrm>
              <a:off x="5064480" y="2059200"/>
              <a:ext cx="959400" cy="121896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敬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_s2064"/>
            <p:cNvSpPr/>
            <p:nvPr/>
          </p:nvSpPr>
          <p:spPr>
            <a:xfrm flipV="1">
              <a:off x="4419360" y="2590200"/>
              <a:ext cx="0" cy="6094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_s2065"/>
            <p:cNvSpPr/>
            <p:nvPr/>
          </p:nvSpPr>
          <p:spPr>
            <a:xfrm>
              <a:off x="3939480" y="1371600"/>
              <a:ext cx="959400" cy="12189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律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_s2066"/>
            <p:cNvSpPr/>
            <p:nvPr/>
          </p:nvSpPr>
          <p:spPr>
            <a:xfrm>
              <a:off x="3939480" y="3200400"/>
              <a:ext cx="959400" cy="121896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礼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原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3" name="AutoShape 20"/>
          <p:cNvSpPr/>
          <p:nvPr/>
        </p:nvSpPr>
        <p:spPr>
          <a:xfrm>
            <a:off x="457200" y="1981080"/>
            <a:ext cx="2743200" cy="3505320"/>
          </a:xfrm>
          <a:prstGeom prst="wedgeRoundRectCallout">
            <a:avLst>
              <a:gd name="adj1" fmla="val 105902"/>
              <a:gd name="adj2" fmla="val -43930"/>
              <a:gd name="adj3" fmla="val 16667"/>
            </a:avLst>
          </a:prstGeom>
          <a:solidFill>
            <a:srgbClr val="e1f4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4100fa"/>
                </a:solidFill>
                <a:latin typeface="Arial"/>
              </a:rPr>
              <a:t>自我要求、自我约束、自我控制、自我对照、自我反省、自我检点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40000"/>
                </a:solidFill>
                <a:latin typeface="Arial"/>
              </a:rPr>
              <a:t>是礼仪的基础和出发点。</a:t>
            </a:r>
            <a:r>
              <a:rPr b="1" lang="zh-CN" sz="2600" spc="-1" strike="noStrike">
                <a:solidFill>
                  <a:srgbClr val="4100fa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律己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华文行楷"/>
              </a:rPr>
              <a:t>教养体现于细节，细节展示素质</a:t>
            </a:r>
            <a:br>
              <a:rPr sz="4000"/>
            </a:br>
            <a:br>
              <a:rPr sz="3200"/>
            </a:br>
            <a:r>
              <a:rPr b="1" lang="zh-CN" sz="4400" spc="-1" strike="noStrike">
                <a:solidFill>
                  <a:srgbClr val="660033"/>
                </a:solidFill>
                <a:latin typeface="Arial"/>
                <a:ea typeface="华文彩云"/>
              </a:rPr>
              <a:t>职业化是我们唯一的标准！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91" name="PlaceHolder 2"/>
          <p:cNvSpPr>
            <a:spLocks noGrp="1"/>
          </p:cNvSpPr>
          <p:nvPr>
            <p:ph type="subTitle"/>
          </p:nvPr>
        </p:nvSpPr>
        <p:spPr>
          <a:xfrm>
            <a:off x="914400" y="48002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98989"/>
                </a:solidFill>
                <a:latin typeface="Arial"/>
                <a:ea typeface="华文行楷"/>
              </a:rPr>
              <a:t> </a:t>
            </a:r>
            <a:r>
              <a:rPr b="0" lang="zh-CN" sz="4400" spc="-1" strike="noStrike">
                <a:solidFill>
                  <a:srgbClr val="898989"/>
                </a:solidFill>
                <a:latin typeface="Arial"/>
                <a:ea typeface="华文行楷"/>
              </a:rPr>
              <a:t>让周围的人喜欢与你相处吧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75"/>
                                        <p:tgtEl>
                                          <p:spTgt spid="3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75"/>
                                        <p:tgtEl>
                                          <p:spTgt spid="3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33"/>
                </a:solidFill>
                <a:latin typeface="Arial"/>
                <a:ea typeface="华文彩云"/>
              </a:rPr>
              <a:t>谢谢大家！</a:t>
            </a:r>
            <a:endParaRPr b="0" lang="en-US" sz="8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93" name="PlaceHolder 2"/>
          <p:cNvSpPr>
            <a:spLocks noGrp="1"/>
          </p:cNvSpPr>
          <p:nvPr>
            <p:ph type="subTitle"/>
          </p:nvPr>
        </p:nvSpPr>
        <p:spPr>
          <a:xfrm>
            <a:off x="914400" y="48002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98989"/>
                </a:solidFill>
                <a:latin typeface="Arial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75"/>
                                        <p:tgtEl>
                                          <p:spTgt spid="3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75"/>
                                        <p:tgtEl>
                                          <p:spTgt spid="3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5" name="Diagram 2"/>
          <p:cNvGrpSpPr/>
          <p:nvPr/>
        </p:nvGrpSpPr>
        <p:grpSpPr>
          <a:xfrm>
            <a:off x="685800" y="1905120"/>
            <a:ext cx="8076960" cy="4190400"/>
            <a:chOff x="685800" y="1905120"/>
            <a:chExt cx="8076960" cy="4190400"/>
          </a:xfrm>
        </p:grpSpPr>
        <p:sp>
          <p:nvSpPr>
            <p:cNvPr id="3436" name="AutoShape 3"/>
            <p:cNvSpPr/>
            <p:nvPr/>
          </p:nvSpPr>
          <p:spPr>
            <a:xfrm>
              <a:off x="685800" y="1905120"/>
              <a:ext cx="8076960" cy="419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d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_s3076"/>
            <p:cNvSpPr/>
            <p:nvPr/>
          </p:nvSpPr>
          <p:spPr>
            <a:xfrm flipH="1" flipV="1">
              <a:off x="3972600" y="3345840"/>
              <a:ext cx="378000" cy="3268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_s3077"/>
            <p:cNvSpPr/>
            <p:nvPr/>
          </p:nvSpPr>
          <p:spPr>
            <a:xfrm>
              <a:off x="3119760" y="2498040"/>
              <a:ext cx="959400" cy="1047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从俗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_s3078"/>
            <p:cNvSpPr/>
            <p:nvPr/>
          </p:nvSpPr>
          <p:spPr>
            <a:xfrm flipH="1">
              <a:off x="3787920" y="4114800"/>
              <a:ext cx="469440" cy="11772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_s3079"/>
            <p:cNvSpPr/>
            <p:nvPr/>
          </p:nvSpPr>
          <p:spPr>
            <a:xfrm>
              <a:off x="2842920" y="3825720"/>
              <a:ext cx="959400" cy="1047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适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_s3080"/>
            <p:cNvSpPr/>
            <p:nvPr/>
          </p:nvSpPr>
          <p:spPr>
            <a:xfrm flipH="1">
              <a:off x="4309560" y="4469760"/>
              <a:ext cx="208080" cy="4744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_s3081"/>
            <p:cNvSpPr/>
            <p:nvPr/>
          </p:nvSpPr>
          <p:spPr>
            <a:xfrm>
              <a:off x="3621240" y="4889520"/>
              <a:ext cx="959400" cy="1047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真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_s3082"/>
            <p:cNvSpPr/>
            <p:nvPr/>
          </p:nvSpPr>
          <p:spPr>
            <a:xfrm>
              <a:off x="4932360" y="4469760"/>
              <a:ext cx="209880" cy="4726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_s3083"/>
            <p:cNvSpPr/>
            <p:nvPr/>
          </p:nvSpPr>
          <p:spPr>
            <a:xfrm>
              <a:off x="4869360" y="4889520"/>
              <a:ext cx="959400" cy="1047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平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_s3084"/>
            <p:cNvSpPr/>
            <p:nvPr/>
          </p:nvSpPr>
          <p:spPr>
            <a:xfrm>
              <a:off x="5192280" y="4114800"/>
              <a:ext cx="468000" cy="1162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_s3085"/>
            <p:cNvSpPr/>
            <p:nvPr/>
          </p:nvSpPr>
          <p:spPr>
            <a:xfrm>
              <a:off x="5647320" y="3823920"/>
              <a:ext cx="959400" cy="1047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宽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_s3086"/>
            <p:cNvSpPr/>
            <p:nvPr/>
          </p:nvSpPr>
          <p:spPr>
            <a:xfrm flipV="1">
              <a:off x="5099040" y="3345840"/>
              <a:ext cx="374760" cy="3268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_s3087"/>
            <p:cNvSpPr/>
            <p:nvPr/>
          </p:nvSpPr>
          <p:spPr>
            <a:xfrm>
              <a:off x="5369400" y="2495880"/>
              <a:ext cx="959400" cy="1047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敬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_s3088"/>
            <p:cNvSpPr/>
            <p:nvPr/>
          </p:nvSpPr>
          <p:spPr>
            <a:xfrm flipV="1">
              <a:off x="4724280" y="2952360"/>
              <a:ext cx="0" cy="52380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_s3089"/>
            <p:cNvSpPr/>
            <p:nvPr/>
          </p:nvSpPr>
          <p:spPr>
            <a:xfrm>
              <a:off x="4244400" y="1905120"/>
              <a:ext cx="959400" cy="10476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律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_s3090"/>
            <p:cNvSpPr/>
            <p:nvPr/>
          </p:nvSpPr>
          <p:spPr>
            <a:xfrm>
              <a:off x="4244400" y="3476520"/>
              <a:ext cx="959400" cy="10476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礼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原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2" name="Rectangle 19"/>
          <p:cNvSpPr/>
          <p:nvPr/>
        </p:nvSpPr>
        <p:spPr>
          <a:xfrm>
            <a:off x="4019040" y="9144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Comic Sans MS"/>
              </a:rPr>
              <a:t>礼仪的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AutoShape 20"/>
          <p:cNvSpPr/>
          <p:nvPr/>
        </p:nvSpPr>
        <p:spPr>
          <a:xfrm>
            <a:off x="457200" y="2057400"/>
            <a:ext cx="3121200" cy="4340160"/>
          </a:xfrm>
          <a:prstGeom prst="wedgeRoundRectCallout">
            <a:avLst>
              <a:gd name="adj1" fmla="val 123425"/>
              <a:gd name="adj2" fmla="val -26754"/>
              <a:gd name="adj3" fmla="val 16667"/>
            </a:avLst>
          </a:prstGeom>
          <a:solidFill>
            <a:srgbClr val="e1f4ff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0000"/>
                </a:solidFill>
                <a:latin typeface="宋体"/>
              </a:rPr>
              <a:t>礼仪的重点和核心</a:t>
            </a:r>
            <a:r>
              <a:rPr b="1" lang="zh-CN" sz="2400" spc="-1" strike="noStrike">
                <a:solidFill>
                  <a:srgbClr val="4100fa"/>
                </a:solidFill>
                <a:latin typeface="宋体"/>
              </a:rPr>
              <a:t>。是对待他人的诸多做法中最要紧的一条，就是要敬人之心常存，处处不可失敬于人，不可伤害他人的尊严，更不能侮辱对方的人格。</a:t>
            </a:r>
            <a:r>
              <a:rPr b="1" lang="zh-CN" sz="2400" spc="-1" strike="noStrike">
                <a:solidFill>
                  <a:srgbClr val="e40000"/>
                </a:solidFill>
                <a:latin typeface="宋体"/>
              </a:rPr>
              <a:t>掌握了这一点，就等于掌握了礼仪的灵魂。</a:t>
            </a:r>
            <a:r>
              <a:rPr b="1" lang="zh-CN" sz="2400" spc="-1" strike="noStrike">
                <a:solidFill>
                  <a:srgbClr val="4100fa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PlaceHolder 1"/>
          <p:cNvSpPr>
            <a:spLocks noGrp="1"/>
          </p:cNvSpPr>
          <p:nvPr>
            <p:ph type="title"/>
          </p:nvPr>
        </p:nvSpPr>
        <p:spPr>
          <a:xfrm>
            <a:off x="1142640" y="1218960"/>
            <a:ext cx="152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敬人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礼仪的核心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456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礼仪的核心是敬人，即尊重为本。尊重二字，是礼仪之本，也是待人接物的根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尊重分自尊与尊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3:33:11Z</dcterms:created>
  <dc:creator>04</dc:creator>
  <dc:description/>
  <cp:keywords/>
  <dc:language>en-US</dc:language>
  <cp:lastModifiedBy>Administrator</cp:lastModifiedBy>
  <dcterms:modified xsi:type="dcterms:W3CDTF">2019-10-30T03:05:11Z</dcterms:modified>
  <cp:revision>9</cp:revision>
  <dc:subject/>
  <dc:title>银行大客户服务礼仪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