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10E-6BB1-4227-A724-2C862913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134-7247-472E-9984-69428241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52F-06E0-4462-83A3-48FD64C1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746-4408-4D60-A821-A119E570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42A0-455C-466D-8C34-8F58A8DB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E523-9459-4895-BD25-409A7BB0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6465-2223-496F-BD5A-20877221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E152-2E1E-4DF7-8E40-99810C2A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A461-BAAF-4609-9CF8-B36F5D8C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38AB-5F26-47B9-BD38-A16F255A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D46F-2CEA-4020-AC9E-786E3FC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4D4-73DB-483C-A53D-8EBA9592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6FE7-D050-4CB3-A0AE-E9EFB668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D537-643B-4A00-810B-B4DC844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7575-EF01-45ED-99BA-D8625EC2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5C20-AF89-48FE-B349-BBAC1C64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E525-0E89-4A0D-974C-8DA32F54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562-4221-4386-87DD-21A6CCD5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118-A721-4F75-B800-00685394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705-3782-40C4-A67E-040DC65F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893-FF57-4667-8477-78F46049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219-A0C1-4E1B-BB33-E53E95AF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35C-E532-4157-881D-394A63D7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677-65F6-42BD-B102-414D1F60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855-E6A7-4A4E-B653-BF9CF1C6F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6200" cy="51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9120" cy="82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5640" cy="77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6CB7-87C4-4AD6-810C-2A8EA17C8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图片2"/>
          <p:cNvPicPr/>
          <p:nvPr/>
        </p:nvPicPr>
        <p:blipFill>
          <a:blip r:embed="rId1"/>
          <a:stretch/>
        </p:blipFill>
        <p:spPr>
          <a:xfrm>
            <a:off x="0" y="-457200"/>
            <a:ext cx="8964720" cy="73152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2315880" y="476280"/>
            <a:ext cx="424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不要和陌生人说话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交友安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4150800" y="2428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</a:rPr>
              <a:t>主题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56760" y="4284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、约会时要察言观色 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不可能通过网络了解一个人的真实背景或真正性格，所以约会时察言观色是加深对对方感性认知的好时机。随时观察对方的任何特征：吹牛、叹气、过激举动、眼神、表情等等，建立正确客观的第一印象对你们今后的关系发展大有裨益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99680" y="499680"/>
            <a:ext cx="83581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四、保持平常心 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交友要有一颗平常心，不能掺杂任何杂质，任何目的。（特别是别人说请你去吃喝玩乐，天上不会掉馅饼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42960" y="49968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五、请勿和网友发生借贷关系 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新闻中常常看到被网友骗取财物的事件，我们提醒中学生切勿和网友发生钱财或者物品的借贷关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571680" y="5713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六、勿轻信他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只有当你深深了解并且信任一个人的时候，你才能复出自己的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所以，我们奉劝你珍惜自己的情感，克制自己，理性交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当心 交友软件“聊”来的危险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QQ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微信、陌陌等交友工具的兴起，让搜索和结交陌生网友更加方便，特别是这些交友工具所具备的能搜寻“附近的人”功能，更是深受年轻人欢迎。但与此同时，一些不法分子也将目光瞄准了这一新兴事物，利用这些交友工具实施抢劫、诈骗、盗窃等犯罪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642960" y="4284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提醒：网络虚拟世界错综复杂，在利用社交工具交友时要注意学会自我保护，交谈时不要轻易向陌生人提供具体身份和详细地址等信息，并注意不泄露个人或家庭的财产状况；更不要轻信花言巧语，轻易同陌生人见面，即使见面也选在白天人多的场合；见面交流时，也要注意保管随身的贵重物品，如遭遇到不法侵害，要第一时间报警，并提供当事人的身高、年龄等特征，便于案件侦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weimei_fengjing_beijing-006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5"/>
          <p:cNvSpPr/>
          <p:nvPr/>
        </p:nvSpPr>
        <p:spPr>
          <a:xfrm>
            <a:off x="2568960" y="10000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慎重交友，珍惜生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28760" y="928440"/>
            <a:ext cx="85010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那些年，一起走过的青葱岁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那些年，一起坐过的冷板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                                 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weimei_fengjing_beijing-018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285840" y="301680"/>
            <a:ext cx="84294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之初，性本善。为什么这个世界还会有好人和坏人之分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这就是一个人从小是学好还是学坏决定的。交友不慎是一个人学坏的起点，把坏人当朋友的人永远成不了好人，不愿与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交朋友的人，也很难成为好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其实，人是具备起码的辨别能力的，好和坏也是很容易识别的，只有在交朋友时择良而处，善辨良莠，不交狐朋狗友，人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才不会误入歧途，产生悲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1872720" y="549360"/>
            <a:ext cx="4569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讨论：你愿意与什么样的人交朋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兴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信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性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爱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同班同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42960" y="64260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真心相对，充满真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能指出缺点错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志同道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心胸开阔，气量恢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真诚、坦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脾气好、性格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乐于助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weimei_fengjing_beijing-015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5"/>
          <p:cNvSpPr/>
          <p:nvPr/>
        </p:nvSpPr>
        <p:spPr>
          <a:xfrm>
            <a:off x="2603880" y="119700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青少年交友不慎有什么危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weimei_fengjing_beijing-007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5"/>
          <p:cNvSpPr/>
          <p:nvPr/>
        </p:nvSpPr>
        <p:spPr>
          <a:xfrm>
            <a:off x="2512440" y="4214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交友六大安全注意事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56760" y="571320"/>
            <a:ext cx="8572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对陌生人时刻保持警惕不要轻信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有时候直觉会欺骗一个人，尽量多沟通多交流，对对方作出充分的了解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609120" y="333360"/>
            <a:ext cx="8153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、选择合适的约会时间和约会地点是对自己最好的保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选择合适的约会时间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尽量不要选择晚上，周末的白天时间是很好的选择。 实在不行选择了晚上约会，一定要控制时间，不要拖得太晚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选择合适的约会地点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请在你们约会前确定一个首要原则：选择公共场所约会，并告知自己的朋友或家人。您一定多次听到过这样的劝告：单独去一个陌生、偏僻的场所和陌生人约会是多么危险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特别对女生来说，选择自己熟悉的公众场所，比如学校附近，是最好的选择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没充分了解前，一定不要到其处所，或任何可能危险的地方。 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1T08:48:19Z</dcterms:created>
  <dc:creator>Administrator</dc:creator>
  <dc:description/>
  <dc:language>en-US</dc:language>
  <cp:lastModifiedBy>Sky123.Org</cp:lastModifiedBy>
  <dcterms:modified xsi:type="dcterms:W3CDTF">2014-12-21T14:48:37Z</dcterms:modified>
  <cp:revision>15</cp:revision>
  <dc:subject/>
  <dc:title>幻灯片 1</dc:title>
</cp:coreProperties>
</file>