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type.wav" ContentType="audio/x-wav"/>
  <Override PartName="/ppt/media/image4.jpeg" ContentType="image/jpeg"/>
  <Override PartName="/ppt/media/image5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93E-A34C-4620-9FFC-21726D82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BA0-4E5E-47CC-8C94-415AC2B0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38E2-526D-41D7-8819-CB53908E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BF06-7867-4276-AF2F-E916B54D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EF6-A38F-4866-8571-0BA7D968E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DD2D-35AB-45B0-84D4-CE78E3FC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C477-B81E-43C0-80F9-DE89AD5B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E8E-2065-498C-AE96-81C02AC76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21F8-5B60-47C1-AFC8-633AD376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6658-812C-4561-BD57-55B46FA6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0196-ECFA-4E09-B6B3-9B2FD8CC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8DDE-6DAB-4CBF-888B-47818EA7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4303800"/>
            <a:ext cx="9144000" cy="25542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1676520" y="4772160"/>
              <a:ext cx="746748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685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4"/>
            <a:stretch/>
          </p:blipFill>
          <p:spPr>
            <a:xfrm>
              <a:off x="304920" y="1371600"/>
              <a:ext cx="8534160" cy="3772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19BE-1C07-40C0-B6C5-CC517DFE0D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70000"/>
              <a:buFont typeface="Wingdings" charset="2"/>
              <a:buChar char="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550"/>
              </a:spcBef>
              <a:buClr>
                <a:srgbClr val="ff33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70000"/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133720" y="1600200"/>
            <a:ext cx="49528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忆读书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038480" y="4572000"/>
            <a:ext cx="1676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冰心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66520" y="3805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165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66ff"/>
                </a:solidFill>
                <a:latin typeface="Times New Roman"/>
                <a:ea typeface="华文行楷"/>
              </a:rPr>
              <a:t>读好书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1600200"/>
            <a:ext cx="670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什么样的书才是好书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2743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ccff"/>
                </a:solidFill>
                <a:latin typeface="Times New Roman"/>
                <a:ea typeface="幼圆"/>
              </a:rPr>
              <a:t>能感染人、陶冶人，有助于提高人的品德修养，有助于扩大知识面，有助于写作的书，才能算好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14240" y="1752480"/>
            <a:ext cx="624852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33"/>
                </a:solidFill>
                <a:latin typeface="Times New Roman"/>
                <a:ea typeface="方正舒体"/>
              </a:rPr>
              <a:t>结合“读书好，多读书，读好书”谈谈你对读书的体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8d51"/>
                </a:solidFill>
                <a:latin typeface="Times New Roman"/>
                <a:ea typeface="华文彩云"/>
              </a:rPr>
              <a:t>名言警句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1676520"/>
            <a:ext cx="693432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读一本好书，就是和高尚人谈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   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</a:rPr>
              <a:t>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歌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任何时候我也不会满足越是多读书，就越是深刻地感到不满足，越感到自己知识的贫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                                     ——</a:t>
            </a:r>
            <a:r>
              <a:rPr b="1" lang="zh-CN" sz="3600" spc="-1" strike="noStrike">
                <a:solidFill>
                  <a:srgbClr val="00cc99"/>
                </a:solidFill>
                <a:latin typeface="Times New Roman"/>
                <a:ea typeface="MingLiU"/>
              </a:rPr>
              <a:t>马克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438280" y="1828800"/>
            <a:ext cx="5105520" cy="21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同学们再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743200" y="1218960"/>
            <a:ext cx="5867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书是人类进步的阶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读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一定是最优秀的作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优秀的作家必定是最优秀的读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汪国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冰心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  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（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00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～）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现、当代女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儿童文学作家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原名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谢婉莹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笔名冰心女士，男士等。原籍福建长乐，生于福州，幼年时代就广泛接触了中国古典小说和译作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8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入协和女子大学预科，积极参加五四运动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1919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年开始发表第一篇小说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两个家庭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此后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，相继发表了《斯人独惟悴》、《去国》等探索人生问题的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“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问题小说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同时，受到泰戈尔《飞鸟集》的影响，写作无标题的自由体小诗。这些晶莹清丽、轻柔隽逸的小诗，后结集为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《繁星》和《春水》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出版，被人称为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华文新魏"/>
              </a:rPr>
              <a:t>春水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”</a:t>
            </a:r>
            <a:r>
              <a:rPr b="0" lang="zh-CN" sz="2800" spc="-1" strike="noStrike">
                <a:solidFill>
                  <a:srgbClr val="3366ff"/>
                </a:solidFill>
                <a:latin typeface="宋体"/>
                <a:ea typeface="华文新魏"/>
              </a:rPr>
              <a:t>。</a:t>
            </a:r>
            <a:r>
              <a:rPr b="0" lang="zh-CN" sz="28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666520" y="609480"/>
            <a:ext cx="58676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1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加入文学研究会。同年起发表散文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笑》和《往事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。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1923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年毕业于燕京大学文科。赴美国威尔斯利女子大学学习英国文学。在旅途和留美期间，写有散文集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寄小读者》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显示出婉约典雅、轻灵隽丽、凝炼流畅的特点，具有高度的艺术表现力，比小说和诗歌取得更高的成就。这种独特的风格曾被时人称为</a:t>
            </a:r>
            <a:r>
              <a:rPr b="1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“冰心体”</a:t>
            </a: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，产生了广泛的影响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80c0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66880" y="380880"/>
            <a:ext cx="609624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著有散文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南归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        《分》、《冬儿姑娘》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作品有散文集      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《归来以后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再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我们把春天吵醒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樱花赞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拾穗小札》、《晚晴集》、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三寄小读者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还出版有小说集 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超人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去国》、《冬儿姑娘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小说散文集     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《往事》</a:t>
            </a:r>
            <a:r>
              <a:rPr b="0" lang="zh-CN" sz="2800" spc="-1" strike="noStrike">
                <a:solidFill>
                  <a:srgbClr val="0080c0"/>
                </a:solidFill>
                <a:latin typeface="华文新魏"/>
                <a:ea typeface="华文新魏"/>
              </a:rPr>
              <a:t>、《南归》，散文集《关于女人》，以及《冰心全集》、《冰心文集》、《冰心著译选集》等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90560" y="1523880"/>
            <a:ext cx="6553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华文彩云"/>
              </a:rPr>
              <a:t>听录音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文中哪句话你印象最深刻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                 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为什么</a:t>
            </a:r>
            <a:r>
              <a:rPr b="1" lang="zh-CN" sz="4000" spc="-1" strike="noStrike">
                <a:solidFill>
                  <a:srgbClr val="66ccff"/>
                </a:solidFill>
                <a:latin typeface="Times New Roman"/>
                <a:ea typeface="幼圆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3805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琥珀"/>
              </a:rPr>
              <a:t>分小组讨论  勾画要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33"/>
                </a:solidFill>
                <a:latin typeface="Times New Roman"/>
                <a:ea typeface="华文行楷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1295280"/>
            <a:ext cx="548640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书中的故事情节和人物形象能激起人的各种感情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让人获得美的享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95680" y="1219320"/>
            <a:ext cx="23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99"/>
                </a:solidFill>
                <a:latin typeface="Times New Roman"/>
                <a:ea typeface="华文行楷"/>
              </a:rPr>
              <a:t>读书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4114800"/>
            <a:ext cx="359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3657600"/>
            <a:ext cx="34354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能扩大知识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14720" y="4343400"/>
            <a:ext cx="26190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对写作有很大帮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4952880"/>
            <a:ext cx="5715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ccff"/>
                </a:solidFill>
                <a:latin typeface="幼圆"/>
                <a:ea typeface="幼圆"/>
              </a:rPr>
              <a:t>读书有助于提高人的品德修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129564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6520" y="38088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SzPct val="7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cc"/>
                </a:solidFill>
                <a:latin typeface="Times New Roman"/>
                <a:ea typeface="华文行楷"/>
              </a:rPr>
              <a:t>多读书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447920"/>
            <a:ext cx="6172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七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《三国演义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同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  《聊斋志异》《水浒传》《荡寇志》《精忠说岳》“古典诗词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一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茶花女遗事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十二三岁时</a:t>
            </a:r>
            <a:r>
              <a:rPr b="0" lang="zh-CN" sz="4000" spc="-1" strike="noStrike">
                <a:solidFill>
                  <a:srgbClr val="ff66cc"/>
                </a:solidFill>
                <a:latin typeface="Times New Roman"/>
                <a:ea typeface="隶书"/>
              </a:rPr>
              <a:t>：  《红楼梦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02:05:34Z</dcterms:created>
  <dc:creator>回澜阁教育www.HuiLanGe.com</dc:creator>
  <dc:description>回澜阁教育www.HuiLanGe.com</dc:description>
  <cp:keywords>回澜阁教育www.HuiLanGe.com</cp:keywords>
  <dc:language>en-US</dc:language>
  <cp:lastModifiedBy>user</cp:lastModifiedBy>
  <dcterms:modified xsi:type="dcterms:W3CDTF">2009-11-17T08:00:16Z</dcterms:modified>
  <cp:revision>7</cp:revision>
  <dc:subject>回澜阁教育www.HuiLanGe.com</dc:subject>
  <dc:title>回澜阁教育www.HuiLanGe.com</dc:title>
</cp:coreProperties>
</file>