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3382-BD41-4158-A695-0479A296C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1925-B80A-46CF-852E-121094A5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A981-4423-4FCF-9299-3AF665D9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007-4AC7-41C4-9FEB-D7B0AD64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FE24-E4A0-40A7-9355-D676B333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6032-0CB8-44B3-8790-98F58BC6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046A-2D83-4410-82B6-C2DDA617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653C-E884-4281-AD93-D91FC7CC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9FDDD-ABD3-4857-A834-DC122656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FE44-7E49-4A1E-B388-6513C5B0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0A54-6AC5-4049-8575-94697591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4696-BB82-4F00-9B50-DF4CF382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39D5-602D-4863-8FEC-5034E642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4390-35F3-4543-9850-8FD47F96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60E9-FD2D-498F-9956-360DAC62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3878-6D70-4DB0-84BD-ED2FF246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C7D8C-F47F-45CF-AC9E-468ECEB9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E95E2-CE62-457B-9C27-4BDAC40F1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ED169-F4C6-4E59-91D5-18D6663C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68305-C2E1-429E-90AB-3137A016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27CE3-97B5-44FE-B0BD-4EBEDA46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4DB0F-77DE-4256-B45B-6868BB29D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7F1-D545-4E96-BC0D-18A50785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659BB-80A5-4CBD-A2A6-6329DA95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91AB6-121F-4116-8981-981ED93D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6FD96-EFA8-415A-85DE-25F81F13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C7EF9-057E-4EDB-AD94-16613164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954D4-0460-4ABD-86AF-59AE9F25A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312A3-2969-457B-8664-7980E1A8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A5B67-10AA-45F2-A5E6-3C66D6FB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ABB5-B21A-4B66-8F94-CB319983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214-0861-4327-8504-D1024544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2D1F-A68A-4963-B978-BADE6E6E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9D14-E153-44AA-9E0F-9F9BABDD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E9BC-61F2-41BC-9992-353C655F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0D1-F608-4B87-A49D-B841CAB9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67EA-C180-4395-975D-49421AD1A7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1285-799B-4F8F-A028-6A22AA06B7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5799-9189-4617-A300-77B55D2834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-1042920" y="0"/>
            <a:ext cx="10186920" cy="7424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17000" y="333360"/>
            <a:ext cx="2618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e3fa04"/>
                </a:solidFill>
                <a:latin typeface="Arial"/>
                <a:ea typeface="楷体_GB2312"/>
              </a:rPr>
              <a:t>忆读书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78840" y="3284640"/>
            <a:ext cx="1399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冰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2480" y="2060640"/>
            <a:ext cx="20091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读书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0920" y="2060640"/>
            <a:ext cx="576360" cy="2376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00360" y="170028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陶  冶  性  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增  长  知  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00360" y="3213000"/>
            <a:ext cx="287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有  助  写  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393372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提  高 人 的 品 德 修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67640" y="6308640"/>
            <a:ext cx="611280" cy="3333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99"/>
                </a:solidFill>
                <a:latin typeface="Arial"/>
              </a:rPr>
              <a:t>冰心读过的书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-251280" y="1844640"/>
            <a:ext cx="4173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三国演义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罗贯中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水浒传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施耐庵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红楼梦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曹雪芹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西游记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吴承恩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满江红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岳飞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声声慢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李清照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00720" y="1773360"/>
            <a:ext cx="41702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茶花女遗事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小仲马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聊斋志异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（蒲松龄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封神榜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荡寇志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精忠说岳</a:t>
            </a:r>
            <a:r>
              <a:rPr b="1" lang="en-US" sz="2800" spc="-1" strike="noStrike">
                <a:solidFill>
                  <a:srgbClr val="e3fa04"/>
                </a:solidFill>
                <a:latin typeface="Arial"/>
                <a:ea typeface="楷体_GB2312"/>
              </a:rPr>
              <a:t>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0"/>
            <a:ext cx="17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多读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812000" y="6453360"/>
            <a:ext cx="936720" cy="40464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611640" y="-241200"/>
            <a:ext cx="3095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读好书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77756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能感染人、陶冶人，有助于提高人的品德修养，有助于扩大知识面，有助于写作的书</a:t>
            </a:r>
            <a:r>
              <a:rPr b="1" lang="en-US" sz="3200" spc="-1" strike="noStrike">
                <a:solidFill>
                  <a:srgbClr val="e3fa04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必须人物个性鲜明、故事情节感人。古代小说则要精彩而不烦琐，引人入胜而非索然无味；现代文艺作品则不是“朦朦胧胧的，堆砌了许多华丽词句的、无病呻吟、自作多情的风花雪月的文字”，而是“满带着真情实感，十分质朴浅显的篇章。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67640" y="6381720"/>
            <a:ext cx="720720" cy="28728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ffff"/>
                </a:solidFill>
                <a:uFillTx/>
                <a:latin typeface="Arial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3fa04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文中哪一句话集中抒发了作者对读书的喜爱？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答：我永远感到读书是我生命中最大的快乐</a:t>
            </a:r>
            <a:r>
              <a:rPr b="0" lang="zh-CN" sz="3200" spc="-1" strike="noStrike">
                <a:solidFill>
                  <a:srgbClr val="e3fa04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242100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fa04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你能不能结合自己的读书经历，谈谈对这句话的理解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-568800" y="2852640"/>
            <a:ext cx="18262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3fa04"/>
                </a:solidFill>
                <a:latin typeface="Arial"/>
              </a:rPr>
              <a:t>忆读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565640" y="3068640"/>
            <a:ext cx="14094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3fa04"/>
                </a:solidFill>
                <a:latin typeface="Arial"/>
              </a:rPr>
              <a:t>第一部分（总说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8360" y="2276640"/>
            <a:ext cx="262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第二部分</a:t>
            </a:r>
            <a:r>
              <a:rPr b="1" lang="en-US" sz="24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多读书、读书好（以时间为序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5280" y="4724280"/>
            <a:ext cx="292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第三部分</a:t>
            </a:r>
            <a:r>
              <a:rPr b="1" lang="en-US" sz="24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400" spc="-1" strike="noStrike">
                <a:solidFill>
                  <a:srgbClr val="e3fa04"/>
                </a:solidFill>
                <a:latin typeface="Arial"/>
              </a:rPr>
              <a:t>读好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2349360"/>
            <a:ext cx="304920" cy="2819520"/>
          </a:xfrm>
          <a:custGeom>
            <a:avLst/>
            <a:gdLst>
              <a:gd name="textAreaLeft" fmla="*/ 0 w 304920"/>
              <a:gd name="textAreaRight" fmla="*/ 11016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85360" y="2852640"/>
            <a:ext cx="4586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13880" y="2565360"/>
            <a:ext cx="1991880" cy="29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读书好，多读书，读好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第四部分</a:t>
            </a:r>
            <a:r>
              <a:rPr b="1" lang="en-US" sz="2000" spc="-1" strike="noStrike">
                <a:solidFill>
                  <a:srgbClr val="e3fa04"/>
                </a:solidFill>
                <a:latin typeface="Arial"/>
              </a:rPr>
              <a:t>—</a:t>
            </a:r>
            <a:r>
              <a:rPr b="1" lang="zh-CN" sz="2000" spc="-1" strike="noStrike">
                <a:solidFill>
                  <a:srgbClr val="e3fa04"/>
                </a:solidFill>
                <a:latin typeface="Arial"/>
              </a:rPr>
              <a:t>概括全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3860640"/>
            <a:ext cx="647640" cy="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916360" y="2997000"/>
            <a:ext cx="720720" cy="36036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16360" y="4437000"/>
            <a:ext cx="792000" cy="360360"/>
          </a:xfrm>
          <a:prstGeom prst="line">
            <a:avLst/>
          </a:prstGeom>
          <a:ln w="63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413040" y="692280"/>
            <a:ext cx="219132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谢谢大家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58080" y="1268280"/>
            <a:ext cx="4586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52840" y="2146320"/>
            <a:ext cx="20383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再见</a:t>
            </a:r>
            <a:endParaRPr b="0" i="1" lang="en-US" sz="80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作家简介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当代女作家，儿童文学作家。原名谢婉莹，笔名冰心女士，男士等。原籍福建长乐，生于福州。代表作有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超人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烦闷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等。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920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年开始，受泰戈尔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飞鸟集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影响，又写出了短诗集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繁星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春水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，为文坛瞩目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192640" y="1484280"/>
            <a:ext cx="333072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219640" y="2205000"/>
            <a:ext cx="3184560" cy="43434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547640" y="1268280"/>
            <a:ext cx="3542040" cy="53276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-1330200" y="-1033560"/>
            <a:ext cx="10474200" cy="7855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Arial"/>
              </a:rPr>
              <a:t>背景资料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99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本文是一篇叙事性记叙文，写于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1989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日。当时，作者已是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90</a:t>
            </a:r>
            <a:r>
              <a:rPr b="1" lang="zh-CN" sz="2800" spc="-1" strike="noStrike">
                <a:solidFill>
                  <a:srgbClr val="ffff99"/>
                </a:solidFill>
                <a:latin typeface="Arial"/>
              </a:rPr>
              <a:t>岁的老人。作者回忆了幼时、少时的读书经历，并向青少年朋友们传授多年来积累的宝贵的读书经验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648320" y="2305080"/>
            <a:ext cx="4038480" cy="311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692280"/>
            <a:ext cx="762012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3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读准下列字的读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悬（        ）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笸（       </a:t>
            </a:r>
            <a:r>
              <a:rPr b="0" lang="zh-CN" sz="2800" spc="-1" strike="noStrike">
                <a:solidFill>
                  <a:srgbClr val="ff66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烦琐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堆砌（ 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释下列成语的意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津津有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若有所失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索然无味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2349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uà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68360" y="2781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4360" y="3284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ǒ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56000" y="3716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87640" y="472428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形容兴趣很浓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522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好像失去了什么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5661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没有一点趣味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冰心在文中想告诉我们什么？</a:t>
            </a:r>
            <a:br>
              <a:rPr sz="4000"/>
            </a:br>
            <a:r>
              <a:rPr b="1" lang="zh-CN" sz="4000" spc="-1" strike="noStrike">
                <a:solidFill>
                  <a:srgbClr val="ffff99"/>
                </a:solidFill>
                <a:latin typeface="Arial"/>
              </a:rPr>
              <a:t>（能否找出文中的原句）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55640" y="3200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Arial"/>
                <a:ea typeface="黑体"/>
              </a:rPr>
              <a:t>读书好，多读书，读好书。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思考题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585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读书有什么好处呢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冰心读过哪些书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作者认为什么样的书才是好书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7380360" y="2492280"/>
            <a:ext cx="1079280" cy="432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7380360" y="3357720"/>
            <a:ext cx="1079280" cy="431640"/>
          </a:xfrm>
          <a:prstGeom prst="wedgeRectCallout">
            <a:avLst>
              <a:gd name="adj1" fmla="val -56324"/>
              <a:gd name="adj2" fmla="val 69851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419640" y="5084640"/>
            <a:ext cx="1008000" cy="43200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66"/>
                </a:solidFill>
                <a:uFillTx/>
                <a:latin typeface="Arial"/>
                <a:hlinkClick r:id="rId3" action="ppaction://hlinksldjump"/>
              </a:rPr>
              <a:t>  答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13:34:54Z</dcterms:created>
  <dc:creator>回澜阁教育www.HuiLanGe.com</dc:creator>
  <dc:description>回澜阁教育www.HuiLanGe.com</dc:description>
  <cp:keywords>回澜阁教育www.HuiLanGe.com</cp:keywords>
  <dc:language>en-US</dc:language>
  <cp:lastModifiedBy>user</cp:lastModifiedBy>
  <cp:lastPrinted>1899-12-30T00:00:00Z</cp:lastPrinted>
  <dcterms:modified xsi:type="dcterms:W3CDTF">2010-01-25T01:39:12Z</dcterms:modified>
  <cp:revision>15</cp:revision>
  <dc:subject>回澜阁教育www.HuiLanGe.com</dc:subject>
  <dc:title>回澜阁教育www.HuiLanGe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