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type.wav" ContentType="audio/x-wav"/>
  <Override PartName="/ppt/media/image4.jpeg" ContentType="image/jpeg"/>
  <Override PartName="/ppt/media/image5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1CEE-228F-43CA-B48D-9DF2F722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8E9-F327-444D-970B-9C27260B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6B5-7BB4-4292-A2BE-1003B51E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BA6-8752-4623-AF92-F4BD372B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C3E-4240-48F8-9600-D1FE3B5E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0F6-4CBF-45D8-8098-B0B171D1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802-B955-4D0D-8DEF-E872BB0F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534-7304-4EA4-8D51-AC4724CE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ECA3-9C7B-485C-AABD-C37EE862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6B6-F4EB-4B13-AB33-C31557F4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5BB-8AA6-4214-B06F-3EC9A70A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B35-57B5-4D2D-A15C-3CA2FECB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377F-AF60-4208-9C36-48BE3B91F5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133720" y="1600200"/>
            <a:ext cx="4952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忆读书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038480" y="4572000"/>
            <a:ext cx="1676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冰心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66520" y="3805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读好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16002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什么样的书才是好书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743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ccff"/>
                </a:solidFill>
                <a:latin typeface="Times New Roman"/>
                <a:ea typeface="幼圆"/>
              </a:rPr>
              <a:t>能感染人、陶冶人，有助于提高人的品德修养，有助于扩大知识面，有助于写作的书，才能算好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14240" y="1752480"/>
            <a:ext cx="62485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33"/>
                </a:solidFill>
                <a:latin typeface="Times New Roman"/>
                <a:ea typeface="方正舒体"/>
              </a:rPr>
              <a:t>结合“读书好，多读书，读好书”谈谈你对读书的体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8d51"/>
                </a:solidFill>
                <a:latin typeface="Times New Roman"/>
                <a:ea typeface="华文彩云"/>
              </a:rPr>
              <a:t>名言警句交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1676520"/>
            <a:ext cx="69343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读一本好书，就是和高尚人谈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                                        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歌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任何时候我也不会满足越是多读书，就越是深刻地感到不满足，越感到自己知识的贫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                                     ——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马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438280" y="1828800"/>
            <a:ext cx="5105520" cy="21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同学们再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743200" y="1218960"/>
            <a:ext cx="5867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书是人类进步的阶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优秀的读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一定是最优秀的作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优秀的作家必定是最优秀的读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汪国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冰心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  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0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～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现、当代女作家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儿童文学作家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原名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谢婉莹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笔名冰心女士，男士等。原籍福建长乐，生于福州，幼年时代就广泛接触了中国古典小说和译作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18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年入协和女子大学预科，积极参加五四运动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19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年开始发表第一篇小说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《两个家庭》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此后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相继发表了《斯人独惟悴》、《去国》等探索人生问题的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问题小说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同时，受到泰戈尔《飞鸟集》的影响，写作无标题的自由体小诗。这些晶莹清丽、轻柔隽逸的小诗，后结集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《繁星》和《春水》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出版，被人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春水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66520" y="6094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1921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年加入文学研究会。同年起发表散文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笑》和《往事》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1923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年毕业于燕京大学文科。赴美国威尔斯利女子大学学习英国文学。在旅途和留美期间，写有散文集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寄小读者》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，显示出婉约典雅、轻灵隽丽、凝炼流畅的特点，具有高度的艺术表现力，比小说和诗歌取得更高的成就。这种独特的风格曾被时人称为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冰心体”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，产生了广泛的影响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80c0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6880" y="380880"/>
            <a:ext cx="60962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著有散文      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《南归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小说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        《分》、《冬儿姑娘》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作品有散文集      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《归来以后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再寄小读者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我们把春天吵醒了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樱花赞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拾穗小札》、《晚晴集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三寄小读者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还出版有小说集 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超人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去国》、《冬儿姑娘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小说散文集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往事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南归》，散文集《关于女人》，以及《冰心全集》、《冰心文集》、《冰心著译选集》等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90560" y="1523880"/>
            <a:ext cx="655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华文彩云"/>
              </a:rPr>
              <a:t>听录音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文中哪句话你印象最深刻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                 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为什么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分小组讨论  勾画要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1295280"/>
            <a:ext cx="54864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书中的故事情节和人物形象能激起人的各种感情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让人获得美的享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12193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Times New Roman"/>
                <a:ea typeface="华文行楷"/>
              </a:rPr>
              <a:t>读书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114800"/>
            <a:ext cx="359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3657600"/>
            <a:ext cx="3435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能扩大知识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14720" y="4343400"/>
            <a:ext cx="2619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对写作有很大帮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4952880"/>
            <a:ext cx="5715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有助于提高人的品德修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cc"/>
                </a:solidFill>
                <a:latin typeface="Times New Roman"/>
                <a:ea typeface="华文行楷"/>
              </a:rPr>
              <a:t>多读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447920"/>
            <a:ext cx="6172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七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《三国演义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同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  《聊斋志异》《水浒传》《荡寇志》《精忠说岳》“古典诗词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十一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《茶花女遗事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十二三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《红楼梦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2:05:34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dcterms:modified xsi:type="dcterms:W3CDTF">2009-11-17T08:00:16Z</dcterms:modified>
  <cp:revision>7</cp:revision>
  <dc:subject>回澜阁教育www.HuiLanGe.com</dc:subject>
  <dc:title>回澜阁教育www.HuiLanGe.com</dc:title>
</cp:coreProperties>
</file>