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0EE-5534-4B11-9F58-1A1601D1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347-5F93-4FB7-8063-3373ED08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4D6-CBBB-4B01-A138-2ED968AD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D72-2554-447F-85B8-D44AD783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561A-4A08-4A57-A0DC-037F460C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3499-74CE-41D3-9759-67A24AAA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816A-F8F9-43E5-BADF-48DC04BF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C5E4-3379-4D89-B593-78653481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04BE-1464-403B-8E63-9348D23F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6810-4716-4F21-B9C2-50AA517B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9830-1718-4031-8527-FD49F648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749-2E82-4096-8F77-8C861ACA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4D80-58B1-4B0F-923E-DC35407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7945-71F7-4F53-B5A4-BB9C553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8ABB-F68F-4181-B00B-8E8D466D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1E5C-0A8D-4854-B468-16AEA208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B1E1-A762-4D40-ACB7-995A3935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9C0B-E42D-493F-B990-360F769C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DF84-CFE1-4925-AD58-8E5578F7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9E62-956D-4B57-8FD4-60B1586B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D90D-6696-4F34-B984-5064B0EB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CDF9-B0BA-4E8E-B2ED-2A3D25DC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5C3-BBF0-408E-936F-7E9422DA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A7D7-0F4D-476C-8122-143D3E15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DC05-C0D7-4FF9-9DC8-3860CC94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2989-0887-4695-8C93-E8BBA46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AB23-3619-4F21-AFCB-2B4D1EE0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15BA-FD06-430E-B4C5-51CF3C5B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9AE4-6F1C-4FF1-A1A0-317E2F02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F57A-2963-4CC7-9E88-7E9A4C28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3E9-03D8-42F1-99F6-0164158C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27E-8C3D-40CB-8679-55B0E46C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C1A-FF7D-4551-A274-3F275B7C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A0C-F4C5-4418-834C-BF2E124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B63-8CBE-4F59-B57E-E69154AE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FFF-160C-4989-ABD0-D4179A0C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03A4-8EB8-4D86-B979-5549600A43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1436-7246-4403-BA63-9C5889E4F2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FFF-8C75-49CC-B764-7600A01C4D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042920" y="0"/>
            <a:ext cx="10186920" cy="74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7000" y="333360"/>
            <a:ext cx="2618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3fa04"/>
                </a:solidFill>
                <a:latin typeface="Arial"/>
                <a:ea typeface="楷体_GB2312"/>
              </a:rPr>
              <a:t>忆读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78840" y="3284640"/>
            <a:ext cx="139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2480" y="2060640"/>
            <a:ext cx="20091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读书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06064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17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陶  冶  性  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增  长  知  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321300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有  助  写  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9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提  高 人 的 品 德 修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6308640"/>
            <a:ext cx="611280" cy="333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Arial"/>
              </a:rPr>
              <a:t>冰心读过的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1280" y="184464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三国演义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罗贯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施耐庵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红楼梦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曹雪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吴承恩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满江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岳飞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声声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李清照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773360"/>
            <a:ext cx="417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茶花女遗事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小仲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聊斋志异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蒲松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封神榜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荡寇志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精忠说岳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多读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6453360"/>
            <a:ext cx="936720" cy="404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11640" y="-241200"/>
            <a:ext cx="3095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好书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能感染人、陶冶人，有助于提高人的品德修养，有助于扩大知识面，有助于写作的书</a:t>
            </a: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必须人物个性鲜明、故事情节感人。古代小说则要精彩而不烦琐，引人入胜而非索然无味；现代文艺作品则不是“朦朦胧胧的，堆砌了许多华丽词句的、无病呻吟、自作多情的风花雪月的文字”，而是“满带着真情实感，十分质朴浅显的篇章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6381720"/>
            <a:ext cx="720720" cy="287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a04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文中哪一句话集中抒发了作者对读书的喜爱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答：我永远感到读书是我生命中最大的快乐</a:t>
            </a:r>
            <a:r>
              <a:rPr b="0" lang="zh-CN" sz="3200" spc="-1" strike="noStrike">
                <a:solidFill>
                  <a:srgbClr val="e3fa04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42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你能不能结合自己的读书经历，谈谈对这句话的理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568800" y="2852640"/>
            <a:ext cx="1826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fa04"/>
                </a:solidFill>
                <a:latin typeface="Arial"/>
              </a:rPr>
              <a:t>忆读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5640" y="3068640"/>
            <a:ext cx="140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第一部分（总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227664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二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多读书、读书好（以时间为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4724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三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读好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34936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5360" y="2852640"/>
            <a:ext cx="458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3880" y="2565360"/>
            <a:ext cx="19918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读书好，多读书，读好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第四部分</a:t>
            </a:r>
            <a:r>
              <a:rPr b="1" lang="en-US" sz="20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概括全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860640"/>
            <a:ext cx="647640" cy="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6360" y="2997000"/>
            <a:ext cx="72072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4437000"/>
            <a:ext cx="79200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413040" y="692280"/>
            <a:ext cx="21913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58080" y="1268280"/>
            <a:ext cx="458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52840" y="214632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作家简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当代女作家，儿童文学作家。原名谢婉莹，笔名冰心女士，男士等。原籍福建长乐，生于福州。代表作有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超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烦闷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等。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2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年开始，受泰戈尔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飞鸟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影响，又写出了短诗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繁星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春水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，为文坛瞩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92640" y="148428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184560" cy="43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54204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1330200" y="-1033560"/>
            <a:ext cx="10474200" cy="785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背景资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本文是一篇叙事性记叙文，写于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98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日。当时，作者已是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岁的老人。作者回忆了幼时、少时的读书经历，并向青少年朋友们传授多年来积累的宝贵的读书经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305080"/>
            <a:ext cx="40384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92280"/>
            <a:ext cx="76201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准下列字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悬（        ）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笸（       </a:t>
            </a: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烦琐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堆砌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下列成语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津津有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有所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索然无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uà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78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7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形容兴趣很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22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像失去了什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66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没有一点趣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冰心在文中想告诉我们什么？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（能否找出文中的原句）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读书好，多读书，读好书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思考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书有什么好处呢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冰心读过哪些书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作者认为什么样的书才是好书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80360" y="2492280"/>
            <a:ext cx="107928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380360" y="3357720"/>
            <a:ext cx="1079280" cy="431640"/>
          </a:xfrm>
          <a:prstGeom prst="wedgeRectCallout">
            <a:avLst>
              <a:gd name="adj1" fmla="val -56324"/>
              <a:gd name="adj2" fmla="val 6985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084640"/>
            <a:ext cx="100800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  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3:34:5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39:12Z</dcterms:modified>
  <cp:revision>15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