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4C0-823D-4456-A39E-77917635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E10-5BDE-46E4-8D47-0640B95E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1FF-0912-46D1-B479-0D0E8C81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D62-6A0E-4171-8D7C-F13D385E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8FCF-464D-4E36-9AA4-F0C361A9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541F-C9F7-456C-A982-F433258E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A669-8ED1-4C1E-B484-41B4C7CA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CB7-0ECF-4C88-A2F8-7ECDDC75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84A1-478D-48B4-A306-3633E957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6013-77BA-41EF-9607-212DA22C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1EFF-21A0-44AB-978D-FA6509D7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B76-15EC-40C1-9A4F-989B0D65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40DF-748E-4958-8E18-6EA5CE11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4E47-3363-4C43-BDBA-732832B6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C264-12F8-4F25-9B4F-40BA9CE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95F6-FEB5-45B3-8C90-A7425C60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66C0-F264-4C31-A08E-FF90F9BF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AF2F-E8CF-4ABE-A3F8-186D1F94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DD09-2C27-499F-9C4B-F15F77B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0B01-6254-4861-A992-0771527D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CE99-4A6B-4A42-A999-FF5144AF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EF69-3DF3-4ECF-BD31-27C119B3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AC8-0B2B-40EC-845D-C0DDE0A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8597-6C80-440C-89B1-83E977D8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BA98-ED79-4943-9662-C53D623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CC4D-B3F6-47DB-9FD6-24DA53F2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483E-C792-4C34-89C0-5185C9ED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F46D-1E1A-43E2-8AE5-71446092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A194-9F8C-4210-AAD1-1B5E5CB0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E240-CD71-47C0-AADA-37B74E82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9CC-4C57-47A4-8F46-6442CF1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C72-5045-4C24-9B91-5C05484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08A-6AA2-4C16-A2FB-BCD77C29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169-5EC3-40BC-B8A7-48231B2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165-7916-4A85-9CFB-6BABB04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461-2464-4CE8-B5A3-89F241D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6F17-BBF4-4151-8A1C-CAFABE4EB2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AC15-ECF6-4262-A4EE-0BF6E9BF31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7009-7825-4C49-8132-DEAEDF359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042920" y="0"/>
            <a:ext cx="10186920" cy="74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7000" y="333360"/>
            <a:ext cx="2618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3fa04"/>
                </a:solidFill>
                <a:latin typeface="Arial"/>
                <a:ea typeface="楷体_GB2312"/>
              </a:rPr>
              <a:t>忆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8840" y="3284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2480" y="2060640"/>
            <a:ext cx="2009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读书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06064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陶  冶  性  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增  长  知 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32130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有  助  写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提  高 人 的 品 德 修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6308640"/>
            <a:ext cx="611280" cy="333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冰心读过的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1280" y="184464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三国演义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罗贯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施耐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红楼梦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曹雪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吴承恩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满江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岳飞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李清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17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茶花女遗事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小仲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聊斋志异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蒲松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封神榜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荡寇志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精忠说岳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多读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6453360"/>
            <a:ext cx="936720" cy="404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11640" y="-241200"/>
            <a:ext cx="3095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好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能感染人、陶冶人，有助于提高人的品德修养，有助于扩大知识面，有助于写作的书</a:t>
            </a: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必须人物个性鲜明、故事情节感人。古代小说则要精彩而不烦琐，引人入胜而非索然无味；现代文艺作品则不是“朦朦胧胧的，堆砌了许多华丽词句的、无病呻吟、自作多情的风花雪月的文字”，而是“满带着真情实感，十分质朴浅显的篇章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6381720"/>
            <a:ext cx="720720" cy="287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a04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文中哪一句话集中抒发了作者对读书的喜爱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答：我永远感到读书是我生命中最大的快乐</a:t>
            </a:r>
            <a:r>
              <a:rPr b="0" lang="zh-CN" sz="3200" spc="-1" strike="noStrike">
                <a:solidFill>
                  <a:srgbClr val="e3fa04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42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你能不能结合自己的读书经历，谈谈对这句话的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568800" y="285264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fa04"/>
                </a:solidFill>
                <a:latin typeface="Arial"/>
              </a:rPr>
              <a:t>忆读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5640" y="3068640"/>
            <a:ext cx="140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第一部分（总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22766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二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多读书、读书好（以时间为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三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读好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34936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5360" y="285264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3880" y="2565360"/>
            <a:ext cx="19918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读书好，多读书，读好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第四部分</a:t>
            </a:r>
            <a:r>
              <a:rPr b="1" lang="en-US" sz="20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概括全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647640" cy="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6360" y="2997000"/>
            <a:ext cx="72072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437000"/>
            <a:ext cx="79200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413040" y="692280"/>
            <a:ext cx="2191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8080" y="1268280"/>
            <a:ext cx="458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52840" y="214632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家简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当代女作家，儿童文学作家。原名谢婉莹，笔名冰心女士，男士等。原籍福建长乐，生于福州。代表作有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超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烦闷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等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开始，受泰戈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影响，又写出了短诗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，为文坛瞩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92640" y="148428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8456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54204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1330200" y="-1033560"/>
            <a:ext cx="10474200" cy="785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背景资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本文是一篇叙事性记叙文，写于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98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日。当时，作者已是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岁的老人。作者回忆了幼时、少时的读书经历，并向青少年朋友们传授多年来积累的宝贵的读书经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305080"/>
            <a:ext cx="40384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准下列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（        ）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笸（       </a:t>
            </a: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烦琐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堆砌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下列成语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津津有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有所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索然无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uà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7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容兴趣很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像失去了什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66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没有一点趣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冰心在文中想告诉我们什么？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（能否找出文中的原句）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读书好，多读书，读好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书有什么好处呢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冰心读过哪些书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作者认为什么样的书才是好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80360" y="2492280"/>
            <a:ext cx="107928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380360" y="3357720"/>
            <a:ext cx="1079280" cy="431640"/>
          </a:xfrm>
          <a:prstGeom prst="wedgeRectCallout">
            <a:avLst>
              <a:gd name="adj1" fmla="val -56324"/>
              <a:gd name="adj2" fmla="val 6985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084640"/>
            <a:ext cx="100800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  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34:5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39:12Z</dcterms:modified>
  <cp:revision>1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