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type.wav" ContentType="audio/x-wav"/>
  <Override PartName="/ppt/media/image4.jpeg" ContentType="image/jpeg"/>
  <Override PartName="/ppt/media/image5.png" ContentType="image/png"/>
  <Override PartName="/ppt/media/chimes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66BF-74B6-4042-BEE4-FFFEF04C8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BAFB-F0C4-4CC7-A3A1-85E87CDC0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B354-9D08-4462-9F3A-F52B5A954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C924-FFAC-4F85-AFDD-008CA2F62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7F42-40E8-4D76-B363-2273A317B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FF79-319D-483C-9382-4F4489BFF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2AE0-D4AC-4687-B2F3-B4E85401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284B-EBF1-4B82-BE25-A216D29F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E8C8-6718-43F3-BCF7-2205127A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1A9C-D75C-4FC4-B493-BFFF49FFC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A23C-B23F-4D92-AB80-81E277DC7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67CE-E081-4B94-AD55-1A807EBD5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4303800"/>
            <a:ext cx="9144000" cy="25542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60948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1" name="" descr=""/>
            <p:cNvPicPr/>
            <p:nvPr/>
          </p:nvPicPr>
          <p:blipFill>
            <a:blip r:embed="rId2"/>
            <a:stretch/>
          </p:blipFill>
          <p:spPr>
            <a:xfrm>
              <a:off x="1676520" y="4772160"/>
              <a:ext cx="7467480" cy="20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685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4"/>
            <a:stretch/>
          </p:blipFill>
          <p:spPr>
            <a:xfrm>
              <a:off x="304920" y="1371600"/>
              <a:ext cx="8534160" cy="377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A1BC-7860-4C6D-8773-60BE1D6933F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550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2133720" y="1600200"/>
            <a:ext cx="49528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忆读书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038480" y="4572000"/>
            <a:ext cx="16765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冰心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666520" y="380520"/>
            <a:ext cx="5867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90000"/>
              </a:lnSpc>
              <a:spcBef>
                <a:spcPts val="165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66ff"/>
                </a:solidFill>
                <a:latin typeface="Times New Roman"/>
                <a:ea typeface="华文行楷"/>
              </a:rPr>
              <a:t>读好书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1600200"/>
            <a:ext cx="670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cc99"/>
                </a:solidFill>
                <a:latin typeface="Times New Roman"/>
                <a:ea typeface="华文彩云"/>
              </a:rPr>
              <a:t>什么样的书才是好书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2743200"/>
            <a:ext cx="609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ccff"/>
                </a:solidFill>
                <a:latin typeface="Times New Roman"/>
                <a:ea typeface="幼圆"/>
              </a:rPr>
              <a:t>能感染人、陶冶人，有助于提高人的品德修养，有助于扩大知识面，有助于写作的书，才能算好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14240" y="1752480"/>
            <a:ext cx="62485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933"/>
                </a:solidFill>
                <a:latin typeface="Times New Roman"/>
                <a:ea typeface="方正舒体"/>
              </a:rPr>
              <a:t>结合“读书好，多读书，读好书”谈谈你对读书的体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8d51"/>
                </a:solidFill>
                <a:latin typeface="Times New Roman"/>
                <a:ea typeface="华文彩云"/>
              </a:rPr>
              <a:t>名言警句交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09680" y="1676520"/>
            <a:ext cx="693432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Times New Roman"/>
                <a:ea typeface="MingLiU"/>
              </a:rPr>
              <a:t>读一本好书，就是和高尚人谈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Times New Roman"/>
                <a:ea typeface="MingLiU"/>
              </a:rPr>
              <a:t>                                        </a:t>
            </a:r>
            <a:r>
              <a:rPr b="1" lang="zh-CN" sz="3600" spc="-1" strike="noStrike">
                <a:solidFill>
                  <a:srgbClr val="00cc99"/>
                </a:solidFill>
                <a:latin typeface="Times New Roman"/>
              </a:rPr>
              <a:t>——</a:t>
            </a:r>
            <a:r>
              <a:rPr b="1" lang="zh-CN" sz="3600" spc="-1" strike="noStrike">
                <a:solidFill>
                  <a:srgbClr val="00cc99"/>
                </a:solidFill>
                <a:latin typeface="Times New Roman"/>
                <a:ea typeface="MingLiU"/>
              </a:rPr>
              <a:t>歌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Times New Roman"/>
                <a:ea typeface="MingLiU"/>
              </a:rPr>
              <a:t>任何时候我也不会满足越是多读书，就越是深刻地感到不满足，越感到自己知识的贫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Times New Roman"/>
                <a:ea typeface="MingLiU"/>
              </a:rPr>
              <a:t>                                     ——</a:t>
            </a:r>
            <a:r>
              <a:rPr b="1" lang="zh-CN" sz="3600" spc="-1" strike="noStrike">
                <a:solidFill>
                  <a:srgbClr val="00cc99"/>
                </a:solidFill>
                <a:latin typeface="Times New Roman"/>
                <a:ea typeface="MingLiU"/>
              </a:rPr>
              <a:t>马克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2438280" y="1828800"/>
            <a:ext cx="5105520" cy="211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同学们再见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743200" y="1218960"/>
            <a:ext cx="5867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书是人类进步的阶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最优秀的读者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一定是最优秀的作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最优秀的作家必定是最优秀的读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-----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汪国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冰心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  <a:ea typeface="华文新魏"/>
              </a:rPr>
              <a:t>  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（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  <a:ea typeface="华文新魏"/>
              </a:rPr>
              <a:t>1900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～）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华文新魏"/>
              </a:rPr>
              <a:t>现、当代女作家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，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华文新魏"/>
              </a:rPr>
              <a:t>儿童文学作家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。原名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华文新魏"/>
              </a:rPr>
              <a:t>谢婉莹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，笔名冰心女士，男士等。原籍福建长乐，生于福州，幼年时代就广泛接触了中国古典小说和译作。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  <a:ea typeface="华文新魏"/>
              </a:rPr>
              <a:t>1918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年入协和女子大学预科，积极参加五四运动。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  <a:ea typeface="华文新魏"/>
              </a:rPr>
              <a:t>1919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年开始发表第一篇小说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华文新魏"/>
              </a:rPr>
              <a:t>《两个家庭》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，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此后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，相继发表了《斯人独惟悴》、《去国》等探索人生问题的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  <a:ea typeface="华文新魏"/>
              </a:rPr>
              <a:t>“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问题小说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  <a:ea typeface="华文新魏"/>
              </a:rPr>
              <a:t>”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。同时，受到泰戈尔《飞鸟集》的影响，写作无标题的自由体小诗。这些晶莹清丽、轻柔隽逸的小诗，后结集为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华文新魏"/>
              </a:rPr>
              <a:t>《繁星》和《春水》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出版，被人称为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华文新魏"/>
              </a:rPr>
              <a:t>春水体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”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。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  <a:ea typeface="华文新魏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666520" y="6094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1921</a:t>
            </a:r>
            <a:r>
              <a:rPr b="1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年加入文学研究会。同年起发表散文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《笑》和《往事》</a:t>
            </a:r>
            <a:r>
              <a:rPr b="1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。</a:t>
            </a:r>
            <a:r>
              <a:rPr b="1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1923</a:t>
            </a:r>
            <a:r>
              <a:rPr b="1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年毕业于燕京大学文科。赴美国威尔斯利女子大学学习英国文学。在旅途和留美期间，写有散文集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《寄小读者》</a:t>
            </a:r>
            <a:r>
              <a:rPr b="1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，显示出婉约典雅、轻灵隽丽、凝炼流畅的特点，具有高度的艺术表现力，比小说和诗歌取得更高的成就。这种独特的风格曾被时人称为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“冰心体”</a:t>
            </a:r>
            <a:r>
              <a:rPr b="1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，产生了广泛的影响。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80c0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666880" y="380880"/>
            <a:ext cx="609624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著有散文      </a:t>
            </a:r>
            <a:r>
              <a:rPr b="0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《南归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小说</a:t>
            </a:r>
            <a:r>
              <a:rPr b="0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        《分》、《冬儿姑娘》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作品有散文集      </a:t>
            </a:r>
            <a:r>
              <a:rPr b="0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《归来以后》、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《再寄小读者》</a:t>
            </a:r>
            <a:r>
              <a:rPr b="0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、《我们把春天吵醒了》、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《樱花赞》</a:t>
            </a:r>
            <a:r>
              <a:rPr b="0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、《拾穗小札》、《晚晴集》、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《三寄小读者》</a:t>
            </a:r>
            <a:r>
              <a:rPr b="0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还出版有小说集      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《超人》</a:t>
            </a:r>
            <a:r>
              <a:rPr b="0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、《去国》、《冬儿姑娘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小说散文集     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《往事》</a:t>
            </a:r>
            <a:r>
              <a:rPr b="0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、《南归》，散文集《关于女人》，以及《冰心全集》、《冰心文集》、《冰心著译选集》等。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90560" y="1523880"/>
            <a:ext cx="655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99"/>
                </a:solidFill>
                <a:latin typeface="Times New Roman"/>
                <a:ea typeface="华文彩云"/>
              </a:rPr>
              <a:t>听录音思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ccff"/>
                </a:solidFill>
                <a:latin typeface="Times New Roman"/>
                <a:ea typeface="幼圆"/>
              </a:rPr>
              <a:t>文中哪句话你印象最深刻</a:t>
            </a:r>
            <a:r>
              <a:rPr b="1" lang="zh-CN" sz="4000" spc="-1" strike="noStrike">
                <a:solidFill>
                  <a:srgbClr val="66ccff"/>
                </a:solidFill>
                <a:latin typeface="Times New Roman"/>
                <a:ea typeface="幼圆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ccff"/>
                </a:solidFill>
                <a:latin typeface="Times New Roman"/>
                <a:ea typeface="幼圆"/>
              </a:rPr>
              <a:t>                 </a:t>
            </a:r>
            <a:r>
              <a:rPr b="1" lang="zh-CN" sz="4000" spc="-1" strike="noStrike">
                <a:solidFill>
                  <a:srgbClr val="66ccff"/>
                </a:solidFill>
                <a:latin typeface="Times New Roman"/>
                <a:ea typeface="幼圆"/>
              </a:rPr>
              <a:t>为什么</a:t>
            </a:r>
            <a:r>
              <a:rPr b="1" lang="zh-CN" sz="4000" spc="-1" strike="noStrike">
                <a:solidFill>
                  <a:srgbClr val="66ccff"/>
                </a:solidFill>
                <a:latin typeface="Times New Roman"/>
                <a:ea typeface="幼圆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380520"/>
            <a:ext cx="6477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-185040">
              <a:lnSpc>
                <a:spcPct val="90000"/>
              </a:lnSpc>
              <a:spcBef>
                <a:spcPts val="10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华文琥珀"/>
              </a:rPr>
              <a:t>分小组讨论  勾画要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185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33"/>
                </a:solidFill>
                <a:latin typeface="Times New Roman"/>
                <a:ea typeface="华文行楷"/>
              </a:rPr>
              <a:t>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438280" y="1295280"/>
            <a:ext cx="5486400" cy="24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66ccff"/>
                </a:solidFill>
                <a:latin typeface="幼圆"/>
                <a:ea typeface="幼圆"/>
              </a:rPr>
              <a:t>书中的故事情节和人物形象能激起人的各种感情</a:t>
            </a:r>
            <a:r>
              <a:rPr b="1" lang="zh-CN" sz="3200" spc="-1" strike="noStrike">
                <a:solidFill>
                  <a:srgbClr val="66ccff"/>
                </a:solidFill>
                <a:latin typeface="幼圆"/>
                <a:ea typeface="幼圆"/>
              </a:rPr>
              <a:t>,</a:t>
            </a:r>
            <a:r>
              <a:rPr b="1" lang="zh-CN" sz="3200" spc="-1" strike="noStrike">
                <a:solidFill>
                  <a:srgbClr val="66ccff"/>
                </a:solidFill>
                <a:latin typeface="幼圆"/>
                <a:ea typeface="幼圆"/>
              </a:rPr>
              <a:t>让人获得美的享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ccff"/>
                </a:solidFill>
                <a:latin typeface="幼圆"/>
                <a:ea typeface="幼圆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95680" y="121932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99"/>
                </a:solidFill>
                <a:latin typeface="Times New Roman"/>
                <a:ea typeface="华文行楷"/>
              </a:rPr>
              <a:t>读书好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76720" y="4114800"/>
            <a:ext cx="359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3657600"/>
            <a:ext cx="343548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ccff"/>
                </a:solidFill>
                <a:latin typeface="幼圆"/>
                <a:ea typeface="幼圆"/>
              </a:rPr>
              <a:t>读书能扩大知识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ccff"/>
                </a:solidFill>
                <a:latin typeface="幼圆"/>
                <a:ea typeface="幼圆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014720" y="4343400"/>
            <a:ext cx="26190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ccff"/>
                </a:solidFill>
                <a:latin typeface="幼圆"/>
                <a:ea typeface="幼圆"/>
              </a:rPr>
              <a:t>读书对写作有很大帮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ccff"/>
                </a:solidFill>
                <a:latin typeface="幼圆"/>
                <a:ea typeface="幼圆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00400" y="4952880"/>
            <a:ext cx="571500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ccff"/>
                </a:solidFill>
                <a:latin typeface="幼圆"/>
                <a:ea typeface="幼圆"/>
              </a:rPr>
              <a:t>读书有助于提高人的品德修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-202320">
              <a:lnSpc>
                <a:spcPct val="90000"/>
              </a:lnSpc>
              <a:spcBef>
                <a:spcPts val="134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66cc"/>
                </a:solidFill>
                <a:latin typeface="Times New Roman"/>
                <a:ea typeface="华文行楷"/>
              </a:rPr>
              <a:t>多读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1447920"/>
            <a:ext cx="61722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cc"/>
                </a:solidFill>
                <a:latin typeface="Times New Roman"/>
                <a:ea typeface="隶书"/>
              </a:rPr>
              <a:t>七岁时</a:t>
            </a:r>
            <a:r>
              <a:rPr b="0" lang="zh-CN" sz="4000" spc="-1" strike="noStrike">
                <a:solidFill>
                  <a:srgbClr val="ff66cc"/>
                </a:solidFill>
                <a:latin typeface="Times New Roman"/>
                <a:ea typeface="隶书"/>
              </a:rPr>
              <a:t>：《三国演义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cc"/>
                </a:solidFill>
                <a:latin typeface="Times New Roman"/>
                <a:ea typeface="隶书"/>
              </a:rPr>
              <a:t>同时</a:t>
            </a:r>
            <a:r>
              <a:rPr b="0" lang="zh-CN" sz="4000" spc="-1" strike="noStrike">
                <a:solidFill>
                  <a:srgbClr val="ff66cc"/>
                </a:solidFill>
                <a:latin typeface="Times New Roman"/>
                <a:ea typeface="隶书"/>
              </a:rPr>
              <a:t>：    《聊斋志异》《水浒传》《荡寇志》《精忠说岳》“古典诗词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cc"/>
                </a:solidFill>
                <a:latin typeface="Times New Roman"/>
                <a:ea typeface="隶书"/>
              </a:rPr>
              <a:t>十一岁时</a:t>
            </a:r>
            <a:r>
              <a:rPr b="0" lang="zh-CN" sz="4000" spc="-1" strike="noStrike">
                <a:solidFill>
                  <a:srgbClr val="ff66cc"/>
                </a:solidFill>
                <a:latin typeface="Times New Roman"/>
                <a:ea typeface="隶书"/>
              </a:rPr>
              <a:t>：  《茶花女遗事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cc"/>
                </a:solidFill>
                <a:latin typeface="Times New Roman"/>
                <a:ea typeface="隶书"/>
              </a:rPr>
              <a:t>十二三岁时</a:t>
            </a:r>
            <a:r>
              <a:rPr b="0" lang="zh-CN" sz="4000" spc="-1" strike="noStrike">
                <a:solidFill>
                  <a:srgbClr val="ff66cc"/>
                </a:solidFill>
                <a:latin typeface="Times New Roman"/>
                <a:ea typeface="隶书"/>
              </a:rPr>
              <a:t>：  《红楼梦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5T02:05:34Z</dcterms:created>
  <dc:creator>回澜阁教育www.HuiLanGe.com</dc:creator>
  <dc:description>回澜阁教育www.HuiLanGe.com</dc:description>
  <cp:keywords>回澜阁教育www.HuiLanGe.com</cp:keywords>
  <dc:language>en-US</dc:language>
  <cp:lastModifiedBy>user</cp:lastModifiedBy>
  <dcterms:modified xsi:type="dcterms:W3CDTF">2009-11-17T08:00:16Z</dcterms:modified>
  <cp:revision>7</cp:revision>
  <dc:subject>回澜阁教育www.HuiLanGe.com</dc:subject>
  <dc:title>回澜阁教育www.HuiLanGe.com</dc:title>
</cp:coreProperties>
</file>