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3AD-4F4A-4170-ABB5-E10A21FB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BCE-55CC-42D6-9184-DBD0707A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D87C-D6E8-4647-979E-77FA38A0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D9D-6504-4990-9910-C76790F3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AAF9-D867-4052-BF85-4D632F51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3458-A8A9-4B20-A244-B57AEB88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85CE-2AD7-4DF2-8A20-1095C23A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C4F1-5B87-4DF8-A135-6988034D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19F9-704D-414D-A0B1-AA8C13CE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F0CA-AAFA-44A6-9A1C-553B8A62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5623-F663-4A1D-BED7-D23C6024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64C-7B94-4876-802E-DBEA3F0E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34CC-BC1F-4A69-B510-218E7D4D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2606-640A-4AA5-95AC-5E5E0FF7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6724-6822-41E1-83F4-D5C7993D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FA35-8CC0-4C1D-9609-79597A87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0814-2359-4D28-B60D-2A43E8B4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4A452-5341-494A-BDE4-68667E88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E9024-C176-4E70-9C50-C22F76A6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C25A6-DFFE-420F-B40F-A9DD9F75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837C4-08E7-441A-A5A2-7C4D6EF3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43621-97EE-433E-9045-A25B02A8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80A-6AB0-402A-AA14-6F87C38F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BE689-05F2-4A1A-8163-17BE4902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B916D-065E-418E-90D7-FD1E3CB2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6E576-9344-4F02-9808-A23932BB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824F9-A371-4C9E-832B-2F570898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3F3D6-7715-4241-84A6-68AD54E2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ED9EC-4F36-4ED6-BC34-9766A3C9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6FE88-A207-4B44-937F-B2F4D296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AFD-4576-4CE5-8938-4CE0341B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942-18C6-4FB8-932F-8681F91A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77E-A711-45C1-82DB-7366BD97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A1C-799A-46B6-B14A-F2BE70E1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724-B609-45A1-BA09-EC7A0A4B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9F6-74C3-448E-A7A2-1A9A43A2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86CC-84DF-4F0F-A034-9EDA033602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6922-0DD7-4D61-94DC-D617CE8E41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60B9-F7D2-4F8E-9453-938D60975A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042920" y="0"/>
            <a:ext cx="10186920" cy="74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7000" y="333360"/>
            <a:ext cx="2618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3fa04"/>
                </a:solidFill>
                <a:latin typeface="Arial"/>
                <a:ea typeface="楷体_GB2312"/>
              </a:rPr>
              <a:t>忆读书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78840" y="3284640"/>
            <a:ext cx="1399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冰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2480" y="2060640"/>
            <a:ext cx="20091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读书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060640"/>
            <a:ext cx="576360" cy="2376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170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陶  冶  性  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增  长  知  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321300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有  助  写  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39337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提  高 人 的 品 德 修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7640" y="6308640"/>
            <a:ext cx="611280" cy="3333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99"/>
                </a:solidFill>
                <a:latin typeface="Arial"/>
              </a:rPr>
              <a:t>冰心读过的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251280" y="1844640"/>
            <a:ext cx="4173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三国演义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罗贯中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水浒传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施耐庵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红楼梦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曹雪芹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吴承恩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满江红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岳飞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声声慢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李清照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00720" y="1773360"/>
            <a:ext cx="417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茶花女遗事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小仲马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聊斋志异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蒲松龄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封神榜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荡寇志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精忠说岳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多读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12000" y="6453360"/>
            <a:ext cx="936720" cy="40464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611640" y="-241200"/>
            <a:ext cx="3095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读好书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775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能感染人、陶冶人，有助于提高人的品德修养，有助于扩大知识面，有助于写作的书</a:t>
            </a:r>
            <a:r>
              <a:rPr b="1" lang="en-US" sz="3200" spc="-1" strike="noStrike">
                <a:solidFill>
                  <a:srgbClr val="e3fa04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必须人物个性鲜明、故事情节感人。古代小说则要精彩而不烦琐，引人入胜而非索然无味；现代文艺作品则不是“朦朦胧胧的，堆砌了许多华丽词句的、无病呻吟、自作多情的风花雪月的文字”，而是“满带着真情实感，十分质朴浅显的篇章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67640" y="6381720"/>
            <a:ext cx="720720" cy="2872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a04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文中哪一句话集中抒发了作者对读书的喜爱？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答：我永远感到读书是我生命中最大的快乐</a:t>
            </a:r>
            <a:r>
              <a:rPr b="0" lang="zh-CN" sz="3200" spc="-1" strike="noStrike">
                <a:solidFill>
                  <a:srgbClr val="e3fa04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2421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fa04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你能不能结合自己的读书经历，谈谈对这句话的理解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-568800" y="2852640"/>
            <a:ext cx="1826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fa04"/>
                </a:solidFill>
                <a:latin typeface="Arial"/>
              </a:rPr>
              <a:t>忆读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65640" y="3068640"/>
            <a:ext cx="1409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第一部分（总说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2276640"/>
            <a:ext cx="26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第二部分</a:t>
            </a:r>
            <a:r>
              <a:rPr b="1" lang="en-US" sz="24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多读书、读书好（以时间为序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47242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第三部分</a:t>
            </a:r>
            <a:r>
              <a:rPr b="1" lang="en-US" sz="24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读好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2349360"/>
            <a:ext cx="304920" cy="2819520"/>
          </a:xfrm>
          <a:custGeom>
            <a:avLst/>
            <a:gdLst>
              <a:gd name="textAreaLeft" fmla="*/ 0 w 304920"/>
              <a:gd name="textAreaRight" fmla="*/ 11016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85360" y="2852640"/>
            <a:ext cx="458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3880" y="2565360"/>
            <a:ext cx="19918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读书好，多读书，读好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第四部分</a:t>
            </a:r>
            <a:r>
              <a:rPr b="1" lang="en-US" sz="20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概括全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3860640"/>
            <a:ext cx="647640" cy="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16360" y="2997000"/>
            <a:ext cx="720720" cy="36036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4437000"/>
            <a:ext cx="792000" cy="36036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413040" y="692280"/>
            <a:ext cx="21913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谢谢大家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58080" y="1268280"/>
            <a:ext cx="458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52840" y="2146320"/>
            <a:ext cx="20383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i="1" lang="en-US" sz="8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作家简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当代女作家，儿童文学作家。原名谢婉莹，笔名冰心女士，男士等。原籍福建长乐，生于福州。代表作有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超人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烦闷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等。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92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年开始，受泰戈尔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飞鸟集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影响，又写出了短诗集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繁星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春水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，为文坛瞩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92640" y="1484280"/>
            <a:ext cx="33307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3184560" cy="4343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354204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-1330200" y="-1033560"/>
            <a:ext cx="10474200" cy="785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背景资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本文是一篇叙事性记叙文，写于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989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日。当时，作者已是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岁的老人。作者回忆了幼时、少时的读书经历，并向青少年朋友们传授多年来积累的宝贵的读书经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2305080"/>
            <a:ext cx="403848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692280"/>
            <a:ext cx="76201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读准下列字的读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悬（        ）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笸（       </a:t>
            </a:r>
            <a:r>
              <a:rPr b="0" lang="zh-CN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烦琐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堆砌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释下列成语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津津有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若有所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索然无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uà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781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328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7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4724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形容兴趣很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522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好像失去了什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5661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没有一点趣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冰心在文中想告诉我们什么？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（能否找出文中的原句）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3200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黑体"/>
              </a:rPr>
              <a:t>读书好，多读书，读好书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思考题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5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读书有什么好处呢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冰心读过哪些书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作者认为什么样的书才是好书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7380360" y="2492280"/>
            <a:ext cx="1079280" cy="43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7380360" y="3357720"/>
            <a:ext cx="1079280" cy="431640"/>
          </a:xfrm>
          <a:prstGeom prst="wedgeRectCallout">
            <a:avLst>
              <a:gd name="adj1" fmla="val -56324"/>
              <a:gd name="adj2" fmla="val 6985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5084640"/>
            <a:ext cx="1008000" cy="43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  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3:34:54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cp:lastPrinted>1899-12-30T00:00:00Z</cp:lastPrinted>
  <dcterms:modified xsi:type="dcterms:W3CDTF">2010-01-25T01:39:12Z</dcterms:modified>
  <cp:revision>15</cp:revision>
  <dc:subject>回澜阁教育www.HuiLanGe.com</dc:subject>
  <dc:title>回澜阁教育www.HuiLanGe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