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jpeg" ContentType="image/jpeg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1D8-F29B-4248-A0E8-6D494719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B63-A974-4C29-BFD8-E9542CCE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243-13B9-4EA3-8B96-E161D7B1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12E-CDAD-45B7-9519-27859549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536-B65F-4114-A43C-AE4ECEF0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90E-9EFC-498C-8CC9-CA0534D1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419-7F02-4B86-B2B9-8B2612B7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703-39B9-4DC7-94D8-DDF50DD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81B-E4C0-4BDF-87E9-D1237A83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8B6-6CB0-4DBB-9145-2FFB05E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CA3-6FCD-4B9B-86D4-D0D695D5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72F-02BB-4B4E-A6C6-B2738108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2AD1-EB99-4645-BBF8-174796FD30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33720" y="16002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忆读书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38480" y="4572000"/>
            <a:ext cx="1676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冰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520" y="3805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读好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600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什么样的书才是好书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743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Times New Roman"/>
                <a:ea typeface="幼圆"/>
              </a:rPr>
              <a:t>能感染人、陶冶人，有助于提高人的品德修养，有助于扩大知识面，有助于写作的书，才能算好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248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  <a:ea typeface="方正舒体"/>
              </a:rPr>
              <a:t>结合“读书好，多读书，读好书”谈谈你对读书的体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8d51"/>
                </a:solidFill>
                <a:latin typeface="Times New Roman"/>
                <a:ea typeface="华文彩云"/>
              </a:rPr>
              <a:t>名言警句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676520"/>
            <a:ext cx="6934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读一本好书，就是和高尚人谈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歌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任何时候我也不会满足越是多读书，就越是深刻地感到不满足，越感到自己知识的贫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马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1828800"/>
            <a:ext cx="51055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同学们再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43200" y="1218960"/>
            <a:ext cx="5867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书是人类进步的阶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读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定是最优秀的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作家必定是最优秀的读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汪国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冰心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 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0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～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现、当代女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儿童文学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原名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谢婉莹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笔名冰心女士，男士等。原籍福建长乐，生于福州，幼年时代就广泛接触了中国古典小说和译作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入协和女子大学预科，积极参加五四运动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9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开始发表第一篇小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两个家庭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此后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相继发表了《斯人独惟悴》、《去国》等探索人生问题的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问题小说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同时，受到泰戈尔《飞鸟集》的影响，写作无标题的自由体小诗。这些晶莹清丽、轻柔隽逸的小诗，后结集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繁星》和《春水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出版，被人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春水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6094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1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加入文学研究会。同年起发表散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笑》和《往事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3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毕业于燕京大学文科。赴美国威尔斯利女子大学学习英国文学。在旅途和留美期间，写有散文集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寄小读者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显示出婉约典雅、轻灵隽丽、凝炼流畅的特点，具有高度的艺术表现力，比小说和诗歌取得更高的成就。这种独特的风格曾被时人称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冰心体”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产生了广泛的影响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80c0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6880" y="380880"/>
            <a:ext cx="60962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著有散文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南归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        《分》、《冬儿姑娘》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作品有散文集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归来以后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再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我们把春天吵醒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樱花赞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拾穗小札》、《晚晴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三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还出版有小说集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超人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去国》、《冬儿姑娘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散文集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往事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南归》，散文集《关于女人》，以及《冰心全集》、《冰心文集》、《冰心著译选集》等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5238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听录音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文中哪句话你印象最深刻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                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为什么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分小组讨论  勾画要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295280"/>
            <a:ext cx="54864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书中的故事情节和人物形象能激起人的各种感情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让人获得美的享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读书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11480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657600"/>
            <a:ext cx="343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能扩大知识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720" y="4343400"/>
            <a:ext cx="261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对写作有很大帮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952880"/>
            <a:ext cx="5715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有助于提高人的品德修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多读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44792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七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《三国演义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同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  《聊斋志异》《水浒传》《荡寇志》《精忠说岳》“古典诗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一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茶花女遗事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二三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红楼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05:3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dcterms:modified xsi:type="dcterms:W3CDTF">2009-11-17T08:00:16Z</dcterms:modified>
  <cp:revision>7</cp:revision>
  <dc:subject>回澜阁教育www.HuiLanGe.com</dc:subject>
  <dc:title>回澜阁教育www.HuiLanGe.com</dc:title>
</cp:coreProperties>
</file>