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chimes.wav" ContentType="audio/x-wav"/>
  <Override PartName="/ppt/media/image6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CF4E-B556-4A1F-A137-6CAD7EF7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0DF4-5199-40FB-AE49-E8187B7E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2944-6FC6-4AD5-83B5-CFB70F046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0D95-A499-4916-BD32-A8A995DD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C6E3-71CA-4FE4-966E-5455DC3A9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CB79-042F-488A-B71E-A21D5061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00AD-793D-4EFF-A5D3-84A76EE5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C09C-F561-44B1-B089-75230515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AAA1-26E7-4375-93A4-6FFC3B45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11C6-71A3-4024-98AB-44160188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3E77-F7FB-4601-94DF-31173A3D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D7D7-23B1-46D0-9090-5255A3B3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FA5D-CF2D-49A3-9B7E-75D7C869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B2D1-75D5-426B-BB5B-6AE128E0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A041-797E-4A6E-B440-BC123B14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5A17-664C-4E5C-8BAE-6326DF631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7018-7351-45A5-A1DC-C85EFD31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5CC58-2AD9-4858-9E80-9AC745EE8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1BCEB-FA1C-4A06-895D-99FD7648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3D58F-E750-4BDB-8D08-F2C9C93B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65B63-5B23-43C2-A114-7778D76E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568C8-6DC4-4AD4-9116-ED78EE91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B5C3-1F74-4D60-BE10-00BA0829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36AD2-EA17-4E47-B8C6-FFAE2C76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8CB3F-9711-4780-8240-2D000458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BDB05-76E4-49A4-BCF1-6F47E257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7B8DA-8489-40E6-8AFB-BA2B5B76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30842-5AD0-4DD5-B529-B7332525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A9F1B-3B15-48B8-8789-93B3FA97A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FA0B2-4B46-4DB2-A07A-6673CED01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7B06-22C4-44CF-8D78-812388E7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9428-07DC-4445-8C5E-8B7887F5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D7F3-683F-4CD3-9CFE-9E9F4D6E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7A6E-7A1D-49BA-8C52-9C7BE432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7116-7837-4B6D-8191-7B7953D1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0C7F-C57A-41C1-8F47-9CD8B9FB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200C-89D7-497A-9050-5A94D1BC94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C50C-5272-474D-8B65-0E33D3EEE0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8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9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FD43-647F-4895-A308-E0753DB388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042920" y="0"/>
            <a:ext cx="10186920" cy="7424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17000" y="333360"/>
            <a:ext cx="26182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e3fa04"/>
                </a:solidFill>
                <a:latin typeface="Arial"/>
                <a:ea typeface="楷体_GB2312"/>
              </a:rPr>
              <a:t>忆读书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78840" y="3284640"/>
            <a:ext cx="1399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冰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2480" y="2060640"/>
            <a:ext cx="20091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楷体_GB2312"/>
              </a:rPr>
              <a:t>读书好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50920" y="2060640"/>
            <a:ext cx="576360" cy="2376360"/>
          </a:xfrm>
          <a:custGeom>
            <a:avLst/>
            <a:gdLst>
              <a:gd name="textAreaLeft" fmla="*/ 368280 w 576360"/>
              <a:gd name="textAreaRight" fmla="*/ 576720 w 57636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00360" y="170028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陶  冶  性  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0036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增  长  知  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00360" y="3213000"/>
            <a:ext cx="287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有  助  写  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00360" y="393372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提  高 人 的 品 德 修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67640" y="6308640"/>
            <a:ext cx="611280" cy="33336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ffff"/>
                </a:solidFill>
                <a:uFillTx/>
                <a:latin typeface="Arial"/>
                <a:hlinkClick r:id="rId1" action="ppaction://hlinksldjump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99"/>
                </a:solidFill>
                <a:latin typeface="Arial"/>
              </a:rPr>
              <a:t>冰心读过的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251280" y="1844640"/>
            <a:ext cx="4173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三国演义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罗贯中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水浒传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施耐庵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红楼梦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曹雪芹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西游记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吴承恩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满江红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岳飞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声声慢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李清照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00720" y="1773360"/>
            <a:ext cx="4170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茶花女遗事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小仲马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聊斋志异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蒲松龄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封神榜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荡寇志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精忠说岳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17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多读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812000" y="6453360"/>
            <a:ext cx="936720" cy="40464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ffff"/>
                </a:solidFill>
                <a:uFillTx/>
                <a:latin typeface="Arial"/>
                <a:hlinkClick r:id="rId1" action="ppaction://hlinksldjump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611640" y="-241200"/>
            <a:ext cx="3095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读好书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7775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能感染人、陶冶人，有助于提高人的品德修养，有助于扩大知识面，有助于写作的书</a:t>
            </a:r>
            <a:r>
              <a:rPr b="1" lang="en-US" sz="3200" spc="-1" strike="noStrike">
                <a:solidFill>
                  <a:srgbClr val="e3fa04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必须人物个性鲜明、故事情节感人。古代小说则要精彩而不烦琐，引人入胜而非索然无味；现代文艺作品则不是“朦朦胧胧的，堆砌了许多华丽词句的、无病呻吟、自作多情的风花雪月的文字”，而是“满带着真情实感，十分质朴浅显的篇章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67640" y="6381720"/>
            <a:ext cx="720720" cy="28728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ffff"/>
                </a:solidFill>
                <a:uFillTx/>
                <a:latin typeface="Arial"/>
                <a:hlinkClick r:id="rId1" action="ppaction://hlinksldjump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fa04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文中哪一句话集中抒发了作者对读书的喜爱？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答：我永远感到读书是我生命中最大的快乐</a:t>
            </a:r>
            <a:r>
              <a:rPr b="0" lang="zh-CN" sz="3200" spc="-1" strike="noStrike">
                <a:solidFill>
                  <a:srgbClr val="e3fa04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0920" y="242100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fa04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你能不能结合自己的读书经历，谈谈对这句话的理解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-568800" y="2852640"/>
            <a:ext cx="18262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fa04"/>
                </a:solidFill>
                <a:latin typeface="Arial"/>
              </a:rPr>
              <a:t>忆读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65640" y="3068640"/>
            <a:ext cx="14094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第一部分（总说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2276640"/>
            <a:ext cx="26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fa04"/>
                </a:solidFill>
                <a:latin typeface="Arial"/>
              </a:rPr>
              <a:t>第二部分</a:t>
            </a:r>
            <a:r>
              <a:rPr b="1" lang="en-US" sz="2400" spc="-1" strike="noStrike">
                <a:solidFill>
                  <a:srgbClr val="e3fa04"/>
                </a:solidFill>
                <a:latin typeface="Arial"/>
              </a:rPr>
              <a:t>—</a:t>
            </a:r>
            <a:r>
              <a:rPr b="1" lang="zh-CN" sz="2400" spc="-1" strike="noStrike">
                <a:solidFill>
                  <a:srgbClr val="e3fa04"/>
                </a:solidFill>
                <a:latin typeface="Arial"/>
              </a:rPr>
              <a:t>多读书、读书好（以时间为序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35280" y="4724280"/>
            <a:ext cx="29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fa04"/>
                </a:solidFill>
                <a:latin typeface="Arial"/>
              </a:rPr>
              <a:t>第三部分</a:t>
            </a:r>
            <a:r>
              <a:rPr b="1" lang="en-US" sz="2400" spc="-1" strike="noStrike">
                <a:solidFill>
                  <a:srgbClr val="e3fa04"/>
                </a:solidFill>
                <a:latin typeface="Arial"/>
              </a:rPr>
              <a:t>—</a:t>
            </a:r>
            <a:r>
              <a:rPr b="1" lang="zh-CN" sz="2400" spc="-1" strike="noStrike">
                <a:solidFill>
                  <a:srgbClr val="e3fa04"/>
                </a:solidFill>
                <a:latin typeface="Arial"/>
              </a:rPr>
              <a:t>读好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00720" y="2349360"/>
            <a:ext cx="304920" cy="2819520"/>
          </a:xfrm>
          <a:custGeom>
            <a:avLst/>
            <a:gdLst>
              <a:gd name="textAreaLeft" fmla="*/ 0 w 304920"/>
              <a:gd name="textAreaRight" fmla="*/ 110160 w 3049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685360" y="2852640"/>
            <a:ext cx="4586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13880" y="2565360"/>
            <a:ext cx="199188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3fa04"/>
                </a:solidFill>
                <a:latin typeface="Arial"/>
              </a:rPr>
              <a:t>读书好，多读书，读好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3fa04"/>
                </a:solidFill>
                <a:latin typeface="Arial"/>
              </a:rPr>
              <a:t>第四部分</a:t>
            </a:r>
            <a:r>
              <a:rPr b="1" lang="en-US" sz="2000" spc="-1" strike="noStrike">
                <a:solidFill>
                  <a:srgbClr val="e3fa04"/>
                </a:solidFill>
                <a:latin typeface="Arial"/>
              </a:rPr>
              <a:t>—</a:t>
            </a:r>
            <a:r>
              <a:rPr b="1" lang="zh-CN" sz="2000" spc="-1" strike="noStrike">
                <a:solidFill>
                  <a:srgbClr val="e3fa04"/>
                </a:solidFill>
                <a:latin typeface="Arial"/>
              </a:rPr>
              <a:t>概括全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16000" y="3860640"/>
            <a:ext cx="647640" cy="0"/>
          </a:xfrm>
          <a:prstGeom prst="line">
            <a:avLst/>
          </a:prstGeom>
          <a:ln w="63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916360" y="2997000"/>
            <a:ext cx="720720" cy="360360"/>
          </a:xfrm>
          <a:prstGeom prst="line">
            <a:avLst/>
          </a:prstGeom>
          <a:ln w="63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16360" y="4437000"/>
            <a:ext cx="792000" cy="360360"/>
          </a:xfrm>
          <a:prstGeom prst="line">
            <a:avLst/>
          </a:prstGeom>
          <a:ln w="63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413040" y="692280"/>
            <a:ext cx="219132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谢谢大家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58080" y="1268280"/>
            <a:ext cx="45864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52840" y="2146320"/>
            <a:ext cx="20383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0" i="1" lang="en-US" sz="80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作家简介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当代女作家，儿童文学作家。原名谢婉莹，笔名冰心女士，男士等。原籍福建长乐，生于福州。代表作有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超人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烦闷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等。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920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年开始，受泰戈尔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飞鸟集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的影响，又写出了短诗集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繁星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春水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，为文坛瞩目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192640" y="1484280"/>
            <a:ext cx="333072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219640" y="2205000"/>
            <a:ext cx="3184560" cy="4343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547640" y="1268280"/>
            <a:ext cx="3542040" cy="5327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-1330200" y="-1033560"/>
            <a:ext cx="10474200" cy="785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背景资料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本文是一篇叙事性记叙文，写于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1989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日。当时，作者已是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90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岁的老人。作者回忆了幼时、少时的读书经历，并向青少年朋友们传授多年来积累的宝贵的读书经验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648320" y="2305080"/>
            <a:ext cx="4038480" cy="311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692280"/>
            <a:ext cx="76201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读准下列字的读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悬（        ）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笸（       </a:t>
            </a:r>
            <a:r>
              <a:rPr b="0" lang="zh-CN" sz="28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烦琐（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堆砌（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释下列成语的意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津津有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若有所失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索然无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95640" y="2349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uà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68360" y="27813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ǒ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3284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ǒ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371628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87640" y="472428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形容兴趣很浓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32000" y="5229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好像失去了什么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32000" y="56610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没有一点趣味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冰心在文中想告诉我们什么？</a:t>
            </a:r>
            <a:br>
              <a:rPr sz="4000"/>
            </a:b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（能否找出文中的原句）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5640" y="3200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Arial"/>
                <a:ea typeface="黑体"/>
              </a:rPr>
              <a:t>读书好，多读书，读好书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思考题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58560" y="2276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读书有什么好处呢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冰心读过哪些书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作者认为什么样的书才是好书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7380360" y="2492280"/>
            <a:ext cx="1079280" cy="432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答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7380360" y="3357720"/>
            <a:ext cx="1079280" cy="431640"/>
          </a:xfrm>
          <a:prstGeom prst="wedgeRectCallout">
            <a:avLst>
              <a:gd name="adj1" fmla="val -56324"/>
              <a:gd name="adj2" fmla="val 69851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答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19640" y="5084640"/>
            <a:ext cx="1008000" cy="432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66"/>
                </a:solidFill>
                <a:uFillTx/>
                <a:latin typeface="Arial"/>
                <a:hlinkClick r:id="rId3" action="ppaction://hlinksldjump"/>
              </a:rPr>
              <a:t>  答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13:34:54Z</dcterms:created>
  <dc:creator>回澜阁教育www.HuiLanGe.com</dc:creator>
  <dc:description>回澜阁教育www.HuiLanGe.com</dc:description>
  <cp:keywords>回澜阁教育www.HuiLanGe.com</cp:keywords>
  <dc:language>en-US</dc:language>
  <cp:lastModifiedBy>user</cp:lastModifiedBy>
  <cp:lastPrinted>1899-12-30T00:00:00Z</cp:lastPrinted>
  <dcterms:modified xsi:type="dcterms:W3CDTF">2010-01-25T01:39:12Z</dcterms:modified>
  <cp:revision>15</cp:revision>
  <dc:subject>回澜阁教育www.HuiLanGe.com</dc:subject>
  <dc:title>回澜阁教育www.HuiLanGe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