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type.wav" ContentType="audio/x-wav"/>
  <Override PartName="/ppt/media/image4.jpeg" ContentType="image/jpeg"/>
  <Override PartName="/ppt/media/image5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F3B9-741E-4720-B75F-AEF55668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BDD3-1C24-44A4-85B7-80F5270D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1D7E-59D2-4DC1-9491-2F064E64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53FF-AF96-4DDB-8128-8355EAD8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239-3FAB-4B18-8FF6-1C6261E6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62B6-A515-43EE-B502-C61EA9F7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94A9-B958-426C-BC78-D3157330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679C-3BE5-49EA-9038-31F98A9F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FE95-C92C-4C68-BABC-0BBCFF40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4A9-767A-4D23-AC44-C09BAB96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FDE2-363A-47C0-A04F-D3FB8961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7B94-BF6C-4A47-BBC0-7C54A9DF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DEDE-9CDB-4822-820A-ABAE352692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133720" y="1600200"/>
            <a:ext cx="49528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忆读书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038480" y="4572000"/>
            <a:ext cx="1676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冰心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66520" y="3805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读好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160020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什么样的书才是好书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27432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ccff"/>
                </a:solidFill>
                <a:latin typeface="Times New Roman"/>
                <a:ea typeface="幼圆"/>
              </a:rPr>
              <a:t>能感染人、陶冶人，有助于提高人的品德修养，有助于扩大知识面，有助于写作的书，才能算好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14240" y="1752480"/>
            <a:ext cx="62485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33"/>
                </a:solidFill>
                <a:latin typeface="Times New Roman"/>
                <a:ea typeface="方正舒体"/>
              </a:rPr>
              <a:t>结合“读书好，多读书，读好书”谈谈你对读书的体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8d51"/>
                </a:solidFill>
                <a:latin typeface="Times New Roman"/>
                <a:ea typeface="华文彩云"/>
              </a:rPr>
              <a:t>名言警句交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1676520"/>
            <a:ext cx="69343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读一本好书，就是和高尚人谈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                                        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歌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任何时候我也不会满足越是多读书，就越是深刻地感到不满足，越感到自己知识的贫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                                     ——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马克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438280" y="1828800"/>
            <a:ext cx="5105520" cy="21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同学们再见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743200" y="1218960"/>
            <a:ext cx="5867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书是人类进步的阶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最优秀的读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一定是最优秀的作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最优秀的作家必定是最优秀的读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汪国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冰心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  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1900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～）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现、当代女作家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儿童文学作家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。原名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谢婉莹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，笔名冰心女士，男士等。原籍福建长乐，生于福州，幼年时代就广泛接触了中国古典小说和译作。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1918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年入协和女子大学预科，积极参加五四运动。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1919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年开始发表第一篇小说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《两个家庭》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此后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，相继发表了《斯人独惟悴》、《去国》等探索人生问题的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问题小说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。同时，受到泰戈尔《飞鸟集》的影响，写作无标题的自由体小诗。这些晶莹清丽、轻柔隽逸的小诗，后结集为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《繁星》和《春水》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出版，被人称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春水体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。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666520" y="6094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1921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年加入文学研究会。同年起发表散文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笑》和《往事》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。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1923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年毕业于燕京大学文科。赴美国威尔斯利女子大学学习英国文学。在旅途和留美期间，写有散文集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寄小读者》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，显示出婉约典雅、轻灵隽丽、凝炼流畅的特点，具有高度的艺术表现力，比小说和诗歌取得更高的成就。这种独特的风格曾被时人称为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“冰心体”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，产生了广泛的影响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80c0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66880" y="380880"/>
            <a:ext cx="60962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著有散文      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《南归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小说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        《分》、《冬儿姑娘》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作品有散文集      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《归来以后》、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再寄小读者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、《我们把春天吵醒了》、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樱花赞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、《拾穗小札》、《晚晴集》、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三寄小读者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还出版有小说集      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超人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、《去国》、《冬儿姑娘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小说散文集     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往事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、《南归》，散文集《关于女人》，以及《冰心全集》、《冰心文集》、《冰心著译选集》等。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90560" y="1523880"/>
            <a:ext cx="655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99"/>
                </a:solidFill>
                <a:latin typeface="Times New Roman"/>
                <a:ea typeface="华文彩云"/>
              </a:rPr>
              <a:t>听录音思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文中哪句话你印象最深刻</a:t>
            </a: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                 </a:t>
            </a: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为什么</a:t>
            </a: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3805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分小组讨论  勾画要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1295280"/>
            <a:ext cx="548640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书中的故事情节和人物形象能激起人的各种感情</a:t>
            </a: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让人获得美的享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12193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99"/>
                </a:solidFill>
                <a:latin typeface="Times New Roman"/>
                <a:ea typeface="华文行楷"/>
              </a:rPr>
              <a:t>读书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4114800"/>
            <a:ext cx="359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3657600"/>
            <a:ext cx="34354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读书能扩大知识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14720" y="4343400"/>
            <a:ext cx="2619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读书对写作有很大帮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4952880"/>
            <a:ext cx="5715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读书有助于提高人的品德修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cc"/>
                </a:solidFill>
                <a:latin typeface="Times New Roman"/>
                <a:ea typeface="华文行楷"/>
              </a:rPr>
              <a:t>多读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1447920"/>
            <a:ext cx="61722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七岁时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：《三国演义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同时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：    《聊斋志异》《水浒传》《荡寇志》《精忠说岳》“古典诗词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十一岁时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：  《茶花女遗事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十二三岁时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：  《红楼梦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02:05:34Z</dcterms:created>
  <dc:creator>回澜阁教育www.HuiLanGe.com</dc:creator>
  <dc:description>回澜阁教育www.HuiLanGe.com</dc:description>
  <cp:keywords>回澜阁教育www.HuiLanGe.com</cp:keywords>
  <dc:language>en-US</dc:language>
  <cp:lastModifiedBy>user</cp:lastModifiedBy>
  <dcterms:modified xsi:type="dcterms:W3CDTF">2009-11-17T08:00:16Z</dcterms:modified>
  <cp:revision>7</cp:revision>
  <dc:subject>回澜阁教育www.HuiLanGe.com</dc:subject>
  <dc:title>回澜阁教育www.HuiLanGe.com</dc:title>
</cp:coreProperties>
</file>