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14A-A13B-49C9-A0B6-725FFC05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691-F113-407B-BFD7-F0185E05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B5A7-D049-4029-9260-0E0963E1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341-9E1F-4A0B-ACF2-AFFC7BBD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2EF3-FF16-40F3-9674-3A108B4B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7928-DDAD-4D72-AFA3-62B98A5C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E90D-882F-47D0-9B02-D5D6E3D1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2ABE-3A5E-439E-BA75-D5392F0E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78E1-A468-46FC-9550-8AD41B0D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4FB4-8211-4CA5-8F38-C5F95D4E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C1B7-08EE-4F3A-BCA5-E5B090C0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77C-1BB7-4F14-B9F2-F0F32DED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88A8-0D78-4171-89CF-D4E2C487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22ED-3322-481F-B2E2-F3E6F7D3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4230-586E-4D7E-9E46-12773A74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7968-F0AB-42FE-9289-7378ABA5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2D0E-312A-4DC1-940F-230E848E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A8B42-AE88-4DBE-80A9-56C28F18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EF03C-135A-4105-A38E-0D6E7260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F05C6-66E9-42DC-B8B4-CCDC373A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6150B-4101-49F4-9BFF-A07914B8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17C43-A87A-4DA9-A795-7D8AC040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BBC-5548-46D2-82D8-E7F62949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A2A0-48BE-45B3-9F31-46A58602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7A34A-EB54-415F-ADA7-5757D18B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7DE65-B75D-48F4-BB40-8EA5E033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584FA-BC16-40FA-A970-D60AA363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15154-F6D3-427D-9640-3736DB7C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04553-6B19-4425-BF3A-1598AD30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872B7-EB02-490D-8E7B-DA03F8BB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6A4-CC02-4873-9994-D5EBC5B2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6B8-A9E9-4ED1-8980-171FEAB1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1DA-E108-4325-BF3D-277B09B2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80C-94C5-48E7-A4E8-8D296CCA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D529-74D6-45D3-8BF3-CBEF5B89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698-4273-4AC2-8ECD-F9825570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6276-F3D1-4647-9E2C-76C6708384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718C-B0EA-4B4C-88AF-E2A68A4447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E23B-A7BF-408B-A66C-0221E9FBDA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042920" y="0"/>
            <a:ext cx="10186920" cy="74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7000" y="333360"/>
            <a:ext cx="2618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e3fa04"/>
                </a:solidFill>
                <a:latin typeface="Arial"/>
                <a:ea typeface="楷体_GB2312"/>
              </a:rPr>
              <a:t>忆读书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78840" y="3284640"/>
            <a:ext cx="1399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冰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2480" y="2060640"/>
            <a:ext cx="20091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读书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2060640"/>
            <a:ext cx="576360" cy="2376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170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陶  冶  性  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增  长  知  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321300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有  助  写  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393372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提  高 人 的 品 德 修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67640" y="6308640"/>
            <a:ext cx="611280" cy="3333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99"/>
                </a:solidFill>
                <a:latin typeface="Arial"/>
              </a:rPr>
              <a:t>冰心读过的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251280" y="1844640"/>
            <a:ext cx="4173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三国演义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罗贯中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水浒传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施耐庵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红楼梦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曹雪芹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吴承恩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满江红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岳飞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声声慢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李清照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00720" y="1773360"/>
            <a:ext cx="4170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茶花女遗事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小仲马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聊斋志异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蒲松龄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封神榜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荡寇志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精忠说岳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多读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12000" y="6453360"/>
            <a:ext cx="936720" cy="40464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611640" y="-241200"/>
            <a:ext cx="3095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读好书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775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能感染人、陶冶人，有助于提高人的品德修养，有助于扩大知识面，有助于写作的书</a:t>
            </a:r>
            <a:r>
              <a:rPr b="1" lang="en-US" sz="3200" spc="-1" strike="noStrike">
                <a:solidFill>
                  <a:srgbClr val="e3fa04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必须人物个性鲜明、故事情节感人。古代小说则要精彩而不烦琐，引人入胜而非索然无味；现代文艺作品则不是“朦朦胧胧的，堆砌了许多华丽词句的、无病呻吟、自作多情的风花雪月的文字”，而是“满带着真情实感，十分质朴浅显的篇章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67640" y="6381720"/>
            <a:ext cx="720720" cy="2872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a04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文中哪一句话集中抒发了作者对读书的喜爱？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答：我永远感到读书是我生命中最大的快乐</a:t>
            </a:r>
            <a:r>
              <a:rPr b="0" lang="zh-CN" sz="3200" spc="-1" strike="noStrike">
                <a:solidFill>
                  <a:srgbClr val="e3fa04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2421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fa04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你能不能结合自己的读书经历，谈谈对这句话的理解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-568800" y="2852640"/>
            <a:ext cx="1826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fa04"/>
                </a:solidFill>
                <a:latin typeface="Arial"/>
              </a:rPr>
              <a:t>忆读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65640" y="3068640"/>
            <a:ext cx="14094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第一部分（总说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2276640"/>
            <a:ext cx="26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第二部分</a:t>
            </a:r>
            <a:r>
              <a:rPr b="1" lang="en-US" sz="24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多读书、读书好（以时间为序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472428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第三部分</a:t>
            </a:r>
            <a:r>
              <a:rPr b="1" lang="en-US" sz="24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读好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2349360"/>
            <a:ext cx="304920" cy="2819520"/>
          </a:xfrm>
          <a:custGeom>
            <a:avLst/>
            <a:gdLst>
              <a:gd name="textAreaLeft" fmla="*/ 0 w 304920"/>
              <a:gd name="textAreaRight" fmla="*/ 11016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85360" y="2852640"/>
            <a:ext cx="458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3880" y="2565360"/>
            <a:ext cx="19918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读书好，多读书，读好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第四部分</a:t>
            </a:r>
            <a:r>
              <a:rPr b="1" lang="en-US" sz="20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概括全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3860640"/>
            <a:ext cx="647640" cy="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16360" y="2997000"/>
            <a:ext cx="720720" cy="36036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4437000"/>
            <a:ext cx="792000" cy="36036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413040" y="692280"/>
            <a:ext cx="21913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谢谢大家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58080" y="1268280"/>
            <a:ext cx="4586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52840" y="2146320"/>
            <a:ext cx="20383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i="1" lang="en-US" sz="80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作家简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当代女作家，儿童文学作家。原名谢婉莹，笔名冰心女士，男士等。原籍福建长乐，生于福州。代表作有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超人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烦闷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等。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920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年开始，受泰戈尔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飞鸟集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影响，又写出了短诗集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繁星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春水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，为文坛瞩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92640" y="1484280"/>
            <a:ext cx="33307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3184560" cy="4343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3542040" cy="5327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-1330200" y="-1033560"/>
            <a:ext cx="10474200" cy="785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背景资料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本文是一篇叙事性记叙文，写于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989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日。当时，作者已是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岁的老人。作者回忆了幼时、少时的读书经历，并向青少年朋友们传授多年来积累的宝贵的读书经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2305080"/>
            <a:ext cx="4038480" cy="31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692280"/>
            <a:ext cx="76201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读准下列字的读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悬（        ）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笸（       </a:t>
            </a:r>
            <a:r>
              <a:rPr b="0" lang="zh-CN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烦琐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堆砌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释下列成语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津津有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若有所失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索然无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uà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781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3284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716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4724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形容兴趣很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522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好像失去了什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5661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没有一点趣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冰心在文中想告诉我们什么？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（能否找出文中的原句）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3200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  <a:ea typeface="黑体"/>
              </a:rPr>
              <a:t>读书好，多读书，读好书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思考题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85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读书有什么好处呢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冰心读过哪些书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作者认为什么样的书才是好书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7380360" y="2492280"/>
            <a:ext cx="1079280" cy="432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7380360" y="3357720"/>
            <a:ext cx="1079280" cy="431640"/>
          </a:xfrm>
          <a:prstGeom prst="wedgeRectCallout">
            <a:avLst>
              <a:gd name="adj1" fmla="val -56324"/>
              <a:gd name="adj2" fmla="val 6985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5084640"/>
            <a:ext cx="1008000" cy="432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66"/>
                </a:solidFill>
                <a:uFillTx/>
                <a:latin typeface="Arial"/>
                <a:hlinkClick r:id="rId3" action="ppaction://hlinksldjump"/>
              </a:rPr>
              <a:t>  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3:34:54Z</dcterms:created>
  <dc:creator>回澜阁教育www.HuiLanGe.com</dc:creator>
  <dc:description>回澜阁教育www.HuiLanGe.com</dc:description>
  <cp:keywords>回澜阁教育www.HuiLanGe.com</cp:keywords>
  <dc:language>en-US</dc:language>
  <cp:lastModifiedBy>user</cp:lastModifiedBy>
  <cp:lastPrinted>1899-12-30T00:00:00Z</cp:lastPrinted>
  <dcterms:modified xsi:type="dcterms:W3CDTF">2010-01-25T01:39:12Z</dcterms:modified>
  <cp:revision>15</cp:revision>
  <dc:subject>回澜阁教育www.HuiLanGe.com</dc:subject>
  <dc:title>回澜阁教育www.HuiLanGe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